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0B2-9F47-49AD-BB75-947130CB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45A-40FE-4E98-AD04-0307BE08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D5B-8655-4655-936E-05CCE84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11A-0272-462B-BA80-33BA060F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B396-F508-46EB-805A-FD32A1F9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8A9A-E327-4196-9953-0CDD2F61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A654-93E4-42BB-AA37-113C7AFB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A69-23BD-4704-8715-B119ECB0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3F9-A978-4390-BB36-B307EDB2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6520-6396-487E-979D-C0AE0D68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8CC7-E988-49A9-B6B9-813BDD5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9B1-A711-474C-B821-BFA1D05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69B3-2BC7-4F3D-9D82-AC24B75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60E3-39E2-45BA-AF9B-93B76F6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CA3C-30D8-4017-8DE8-BFC8D5D4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86CE-142F-4EE5-ACA2-A1057A4F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86C7-DC12-419A-8D7D-5F237C4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78E-1B3E-4610-B47D-34C4F2BA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891-CE4F-4B28-9163-6415E29E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B0B-806C-43ED-90C2-97C4D05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DA6-F1C2-4821-867F-DAB5912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A0A-EA71-46A0-AFDF-36657BC9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7C6-AF7B-46B4-87DE-AAD795E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68C6-A8DD-4128-B8BD-0EC1A8D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BCB-02AC-4A00-8A7E-653DCED90C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159-72E5-4D8E-A962-06B7072B1C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Кузьмина</cp:lastModifiedBy>
  <dcterms:modified xsi:type="dcterms:W3CDTF">2011-04-14T11:24:33Z</dcterms:modified>
  <cp:revision>6</cp:revision>
  <dc:subject/>
  <dc:title>Тема урока: Темновая фаза фотосинтеза</dc:title>
</cp:coreProperties>
</file>