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FB8-809A-4AEA-B6FE-B5A32647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553-272D-458E-A9AF-E95EC5CE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42C-2B08-4272-8BAA-A1610178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3CF-F22C-48C6-BA16-610D5CC8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736-0970-4C1B-9B4F-F618D11E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A64E-1D1F-41C3-8FE5-2720DF5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A724-A622-4C87-AB78-352ECAB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D7DF-8185-4C73-A741-83FA15A8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B8F4-FB26-4D74-B25D-30392EA8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5E4-3AE7-44AB-A9F0-5BB25CD1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094B-42A0-4855-8997-DD46F08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B59-F733-4142-B5AE-0CD98D3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56B9-1804-4FEF-8DBB-25669E6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DAA6-C817-46AA-9F3C-5C6213F4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012-7123-4644-A7F9-E24A8F7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0208-1BDA-40E2-B134-CECE7EAC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BBD0-7B90-404C-961A-A92FC28D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D30-BA8A-430F-B78E-285ED64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6FC-4EAA-4437-8607-197DFA5F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F06-2D65-426E-8D4D-4C097E4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C8F-8191-4560-A36E-247EC6BA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6AA-3D4E-4505-8EED-7FD1C82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30E-8731-4AF8-9434-C5E5592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7F1-EC6D-41F5-8D45-1CB84F8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3ED-6011-4940-BF78-7E8E03D2C5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94A-6467-4099-99E6-8EF522188C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Кузьмина</cp:lastModifiedBy>
  <dcterms:modified xsi:type="dcterms:W3CDTF">2011-04-14T11:24:33Z</dcterms:modified>
  <cp:revision>6</cp:revision>
  <dc:subject/>
  <dc:title>Тема урока: Темновая фаза фотосинтеза</dc:title>
</cp:coreProperties>
</file>