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E40-DB6A-4D2C-8DEB-9D3D875C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92E-8C86-496F-B806-5320C7D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179-5658-4B4E-95E3-1E739903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8E8-9D4F-4CE7-87BB-E092BE1F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00DF-0287-4FC7-96BB-71E20D2C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D82-35C4-4900-999F-ED4DD5F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0D07-4B4F-4D4E-AEEF-499F1F3C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486-D3C8-41CB-9E82-C578D838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30FB-8EF7-4137-9612-5D706DE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F9D6-5E25-46A8-A966-15685ED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C67D-D4E6-4B60-9771-25C6B6E7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A65-B305-44A1-9264-74406C0F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38E1-E1EB-48E2-9661-D5EAE003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0655-B7E3-4CEB-99AF-0375583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32F1-E05B-4893-9F28-8CF19D29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8D6-13FB-41D6-9360-EAF8DE6C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0E96-7490-4394-A0E0-E32A719B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5DD-E34A-419F-89F7-8D8FD43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0F3-5B90-463B-8EE2-6357240E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AD7-2660-49FA-A453-A15500B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B7E-A03D-4599-AD06-FFB20F1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CFE-D566-4C95-9B66-1A588E1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CCC-0903-473C-A082-1145453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EF2-7C86-437E-9461-702B29D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D47-2071-4D8A-9C96-E5FE9D4FE3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6A5F-71B5-4821-B351-7B6DBB30F1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Кузьмина</cp:lastModifiedBy>
  <dcterms:modified xsi:type="dcterms:W3CDTF">2011-04-14T11:24:33Z</dcterms:modified>
  <cp:revision>6</cp:revision>
  <dc:subject/>
  <dc:title>Тема урока: Темновая фаза фотосинтеза</dc:title>
</cp:coreProperties>
</file>