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ACB2-996C-4BC4-9B51-596B486E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05C-4CC5-4C09-AA08-A0B63CF3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C44-9557-42D2-B453-08711216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054-4B16-4BED-9336-7396868F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7AC6-EBBF-47DF-A3A5-21F1D16F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BE46-81B0-4343-A31F-CECC1187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8F6B-1E8F-46D6-A9B2-573A7925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5008-1DF9-4A99-8D6B-86889109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B764-3A0B-406F-8F9F-5BBE966C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8002-9FB6-4608-99F9-64B96C8E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7AC3-E142-42DF-9948-846C40B5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9F7-2341-4595-B911-543D484A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FA01-4C6D-47F2-9D1C-51AEF8C2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AB01-4351-4260-9B79-08335C54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B505-0986-4B41-870B-C88A02CA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259E-46CF-4656-8867-99DC0C51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E5ED-90D9-4464-B36E-9CB402AF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9FE-9368-4E6E-8B06-11648AAB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B30-232F-4FF2-B231-B498EE3A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6A5-48A3-432B-9EF1-3754615F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C62-C01A-4ABC-9262-70F16064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A0A-CAC2-4665-B9FA-0409A7D6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289-C199-4E70-9DF4-B68BC692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794-EABD-4049-ACA0-B655A5CC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B772-C8BD-4FF8-B7D3-C4B3726C6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AC3B-3B0C-45D4-BB25-BAE1A16D4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../users/alena495/view/80586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лощадь трапеци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подготовлен и проведён Ануриной Е.А. учителем математики МОУ Новолядинской СОШ Тамбовского района Тамбовской области .200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дача №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7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б истории понятия площад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6481800" cy="4978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34920" y="1557000"/>
            <a:ext cx="3600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ки древнего ми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Евклид "/>
          <p:cNvPicPr/>
          <p:nvPr/>
        </p:nvPicPr>
        <p:blipFill>
          <a:blip r:embed="rId2"/>
          <a:stretch/>
        </p:blipFill>
        <p:spPr>
          <a:xfrm>
            <a:off x="5435640" y="1413000"/>
            <a:ext cx="370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26920" y="140184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80 -500 год 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3429000"/>
            <a:ext cx="432108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ий древнегреческий ученый Пифагор родился на острове Самос. В молодости побывал в Египте, где учился у жрецов. Около 530 г до н. э. Пифагор переехал в Кронтон – греческую колонию в южной Италии, где основал так называемый пифагорейский союз. Деятельность союза была окружена тайной, поэтому никаких текстов от ранних пифагорейцев не оста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032360" cy="2953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95280" y="1916280"/>
            <a:ext cx="3849840" cy="428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6248520"/>
            <a:ext cx="7612200" cy="609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39640" y="189000"/>
            <a:ext cx="3456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фаг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30560" y="1628640"/>
            <a:ext cx="511344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 жизни Евклида известно очень мало. Главное его сочинение – труд по геометрии «Начала». «Начала» состоят из тринадцати книг. Первые четыре посвящены геометрии на плоскости. Пятая содержит общую теорию отношений величин по Евдоксу. В шестой излагается учение о подобии. Книг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священы арифметике, то есть теории целых и рациональных чисел.  В книг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Евклид дает классификацию квадратичных иррациональностей, возникающих при решении цепочек квадратных уравнений. Книг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вящена стереометрии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X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оказываются теоремы об отношении площадей кругов и квадратов их диаметров, шаров и кубов их диаметров. В книг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I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лагается учение о правильных многогран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476280"/>
            <a:ext cx="273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КЛИ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844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773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Arial"/>
              </a:rPr>
              <a:t>365 – 300 год до н.э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3120" y="2349360"/>
            <a:ext cx="32353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б измерении площадей в Росс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468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Исторический памятник1553-156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341360"/>
            <a:ext cx="6192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67280" y="476280"/>
            <a:ext cx="4524120" cy="53150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матический софизм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4=65 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1 =8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·8=64 ? !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S 2=13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∙5 =65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пользованная литератур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В.Погорелов Геометрия7-9 .2005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С.Карнацевич.Изучение геометрии в 8 классе.198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ая энциклопедия математика.1997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е ресурс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r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Образовательные 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1.Ввести формулу площади трапе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2.Закрепить навыки её использования с помощью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.Развивающие цели урок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3.Развитие у детей умения обобщать, логически мыслить, применять в своих рассуждениях аналогию, наблюдение ,рационально применять свои 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Воспитательные цел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4.Воспитание интереса к математике  с помощью элементов занимательности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знакомства с историей   возникновения понятия «площадь»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 треугольнике АВС АВ=5см; АС=10см;&lt;А=45°Найдите площадь треугольника АВ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50см2     ;     б)  25см2 ;                 в)2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В треугольнике АВС  а=13см; в=14см ;с=15см. Найдите площадь треугольника АВ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42см2 ;             б)162 см2 ;                      в)84см2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Найдите в прямоугольном треугольнике (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90°) высоту ,   опущенную на гипотенузу, если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=3см, СВ=4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4,2см ;             б)2,4 см ;                      в)1,2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 треугольнике АВС АВ=10см; АС=12см;&lt;А=60°Найдите площадь треугольника АВ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120см2     ;     б)  30см2 ;                 в) 30см 2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В треугольнике АВС  а=51см; в=52см ;с=53см. Найдите площадь треугольника АВ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234 см2 ;             б)1170 см2 ;                      в)90см2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Найдите в прямоугольном треугольнике (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=90°) высоту ,   опущенную на гипотенузу, если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=6см, СВ=8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9,6см ;             б)4,8 см ;                      в)2,4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тветы к самостоятельной работ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7925040" cy="441972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840"/>
                <a:gridCol w="1320840"/>
                <a:gridCol w="1320840"/>
                <a:gridCol w="1320840"/>
              </a:tblGrid>
              <a:tr h="14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Актуализация опорных знан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59958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вод           формул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сунок к теор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2219400"/>
            <a:ext cx="698508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ервичное закрепле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ти площадь трап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2070000"/>
            <a:ext cx="763272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адачи по готовым чертежам №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5715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дача №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2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0:18:26Z</dcterms:created>
  <dc:creator>User</dc:creator>
  <dc:description/>
  <dc:language>en-US</dc:language>
  <cp:lastModifiedBy>User</cp:lastModifiedBy>
  <dcterms:modified xsi:type="dcterms:W3CDTF">2010-04-19T13:48:30Z</dcterms:modified>
  <cp:revision>4</cp:revision>
  <dc:subject/>
  <dc:title>Площадь трапеции</dc:title>
</cp:coreProperties>
</file>