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F24-B530-435F-A559-1DA6F655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83A-7BB0-4E33-B8BB-DF8F5A03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77B-91FE-4554-A3AC-EBE4C32F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253-5978-4769-98E0-F33DBF4E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09B2-2AAC-482B-BC90-A3976440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4BC2-2032-4845-96AE-646C0E85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0FE0-9045-45E1-8149-DCA6F9BE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0382-89AD-4D19-BFE6-4BBFA939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C8FB-1FC2-48EF-B4DF-2D24DB3C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182D-0203-413F-9309-7B44ECD4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3279-E220-4E84-8580-1A0A3A98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3E2-CD73-4456-AB03-6E95E0DF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6710-7A47-44DE-B2FB-20822F80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983D-5729-49AB-8308-5A82AD9E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8DEA-9E1F-4039-B754-18D27AD5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B091-1EE1-4B57-80C1-34881BC4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EDF9-E8D2-4753-8555-596730B2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1C4-7B9D-4CAF-87E4-4C50634B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980-3DEE-4C8A-9175-9E8CBD2A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C9E-2674-43DD-967B-6D4296B8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498-043A-473C-914B-695DA5BE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AE0-A541-4BD2-BFE3-48EDB098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004-2F20-43BE-AB5E-E2C48C4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2D5-963D-40DE-BCB8-C0CFEFA2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D76D-DF88-465B-BF22-9BEAE9FEC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386B-4AC2-4F37-B884-23C1EF38D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../users/alena495/view/80586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лощадь трапеци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подготовлен и проведён Ануриной Е.А. учителем математики МОУ Новолядинской СОШ Тамбовского района Тамбовской области .200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дача №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 истории понятия площад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481800" cy="4978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4920" y="1557000"/>
            <a:ext cx="3600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и древнего м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Евклид "/>
          <p:cNvPicPr/>
          <p:nvPr/>
        </p:nvPicPr>
        <p:blipFill>
          <a:blip r:embed="rId2"/>
          <a:stretch/>
        </p:blipFill>
        <p:spPr>
          <a:xfrm>
            <a:off x="5435640" y="1413000"/>
            <a:ext cx="37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26920" y="140184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80 -500 год 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3429000"/>
            <a:ext cx="432108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ий древнегреческий ученый Пифагор родился на острове Самос. В молодости побывал в Египте, где учился у жрецов. Около 530 г до н. э. Пифагор переехал в Кронтон – греческую колонию в южной Италии, где основал так называемый пифагорейский союз. Деятельность союза была окружена тайной, поэтому никаких текстов от ранних пифагорейцев не оста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032360" cy="295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3849840" cy="42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6248520"/>
            <a:ext cx="7612200" cy="60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9640" y="189000"/>
            <a:ext cx="3456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фаг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30560" y="1628640"/>
            <a:ext cx="511344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жизни Евклида известно очень мало. Главное его сочинение – труд по геометрии «Начала». «Начала» состоят из тринадцати книг. Первые четыре посвящены геометрии на плоскости. Пятая содержит общую теорию отношений величин по Евдоксу. В шестой излагается учение о подобии. Книг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священы арифметике, то есть теории целых и рациональных чисел.  В книг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вклид дает классификацию квадратичных иррациональностей, возникающих при решении цепочек квадратных уравнений. Книг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вящена стереометри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X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казываются теоремы об отношении площадей кругов и квадратов их диаметров, шаров и кубов их диаметров. В книг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I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лагается учение о правильных многогран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476280"/>
            <a:ext cx="27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КЛИ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844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773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</a:rPr>
              <a:t>365 – 300 год до н.э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3120" y="2349360"/>
            <a:ext cx="3235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б измерении площадей в Росс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4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Исторический памятник1553-156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341360"/>
            <a:ext cx="6192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524120" cy="53150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ий софизм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=65 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1 =8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·8=64 ? 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 2=1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∙5 =65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ая литератур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В.Погорелов Геометрия7-9 .2005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С.Карнацевич.Изучение геометрии в 8 классе.198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энциклопедия математика.1997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е ресурс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r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Образов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1.Ввести формулу площади трапе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2.Закрепить навыки её использования с помощью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.Развивающие цели урок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3.Развитие у детей умения обобщать, логически мыслить, применять в своих рассуждениях аналогию, наблюдение ,рационально применять свои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Воспит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4.Воспитание интереса к математике  с помощью элементов занимательност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знакомства с историей   возникновения понятия «площадь»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 треугольнике АВС АВ=5см; АС=10см;&lt;А=45°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50см2     ;     б)  25см2 ;                 в)2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В треугольнике АВС  а=13см; в=14см ;с=15см. 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42см2 ;             б)162 см2 ;                      в)84см2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Найдите в прямоугольном треугольнике (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90°) высоту ,   опущенную на гипотенузу, если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=3см, СВ=4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4,2см ;             б)2,4 см ;                      в)1,2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 треугольнике АВС АВ=10см; АС=12см;&lt;А=60°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120см2     ;     б)  30см2 ;                 в) 30см 2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В треугольнике АВС  а=51см; в=52см ;с=53см. 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234 см2 ;             б)1170 см2 ;                      в)90см2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Найдите в прямоугольном треугольнике (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90°) высоту ,   опущенную на гипотенузу, если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=6см, СВ=8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9,6см ;             б)4,8 см ;                      в)2,4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тветы к самостоятельной работ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7925040" cy="441972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  <a:gridCol w="1320840"/>
                <a:gridCol w="1320840"/>
                <a:gridCol w="1320840"/>
              </a:tblGrid>
              <a:tr h="14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Актуализация опорных знан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5995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вод           формул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к тео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219400"/>
            <a:ext cx="69850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ервичное закрепл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площадь трап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2070000"/>
            <a:ext cx="76327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дачи по готовым чертежам №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5715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дача №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2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0:18:26Z</dcterms:created>
  <dc:creator>User</dc:creator>
  <dc:description/>
  <dc:language>en-US</dc:language>
  <cp:lastModifiedBy>User</cp:lastModifiedBy>
  <dcterms:modified xsi:type="dcterms:W3CDTF">2010-04-19T13:48:30Z</dcterms:modified>
  <cp:revision>4</cp:revision>
  <dc:subject/>
  <dc:title>Площадь трапеции</dc:title>
</cp:coreProperties>
</file>