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gif" ContentType="image/gif"/>
  <Override PartName="/ppt/media/image16.png" ContentType="image/png"/>
  <Override PartName="/ppt/media/image1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C3C5-B6A1-44F5-91E7-929FE11B4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861E-C13E-4AED-93F0-F6B75127E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2759-BDC2-48D8-B713-7DD824549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403D-4D8E-4E33-A30E-36AB25B18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39F38-D2C2-4D79-9128-6DD1B82FF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50B45-C89D-4B8D-9A2F-C6869D3ED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2B9BE-9D6A-4C5A-B362-2DF399537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A058F-84D8-491F-AC68-F77926D36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3E0CF-F99A-425D-B08B-5195E8DDD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6384D-91C6-4818-8AC7-5A134FFBB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1E8E5-8000-4BD8-A814-E69A14A3B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DCFA-604D-4161-B9C7-E988614CB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FF841-8E70-42DA-A243-B386C36A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AE0AF-857F-4157-A662-F28F0DC44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BEB75-6FCD-4409-9513-787C66F0F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CF47D-8AE4-4D24-9242-B4E03E226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2B91A-C39A-455A-BE80-8620B3DCE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4454-3A32-40D5-925D-35E05E0C1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BBFA-6EF1-4D2B-9281-F43F70EB4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B04C-DEAE-4556-BD0A-97D3704F4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1C82-5FB1-4543-8C3C-045EB5665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A98B-401A-41D2-98A2-1AA928D24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1597-6F3A-4951-8C6D-1771507C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357E-F01C-48DF-AD82-463FEE40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3EF72-0CEC-405B-B317-97E871F181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91F98-CF65-445F-813C-5089EEF8F0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../../../users/alena495/view/80586/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Площадь трапеции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ок подготовлен и проведён Ануриной Е.А. учителем математики МОУ Новолядинской СОШ Тамбовского района Тамбовской области .2009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Задача №3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72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Об истории понятия площадь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6481800" cy="497844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834920" y="1557000"/>
            <a:ext cx="3600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тематики древнего мир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Евклид "/>
          <p:cNvPicPr/>
          <p:nvPr/>
        </p:nvPicPr>
        <p:blipFill>
          <a:blip r:embed="rId2"/>
          <a:stretch/>
        </p:blipFill>
        <p:spPr>
          <a:xfrm>
            <a:off x="5435640" y="1413000"/>
            <a:ext cx="370836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826920" y="1401840"/>
            <a:ext cx="25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80 -500 год  до н.э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427640" y="3429000"/>
            <a:ext cx="4321080" cy="32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ликий древнегреческий ученый Пифагор родился на острове Самос. В молодости побывал в Египте, где учился у жрецов. Около 530 г до н. э. Пифагор переехал в Кронтон – греческую колонию в южной Италии, где основал так называемый пифагорейский союз. Деятельность союза была окружена тайной, поэтому никаких текстов от ранних пифагорейцев не осталос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572000" y="404640"/>
            <a:ext cx="4032360" cy="29530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395280" y="1916280"/>
            <a:ext cx="3849840" cy="4284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395280" y="6248520"/>
            <a:ext cx="7612200" cy="6094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539640" y="189000"/>
            <a:ext cx="345600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ифаго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8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030560" y="1628640"/>
            <a:ext cx="5113440" cy="49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 жизни Евклида известно очень мало. Главное его сочинение – труд по геометрии «Начала». «Начала» состоят из тринадцати книг. Первые четыре посвящены геометрии на плоскости. Пятая содержит общую теорию отношений величин по Евдоксу. В шестой излагается учение о подобии. Книг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X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освящены арифметике, то есть теории целых и рациональных чисел.  В книг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Евклид дает классификацию квадратичных иррациональностей, возникающих при решении цепочек квадратных уравнений. Книг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XI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священа стереометрии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 XI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доказываются теоремы об отношении площадей кругов и квадратов их диаметров, шаров и кубов их диаметров. В книг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III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лагается учение о правильных многогранник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95280" y="476280"/>
            <a:ext cx="2736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ВКЛИД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" name=""/>
          <p:cNvSpPr/>
          <p:nvPr/>
        </p:nvSpPr>
        <p:spPr>
          <a:xfrm>
            <a:off x="755640" y="184464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1773360"/>
            <a:ext cx="36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ff"/>
                </a:solidFill>
                <a:latin typeface="Arial"/>
              </a:rPr>
              <a:t>365 – 300 год до н.э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03120" y="2349360"/>
            <a:ext cx="323532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Об измерении площадей в России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332000" y="1484280"/>
            <a:ext cx="6446880" cy="57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Исторический памятник1553-1560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58920" y="1341360"/>
            <a:ext cx="619272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067280" y="476280"/>
            <a:ext cx="4524120" cy="531504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тематический софизм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4=65 !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S1 =8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·8=64 ? !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S 2=13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∙5 =65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Использованная литература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.В.Погорелов Геометрия7-9 .2005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.С.Карнацевич.Изучение геометрии в 8 классе.1984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кольная энциклопедия математика.1997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зовательные ресурс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bk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aro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Цели урок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Образовательные цели уро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66"/>
                </a:solidFill>
                <a:latin typeface="Arial"/>
              </a:rPr>
              <a:t>1.Ввести формулу площади трапе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66"/>
                </a:solidFill>
                <a:latin typeface="Arial"/>
              </a:rPr>
              <a:t>2.Закрепить навыки её использования с помощью задач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.Развивающие цели урока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0066"/>
                </a:solidFill>
                <a:latin typeface="Arial"/>
              </a:rPr>
              <a:t>3.Развитие у детей умения обобщать, логически мыслить, применять в своих рассуждениях аналогию, наблюдение ,рационально применять свои зн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Воспитательные цели уро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66"/>
                </a:solidFill>
                <a:latin typeface="Arial"/>
              </a:rPr>
              <a:t>4.Воспитание интереса к математике  с помощью элементов занимательности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66"/>
                </a:solidFill>
                <a:latin typeface="Arial"/>
              </a:rPr>
              <a:t>знакомства с историей   возникновения понятия «площадь»</a:t>
            </a: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Проверка домашнего задания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1 вариан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В треугольнике АВС АВ=5см; АС=10см;&lt;А=45°Найдите площадь треугольника АВ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)50см2     ;     б)  25см2 ;                 в)2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В треугольнике АВС  а=13см; в=14см ;с=15см. Найдите площадь треугольника АВ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)42см2 ;             б)162 см2 ;                      в)84см2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.Найдите в прямоугольном треугольнике (&l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=90°) высоту ,   опущенную на гипотенузу, если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=3см, СВ=4с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)4,2см ;             б)2,4 см ;                      в)1,2с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 вариа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В треугольнике АВС АВ=10см; АС=12см;&lt;А=60°Найдите площадь треугольника АВ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)120см2     ;     б)  30см2 ;                 в) 30см 2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В треугольнике АВС  а=51см; в=52см ;с=53см. Найдите площадь треугольника АВ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)234 см2 ;             б)1170 см2 ;                      в)90см2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.Найдите в прямоугольном треугольнике (&l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=90°) высоту ,   опущенную на гипотенузу, если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=6см, СВ=8с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)9,6см ;             б)4,8 см ;                      в)2,4с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Ответы к самостоятельной работе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09480" y="1600200"/>
          <a:ext cx="7925040" cy="4419720"/>
        </p:xfrm>
        <a:graphic>
          <a:graphicData uri="http://schemas.openxmlformats.org/drawingml/2006/table">
            <a:tbl>
              <a:tblPr/>
              <a:tblGrid>
                <a:gridCol w="1320840"/>
                <a:gridCol w="1320840"/>
                <a:gridCol w="1320840"/>
                <a:gridCol w="1320840"/>
                <a:gridCol w="1320840"/>
                <a:gridCol w="1320840"/>
              </a:tblGrid>
              <a:tr h="14731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вариа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вариа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Актуализация опорных знаний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332000" y="2421000"/>
            <a:ext cx="599580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Вывод           формул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исунок к теоре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00000" y="2219400"/>
            <a:ext cx="6985080" cy="32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Первичное закреплени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йти площадь трапе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84360" y="2070000"/>
            <a:ext cx="763272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Задачи по готовым чертежам №1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5715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Задача №2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6624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0:18:26Z</dcterms:created>
  <dc:creator>User</dc:creator>
  <dc:description/>
  <dc:language>en-US</dc:language>
  <cp:lastModifiedBy>User</cp:lastModifiedBy>
  <dcterms:modified xsi:type="dcterms:W3CDTF">2010-04-19T13:48:30Z</dcterms:modified>
  <cp:revision>4</cp:revision>
  <dc:subject/>
  <dc:title>Площадь трапеции</dc:title>
</cp:coreProperties>
</file>