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C82-5212-4E48-9B6C-3E4228DF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105-5680-4602-9BB2-471BD07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053-D660-485C-9149-D0F00EEB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468-FC7C-4EF1-8709-F9BEB7FD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F36-D37D-423E-ADB6-12EB2CE2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1B06-F359-4BD4-8D06-85DC9F01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BF35-57D8-4619-8405-037A3380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2DF9-A75C-47C1-8F07-53F8164C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CAEE-0C6F-4725-A4EA-2584199C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2F81-1AAC-4828-B170-BCEF23F5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BC4-579E-43C2-8E1B-905ACD5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B52-3174-4B3F-9057-E4079AC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47AC-9AC4-498B-8073-F9EE723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5BC-CA4A-4E27-8656-F8334818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FFB1-991C-4895-9D85-20D5710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4244-5040-4CC5-A401-067F6E1F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0776-ECED-42FE-9582-519B7302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96C3-FCC6-4D29-8271-3DC132B5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413A-DBCA-4F11-98E1-54E1717A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6C28-2357-4C63-B06B-FB0B0605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2F7E-D0C4-41A6-B8FC-068100DE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D116-9C26-48A9-8836-336A41C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1DE-8C5E-4B6B-9502-CBBA006F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7B86-2746-4E74-B58C-0A76801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CAE5-31AA-4F06-A338-36551E4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6945-A1CC-4635-88A7-FD47726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63F4-3CEC-4C31-BAD9-CD0DDEE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69F5-0D93-497F-BA6A-64B4184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AA42-60F5-4286-AD0B-5512BB02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6FD5-F78D-4671-9DFB-2916D932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80984-89BA-44A4-BCC1-1EDF13E2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1C26-49E5-4DAA-9E82-21A76E2A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1662-609F-4588-8C54-0A9713D7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295-652D-4D96-B01B-F7F7485D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723C-FC06-4F40-948E-D7FADE6F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9496-F9EB-43F4-BF9A-A3470C3C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8610-DDC6-4493-A75E-359F834A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F58E-2F23-41B0-A7D9-EED1868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28E5-CD25-417A-AAF7-A8F10F55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2E1E-B8AE-43BD-8504-AC78C289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9AA5-A563-41E2-AE73-CA5629B4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4B5E-12B1-4259-ABAE-5A5869E1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B83E-37C1-4EB7-98C1-C4C79AF9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5744-B40F-452D-9B90-B405F328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C60-0E20-4D15-970A-54C84B0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8055-B0D8-47E8-BBD2-C83129FC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08B20-98A1-4883-8B8F-81ECE25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BAE0-5939-4D76-AC3D-687E24F8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45BF-186D-43D3-AF67-A08EC7A4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7357-9D8F-4868-9CD1-812A142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E933-23E0-4BFF-8A06-CE382C09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2F2A0-5A16-4AF7-9C4E-CB869652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BB69D-D54F-4AD9-AE6F-82DE1FE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424F0-BF23-47B4-BA39-E4593419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CD56-CA5C-4A51-81D1-C014690A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E0F-FFB0-4FAA-A993-D3984457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50E81-10D0-4B2C-AF16-179F1C16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1B70E-BEE8-487B-8F14-B86CC365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FB205-2865-437E-9BD3-AC1C7752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AE6CE-7E81-488C-9C9B-F6B522FE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B4C1A-1419-4A14-9AB5-EEE021B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94ECD-4611-4985-B8C4-6ED91C5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97F19-B843-41B7-A68A-C1D8FD73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34D9-4A04-44D4-B720-712DCAC6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6D6C-1D8B-4328-B537-9005857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934D-9CD6-46D2-934D-FDD6725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815-860F-43A1-96FC-F8A5FF1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D4E24-B1DF-425B-83C1-15DDBCF6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DB0AF-070F-42BF-AFE8-33EE815B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39F0-A94C-44FF-89D1-A8A6C92B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9988-9255-4D30-9A6B-8E245702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C10DD-6C38-4A2D-A5B4-252DBE43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A4C6-C530-4726-A2BA-3F701083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6F901-2A32-4BC4-9B2F-B0833CB0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99B01-E381-4C4E-82BF-ACC675CA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207B2-3E48-4C79-A05F-B3B19B44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9396-7EFA-475F-9281-E0FB9C43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742-FEDE-4A92-B3B3-50540BA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1B10E-CB83-48F0-ACE5-2D0BAA5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A5CEA-B045-4EC0-A532-68A2DD3E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6DEDA-4ADF-407A-9A27-671E8330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5DB84-4037-4815-9CC1-8BC9C97D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CAFC3-5E55-47DD-AC86-C1B7FE87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F18E-8D44-4845-B431-405A77EF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1AB62-8EA7-414A-B2CE-F4395EE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B624C-8141-4360-A5C0-4262981F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173D-99BD-4D16-95F0-31E5246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4BED2-7C8F-436E-BD08-8C536AC3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6DD-55C8-4D13-AA5C-34C86D4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64E4-E4AE-4318-96F8-6971F19B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D0A3-AE67-4AC5-8591-E9C0E7A1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5C0D-6C70-4DF7-9EC9-CF2D3660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6F3DB-44D4-4369-A1A2-DC5F55E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1C92-D7EF-4EF0-A051-A491100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70235-D023-4C73-B5A1-60C9B344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8539F-E20E-44CB-B245-88A1FFBF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AA6-07D5-41BD-B512-1389B183B31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105E-B3FD-45D3-AF49-AC4D98EE35B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24B2-412B-4D14-8A8D-D4D81626E0F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BFCD-BD21-4FAF-849C-69A22992BFB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846C-5C5C-430E-BEC4-113716F2DD3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C75C-6B16-4844-9822-CD82DB6AE17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D940-FED7-4583-A6D2-7B066EA33F1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80E4-A941-4324-BBA6-6E346606166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2777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Прямоугольник 2" descr=""/>
          <p:cNvPicPr/>
          <p:nvPr/>
        </p:nvPicPr>
        <p:blipFill>
          <a:blip r:embed="rId1"/>
          <a:stretch/>
        </p:blipFill>
        <p:spPr>
          <a:xfrm>
            <a:off x="-493560" y="1011240"/>
            <a:ext cx="10131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684360" y="765000"/>
          <a:ext cx="7488000" cy="5416560"/>
        </p:xfrm>
        <a:graphic>
          <a:graphicData uri="http://schemas.openxmlformats.org/drawingml/2006/table">
            <a:tbl>
              <a:tblPr/>
              <a:tblGrid>
                <a:gridCol w="3743280"/>
                <a:gridCol w="3744720"/>
              </a:tblGrid>
              <a:tr h="16052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осочетания официально-делового сти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альные синони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азать помощ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ч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ержать побед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бед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ршить побе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беж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ергнуть осмотр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мотре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сти ремо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емонтир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95280" y="620640"/>
          <a:ext cx="7632720" cy="596268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1433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а и словосочетания официально-делового сти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тон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7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ш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аз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9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сутство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сутство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овлетворительный 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ответ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71640" y="1125360"/>
          <a:ext cx="7704000" cy="5112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1368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ревши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ременные синон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отлага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ч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ем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этом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й (случай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об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0" y="-21168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важаемый Александр Николаевич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ш сын систематически не готов к урокам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За последнюю неделю он получил семь неудовлетворительных оценок. Примите мер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4.01.2011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лассный руководитель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мирнова Л.Н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2:04:53Z</dcterms:created>
  <dc:creator>Катюша</dc:creator>
  <dc:description/>
  <dc:language>en-US</dc:language>
  <cp:lastModifiedBy>Катюша</cp:lastModifiedBy>
  <dcterms:modified xsi:type="dcterms:W3CDTF">2011-10-19T18:33:13Z</dcterms:modified>
  <cp:revision>4</cp:revision>
  <dc:subject/>
  <dc:title>Слайд 1</dc:title>
</cp:coreProperties>
</file>