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134C-9BE1-4B61-9715-D2FA0E24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6A19-3FC8-4C7D-A3B6-6DF05D4F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C5FE-A7B1-4F5F-86B4-BC881A40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3E96-91F7-4DFF-A744-6CF934591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9697-E06D-4D12-B36D-BF4CF771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2BEE-6060-4B7B-B2D4-7E881431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93AC-14D4-4813-AA9C-4938DDAF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103D-1A5A-47F1-AFA6-DCF71024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871D-006D-4294-80CD-BC292D55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D859-82BE-42BB-A928-4DBB84A1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D0C3-EF18-4C05-8FE9-DEAD3026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A788-E550-4668-9541-BB01474E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93BC-3A0B-4B37-810B-C58D5DA7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C4AB-58AA-4B97-A3F9-0A1183BC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0D8C-599C-4424-8051-7D19AE8F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2DD8-3488-4682-9B29-F5663504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D00B-5EC2-4D4D-A071-BB4E7DF4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D1FF9-1262-44B5-8C15-38DD92D1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EC834-55D2-4A15-8385-5D756C65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EDBDB-38DB-44DE-ACDA-C1551784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8E891-BC99-46F9-AB9F-80ED87FB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9AC63-C214-47C4-8285-F747CDE0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99EF-83A2-4CB0-BA38-5218F214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BFBE1-383B-4E4A-9A94-800D66BA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89042-9F6D-443B-A692-01DDA91D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FFD1B-D0A5-4AB7-BBD2-98E7CF5F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25430-383F-4DCC-81F1-DEF4F4F0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8924B-EA8B-4555-9CCE-A45DA103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6BD8D-A61D-450B-AD0B-161366F3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54227-6C33-4959-8618-C0F60E7B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7D777-7DDF-4AA0-9923-109B66F0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ABC86-B731-4E73-A3E4-09E2EEEF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CB400-EEAC-47F7-990A-3C50374A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2786-FC7F-4D58-A9F9-408A23F9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94EE2-8323-4364-85DB-561412BC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03683-AB2B-4567-9ED9-3CC85FF9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34058-1B7E-42BF-87E1-A1912C87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C7D86-B5FA-465A-AA13-DD5AD619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8A403-925B-4B56-A3BD-20BEF3C9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BB7C6-D51C-4906-95F7-56EB7740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B2EC3-CE93-4C91-998B-4D8B5B0C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E7BD4-E3E6-40E3-A6F8-C28800AE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FF518-1AB9-4B2D-B5B9-8251A75E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84571-4262-4903-966F-52BBA55B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F55A-D4E2-4B0D-8E60-47F3DF70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B38E6-9A7E-4359-9161-E2A7D34B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70330-564A-4A8C-8793-B0DAC985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B4F19-15F5-42B1-8D09-2F035EA7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445AD-22BF-4889-87A5-5DD588C6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55260-AA53-4738-8B0B-38488217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84239-4CCF-41F1-B893-EA501DD1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7327B-FAA4-4FB7-98FB-E5B0B09F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79031-87D6-4CD1-BC39-D8F4E726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ED389-9D78-49DA-8EDE-BC1A430F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FA414-C5F2-48B9-AEB9-5E81B799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6D97-A16F-48A1-9C0C-84FF5FFB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BEA08-6CFF-48C3-9555-493D6980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D8562-3331-4067-93C1-4EDEC279B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6664A-3102-4572-A425-E62621F2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B01C3-ED97-4310-A068-A9866891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A2C84-B116-4F5D-9717-5B76ACB1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70325-A4B7-4074-9A02-E4FE6F55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16098-2856-45E7-A5C3-7DA9358B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D40AE-B4E3-40CC-9F25-F9D195EE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9708D-E7E0-4BBA-8AE2-3AEFB966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41FE3-630B-497D-B99C-7AD28CA0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78BB-003D-4559-83CE-AB7855E4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8A8F0-DC32-46E2-BA42-177CA48C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D5E05-BE33-469E-95B3-95FE22B3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376BC-E48D-4516-A953-0E4FB96C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95E83-1983-43BD-A04D-64B573F0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441CC-632F-4EA3-8B88-AFC75F8A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E48C4-2977-40E0-9E8D-7549C029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B2D36-B6AD-4FBA-95FB-C7F7BE70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0A7A9-DE72-4446-8027-BA71A2B0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F6A2C-C1C7-4C37-9402-BA61B1A4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904C4-F6C4-49D4-A840-26A89CA0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E698-2B1C-4326-B53D-CCA56C0F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F8409-07FB-4477-BFC3-E8F56F47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E841B-8668-40BE-97CA-83F06D6D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35E17-3C95-4424-A216-9992CFE3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05FFF-1D5D-471D-8511-5C5D6DF0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A798B-D24C-4B18-AB85-7A7505FF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A030D-0AB2-4BE9-874E-D4FC314F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D453D-28D0-4869-A6AE-D06F5D9C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B8ED0-28C7-426E-80C7-4AD54590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314CC-6A8E-4AE8-8348-3E9A356E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D455A-18B0-4D2F-8AB0-0610B11E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68A2-15C6-4AD6-B796-7055335D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29087-2275-4946-A06D-AA081F9C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38126-2DED-497C-B06A-5276AD8D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B360F-B5B7-4111-994F-D9FD678B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1EA2D-A103-47AC-9D70-D00CA06F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39757-8BC6-49D8-8A14-439529DE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BF0BF-A4F0-4AF9-93F1-FD1BBB1A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5D58C-4FAA-4637-93D4-EC9ACEF7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3C95-355B-4182-9F24-3A925282B20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6EC2-D8B1-47E3-98C9-FBC44B073986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F314-DF41-4CC8-880C-51C50C614E6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8EBE-A22D-47B2-9359-792D9A6EAC9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7439-3475-4801-990C-4330AE15881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49BB-E4BE-474C-B18C-EB1DA903F04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D786-531B-4647-94C6-8E48A664F072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2493-942E-427E-A552-7DA68D51FDC0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1"/>
          <p:cNvSpPr/>
          <p:nvPr/>
        </p:nvSpPr>
        <p:spPr>
          <a:xfrm>
            <a:off x="2777760" y="32446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6" name="Прямоугольник 2" descr=""/>
          <p:cNvPicPr/>
          <p:nvPr/>
        </p:nvPicPr>
        <p:blipFill>
          <a:blip r:embed="rId1"/>
          <a:stretch/>
        </p:blipFill>
        <p:spPr>
          <a:xfrm>
            <a:off x="-493560" y="1011240"/>
            <a:ext cx="101311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Таблица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"/>
          <p:cNvGraphicFramePr/>
          <p:nvPr/>
        </p:nvGraphicFramePr>
        <p:xfrm>
          <a:off x="684360" y="765000"/>
          <a:ext cx="7488000" cy="5416560"/>
        </p:xfrm>
        <a:graphic>
          <a:graphicData uri="http://schemas.openxmlformats.org/drawingml/2006/table">
            <a:tbl>
              <a:tblPr/>
              <a:tblGrid>
                <a:gridCol w="3743280"/>
                <a:gridCol w="3744720"/>
              </a:tblGrid>
              <a:tr h="16052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восочетания официально-делового стил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йтральные синоним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17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азать помощ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ч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ержать побед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беди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5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вершить побе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бежа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вергнуть осмотр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мотре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17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вести ремо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емонтирова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395280" y="620640"/>
          <a:ext cx="7632720" cy="5962680"/>
        </p:xfrm>
        <a:graphic>
          <a:graphicData uri="http://schemas.openxmlformats.org/drawingml/2006/table">
            <a:tbl>
              <a:tblPr/>
              <a:tblGrid>
                <a:gridCol w="3816360"/>
                <a:gridCol w="3816360"/>
              </a:tblGrid>
              <a:tr h="14335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ва и словосочетания официально-делового сти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тони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74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реш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каз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92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сутство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сутство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8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ожительн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ицательн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4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овлетворительный отв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довлетворительный отв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8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зответствен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971640" y="1125360"/>
          <a:ext cx="7704000" cy="5112000"/>
        </p:xfrm>
        <a:graphic>
          <a:graphicData uri="http://schemas.openxmlformats.org/drawingml/2006/table">
            <a:tbl>
              <a:tblPr/>
              <a:tblGrid>
                <a:gridCol w="3852720"/>
                <a:gridCol w="3851280"/>
              </a:tblGrid>
              <a:tr h="13687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таревшие сло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временные синони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ж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сл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1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зотлагатель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чн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1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ем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этом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й (случай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о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5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доб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обходим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"/>
          <p:cNvSpPr/>
          <p:nvPr/>
        </p:nvSpPr>
        <p:spPr>
          <a:xfrm>
            <a:off x="0" y="-21168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Уважаемый Александр Николаевич!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аш сын систематически не готов к урокам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За последнюю неделю он получил семь неудовлетворительных оценок. Примите меры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24.01.2011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Классный руководитель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Смирнова Л.Н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2:04:53Z</dcterms:created>
  <dc:creator>Катюша</dc:creator>
  <dc:description/>
  <dc:language>en-US</dc:language>
  <cp:lastModifiedBy>Катюша</cp:lastModifiedBy>
  <dcterms:modified xsi:type="dcterms:W3CDTF">2011-10-19T18:33:13Z</dcterms:modified>
  <cp:revision>4</cp:revision>
  <dc:subject/>
  <dc:title>Слайд 1</dc:title>
</cp:coreProperties>
</file>