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0C2-CF4B-45AB-B510-5F477284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EC3-D4EC-4D4F-889A-DB391293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694-4CFC-4C29-B433-8A3F464A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4E1-81B9-4CC4-AAD4-D99A21B4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CB28-9AA4-4647-B63F-1EC4C985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FE00-0451-4B0F-B2C5-4EEFC880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AD8-ECBF-4A9C-85F5-4BB7510C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C90-7D13-4B4A-B7B5-B6E2ACF1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3497-FF25-4388-92FB-DB046A47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5F74-10F2-46E6-8FDA-8C60D73A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DCCB-5BAF-4CD1-B43B-D20ECEF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DF8-8FF5-4E2B-B859-A46BE1F1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25E-3837-4EE7-92B6-415AD33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EA31-0754-421A-972E-14A28D6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43A8-903A-4C6F-9425-3EBCA6FF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D3DD-493F-4D01-89A4-3DBC2227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8D67-113C-4CB0-8AB8-AFA9EE33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287E-CCCA-4343-A487-68FC17B7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627D-6D91-4661-B38E-5FCD0A1D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84BF-DF09-4F4E-96FA-80AA6F1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AB37-FCFD-4185-B33E-BED4BD1D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6C88-F875-4747-8655-0ACC5829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D25-1063-43F1-8CB5-6823C805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EDF4-4E0A-4D6E-BFD0-E1723AF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AC4F-84C2-4936-957A-27E11CC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13B8-92DD-4420-ABB6-4918B0B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436B-A27A-4CFA-B564-EBC9ED0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02CB-6A2F-4C32-BC42-8AD5839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6668-20C7-4663-8959-84C434AD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F9F0-18AC-45B6-9E10-73E1B27F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2F7F7-2B10-4A9E-A706-468EA708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83D1-4692-45F3-A9F4-B90337B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D23C5-22CA-436A-985F-B32A0DA1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8D3-8102-4AFB-AEA9-44974C59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A896-E3B0-4CEB-B7E2-0A541540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4BD8-2707-4D86-B07C-99E5B06C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1D47D-C499-4A4D-A7B0-D1D57172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84DE-B2D4-4F64-AE0B-D6E1E13D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CD49-95FE-402D-A77F-CFF6175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D777-551B-45A4-8A70-975FF4E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6730-1085-44BB-872E-0AB3735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16D4-C0C6-4A05-88DE-79B72F5E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CC29-2512-4DA9-9655-72F449B1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D96B1-C89C-4D6C-A069-04EBD3F7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F8C-15CC-48DC-A7CC-8EA06D6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8E32-1368-4B91-B747-89549223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632F-F3FD-4B94-B5A7-204A8E2F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08BF-0305-4960-8661-493739DF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82B57-21E4-41E8-A801-23998A36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C842-4754-4A93-8555-67BA246E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93641-2FB8-4360-AB74-E364E273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880E-0C14-437E-84A4-F088E82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7E71-EAF1-4D25-83F1-3213BBC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7567-D8D1-4FB2-BD79-317FF4C9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1D3F-5988-4C7F-ABC6-57F9A785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30F-A7B4-406F-AF5F-076154D4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15CC-FF4F-4B0E-928C-924ABAEC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D57C-0CB2-4142-A04C-EEB7A880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9EFA-CB8B-4E1E-9D4F-A179F978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63017-ED1B-4E61-A05E-1FB27D74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3F351-82E6-40A8-AC9A-07FDF330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812E5-B1B8-4EBA-8F5C-7B28AD0A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352E-BBAC-446C-A284-E12E647D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7144-9723-48C8-B0F4-B448F7E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AB48-3394-4F95-90F4-EE70456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DB34-2C96-4779-AE2E-7C54DFF4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1E1-99D5-46A1-A151-41D01DF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CB1EC-DC3F-4393-98E6-17B5B55B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26751-981E-48D9-9D7D-A3BDF39D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4DC28-1CBE-46AC-95B2-648BF495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F336-0B86-45C2-A398-89AE571E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C2C45-BA63-4202-8549-3B4D632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C551-ECCD-453D-9CA7-361D7B9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4156-1399-438C-A999-C704248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C849-12D6-4AC0-9410-BA9B538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72173-5626-465A-B1CF-A2DE726B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0B5D-7824-4F24-A4E8-4A41C88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6CD-E604-4DF1-BA66-32573A3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A77E9-C74B-4FB3-8558-584DF98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B5530-C3B0-44C7-8E22-683AF99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EC304-9F9A-4071-B64F-114CDD53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CA866-B678-467E-B0B9-9D17E339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3B70B-EA65-4D72-A568-0CA4618D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5FE5-CBC3-48EF-95F5-15E45696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C28F-D722-4702-8D26-2189A1C0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64AF9-48D8-4E4C-894E-378082AF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B48BB-E5AA-4D7C-AB4A-2E14D34D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F647B-3F42-4057-A838-7407138E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7F9-62DE-48C3-9922-9B9C323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8846B-C8E7-440C-AB5C-0B835BCB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D955C-0FAC-46F9-84CA-E02408D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48F86-AB18-4CFE-B713-1E10284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167EB-FC35-4ECA-9AF1-8061CC3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76F2-1F82-4452-9713-DA9297FA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C7EA-76EB-4639-BEEB-BBC104DC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DC40C-A748-4C12-AF33-69E12643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EFFB-A5F6-4625-A59B-42DD6B215BF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5BA-9EEC-499E-AEEA-1A35EEB7B5A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905C-9293-4D96-A6C2-21B894A30DC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5BEE-962D-4057-919D-3506E6F05C0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4CC-5C8F-4099-8E22-9C04FD07F7E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0734-4F46-4BBB-BE8E-014F97BD0AD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9ED8-2DFE-4791-9E35-08DA375B540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5315-5BAE-4490-AF77-FCB991AC612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2777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Прямоугольник 2" descr=""/>
          <p:cNvPicPr/>
          <p:nvPr/>
        </p:nvPicPr>
        <p:blipFill>
          <a:blip r:embed="rId1"/>
          <a:stretch/>
        </p:blipFill>
        <p:spPr>
          <a:xfrm>
            <a:off x="-493560" y="1011240"/>
            <a:ext cx="10131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684360" y="765000"/>
          <a:ext cx="7488000" cy="5416560"/>
        </p:xfrm>
        <a:graphic>
          <a:graphicData uri="http://schemas.openxmlformats.org/drawingml/2006/table">
            <a:tbl>
              <a:tblPr/>
              <a:tblGrid>
                <a:gridCol w="3743280"/>
                <a:gridCol w="3744720"/>
              </a:tblGrid>
              <a:tr h="16052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осочетания официально-делового сти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альные синони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азать помощ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ч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ержать побед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бед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ршить побе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беж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ергнуть осмотр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мотре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сти ремо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емонтир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95280" y="620640"/>
          <a:ext cx="7632720" cy="596268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1433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а и словосочетания официально-делового сти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тон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7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ш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аз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9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сутство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сутство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овлетворительный 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ответ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71640" y="1125360"/>
          <a:ext cx="7704000" cy="5112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1368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ревши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ременные синон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отлага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ч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ем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этом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й (случай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об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0" y="-21168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важаемый Александр Николаевич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ш сын систематически не готов к урокам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За последнюю неделю он получил семь неудовлетворительных оценок. Примите мер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4.01.2011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лассный руководитель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мирнова Л.Н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2:04:53Z</dcterms:created>
  <dc:creator>Катюша</dc:creator>
  <dc:description/>
  <dc:language>en-US</dc:language>
  <cp:lastModifiedBy>Катюша</cp:lastModifiedBy>
  <dcterms:modified xsi:type="dcterms:W3CDTF">2011-10-19T18:33:13Z</dcterms:modified>
  <cp:revision>4</cp:revision>
  <dc:subject/>
  <dc:title>Слайд 1</dc:title>
</cp:coreProperties>
</file>