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gif" ContentType="image/gi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84B6-6F5E-46F0-BDAE-4A6F4993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73B-3A9F-43D8-A10D-75BE7788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0EEA-6979-4E7A-BDE8-75825E24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5418-A5C0-48E1-959F-0A957E1F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10E8-6CDA-40E3-B120-0C2DA9B1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60B9-F447-4376-B2FE-6D9F5C4A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1490-37EF-438B-BE86-9238E521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D1FA-6E70-45BF-B00F-C4B4035E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4B9F-37F4-44C5-A6F6-06001FCD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D93-E24C-425D-BF4C-32131122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7A8E-D510-48BE-A25D-7C375CFB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18C-B56F-4AD8-8981-56D8BE96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8D64-ABF7-4A8A-A6D8-EB3274529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862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cc"/>
                </a:solidFill>
                <a:latin typeface="Century Gothic"/>
              </a:rPr>
              <a:t>Великая греческая колониз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15509" t="0" r="1726" b="0"/>
          <a:stretch/>
        </p:blipFill>
        <p:spPr>
          <a:xfrm>
            <a:off x="539640" y="1484280"/>
            <a:ext cx="8066160" cy="4419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ХУДОБЕЦ А.А. Киев Украин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9262-7FBF-4985-A14A-B07DC6C9C0B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 апреля 2010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1480" y="619920"/>
            <a:ext cx="81284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К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о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л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о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н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и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з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а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ц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и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я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Gothic"/>
              </a:rPr>
              <a:t>освоение</a:t>
            </a:r>
            <a:r>
              <a:rPr b="0" i="1" lang="ru-RU" sz="4000" spc="-1" strike="noStrike">
                <a:solidFill>
                  <a:srgbClr val="000000"/>
                </a:solidFill>
                <a:latin typeface="Century Gothic"/>
              </a:rPr>
              <a:t> новых территори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Gothic"/>
              </a:rPr>
              <a:t>создание</a:t>
            </a:r>
            <a:r>
              <a:rPr b="0" i="1" lang="ru-RU" sz="4000" spc="-1" strike="noStrike">
                <a:solidFill>
                  <a:srgbClr val="000000"/>
                </a:solidFill>
                <a:latin typeface="Century Gothic"/>
              </a:rPr>
              <a:t> на них своих посел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172360" y="87480"/>
            <a:ext cx="876240" cy="820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76200" y="2836800"/>
            <a:ext cx="8372520" cy="33908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6F6D-88D6-44FC-B2FB-D0BCDC697E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123720" y="415800"/>
            <a:ext cx="3461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entury Gothic"/>
              </a:rPr>
              <a:t>Прич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Century Gothic"/>
              </a:rPr>
              <a:t>коло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6520" y="3176640"/>
            <a:ext cx="1098000" cy="703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м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Arial"/>
              </a:rPr>
              <a:t>зем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82920" y="3176640"/>
            <a:ext cx="3121920" cy="1008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м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ельскохозяйств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Arial"/>
              </a:rPr>
              <a:t>прод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50720" y="3176640"/>
            <a:ext cx="2469600" cy="1313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бнищ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насел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демограф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про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25240" y="5048280"/>
            <a:ext cx="3199680" cy="1008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борьб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ежду раз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группами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за власть в поли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70520" y="3176640"/>
            <a:ext cx="1354320" cy="703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Arial"/>
              </a:rPr>
              <a:t>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172360" y="87480"/>
            <a:ext cx="876240" cy="820440"/>
          </a:xfrm>
          <a:prstGeom prst="rect">
            <a:avLst/>
          </a:prstGeom>
          <a:ln w="0">
            <a:noFill/>
          </a:ln>
        </p:spPr>
      </p:pic>
      <p:cxnSp>
        <p:nvCxnSpPr>
          <p:cNvPr id="53" name=""/>
          <p:cNvCxnSpPr>
            <a:stCxn id="46" idx="2"/>
            <a:endCxn id="47" idx="0"/>
          </p:cNvCxnSpPr>
          <p:nvPr/>
        </p:nvCxnSpPr>
        <p:spPr>
          <a:xfrm flipH="1">
            <a:off x="785520" y="1606680"/>
            <a:ext cx="4069440" cy="155160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54" name=""/>
          <p:cNvCxnSpPr>
            <a:stCxn id="46" idx="2"/>
            <a:endCxn id="48" idx="0"/>
          </p:cNvCxnSpPr>
          <p:nvPr/>
        </p:nvCxnSpPr>
        <p:spPr>
          <a:xfrm flipH="1">
            <a:off x="3144240" y="1606680"/>
            <a:ext cx="1710360" cy="155160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55" name=""/>
          <p:cNvCxnSpPr>
            <a:stCxn id="46" idx="2"/>
            <a:endCxn id="49" idx="0"/>
          </p:cNvCxnSpPr>
          <p:nvPr/>
        </p:nvCxnSpPr>
        <p:spPr>
          <a:xfrm>
            <a:off x="4854600" y="1606680"/>
            <a:ext cx="1332720" cy="155160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56" name=""/>
          <p:cNvCxnSpPr>
            <a:stCxn id="46" idx="2"/>
            <a:endCxn id="51" idx="0"/>
          </p:cNvCxnSpPr>
          <p:nvPr/>
        </p:nvCxnSpPr>
        <p:spPr>
          <a:xfrm>
            <a:off x="4854600" y="1606680"/>
            <a:ext cx="3494880" cy="155160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57" name=""/>
          <p:cNvCxnSpPr>
            <a:stCxn id="46" idx="2"/>
            <a:endCxn id="50" idx="0"/>
          </p:cNvCxnSpPr>
          <p:nvPr/>
        </p:nvCxnSpPr>
        <p:spPr>
          <a:xfrm flipH="1">
            <a:off x="4825440" y="1606320"/>
            <a:ext cx="29160" cy="342324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956720" y="1125360"/>
            <a:ext cx="987120" cy="126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8B2-5F84-4ADB-8675-B85ABC243D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10880" y="166680"/>
            <a:ext cx="3461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entury Gothic"/>
              </a:rPr>
              <a:t>Усло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Century Gothic"/>
              </a:rPr>
              <a:t>коло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9440" y="2523960"/>
            <a:ext cx="32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Century Gothic"/>
              </a:rPr>
              <a:t>Наличие</a:t>
            </a: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Century Gothic"/>
              </a:rPr>
              <a:t>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морех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и кораблестро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22240" y="2523960"/>
            <a:ext cx="31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Century Gothic"/>
              </a:rPr>
              <a:t>Наличие</a:t>
            </a: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Century Gothic"/>
              </a:rPr>
              <a:t>товаров</a:t>
            </a: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для </a:t>
            </a:r>
            <a:r>
              <a:rPr b="1" lang="uk-UA" sz="2400" spc="-1" strike="noStrike">
                <a:solidFill>
                  <a:srgbClr val="ff0000"/>
                </a:solidFill>
                <a:latin typeface="Century Gothic"/>
              </a:rPr>
              <a:t>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9" idx="2"/>
            <a:endCxn id="60" idx="0"/>
          </p:cNvCxnSpPr>
          <p:nvPr/>
        </p:nvCxnSpPr>
        <p:spPr>
          <a:xfrm flipH="1">
            <a:off x="2025000" y="1356840"/>
            <a:ext cx="2516760" cy="116748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63" name=""/>
          <p:cNvCxnSpPr>
            <a:stCxn id="59" idx="2"/>
            <a:endCxn id="61" idx="0"/>
          </p:cNvCxnSpPr>
          <p:nvPr/>
        </p:nvCxnSpPr>
        <p:spPr>
          <a:xfrm>
            <a:off x="4541760" y="1356840"/>
            <a:ext cx="2364480" cy="116748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172360" y="87480"/>
            <a:ext cx="876240" cy="820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20000" y="0"/>
            <a:ext cx="987480" cy="126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692360" y="3933720"/>
            <a:ext cx="5759280" cy="25653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7261-50FC-40C2-98EC-5A12CD2673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844360" y="2759040"/>
            <a:ext cx="3461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entury Gothic"/>
              </a:rPr>
              <a:t>На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Century Gothic"/>
              </a:rPr>
              <a:t>коло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28440" y="4438800"/>
            <a:ext cx="1847880" cy="947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cc"/>
                </a:solidFill>
                <a:latin typeface="Century Gothic"/>
              </a:rPr>
              <a:t>Севе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cc"/>
                </a:solidFill>
                <a:latin typeface="Century Gothic"/>
              </a:rPr>
              <a:t>Аф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1600" y="1047600"/>
            <a:ext cx="420120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135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cc"/>
                </a:solidFill>
                <a:latin typeface="Century Gothic"/>
              </a:rPr>
              <a:t>Восточное и Север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cc"/>
                </a:solidFill>
                <a:latin typeface="Century Gothic"/>
              </a:rPr>
              <a:t>Средиземномор</a:t>
            </a:r>
            <a:r>
              <a:rPr b="1" i="1" lang="ru-RU" sz="2800" spc="-1" strike="noStrike">
                <a:solidFill>
                  <a:srgbClr val="0033cc"/>
                </a:solidFill>
                <a:latin typeface="Century Gothic"/>
              </a:rPr>
              <a:t>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9160" y="4438800"/>
            <a:ext cx="2363040" cy="947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cc"/>
                </a:solidFill>
                <a:latin typeface="Century Gothic"/>
              </a:rPr>
              <a:t>Малая Аз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cc"/>
                </a:solidFill>
                <a:latin typeface="Century Gothic"/>
              </a:rPr>
              <a:t>Колх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23440" y="1111320"/>
            <a:ext cx="299412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cc"/>
                </a:solidFill>
                <a:latin typeface="Century Gothic"/>
              </a:rPr>
              <a:t>Север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cc"/>
                </a:solidFill>
                <a:latin typeface="Century Gothic"/>
              </a:rPr>
              <a:t>Причерномор</a:t>
            </a:r>
            <a:r>
              <a:rPr b="1" i="1" lang="ru-RU" sz="2800" spc="-1" strike="noStrike">
                <a:solidFill>
                  <a:srgbClr val="0033cc"/>
                </a:solidFill>
                <a:latin typeface="Century Gothic"/>
              </a:rPr>
              <a:t>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7" idx="1"/>
            <a:endCxn id="68" idx="0"/>
          </p:cNvCxnSpPr>
          <p:nvPr/>
        </p:nvCxnSpPr>
        <p:spPr>
          <a:xfrm flipH="1">
            <a:off x="1851840" y="3354480"/>
            <a:ext cx="1072440" cy="108504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73" name=""/>
          <p:cNvCxnSpPr>
            <a:stCxn id="67" idx="1"/>
            <a:endCxn id="69" idx="2"/>
          </p:cNvCxnSpPr>
          <p:nvPr/>
        </p:nvCxnSpPr>
        <p:spPr>
          <a:xfrm flipH="1" flipV="1">
            <a:off x="2391840" y="2002680"/>
            <a:ext cx="532800" cy="135180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74" name=""/>
          <p:cNvCxnSpPr>
            <a:stCxn id="67" idx="3"/>
            <a:endCxn id="70" idx="0"/>
          </p:cNvCxnSpPr>
          <p:nvPr/>
        </p:nvCxnSpPr>
        <p:spPr>
          <a:xfrm>
            <a:off x="6226200" y="3354480"/>
            <a:ext cx="1195920" cy="108504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75" name=""/>
          <p:cNvCxnSpPr>
            <a:stCxn id="67" idx="3"/>
            <a:endCxn id="71" idx="2"/>
          </p:cNvCxnSpPr>
          <p:nvPr/>
        </p:nvCxnSpPr>
        <p:spPr>
          <a:xfrm flipV="1">
            <a:off x="6226200" y="2066040"/>
            <a:ext cx="1195920" cy="128844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172360" y="87480"/>
            <a:ext cx="876240" cy="82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3E14-450D-43C6-94FA-96EB7AD754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45800" y="382680"/>
            <a:ext cx="3461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entury Gothic"/>
              </a:rPr>
              <a:t>Харак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Century Gothic"/>
              </a:rPr>
              <a:t>коло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172360" y="87480"/>
            <a:ext cx="876240" cy="820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82880" y="2486160"/>
            <a:ext cx="2207520" cy="1008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efefe"/>
              </a:gs>
              <a:gs pos="100000">
                <a:srgbClr val="dddddd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Century Gothic"/>
              </a:rPr>
              <a:t>соз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Century Gothic"/>
              </a:rPr>
              <a:t>посе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на берегу мо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8520" y="2486160"/>
            <a:ext cx="3318480" cy="1008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efefe"/>
              </a:gs>
              <a:gs pos="100000">
                <a:srgbClr val="dddddd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Century Gothic"/>
              </a:rPr>
              <a:t>устан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Century Gothic"/>
              </a:rPr>
              <a:t>конта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с местным насел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02560" y="2486160"/>
            <a:ext cx="2221200" cy="1008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efefe"/>
              </a:gs>
              <a:gs pos="100000">
                <a:srgbClr val="dddddd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Century Gothic"/>
              </a:rPr>
              <a:t>хозяйств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Century Gothic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7" idx="2"/>
            <a:endCxn id="79" idx="0"/>
          </p:cNvCxnSpPr>
          <p:nvPr/>
        </p:nvCxnSpPr>
        <p:spPr>
          <a:xfrm flipH="1">
            <a:off x="1286640" y="1573200"/>
            <a:ext cx="3290040" cy="91368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83" name=""/>
          <p:cNvCxnSpPr>
            <a:stCxn id="77" idx="2"/>
            <a:endCxn id="80" idx="0"/>
          </p:cNvCxnSpPr>
          <p:nvPr/>
        </p:nvCxnSpPr>
        <p:spPr>
          <a:xfrm>
            <a:off x="4576320" y="1573200"/>
            <a:ext cx="2520" cy="91368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84" name=""/>
          <p:cNvCxnSpPr>
            <a:stCxn id="77" idx="2"/>
            <a:endCxn id="81" idx="0"/>
          </p:cNvCxnSpPr>
          <p:nvPr/>
        </p:nvCxnSpPr>
        <p:spPr>
          <a:xfrm>
            <a:off x="4576320" y="1573200"/>
            <a:ext cx="3337560" cy="91368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sp>
        <p:nvSpPr>
          <p:cNvPr id="85" name=""/>
          <p:cNvSpPr/>
          <p:nvPr/>
        </p:nvSpPr>
        <p:spPr>
          <a:xfrm>
            <a:off x="3314880" y="3817800"/>
            <a:ext cx="2441520" cy="947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efefe"/>
              </a:gs>
              <a:gs pos="100000">
                <a:srgbClr val="dddddd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Gothic"/>
              </a:rPr>
              <a:t>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cc"/>
                </a:solidFill>
                <a:latin typeface="Century Gothic"/>
              </a:rPr>
              <a:t>торгов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6280" y="3822840"/>
            <a:ext cx="2448000" cy="936360"/>
          </a:xfrm>
          <a:prstGeom prst="rightArrow">
            <a:avLst>
              <a:gd name="adj1" fmla="val 50000"/>
              <a:gd name="adj2" fmla="val 65359"/>
            </a:avLst>
          </a:prstGeom>
          <a:gradFill rotWithShape="0">
            <a:gsLst>
              <a:gs pos="0">
                <a:srgbClr val="99ffcc"/>
              </a:gs>
              <a:gs pos="100000">
                <a:srgbClr val="fefefe"/>
              </a:gs>
            </a:gsLst>
            <a:lin ang="10800000"/>
          </a:gra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Century Gothic"/>
              </a:rPr>
              <a:t>из Гр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084720" y="3822840"/>
            <a:ext cx="2448000" cy="936360"/>
          </a:xfrm>
          <a:prstGeom prst="rightArrow">
            <a:avLst>
              <a:gd name="adj1" fmla="val 50000"/>
              <a:gd name="adj2" fmla="val 65359"/>
            </a:avLst>
          </a:prstGeom>
          <a:gradFill rotWithShape="0">
            <a:gsLst>
              <a:gs pos="0">
                <a:srgbClr val="ffcc99"/>
              </a:gs>
              <a:gs pos="100000">
                <a:srgbClr val="fefefe"/>
              </a:gs>
            </a:gsLst>
            <a:lin ang="10800000"/>
          </a:gra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00"/>
                </a:solidFill>
                <a:latin typeface="Century Gothic"/>
              </a:rPr>
              <a:t>в Гре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65600" y="5046840"/>
            <a:ext cx="1143720" cy="825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efefe"/>
              </a:gs>
              <a:gs pos="100000">
                <a:srgbClr val="ffcc99"/>
              </a:gs>
            </a:gsLst>
            <a:lin ang="5400000"/>
          </a:gradFill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800000"/>
                </a:solidFill>
                <a:latin typeface="Century Gothic"/>
              </a:rPr>
              <a:t>зер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800000"/>
                </a:solidFill>
                <a:latin typeface="Century Gothic"/>
              </a:rPr>
              <a:t>ра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4320" y="5046840"/>
            <a:ext cx="3640320" cy="11912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3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cc"/>
                </a:solidFill>
                <a:latin typeface="Century Gothic"/>
              </a:rPr>
              <a:t>ремесленные издел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cc"/>
                </a:solidFill>
                <a:latin typeface="Century Gothic"/>
              </a:rPr>
              <a:t>оливковое мас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cc"/>
                </a:solidFill>
                <a:latin typeface="Century Gothic"/>
              </a:rPr>
              <a:t>фрукты, ви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79" idx="3"/>
            <a:endCxn id="80" idx="1"/>
          </p:cNvCxnSpPr>
          <p:nvPr/>
        </p:nvCxnSpPr>
        <p:spPr>
          <a:xfrm>
            <a:off x="2393640" y="2989080"/>
            <a:ext cx="532440" cy="108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0" idx="3"/>
            <a:endCxn id="81" idx="1"/>
          </p:cNvCxnSpPr>
          <p:nvPr/>
        </p:nvCxnSpPr>
        <p:spPr>
          <a:xfrm>
            <a:off x="6229080" y="2989080"/>
            <a:ext cx="632520" cy="108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9B79-B1E4-41FF-ADEB-D618617649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3720" y="603360"/>
            <a:ext cx="3461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entury Gothic"/>
              </a:rPr>
              <a:t>Зна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Century Gothic"/>
              </a:rPr>
              <a:t>коло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172360" y="87480"/>
            <a:ext cx="876240" cy="820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6720" y="3436920"/>
            <a:ext cx="4240800" cy="15570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  <a:effectLst>
            <a:outerShdw dist="107932" dir="81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Arial"/>
              </a:rPr>
              <a:t>способствов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хозяйственному развит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греческих поли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и коло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90080" y="3438360"/>
            <a:ext cx="3368880" cy="15570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Arial"/>
              </a:rPr>
              <a:t>способствов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расширению зн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и представ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2" idx="2"/>
            <a:endCxn id="94" idx="0"/>
          </p:cNvCxnSpPr>
          <p:nvPr/>
        </p:nvCxnSpPr>
        <p:spPr>
          <a:xfrm flipH="1">
            <a:off x="2247120" y="1793880"/>
            <a:ext cx="2607480" cy="1643760"/>
          </a:xfrm>
          <a:prstGeom prst="straightConnector1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2" idx="2"/>
            <a:endCxn id="95" idx="0"/>
          </p:cNvCxnSpPr>
          <p:nvPr/>
        </p:nvCxnSpPr>
        <p:spPr>
          <a:xfrm>
            <a:off x="4854240" y="1793880"/>
            <a:ext cx="2421720" cy="1645200"/>
          </a:xfrm>
          <a:prstGeom prst="straightConnector1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4" idx="3"/>
            <a:endCxn id="95" idx="1"/>
          </p:cNvCxnSpPr>
          <p:nvPr/>
        </p:nvCxnSpPr>
        <p:spPr>
          <a:xfrm>
            <a:off x="4373640" y="4218120"/>
            <a:ext cx="1211760" cy="2160"/>
          </a:xfrm>
          <a:prstGeom prst="straightConnector1">
            <a:avLst/>
          </a:prstGeom>
          <a:ln cap="rnd" w="38160">
            <a:solidFill>
              <a:srgbClr val="99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020000" y="0"/>
            <a:ext cx="987480" cy="126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62D5-FC8A-428F-8742-74E4B1B6E5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3:57:29Z</dcterms:created>
  <dc:creator>Админ</dc:creator>
  <dc:description/>
  <dc:language>en-US</dc:language>
  <cp:lastModifiedBy>Админ</cp:lastModifiedBy>
  <dcterms:modified xsi:type="dcterms:W3CDTF">2010-04-09T04:15:38Z</dcterms:modified>
  <cp:revision>2</cp:revision>
  <dc:subject/>
  <dc:title>Великая греческая колонизация</dc:title>
</cp:coreProperties>
</file>