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5E2-9E56-42C2-A5BE-8EB51187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F5C-CC77-4C48-984B-8E0773D1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AF15-8AC7-4287-8646-85729F24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A70-E036-4134-A706-2E6BD2F9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FA2F-EBAF-4CB9-AC9A-3507B5EB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FDE-356E-4666-920E-037498E5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3C62-F722-4784-AD0F-BF0461BE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B9F-8D5D-406B-A514-1D5FC209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ABC5-DBD0-4190-8477-37F87ACC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AE6-3BFA-4534-98E6-92BCDBDA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EEFB-FEC7-4631-ACC4-4E09B524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FF8-4EE1-46BD-92F4-97AE64FB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ACE4-8787-498F-9887-8F32AD308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862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cc"/>
                </a:solidFill>
                <a:latin typeface="Century Gothic"/>
              </a:rPr>
              <a:t>Великая греческая колон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5509" t="0" r="1726" b="0"/>
          <a:stretch/>
        </p:blipFill>
        <p:spPr>
          <a:xfrm>
            <a:off x="539640" y="1484280"/>
            <a:ext cx="8066160" cy="4419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ХУДОБЕЦ А.А. Киев Украин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1CAC-0FEB-4AAD-8E5E-B2AAD821B27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 апреля 2010 год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1480" y="619920"/>
            <a:ext cx="81284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К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о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л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о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н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и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з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а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ц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и</a:t>
            </a:r>
            <a:r>
              <a:rPr b="1" lang="en-US" sz="4400" spc="-1" strike="noStrike">
                <a:solidFill>
                  <a:srgbClr val="0000ff"/>
                </a:solidFill>
                <a:latin typeface="Century Gothic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Century Gothic"/>
              </a:rPr>
              <a:t>я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Gothic"/>
              </a:rPr>
              <a:t>освоение</a:t>
            </a:r>
            <a:r>
              <a:rPr b="0" i="1" lang="ru-RU" sz="4000" spc="-1" strike="noStrike">
                <a:solidFill>
                  <a:srgbClr val="000000"/>
                </a:solidFill>
                <a:latin typeface="Century Gothic"/>
              </a:rPr>
              <a:t> новых территори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Gothic"/>
              </a:rPr>
              <a:t>создание</a:t>
            </a:r>
            <a:r>
              <a:rPr b="0" i="1" lang="ru-RU" sz="4000" spc="-1" strike="noStrike">
                <a:solidFill>
                  <a:srgbClr val="000000"/>
                </a:solidFill>
                <a:latin typeface="Century Gothic"/>
              </a:rPr>
              <a:t> на них своих посел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172360" y="87480"/>
            <a:ext cx="876240" cy="820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6200" y="2836800"/>
            <a:ext cx="8372520" cy="33908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C018-AF27-4C79-AF2C-FC8BB3F01B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123720" y="415800"/>
            <a:ext cx="3461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entury Gothic"/>
              </a:rPr>
              <a:t>Прич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Century Gothic"/>
              </a:rPr>
              <a:t>коло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6520" y="3176640"/>
            <a:ext cx="1098000" cy="703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м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Arial"/>
              </a:rPr>
              <a:t>зем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82920" y="3176640"/>
            <a:ext cx="3121920" cy="1008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м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ельскохозяйств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Arial"/>
              </a:rPr>
              <a:t>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50720" y="3176640"/>
            <a:ext cx="2469600" cy="1313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бнищ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насел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демограф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про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25240" y="5048280"/>
            <a:ext cx="3199680" cy="1008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борьб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между раз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группами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за власть в поли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70520" y="3176640"/>
            <a:ext cx="1354320" cy="703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0000"/>
                </a:solidFill>
                <a:uFillTx/>
                <a:latin typeface="Arial"/>
              </a:rPr>
              <a:t>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Arial"/>
              </a:rPr>
              <a:t>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172360" y="87480"/>
            <a:ext cx="876240" cy="820440"/>
          </a:xfrm>
          <a:prstGeom prst="rect">
            <a:avLst/>
          </a:prstGeom>
          <a:ln w="0">
            <a:noFill/>
          </a:ln>
        </p:spPr>
      </p:pic>
      <p:cxnSp>
        <p:nvCxnSpPr>
          <p:cNvPr id="53" name=""/>
          <p:cNvCxnSpPr>
            <a:stCxn id="46" idx="2"/>
            <a:endCxn id="47" idx="0"/>
          </p:cNvCxnSpPr>
          <p:nvPr/>
        </p:nvCxnSpPr>
        <p:spPr>
          <a:xfrm flipH="1">
            <a:off x="785520" y="1606680"/>
            <a:ext cx="4069440" cy="155160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54" name=""/>
          <p:cNvCxnSpPr>
            <a:stCxn id="46" idx="2"/>
            <a:endCxn id="48" idx="0"/>
          </p:cNvCxnSpPr>
          <p:nvPr/>
        </p:nvCxnSpPr>
        <p:spPr>
          <a:xfrm flipH="1">
            <a:off x="3144240" y="1606680"/>
            <a:ext cx="1710360" cy="155160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55" name=""/>
          <p:cNvCxnSpPr>
            <a:stCxn id="46" idx="2"/>
            <a:endCxn id="49" idx="0"/>
          </p:cNvCxnSpPr>
          <p:nvPr/>
        </p:nvCxnSpPr>
        <p:spPr>
          <a:xfrm>
            <a:off x="4854600" y="1606680"/>
            <a:ext cx="1332720" cy="155160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56" name=""/>
          <p:cNvCxnSpPr>
            <a:stCxn id="46" idx="2"/>
            <a:endCxn id="51" idx="0"/>
          </p:cNvCxnSpPr>
          <p:nvPr/>
        </p:nvCxnSpPr>
        <p:spPr>
          <a:xfrm>
            <a:off x="4854600" y="1606680"/>
            <a:ext cx="3494880" cy="155160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57" name=""/>
          <p:cNvCxnSpPr>
            <a:stCxn id="46" idx="2"/>
            <a:endCxn id="50" idx="0"/>
          </p:cNvCxnSpPr>
          <p:nvPr/>
        </p:nvCxnSpPr>
        <p:spPr>
          <a:xfrm flipH="1">
            <a:off x="4825440" y="1606320"/>
            <a:ext cx="29160" cy="342324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956720" y="1125360"/>
            <a:ext cx="987120" cy="126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8AC6-BE9C-411D-9857-7F38EFF461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10880" y="166680"/>
            <a:ext cx="3461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entury Gothic"/>
              </a:rPr>
              <a:t>Усло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Century Gothic"/>
              </a:rPr>
              <a:t>коло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9440" y="2523960"/>
            <a:ext cx="32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Century Gothic"/>
              </a:rPr>
              <a:t>Наличие</a:t>
            </a: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Century Gothic"/>
              </a:rPr>
              <a:t>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морех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и кораблестро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22240" y="2523960"/>
            <a:ext cx="31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Century Gothic"/>
              </a:rPr>
              <a:t>Наличие</a:t>
            </a: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Century Gothic"/>
              </a:rPr>
              <a:t>товаров</a:t>
            </a: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для </a:t>
            </a:r>
            <a:r>
              <a:rPr b="1" lang="uk-UA" sz="2400" spc="-1" strike="noStrike">
                <a:solidFill>
                  <a:srgbClr val="ff0000"/>
                </a:solidFill>
                <a:latin typeface="Century Gothic"/>
              </a:rPr>
              <a:t>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9" idx="2"/>
            <a:endCxn id="60" idx="0"/>
          </p:cNvCxnSpPr>
          <p:nvPr/>
        </p:nvCxnSpPr>
        <p:spPr>
          <a:xfrm flipH="1">
            <a:off x="2025000" y="1356840"/>
            <a:ext cx="2516760" cy="116748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63" name=""/>
          <p:cNvCxnSpPr>
            <a:stCxn id="59" idx="2"/>
            <a:endCxn id="61" idx="0"/>
          </p:cNvCxnSpPr>
          <p:nvPr/>
        </p:nvCxnSpPr>
        <p:spPr>
          <a:xfrm>
            <a:off x="4541760" y="1356840"/>
            <a:ext cx="2364480" cy="116748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172360" y="87480"/>
            <a:ext cx="876240" cy="820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20000" y="0"/>
            <a:ext cx="987480" cy="126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692360" y="3933720"/>
            <a:ext cx="5759280" cy="25653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8ABA-FEC9-44C4-840F-120991617B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844360" y="2759040"/>
            <a:ext cx="3461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entury Gothic"/>
              </a:rPr>
              <a:t>На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Century Gothic"/>
              </a:rPr>
              <a:t>коло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28440" y="4438800"/>
            <a:ext cx="1847880" cy="947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Севе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Аф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600" y="1047600"/>
            <a:ext cx="420120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135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Восточное и Север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Средиземномор</a:t>
            </a:r>
            <a:r>
              <a:rPr b="1" i="1" lang="ru-RU" sz="2800" spc="-1" strike="noStrike">
                <a:solidFill>
                  <a:srgbClr val="0033cc"/>
                </a:solidFill>
                <a:latin typeface="Century Gothic"/>
              </a:rPr>
              <a:t>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9160" y="4438800"/>
            <a:ext cx="2363040" cy="947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Малая Аз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Колх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23440" y="1111320"/>
            <a:ext cx="299412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Север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cc"/>
                </a:solidFill>
                <a:latin typeface="Century Gothic"/>
              </a:rPr>
              <a:t>Причерномор</a:t>
            </a:r>
            <a:r>
              <a:rPr b="1" i="1" lang="ru-RU" sz="2800" spc="-1" strike="noStrike">
                <a:solidFill>
                  <a:srgbClr val="0033cc"/>
                </a:solidFill>
                <a:latin typeface="Century Gothic"/>
              </a:rPr>
              <a:t>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7" idx="1"/>
            <a:endCxn id="68" idx="0"/>
          </p:cNvCxnSpPr>
          <p:nvPr/>
        </p:nvCxnSpPr>
        <p:spPr>
          <a:xfrm flipH="1">
            <a:off x="1851840" y="3354480"/>
            <a:ext cx="1072440" cy="108504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73" name=""/>
          <p:cNvCxnSpPr>
            <a:stCxn id="67" idx="1"/>
            <a:endCxn id="69" idx="2"/>
          </p:cNvCxnSpPr>
          <p:nvPr/>
        </p:nvCxnSpPr>
        <p:spPr>
          <a:xfrm flipH="1" flipV="1">
            <a:off x="2391840" y="2002680"/>
            <a:ext cx="532800" cy="135180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74" name=""/>
          <p:cNvCxnSpPr>
            <a:stCxn id="67" idx="3"/>
            <a:endCxn id="70" idx="0"/>
          </p:cNvCxnSpPr>
          <p:nvPr/>
        </p:nvCxnSpPr>
        <p:spPr>
          <a:xfrm>
            <a:off x="6226200" y="3354480"/>
            <a:ext cx="1195920" cy="108504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75" name=""/>
          <p:cNvCxnSpPr>
            <a:stCxn id="67" idx="3"/>
            <a:endCxn id="71" idx="2"/>
          </p:cNvCxnSpPr>
          <p:nvPr/>
        </p:nvCxnSpPr>
        <p:spPr>
          <a:xfrm flipV="1">
            <a:off x="6226200" y="2066040"/>
            <a:ext cx="1195920" cy="128844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172360" y="87480"/>
            <a:ext cx="876240" cy="82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10C8-BB6A-4A79-89B7-6E8611A18D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45800" y="382680"/>
            <a:ext cx="3461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entury Gothic"/>
              </a:rPr>
              <a:t>Харак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Century Gothic"/>
              </a:rPr>
              <a:t>коло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172360" y="87480"/>
            <a:ext cx="876240" cy="820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82880" y="2486160"/>
            <a:ext cx="2207520" cy="1008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efefe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Century Gothic"/>
              </a:rPr>
              <a:t>соз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Century Gothic"/>
              </a:rPr>
              <a:t>посе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на берегу мо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8520" y="2486160"/>
            <a:ext cx="3318480" cy="1008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efefe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Century Gothic"/>
              </a:rPr>
              <a:t>уста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Century Gothic"/>
              </a:rPr>
              <a:t>конта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с местным насе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02560" y="2486160"/>
            <a:ext cx="2221200" cy="1008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efefe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Century Gothic"/>
              </a:rPr>
              <a:t>хозяйств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Century Gothic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7" idx="2"/>
            <a:endCxn id="79" idx="0"/>
          </p:cNvCxnSpPr>
          <p:nvPr/>
        </p:nvCxnSpPr>
        <p:spPr>
          <a:xfrm flipH="1">
            <a:off x="1286640" y="1573200"/>
            <a:ext cx="3290040" cy="91368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83" name=""/>
          <p:cNvCxnSpPr>
            <a:stCxn id="77" idx="2"/>
            <a:endCxn id="80" idx="0"/>
          </p:cNvCxnSpPr>
          <p:nvPr/>
        </p:nvCxnSpPr>
        <p:spPr>
          <a:xfrm>
            <a:off x="4576320" y="1573200"/>
            <a:ext cx="2520" cy="91368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84" name=""/>
          <p:cNvCxnSpPr>
            <a:stCxn id="77" idx="2"/>
            <a:endCxn id="81" idx="0"/>
          </p:cNvCxnSpPr>
          <p:nvPr/>
        </p:nvCxnSpPr>
        <p:spPr>
          <a:xfrm>
            <a:off x="4576320" y="1573200"/>
            <a:ext cx="3337560" cy="913680"/>
          </a:xfrm>
          <a:prstGeom prst="straightConnector1">
            <a:avLst/>
          </a:prstGeom>
          <a:ln cap="rnd" w="57240">
            <a:solidFill>
              <a:srgbClr val="990000"/>
            </a:solidFill>
            <a:custDash>
              <a:ds d="100000" sp="1000"/>
            </a:custDash>
            <a:miter/>
            <a:tailEnd len="med" type="stealth" w="med"/>
          </a:ln>
        </p:spPr>
      </p:cxnSp>
      <p:sp>
        <p:nvSpPr>
          <p:cNvPr id="85" name=""/>
          <p:cNvSpPr/>
          <p:nvPr/>
        </p:nvSpPr>
        <p:spPr>
          <a:xfrm>
            <a:off x="3314880" y="3817800"/>
            <a:ext cx="2441520" cy="947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efefe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entury Gothic"/>
              </a:rPr>
              <a:t>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cc"/>
                </a:solidFill>
                <a:latin typeface="Century Gothic"/>
              </a:rPr>
              <a:t>торгов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6280" y="3822840"/>
            <a:ext cx="2448000" cy="936360"/>
          </a:xfrm>
          <a:prstGeom prst="rightArrow">
            <a:avLst>
              <a:gd name="adj1" fmla="val 50000"/>
              <a:gd name="adj2" fmla="val 65359"/>
            </a:avLst>
          </a:prstGeom>
          <a:gradFill rotWithShape="0">
            <a:gsLst>
              <a:gs pos="0">
                <a:srgbClr val="99ffcc"/>
              </a:gs>
              <a:gs pos="100000">
                <a:srgbClr val="fefefe"/>
              </a:gs>
            </a:gsLst>
            <a:lin ang="10800000"/>
          </a:gra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Century Gothic"/>
              </a:rPr>
              <a:t>из Гре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084720" y="3822840"/>
            <a:ext cx="2448000" cy="936360"/>
          </a:xfrm>
          <a:prstGeom prst="rightArrow">
            <a:avLst>
              <a:gd name="adj1" fmla="val 50000"/>
              <a:gd name="adj2" fmla="val 65359"/>
            </a:avLst>
          </a:prstGeom>
          <a:gradFill rotWithShape="0">
            <a:gsLst>
              <a:gs pos="0">
                <a:srgbClr val="ffcc99"/>
              </a:gs>
              <a:gs pos="100000">
                <a:srgbClr val="fefefe"/>
              </a:gs>
            </a:gsLst>
            <a:lin ang="10800000"/>
          </a:gra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00000"/>
                </a:solidFill>
                <a:latin typeface="Century Gothic"/>
              </a:rPr>
              <a:t>в Гре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65600" y="5046840"/>
            <a:ext cx="1143720" cy="825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efefe"/>
              </a:gs>
              <a:gs pos="100000">
                <a:srgbClr val="ffcc99"/>
              </a:gs>
            </a:gsLst>
            <a:lin ang="5400000"/>
          </a:gradFill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800000"/>
                </a:solidFill>
                <a:latin typeface="Century Gothic"/>
              </a:rPr>
              <a:t>зер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800000"/>
                </a:solidFill>
                <a:latin typeface="Century Gothic"/>
              </a:rPr>
              <a:t>ра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320" y="5046840"/>
            <a:ext cx="3640320" cy="11912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efefe"/>
              </a:gs>
              <a:gs pos="100000">
                <a:srgbClr val="ccffff"/>
              </a:gs>
            </a:gsLst>
            <a:lin ang="5400000"/>
          </a:gradFill>
          <a:ln w="3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cc"/>
                </a:solidFill>
                <a:latin typeface="Century Gothic"/>
              </a:rPr>
              <a:t>ремесленные издел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cc"/>
                </a:solidFill>
                <a:latin typeface="Century Gothic"/>
              </a:rPr>
              <a:t>оливковое мас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cc"/>
                </a:solidFill>
                <a:latin typeface="Century Gothic"/>
              </a:rPr>
              <a:t>фрукты, ви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79" idx="3"/>
            <a:endCxn id="80" idx="1"/>
          </p:cNvCxnSpPr>
          <p:nvPr/>
        </p:nvCxnSpPr>
        <p:spPr>
          <a:xfrm>
            <a:off x="2393640" y="2989080"/>
            <a:ext cx="532440" cy="10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0" idx="3"/>
            <a:endCxn id="81" idx="1"/>
          </p:cNvCxnSpPr>
          <p:nvPr/>
        </p:nvCxnSpPr>
        <p:spPr>
          <a:xfrm>
            <a:off x="6229080" y="2989080"/>
            <a:ext cx="632520" cy="10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FA11-4584-4FFA-8DF8-1A9B3ED566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3720" y="603360"/>
            <a:ext cx="3461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entury Gothic"/>
              </a:rPr>
              <a:t>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Century Gothic"/>
              </a:rPr>
              <a:t>коло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172360" y="87480"/>
            <a:ext cx="876240" cy="820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6720" y="3436920"/>
            <a:ext cx="4240800" cy="15570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  <a:effectLst>
            <a:outerShdw dist="107932" dir="81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Arial"/>
              </a:rPr>
              <a:t>способствов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хозяйственному разви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реческих поли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и коло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90080" y="3438360"/>
            <a:ext cx="3368880" cy="15570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Arial"/>
              </a:rPr>
              <a:t>способствов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расширению зн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и предста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2" idx="2"/>
            <a:endCxn id="94" idx="0"/>
          </p:cNvCxnSpPr>
          <p:nvPr/>
        </p:nvCxnSpPr>
        <p:spPr>
          <a:xfrm flipH="1">
            <a:off x="2247120" y="1793880"/>
            <a:ext cx="2607480" cy="1643760"/>
          </a:xfrm>
          <a:prstGeom prst="straightConnector1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2" idx="2"/>
            <a:endCxn id="95" idx="0"/>
          </p:cNvCxnSpPr>
          <p:nvPr/>
        </p:nvCxnSpPr>
        <p:spPr>
          <a:xfrm>
            <a:off x="4854240" y="1793880"/>
            <a:ext cx="2421720" cy="1645200"/>
          </a:xfrm>
          <a:prstGeom prst="straightConnector1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4" idx="3"/>
            <a:endCxn id="95" idx="1"/>
          </p:cNvCxnSpPr>
          <p:nvPr/>
        </p:nvCxnSpPr>
        <p:spPr>
          <a:xfrm>
            <a:off x="4373640" y="4218120"/>
            <a:ext cx="1211760" cy="2160"/>
          </a:xfrm>
          <a:prstGeom prst="straightConnector1">
            <a:avLst/>
          </a:prstGeom>
          <a:ln cap="rnd" w="38160">
            <a:solidFill>
              <a:srgbClr val="99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020000" y="0"/>
            <a:ext cx="987480" cy="12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ED9-A4BD-4BCB-9665-672AA9B128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3:57:29Z</dcterms:created>
  <dc:creator>Админ</dc:creator>
  <dc:description/>
  <dc:language>en-US</dc:language>
  <cp:lastModifiedBy>Админ</cp:lastModifiedBy>
  <dcterms:modified xsi:type="dcterms:W3CDTF">2010-04-09T04:15:38Z</dcterms:modified>
  <cp:revision>2</cp:revision>
  <dc:subject/>
  <dc:title>Великая греческая колонизация</dc:title>
</cp:coreProperties>
</file>