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BA5-CC45-4679-B04E-81457270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383-ACB7-4A44-AC1B-6A85F20A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F20-7222-4689-946D-C8856948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59E-4ED3-45B3-ABD8-8D111FB8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B51-4CCC-4C4E-86B4-7A93F023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A8F-19AE-40C5-A550-A93FE871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F23-88BE-430D-AB54-0BC288A9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A82-C259-4C0B-9E90-F8392625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FA9-839B-43BC-86F9-92785453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0EB-411D-41A0-8289-D2C2FB47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06D-E8E1-49C9-9B56-4E80B0C4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11C-ACCD-4489-9143-63E44DFA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6C9E-E99E-424E-8140-2D240084B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862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cc"/>
                </a:solidFill>
                <a:latin typeface="Century Gothic"/>
              </a:rPr>
              <a:t>Великая греческая колон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5509" t="0" r="1726" b="0"/>
          <a:stretch/>
        </p:blipFill>
        <p:spPr>
          <a:xfrm>
            <a:off x="539640" y="1484280"/>
            <a:ext cx="8066160" cy="4419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ХУДОБЕЦ А.А. Киев Украин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DDA-D59F-4316-A8DD-ABC46A43D1B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 апреля 2010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1480" y="619920"/>
            <a:ext cx="8128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К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о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л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о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н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и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з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а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ц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и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Gothic"/>
              </a:rPr>
              <a:t>освоение</a:t>
            </a:r>
            <a:r>
              <a:rPr b="0" i="1" lang="ru-RU" sz="4000" spc="-1" strike="noStrike">
                <a:solidFill>
                  <a:srgbClr val="000000"/>
                </a:solidFill>
                <a:latin typeface="Century Gothic"/>
              </a:rPr>
              <a:t> новых территори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Gothic"/>
              </a:rPr>
              <a:t>создание</a:t>
            </a:r>
            <a:r>
              <a:rPr b="0" i="1" lang="ru-RU" sz="4000" spc="-1" strike="noStrike">
                <a:solidFill>
                  <a:srgbClr val="000000"/>
                </a:solidFill>
                <a:latin typeface="Century Gothic"/>
              </a:rPr>
              <a:t> на них своих посе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6200" y="2836800"/>
            <a:ext cx="8372520" cy="33908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4B9-7E8C-4DD8-A23C-2522A406A7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23720" y="41580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520" y="3176640"/>
            <a:ext cx="1098000" cy="70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Arial"/>
              </a:rPr>
              <a:t>зе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82920" y="3176640"/>
            <a:ext cx="3121920" cy="1008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Arial"/>
              </a:rPr>
              <a:t>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0720" y="3176640"/>
            <a:ext cx="2469600" cy="1313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бнищ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демогра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пр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25240" y="5048280"/>
            <a:ext cx="3199680" cy="1008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борьб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жду раз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группами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за власть в поли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0520" y="3176640"/>
            <a:ext cx="1354320" cy="70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Arial"/>
              </a:rPr>
              <a:t>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cxnSp>
        <p:nvCxnSpPr>
          <p:cNvPr id="53" name=""/>
          <p:cNvCxnSpPr>
            <a:stCxn id="46" idx="2"/>
            <a:endCxn id="47" idx="0"/>
          </p:cNvCxnSpPr>
          <p:nvPr/>
        </p:nvCxnSpPr>
        <p:spPr>
          <a:xfrm flipH="1">
            <a:off x="785520" y="1606680"/>
            <a:ext cx="406944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4" name=""/>
          <p:cNvCxnSpPr>
            <a:stCxn id="46" idx="2"/>
            <a:endCxn id="48" idx="0"/>
          </p:cNvCxnSpPr>
          <p:nvPr/>
        </p:nvCxnSpPr>
        <p:spPr>
          <a:xfrm flipH="1">
            <a:off x="3144240" y="1606680"/>
            <a:ext cx="171036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5" name=""/>
          <p:cNvCxnSpPr>
            <a:stCxn id="46" idx="2"/>
            <a:endCxn id="49" idx="0"/>
          </p:cNvCxnSpPr>
          <p:nvPr/>
        </p:nvCxnSpPr>
        <p:spPr>
          <a:xfrm>
            <a:off x="4854600" y="1606680"/>
            <a:ext cx="133272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6" name=""/>
          <p:cNvCxnSpPr>
            <a:stCxn id="46" idx="2"/>
            <a:endCxn id="51" idx="0"/>
          </p:cNvCxnSpPr>
          <p:nvPr/>
        </p:nvCxnSpPr>
        <p:spPr>
          <a:xfrm>
            <a:off x="4854600" y="1606680"/>
            <a:ext cx="349488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7" name=""/>
          <p:cNvCxnSpPr>
            <a:stCxn id="46" idx="2"/>
            <a:endCxn id="50" idx="0"/>
          </p:cNvCxnSpPr>
          <p:nvPr/>
        </p:nvCxnSpPr>
        <p:spPr>
          <a:xfrm flipH="1">
            <a:off x="4825440" y="1606320"/>
            <a:ext cx="29160" cy="34232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956720" y="1125360"/>
            <a:ext cx="987120" cy="126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D21-1F9D-4AB0-8B85-F6F643A72C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0880" y="16668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9440" y="2523960"/>
            <a:ext cx="32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Century Gothic"/>
              </a:rPr>
              <a:t>Наличие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морех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и корабле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22240" y="2523960"/>
            <a:ext cx="31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Century Gothic"/>
              </a:rPr>
              <a:t>Наличие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товаров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для </a:t>
            </a: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2"/>
            <a:endCxn id="60" idx="0"/>
          </p:cNvCxnSpPr>
          <p:nvPr/>
        </p:nvCxnSpPr>
        <p:spPr>
          <a:xfrm flipH="1">
            <a:off x="2025000" y="1356840"/>
            <a:ext cx="2516760" cy="11674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63" name=""/>
          <p:cNvCxnSpPr>
            <a:stCxn id="59" idx="2"/>
            <a:endCxn id="61" idx="0"/>
          </p:cNvCxnSpPr>
          <p:nvPr/>
        </p:nvCxnSpPr>
        <p:spPr>
          <a:xfrm>
            <a:off x="4541760" y="1356840"/>
            <a:ext cx="2364480" cy="11674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987480" cy="126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92360" y="3933720"/>
            <a:ext cx="5759280" cy="2565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3A1-8750-47D9-A33A-AF84042857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44360" y="275904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На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28440" y="4438800"/>
            <a:ext cx="1847880" cy="947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Севе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00" y="1047600"/>
            <a:ext cx="420120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Восточное и Севе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Средиземномор</a:t>
            </a:r>
            <a:r>
              <a:rPr b="1" i="1" lang="ru-RU" sz="2800" spc="-1" strike="noStrike">
                <a:solidFill>
                  <a:srgbClr val="0033cc"/>
                </a:solidFill>
                <a:latin typeface="Century Gothic"/>
              </a:rPr>
              <a:t>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9160" y="4438800"/>
            <a:ext cx="2363040" cy="947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Малая Аз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Колх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23440" y="1111320"/>
            <a:ext cx="299412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Севе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Причерномор</a:t>
            </a:r>
            <a:r>
              <a:rPr b="1" i="1" lang="ru-RU" sz="2800" spc="-1" strike="noStrike">
                <a:solidFill>
                  <a:srgbClr val="0033cc"/>
                </a:solidFill>
                <a:latin typeface="Century Gothic"/>
              </a:rPr>
              <a:t>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7" idx="1"/>
            <a:endCxn id="68" idx="0"/>
          </p:cNvCxnSpPr>
          <p:nvPr/>
        </p:nvCxnSpPr>
        <p:spPr>
          <a:xfrm flipH="1">
            <a:off x="1851840" y="3354480"/>
            <a:ext cx="1072440" cy="10850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73" name=""/>
          <p:cNvCxnSpPr>
            <a:stCxn id="67" idx="1"/>
            <a:endCxn id="69" idx="2"/>
          </p:cNvCxnSpPr>
          <p:nvPr/>
        </p:nvCxnSpPr>
        <p:spPr>
          <a:xfrm flipH="1" flipV="1">
            <a:off x="2391840" y="2002680"/>
            <a:ext cx="532800" cy="13518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74" name=""/>
          <p:cNvCxnSpPr>
            <a:stCxn id="67" idx="3"/>
            <a:endCxn id="70" idx="0"/>
          </p:cNvCxnSpPr>
          <p:nvPr/>
        </p:nvCxnSpPr>
        <p:spPr>
          <a:xfrm>
            <a:off x="6226200" y="3354480"/>
            <a:ext cx="1195920" cy="10850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75" name=""/>
          <p:cNvCxnSpPr>
            <a:stCxn id="67" idx="3"/>
            <a:endCxn id="71" idx="2"/>
          </p:cNvCxnSpPr>
          <p:nvPr/>
        </p:nvCxnSpPr>
        <p:spPr>
          <a:xfrm flipV="1">
            <a:off x="6226200" y="2066040"/>
            <a:ext cx="1195920" cy="12884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200-D7F7-4203-B08A-AF69EDE795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45800" y="38268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2880" y="2486160"/>
            <a:ext cx="2207520" cy="1008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со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пос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на берегу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8520" y="2486160"/>
            <a:ext cx="3318480" cy="1008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у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конт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с местным нас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02560" y="2486160"/>
            <a:ext cx="2221200" cy="1008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хозяйств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7" idx="2"/>
            <a:endCxn id="79" idx="0"/>
          </p:cNvCxnSpPr>
          <p:nvPr/>
        </p:nvCxnSpPr>
        <p:spPr>
          <a:xfrm flipH="1">
            <a:off x="1286640" y="1573200"/>
            <a:ext cx="3290040" cy="9136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83" name=""/>
          <p:cNvCxnSpPr>
            <a:stCxn id="77" idx="2"/>
            <a:endCxn id="80" idx="0"/>
          </p:cNvCxnSpPr>
          <p:nvPr/>
        </p:nvCxnSpPr>
        <p:spPr>
          <a:xfrm>
            <a:off x="4576320" y="1573200"/>
            <a:ext cx="2520" cy="9136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84" name=""/>
          <p:cNvCxnSpPr>
            <a:stCxn id="77" idx="2"/>
            <a:endCxn id="81" idx="0"/>
          </p:cNvCxnSpPr>
          <p:nvPr/>
        </p:nvCxnSpPr>
        <p:spPr>
          <a:xfrm>
            <a:off x="4576320" y="1573200"/>
            <a:ext cx="3337560" cy="9136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sp>
        <p:nvSpPr>
          <p:cNvPr id="85" name=""/>
          <p:cNvSpPr/>
          <p:nvPr/>
        </p:nvSpPr>
        <p:spPr>
          <a:xfrm>
            <a:off x="3314880" y="3817800"/>
            <a:ext cx="2441520" cy="947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Century Gothic"/>
              </a:rPr>
              <a:t>торгов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6280" y="3822840"/>
            <a:ext cx="2448000" cy="936360"/>
          </a:xfrm>
          <a:prstGeom prst="rightArrow">
            <a:avLst>
              <a:gd name="adj1" fmla="val 50000"/>
              <a:gd name="adj2" fmla="val 65359"/>
            </a:avLst>
          </a:prstGeom>
          <a:gradFill rotWithShape="0">
            <a:gsLst>
              <a:gs pos="0">
                <a:srgbClr val="99ffcc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Century Gothic"/>
              </a:rPr>
              <a:t>из Гр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84720" y="3822840"/>
            <a:ext cx="2448000" cy="936360"/>
          </a:xfrm>
          <a:prstGeom prst="rightArrow">
            <a:avLst>
              <a:gd name="adj1" fmla="val 50000"/>
              <a:gd name="adj2" fmla="val 65359"/>
            </a:avLst>
          </a:prstGeom>
          <a:gradFill rotWithShape="0">
            <a:gsLst>
              <a:gs pos="0">
                <a:srgbClr val="ffcc99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00"/>
                </a:solidFill>
                <a:latin typeface="Century Gothic"/>
              </a:rPr>
              <a:t>в Гре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65600" y="5046840"/>
            <a:ext cx="114372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00000"/>
                </a:solidFill>
                <a:latin typeface="Century Gothic"/>
              </a:rPr>
              <a:t>зер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00000"/>
                </a:solidFill>
                <a:latin typeface="Century Gothic"/>
              </a:rPr>
              <a:t>р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" y="5046840"/>
            <a:ext cx="3640320" cy="1191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3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Century Gothic"/>
              </a:rPr>
              <a:t>ремесленные издел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Century Gothic"/>
              </a:rPr>
              <a:t>оливковое мас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Century Gothic"/>
              </a:rPr>
              <a:t>фрукты, в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79" idx="3"/>
            <a:endCxn id="80" idx="1"/>
          </p:cNvCxnSpPr>
          <p:nvPr/>
        </p:nvCxnSpPr>
        <p:spPr>
          <a:xfrm>
            <a:off x="2393640" y="2989080"/>
            <a:ext cx="532440" cy="1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0" idx="3"/>
            <a:endCxn id="81" idx="1"/>
          </p:cNvCxnSpPr>
          <p:nvPr/>
        </p:nvCxnSpPr>
        <p:spPr>
          <a:xfrm>
            <a:off x="6229080" y="2989080"/>
            <a:ext cx="632520" cy="1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C1A-F4F2-45C4-B50D-6239D87552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3720" y="60336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6720" y="3436920"/>
            <a:ext cx="4240800" cy="1557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  <a:effectLst>
            <a:outerShdw dist="107932" dir="81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способство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хозяйственному разви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реческих поли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и кол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90080" y="3438360"/>
            <a:ext cx="3368880" cy="1557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способство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расширению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и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2" idx="2"/>
            <a:endCxn id="94" idx="0"/>
          </p:cNvCxnSpPr>
          <p:nvPr/>
        </p:nvCxnSpPr>
        <p:spPr>
          <a:xfrm flipH="1">
            <a:off x="2247120" y="1793880"/>
            <a:ext cx="2607480" cy="164376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2" idx="2"/>
            <a:endCxn id="95" idx="0"/>
          </p:cNvCxnSpPr>
          <p:nvPr/>
        </p:nvCxnSpPr>
        <p:spPr>
          <a:xfrm>
            <a:off x="4854240" y="1793880"/>
            <a:ext cx="2421720" cy="164520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3"/>
            <a:endCxn id="95" idx="1"/>
          </p:cNvCxnSpPr>
          <p:nvPr/>
        </p:nvCxnSpPr>
        <p:spPr>
          <a:xfrm>
            <a:off x="4373640" y="4218120"/>
            <a:ext cx="1211760" cy="2160"/>
          </a:xfrm>
          <a:prstGeom prst="straightConnector1">
            <a:avLst/>
          </a:prstGeom>
          <a:ln cap="rnd" w="38160">
            <a:solidFill>
              <a:srgbClr val="99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987480" cy="12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A8C-4479-4B94-B45E-785CAAE7B4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3:57:29Z</dcterms:created>
  <dc:creator>Админ</dc:creator>
  <dc:description/>
  <dc:language>en-US</dc:language>
  <cp:lastModifiedBy>Админ</cp:lastModifiedBy>
  <dcterms:modified xsi:type="dcterms:W3CDTF">2010-04-09T04:15:38Z</dcterms:modified>
  <cp:revision>2</cp:revision>
  <dc:subject/>
  <dc:title>Великая греческая колонизация</dc:title>
</cp:coreProperties>
</file>