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46D-F255-42E3-B008-B19E669A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F3D-E0B4-49CB-A544-450A95D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618-21C3-47F2-AFE9-82293E5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2FD-F347-4AAE-8E57-A82AE99D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B98-1415-4F4B-9500-2062DDB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160-7D25-4187-B540-D00D9B14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5E5-22C1-4D52-B3FC-88AC13C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EDA-E9E6-4DCB-B582-8948AA30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188-D2AC-4A3A-BBE5-BFFD587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477-7F7B-4C16-9FA2-6DF36A0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586-8EC6-455E-B842-F5066DA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7A8-AE64-48BC-B1B1-B030C04C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FDB-C64F-4DDD-9591-C28195E43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1143000" y="6094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циональные костюмы   народов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Урала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5"/>
          <p:cNvSpPr txBox="1"/>
          <p:nvPr/>
        </p:nvSpPr>
        <p:spPr>
          <a:xfrm>
            <a:off x="1600200" y="2819520"/>
            <a:ext cx="60958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Х  ,  БАШКИ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 ТАТА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9"/>
          <p:cNvSpPr txBox="1"/>
          <p:nvPr/>
        </p:nvSpPr>
        <p:spPr>
          <a:xfrm>
            <a:off x="3048120" y="5335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7" descr="IMG_0442"/>
          <p:cNvPicPr/>
          <p:nvPr/>
        </p:nvPicPr>
        <p:blipFill>
          <a:blip r:embed="rId1"/>
          <a:stretch/>
        </p:blipFill>
        <p:spPr>
          <a:xfrm>
            <a:off x="990720" y="173988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1ee41a49625c"/>
          <p:cNvPicPr/>
          <p:nvPr/>
        </p:nvPicPr>
        <p:blipFill>
          <a:blip r:embed="rId2"/>
          <a:stretch/>
        </p:blipFill>
        <p:spPr>
          <a:xfrm>
            <a:off x="990720" y="426708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79231-3ba94de43edf7b33"/>
          <p:cNvPicPr/>
          <p:nvPr/>
        </p:nvPicPr>
        <p:blipFill>
          <a:blip r:embed="rId3"/>
          <a:stretch/>
        </p:blipFill>
        <p:spPr>
          <a:xfrm>
            <a:off x="5105520" y="17524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P2090094"/>
          <p:cNvPicPr/>
          <p:nvPr/>
        </p:nvPicPr>
        <p:blipFill>
          <a:blip r:embed="rId4"/>
          <a:stretch/>
        </p:blipFill>
        <p:spPr>
          <a:xfrm>
            <a:off x="5181480" y="426708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 концу Х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ека Южный Урал был заселен проживавшими рядом русскими, татарами, башкирами, чувашами, казахами, нагайбаками и другими народ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2514600" y="60948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ый     Урал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8" descr="P1290073"/>
          <p:cNvPicPr/>
          <p:nvPr/>
        </p:nvPicPr>
        <p:blipFill>
          <a:blip r:embed="rId3"/>
          <a:stretch/>
        </p:blipFill>
        <p:spPr>
          <a:xfrm>
            <a:off x="2514600" y="160020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каждого народа были свои обычаи, обряды, народные праздники, национальная одеж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590920" y="3049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ы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 Урал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914400" y="1752480"/>
            <a:ext cx="3255840" cy="23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P1290065"/>
          <p:cNvPicPr/>
          <p:nvPr/>
        </p:nvPicPr>
        <p:blipFill>
          <a:blip r:embed="rId7"/>
          <a:stretch/>
        </p:blipFill>
        <p:spPr>
          <a:xfrm>
            <a:off x="914400" y="434340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радиционный женский костюм состоял из рубахи украшенной вышивкой, аппликацией и сарафана. В качестве праздничной одежды использовали   кофту, украшенную кружевом, шелком, бисером, гарусом,  длинную юбку и большой разноцветный платок с бахромой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ужской костюм входила рубаха – косоворотка и штаны – шаровары с  чередованием черно - красно – белых поло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4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енские платья украшались вышивкой, дополнялись камзолом (безрукавкой).Головным убором был небольшой колпачок (кашмау). Его покрывали белым покрывалом (тастар). Девушки надевали шапочку с вышевкой, бисером, монетами (такыя).Верхней одеждой служил халат (елэ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жчины носили рубашки из ярких тканей, штаны. В праздники одевали безрукавный камзол, обшитый позументом. На голове носили расшитые тюбетейки. Верхней одеждой был кафтан (кэзэк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905120" y="533520"/>
            <a:ext cx="5638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ТАРЫ    И    БАШКИР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P2010081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1290064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WordArt 13"/>
          <p:cNvSpPr txBox="1"/>
          <p:nvPr/>
        </p:nvSpPr>
        <p:spPr>
          <a:xfrm>
            <a:off x="2438280" y="7621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9"/>
          <p:cNvSpPr txBox="1"/>
          <p:nvPr/>
        </p:nvSpPr>
        <p:spPr>
          <a:xfrm>
            <a:off x="2743200" y="6094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10" descr="305_38"/>
          <p:cNvPicPr/>
          <p:nvPr/>
        </p:nvPicPr>
        <p:blipFill>
          <a:blip r:embed="rId1"/>
          <a:stretch/>
        </p:blipFill>
        <p:spPr>
          <a:xfrm>
            <a:off x="1600200" y="160020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461320513"/>
          <p:cNvPicPr/>
          <p:nvPr/>
        </p:nvPicPr>
        <p:blipFill>
          <a:blip r:embed="rId2"/>
          <a:stretch/>
        </p:blipFill>
        <p:spPr>
          <a:xfrm>
            <a:off x="5791320" y="1600200"/>
            <a:ext cx="19047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1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8"/>
          <p:cNvSpPr txBox="1"/>
          <p:nvPr/>
        </p:nvSpPr>
        <p:spPr>
          <a:xfrm>
            <a:off x="2895480" y="685800"/>
            <a:ext cx="381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9" descr="305_34"/>
          <p:cNvPicPr/>
          <p:nvPr/>
        </p:nvPicPr>
        <p:blipFill>
          <a:blip r:embed="rId1"/>
          <a:stretch/>
        </p:blipFill>
        <p:spPr>
          <a:xfrm>
            <a:off x="1752480" y="167652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29"/>
          <p:cNvPicPr/>
          <p:nvPr/>
        </p:nvPicPr>
        <p:blipFill>
          <a:blip r:embed="rId2"/>
          <a:stretch/>
        </p:blipFill>
        <p:spPr>
          <a:xfrm>
            <a:off x="5715000" y="1676520"/>
            <a:ext cx="175248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914038621"/>
          <p:cNvPicPr/>
          <p:nvPr/>
        </p:nvPicPr>
        <p:blipFill>
          <a:blip r:embed="rId3"/>
          <a:stretch/>
        </p:blipFill>
        <p:spPr>
          <a:xfrm>
            <a:off x="5715000" y="4038480"/>
            <a:ext cx="174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1:33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