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732-F55D-413E-83B5-A9F06717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40B-1D92-4903-9994-18F03C71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7DA-61E1-406C-8BE0-0C357002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B9A-9FD8-40AE-B83B-9AB9A55B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615-9DC5-4991-8DFB-639D9F70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CB7-9250-4141-8854-436983A9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72F-2A27-4DEB-8910-5BB51623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00B-0602-4272-BC98-ED1EFEC0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77E-555C-4A49-8B32-021F64FC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28B-AD95-4E7A-8827-5EB9BF9D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DB7-9E01-4DA7-90FA-03E0BDC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744-96CC-42BB-8B37-3271CB1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09E-3104-443B-892B-C80481386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"/>
          <p:cNvSpPr txBox="1"/>
          <p:nvPr/>
        </p:nvSpPr>
        <p:spPr>
          <a:xfrm>
            <a:off x="1143000" y="609480"/>
            <a:ext cx="7315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циональные костюмы   народов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ого  Урала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5"/>
          <p:cNvSpPr txBox="1"/>
          <p:nvPr/>
        </p:nvSpPr>
        <p:spPr>
          <a:xfrm>
            <a:off x="1600200" y="2819520"/>
            <a:ext cx="60958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Х  ,  БАШКИР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 ТАТАР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9"/>
          <p:cNvSpPr txBox="1"/>
          <p:nvPr/>
        </p:nvSpPr>
        <p:spPr>
          <a:xfrm>
            <a:off x="3048120" y="5335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К И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7" descr="IMG_0442"/>
          <p:cNvPicPr/>
          <p:nvPr/>
        </p:nvPicPr>
        <p:blipFill>
          <a:blip r:embed="rId1"/>
          <a:stretch/>
        </p:blipFill>
        <p:spPr>
          <a:xfrm>
            <a:off x="990720" y="173988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1ee41a49625c"/>
          <p:cNvPicPr/>
          <p:nvPr/>
        </p:nvPicPr>
        <p:blipFill>
          <a:blip r:embed="rId2"/>
          <a:stretch/>
        </p:blipFill>
        <p:spPr>
          <a:xfrm>
            <a:off x="990720" y="426708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79231-3ba94de43edf7b33"/>
          <p:cNvPicPr/>
          <p:nvPr/>
        </p:nvPicPr>
        <p:blipFill>
          <a:blip r:embed="rId3"/>
          <a:stretch/>
        </p:blipFill>
        <p:spPr>
          <a:xfrm>
            <a:off x="5105520" y="17524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P2090094"/>
          <p:cNvPicPr/>
          <p:nvPr/>
        </p:nvPicPr>
        <p:blipFill>
          <a:blip r:embed="rId4"/>
          <a:stretch/>
        </p:blipFill>
        <p:spPr>
          <a:xfrm>
            <a:off x="5181480" y="4267080"/>
            <a:ext cx="304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 концу Х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ека Южный Урал был заселен проживавшими рядом русскими, татарами, башкирами, чувашами, казахами, нагайбаками и другими народ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2514600" y="609480"/>
            <a:ext cx="42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ый     Урал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8" descr="P1290073"/>
          <p:cNvPicPr/>
          <p:nvPr/>
        </p:nvPicPr>
        <p:blipFill>
          <a:blip r:embed="rId3"/>
          <a:stretch/>
        </p:blipFill>
        <p:spPr>
          <a:xfrm>
            <a:off x="2514600" y="160020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каждого народа были свои обычаи, обряды, народные праздники, национальная одеж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2590920" y="3049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ы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ого   Урал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914400" y="1752480"/>
            <a:ext cx="3255840" cy="233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P1290065"/>
          <p:cNvPicPr/>
          <p:nvPr/>
        </p:nvPicPr>
        <p:blipFill>
          <a:blip r:embed="rId7"/>
          <a:stretch/>
        </p:blipFill>
        <p:spPr>
          <a:xfrm>
            <a:off x="914400" y="434340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радиционный женский костюм состоял из рубахи украшенной вышивкой, аппликацией и сарафана. В качестве праздничной одежды использовали   кофту, украшенную кружевом, шелком, бисером, гарусом,  длинную юбку и большой разноцветный платок с бахромой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мужской костюм входила рубаха – косоворотка и штаны – шаровары с  чередованием черно - красно – белых поло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905120" y="533520"/>
            <a:ext cx="51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Е    КАЗАКИ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4"/>
          <p:cNvSpPr txBox="1"/>
          <p:nvPr/>
        </p:nvSpPr>
        <p:spPr>
          <a:xfrm>
            <a:off x="1905120" y="533520"/>
            <a:ext cx="51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Е    КАЗАКИ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Женские платья украшались вышивкой, дополнялись камзолом (безрукавкой).Головным убором был небольшой колпачок (кашмау). Его покрывали белым покрывалом (тастар). Девушки надевали шапочку с вышевкой, бисером, монетами (такыя).Верхней одеждой служил халат (елэ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жчины носили рубашки из ярких тканей, штаны. В праздники одевали безрукавный камзол, обшитый позументом. На голове носили расшитые тюбетейки. Верхней одеждой был кафтан (кэзэке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905120" y="533520"/>
            <a:ext cx="5638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ТАРЫ    И    БАШКИР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P2010081"/>
          <p:cNvPicPr/>
          <p:nvPr/>
        </p:nvPicPr>
        <p:blipFill>
          <a:blip r:embed="rId1"/>
          <a:stretch/>
        </p:blipFill>
        <p:spPr>
          <a:xfrm>
            <a:off x="304920" y="2057400"/>
            <a:ext cx="419076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1290064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WordArt 13"/>
          <p:cNvSpPr txBox="1"/>
          <p:nvPr/>
        </p:nvSpPr>
        <p:spPr>
          <a:xfrm>
            <a:off x="2438280" y="7621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А Т А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9"/>
          <p:cNvSpPr txBox="1"/>
          <p:nvPr/>
        </p:nvSpPr>
        <p:spPr>
          <a:xfrm>
            <a:off x="2743200" y="6094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А Т А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10" descr="305_38"/>
          <p:cNvPicPr/>
          <p:nvPr/>
        </p:nvPicPr>
        <p:blipFill>
          <a:blip r:embed="rId1"/>
          <a:stretch/>
        </p:blipFill>
        <p:spPr>
          <a:xfrm>
            <a:off x="1600200" y="160020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461320513"/>
          <p:cNvPicPr/>
          <p:nvPr/>
        </p:nvPicPr>
        <p:blipFill>
          <a:blip r:embed="rId2"/>
          <a:stretch/>
        </p:blipFill>
        <p:spPr>
          <a:xfrm>
            <a:off x="5791320" y="1600200"/>
            <a:ext cx="19047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1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8"/>
          <p:cNvSpPr txBox="1"/>
          <p:nvPr/>
        </p:nvSpPr>
        <p:spPr>
          <a:xfrm>
            <a:off x="2895480" y="685800"/>
            <a:ext cx="381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К И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9" descr="305_34"/>
          <p:cNvPicPr/>
          <p:nvPr/>
        </p:nvPicPr>
        <p:blipFill>
          <a:blip r:embed="rId1"/>
          <a:stretch/>
        </p:blipFill>
        <p:spPr>
          <a:xfrm>
            <a:off x="1752480" y="167652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29"/>
          <p:cNvPicPr/>
          <p:nvPr/>
        </p:nvPicPr>
        <p:blipFill>
          <a:blip r:embed="rId2"/>
          <a:stretch/>
        </p:blipFill>
        <p:spPr>
          <a:xfrm>
            <a:off x="5715000" y="1676520"/>
            <a:ext cx="175248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914038621"/>
          <p:cNvPicPr/>
          <p:nvPr/>
        </p:nvPicPr>
        <p:blipFill>
          <a:blip r:embed="rId3"/>
          <a:stretch/>
        </p:blipFill>
        <p:spPr>
          <a:xfrm>
            <a:off x="5715000" y="4038480"/>
            <a:ext cx="174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5T11:33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