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B499-F681-4697-BF19-CD3315839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3422-E098-408C-B3DB-0A7AFBF4D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FA1E-1EFB-46ED-B100-8E8E79C56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C2C9-A124-4FC2-BF21-B6B250D58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2F70-5B40-4EF9-B191-DD211654A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858B-EE43-4598-9754-AEABCE7BF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D376-1D4C-4BFA-98BE-44ECA6300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CF2D-CA5E-4012-B990-12CEB7F8E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99BE-1263-4890-91F1-F4B87E34B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0ACC-F7E1-418E-AD1C-42429E37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C174-511B-4FC1-8900-32D88F99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7A33-66CE-4CD6-8611-1244ECC3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2F837-E83C-430F-B011-2C2E6B4203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1"/>
          <p:cNvSpPr txBox="1"/>
          <p:nvPr/>
        </p:nvSpPr>
        <p:spPr>
          <a:xfrm>
            <a:off x="1143000" y="609480"/>
            <a:ext cx="73152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 </a:t>
            </a:r>
            <a:r>
              <a:rPr b="0" lang="en-US" sz="2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циональные костюмы   народов</a:t>
            </a:r>
            <a:endParaRPr b="0" lang="en-US" sz="2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</a:t>
            </a:r>
            <a:r>
              <a:rPr b="0" lang="en-US" sz="20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Южного  Урала</a:t>
            </a:r>
            <a:endParaRPr b="0" lang="en-US" sz="20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WordArt 15"/>
          <p:cNvSpPr txBox="1"/>
          <p:nvPr/>
        </p:nvSpPr>
        <p:spPr>
          <a:xfrm>
            <a:off x="1600200" y="2819520"/>
            <a:ext cx="609588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УССКИХ  ,  БАШКИР</a:t>
            </a:r>
            <a:endParaRPr b="0" lang="en-US" sz="2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 </a:t>
            </a:r>
            <a:r>
              <a:rPr b="0" lang="en-US" sz="2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  ТАТАР</a:t>
            </a:r>
            <a:endParaRPr b="0" lang="en-US" sz="2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9"/>
          <p:cNvSpPr txBox="1"/>
          <p:nvPr/>
        </p:nvSpPr>
        <p:spPr>
          <a:xfrm>
            <a:off x="3048120" y="533520"/>
            <a:ext cx="3809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 А Ш К И Р Ы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9" name="Picture 17" descr="IMG_0442"/>
          <p:cNvPicPr/>
          <p:nvPr/>
        </p:nvPicPr>
        <p:blipFill>
          <a:blip r:embed="rId1"/>
          <a:stretch/>
        </p:blipFill>
        <p:spPr>
          <a:xfrm>
            <a:off x="990720" y="1739880"/>
            <a:ext cx="3047760" cy="1905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0" descr="1ee41a49625c"/>
          <p:cNvPicPr/>
          <p:nvPr/>
        </p:nvPicPr>
        <p:blipFill>
          <a:blip r:embed="rId2"/>
          <a:stretch/>
        </p:blipFill>
        <p:spPr>
          <a:xfrm>
            <a:off x="990720" y="4267080"/>
            <a:ext cx="3047760" cy="1828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1" descr="79231-3ba94de43edf7b33"/>
          <p:cNvPicPr/>
          <p:nvPr/>
        </p:nvPicPr>
        <p:blipFill>
          <a:blip r:embed="rId3"/>
          <a:stretch/>
        </p:blipFill>
        <p:spPr>
          <a:xfrm>
            <a:off x="5105520" y="1752480"/>
            <a:ext cx="3124080" cy="1828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4" descr="P2090094"/>
          <p:cNvPicPr/>
          <p:nvPr/>
        </p:nvPicPr>
        <p:blipFill>
          <a:blip r:embed="rId4"/>
          <a:stretch/>
        </p:blipFill>
        <p:spPr>
          <a:xfrm>
            <a:off x="5181480" y="4267080"/>
            <a:ext cx="30481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500"/>
                            </p:stCondLst>
                            <p:childTnLst>
                              <p:par>
                                <p:cTn id="1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80880" y="4876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К концу Х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III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ека Южный Урал был заселен проживавшими рядом русскими, татарами, башкирами, чувашами, казахами, нагайбаками и другими народам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7"/>
          <p:cNvSpPr txBox="1"/>
          <p:nvPr/>
        </p:nvSpPr>
        <p:spPr>
          <a:xfrm>
            <a:off x="2514600" y="609480"/>
            <a:ext cx="4267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Южный     Урал</a:t>
            </a:r>
            <a:endParaRPr b="0" lang="en-US" sz="2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" name="Picture 8" descr="P1290073"/>
          <p:cNvPicPr/>
          <p:nvPr/>
        </p:nvPicPr>
        <p:blipFill>
          <a:blip r:embed="rId3"/>
          <a:stretch/>
        </p:blipFill>
        <p:spPr>
          <a:xfrm>
            <a:off x="2514600" y="1600200"/>
            <a:ext cx="42670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У каждого народа были свои обычаи, обряды, народные праздники, национальная одежд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9"/>
          <p:cNvSpPr txBox="1"/>
          <p:nvPr/>
        </p:nvSpPr>
        <p:spPr>
          <a:xfrm>
            <a:off x="2590920" y="304920"/>
            <a:ext cx="4038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    </a:t>
            </a:r>
            <a:r>
              <a:rPr b="0" lang="en-US" sz="2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роды</a:t>
            </a:r>
            <a:endParaRPr b="0" lang="en-US" sz="2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Южного   Урала</a:t>
            </a:r>
            <a:endParaRPr b="0" lang="en-US" sz="20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8" name="Picture 10" descr=""/>
          <p:cNvPicPr/>
          <p:nvPr/>
        </p:nvPicPr>
        <p:blipFill>
          <a:blip r:embed="rId6"/>
          <a:stretch/>
        </p:blipFill>
        <p:spPr>
          <a:xfrm>
            <a:off x="914400" y="1752480"/>
            <a:ext cx="3255840" cy="2338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P1290065"/>
          <p:cNvPicPr/>
          <p:nvPr/>
        </p:nvPicPr>
        <p:blipFill>
          <a:blip r:embed="rId7"/>
          <a:stretch/>
        </p:blipFill>
        <p:spPr>
          <a:xfrm>
            <a:off x="914400" y="4343400"/>
            <a:ext cx="327672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Традиционный женский костюм состоял из рубахи украшенной вышивкой, аппликацией и сарафана. В качестве праздничной одежды использовали   кофту, украшенную кружевом, шелком, бисером, гарусом,  длинную юбку и большой разноцветный платок с бахромой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В мужской костюм входила рубаха – косоворотка и штаны – шаровары с  чередованием черно - красно – белых полос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5"/>
          <p:cNvSpPr txBox="1"/>
          <p:nvPr/>
        </p:nvSpPr>
        <p:spPr>
          <a:xfrm>
            <a:off x="1905120" y="533520"/>
            <a:ext cx="5105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УССКИЕ    КАЗАКИ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0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4114800" cy="3429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4114800" cy="3429000"/>
          </a:xfrm>
          <a:prstGeom prst="rect">
            <a:avLst/>
          </a:prstGeom>
          <a:ln w="0">
            <a:noFill/>
          </a:ln>
        </p:spPr>
      </p:pic>
      <p:sp>
        <p:nvSpPr>
          <p:cNvPr id="54" name="WordArt 14"/>
          <p:cNvSpPr txBox="1"/>
          <p:nvPr/>
        </p:nvSpPr>
        <p:spPr>
          <a:xfrm>
            <a:off x="1905120" y="533520"/>
            <a:ext cx="5105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УССКИЕ    КАЗАКИ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Женские платья украшались вышивкой, дополнялись камзолом (безрукавкой).Головным убором был небольшой колпачок (кашмау). Его покрывали белым покрывалом (тастар). Девушки надевали шапочку с вышевкой, бисером, монетами (такыя).Верхней одеждой служил халат (елэ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Мужчины носили рубашки из ярких тканей, штаны. В праздники одевали безрукавный камзол, обшитый позументом. На голове носили расшитые тюбетейки. Верхней одеждой был кафтан (кэзэкей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6"/>
          <p:cNvSpPr txBox="1"/>
          <p:nvPr/>
        </p:nvSpPr>
        <p:spPr>
          <a:xfrm>
            <a:off x="1905120" y="533520"/>
            <a:ext cx="563868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АТАРЫ    И    БАШКИРЫ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5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9" descr="P2010081"/>
          <p:cNvPicPr/>
          <p:nvPr/>
        </p:nvPicPr>
        <p:blipFill>
          <a:blip r:embed="rId1"/>
          <a:stretch/>
        </p:blipFill>
        <p:spPr>
          <a:xfrm>
            <a:off x="304920" y="2057400"/>
            <a:ext cx="4190760" cy="3581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P1290064"/>
          <p:cNvPicPr/>
          <p:nvPr/>
        </p:nvPicPr>
        <p:blipFill>
          <a:blip r:embed="rId2"/>
          <a:stretch/>
        </p:blipFill>
        <p:spPr>
          <a:xfrm>
            <a:off x="4648320" y="2057400"/>
            <a:ext cx="4038480" cy="3581280"/>
          </a:xfrm>
          <a:prstGeom prst="rect">
            <a:avLst/>
          </a:prstGeom>
          <a:ln w="0">
            <a:noFill/>
          </a:ln>
        </p:spPr>
      </p:pic>
      <p:sp>
        <p:nvSpPr>
          <p:cNvPr id="59" name="WordArt 13"/>
          <p:cNvSpPr txBox="1"/>
          <p:nvPr/>
        </p:nvSpPr>
        <p:spPr>
          <a:xfrm>
            <a:off x="2438280" y="762120"/>
            <a:ext cx="39625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 А Т А Р Ы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WordArt 9"/>
          <p:cNvSpPr txBox="1"/>
          <p:nvPr/>
        </p:nvSpPr>
        <p:spPr>
          <a:xfrm>
            <a:off x="2743200" y="609480"/>
            <a:ext cx="4191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 А Т А Р Ы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1" name="Picture 10" descr="305_38"/>
          <p:cNvPicPr/>
          <p:nvPr/>
        </p:nvPicPr>
        <p:blipFill>
          <a:blip r:embed="rId1"/>
          <a:stretch/>
        </p:blipFill>
        <p:spPr>
          <a:xfrm>
            <a:off x="1600200" y="1600200"/>
            <a:ext cx="3429000" cy="48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461320513"/>
          <p:cNvPicPr/>
          <p:nvPr/>
        </p:nvPicPr>
        <p:blipFill>
          <a:blip r:embed="rId2"/>
          <a:stretch/>
        </p:blipFill>
        <p:spPr>
          <a:xfrm>
            <a:off x="5791320" y="1600200"/>
            <a:ext cx="1904760" cy="2185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021"/>
          <p:cNvPicPr/>
          <p:nvPr/>
        </p:nvPicPr>
        <p:blipFill>
          <a:blip r:embed="rId3"/>
          <a:stretch/>
        </p:blipFill>
        <p:spPr>
          <a:xfrm>
            <a:off x="5791320" y="3962520"/>
            <a:ext cx="1828800" cy="23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8"/>
          <p:cNvSpPr txBox="1"/>
          <p:nvPr/>
        </p:nvSpPr>
        <p:spPr>
          <a:xfrm>
            <a:off x="2895480" y="685800"/>
            <a:ext cx="381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 А Ш К И Р Ы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5" name="Picture 9" descr="305_34"/>
          <p:cNvPicPr/>
          <p:nvPr/>
        </p:nvPicPr>
        <p:blipFill>
          <a:blip r:embed="rId1"/>
          <a:stretch/>
        </p:blipFill>
        <p:spPr>
          <a:xfrm>
            <a:off x="1752480" y="1676520"/>
            <a:ext cx="3017880" cy="4525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29"/>
          <p:cNvPicPr/>
          <p:nvPr/>
        </p:nvPicPr>
        <p:blipFill>
          <a:blip r:embed="rId2"/>
          <a:stretch/>
        </p:blipFill>
        <p:spPr>
          <a:xfrm>
            <a:off x="5715000" y="1676520"/>
            <a:ext cx="1752480" cy="2185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914038621"/>
          <p:cNvPicPr/>
          <p:nvPr/>
        </p:nvPicPr>
        <p:blipFill>
          <a:blip r:embed="rId3"/>
          <a:stretch/>
        </p:blipFill>
        <p:spPr>
          <a:xfrm>
            <a:off x="5715000" y="4038480"/>
            <a:ext cx="174960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7-05T11:33:34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