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2.gif" ContentType="image/gif"/>
  <Override PartName="/ppt/media/image9.jpeg" ContentType="image/jpeg"/>
  <Override PartName="/ppt/media/image11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gif" ContentType="image/gif"/>
  <Override PartName="/ppt/media/image5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7.jpeg" ContentType="image/jpeg"/>
  <Override PartName="/ppt/media/image12.jpeg" ContentType="image/jpeg"/>
  <Override PartName="/ppt/media/image4.png" ContentType="image/png"/>
  <Override PartName="/ppt/media/image13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6F94-5930-44AD-8192-F93E1C5BB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6551-4176-4E93-B11B-9C53F42C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A3F2-1D13-4D4E-8E1C-2F50C1CE7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9079-1D2F-412F-B314-7E7ECC513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B65D-7BC4-4879-9281-D6DCD184C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289D-71B7-4C0B-9DBE-6522972B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191EE-697E-4C50-B55F-BC50F2C6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6BC9-48AD-4A52-BE5B-CFDE2B64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C40B-E65E-41AF-89E8-6C1A4E9D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377F-BBBE-49D3-8235-32CFBAB7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D1B2-6244-431B-9639-AB126E74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B6B4-25E5-4A12-98CF-1461241E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620E-863F-4DD6-9E86-97FF7849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94B2-9395-44D6-9A92-3024D310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3872-7EA0-4CE8-B90E-1FFDDC01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9D38D-8E7E-491D-A844-48C60BF22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AB3F-5A00-4AE6-8FE8-692E6098B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1FBD-2D34-45CC-B135-36153F04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1199-2FCE-4451-824E-BB6DAE41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3FE1-EC88-4D46-AEF1-0D4E4445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2387-668B-4E2F-9B2A-FAA20646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39C0-C1AC-489E-8E62-34FE6BA5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DFC4-5946-4754-BBBD-43DCB1BA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EE17-105D-4A0E-966B-D592CA75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DCFC-E903-43E4-B48F-BC55112360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24F4-46DF-4E93-A8B5-ED76452995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7080" y="291960"/>
            <a:ext cx="8889840" cy="6274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1619280" y="692280"/>
            <a:ext cx="5688000" cy="38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главная букв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лова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"/>
          <p:cNvSpPr/>
          <p:nvPr/>
        </p:nvSpPr>
        <p:spPr>
          <a:xfrm>
            <a:off x="4211640" y="400536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 ур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Бугрова Ю.В. МОУ СОШ № 13, г. Саров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-360" y="191628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классных часах лопнула пружина. Мы отнесли их в часовую мастерскую. Часовщик обещал сделать все через час. Мы ждали и гуляли по площад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524400"/>
            <a:ext cx="3333600" cy="3333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020000" y="0"/>
            <a:ext cx="2124000" cy="2100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26920" y="0"/>
            <a:ext cx="6553440" cy="1197000"/>
          </a:xfrm>
          <a:prstGeom prst="wedgeEllipseCallout">
            <a:avLst>
              <a:gd name="adj1" fmla="val 61435"/>
              <a:gd name="adj2" fmla="val 875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Запишем следующие предложения с комментировани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угрова Ю.В. МОУ СОШ № 13, г. Саров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50920" y="1341000"/>
            <a:ext cx="8486640" cy="14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1c1c1c"/>
                </a:solidFill>
                <a:latin typeface="Tahoma"/>
              </a:rPr>
              <a:t>Никита Ковалев читал книгу о городах России: Костроме, Новосибирске, Курске, Киров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692360" y="404640"/>
            <a:ext cx="4967280" cy="1079640"/>
          </a:xfrm>
          <a:prstGeom prst="wedgeEllipseCallout">
            <a:avLst>
              <a:gd name="adj1" fmla="val 79083"/>
              <a:gd name="adj2" fmla="val -970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рочитайте предл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2360" cy="1606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0" y="3284640"/>
            <a:ext cx="2016000" cy="1519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2627280" y="2924280"/>
            <a:ext cx="1666800" cy="2016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4716360" y="3429000"/>
            <a:ext cx="1943280" cy="1450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6985080" y="3068640"/>
            <a:ext cx="2158920" cy="1440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7524720" y="4581360"/>
            <a:ext cx="1273320" cy="1800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468360" y="4869000"/>
            <a:ext cx="1076400" cy="142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9"/>
          <a:stretch/>
        </p:blipFill>
        <p:spPr>
          <a:xfrm>
            <a:off x="2700360" y="4941720"/>
            <a:ext cx="1428840" cy="13622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0"/>
          <a:stretch/>
        </p:blipFill>
        <p:spPr>
          <a:xfrm>
            <a:off x="5076720" y="5013360"/>
            <a:ext cx="1238400" cy="142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угрова Ю.В. МОУ СОШ № 13, г. Саров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42920" y="6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 однажды утром ран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ы услышим в тишине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«Космонавт Егор Степан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 Марса шлет привет Луне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71440" cy="1428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086680" y="0"/>
            <a:ext cx="1057320" cy="1428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443640" y="3789360"/>
            <a:ext cx="2154240" cy="21542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971640" y="3933720"/>
            <a:ext cx="4752720" cy="1584360"/>
          </a:xfrm>
          <a:prstGeom prst="wedgeEllipseCallout">
            <a:avLst>
              <a:gd name="adj1" fmla="val 74550"/>
              <a:gd name="adj2" fmla="val 3376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ыпишите только имена собственны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угрова Ю.В. МОУ СОШ № 13, г. Саров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308720" y="0"/>
            <a:ext cx="1650960" cy="16509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26920" y="476280"/>
            <a:ext cx="5761080" cy="1368360"/>
          </a:xfrm>
          <a:prstGeom prst="wedgeEllipseCallout">
            <a:avLst>
              <a:gd name="adj1" fmla="val 70916"/>
              <a:gd name="adj2" fmla="val -777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оверь с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76360" y="2421000"/>
            <a:ext cx="560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84520" y="2060640"/>
            <a:ext cx="700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Егор Степанов, Марс, Лу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9800" y="2776320"/>
            <a:ext cx="9222480" cy="25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Имена, отчества, фамилии пишу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с заглавной бук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Названия планет пишем с заглавной буквы.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угрова Ю.В. МОУ СОШ № 13, г. Саров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859280" y="4797360"/>
            <a:ext cx="3600360" cy="172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Затрудняю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Мне нужно постар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08360" y="260280"/>
            <a:ext cx="2808360" cy="17272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Я отлично поня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тему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2492280"/>
            <a:ext cx="3240000" cy="1727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Я хорошо понял тем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но еще допускаю ошибки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564000" y="2276640"/>
            <a:ext cx="3024000" cy="24904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611280" y="404640"/>
            <a:ext cx="2808360" cy="100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тог уро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угрова Ю.В. МОУ СОШ № 13, г. Саров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4838760" cy="42670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5292720" y="907920"/>
            <a:ext cx="309420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e4a8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e4a8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e4a8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e4a8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e4a8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рок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e4a8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угрова Ю.В. МОУ СОШ № 13, г. Саров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09:58:04Z</dcterms:created>
  <dc:creator>Смолик</dc:creator>
  <dc:description/>
  <dc:language>en-US</dc:language>
  <cp:lastModifiedBy>Смолик</cp:lastModifiedBy>
  <dcterms:modified xsi:type="dcterms:W3CDTF">2012-01-29T10:41:52Z</dcterms:modified>
  <cp:revision>7</cp:revision>
  <dc:subject/>
  <dc:title>Слайд 1</dc:title>
</cp:coreProperties>
</file>