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B40-C838-4E8B-BB18-3196ECFE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41F-3D7C-4481-AA66-DAFBBE5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01E-3411-465A-BF7E-F8A35B18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BF8-4107-4A92-8D14-F377BE9A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2F6-5E9A-48E3-90FC-ECFB23A8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9794-A302-44C3-AA60-F23B1032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92E7-5DC1-4DC4-91AC-4CCE41D1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B18D-717C-4414-AF1C-D410E52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20C-0A07-4C88-AFFB-6CC5D78B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8E66-028A-4DFA-8295-EC28455B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8DAB-BB53-45AB-84D7-FC8A045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9C1-52BF-4A78-8F56-BE75143E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EA0A-4AC6-4355-A7B4-7B8D3AB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CB5F-A716-4A54-94C7-2DE776B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107-76D7-43BB-8BDB-4F334FE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2CF5-1667-4354-9C4F-D3A0CB82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E4EE-41D4-46C9-B853-814CE23C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033-FA1A-4CE7-9A59-912FFE0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E13-5D32-40C9-B801-B3F4E5D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7CF-96D7-4597-AB75-127840D0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94C-251B-42EE-8699-87554ADA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1B0-CA21-4F4A-91C6-E77288C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28F-C824-4C0E-B462-30E5EBC1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0AC-DECD-4076-B5D3-FEEDC6E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8530-85F7-4991-AAAC-11446585EC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FAF-5F27-44C0-8365-2A9CFC04B2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7080" y="291960"/>
            <a:ext cx="8889840" cy="627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619280" y="692280"/>
            <a:ext cx="568800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лавная бук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4005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классных часах лопнула пружина. Мы отнесли их в часовую мастерскую. Часовщик обещал сделать все через час. Мы ждали и гуляли по площад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5244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00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0"/>
            <a:ext cx="6553440" cy="1197000"/>
          </a:xfrm>
          <a:prstGeom prst="wedgeEllipseCallout">
            <a:avLst>
              <a:gd name="adj1" fmla="val 61435"/>
              <a:gd name="adj2" fmla="val 87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пишем следующие предложения с комментиров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48664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Никита Ковалев читал книгу о городах России: Костроме, Новосибирске, Курске, Киро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2360" y="404640"/>
            <a:ext cx="4967280" cy="1079640"/>
          </a:xfrm>
          <a:prstGeom prst="wedgeEllipseCallout">
            <a:avLst>
              <a:gd name="adj1" fmla="val 79083"/>
              <a:gd name="adj2" fmla="val -970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читайте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606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1666800" cy="20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716360" y="3429000"/>
            <a:ext cx="1943280" cy="145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985080" y="306864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524720" y="4581360"/>
            <a:ext cx="127332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468360" y="486900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2700360" y="494172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5076720" y="5013360"/>
            <a:ext cx="123840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однажды утром ран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услышим в тишин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Космонавт Егор Степа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Марса шлет привет Луне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14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86680" y="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154240" cy="2154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3933720"/>
            <a:ext cx="4752720" cy="1584360"/>
          </a:xfrm>
          <a:prstGeom prst="wedgeEllipseCallout">
            <a:avLst>
              <a:gd name="adj1" fmla="val 74550"/>
              <a:gd name="adj2" fmla="val 3376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ишите только имена собств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476280"/>
            <a:ext cx="5761080" cy="1368360"/>
          </a:xfrm>
          <a:prstGeom prst="wedgeEllipseCallout">
            <a:avLst>
              <a:gd name="adj1" fmla="val 70916"/>
              <a:gd name="adj2" fmla="val -77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421000"/>
            <a:ext cx="5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4520" y="2060640"/>
            <a:ext cx="700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гор Степанов, Марс, Лу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9800" y="2776320"/>
            <a:ext cx="922248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Имена, отчества, фамилии пишу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 заглавной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звания планет пишем с заглавной буквы.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859280" y="4797360"/>
            <a:ext cx="3600360" cy="172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трудня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не нужно постар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260280"/>
            <a:ext cx="2808360" cy="1727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отлично пон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м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492280"/>
            <a:ext cx="3240000" cy="17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хорошо понял 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 еще допускаю ошибк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3024000" cy="2490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04640"/>
            <a:ext cx="280836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838760" cy="4267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292720" y="907920"/>
            <a:ext cx="30942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9:58:04Z</dcterms:created>
  <dc:creator>Смолик</dc:creator>
  <dc:description/>
  <dc:language>en-US</dc:language>
  <cp:lastModifiedBy>Смолик</cp:lastModifiedBy>
  <dcterms:modified xsi:type="dcterms:W3CDTF">2012-01-29T10:41:52Z</dcterms:modified>
  <cp:revision>7</cp:revision>
  <dc:subject/>
  <dc:title>Слайд 1</dc:title>
</cp:coreProperties>
</file>