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898-971B-434C-B52E-DBC02C39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5194-CDEE-4CA0-B6BD-8B5BD2DC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0F0-8878-451B-A302-AFB78DB6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B9F-1840-4DAD-9141-72207B1F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AD33-893D-4239-9173-E875E942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C6F1-9245-48B9-B73F-C8ADF5C1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ACD0-6F95-4064-945D-7D0E8548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1995-1561-405C-95FB-5837A00C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AFCE-07FD-4113-9706-508AE28F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6250-56EB-41DE-B289-716BB16C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E0B9-C127-4A97-B3F2-AA990D30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63A-B057-4C77-B4F4-9DE1468E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2708-59A2-4B99-8029-7F2F4377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FD15-62BB-418A-9BC7-3230BC92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64F6-DA51-4C78-BC94-BC6DF12F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B40B-D67B-4946-9102-DCAD0D4F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0062-38FB-4931-A3B2-8455BA3A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57399-5831-491B-996E-C1E71B85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29FB4-E107-403B-9BB8-E748290E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8CA6D-4D0B-44B1-B0F3-8B6FBF18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2A4CF-960E-41B4-AFA8-7F9C4096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3B4ED-1F71-4BF0-89D5-44E2FCB6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D8B-2ACB-40DC-83D6-D01177A0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95143-9D09-4DFC-B1D9-A767823B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C31AA-6E75-4280-823F-9C4DE210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108B2-6131-436F-90AB-3D847563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CEF84-6BF4-4AD7-86AE-59ED9B0F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AA29A-0A42-4E1C-AD85-912D5EC1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DA6C8-ED58-4B67-9C41-BA60FDA4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89F5E-655B-4230-A7A7-1AD11666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B78FB-22F7-474C-B50D-81CEF6A0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BBC22-3D8F-4748-89B3-9C36B19C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2B2AD-BBA9-49FC-99C6-92D8BA0B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555-B2C8-41B1-AF40-57E5B738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BF07D-60CD-40F8-8A91-056ED763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8EEB1-3208-4540-AD81-8EBEA6B8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A81AE-915C-4867-8009-6857E811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448FD-D929-490B-8B38-91794617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05D15-13AD-4B3E-AEA8-4372CD77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D46BA-FAD3-4D47-80B0-1D4B94DA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D6F3-53E5-4831-A789-F3CCC915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CC16B-1E77-4D0C-AE8F-C9E0B1DE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F55CB-A2E6-4C63-A4AD-98EBC6B1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FBA00-6B71-4308-91F4-8F28039C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DA0-1A44-40E7-9CAF-0E2AC9BD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90D48-13DE-4372-B9D9-1DE51BB4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5A380-99D3-446C-9678-53C3E0E1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C424F-0BE7-4A86-A79A-C0DDE201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DA45E-ED51-45F1-9C75-7E2431E0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F6242-14D4-47F8-A9CE-99727FCD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0422D-5121-4CD2-8EEF-1D4F67DF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DE574-8232-41B7-B28E-F7FEBEE9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7DC00-31D9-41CD-9BA7-D5072620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A9354-A34B-4E34-AB0F-0F85F9A0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C5273-6F13-4D7C-84D9-555E60E5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5B2-29A8-4201-A114-207E6A22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EFA1D-ABB5-40C0-B0BD-FBBCB38C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FD6CE-3265-4BF9-BE35-33985AF4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CF48B-252B-4DBE-954D-EB7E34E6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88D16-48D9-4657-BC28-A870066A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B1B1C-18E4-4B18-B6FD-615C3D81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A9C19-546B-4210-9200-81554FA1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3A3B6-FCD3-4529-B8A2-7F6293C0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91833-B125-4BEA-89C1-AA5F0856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7014F-1780-4AEB-8DBE-45C89246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611FB-2DDE-4DBA-9633-231AE271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9B5-392B-4B56-BF10-AF6BFC2E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FFED3-8CD1-4EF1-8AB4-1F31FBF9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AE14A-AACB-4507-A596-E6E62C31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CAFCE-B526-4B18-AC98-EE6F03E0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2B099-F039-43E6-93B2-F11B7F31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CBC26-9D63-4A86-A4F7-736C5BCA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5A6FF-2EFC-4BF8-9B79-B7C726CF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012C4-3AAF-4076-BC48-804C0A2F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BDC16-1FB2-4289-9370-FDCCE55E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7AB4F-7425-47E1-A48D-82B6E3E5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6DA61-F4C0-4D51-BE2C-4085217F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3A0-88F8-499B-BF87-60345EED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49EFA-598E-43CF-91B4-B9945DC4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DAD73-A93F-4E71-B12E-AD39150B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78DE5-9EFE-46C0-AC5B-07010203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8285A-B232-414D-A151-4BE19408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DBE31-28DC-48A9-A6A4-D6CC9B7A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95F-1BAA-4EB3-B235-CCE7EAFC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3D94-3DAF-406C-8F1B-222553B7E14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213F-7EA1-433E-9040-D56CB7BE00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66B3-52B1-435C-8164-5C51DD2E5B4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B1C5-7EB7-46B2-90B4-8C5BF2FBE22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5885-5BE6-4A2D-928F-58352997FD5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7101-2876-4AA1-8BB2-418266C5D99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A594-F703-4253-B8CB-B977072EA4E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рок алгебры в 8 класс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3" name="Дата 2"/>
          <p:cNvSpPr/>
          <p:nvPr/>
        </p:nvSpPr>
        <p:spPr>
          <a:xfrm>
            <a:off x="5867280" y="476280"/>
            <a:ext cx="302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5D6D-4BF4-4FF3-9493-4ECC74B34869}" type="datetime">
              <a:rPr b="0" lang="ru-RU" sz="3600" spc="-1" strike="noStrike">
                <a:solidFill>
                  <a:srgbClr val="000000"/>
                </a:solidFill>
                <a:latin typeface="Cambria"/>
              </a:rPr>
              <a:t>30.07.26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3276720" y="3262320"/>
            <a:ext cx="554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e36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е делай никогда того, чего не знаешь, но научись всему, что нужно зна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фа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71280" y="857160"/>
            <a:ext cx="9037800" cy="60008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0" y="4428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лонение от алгоритма может привести к  приобретению посторонних корней данного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12"/>
          <p:cNvGraphicFramePr/>
          <p:nvPr/>
        </p:nvGraphicFramePr>
        <p:xfrm>
          <a:off x="395280" y="1125360"/>
          <a:ext cx="242100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242100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13"/>
              <p:cNvSpPr txBox="1"/>
              <p:nvPr/>
            </p:nvSpPr>
            <p:spPr>
              <a:xfrm>
                <a:off x="468360" y="2133720"/>
                <a:ext cx="29512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Freeform 15"/>
          <p:cNvSpPr/>
          <p:nvPr/>
        </p:nvSpPr>
        <p:spPr>
          <a:xfrm>
            <a:off x="2484360" y="2060640"/>
            <a:ext cx="719280" cy="360360"/>
          </a:xfrm>
          <a:custGeom>
            <a:avLst/>
            <a:gdLst>
              <a:gd name="textAreaLeft" fmla="*/ 0 w 719280"/>
              <a:gd name="textAreaRight" fmla="*/ 719640 w 719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08" h="182">
                <a:moveTo>
                  <a:pt x="0" y="0"/>
                </a:moveTo>
                <a:cubicBezTo>
                  <a:pt x="11" y="53"/>
                  <a:pt x="23" y="106"/>
                  <a:pt x="91" y="136"/>
                </a:cubicBezTo>
                <a:cubicBezTo>
                  <a:pt x="159" y="166"/>
                  <a:pt x="355" y="174"/>
                  <a:pt x="408" y="18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2556000" y="19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7"/>
              <p:cNvSpPr txBox="1"/>
              <p:nvPr/>
            </p:nvSpPr>
            <p:spPr>
              <a:xfrm>
                <a:off x="108000" y="2997360"/>
                <a:ext cx="37447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7" name="Object 18"/>
          <p:cNvGraphicFramePr/>
          <p:nvPr/>
        </p:nvGraphicFramePr>
        <p:xfrm>
          <a:off x="2035080" y="3716280"/>
          <a:ext cx="2320920" cy="20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35080" y="3716280"/>
                    <a:ext cx="232092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Text Box 19"/>
          <p:cNvSpPr/>
          <p:nvPr/>
        </p:nvSpPr>
        <p:spPr>
          <a:xfrm>
            <a:off x="179280" y="5661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обращает знаменатель в нуль, значит уравнение корней не име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0"/>
          <p:cNvSpPr/>
          <p:nvPr/>
        </p:nvSpPr>
        <p:spPr>
          <a:xfrm>
            <a:off x="4572000" y="1197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1"/>
          <p:cNvSpPr/>
          <p:nvPr/>
        </p:nvSpPr>
        <p:spPr>
          <a:xfrm>
            <a:off x="4716360" y="192888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тим дробь в левой части уравнения на (х – 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22"/>
              <p:cNvSpPr txBox="1"/>
              <p:nvPr/>
            </p:nvSpPr>
            <p:spPr>
              <a:xfrm>
                <a:off x="5292720" y="3071880"/>
                <a:ext cx="24210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Line 23"/>
          <p:cNvSpPr/>
          <p:nvPr/>
        </p:nvSpPr>
        <p:spPr>
          <a:xfrm>
            <a:off x="6227640" y="3143160"/>
            <a:ext cx="936720" cy="35892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4"/>
          <p:cNvSpPr/>
          <p:nvPr/>
        </p:nvSpPr>
        <p:spPr>
          <a:xfrm>
            <a:off x="5867280" y="3714840"/>
            <a:ext cx="865440" cy="2156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5"/>
              <p:cNvSpPr txBox="1"/>
              <p:nvPr/>
            </p:nvSpPr>
            <p:spPr>
              <a:xfrm>
                <a:off x="5580000" y="4245120"/>
                <a:ext cx="13669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6" name="Text Box 26"/>
          <p:cNvSpPr/>
          <p:nvPr/>
        </p:nvSpPr>
        <p:spPr>
          <a:xfrm>
            <a:off x="4716360" y="544356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 таком «способе решения» мы получили посторонний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7"/>
          <p:cNvSpPr/>
          <p:nvPr/>
        </p:nvSpPr>
        <p:spPr>
          <a:xfrm>
            <a:off x="395280" y="1052640"/>
            <a:ext cx="2521080" cy="93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8"/>
          <p:cNvSpPr/>
          <p:nvPr/>
        </p:nvSpPr>
        <p:spPr>
          <a:xfrm>
            <a:off x="4714920" y="107172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лонимся от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н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07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6.1(а)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6.6(а)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6.9(б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Скругленный прямоугольник 7" descr=""/>
          <p:cNvPicPr/>
          <p:nvPr/>
        </p:nvPicPr>
        <p:blipFill>
          <a:blip r:embed="rId1"/>
          <a:stretch/>
        </p:blipFill>
        <p:spPr>
          <a:xfrm>
            <a:off x="384120" y="1268280"/>
            <a:ext cx="8759880" cy="47610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3"/>
          <p:cNvSpPr/>
          <p:nvPr/>
        </p:nvSpPr>
        <p:spPr>
          <a:xfrm>
            <a:off x="639720" y="1523880"/>
            <a:ext cx="82551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5"/>
              <p:cNvSpPr txBox="1"/>
              <p:nvPr/>
            </p:nvSpPr>
            <p:spPr>
              <a:xfrm>
                <a:off x="5259240" y="6143760"/>
                <a:ext cx="419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Rectangle 9"/>
          <p:cNvSpPr/>
          <p:nvPr/>
        </p:nvSpPr>
        <p:spPr>
          <a:xfrm>
            <a:off x="4067280" y="6155280"/>
            <a:ext cx="100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7"/>
              <p:cNvSpPr txBox="1"/>
              <p:nvPr/>
            </p:nvSpPr>
            <p:spPr>
              <a:xfrm>
                <a:off x="4267080" y="289080"/>
                <a:ext cx="1903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6" name="Rectangle 7"/>
          <p:cNvSpPr/>
          <p:nvPr/>
        </p:nvSpPr>
        <p:spPr>
          <a:xfrm>
            <a:off x="2341080" y="47628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мер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7" name="Object 7"/>
              <p:cNvSpPr txBox="1"/>
              <p:nvPr/>
            </p:nvSpPr>
            <p:spPr>
              <a:xfrm>
                <a:off x="3832200" y="189000"/>
                <a:ext cx="25779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у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Прямоугольник 21"/>
          <p:cNvSpPr/>
          <p:nvPr/>
        </p:nvSpPr>
        <p:spPr>
          <a:xfrm>
            <a:off x="324000" y="1268280"/>
            <a:ext cx="8643960" cy="4753080"/>
          </a:xfrm>
          <a:prstGeom prst="rect">
            <a:avLst/>
          </a:prstGeom>
          <a:solidFill>
            <a:srgbClr val="ffffa7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1124280" y="33336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мер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5703840" y="6165720"/>
                <a:ext cx="744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Rectangle 9"/>
          <p:cNvSpPr/>
          <p:nvPr/>
        </p:nvSpPr>
        <p:spPr>
          <a:xfrm>
            <a:off x="4459320" y="6155280"/>
            <a:ext cx="100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21"/>
          <p:cNvSpPr/>
          <p:nvPr/>
        </p:nvSpPr>
        <p:spPr>
          <a:xfrm>
            <a:off x="324000" y="2349360"/>
            <a:ext cx="8643960" cy="3888000"/>
          </a:xfrm>
          <a:prstGeom prst="rect">
            <a:avLst/>
          </a:prstGeom>
          <a:solidFill>
            <a:srgbClr val="ffffa7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1042920" y="189000"/>
            <a:ext cx="25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мер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5"/>
              <p:cNvSpPr txBox="1"/>
              <p:nvPr/>
            </p:nvSpPr>
            <p:spPr>
              <a:xfrm>
                <a:off x="5724360" y="6237360"/>
                <a:ext cx="1071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Rectangle 9"/>
          <p:cNvSpPr/>
          <p:nvPr/>
        </p:nvSpPr>
        <p:spPr>
          <a:xfrm>
            <a:off x="4459320" y="6155280"/>
            <a:ext cx="100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8"/>
          <p:cNvGraphicFramePr/>
          <p:nvPr/>
        </p:nvGraphicFramePr>
        <p:xfrm>
          <a:off x="3851280" y="260280"/>
          <a:ext cx="254808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60280"/>
                    <a:ext cx="2548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6760" y="1785600"/>
            <a:ext cx="8186760" cy="31431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Тема урока: </a:t>
            </a:r>
            <a:br>
              <a:rPr sz="3600"/>
            </a:br>
            <a:br>
              <a:rPr sz="3600"/>
            </a:br>
            <a:r>
              <a:rPr b="0" lang="ru-RU" sz="5400" spc="-1" strike="noStrike">
                <a:solidFill>
                  <a:srgbClr val="ff0000"/>
                </a:solidFill>
                <a:latin typeface="Cambria"/>
              </a:rPr>
              <a:t>Дробно-рациональные уравнения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6" name="Дата 2"/>
          <p:cNvSpPr/>
          <p:nvPr/>
        </p:nvSpPr>
        <p:spPr>
          <a:xfrm>
            <a:off x="5724360" y="476280"/>
            <a:ext cx="324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17B0-4523-4A46-A5FF-161F781C4572}" type="datetime">
              <a:rPr b="0" lang="ru-RU" sz="3600" spc="-1" strike="noStrike">
                <a:solidFill>
                  <a:srgbClr val="000000"/>
                </a:solidFill>
                <a:latin typeface="Cambria"/>
              </a:rPr>
              <a:t>30.07.26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329680" cy="857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96464"/>
                </a:solidFill>
                <a:latin typeface="Calibri"/>
              </a:rPr>
              <a:t>Предметные знания и  умения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13840" y="1571400"/>
            <a:ext cx="8472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богатить  методологический аппарат  правомерностью использования нового алгоритма для решения дробно-рациональных уравнений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читься распознавать дробно-рациональные уравнен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читься находить корни дробно-рациональных уравнений с помощью нового алгоритм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7120" y="188640"/>
            <a:ext cx="8137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200" spc="-1" strike="noStrike">
                <a:solidFill>
                  <a:srgbClr val="000000"/>
                </a:solidFill>
                <a:latin typeface="Calibri"/>
              </a:rPr>
              <a:t>Мозговой штурм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79280" y="1125000"/>
            <a:ext cx="8856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такое уравнение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одзаголовок 6"/>
          <p:cNvSpPr/>
          <p:nvPr/>
        </p:nvSpPr>
        <p:spPr>
          <a:xfrm>
            <a:off x="0" y="1843200"/>
            <a:ext cx="8964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) Где здесь уравн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3х + 4;   2х – 5 = х;    (3х+2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ː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х = 0;   3х + 5х;   45 :(6 + 3) = 5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дзаголовок 6"/>
          <p:cNvSpPr/>
          <p:nvPr/>
        </p:nvSpPr>
        <p:spPr>
          <a:xfrm>
            <a:off x="108000" y="3638520"/>
            <a:ext cx="8307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3) Что называется корнем уравн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одзаголовок 6"/>
          <p:cNvSpPr/>
          <p:nvPr/>
        </p:nvSpPr>
        <p:spPr>
          <a:xfrm>
            <a:off x="34920" y="4500720"/>
            <a:ext cx="8929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4) Что значит решить уравн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одзаголовок 6"/>
          <p:cNvSpPr/>
          <p:nvPr/>
        </p:nvSpPr>
        <p:spPr>
          <a:xfrm>
            <a:off x="108000" y="5500800"/>
            <a:ext cx="88567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5) Сформулируйте условие равенства нулю рациональной дроб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351360" y="43236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1"/>
          <p:cNvSpPr/>
          <p:nvPr/>
        </p:nvSpPr>
        <p:spPr>
          <a:xfrm>
            <a:off x="179280" y="189000"/>
            <a:ext cx="879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Если обе части уравнения являются рациональным выражением, то такое уравнение называют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ациональным урав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1000080" y="162864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3611"/>
                </a:solidFill>
                <a:latin typeface="Cambria"/>
              </a:rPr>
              <a:t>Рациональные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5"/>
          <p:cNvSpPr/>
          <p:nvPr/>
        </p:nvSpPr>
        <p:spPr>
          <a:xfrm flipH="1">
            <a:off x="2556000" y="2205000"/>
            <a:ext cx="504720" cy="4320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8"/>
          <p:cNvSpPr/>
          <p:nvPr/>
        </p:nvSpPr>
        <p:spPr>
          <a:xfrm>
            <a:off x="6084720" y="2138400"/>
            <a:ext cx="574920" cy="5047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108000" y="2492280"/>
            <a:ext cx="47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Целые рациона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4788000" y="2492280"/>
            <a:ext cx="410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робно-рациональные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39640" y="3573360"/>
                <a:ext cx="2764080" cy="30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5904000" y="3500280"/>
                <a:ext cx="2700360" cy="309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Распознай уравнени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324000" y="1125360"/>
                <a:ext cx="16570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9"/>
              <p:cNvSpPr txBox="1"/>
              <p:nvPr/>
            </p:nvSpPr>
            <p:spPr>
              <a:xfrm>
                <a:off x="324000" y="2637000"/>
                <a:ext cx="1657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0"/>
              <p:cNvSpPr txBox="1"/>
              <p:nvPr/>
            </p:nvSpPr>
            <p:spPr>
              <a:xfrm>
                <a:off x="324000" y="3933720"/>
                <a:ext cx="367164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13"/>
              <p:cNvSpPr txBox="1"/>
              <p:nvPr/>
            </p:nvSpPr>
            <p:spPr>
              <a:xfrm>
                <a:off x="324000" y="5445000"/>
                <a:ext cx="23763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Rectangle 16"/>
          <p:cNvSpPr/>
          <p:nvPr/>
        </p:nvSpPr>
        <p:spPr>
          <a:xfrm>
            <a:off x="2183400" y="2997360"/>
            <a:ext cx="61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- целое рациональ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2116080" y="1484280"/>
            <a:ext cx="641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- дробно-рациональ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3832200" y="4149720"/>
            <a:ext cx="431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робно-рацион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2615400" y="5805360"/>
            <a:ext cx="61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- целое рациональ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9"/>
          <p:cNvSpPr/>
          <p:nvPr/>
        </p:nvSpPr>
        <p:spPr>
          <a:xfrm>
            <a:off x="214200" y="6516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аем дробно-рациональное 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21"/>
          <p:cNvSpPr/>
          <p:nvPr/>
        </p:nvSpPr>
        <p:spPr>
          <a:xfrm>
            <a:off x="285840" y="1844640"/>
            <a:ext cx="8643960" cy="4248360"/>
          </a:xfrm>
          <a:prstGeom prst="rect">
            <a:avLst/>
          </a:prstGeom>
          <a:solidFill>
            <a:srgbClr val="ffffa7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"/>
          <p:cNvSpPr/>
          <p:nvPr/>
        </p:nvSpPr>
        <p:spPr>
          <a:xfrm>
            <a:off x="4067640" y="616572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144000" y="90792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мер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3532320" y="642960"/>
          <a:ext cx="246852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2320" y="642960"/>
                    <a:ext cx="24685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9"/>
          <p:cNvSpPr/>
          <p:nvPr/>
        </p:nvSpPr>
        <p:spPr>
          <a:xfrm>
            <a:off x="214200" y="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аем дробно-рациональное 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7"/>
              <p:cNvSpPr txBox="1"/>
              <p:nvPr/>
            </p:nvSpPr>
            <p:spPr>
              <a:xfrm>
                <a:off x="3635280" y="692280"/>
                <a:ext cx="19843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1"/>
          <p:cNvSpPr/>
          <p:nvPr/>
        </p:nvSpPr>
        <p:spPr>
          <a:xfrm>
            <a:off x="285840" y="1844640"/>
            <a:ext cx="8643960" cy="4248360"/>
          </a:xfrm>
          <a:prstGeom prst="rect">
            <a:avLst/>
          </a:prstGeom>
          <a:solidFill>
            <a:srgbClr val="ffffa7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8"/>
          <p:cNvSpPr/>
          <p:nvPr/>
        </p:nvSpPr>
        <p:spPr>
          <a:xfrm>
            <a:off x="4067640" y="616572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0"/>
          <p:cNvSpPr/>
          <p:nvPr/>
        </p:nvSpPr>
        <p:spPr>
          <a:xfrm>
            <a:off x="294840" y="90792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мер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9036000" cy="1081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решения дробно-  рациональных уравнени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2560" y="1071360"/>
            <a:ext cx="90010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ренести все члены уравнения в одну часть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вести уравнение к виду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и решить систему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сать отве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мечание: не следует записывать в ответ посторонние корни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17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6000840" y="2071800"/>
                <a:ext cx="15112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67" name="Object 3"/>
          <p:cNvGraphicFramePr/>
          <p:nvPr/>
        </p:nvGraphicFramePr>
        <p:xfrm>
          <a:off x="6143760" y="3214800"/>
          <a:ext cx="1743120" cy="11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3760" y="3214800"/>
                    <a:ext cx="17431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</dc:creator>
  <dc:description/>
  <dc:language>en-US</dc:language>
  <cp:lastModifiedBy>Александр</cp:lastModifiedBy>
  <dcterms:modified xsi:type="dcterms:W3CDTF">2011-05-30T09:27:09Z</dcterms:modified>
  <cp:revision>119</cp:revision>
  <dc:subject/>
  <dc:title>Дробно-рациональные уравнения</dc:title>
</cp:coreProperties>
</file>