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ED9-1733-4852-B772-DD35DA30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D6A-90E3-4734-99DA-B58621BE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BF3-5BD3-4DE7-8C50-6406A7D4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16E-20F1-4111-B29A-EBA51EFC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3214-FA92-4D91-9FB6-07AF8DA1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316-BD68-49D3-8D62-527B2B4B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0F9-9257-4351-BCA0-F8E339B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D25-42B9-4457-9FFC-438BBD06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07D1-FD71-46BF-BE37-C2D2078B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718-9BCA-4072-AC67-AF293F4E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A4A-38DD-483D-A031-EE69EF4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9C6-1ED1-4915-A8EC-764FADF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0188-C379-479F-B406-2F0AA6D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04C-8615-4AC8-9B83-A56C20F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CC2F-4A32-416E-945B-EAB0B17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CADD-34F9-4E73-A5BE-7D1FC3FA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A13-A700-443D-AD04-E72668C3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840E-1C54-4BA0-BD96-A93FE74E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E7FF-5965-4352-83ED-2E1E48C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9747-1790-4527-A36A-7A3076A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8427-EFA7-49C1-A6C5-648FE4B8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F142-3FB6-42F8-855A-AC4BD84E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BA6-C7AD-427B-84E2-959AC37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3029-35D0-4AFA-983C-8EA3043D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1CDA-7AE5-4082-BA55-829B28E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6FFC-B0F2-4551-90B7-43A2088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B81D-A2F4-4E50-9BB6-343481F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8BB3-11A2-4561-9A57-B6918BA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CD75-83AC-4945-B187-F3B6CFD0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83C2-BA09-41FD-93F0-33D46066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3B2B-C8E8-462C-BC4A-58AE6C68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1BA3-C449-4543-8C79-8F28BA16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2EB3-0466-4333-A6A5-63A259CB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67B-80BA-4B06-A417-438AAD6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3244-7682-42AF-AD79-B602F70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E949-F03C-4E46-ABF4-190753A7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8406-05AB-4233-A9A2-68C3388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CC1F-8C49-407A-9A5C-55D2B69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8033-B6D5-463D-B728-CACC3920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1DF5-EF22-489A-90ED-B3D7E26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5CD9-EFF7-4182-9F68-B77E5B5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8087-9C49-4065-AD6A-7DFE5DA9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5D19-A283-49EE-A871-89FC528B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0ED9-E7C4-4276-8E42-E7F0550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8DA-F12D-4AA8-98B4-192E868F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A429-3004-4CBF-9420-9A4679F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3AFF-CE05-4619-9A13-7125A94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F5BD-2093-4556-AFEE-9834DA6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9882-D047-42D9-9E02-8BA08F2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EBD0-FE79-4780-BC7E-F997F462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21CD-ACE7-4A37-8074-B312920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925A-8F9C-4544-94E5-1CD0D81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E781-6DC9-4310-9752-884FD4E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ECBB-E854-4AD4-A2B3-9B6C990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6FAF-6213-4545-BCD2-553980B1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4DC-B0C3-4DA6-B012-408B06B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5706-8613-44B2-A65F-CE59A8EF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DF7E-1D44-4571-B44E-3328C576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66C6-0A35-492F-AFA7-D21F233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468E-1155-4C54-81D4-201CCAB9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6184-3EDC-472C-A69D-0504F08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26F2-9B7C-47B0-ADD5-CFAFE61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A3C1-BDDC-4297-B59D-C7780E3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78AA-99C5-483C-87A7-1ED6C948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B938-3A7F-4E75-8333-B0002BD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A0642-71D2-4999-8501-00B26FE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59E-2B53-4B62-931A-259F595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250A-74FB-4CD3-AD93-EFD45E7C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2B3E-F487-4B54-9144-41E0592B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37E3-087D-4A80-98D0-EB28D575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15E1-3E69-4A55-B066-BB893DF3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48721-549B-4F57-860D-1262AE8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2CC3-D986-4E28-BE64-A19D1CDA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C759-7D08-4092-8947-88DBFD80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978A-B1B2-4917-A614-C4A7783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1723-2C07-49F7-8300-D6D300D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2CA7-99D1-43A8-94A8-B916E978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D04-6BEC-4C9C-A55A-C094759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0F40-CD44-48FE-B2EF-0F75C4C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CEF3-3069-4C68-B393-1C30C4D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62B0-698D-45D2-B6F8-1FD9DC0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1055-FD88-4D5D-B4B0-A3970E9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3721-2C34-497F-97A8-16BFAC61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913-B854-40E9-9CF4-35DA10B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AD6-BA59-4D45-AE46-3248824BB3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EA2-BFD7-432B-B07C-70FA677EE4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B86-44A3-4BB8-88B6-7B1BE189C3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8C1-193A-4DEE-824D-B0C76FB0A9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802-71B5-43D0-86D5-6F12E37D51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E33-037C-4FAB-B7AC-3CF501F9E1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E163-9265-4B47-A02B-74E2D0D9EC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алгебры в 8 класс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3" name="Дата 2"/>
          <p:cNvSpPr/>
          <p:nvPr/>
        </p:nvSpPr>
        <p:spPr>
          <a:xfrm>
            <a:off x="5867280" y="476280"/>
            <a:ext cx="302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4ABF-A9A5-4267-82F8-114A24D487B9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31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276720" y="3262320"/>
            <a:ext cx="55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делай никогда того, чего не знаешь, но научись всему, что нужно зн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71280" y="857160"/>
            <a:ext cx="9037800" cy="600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0" y="4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от алгоритма может привести к  приобретению посторонних корней дан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2"/>
          <p:cNvGraphicFramePr/>
          <p:nvPr/>
        </p:nvGraphicFramePr>
        <p:xfrm>
          <a:off x="395280" y="1125360"/>
          <a:ext cx="242100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24210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13"/>
              <p:cNvSpPr txBox="1"/>
              <p:nvPr/>
            </p:nvSpPr>
            <p:spPr>
              <a:xfrm>
                <a:off x="468360" y="2133720"/>
                <a:ext cx="2951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Freeform 15"/>
          <p:cNvSpPr/>
          <p:nvPr/>
        </p:nvSpPr>
        <p:spPr>
          <a:xfrm>
            <a:off x="2484360" y="206064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08" h="182">
                <a:moveTo>
                  <a:pt x="0" y="0"/>
                </a:moveTo>
                <a:cubicBezTo>
                  <a:pt x="11" y="53"/>
                  <a:pt x="23" y="106"/>
                  <a:pt x="91" y="136"/>
                </a:cubicBezTo>
                <a:cubicBezTo>
                  <a:pt x="159" y="166"/>
                  <a:pt x="355" y="174"/>
                  <a:pt x="408" y="1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255600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108000" y="2997360"/>
                <a:ext cx="3744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Object 18"/>
          <p:cNvGraphicFramePr/>
          <p:nvPr/>
        </p:nvGraphicFramePr>
        <p:xfrm>
          <a:off x="2035080" y="3716280"/>
          <a:ext cx="232092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5080" y="3716280"/>
                    <a:ext cx="232092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19"/>
          <p:cNvSpPr/>
          <p:nvPr/>
        </p:nvSpPr>
        <p:spPr>
          <a:xfrm>
            <a:off x="179280" y="566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обращает знаменатель в нуль, значит уравнение корней не им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4572000" y="1197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4716360" y="19288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тим дробь в левой части уравнения на (х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2"/>
              <p:cNvSpPr txBox="1"/>
              <p:nvPr/>
            </p:nvSpPr>
            <p:spPr>
              <a:xfrm>
                <a:off x="5292720" y="3071880"/>
                <a:ext cx="24210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Line 23"/>
          <p:cNvSpPr/>
          <p:nvPr/>
        </p:nvSpPr>
        <p:spPr>
          <a:xfrm>
            <a:off x="6227640" y="3143160"/>
            <a:ext cx="936720" cy="358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4"/>
          <p:cNvSpPr/>
          <p:nvPr/>
        </p:nvSpPr>
        <p:spPr>
          <a:xfrm>
            <a:off x="5867280" y="3714840"/>
            <a:ext cx="865440" cy="215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5"/>
              <p:cNvSpPr txBox="1"/>
              <p:nvPr/>
            </p:nvSpPr>
            <p:spPr>
              <a:xfrm>
                <a:off x="5580000" y="4245120"/>
                <a:ext cx="1366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Text Box 26"/>
          <p:cNvSpPr/>
          <p:nvPr/>
        </p:nvSpPr>
        <p:spPr>
          <a:xfrm>
            <a:off x="4716360" y="544356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 таком «способе решения» мы получили посторонний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395280" y="1052640"/>
            <a:ext cx="252108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4714920" y="10717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имся от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1(а)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6(а)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9(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384120" y="1268280"/>
            <a:ext cx="8759880" cy="4761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639720" y="1523880"/>
            <a:ext cx="8255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5259240" y="6143760"/>
                <a:ext cx="41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9"/>
          <p:cNvSpPr/>
          <p:nvPr/>
        </p:nvSpPr>
        <p:spPr>
          <a:xfrm>
            <a:off x="406728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4267080" y="289080"/>
                <a:ext cx="1903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Rectangle 7"/>
          <p:cNvSpPr/>
          <p:nvPr/>
        </p:nvSpPr>
        <p:spPr>
          <a:xfrm>
            <a:off x="2341080" y="47628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7" name="Object 7"/>
              <p:cNvSpPr txBox="1"/>
              <p:nvPr/>
            </p:nvSpPr>
            <p:spPr>
              <a:xfrm>
                <a:off x="3832200" y="189000"/>
                <a:ext cx="25779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Прямоугольник 21"/>
          <p:cNvSpPr/>
          <p:nvPr/>
        </p:nvSpPr>
        <p:spPr>
          <a:xfrm>
            <a:off x="324000" y="1268280"/>
            <a:ext cx="8643960" cy="475308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124280" y="333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5703840" y="6165720"/>
                <a:ext cx="744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9"/>
          <p:cNvSpPr/>
          <p:nvPr/>
        </p:nvSpPr>
        <p:spPr>
          <a:xfrm>
            <a:off x="445932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1"/>
          <p:cNvSpPr/>
          <p:nvPr/>
        </p:nvSpPr>
        <p:spPr>
          <a:xfrm>
            <a:off x="324000" y="2349360"/>
            <a:ext cx="8643960" cy="388800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042920" y="189000"/>
            <a:ext cx="25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24360" y="6237360"/>
                <a:ext cx="1071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9"/>
          <p:cNvSpPr/>
          <p:nvPr/>
        </p:nvSpPr>
        <p:spPr>
          <a:xfrm>
            <a:off x="445932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8"/>
          <p:cNvGraphicFramePr/>
          <p:nvPr/>
        </p:nvGraphicFramePr>
        <p:xfrm>
          <a:off x="3851280" y="260280"/>
          <a:ext cx="25480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0280"/>
                    <a:ext cx="2548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178560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Тема урока: </a:t>
            </a:r>
            <a:br>
              <a:rPr sz="3600"/>
            </a:br>
            <a:br>
              <a:rPr sz="3600"/>
            </a:b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Дробно-рациональные уравнени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Дата 2"/>
          <p:cNvSpPr/>
          <p:nvPr/>
        </p:nvSpPr>
        <p:spPr>
          <a:xfrm>
            <a:off x="5724360" y="47628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D70-0ADF-4203-9A5A-B89C6960C7F5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31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96464"/>
                </a:solidFill>
                <a:latin typeface="Calibri"/>
              </a:rPr>
              <a:t>Предметные знания и  умения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13840" y="1571400"/>
            <a:ext cx="8472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богатить  методологический аппарат  правомерностью использования нового алгоритма для решения дробно-рациональных уравнений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иться распознавать дробно-рациональные уравн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иться находить корни дробно-рациональных уравнений с помощью нового алгоритм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79280" y="1125000"/>
            <a:ext cx="8856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уравнение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одзаголовок 6"/>
          <p:cNvSpPr/>
          <p:nvPr/>
        </p:nvSpPr>
        <p:spPr>
          <a:xfrm>
            <a:off x="0" y="184320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) Где здесь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3х + 4;   2х – 5 = х;    (3х+2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ː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 = 0;   3х + 5х;   45 :(6 + 3) =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дзаголовок 6"/>
          <p:cNvSpPr/>
          <p:nvPr/>
        </p:nvSpPr>
        <p:spPr>
          <a:xfrm>
            <a:off x="108000" y="3638520"/>
            <a:ext cx="830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3) Что называется корнем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одзаголовок 6"/>
          <p:cNvSpPr/>
          <p:nvPr/>
        </p:nvSpPr>
        <p:spPr>
          <a:xfrm>
            <a:off x="34920" y="4500720"/>
            <a:ext cx="892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4) Что значит решить уравн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одзаголовок 6"/>
          <p:cNvSpPr/>
          <p:nvPr/>
        </p:nvSpPr>
        <p:spPr>
          <a:xfrm>
            <a:off x="108000" y="5500800"/>
            <a:ext cx="8856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5) Сформулируйте условие равенства нулю рациональной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51360" y="43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179280" y="189000"/>
            <a:ext cx="879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Если обе части уравнения являются рациональным выражением, то такое уравнение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ациональ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1000080" y="16286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3611"/>
                </a:solidFill>
                <a:latin typeface="Cambria"/>
              </a:rPr>
              <a:t>Рациональны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H="1">
            <a:off x="2556000" y="2205000"/>
            <a:ext cx="504720" cy="432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>
            <a:off x="6084720" y="2138400"/>
            <a:ext cx="574920" cy="504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108000" y="249228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елые рацион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4788000" y="249228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робно-рациональны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39640" y="3573360"/>
                <a:ext cx="2764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5904000" y="3500280"/>
                <a:ext cx="2700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аспознай уравн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324000" y="1125360"/>
                <a:ext cx="1657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324000" y="2637000"/>
                <a:ext cx="165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324000" y="3933720"/>
                <a:ext cx="36716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3"/>
              <p:cNvSpPr txBox="1"/>
              <p:nvPr/>
            </p:nvSpPr>
            <p:spPr>
              <a:xfrm>
                <a:off x="324000" y="5445000"/>
                <a:ext cx="2376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Rectangle 16"/>
          <p:cNvSpPr/>
          <p:nvPr/>
        </p:nvSpPr>
        <p:spPr>
          <a:xfrm>
            <a:off x="2183400" y="299736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целое 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2116080" y="1484280"/>
            <a:ext cx="64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дробно-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832200" y="4149720"/>
            <a:ext cx="43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робно-рацио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2615400" y="580536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целое 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9"/>
          <p:cNvSpPr/>
          <p:nvPr/>
        </p:nvSpPr>
        <p:spPr>
          <a:xfrm>
            <a:off x="214200" y="6516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ем дробно-рациональное 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1"/>
          <p:cNvSpPr/>
          <p:nvPr/>
        </p:nvSpPr>
        <p:spPr>
          <a:xfrm>
            <a:off x="285840" y="1844640"/>
            <a:ext cx="8643960" cy="424836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067640" y="61657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144000" y="9079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3532320" y="642960"/>
          <a:ext cx="24685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2320" y="642960"/>
                    <a:ext cx="24685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9"/>
          <p:cNvSpPr/>
          <p:nvPr/>
        </p:nvSpPr>
        <p:spPr>
          <a:xfrm>
            <a:off x="214200" y="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ем дробно-рациональное 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3635280" y="692280"/>
                <a:ext cx="1984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1"/>
          <p:cNvSpPr/>
          <p:nvPr/>
        </p:nvSpPr>
        <p:spPr>
          <a:xfrm>
            <a:off x="285840" y="1844640"/>
            <a:ext cx="8643960" cy="424836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4067640" y="61657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>
            <a:off x="294840" y="9079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решения дробно-  рациональных уравнен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2560" y="1071360"/>
            <a:ext cx="9001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нести все члены уравнения в одну ча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вести уравнение к виду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 решить систему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ать отве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е: не следует записывать в ответ посторонние корн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6000840" y="2071800"/>
                <a:ext cx="15112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7" name="Object 3"/>
          <p:cNvGraphicFramePr/>
          <p:nvPr/>
        </p:nvGraphicFramePr>
        <p:xfrm>
          <a:off x="6143760" y="3214800"/>
          <a:ext cx="174312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3214800"/>
                    <a:ext cx="17431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1-05-30T09:27:09Z</dcterms:modified>
  <cp:revision>119</cp:revision>
  <dc:subject/>
  <dc:title>Дробно-рациональные уравнения</dc:title>
</cp:coreProperties>
</file>