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361-154D-43F4-8A76-86B25EE3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1A0-DB0A-4DE3-9183-BE278930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98E-8DD9-4DC2-8E2B-F4B5B04C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703-270D-428D-B4A1-6E80CFA4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90A3-175A-4D8D-BB5D-92F7138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EFB2-1437-4363-B9EE-ADF6281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1A3-0EB6-4C07-A461-F7A65438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828A-96A5-49E3-B008-B891CD5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A09D-5E02-49FA-824B-AD43EE8D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26DF-CBDE-4AC0-B1EF-8A04A85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1D3F-A057-4D40-B1E9-AAFB00B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BD3-3EA9-4F9F-8D5B-5FF6455C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D89F-B8C5-4FCA-AC29-42DBB9C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22D4-54AC-4A0D-B0C8-FBCF01C4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DEE3-8BEB-4476-82CB-F323475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00BE-F762-494B-8EFF-DFB48434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53B4-EB51-4FB7-ADA6-007508DD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FB2-1028-4D5D-93C8-8FD9FECD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325-0F7F-4EA3-A495-7EA859B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05B-4AF5-4BBC-9941-8469594D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F37-D151-4BBD-8F82-B49BCA0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D55-4CF0-4540-9419-C8A03F55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550-9DBC-4FE1-AE2C-CD0A0C8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193-D8E8-41A9-9F1B-0A152FC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7CD1-92CD-4F92-BD1E-91D909AFAB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FDC6-4700-4ED3-ADB6-AA677CD2CB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773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НЯТИЙНЫЙ ДИКТАНТ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48000" y="836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ланс Ц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205000"/>
            <a:ext cx="2737080" cy="100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2205000"/>
            <a:ext cx="2952720" cy="93672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79640" y="1341360"/>
            <a:ext cx="2448000" cy="81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1341360"/>
            <a:ext cx="19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500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ства в форме выпущенных наличных денег и средств на счетах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645000"/>
            <a:ext cx="266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ая валю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328464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14172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79320" y="836640"/>
            <a:ext cx="49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Центрального Ба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1557360"/>
            <a:ext cx="295272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924280"/>
            <a:ext cx="2448000" cy="9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и обеспе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ости руб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924280"/>
            <a:ext cx="2428920" cy="9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и укреп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нковской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924280"/>
            <a:ext cx="2971800" cy="9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эффективного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еребой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онирования платеж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endCxn id="115" idx="0"/>
          </p:cNvCxnSpPr>
          <p:nvPr/>
        </p:nvCxnSpPr>
        <p:spPr>
          <a:xfrm flipV="1" rot="10800000">
            <a:off x="1691640" y="1843560"/>
            <a:ext cx="1342080" cy="108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500720" y="23493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6084720" y="1844640"/>
            <a:ext cx="1486800" cy="102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11280" y="3789360"/>
            <a:ext cx="7993080" cy="33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нтральный Бан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лавный банк страны, который имеет исключительное право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сс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циональной валюты и контролирует деятельность других ба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истему государственных  орган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яется президенту или парламен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"/>
          <p:cNvSpPr/>
          <p:nvPr/>
        </p:nvSpPr>
        <p:spPr>
          <a:xfrm>
            <a:off x="2627280" y="9079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ие ба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1844640"/>
            <a:ext cx="23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берег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700360" y="24210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вестици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219640" y="19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потеч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020000" y="2565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79280" y="234936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ют и хранят свободные средства, денежные сбережения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292428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ывает капитал в промышленность, строительство и другие отрасли, а также в 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5076720" y="249228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 ссуды под имущественный залог, чаще всего под недвижимое имуще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020000" y="2997360"/>
            <a:ext cx="21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уют инновации, то есть обеспечивают освоение нововведений, внедрение научно – технических достиж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19"/>
          <p:cNvCxnSpPr/>
          <p:nvPr/>
        </p:nvCxnSpPr>
        <p:spPr>
          <a:xfrm flipH="1">
            <a:off x="1763280" y="1412640"/>
            <a:ext cx="335376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20"/>
          <p:cNvCxnSpPr>
            <a:endCxn id="124" idx="0"/>
          </p:cNvCxnSpPr>
          <p:nvPr/>
        </p:nvCxnSpPr>
        <p:spPr>
          <a:xfrm flipH="1">
            <a:off x="3836520" y="1413000"/>
            <a:ext cx="13104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21"/>
          <p:cNvCxnSpPr>
            <a:endCxn id="125" idx="0"/>
          </p:cNvCxnSpPr>
          <p:nvPr/>
        </p:nvCxnSpPr>
        <p:spPr>
          <a:xfrm>
            <a:off x="5076720" y="1413000"/>
            <a:ext cx="100872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22"/>
          <p:cNvCxnSpPr>
            <a:endCxn id="126" idx="0"/>
          </p:cNvCxnSpPr>
          <p:nvPr/>
        </p:nvCxnSpPr>
        <p:spPr>
          <a:xfrm>
            <a:off x="5148000" y="1412640"/>
            <a:ext cx="29343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0" y="5084640"/>
            <a:ext cx="71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Б называют «рабочими лошадками» финансовой системы. В рыночной экономике коммерческий банк является деловым предприятием, организующим свой бизн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2064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ми операциями коммерческого банка являются пассивные и активные опер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сивные операции ба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перации по мобилизации денежных ресурсов: приём вкладов (депозитов); получение кредитов от других банков и центрального банка; выпуск собственных ценных бумаг. Эти полученные заёмные средства – основа деятельности коммерческого ба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ые операции ба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перации по размещению средств: предоставление различных по срокам и размерам кредит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22096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кредит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реди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делка, заключаемая между кредитной организацией и заемщиком, по предоставлению денежных средст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228600" y="1649520"/>
            <a:ext cx="8915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ы кредитов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Пла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Возвра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Гарантирова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. Принцип дифференцированности креди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333360"/>
            <a:ext cx="7993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 формируют в стране денежную систем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еж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а организации денежного обращения в стра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ключает в себ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фициальную денежную единиц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ядок эмиссии наличных дене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ацию и регулирование денежного обращ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52664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де в России печатают рубл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415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елезные моне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дятся на территории Петропавловской крепости в Санкт-Петербург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20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ьги печа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ми, где находится фабрика Госзнак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005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ежные билеты России соответствуют мировому качеству денежных знаков развитых стран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ВАРИАНТ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чная экономика, ценная бумага, либерализация цен, профицит, биржа, ВВП, дивиденд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числите особенности экономического развития РФ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ВАРИАНТ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овый рынок, акция, приватизация, деноминация, брокер, ВН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числите основные проблемы в развитии рыночной экономики РФ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628640"/>
            <a:ext cx="7313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ый рынок.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система.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692280"/>
            <a:ext cx="8425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ы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экономических отношений в процессе использ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ы в экономике выступают экономическим инструментом распределения и перераспределения доход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77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овый институ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организаций, участвующие в финансово-кредитной систе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6064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овый рыно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ынок, на котором закон спроса и предложения определяет цену финансовым актив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68280"/>
            <a:ext cx="8713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анк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итал. </a:t>
            </a:r>
            <a:r>
              <a:rPr b="0" i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co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лавка, стол, на которых менялы раскладывали монеты)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нансово –кредитный институт, основной функцией которого является оказание финансовых услуг юридическим и физическим лицам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60280"/>
            <a:ext cx="9144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банки возникли еще на Древнем Востоке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до н.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эстафету подхватила Древняя Греция. Деньги хранились в хра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м сохранения товарных денег поначалу были куль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ружения — хра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олько в хранилищах древних банков появились мешки с сокровищами, в их строну обратились взоры местных предпринимателей – купцов и ремеслен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лись интересы двух важнейших участников экономики – владельца сбережений и коммерсанта, нуждающегося в капитале для расширения своей деятельности. Именно этому и обязаны банки своему рожде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5229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 как организация появился в Италии, во Флоренции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V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ие операции делятся на активные, пассивные и банковские услу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жде всего предоставление креди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сив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вязаны с мобилизацией денежных доходов и сбережений и их аккумуляци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овские услу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уществление наличных и безналичных платежей, выпуск и хранение ценных бумаг, трастовые (доверительные) операции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516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ие функции выполняет бан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53480" y="765000"/>
            <a:ext cx="39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060640"/>
            <a:ext cx="871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ен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нтральный Бан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мерческие банк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) финансово-кредитные организ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5:23:23Z</dcterms:created>
  <dc:creator>Intel</dc:creator>
  <dc:description/>
  <dc:language>en-US</dc:language>
  <cp:lastModifiedBy>я</cp:lastModifiedBy>
  <dcterms:modified xsi:type="dcterms:W3CDTF">2012-12-17T22:21:44Z</dcterms:modified>
  <cp:revision>67</cp:revision>
  <dc:subject/>
  <dc:title>PowerPoint Presentation</dc:title>
</cp:coreProperties>
</file>