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3CC8-99C0-434D-AA19-C0014B3E0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334F-ADDF-4850-BCD8-989CD3060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383C-C49A-4D8E-8241-5FE12A70F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A30A-072C-4740-BE7F-31469901B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A0CF5-F1C0-4C5D-A5B4-FAC69F5AE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9F750-DC2D-4B71-93E0-038ACA697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334FF-2B6B-46F6-AF8F-6C54FE86A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2EBA8-487F-4754-AC50-85044883E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DBC56-8275-41B2-9BCC-908568960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2933F-82C3-4A1A-88F5-193B24518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59A8D-14A8-4F2F-B997-7AD07625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933A-5FBD-416A-ADCE-EE66D2ADE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45E34-0F7C-4ABC-A4C8-B5EB88D28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B444B-1A5A-4C64-8583-DE98A380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E650A-1AEB-46BA-A75C-72AE7641E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451DE-6B33-4C76-BDDD-A4BC06212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78CB4-0EF3-42AA-BF1C-14EF3F3C5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AF0C-152B-454E-A9F5-C43BA98E6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9F10-EC5B-4375-9983-C3EE3B102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383F-F83A-4073-9CB8-D9D413DBB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FAB7-B3BF-4606-BE0A-0ECBF735B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96A1-D6E1-4EDF-B208-04B02BF8C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3F65-270E-47FE-AABA-D9921C2C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D616-2127-4311-8FC9-53C20126B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FD4F4-E5A8-4C98-AE5D-686538FF350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70246-BCFC-4BE5-991B-C2C925AC3FE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16000" y="177300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ОНЯТИЙНЫЙ ДИКТАНТ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348000" y="83664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аланс Ц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9640" y="2205000"/>
            <a:ext cx="2737080" cy="100800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48360" y="2205000"/>
            <a:ext cx="2952720" cy="93672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сив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979640" y="1341360"/>
            <a:ext cx="2448000" cy="81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43280" y="1341360"/>
            <a:ext cx="194472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14800" y="3500280"/>
            <a:ext cx="5029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тельства в форме выпущенных наличных денег и средств на счетах коммерческих банк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8360" y="3645000"/>
            <a:ext cx="26654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остранная валют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ди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35280" y="3284640"/>
            <a:ext cx="0" cy="455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659640" y="3141720"/>
            <a:ext cx="0" cy="455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479320" y="836640"/>
            <a:ext cx="496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ль Центрального Бан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59280" y="1557360"/>
            <a:ext cx="2952720" cy="838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нтральный бан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сс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68360" y="2924280"/>
            <a:ext cx="2448000" cy="99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щита и обеспече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стойчивости рубл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76720" y="2924280"/>
            <a:ext cx="2428920" cy="99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витие и укрепле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анковской систем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12000" y="2924280"/>
            <a:ext cx="2971800" cy="99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еспечение эффективного 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есперебойного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ункционирования платежно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истем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endCxn id="115" idx="0"/>
          </p:cNvCxnSpPr>
          <p:nvPr/>
        </p:nvCxnSpPr>
        <p:spPr>
          <a:xfrm flipV="1" rot="10800000">
            <a:off x="1691640" y="1843560"/>
            <a:ext cx="1342080" cy="1080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4500720" y="234936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" name=""/>
          <p:cNvCxnSpPr/>
          <p:nvPr/>
        </p:nvCxnSpPr>
        <p:spPr>
          <a:xfrm>
            <a:off x="6084720" y="1844640"/>
            <a:ext cx="1486800" cy="1029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611280" y="3789360"/>
            <a:ext cx="7993080" cy="33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Центральный Банк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главный банк страны, который имеет исключительное право н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иссию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циональной валюты и контролирует деятельность других банк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ходит в систему государственных  органо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чиняется президенту или парламент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10"/>
          <p:cNvSpPr/>
          <p:nvPr/>
        </p:nvSpPr>
        <p:spPr>
          <a:xfrm>
            <a:off x="2627280" y="90792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ерческие бан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250920" y="1844640"/>
            <a:ext cx="234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берегатель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2700360" y="2421000"/>
            <a:ext cx="22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Инвестицион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3"/>
          <p:cNvSpPr/>
          <p:nvPr/>
        </p:nvSpPr>
        <p:spPr>
          <a:xfrm>
            <a:off x="5219640" y="1989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Ипотеч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4"/>
          <p:cNvSpPr/>
          <p:nvPr/>
        </p:nvSpPr>
        <p:spPr>
          <a:xfrm>
            <a:off x="7020000" y="2565360"/>
            <a:ext cx="21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Инновацион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179280" y="2349360"/>
            <a:ext cx="2438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лекают и хранят свободные средства, денежные сбережения насел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27280" y="2924280"/>
            <a:ext cx="2305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адывает капитал в промышленность, строительство и другие отрасли, а также в ценные бумаг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7"/>
          <p:cNvSpPr/>
          <p:nvPr/>
        </p:nvSpPr>
        <p:spPr>
          <a:xfrm>
            <a:off x="5076720" y="2492280"/>
            <a:ext cx="1905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яют ссуды под имущественный залог, чаще всего под недвижимое имуществ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8"/>
          <p:cNvSpPr/>
          <p:nvPr/>
        </p:nvSpPr>
        <p:spPr>
          <a:xfrm>
            <a:off x="7020000" y="2997360"/>
            <a:ext cx="212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дитуют инновации, то есть обеспечивают освоение нововведений, внедрение научно – технических достижен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AutoShape 19"/>
          <p:cNvCxnSpPr/>
          <p:nvPr/>
        </p:nvCxnSpPr>
        <p:spPr>
          <a:xfrm flipH="1">
            <a:off x="1763280" y="1412640"/>
            <a:ext cx="3353760" cy="47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2" name="AutoShape 20"/>
          <p:cNvCxnSpPr>
            <a:endCxn id="124" idx="0"/>
          </p:cNvCxnSpPr>
          <p:nvPr/>
        </p:nvCxnSpPr>
        <p:spPr>
          <a:xfrm flipH="1">
            <a:off x="3836520" y="1413000"/>
            <a:ext cx="1310400" cy="1008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3" name="AutoShape 21"/>
          <p:cNvCxnSpPr>
            <a:endCxn id="125" idx="0"/>
          </p:cNvCxnSpPr>
          <p:nvPr/>
        </p:nvCxnSpPr>
        <p:spPr>
          <a:xfrm>
            <a:off x="5076720" y="1413000"/>
            <a:ext cx="1008720" cy="57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4" name="AutoShape 22"/>
          <p:cNvCxnSpPr>
            <a:endCxn id="126" idx="0"/>
          </p:cNvCxnSpPr>
          <p:nvPr/>
        </p:nvCxnSpPr>
        <p:spPr>
          <a:xfrm>
            <a:off x="5148000" y="1412640"/>
            <a:ext cx="2934360" cy="115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0" y="5084640"/>
            <a:ext cx="71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Б называют «рабочими лошадками» финансовой системы. В рыночной экономике коммерческий банк является деловым предприятием, организующим свой бизнес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620640"/>
            <a:ext cx="914400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диционными операциями коммерческого банка являются пассивные и активные операци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ассивные операции банк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операции по мобилизации денежных ресурсов: приём вкладов (депозитов); получение кредитов от других банков и центрального банка; выпуск собственных ценных бумаг. Эти полученные заёмные средства – основа деятельности коммерческого банк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ктивные операции банк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перации по размещению средств: предоставление различных по срокам и размерам кредитов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5"/>
          <p:cNvSpPr/>
          <p:nvPr/>
        </p:nvSpPr>
        <p:spPr>
          <a:xfrm>
            <a:off x="2209680" y="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ы кредитов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Прямоугольник 6"/>
          <p:cNvSpPr/>
          <p:nvPr/>
        </p:nvSpPr>
        <p:spPr>
          <a:xfrm>
            <a:off x="0" y="5493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Кредит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сделка, заключаемая между кредитной организацией и заемщиком, по предоставлению денежных средст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228600" y="1649520"/>
            <a:ext cx="8915400" cy="50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нципы кредитования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1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рочно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. Платно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. Возвратно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4. Гарантированно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5. Принцип дифференцированности креди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95280" y="333360"/>
            <a:ext cx="799308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нки формируют в стране денежную систем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енежная систем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форма организации денежного обращения в стран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ключает в себя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фициальную денежную единиц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рядок эмиссии наличных дене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рганизацию и регулирование денежного обращения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19280" y="526644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де в России печатают рубли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141516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Железные монет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изводятся на территории Петропавловской крепости в Санкт-Петербург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272016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еньги печатают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рми, где находится фабрика Госзнак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40053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енежные билеты России соответствуют мировому качеству денежных знаков развитых стран мир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0" y="475920"/>
            <a:ext cx="91440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 ВАРИАНТ: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ночная экономика, ценная бумага, либерализация цен, профицит, биржа, ВВП, дивиденд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еречислите особенности экономического развития РФ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</a:t>
            </a:r>
            <a:r>
              <a:rPr b="0" i="1" lang="ru-RU" sz="29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 ВАРИАНТ: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ндовый рынок, акция, приватизация, деноминация, брокер, ВНП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еречислите основные проблемы в развитии рыночной экономики РФ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42920" y="1628640"/>
            <a:ext cx="73137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нансовый рынок. </a:t>
            </a: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нковская система.</a:t>
            </a:r>
            <a:endParaRPr b="0" lang="en-US" sz="6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79280" y="692280"/>
            <a:ext cx="842508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инансы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окупность экономических отношений в процессе использования денежных средств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285264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нансы в экономике выступают экономическим инструментом распределения и перераспределения дохода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77336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инансовый институт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 организаций, участвующие в финансово-кредитной систем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3860640"/>
            <a:ext cx="9144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инансовый рынок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рынок, на котором закон спроса и предложения определяет цену финансовым актива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268280"/>
            <a:ext cx="8713800" cy="38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Банк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(от итал. </a:t>
            </a:r>
            <a:r>
              <a:rPr b="0" i="1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nco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- лавка, стол, на которых менялы раскладывали монеты) 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инансово –кредитный институт, основной функцией которого является оказание финансовых услуг юридическим и физическим лицам.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260280"/>
            <a:ext cx="91440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е банки возникли еще на Древнем Востоке в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в. до н.э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ем эстафету подхватила Древняя Греция. Деньги хранились в храм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м сохранения товарных денег поначалу были культов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ружения — храм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только в хранилищах древних банков появились мешки с сокровищами, в их строну обратились взоры местных предпринимателей – купцов и ремесленник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секлись интересы двух важнейших участников экономики – владельца сбережений и коммерсанта, нуждающегося в капитале для расширения своей деятельности. Именно этому и обязаны банки своему рождению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522936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анк как организация появился в Италии, во Флоренции –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XV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век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9144000" cy="53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нковские операции делятся на активные, пассивные и банковские услуг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ктивные операц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режде всего предоставление кредитов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ассивные операц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вязаны с мобилизацией денежных доходов и сбережений и их аккумуляцией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анковские услуг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существление наличных и безналичных платежей, выпуск и хранение ценных бумаг, трастовые (доверительные) операции и д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71640" y="551664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акие функции выполняет банк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553480" y="765000"/>
            <a:ext cx="393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анковская систем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9280" y="2060640"/>
            <a:ext cx="87138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ровень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нтральный Бан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ень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)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ммерческие банки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) финансово-кредитные организац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7T15:23:23Z</dcterms:created>
  <dc:creator>Intel</dc:creator>
  <dc:description/>
  <dc:language>en-US</dc:language>
  <cp:lastModifiedBy>я</cp:lastModifiedBy>
  <dcterms:modified xsi:type="dcterms:W3CDTF">2012-12-17T22:21:44Z</dcterms:modified>
  <cp:revision>67</cp:revision>
  <dc:subject/>
  <dc:title>PowerPoint Presentation</dc:title>
</cp:coreProperties>
</file>