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8.gif" ContentType="image/gif"/>
  <Override PartName="/ppt/media/image17.gif" ContentType="image/gif"/>
  <Override PartName="/ppt/media/image16.wmf" ContentType="image/x-wmf"/>
  <Override PartName="/ppt/media/image1.png" ContentType="image/png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355-896D-4047-ACB9-F21FD615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7EC-CDE6-4B78-B40B-BD313CB8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323-AD29-4B38-83C8-D5E9390A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B48-6E94-4122-926A-16290936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0C36-CBF5-44B8-A722-5581D435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C757-F051-4304-AAF1-2282A769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29C4-ABEB-43BE-8564-4DD31F35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9D2C-6F7F-461E-AD47-7C50A93C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B076-10C4-4A70-8CEF-0DE79905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4463-2A6A-49C1-BE63-E8E54EE7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E089-8704-4AB8-9F94-6CE7A0BB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CA1-4D9D-4B8A-86D1-3E4E975F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845D-A3B1-4C26-830E-1AC37980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7A3B-3A5A-474C-B772-E89FE69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4F07-0BF6-45E3-A19E-A11DCED3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19AA-F86B-4231-B9DC-6900D1AD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1CA0-8950-4F7B-A8F6-412BD0DA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C5EB-13EA-4412-A322-DA44C128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FF157-EA7B-4099-AAEF-316D40B5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3530A-80B5-4A6C-8BE1-FC78F694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D59F-E597-4A77-B360-A0F3856D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AE66-A083-4869-8983-214F45BF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D47-5D88-4CF3-8256-B45794E9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9A61-3D40-4A78-8212-081E5ED2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9BEC-A5B2-4AFF-BDDF-CB3AEF7B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D759-0735-432F-8C6C-2AC511AB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25CA-F9B0-49E3-A78E-533F2892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26D2-506B-459B-A3B0-A575147F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239B-05C9-4A91-9AAA-E299FD32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F150-2CDE-466A-BE71-193BC283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52868-56BA-405F-A1BD-AFEF2AF0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6D7B0-ABE1-45D2-B7BB-1A5572EA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88FA2-CC53-4E56-9E5A-E68007ED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4AC-CB25-46BF-BA8A-9818D8A1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4AB15-CA6C-498C-B1FD-98A0552A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B2877-80A6-4A49-93AD-2CE78542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26631-DB3D-47AD-9783-6884DE4C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176B-EA45-44CC-AE35-FCC37C8B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B1ABF-EE65-44DA-BD98-1D40C188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6857-8231-49FF-B9AF-710C303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5517B-8D03-4322-AE5A-2EEDF427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023B-5B68-4199-8FD6-FADCA9E3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D3ADC-E6E0-452B-A888-E4E94199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29205-511D-4906-8371-F075D91F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7E0-093D-40ED-B86A-B1EC28B5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6271-955C-4C18-9B72-BD6069F9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48CFD-8327-491E-992D-66091EF7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20775-EA49-4A90-8B10-DD9ECC76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71BC-6854-4915-AEF8-A3DD4558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8D74B-6D1C-469D-B590-D28334E9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1DCC-C8C3-46D4-85D9-31997F5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2C347-BB0F-4DAA-92F4-C785BF0D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A2420-FEAB-4FE1-B3EC-A09BE66E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BEE3-9F3E-4355-9DF6-34A78E99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B1B2D-C3C0-4868-A604-163B7D55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8B7-A0B8-4482-8C21-6DCA9AE9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66D05-E048-461B-983B-841772B4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C91-44B1-4961-8B3A-C751B1EE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89A-EA21-4886-B9E9-DF94E21A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724-648D-4DD6-B272-4DD4EBA1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9789-9806-487F-93CD-139A235730E3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D13E-634D-4348-8A01-04521C89195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18A5-2A01-4F1A-8FF7-6C00E30E761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87E4-3E53-4F1C-8844-83E9109554F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5EF6-0BC3-4DDC-BDA0-CDB45B91DA04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13F6-6BFD-4CF1-A865-BD655016802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4112-5C72-403A-B16F-5AEC68AF60A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810C-1FE3-4A00-BD40-DE1B6E67236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D838-048B-4583-9C0F-D51A3EEC0DE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7D0F-2E55-4A89-8AEE-B1C7B720783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00320" y="571680"/>
            <a:ext cx="4493880" cy="307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Применение ИКТ в деятельности учителя математики 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5716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425d"/>
                </a:solidFill>
                <a:latin typeface="Verdana"/>
              </a:rPr>
              <a:t>МОУ Мокро – Соленовская ОО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425d"/>
                </a:solidFill>
                <a:latin typeface="Verdana"/>
              </a:rPr>
              <a:t>Учитель математики Клюкина Оксана Валенти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3" descr="1.wmf"/>
          <p:cNvPicPr/>
          <p:nvPr/>
        </p:nvPicPr>
        <p:blipFill>
          <a:blip r:embed="rId2"/>
          <a:stretch/>
        </p:blipFill>
        <p:spPr>
          <a:xfrm>
            <a:off x="500040" y="428760"/>
            <a:ext cx="3641760" cy="338616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482904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Компьютер можно использовать             на всех этапах процесса обучения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8760" y="2928600"/>
            <a:ext cx="6586560" cy="3714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При объяснении нового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Закреп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Повтор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Контроле З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Рисунок 4" descr="BD05969_.WMF"/>
          <p:cNvPicPr/>
          <p:nvPr/>
        </p:nvPicPr>
        <p:blipFill>
          <a:blip r:embed="rId1"/>
          <a:stretch/>
        </p:blipFill>
        <p:spPr>
          <a:xfrm>
            <a:off x="5419800" y="571680"/>
            <a:ext cx="3564000" cy="48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жимы применения компьютера на урок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28440" y="1714320"/>
            <a:ext cx="7786440" cy="4143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обучающем режиме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режиме графической иллюстрации изучаемого материал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тренировочном режиме для отработки элементарных умений и навыков после изучения темы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диагностическом режиме тестирования качества усвоения материал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режиме само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Учебные проект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 flipH="1">
            <a:off x="3885480" y="137160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Электр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 flipH="1">
            <a:off x="1675800" y="388620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Рефе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 flipH="1">
            <a:off x="2666160" y="259092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Компьюте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flipH="1">
            <a:off x="685080" y="510552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Док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bd06630_"/>
          <p:cNvPicPr/>
          <p:nvPr/>
        </p:nvPicPr>
        <p:blipFill>
          <a:blip r:embed="rId1"/>
          <a:stretch/>
        </p:blipFill>
        <p:spPr>
          <a:xfrm>
            <a:off x="6705720" y="1219320"/>
            <a:ext cx="1788840" cy="1427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bd10035_"/>
          <p:cNvPicPr/>
          <p:nvPr/>
        </p:nvPicPr>
        <p:blipFill>
          <a:blip r:embed="rId2"/>
          <a:stretch/>
        </p:blipFill>
        <p:spPr>
          <a:xfrm>
            <a:off x="5943600" y="2743200"/>
            <a:ext cx="966960" cy="1219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bs00673_"/>
          <p:cNvPicPr/>
          <p:nvPr/>
        </p:nvPicPr>
        <p:blipFill>
          <a:blip r:embed="rId3"/>
          <a:stretch/>
        </p:blipFill>
        <p:spPr>
          <a:xfrm>
            <a:off x="4724280" y="4114800"/>
            <a:ext cx="1365480" cy="1006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pe01722_"/>
          <p:cNvPicPr/>
          <p:nvPr/>
        </p:nvPicPr>
        <p:blipFill>
          <a:blip r:embed="rId4"/>
          <a:stretch/>
        </p:blipFill>
        <p:spPr>
          <a:xfrm>
            <a:off x="3657600" y="5465880"/>
            <a:ext cx="182880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03280" y="36432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КТ позволяют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генерировать задачи возрастающей сложности (трудности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Ученик 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сам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будет отбирать задачи, требующие от него 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умственного   напря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928800" y="714240"/>
            <a:ext cx="735804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07f09"/>
                </a:solidFill>
                <a:latin typeface="Arial"/>
              </a:rPr>
              <a:t>Принцип доступности и посильности образования:</a:t>
            </a:r>
            <a:r>
              <a:rPr b="0" lang="ru-RU" sz="3200" spc="-1" strike="noStrike">
                <a:solidFill>
                  <a:srgbClr val="f07f0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зучаемый материал по уровню трудности должен быть доступен, но в то же время требовать напряжения       умственных и духовных сил для усв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3214800"/>
            <a:ext cx="8183520" cy="228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КТ позволяют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каждому учащемуся выстроить индивидуальную программу освоения необходимого учебного материала, обеспечивая доступ к базам данных и к преподавателю для консульт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642960" y="857160"/>
            <a:ext cx="728676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252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Arial"/>
              </a:rPr>
              <a:t>Принцип индивидуализации обуч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252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ый обучающийся уникален, каждый способен по-сво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6" descr="aluno030"/>
          <p:cNvPicPr/>
          <p:nvPr/>
        </p:nvPicPr>
        <p:blipFill>
          <a:blip r:embed="rId1"/>
          <a:stretch/>
        </p:blipFill>
        <p:spPr>
          <a:xfrm>
            <a:off x="785880" y="785880"/>
            <a:ext cx="1000080" cy="15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285720"/>
            <a:ext cx="81835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КТ позволяют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максимально реализовать субъектную позицию учащегося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3280" y="529920"/>
            <a:ext cx="8183520" cy="2327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Arial"/>
              </a:rPr>
              <a:t>Принцип сознательности и активности:</a:t>
            </a:r>
            <a:r>
              <a:rPr b="0" lang="ru-RU" sz="2800" spc="-1" strike="noStrike">
                <a:solidFill>
                  <a:srgbClr val="f07f0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ченик должен выступать субъектом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39" descr="21M2"/>
          <p:cNvPicPr/>
          <p:nvPr/>
        </p:nvPicPr>
        <p:blipFill>
          <a:blip r:embed="rId1"/>
          <a:stretch/>
        </p:blipFill>
        <p:spPr>
          <a:xfrm>
            <a:off x="6429240" y="442908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КТ– явление нужное, и, главное, неизбежное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57120" y="1357200"/>
            <a:ext cx="853452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С внедрением компьютеров меняется методика преподавания математики, все больше используется проектная и исследовательская формы учебной деятельности, все больше индивидуализируется обучение. 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Используя обучающие программы, учитель может нагляднее представлять изучаемый материал, показывать модели, недоступны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 в реаль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Идя в ногу со временем, необходимо применять новые технологии в учебном процессе. Задача современного учителя использовать эти технологии 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при обучении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Включив в структуру урока математики применение ИКТ можно выделить ряд преимуществ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680" y="2214720"/>
            <a:ext cx="811512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повышается познавательная активность учащихся. Им уже самим хочется открыть для себя что-то новое, больше узн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дает возможность оперативно оценить результаты обучения. Например, сверить свои ответы с выведенными на экран и при этом, пережить ситуацию успеха, если ответ правильный или обнаружить ошибку, если ответ неверный, продолжить поиск верного ре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позволяет учителю работать с учени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индивидуально (с помощью программы MS Word можно подготовить различные дидактические материалы, предложить ученику найти нужную информацию в сети Интернета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63160" y="1928520"/>
            <a:ext cx="8309160" cy="4236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Средства ИКТ обеспечивают активную познавательную позицию учащихся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Использование средств ИКТ соответствует образовательным стандартам и программе обучения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Использование средств ИКТ сопровождается проблемным вопросом, познавательной задачей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Средства ИКТ обеспечивают и повышают эффективность обучения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</a:rPr>
              <a:t>Критерий оценки образовательного мероприятия с применением ИК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Основные доводы сторонников использования ИКТ в учебном процесс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845560" cy="5214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ИКТ позволяю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включить каждого ученика в процесс самостоятельной деятельности с учетом его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осуществлять переход от простых знаний к более сложны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оптимизировать взаимодействие учеников и учителя на всех этапах уро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расширить сферу самостоятельной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1" descr=""/>
          <p:cNvPicPr/>
          <p:nvPr/>
        </p:nvPicPr>
        <p:blipFill>
          <a:blip r:embed="rId1"/>
          <a:stretch/>
        </p:blipFill>
        <p:spPr>
          <a:xfrm>
            <a:off x="-244440" y="30240"/>
            <a:ext cx="9553680" cy="703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</a:rPr>
              <a:t>Непрерывная  работа за компьютером должна составлять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856880"/>
            <a:ext cx="8183520" cy="3357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учащихся 1-х кл. 10 м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2-5-х кл. 15 м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6-7-х кл. 20 м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8-9-х кл. 25 м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10-11-х кл. 30 м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МЫ ВОСПРИНИМА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9680" y="990720"/>
            <a:ext cx="8464680" cy="58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10%  из того, что мы ЧИТАЕ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20%  из того, что мы СЛЫШИ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30%  из того, что мы ВИДИ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50%  из того, что мы ВИДИМ и СЛЫШИ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70%  из того, что ОБСУЖДАЕМ с другим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80%  из того, что мы ИСПЫТЫВАЕМ лично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95%  из того, что мы ПРЕПОДАЕМ кому-то еще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Уильям Глассер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400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Компьютерные </a:t>
            </a:r>
            <a:br>
              <a:rPr sz="3600"/>
            </a:b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(новые информационные) технологии обуч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2" descr=""/>
          <p:cNvPicPr/>
          <p:nvPr/>
        </p:nvPicPr>
        <p:blipFill>
          <a:blip r:embed="rId1"/>
          <a:stretch/>
        </p:blipFill>
        <p:spPr>
          <a:xfrm>
            <a:off x="281160" y="2567160"/>
            <a:ext cx="5413320" cy="3657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214.wmf"/>
          <p:cNvPicPr/>
          <p:nvPr/>
        </p:nvPicPr>
        <p:blipFill>
          <a:blip r:embed="rId2"/>
          <a:stretch/>
        </p:blipFill>
        <p:spPr>
          <a:xfrm>
            <a:off x="5857920" y="3246480"/>
            <a:ext cx="3119400" cy="3611520"/>
          </a:xfrm>
          <a:prstGeom prst="rect">
            <a:avLst/>
          </a:prstGeom>
          <a:ln w="0">
            <a:noFill/>
          </a:ln>
        </p:spPr>
      </p:pic>
    </p:spTree>
  </p:cSld>
  <p:transition advTm="33000"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Условия для использования ИКТ на урок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95400" y="249228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95400" y="628164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95400" y="2492280"/>
            <a:ext cx="0" cy="378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8988480" y="2492280"/>
            <a:ext cx="0" cy="378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6024600" y="249228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3059280" y="2492280"/>
            <a:ext cx="296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6024600" y="628164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3059280" y="6281640"/>
            <a:ext cx="296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95400" y="1413000"/>
            <a:ext cx="3971520" cy="4868640"/>
            <a:chOff x="95400" y="1413000"/>
            <a:chExt cx="3971520" cy="4868640"/>
          </a:xfrm>
        </p:grpSpPr>
        <p:sp>
          <p:nvSpPr>
            <p:cNvPr id="239" name="Rectangle 8"/>
            <p:cNvSpPr/>
            <p:nvPr/>
          </p:nvSpPr>
          <p:spPr>
            <a:xfrm>
              <a:off x="95400" y="2571840"/>
              <a:ext cx="2963880" cy="37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Verdana"/>
                </a:rPr>
                <a:t>Наличие и доступность компьютерной техники и мультиме дийных ресурс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9"/>
            <p:cNvSpPr/>
            <p:nvPr/>
          </p:nvSpPr>
          <p:spPr>
            <a:xfrm flipH="1">
              <a:off x="1692000" y="1413000"/>
              <a:ext cx="2374920" cy="1008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33"/>
          <p:cNvGrpSpPr/>
          <p:nvPr/>
        </p:nvGrpSpPr>
        <p:grpSpPr>
          <a:xfrm>
            <a:off x="2857680" y="1413000"/>
            <a:ext cx="3107880" cy="4948200"/>
            <a:chOff x="2857680" y="1413000"/>
            <a:chExt cx="3107880" cy="4948200"/>
          </a:xfrm>
        </p:grpSpPr>
        <p:sp>
          <p:nvSpPr>
            <p:cNvPr id="242" name="Rectangle 9"/>
            <p:cNvSpPr/>
            <p:nvPr/>
          </p:nvSpPr>
          <p:spPr>
            <a:xfrm>
              <a:off x="2857680" y="2571840"/>
              <a:ext cx="3107880" cy="37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 lvl="1" marL="179280"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b587c"/>
                  </a:solidFill>
                  <a:latin typeface="Verdana"/>
                </a:rPr>
                <a:t>ИКТ – компетент 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b587c"/>
                  </a:solidFill>
                  <a:latin typeface="Verdana"/>
                </a:rPr>
                <a:t>участников образователь ного проце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4501440" y="1413000"/>
              <a:ext cx="0" cy="1079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4"/>
          <p:cNvGrpSpPr/>
          <p:nvPr/>
        </p:nvGrpSpPr>
        <p:grpSpPr>
          <a:xfrm>
            <a:off x="5219640" y="1413000"/>
            <a:ext cx="3768840" cy="4868640"/>
            <a:chOff x="5219640" y="1413000"/>
            <a:chExt cx="3768840" cy="4868640"/>
          </a:xfrm>
        </p:grpSpPr>
        <p:sp>
          <p:nvSpPr>
            <p:cNvPr id="245" name="Rectangle 10"/>
            <p:cNvSpPr/>
            <p:nvPr/>
          </p:nvSpPr>
          <p:spPr>
            <a:xfrm>
              <a:off x="6024600" y="2492280"/>
              <a:ext cx="2963880" cy="37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Verdana"/>
                </a:rPr>
                <a:t>Видение преимущества мульти-медийных ресурсов перед другими средствами об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1"/>
            <p:cNvSpPr/>
            <p:nvPr/>
          </p:nvSpPr>
          <p:spPr>
            <a:xfrm>
              <a:off x="5219640" y="1413000"/>
              <a:ext cx="2232000" cy="1079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530280"/>
            <a:ext cx="8686800" cy="2255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Схема 3" descr=""/>
          <p:cNvPicPr/>
          <p:nvPr/>
        </p:nvPicPr>
        <p:blipFill>
          <a:blip r:embed="rId1"/>
          <a:stretch/>
        </p:blipFill>
        <p:spPr>
          <a:xfrm>
            <a:off x="695160" y="506520"/>
            <a:ext cx="7693200" cy="2498760"/>
          </a:xfrm>
          <a:prstGeom prst="rect">
            <a:avLst/>
          </a:prstGeom>
          <a:ln w="0">
            <a:noFill/>
          </a:ln>
        </p:spPr>
      </p:pic>
      <p:pic>
        <p:nvPicPr>
          <p:cNvPr id="250" name="Схема 4" descr=""/>
          <p:cNvPicPr/>
          <p:nvPr/>
        </p:nvPicPr>
        <p:blipFill>
          <a:blip r:embed="rId2"/>
          <a:stretch/>
        </p:blipFill>
        <p:spPr>
          <a:xfrm>
            <a:off x="695160" y="3279600"/>
            <a:ext cx="7832880" cy="28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спользование компьютерных технологий позволяет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162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Вовлекать учащихся в активную самостоятельную работу по расширению и углублению зна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Подталкивать учащихся к самостоятельному поиску дополнительного материала по теме, тем самым вызывать интерес к предме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Расширять наглядные возможности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Проводить быстрый и качественный контроль знаний и соответственно качественный анализ ЗУН учащих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Проводить обучение в ситуации успех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0200" y="285480"/>
            <a:ext cx="61437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23232"/>
                </a:solidFill>
                <a:latin typeface="Verdana"/>
              </a:rPr>
              <a:t>    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Задачи, решаемые с помощью компьютерных технологий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64304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повысить интерес учащихся к изучаемому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повысить самостоятельность и активность учащихся при изучении материал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воспитывать у учащихся чувство взаимопомощ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развивать у школьников такие мыслительные операции, как анализ, сравнение и сопоставление фактов и явл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5" descr="164.wmf"/>
          <p:cNvPicPr/>
          <p:nvPr/>
        </p:nvPicPr>
        <p:blipFill>
          <a:blip r:embed="rId1"/>
          <a:stretch/>
        </p:blipFill>
        <p:spPr>
          <a:xfrm>
            <a:off x="500040" y="0"/>
            <a:ext cx="242892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0200" y="285480"/>
            <a:ext cx="61437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23232"/>
                </a:solidFill>
                <a:latin typeface="Verdana"/>
              </a:rPr>
              <a:t>    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Задачи, решаемые с помощью компьютерных технологий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71320" y="1857240"/>
            <a:ext cx="842940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научить учащихся аргументировать, находить и выделять главное, рассуждать, доказывать, находить рациональные пути выполнения зада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развивать коммуникативные умения (как в непосредственном общении, так и в сети Интернет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развивать межпредметные связи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Рисунок 5" descr="164.wmf"/>
          <p:cNvPicPr/>
          <p:nvPr/>
        </p:nvPicPr>
        <p:blipFill>
          <a:blip r:embed="rId1"/>
          <a:stretch/>
        </p:blipFill>
        <p:spPr>
          <a:xfrm>
            <a:off x="500040" y="0"/>
            <a:ext cx="242892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21:08:29Z</dcterms:created>
  <dc:creator>Skill</dc:creator>
  <dc:description/>
  <dc:language>en-US</dc:language>
  <cp:lastModifiedBy>Nabster</cp:lastModifiedBy>
  <dcterms:modified xsi:type="dcterms:W3CDTF">2011-03-24T21:32:33Z</dcterms:modified>
  <cp:revision>152</cp:revision>
  <dc:subject/>
  <dc:title>Применение ИКТ в деятельности учителя математики </dc:title>
</cp:coreProperties>
</file>