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8.gif" ContentType="image/gif"/>
  <Override PartName="/ppt/media/image17.gif" ContentType="image/gif"/>
  <Override PartName="/ppt/media/image16.wmf" ContentType="image/x-wmf"/>
  <Override PartName="/ppt/media/image1.png" ContentType="image/png"/>
  <Override PartName="/ppt/media/image4.jpeg" ContentType="image/jpeg"/>
  <Override PartName="/ppt/media/image2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A96-654C-49D1-9859-6717461F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5214-A761-4CC5-8155-571FD578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C5A-0727-470F-9797-5B002454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17F-8D99-4616-B0B0-8E58EE49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55AF-A858-4281-AF5C-215FFB48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6F04-808F-4C5D-B486-FFAF84DD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95B8-C462-46C7-820F-666D0620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9133-5864-4475-BFB7-2B5D8B8A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72CD-FF2D-45A8-BB12-6727D9CB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5E81-9C7A-40D9-AA2C-836C8FD0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CB49-85A2-4F63-9993-9A6BDA14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3B85-A0B3-4791-B930-DD2BD7E2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8514-A595-459E-9159-DC4BA01B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D8F1-F1D5-4D13-9BB8-5C4D7304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8D85-FD4A-43EC-8FF0-A187294E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8636-8834-42F8-94AF-FCCF61BB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54FF-C75B-484A-877B-67964B26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ABA60-4197-46E9-AB70-A6A4C71D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A2674-2313-44FB-9527-69E4E7E1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6F2E6-9A83-4523-8E9C-04B30BF5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84E07-3335-45CB-96BB-2D15D0C8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A8442-67E8-4A8B-BA01-AB20A4B1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AFFF-0971-40B9-B67A-C24E28F3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B23CE-9AEF-4E5D-AC4A-641C0BBA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05AA4-6695-481F-97BB-AC386BD6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8D5AE-5A83-447D-88C3-E2FE30AE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F24A0-DB00-4FC8-855E-CE12FC56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7578A-C04C-405C-904E-4CB4422B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56887-40BC-4AB3-B2F7-0F511881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DEAA2-E0C7-4211-911D-FE584D03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17404-8688-4C22-8C44-71F57044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1F7D7-A27E-4CBA-A5CC-E74806C1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EF250-1998-40F9-A5DB-34F31C1C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979F-F59D-48CA-994F-93C11768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EA7AB-E131-475D-A4CA-B7287B5A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FF377-5D4C-425C-9A2F-F53EF519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6C881-836D-43C8-9069-493E060B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7C70E-E2FD-4230-B31C-913095AF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A8E15-A3F0-4115-BCD2-C91AA207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5B42D-FE37-4A30-8272-9DFB1F59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FE283-9FFE-43FA-88AB-22A4708E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6921B-B344-4B23-B1E3-ED58FCC1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261BA-00E8-4849-A062-9B134123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0BC54-BD04-4099-8872-8C55F427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00E-3C12-4A9F-A987-30FF0FA0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665C6-0ACB-4E1C-BA54-329BDDB7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A8BE5-47EA-4BE8-A59C-9CA9D817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39A2A-F2B5-4D14-A7D6-4B16592D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906C0-8269-455C-8BE6-C958912F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C0B52-5492-471E-B24B-E52AB37E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F8D64-DDAD-47F4-A9D9-8207110D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30E88-6260-4149-B335-45823A9A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D0139-6359-46A8-A9EA-5172C50A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FD049-BC97-4D93-81A2-B11FA791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67C93-EA3E-4D5F-BBF4-38715511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702B-E54A-403F-8918-C39EC3BB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0558E-EC9B-4B9B-89F4-9219C7EE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B07-9201-416E-B010-F5BDD9E9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C049-F066-49FE-BC9A-BDFE9B5B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173-5598-4427-BDB4-40EC5159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F6F5-892A-4028-B7F8-96AEF5F1DE2C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EF4C-DAE7-4F01-AA55-3028F949EB0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219A-3EB0-4236-8672-E8886BBFA61B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AB56-FA58-482B-B51D-0CA723208CC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E762-4B08-4821-8901-94113F79938D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2D2B-F484-4321-B5DE-D4108551B05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D21F-25E1-47EB-A3F6-35A2B5F8A0D8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9D03-9B15-41E8-999C-EF1D5CAE3F9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8B1A-5ABC-4B73-ABE3-5971ABC2556E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84ED-6FA5-4546-BC28-D85570B4E4A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00320" y="571680"/>
            <a:ext cx="4493880" cy="307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Применение ИКТ в деятельности учителя математики 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45716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4425d"/>
                </a:solidFill>
                <a:latin typeface="Verdana"/>
              </a:rPr>
              <a:t>МОУ Мокро – Соленовская ООШ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4425d"/>
                </a:solidFill>
                <a:latin typeface="Verdana"/>
              </a:rPr>
              <a:t>Учитель математики Клюкина Оксана Валентин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Рисунок 3" descr="1.wmf"/>
          <p:cNvPicPr/>
          <p:nvPr/>
        </p:nvPicPr>
        <p:blipFill>
          <a:blip r:embed="rId2"/>
          <a:stretch/>
        </p:blipFill>
        <p:spPr>
          <a:xfrm>
            <a:off x="500040" y="428760"/>
            <a:ext cx="3641760" cy="3386160"/>
          </a:xfrm>
          <a:prstGeom prst="rect">
            <a:avLst/>
          </a:prstGeom>
          <a:ln w="0">
            <a:noFill/>
          </a:ln>
        </p:spPr>
      </p:pic>
    </p:spTree>
  </p:cSld>
  <p:transition advTm="20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482904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Компьютер можно использовать             на всех этапах процесса обучения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28760" y="2928600"/>
            <a:ext cx="6586560" cy="3714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При объяснении нового матери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Закреп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Повтор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Контроле З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Рисунок 4" descr="BD05969_.WMF"/>
          <p:cNvPicPr/>
          <p:nvPr/>
        </p:nvPicPr>
        <p:blipFill>
          <a:blip r:embed="rId1"/>
          <a:stretch/>
        </p:blipFill>
        <p:spPr>
          <a:xfrm>
            <a:off x="5419800" y="571680"/>
            <a:ext cx="3564000" cy="48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4396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ежимы применения компьютера на урок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28440" y="1714320"/>
            <a:ext cx="7786440" cy="4143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в обучающем режиме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в режиме графической иллюстрации изучаемого материал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в тренировочном режиме для отработки элементарных умений и навыков после изучения темы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в диагностическом режиме тестирования качества усвоения материал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Verdana"/>
              </a:rPr>
              <a:t>в режиме самообуч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Учебные проект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 flipH="1">
            <a:off x="3885480" y="1371600"/>
            <a:ext cx="2514600" cy="1295280"/>
          </a:xfrm>
          <a:prstGeom prst="leftArrow">
            <a:avLst>
              <a:gd name="adj1" fmla="val 50000"/>
              <a:gd name="adj2" fmla="val 485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Электрон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 flipH="1">
            <a:off x="1675800" y="3886200"/>
            <a:ext cx="2514600" cy="1295280"/>
          </a:xfrm>
          <a:prstGeom prst="leftArrow">
            <a:avLst>
              <a:gd name="adj1" fmla="val 50000"/>
              <a:gd name="adj2" fmla="val 485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Рефе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 flipH="1">
            <a:off x="2666160" y="2590920"/>
            <a:ext cx="2514600" cy="1295280"/>
          </a:xfrm>
          <a:prstGeom prst="leftArrow">
            <a:avLst>
              <a:gd name="adj1" fmla="val 50000"/>
              <a:gd name="adj2" fmla="val 485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Компьюте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 flipH="1">
            <a:off x="685080" y="5105520"/>
            <a:ext cx="2514600" cy="1295280"/>
          </a:xfrm>
          <a:prstGeom prst="leftArrow">
            <a:avLst>
              <a:gd name="adj1" fmla="val 50000"/>
              <a:gd name="adj2" fmla="val 485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Докл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" descr="bd06630_"/>
          <p:cNvPicPr/>
          <p:nvPr/>
        </p:nvPicPr>
        <p:blipFill>
          <a:blip r:embed="rId1"/>
          <a:stretch/>
        </p:blipFill>
        <p:spPr>
          <a:xfrm>
            <a:off x="6705720" y="1219320"/>
            <a:ext cx="1788840" cy="14270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bd10035_"/>
          <p:cNvPicPr/>
          <p:nvPr/>
        </p:nvPicPr>
        <p:blipFill>
          <a:blip r:embed="rId2"/>
          <a:stretch/>
        </p:blipFill>
        <p:spPr>
          <a:xfrm>
            <a:off x="5943600" y="2743200"/>
            <a:ext cx="966960" cy="12193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bs00673_"/>
          <p:cNvPicPr/>
          <p:nvPr/>
        </p:nvPicPr>
        <p:blipFill>
          <a:blip r:embed="rId3"/>
          <a:stretch/>
        </p:blipFill>
        <p:spPr>
          <a:xfrm>
            <a:off x="4724280" y="4114800"/>
            <a:ext cx="1365480" cy="1006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pe01722_"/>
          <p:cNvPicPr/>
          <p:nvPr/>
        </p:nvPicPr>
        <p:blipFill>
          <a:blip r:embed="rId4"/>
          <a:stretch/>
        </p:blipFill>
        <p:spPr>
          <a:xfrm>
            <a:off x="3657600" y="5465880"/>
            <a:ext cx="1828800" cy="12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03280" y="3643200"/>
            <a:ext cx="8183520" cy="257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КТ позволяют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генерировать задачи возрастающей сложности (трудности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Ученик 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сам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будет отбирать задачи, требующие от него </a:t>
            </a: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умственного   напряж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Прямоугольник 3"/>
          <p:cNvSpPr/>
          <p:nvPr/>
        </p:nvSpPr>
        <p:spPr>
          <a:xfrm>
            <a:off x="928800" y="714240"/>
            <a:ext cx="735804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7f0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07f09"/>
                </a:solidFill>
                <a:latin typeface="Arial"/>
              </a:rPr>
              <a:t>Принцип доступности и посильности образования:</a:t>
            </a:r>
            <a:r>
              <a:rPr b="0" lang="ru-RU" sz="3200" spc="-1" strike="noStrike">
                <a:solidFill>
                  <a:srgbClr val="f07f0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зучаемый материал по уровню трудности должен быть доступен, но в то же время требовать напряжения       умственных и духовных сил для усво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03280" y="3214800"/>
            <a:ext cx="8183520" cy="228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КТ позволяют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каждому учащемуся выстроить индивидуальную программу освоения необходимого учебного материала, обеспечивая доступ к базам данных и к преподавателю для консультац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Прямоугольник 3"/>
          <p:cNvSpPr/>
          <p:nvPr/>
        </p:nvSpPr>
        <p:spPr>
          <a:xfrm>
            <a:off x="642960" y="857160"/>
            <a:ext cx="728676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2520" algn="ct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Arial"/>
              </a:rPr>
              <a:t>Принцип индивидуализации обуч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252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аждый обучающийся уникален, каждый способен по-сво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6" descr="aluno030"/>
          <p:cNvPicPr/>
          <p:nvPr/>
        </p:nvPicPr>
        <p:blipFill>
          <a:blip r:embed="rId1"/>
          <a:stretch/>
        </p:blipFill>
        <p:spPr>
          <a:xfrm>
            <a:off x="785880" y="785880"/>
            <a:ext cx="1000080" cy="15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285720"/>
            <a:ext cx="818352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КТ позволяют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максимально реализовать субъектную позицию учащегося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03280" y="529920"/>
            <a:ext cx="8183520" cy="2327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Arial"/>
              </a:rPr>
              <a:t>Принцип сознательности и активности:</a:t>
            </a:r>
            <a:r>
              <a:rPr b="0" lang="ru-RU" sz="2800" spc="-1" strike="noStrike">
                <a:solidFill>
                  <a:srgbClr val="f07f0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ченик должен выступать субъектом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39" descr="21M2"/>
          <p:cNvPicPr/>
          <p:nvPr/>
        </p:nvPicPr>
        <p:blipFill>
          <a:blip r:embed="rId1"/>
          <a:stretch/>
        </p:blipFill>
        <p:spPr>
          <a:xfrm>
            <a:off x="6429240" y="4429080"/>
            <a:ext cx="142884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ИКТ– явление нужное, и, главное, неизбежное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57120" y="1357200"/>
            <a:ext cx="8534520" cy="54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  <a:ea typeface="Times New Roman"/>
              </a:rPr>
              <a:t>С внедрением компьютеров меняется методика преподавания математики, все больше используется проектная и исследовательская формы учебной деятельности, все больше индивидуализируется обучение. </a:t>
            </a: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  <a:ea typeface="Times New Roman"/>
              </a:rPr>
              <a:t>Используя обучающие программы, учитель может нагляднее представлять изучаемый материал, показывать модели, недоступны</a:t>
            </a: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1b587c"/>
                </a:solidFill>
                <a:latin typeface="Verdana"/>
                <a:ea typeface="Times New Roman"/>
              </a:rPr>
              <a:t> в реальных услов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1b587c"/>
                </a:solidFill>
                <a:latin typeface="Verdana"/>
                <a:ea typeface="Times New Roman"/>
              </a:rPr>
              <a:t>Идя в ногу со временем, необходимо применять новые технологии в учебном процессе. Задача современного учителя использовать эти технологии </a:t>
            </a:r>
            <a:r>
              <a:rPr b="0" lang="ru-RU" sz="2000" spc="-1" strike="noStrike">
                <a:solidFill>
                  <a:srgbClr val="1b587c"/>
                </a:solidFill>
                <a:latin typeface="Verdana"/>
              </a:rPr>
              <a:t>при обучении</a:t>
            </a:r>
            <a:r>
              <a:rPr b="0" lang="ru-RU" sz="2000" spc="-1" strike="noStrike">
                <a:solidFill>
                  <a:srgbClr val="1b587c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Включив в структуру урока математики применение ИКТ можно выделить ряд преимуществ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71680" y="2214720"/>
            <a:ext cx="8115120" cy="4643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6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Calibri"/>
              </a:rPr>
              <a:t>повышается познавательная активность учащихся. Им уже самим хочется открыть для себя что-то новое, больше узна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Calibri"/>
              </a:rPr>
              <a:t>дает возможность оперативно оценить результаты обучения. Например, сверить свои ответы с выведенными на экран и при этом, пережить ситуацию успеха, если ответ правильный или обнаружить ошибку, если ответ неверный, продолжить поиск верного ре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Calibri"/>
              </a:rPr>
              <a:t>позволяет учителю работать с ученик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587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1b587c"/>
                </a:solidFill>
                <a:latin typeface="Calibri"/>
              </a:rPr>
              <a:t>индивидуально (с помощью программы MS Word можно подготовить различные дидактические материалы, предложить ученику найти нужную информацию в сети Интернета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63160" y="1928520"/>
            <a:ext cx="8309160" cy="4236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587c"/>
                </a:solidFill>
                <a:latin typeface="Times New Roman"/>
              </a:rPr>
              <a:t>Средства ИКТ обеспечивают активную познавательную позицию учащихся</a:t>
            </a:r>
            <a:r>
              <a:rPr b="0" lang="ru-RU" sz="2400" spc="-1" strike="noStrike">
                <a:solidFill>
                  <a:srgbClr val="1b587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587c"/>
                </a:solidFill>
                <a:latin typeface="Times New Roman"/>
              </a:rPr>
              <a:t>Использование средств ИКТ соответствует образовательным стандартам и программе обучения</a:t>
            </a:r>
            <a:r>
              <a:rPr b="0" lang="ru-RU" sz="2400" spc="-1" strike="noStrike">
                <a:solidFill>
                  <a:srgbClr val="1b587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587c"/>
                </a:solidFill>
                <a:latin typeface="Times New Roman"/>
              </a:rPr>
              <a:t>Использование средств ИКТ сопровождается проблемным вопросом, познавательной задачей</a:t>
            </a:r>
            <a:r>
              <a:rPr b="0" lang="ru-RU" sz="2400" spc="-1" strike="noStrike">
                <a:solidFill>
                  <a:srgbClr val="1b587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587c"/>
                </a:solidFill>
                <a:latin typeface="Times New Roman"/>
              </a:rPr>
              <a:t>Средства ИКТ обеспечивают и повышают эффективность обучения</a:t>
            </a:r>
            <a:r>
              <a:rPr b="0" lang="ru-RU" sz="2400" spc="-1" strike="noStrike">
                <a:solidFill>
                  <a:srgbClr val="1b587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503280" y="500040"/>
            <a:ext cx="818352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</a:rPr>
              <a:t>Критерий оценки образовательного мероприятия с применением ИКТ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628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Основные доводы сторонников использования ИКТ в учебном процесс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845560" cy="5214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ИКТ позволяю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включить каждого ученика в процесс самостоятельной деятельности с учетом его индивидуальных способн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осуществлять переход от простых знаний к более сложны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оптимизировать взаимодействие учеников и учителя на всех этапах уро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расширить сферу самостоятельной познавательной деятельности уча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Прямоугольник 1" descr=""/>
          <p:cNvPicPr/>
          <p:nvPr/>
        </p:nvPicPr>
        <p:blipFill>
          <a:blip r:embed="rId1"/>
          <a:stretch/>
        </p:blipFill>
        <p:spPr>
          <a:xfrm>
            <a:off x="-244440" y="30240"/>
            <a:ext cx="9553680" cy="703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Times New Roman"/>
              </a:rPr>
              <a:t>Непрерывная  работа за компьютером должна составлять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1856880"/>
            <a:ext cx="8183520" cy="3357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587c"/>
                </a:solidFill>
                <a:latin typeface="Times New Roman"/>
              </a:rPr>
              <a:t>для учащихся 1-х кл. 10 ми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587c"/>
                </a:solidFill>
                <a:latin typeface="Times New Roman"/>
              </a:rPr>
              <a:t>для 2-5-х кл. 15 ми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587c"/>
                </a:solidFill>
                <a:latin typeface="Times New Roman"/>
              </a:rPr>
              <a:t>для 6-7-х кл. 20 ми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587c"/>
                </a:solidFill>
                <a:latin typeface="Times New Roman"/>
              </a:rPr>
              <a:t>для 8-9-х кл. 25 ми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587c"/>
                </a:solidFill>
                <a:latin typeface="Times New Roman"/>
              </a:rPr>
              <a:t>для 10-11-х кл. 30 ми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МЫ ВОСПРИНИМАЕ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9680" y="990720"/>
            <a:ext cx="8464680" cy="5867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10%  из того, что мы ЧИТАЕМ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20%  из того, что мы СЛЫШИМ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30%  из того, что мы ВИДИМ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50%  из того, что мы ВИДИМ и СЛЫШИМ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70%  из того, что ОБСУЖДАЕМ с другим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80%  из того, что мы ИСПЫТЫВАЕМ лично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95%  из того, что мы ПРЕПОДАЕМ кому-то еще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Уильям Глассер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77840"/>
            <a:ext cx="8400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Компьютерные </a:t>
            </a:r>
            <a:br>
              <a:rPr sz="3600"/>
            </a:b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(новые информационные) технологии обуч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7" name="Содержимое 2" descr=""/>
          <p:cNvPicPr/>
          <p:nvPr/>
        </p:nvPicPr>
        <p:blipFill>
          <a:blip r:embed="rId1"/>
          <a:stretch/>
        </p:blipFill>
        <p:spPr>
          <a:xfrm>
            <a:off x="281160" y="2567160"/>
            <a:ext cx="5413320" cy="36576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214.wmf"/>
          <p:cNvPicPr/>
          <p:nvPr/>
        </p:nvPicPr>
        <p:blipFill>
          <a:blip r:embed="rId2"/>
          <a:stretch/>
        </p:blipFill>
        <p:spPr>
          <a:xfrm>
            <a:off x="5857920" y="3246480"/>
            <a:ext cx="3119400" cy="3611520"/>
          </a:xfrm>
          <a:prstGeom prst="rect">
            <a:avLst/>
          </a:prstGeom>
          <a:ln w="0">
            <a:noFill/>
          </a:ln>
        </p:spPr>
      </p:pic>
    </p:spTree>
  </p:cSld>
  <p:transition advTm="33000"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Условия для использования ИКТ на урок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95400" y="2492280"/>
            <a:ext cx="296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>
            <a:off x="95400" y="6281640"/>
            <a:ext cx="296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3"/>
          <p:cNvSpPr/>
          <p:nvPr/>
        </p:nvSpPr>
        <p:spPr>
          <a:xfrm>
            <a:off x="95400" y="2492280"/>
            <a:ext cx="0" cy="378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6"/>
          <p:cNvSpPr/>
          <p:nvPr/>
        </p:nvSpPr>
        <p:spPr>
          <a:xfrm>
            <a:off x="8988480" y="2492280"/>
            <a:ext cx="0" cy="378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3"/>
          <p:cNvSpPr/>
          <p:nvPr/>
        </p:nvSpPr>
        <p:spPr>
          <a:xfrm>
            <a:off x="6024600" y="2492280"/>
            <a:ext cx="296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4"/>
          <p:cNvSpPr/>
          <p:nvPr/>
        </p:nvSpPr>
        <p:spPr>
          <a:xfrm>
            <a:off x="3059280" y="2492280"/>
            <a:ext cx="2965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>
            <a:off x="6024600" y="6281640"/>
            <a:ext cx="296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3059280" y="6281640"/>
            <a:ext cx="2965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95400" y="1413000"/>
            <a:ext cx="3971520" cy="4868640"/>
            <a:chOff x="95400" y="1413000"/>
            <a:chExt cx="3971520" cy="4868640"/>
          </a:xfrm>
        </p:grpSpPr>
        <p:sp>
          <p:nvSpPr>
            <p:cNvPr id="239" name="Rectangle 8"/>
            <p:cNvSpPr/>
            <p:nvPr/>
          </p:nvSpPr>
          <p:spPr>
            <a:xfrm>
              <a:off x="95400" y="2571840"/>
              <a:ext cx="2963880" cy="37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Verdana"/>
                </a:rPr>
                <a:t>Наличие и доступность компьютерной техники и мультиме дийных ресурсо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9"/>
            <p:cNvSpPr/>
            <p:nvPr/>
          </p:nvSpPr>
          <p:spPr>
            <a:xfrm flipH="1">
              <a:off x="1692000" y="1413000"/>
              <a:ext cx="2374920" cy="1008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33"/>
          <p:cNvGrpSpPr/>
          <p:nvPr/>
        </p:nvGrpSpPr>
        <p:grpSpPr>
          <a:xfrm>
            <a:off x="2857680" y="1413000"/>
            <a:ext cx="3107880" cy="4948200"/>
            <a:chOff x="2857680" y="1413000"/>
            <a:chExt cx="3107880" cy="4948200"/>
          </a:xfrm>
        </p:grpSpPr>
        <p:sp>
          <p:nvSpPr>
            <p:cNvPr id="242" name="Rectangle 9"/>
            <p:cNvSpPr/>
            <p:nvPr/>
          </p:nvSpPr>
          <p:spPr>
            <a:xfrm>
              <a:off x="2857680" y="2571840"/>
              <a:ext cx="3107880" cy="37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 lvl="1" marL="179280" algn="ctr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b587c"/>
                  </a:solidFill>
                  <a:latin typeface="Verdana"/>
                </a:rPr>
                <a:t>ИКТ – компетент 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b587c"/>
                  </a:solidFill>
                  <a:latin typeface="Verdana"/>
                </a:rPr>
                <a:t>участников образователь ного проце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0"/>
            <p:cNvSpPr/>
            <p:nvPr/>
          </p:nvSpPr>
          <p:spPr>
            <a:xfrm>
              <a:off x="4501440" y="1413000"/>
              <a:ext cx="0" cy="1079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34"/>
          <p:cNvGrpSpPr/>
          <p:nvPr/>
        </p:nvGrpSpPr>
        <p:grpSpPr>
          <a:xfrm>
            <a:off x="5219640" y="1413000"/>
            <a:ext cx="3768840" cy="4868640"/>
            <a:chOff x="5219640" y="1413000"/>
            <a:chExt cx="3768840" cy="4868640"/>
          </a:xfrm>
        </p:grpSpPr>
        <p:sp>
          <p:nvSpPr>
            <p:cNvPr id="245" name="Rectangle 10"/>
            <p:cNvSpPr/>
            <p:nvPr/>
          </p:nvSpPr>
          <p:spPr>
            <a:xfrm>
              <a:off x="6024600" y="2492280"/>
              <a:ext cx="2963880" cy="37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 algn="ctr"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70c0"/>
                  </a:solidFill>
                  <a:latin typeface="Verdana"/>
                </a:rPr>
                <a:t>Видение преимущества мульти-медийных ресурсов перед другими средствами обу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1"/>
            <p:cNvSpPr/>
            <p:nvPr/>
          </p:nvSpPr>
          <p:spPr>
            <a:xfrm>
              <a:off x="5219640" y="1413000"/>
              <a:ext cx="2232000" cy="1079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530280"/>
            <a:ext cx="8686800" cy="2255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Схема 3" descr=""/>
          <p:cNvPicPr/>
          <p:nvPr/>
        </p:nvPicPr>
        <p:blipFill>
          <a:blip r:embed="rId1"/>
          <a:stretch/>
        </p:blipFill>
        <p:spPr>
          <a:xfrm>
            <a:off x="695160" y="506520"/>
            <a:ext cx="7693200" cy="2498760"/>
          </a:xfrm>
          <a:prstGeom prst="rect">
            <a:avLst/>
          </a:prstGeom>
          <a:ln w="0">
            <a:noFill/>
          </a:ln>
        </p:spPr>
      </p:pic>
      <p:pic>
        <p:nvPicPr>
          <p:cNvPr id="250" name="Схема 4" descr=""/>
          <p:cNvPicPr/>
          <p:nvPr/>
        </p:nvPicPr>
        <p:blipFill>
          <a:blip r:embed="rId2"/>
          <a:stretch/>
        </p:blipFill>
        <p:spPr>
          <a:xfrm>
            <a:off x="695160" y="3279600"/>
            <a:ext cx="7832880" cy="28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500040"/>
            <a:ext cx="818352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Использование компьютерных технологий позволяет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162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Вовлекать учащихся в активную самостоятельную работу по расширению и углублению знан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Подталкивать учащихся к самостоятельному поиску дополнительного материала по теме, тем самым вызывать интерес к предмет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Расширять наглядные возможности обуч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Проводить быстрый и качественный контроль знаний и соответственно качественный анализ ЗУН учащих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</a:rPr>
              <a:t>Проводить обучение в ситуации успех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0200" y="285480"/>
            <a:ext cx="61437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323232"/>
                </a:solidFill>
                <a:latin typeface="Verdana"/>
              </a:rPr>
              <a:t>                        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Задачи, решаемые с помощью компьютерных технологий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71320" y="1643040"/>
            <a:ext cx="8429400" cy="492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  <a:ea typeface="Times New Roman"/>
              </a:rPr>
              <a:t>повысить интерес учащихся к изучаемому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  <a:ea typeface="Times New Roman"/>
              </a:rPr>
              <a:t>повысить самостоятельность и активность учащихся при изучении материал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  <a:ea typeface="Times New Roman"/>
              </a:rPr>
              <a:t>воспитывать у учащихся чувство взаимопомощ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  <a:ea typeface="Times New Roman"/>
              </a:rPr>
              <a:t>развивать у школьников такие мыслительные операции, как анализ, сравнение и сопоставление фактов и явлен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Рисунок 5" descr="164.wmf"/>
          <p:cNvPicPr/>
          <p:nvPr/>
        </p:nvPicPr>
        <p:blipFill>
          <a:blip r:embed="rId1"/>
          <a:stretch/>
        </p:blipFill>
        <p:spPr>
          <a:xfrm>
            <a:off x="500040" y="0"/>
            <a:ext cx="242892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0200" y="285480"/>
            <a:ext cx="61437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323232"/>
                </a:solidFill>
                <a:latin typeface="Verdana"/>
              </a:rPr>
              <a:t>                        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Задачи, решаемые с помощью компьютерных технологий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71320" y="1857240"/>
            <a:ext cx="842940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  <a:ea typeface="Times New Roman"/>
              </a:rPr>
              <a:t>научить учащихся аргументировать, находить и выделять главное, рассуждать, доказывать, находить рациональные пути выполнения задани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  <a:ea typeface="Times New Roman"/>
              </a:rPr>
              <a:t>развивать коммуникативные умения (как в непосредственном общении, так и в сети Интернет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587c"/>
                </a:solidFill>
                <a:latin typeface="Verdana"/>
                <a:ea typeface="Times New Roman"/>
              </a:rPr>
              <a:t>развивать межпредметные связи</a:t>
            </a:r>
            <a:r>
              <a:rPr b="0" lang="ru-RU" sz="2800" spc="-1" strike="noStrike">
                <a:solidFill>
                  <a:srgbClr val="1b587c"/>
                </a:solidFill>
                <a:latin typeface="Verdana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Рисунок 5" descr="164.wmf"/>
          <p:cNvPicPr/>
          <p:nvPr/>
        </p:nvPicPr>
        <p:blipFill>
          <a:blip r:embed="rId1"/>
          <a:stretch/>
        </p:blipFill>
        <p:spPr>
          <a:xfrm>
            <a:off x="500040" y="0"/>
            <a:ext cx="242892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21:08:29Z</dcterms:created>
  <dc:creator>Skill</dc:creator>
  <dc:description/>
  <dc:language>en-US</dc:language>
  <cp:lastModifiedBy>Nabster</cp:lastModifiedBy>
  <dcterms:modified xsi:type="dcterms:W3CDTF">2011-03-24T21:32:33Z</dcterms:modified>
  <cp:revision>152</cp:revision>
  <dc:subject/>
  <dc:title>Применение ИКТ в деятельности учителя математики </dc:title>
</cp:coreProperties>
</file>