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10.png" ContentType="image/png"/>
  <Override PartName="/ppt/media/image5.wmf" ContentType="image/x-wmf"/>
  <Override PartName="/ppt/media/image13.wmf" ContentType="image/x-wmf"/>
  <Override PartName="/ppt/media/image9.png" ContentType="image/png"/>
  <Override PartName="/ppt/media/image18.gif" ContentType="image/gif"/>
  <Override PartName="/ppt/media/image17.gif" ContentType="image/gif"/>
  <Override PartName="/ppt/media/image16.wmf" ContentType="image/x-wmf"/>
  <Override PartName="/ppt/media/image1.png" ContentType="image/png"/>
  <Override PartName="/ppt/media/image4.jpeg" ContentType="image/jpeg"/>
  <Override PartName="/ppt/media/image2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3.png" ContentType="image/png"/>
  <Override PartName="/ppt/media/image11.wmf" ContentType="image/x-wmf"/>
  <Override PartName="/ppt/media/image8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A98C-98D7-4A91-BBE0-44A02822E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5341-234C-44F8-9D3C-0C73368C2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8795-F31C-44E3-86A4-DD373A769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3A9F-ABBC-4B97-8616-C2FB165C9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F4C2F-C88E-4931-A4CF-063D06985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2FDB2-F0DA-4BFF-B9AF-B7ABFA83C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5FC15-9A6C-47AE-85E9-6CE8A9485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A009D-61FE-43F9-A560-A0977053F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F1C07-DA07-4DB6-8AC5-A8A8B5BAC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25CA0-F624-4562-BCDA-8F8B4AEE2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58E61-6720-47A0-9D37-148BB3F7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0CBF-86D2-48B3-9026-23B00A2B1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43AE7-35CB-412E-B134-F411C3CF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EAD90-0CEC-4A4F-9A00-7C1CB299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08D9E-80BA-4CC3-93E1-6E87969E6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E2FC5-013C-4D45-94D0-9459F9958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71DE2-C126-44F7-AA27-13459D270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D43A8-31F0-4F57-BFBE-71DD4274E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74234-07A8-4E7A-8ED7-7C52B3073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587FA-775E-47EB-9ECB-97E4B671A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DF4DC-4169-43EF-953C-E9C07BBA6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71726-BE07-419D-8282-EFC8D7CF9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43AB-D789-44F1-A899-D7941FA7C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DE9CB-57C5-4A1B-9FE6-413286159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F73B2-00C6-4D55-B20B-DD01B1BF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42AF3-80AB-48B4-B671-55F23364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0548F-9112-469D-AFCC-E874F29D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9BF49-2584-42ED-835F-E49A0E9E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B21C4-AECA-48C2-A3B9-2D626BD05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FCBC2-0DD9-47B2-8388-568B3CA62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F4099-67D1-401B-90A1-2A0554B19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8C36E-6955-46EA-BD45-680EA952F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666DE-6EFA-4A05-B005-3BF261592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16F8-08D4-420C-9685-4CA403622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84FFB-0561-4DCA-B168-65D76614E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7F9B2-6349-4380-A6C4-91CF369BA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B0C4B-8738-4EEE-976B-CBC6D48E2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F508B-E502-4B26-B013-E4283CEB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94350-0BCB-448B-9A35-ABA8B8FF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32968-387A-430A-BAAB-771C30FD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651C8-0A37-40C8-B8D9-48971941A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72608-2FF4-4137-BE44-8B6F09596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B1858-36EB-4878-863D-992378A5B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79F01-C857-4A30-983F-239C37D13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CC72-90F0-4E99-9087-4B6E903D1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8E268-9D83-4DF7-AE99-F7442E668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51DCD-CB44-4916-8AF0-E17BC7FA3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6FD5F-7F39-4F23-AE16-30649A9B8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614AC-0DDF-4C6D-B451-A8EAE3AA6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DC552-DC04-49B8-AD7C-4EC8641F4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21F62-2860-4B51-B774-CC1087B5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DF133-57EE-41DD-98F0-5BB1886A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3E577-95D4-45EC-991E-BD1D2533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62792-5A69-474A-86E6-BA7956F03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286C5-B69D-43D1-B09B-7AEEC4AF4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C66D-650A-473C-96C6-4F0440847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951A7-1AF3-4320-8BEA-79AC8392C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C723-7A9F-445C-BD9E-40C5600B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EF16-84CD-4184-A649-997709FB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B80D-3BB9-4BE3-B8E7-282ED455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E1F35-7B46-4628-AB0D-B7B9374F22BE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82AAE-7521-40B0-8ABF-273E584F8862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A9AF4-95D9-4E51-83C2-1D75614A0C6B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17FE5-EBC1-4694-9178-FB9EFAE9BD35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0FDB8-8FB1-4808-85E9-9FBB4CC1E14A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E6D1E-BA6C-42A9-9887-164F33F346B5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1F748-A101-4A03-B58A-F1C3E20F59BF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23404-6A33-42ED-A1D9-7BD89E61E8BD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6BFEF-62E6-4AC3-B9C1-922B12C5CF8D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10D5-E354-4E04-B297-E3FE67EAAC6C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00320" y="571680"/>
            <a:ext cx="4493880" cy="3078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8d3e"/>
                </a:solidFill>
                <a:latin typeface="Verdana"/>
              </a:rPr>
              <a:t>Применение ИКТ в деятельности учителя математики </a:t>
            </a:r>
            <a:endParaRPr b="1" lang="en-US" sz="41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457164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4425d"/>
                </a:solidFill>
                <a:latin typeface="Verdana"/>
              </a:rPr>
              <a:t>МОУ Мокро – Соленовская ООШ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4425d"/>
                </a:solidFill>
                <a:latin typeface="Verdana"/>
              </a:rPr>
              <a:t>Учитель математики Клюкина Оксана Валентинов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Рисунок 3" descr="1.wmf"/>
          <p:cNvPicPr/>
          <p:nvPr/>
        </p:nvPicPr>
        <p:blipFill>
          <a:blip r:embed="rId2"/>
          <a:stretch/>
        </p:blipFill>
        <p:spPr>
          <a:xfrm>
            <a:off x="500040" y="428760"/>
            <a:ext cx="3641760" cy="3386160"/>
          </a:xfrm>
          <a:prstGeom prst="rect">
            <a:avLst/>
          </a:prstGeom>
          <a:ln w="0">
            <a:noFill/>
          </a:ln>
        </p:spPr>
      </p:pic>
    </p:spTree>
  </p:cSld>
  <p:transition advTm="20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4829040" cy="25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07f09"/>
                </a:solidFill>
                <a:latin typeface="Verdana"/>
              </a:rPr>
              <a:t>Компьютер можно использовать             на всех этапах процесса обучения: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28760" y="2928600"/>
            <a:ext cx="6586560" cy="3714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Verdana"/>
              </a:rPr>
              <a:t>При объяснении нового материал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Verdana"/>
              </a:rPr>
              <a:t>Закреплен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Verdana"/>
              </a:rPr>
              <a:t>Повторен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Verdana"/>
              </a:rPr>
              <a:t>Контроле ЗУ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Рисунок 4" descr="BD05969_.WMF"/>
          <p:cNvPicPr/>
          <p:nvPr/>
        </p:nvPicPr>
        <p:blipFill>
          <a:blip r:embed="rId1"/>
          <a:stretch/>
        </p:blipFill>
        <p:spPr>
          <a:xfrm>
            <a:off x="5419800" y="571680"/>
            <a:ext cx="3564000" cy="485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64396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Режимы применения компьютера на урок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928440" y="1714320"/>
            <a:ext cx="7786440" cy="4143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b587c"/>
                </a:solidFill>
                <a:latin typeface="Verdana"/>
              </a:rPr>
              <a:t>в обучающем режиме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b587c"/>
                </a:solidFill>
                <a:latin typeface="Verdana"/>
              </a:rPr>
              <a:t>в режиме графической иллюстрации изучаемого материала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b587c"/>
                </a:solidFill>
                <a:latin typeface="Verdana"/>
              </a:rPr>
              <a:t>в тренировочном режиме для отработки элементарных умений и навыков после изучения темы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b587c"/>
                </a:solidFill>
                <a:latin typeface="Verdana"/>
              </a:rPr>
              <a:t>в диагностическом режиме тестирования качества усвоения материала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b587c"/>
                </a:solidFill>
                <a:latin typeface="Verdana"/>
              </a:rPr>
              <a:t>в режиме самообучени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768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Учебные проекты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5" name="AutoShape 4"/>
          <p:cNvSpPr/>
          <p:nvPr/>
        </p:nvSpPr>
        <p:spPr>
          <a:xfrm flipH="1">
            <a:off x="3885480" y="1371600"/>
            <a:ext cx="2514600" cy="1295280"/>
          </a:xfrm>
          <a:prstGeom prst="leftArrow">
            <a:avLst>
              <a:gd name="adj1" fmla="val 50000"/>
              <a:gd name="adj2" fmla="val 4853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b587c"/>
                </a:solidFill>
                <a:latin typeface="Verdana"/>
              </a:rPr>
              <a:t>Электрон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b587c"/>
                </a:solidFill>
                <a:latin typeface="Verdana"/>
              </a:rPr>
              <a:t>презен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5"/>
          <p:cNvSpPr/>
          <p:nvPr/>
        </p:nvSpPr>
        <p:spPr>
          <a:xfrm flipH="1">
            <a:off x="1675800" y="3886200"/>
            <a:ext cx="2514600" cy="1295280"/>
          </a:xfrm>
          <a:prstGeom prst="leftArrow">
            <a:avLst>
              <a:gd name="adj1" fmla="val 50000"/>
              <a:gd name="adj2" fmla="val 4853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b587c"/>
                </a:solidFill>
                <a:latin typeface="Verdana"/>
              </a:rPr>
              <a:t>Рефер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6"/>
          <p:cNvSpPr/>
          <p:nvPr/>
        </p:nvSpPr>
        <p:spPr>
          <a:xfrm flipH="1">
            <a:off x="2666160" y="2590920"/>
            <a:ext cx="2514600" cy="1295280"/>
          </a:xfrm>
          <a:prstGeom prst="leftArrow">
            <a:avLst>
              <a:gd name="adj1" fmla="val 50000"/>
              <a:gd name="adj2" fmla="val 4853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b587c"/>
                </a:solidFill>
                <a:latin typeface="Verdana"/>
              </a:rPr>
              <a:t>Компьютер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b587c"/>
                </a:solidFill>
                <a:latin typeface="Verdana"/>
              </a:rPr>
              <a:t>те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7"/>
          <p:cNvSpPr/>
          <p:nvPr/>
        </p:nvSpPr>
        <p:spPr>
          <a:xfrm flipH="1">
            <a:off x="685080" y="5105520"/>
            <a:ext cx="2514600" cy="1295280"/>
          </a:xfrm>
          <a:prstGeom prst="leftArrow">
            <a:avLst>
              <a:gd name="adj1" fmla="val 50000"/>
              <a:gd name="adj2" fmla="val 4853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b587c"/>
                </a:solidFill>
                <a:latin typeface="Verdana"/>
              </a:rPr>
              <a:t>Докл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8" descr="bd06630_"/>
          <p:cNvPicPr/>
          <p:nvPr/>
        </p:nvPicPr>
        <p:blipFill>
          <a:blip r:embed="rId1"/>
          <a:stretch/>
        </p:blipFill>
        <p:spPr>
          <a:xfrm>
            <a:off x="6705720" y="1219320"/>
            <a:ext cx="1788840" cy="14270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0" descr="bd10035_"/>
          <p:cNvPicPr/>
          <p:nvPr/>
        </p:nvPicPr>
        <p:blipFill>
          <a:blip r:embed="rId2"/>
          <a:stretch/>
        </p:blipFill>
        <p:spPr>
          <a:xfrm>
            <a:off x="5943600" y="2743200"/>
            <a:ext cx="966960" cy="12193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1" descr="bs00673_"/>
          <p:cNvPicPr/>
          <p:nvPr/>
        </p:nvPicPr>
        <p:blipFill>
          <a:blip r:embed="rId3"/>
          <a:stretch/>
        </p:blipFill>
        <p:spPr>
          <a:xfrm>
            <a:off x="4724280" y="4114800"/>
            <a:ext cx="1365480" cy="10065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2" descr="pe01722_"/>
          <p:cNvPicPr/>
          <p:nvPr/>
        </p:nvPicPr>
        <p:blipFill>
          <a:blip r:embed="rId4"/>
          <a:stretch/>
        </p:blipFill>
        <p:spPr>
          <a:xfrm>
            <a:off x="3657600" y="5465880"/>
            <a:ext cx="1828800" cy="122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7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7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7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503280" y="3643200"/>
            <a:ext cx="8183520" cy="2571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ИКТ позволяют</a:t>
            </a: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 генерировать задачи возрастающей сложности (трудности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Ученик </a:t>
            </a:r>
            <a:r>
              <a:rPr b="1" i="1" lang="ru-RU" sz="2400" spc="-1" strike="noStrike">
                <a:solidFill>
                  <a:srgbClr val="0070c0"/>
                </a:solidFill>
                <a:latin typeface="Arial"/>
              </a:rPr>
              <a:t>сам</a:t>
            </a: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 будет отбирать задачи, требующие от него </a:t>
            </a:r>
            <a:r>
              <a:rPr b="1" i="1" lang="ru-RU" sz="2400" spc="-1" strike="noStrike">
                <a:solidFill>
                  <a:srgbClr val="0070c0"/>
                </a:solidFill>
                <a:latin typeface="Arial"/>
              </a:rPr>
              <a:t>умственного   напряж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Прямоугольник 3"/>
          <p:cNvSpPr/>
          <p:nvPr/>
        </p:nvSpPr>
        <p:spPr>
          <a:xfrm>
            <a:off x="928800" y="714240"/>
            <a:ext cx="7358040" cy="28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07f0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07f09"/>
                </a:solidFill>
                <a:latin typeface="Arial"/>
              </a:rPr>
              <a:t>Принцип доступности и посильности образования:</a:t>
            </a:r>
            <a:r>
              <a:rPr b="0" lang="ru-RU" sz="3200" spc="-1" strike="noStrike">
                <a:solidFill>
                  <a:srgbClr val="f07f0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изучаемый материал по уровню трудности должен быть доступен, но в то же время требовать напряжения       умственных и духовных сил для усво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503280" y="3214800"/>
            <a:ext cx="8183520" cy="2286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ИКТ позволяют</a:t>
            </a: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 каждому учащемуся выстроить индивидуальную программу освоения необходимого учебного материала, обеспечивая доступ к базам данных и к преподавателю для консультац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Прямоугольник 3"/>
          <p:cNvSpPr/>
          <p:nvPr/>
        </p:nvSpPr>
        <p:spPr>
          <a:xfrm>
            <a:off x="642960" y="857160"/>
            <a:ext cx="7286760" cy="20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2520" algn="ctr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07f09"/>
                </a:solidFill>
                <a:latin typeface="Arial"/>
              </a:rPr>
              <a:t>Принцип индивидуализации обучени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252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каждый обучающийся уникален, каждый способен по-свое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46" descr="aluno030"/>
          <p:cNvPicPr/>
          <p:nvPr/>
        </p:nvPicPr>
        <p:blipFill>
          <a:blip r:embed="rId1"/>
          <a:stretch/>
        </p:blipFill>
        <p:spPr>
          <a:xfrm>
            <a:off x="785880" y="785880"/>
            <a:ext cx="1000080" cy="157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1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3280" y="3285720"/>
            <a:ext cx="818352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ИКТ позволяют</a:t>
            </a: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 максимально реализовать субъектную позицию учащегося</a:t>
            </a:r>
            <a:br>
              <a:rPr sz="2400"/>
            </a:b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503280" y="529920"/>
            <a:ext cx="8183520" cy="23274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7000"/>
          </a:bodyPr>
          <a:p>
            <a:pPr marL="256680" indent="-2566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07f09"/>
                </a:solidFill>
                <a:latin typeface="Arial"/>
              </a:rPr>
              <a:t>Принцип сознательности и активности:</a:t>
            </a:r>
            <a:r>
              <a:rPr b="0" lang="ru-RU" sz="2800" spc="-1" strike="noStrike">
                <a:solidFill>
                  <a:srgbClr val="f07f0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ученик должен выступать субъектом учебной дея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2" name="Picture 39" descr="21M2"/>
          <p:cNvPicPr/>
          <p:nvPr/>
        </p:nvPicPr>
        <p:blipFill>
          <a:blip r:embed="rId1"/>
          <a:stretch/>
        </p:blipFill>
        <p:spPr>
          <a:xfrm>
            <a:off x="6429240" y="4429080"/>
            <a:ext cx="1428840" cy="128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3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ИКТ– явление нужное, и, главное, неизбежное.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57120" y="1357200"/>
            <a:ext cx="8534520" cy="54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buClr>
                <a:srgbClr val="1b587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b587c"/>
                </a:solidFill>
                <a:latin typeface="Verdana"/>
                <a:ea typeface="Times New Roman"/>
              </a:rPr>
              <a:t>С внедрением компьютеров меняется методика преподавания математики, все больше используется проектная и исследовательская формы учебной деятельности, все больше индивидуализируется обучение. </a:t>
            </a:r>
            <a:r>
              <a:rPr b="0" lang="ru-RU" sz="2000" spc="-1" strike="noStrike">
                <a:solidFill>
                  <a:srgbClr val="1b587c"/>
                </a:solidFill>
                <a:latin typeface="Verdana"/>
              </a:rPr>
              <a:t>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1b587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b587c"/>
                </a:solidFill>
                <a:latin typeface="Verdana"/>
                <a:ea typeface="Times New Roman"/>
              </a:rPr>
              <a:t>Используя обучающие программы, учитель может нагляднее представлять изучаемый материал, показывать модели, недоступны</a:t>
            </a:r>
            <a:r>
              <a:rPr b="0" lang="ru-RU" sz="2000" spc="-1" strike="noStrike">
                <a:solidFill>
                  <a:srgbClr val="1b587c"/>
                </a:solidFill>
                <a:latin typeface="Verdana"/>
              </a:rPr>
              <a:t>е</a:t>
            </a:r>
            <a:r>
              <a:rPr b="0" lang="ru-RU" sz="2000" spc="-1" strike="noStrike">
                <a:solidFill>
                  <a:srgbClr val="1b587c"/>
                </a:solidFill>
                <a:latin typeface="Verdana"/>
                <a:ea typeface="Times New Roman"/>
              </a:rPr>
              <a:t> в реальных услов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1b587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b587c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1b587c"/>
                </a:solidFill>
                <a:latin typeface="Verdana"/>
                <a:ea typeface="Times New Roman"/>
              </a:rPr>
              <a:t>Идя в ногу со временем, необходимо применять новые технологии в учебном процессе. Задача современного учителя использовать эти технологии </a:t>
            </a:r>
            <a:r>
              <a:rPr b="0" lang="ru-RU" sz="2000" spc="-1" strike="noStrike">
                <a:solidFill>
                  <a:srgbClr val="1b587c"/>
                </a:solidFill>
                <a:latin typeface="Verdana"/>
              </a:rPr>
              <a:t>при обучении</a:t>
            </a:r>
            <a:r>
              <a:rPr b="0" lang="ru-RU" sz="2000" spc="-1" strike="noStrike">
                <a:solidFill>
                  <a:srgbClr val="1b587c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3280" y="499680"/>
            <a:ext cx="818352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07f09"/>
                </a:solidFill>
                <a:latin typeface="Verdana"/>
              </a:rPr>
              <a:t>Включив в структуру урока математики применение ИКТ можно выделить ряд преимуществ: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71680" y="2214720"/>
            <a:ext cx="8115120" cy="4643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6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b587c"/>
                </a:solidFill>
                <a:latin typeface="Calibri"/>
              </a:rPr>
              <a:t>повышается познавательная активность учащихся. Им уже самим хочется открыть для себя что-то новое, больше узна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6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b587c"/>
                </a:solidFill>
                <a:latin typeface="Calibri"/>
              </a:rPr>
              <a:t>дает возможность оперативно оценить результаты обучения. Например, сверить свои ответы с выведенными на экран и при этом, пережить ситуацию успеха, если ответ правильный или обнаружить ошибку, если ответ неверный, продолжить поиск верного реш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6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b587c"/>
                </a:solidFill>
                <a:latin typeface="Calibri"/>
              </a:rPr>
              <a:t>позволяет учителю работать с ученико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6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b587c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1b587c"/>
                </a:solidFill>
                <a:latin typeface="Calibri"/>
              </a:rPr>
              <a:t>индивидуально (с помощью программы MS Word можно подготовить различные дидактические материалы, предложить ученику найти нужную информацию в сети Интернета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263160" y="1928520"/>
            <a:ext cx="8309160" cy="4236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587c"/>
                </a:solidFill>
                <a:latin typeface="Times New Roman"/>
              </a:rPr>
              <a:t>Средства ИКТ обеспечивают активную познавательную позицию учащихся</a:t>
            </a:r>
            <a:r>
              <a:rPr b="0" lang="ru-RU" sz="2400" spc="-1" strike="noStrike">
                <a:solidFill>
                  <a:srgbClr val="1b587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587c"/>
                </a:solidFill>
                <a:latin typeface="Times New Roman"/>
              </a:rPr>
              <a:t>Использование средств ИКТ соответствует образовательным стандартам и программе обучения</a:t>
            </a:r>
            <a:r>
              <a:rPr b="0" lang="ru-RU" sz="2400" spc="-1" strike="noStrike">
                <a:solidFill>
                  <a:srgbClr val="1b587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587c"/>
                </a:solidFill>
                <a:latin typeface="Times New Roman"/>
              </a:rPr>
              <a:t>Использование средств ИКТ сопровождается проблемным вопросом, познавательной задачей</a:t>
            </a:r>
            <a:r>
              <a:rPr b="0" lang="ru-RU" sz="2400" spc="-1" strike="noStrike">
                <a:solidFill>
                  <a:srgbClr val="1b587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587c"/>
                </a:solidFill>
                <a:latin typeface="Times New Roman"/>
              </a:rPr>
              <a:t>Средства ИКТ обеспечивают и повышают эффективность обучения</a:t>
            </a:r>
            <a:r>
              <a:rPr b="0" lang="ru-RU" sz="2400" spc="-1" strike="noStrike">
                <a:solidFill>
                  <a:srgbClr val="1b587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title"/>
          </p:nvPr>
        </p:nvSpPr>
        <p:spPr>
          <a:xfrm>
            <a:off x="503280" y="500040"/>
            <a:ext cx="8183520" cy="12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</a:rPr>
              <a:t>Критерий оценки образовательного мероприятия с применением ИКТ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36280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07f09"/>
                </a:solidFill>
                <a:latin typeface="Verdana"/>
              </a:rPr>
              <a:t>Основные доводы сторонников использования ИКТ в учебном процессе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78920" y="1143000"/>
            <a:ext cx="8845560" cy="52149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8000"/>
          </a:bodyPr>
          <a:p>
            <a:pPr marL="259560" indent="0">
              <a:lnSpc>
                <a:spcPct val="15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Verdana"/>
              </a:rPr>
              <a:t>ИКТ позволяют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Verdana"/>
              </a:rPr>
              <a:t>включить каждого ученика в процесс самостоятельной деятельности с учетом его индивидуальных способностей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95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70c0"/>
                </a:solidFill>
                <a:latin typeface="Verdana"/>
              </a:rPr>
              <a:t>осуществлять переход от простых знаний к более сложным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95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70c0"/>
                </a:solidFill>
                <a:latin typeface="Verdana"/>
              </a:rPr>
              <a:t>оптимизировать взаимодействие учеников и учителя на всех этапах урок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95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Verdana"/>
              </a:rPr>
              <a:t>расширить сферу самостоятельной познавательной деятельности учащихс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Прямоугольник 1" descr=""/>
          <p:cNvPicPr/>
          <p:nvPr/>
        </p:nvPicPr>
        <p:blipFill>
          <a:blip r:embed="rId1"/>
          <a:stretch/>
        </p:blipFill>
        <p:spPr>
          <a:xfrm>
            <a:off x="-244440" y="30240"/>
            <a:ext cx="9553680" cy="703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499680"/>
            <a:ext cx="818352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</a:rPr>
              <a:t>Непрерывная  работа за компьютером должна составлять: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3280" y="1856880"/>
            <a:ext cx="8183520" cy="3357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b587c"/>
                </a:solidFill>
                <a:latin typeface="Times New Roman"/>
              </a:rPr>
              <a:t>для учащихся 1-х кл. 10 мин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b587c"/>
                </a:solidFill>
                <a:latin typeface="Times New Roman"/>
              </a:rPr>
              <a:t>для 2-5-х кл. 15 мин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b587c"/>
                </a:solidFill>
                <a:latin typeface="Times New Roman"/>
              </a:rPr>
              <a:t>для 6-7-х кл. 20 мин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b587c"/>
                </a:solidFill>
                <a:latin typeface="Times New Roman"/>
              </a:rPr>
              <a:t>для 8-9-х кл. 25 ми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b587c"/>
                </a:solidFill>
                <a:latin typeface="Times New Roman"/>
              </a:rPr>
              <a:t>для 10-11-х кл. 30 ми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07f09"/>
                </a:solidFill>
                <a:latin typeface="Verdana"/>
              </a:rPr>
              <a:t>МЫ ВОСПРИНИМАЕМ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99680" y="990720"/>
            <a:ext cx="8464680" cy="5867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1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</a:rPr>
              <a:t>10%  из того, что мы ЧИТАЕМ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1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</a:rPr>
              <a:t>20%  из того, что мы СЛЫШИМ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1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</a:rPr>
              <a:t>30%  из того, что мы ВИДИМ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1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</a:rPr>
              <a:t>50%  из того, что мы ВИДИМ и СЛЫШИМ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1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</a:rPr>
              <a:t>70%  из того, что ОБСУЖДАЕМ с другими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1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</a:rPr>
              <a:t>80%  из того, что мы ИСПЫТЫВАЕМ лично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1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</a:rPr>
              <a:t>95%  из того, что мы ПРЕПОДАЕМ кому-то еще 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ru-RU" sz="31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ru-RU" sz="31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ru-RU" sz="31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ru-RU" sz="31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ru-RU" sz="31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ru-RU" sz="3100" spc="-1" strike="noStrike">
                <a:solidFill>
                  <a:srgbClr val="0070c0"/>
                </a:solidFill>
                <a:latin typeface="Times New Roman"/>
              </a:rPr>
              <a:t>Уильям Глассер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77840"/>
            <a:ext cx="84009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07f09"/>
                </a:solidFill>
                <a:latin typeface="Verdana"/>
              </a:rPr>
              <a:t>Компьютерные </a:t>
            </a:r>
            <a:br>
              <a:rPr sz="3600"/>
            </a:br>
            <a:r>
              <a:rPr b="1" lang="ru-RU" sz="3600" spc="-1" strike="noStrike">
                <a:solidFill>
                  <a:srgbClr val="f07f09"/>
                </a:solidFill>
                <a:latin typeface="Verdana"/>
              </a:rPr>
              <a:t>(новые информационные) технологии обучен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7" name="Содержимое 2" descr=""/>
          <p:cNvPicPr/>
          <p:nvPr/>
        </p:nvPicPr>
        <p:blipFill>
          <a:blip r:embed="rId1"/>
          <a:stretch/>
        </p:blipFill>
        <p:spPr>
          <a:xfrm>
            <a:off x="281160" y="2567160"/>
            <a:ext cx="5413320" cy="365760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4" descr="214.wmf"/>
          <p:cNvPicPr/>
          <p:nvPr/>
        </p:nvPicPr>
        <p:blipFill>
          <a:blip r:embed="rId2"/>
          <a:stretch/>
        </p:blipFill>
        <p:spPr>
          <a:xfrm>
            <a:off x="5857920" y="3246480"/>
            <a:ext cx="3119400" cy="3611520"/>
          </a:xfrm>
          <a:prstGeom prst="rect">
            <a:avLst/>
          </a:prstGeom>
          <a:ln w="0">
            <a:noFill/>
          </a:ln>
        </p:spPr>
      </p:pic>
    </p:spTree>
  </p:cSld>
  <p:transition advTm="33000">
    <p:wedg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07f09"/>
                </a:solidFill>
                <a:latin typeface="Verdana"/>
              </a:rPr>
              <a:t>Условия для использования ИКТ на урок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Line 11"/>
          <p:cNvSpPr/>
          <p:nvPr/>
        </p:nvSpPr>
        <p:spPr>
          <a:xfrm>
            <a:off x="95400" y="2492280"/>
            <a:ext cx="2963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2"/>
          <p:cNvSpPr/>
          <p:nvPr/>
        </p:nvSpPr>
        <p:spPr>
          <a:xfrm>
            <a:off x="95400" y="6281640"/>
            <a:ext cx="2963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3"/>
          <p:cNvSpPr/>
          <p:nvPr/>
        </p:nvSpPr>
        <p:spPr>
          <a:xfrm>
            <a:off x="95400" y="2492280"/>
            <a:ext cx="0" cy="3789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6"/>
          <p:cNvSpPr/>
          <p:nvPr/>
        </p:nvSpPr>
        <p:spPr>
          <a:xfrm>
            <a:off x="8988480" y="2492280"/>
            <a:ext cx="0" cy="3789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3"/>
          <p:cNvSpPr/>
          <p:nvPr/>
        </p:nvSpPr>
        <p:spPr>
          <a:xfrm>
            <a:off x="6024600" y="2492280"/>
            <a:ext cx="2963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24"/>
          <p:cNvSpPr/>
          <p:nvPr/>
        </p:nvSpPr>
        <p:spPr>
          <a:xfrm>
            <a:off x="3059280" y="2492280"/>
            <a:ext cx="2965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25"/>
          <p:cNvSpPr/>
          <p:nvPr/>
        </p:nvSpPr>
        <p:spPr>
          <a:xfrm>
            <a:off x="6024600" y="6281640"/>
            <a:ext cx="2963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26"/>
          <p:cNvSpPr/>
          <p:nvPr/>
        </p:nvSpPr>
        <p:spPr>
          <a:xfrm>
            <a:off x="3059280" y="6281640"/>
            <a:ext cx="2965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95400" y="1413000"/>
            <a:ext cx="3971520" cy="4868640"/>
            <a:chOff x="95400" y="1413000"/>
            <a:chExt cx="3971520" cy="4868640"/>
          </a:xfrm>
        </p:grpSpPr>
        <p:sp>
          <p:nvSpPr>
            <p:cNvPr id="239" name="Rectangle 8"/>
            <p:cNvSpPr/>
            <p:nvPr/>
          </p:nvSpPr>
          <p:spPr>
            <a:xfrm>
              <a:off x="95400" y="2571840"/>
              <a:ext cx="2963880" cy="37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70c0"/>
                  </a:solidFill>
                  <a:latin typeface="Verdana"/>
                </a:rPr>
                <a:t>Наличие и доступность компьютерной техники и мультиме дийных ресурсов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9"/>
            <p:cNvSpPr/>
            <p:nvPr/>
          </p:nvSpPr>
          <p:spPr>
            <a:xfrm flipH="1">
              <a:off x="1692000" y="1413000"/>
              <a:ext cx="2374920" cy="1008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33"/>
          <p:cNvGrpSpPr/>
          <p:nvPr/>
        </p:nvGrpSpPr>
        <p:grpSpPr>
          <a:xfrm>
            <a:off x="2857680" y="1413000"/>
            <a:ext cx="3107880" cy="4948200"/>
            <a:chOff x="2857680" y="1413000"/>
            <a:chExt cx="3107880" cy="4948200"/>
          </a:xfrm>
        </p:grpSpPr>
        <p:sp>
          <p:nvSpPr>
            <p:cNvPr id="242" name="Rectangle 9"/>
            <p:cNvSpPr/>
            <p:nvPr/>
          </p:nvSpPr>
          <p:spPr>
            <a:xfrm>
              <a:off x="2857680" y="2571840"/>
              <a:ext cx="3107880" cy="378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 lvl="1" marL="179280" algn="ctr">
                <a:lnSpc>
                  <a:spcPct val="11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1b587c"/>
                  </a:solidFill>
                  <a:latin typeface="Verdana"/>
                </a:rPr>
                <a:t>ИКТ – компетент н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1b587c"/>
                  </a:solidFill>
                  <a:latin typeface="Verdana"/>
                </a:rPr>
                <a:t>участников образователь ного процесс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30"/>
            <p:cNvSpPr/>
            <p:nvPr/>
          </p:nvSpPr>
          <p:spPr>
            <a:xfrm>
              <a:off x="4501440" y="1413000"/>
              <a:ext cx="0" cy="1079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34"/>
          <p:cNvGrpSpPr/>
          <p:nvPr/>
        </p:nvGrpSpPr>
        <p:grpSpPr>
          <a:xfrm>
            <a:off x="5219640" y="1413000"/>
            <a:ext cx="3768840" cy="4868640"/>
            <a:chOff x="5219640" y="1413000"/>
            <a:chExt cx="3768840" cy="4868640"/>
          </a:xfrm>
        </p:grpSpPr>
        <p:sp>
          <p:nvSpPr>
            <p:cNvPr id="245" name="Rectangle 10"/>
            <p:cNvSpPr/>
            <p:nvPr/>
          </p:nvSpPr>
          <p:spPr>
            <a:xfrm>
              <a:off x="6024600" y="2492280"/>
              <a:ext cx="2963880" cy="378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70c0"/>
                  </a:solidFill>
                  <a:latin typeface="Verdana"/>
                </a:rPr>
                <a:t>Видение преимущества мульти-медийных ресурсов перед другими средствами обуч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31"/>
            <p:cNvSpPr/>
            <p:nvPr/>
          </p:nvSpPr>
          <p:spPr>
            <a:xfrm>
              <a:off x="5219640" y="1413000"/>
              <a:ext cx="2232000" cy="1079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0" y="530280"/>
            <a:ext cx="8686800" cy="2255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9" name="Схема 3" descr=""/>
          <p:cNvPicPr/>
          <p:nvPr/>
        </p:nvPicPr>
        <p:blipFill>
          <a:blip r:embed="rId1"/>
          <a:stretch/>
        </p:blipFill>
        <p:spPr>
          <a:xfrm>
            <a:off x="695160" y="506520"/>
            <a:ext cx="7693200" cy="2498760"/>
          </a:xfrm>
          <a:prstGeom prst="rect">
            <a:avLst/>
          </a:prstGeom>
          <a:ln w="0">
            <a:noFill/>
          </a:ln>
        </p:spPr>
      </p:pic>
      <p:pic>
        <p:nvPicPr>
          <p:cNvPr id="250" name="Схема 4" descr=""/>
          <p:cNvPicPr/>
          <p:nvPr/>
        </p:nvPicPr>
        <p:blipFill>
          <a:blip r:embed="rId2"/>
          <a:stretch/>
        </p:blipFill>
        <p:spPr>
          <a:xfrm>
            <a:off x="695160" y="3279600"/>
            <a:ext cx="7832880" cy="287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500040"/>
            <a:ext cx="818352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Использование компьютерных технологий позволяет: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153280" cy="4162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b587c"/>
                </a:solidFill>
                <a:latin typeface="Verdana"/>
              </a:rPr>
              <a:t>Вовлекать учащихся в активную самостоятельную работу по расширению и углублению знани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b587c"/>
                </a:solidFill>
                <a:latin typeface="Verdana"/>
              </a:rPr>
              <a:t>Подталкивать учащихся к самостоятельному поиску дополнительного материала по теме, тем самым вызывать интерес к предмет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b587c"/>
                </a:solidFill>
                <a:latin typeface="Verdana"/>
              </a:rPr>
              <a:t>Расширять наглядные возможности обуч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b587c"/>
                </a:solidFill>
                <a:latin typeface="Verdana"/>
              </a:rPr>
              <a:t>Проводить быстрый и качественный контроль знаний и соответственно качественный анализ ЗУН учащихс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b587c"/>
                </a:solidFill>
                <a:latin typeface="Verdana"/>
              </a:rPr>
              <a:t>Проводить обучение в ситуации успех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500200" y="285480"/>
            <a:ext cx="614376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323232"/>
                </a:solidFill>
                <a:latin typeface="Verdana"/>
              </a:rPr>
              <a:t>                                     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800" spc="-1" strike="noStrike">
                <a:solidFill>
                  <a:srgbClr val="f07f09"/>
                </a:solidFill>
                <a:latin typeface="Verdana"/>
              </a:rPr>
              <a:t>Задачи, решаемые с помощью компьютерных технологий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71320" y="1643040"/>
            <a:ext cx="8429400" cy="4929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b587c"/>
                </a:solidFill>
                <a:latin typeface="Verdana"/>
                <a:ea typeface="Times New Roman"/>
              </a:rPr>
              <a:t>повысить интерес учащихся к изучаемому предмету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b587c"/>
                </a:solidFill>
                <a:latin typeface="Verdana"/>
                <a:ea typeface="Times New Roman"/>
              </a:rPr>
              <a:t>повысить самостоятельность и активность учащихся при изучении материал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b587c"/>
                </a:solidFill>
                <a:latin typeface="Verdana"/>
                <a:ea typeface="Times New Roman"/>
              </a:rPr>
              <a:t>воспитывать у учащихся чувство взаимопомощ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b587c"/>
                </a:solidFill>
                <a:latin typeface="Verdana"/>
                <a:ea typeface="Times New Roman"/>
              </a:rPr>
              <a:t>развивать у школьников такие мыслительные операции, как анализ, сравнение и сопоставление фактов и явлений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5" name="Рисунок 5" descr="164.wmf"/>
          <p:cNvPicPr/>
          <p:nvPr/>
        </p:nvPicPr>
        <p:blipFill>
          <a:blip r:embed="rId1"/>
          <a:stretch/>
        </p:blipFill>
        <p:spPr>
          <a:xfrm>
            <a:off x="500040" y="0"/>
            <a:ext cx="2428920" cy="214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00200" y="285480"/>
            <a:ext cx="614376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323232"/>
                </a:solidFill>
                <a:latin typeface="Verdana"/>
              </a:rPr>
              <a:t>                                     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800" spc="-1" strike="noStrike">
                <a:solidFill>
                  <a:srgbClr val="f07f09"/>
                </a:solidFill>
                <a:latin typeface="Verdana"/>
              </a:rPr>
              <a:t>Задачи, решаемые с помощью компьютерных технологий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571320" y="1857240"/>
            <a:ext cx="8429400" cy="485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b587c"/>
                </a:solidFill>
                <a:latin typeface="Verdana"/>
                <a:ea typeface="Times New Roman"/>
              </a:rPr>
              <a:t>научить учащихся аргументировать, находить и выделять главное, рассуждать, доказывать, находить рациональные пути выполнения задания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b587c"/>
                </a:solidFill>
                <a:latin typeface="Verdana"/>
                <a:ea typeface="Times New Roman"/>
              </a:rPr>
              <a:t>развивать коммуникативные умения (как в непосредственном общении, так и в сети Интернет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b587c"/>
                </a:solidFill>
                <a:latin typeface="Verdana"/>
                <a:ea typeface="Times New Roman"/>
              </a:rPr>
              <a:t>развивать межпредметные связи</a:t>
            </a:r>
            <a:r>
              <a:rPr b="0" lang="ru-RU" sz="2800" spc="-1" strike="noStrike">
                <a:solidFill>
                  <a:srgbClr val="1b587c"/>
                </a:solidFill>
                <a:latin typeface="Verdana"/>
                <a:ea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8" name="Рисунок 5" descr="164.wmf"/>
          <p:cNvPicPr/>
          <p:nvPr/>
        </p:nvPicPr>
        <p:blipFill>
          <a:blip r:embed="rId1"/>
          <a:stretch/>
        </p:blipFill>
        <p:spPr>
          <a:xfrm>
            <a:off x="500040" y="0"/>
            <a:ext cx="2428920" cy="214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4T21:08:29Z</dcterms:created>
  <dc:creator>Skill</dc:creator>
  <dc:description/>
  <dc:language>en-US</dc:language>
  <cp:lastModifiedBy>Nabster</cp:lastModifiedBy>
  <dcterms:modified xsi:type="dcterms:W3CDTF">2011-03-24T21:32:33Z</dcterms:modified>
  <cp:revision>152</cp:revision>
  <dc:subject/>
  <dc:title>Применение ИКТ в деятельности учителя математики </dc:title>
</cp:coreProperties>
</file>