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0.gif" ContentType="image/gif"/>
  <Override PartName="/ppt/media/image9.png" ContentType="image/png"/>
  <Override PartName="/ppt/media/image12.gif" ContentType="image/gif"/>
  <Override PartName="/ppt/media/image7.gif" ContentType="image/gif"/>
  <Override PartName="/ppt/media/image18.gif" ContentType="image/gif"/>
  <Override PartName="/ppt/media/image17.gif" ContentType="image/gif"/>
  <Override PartName="/ppt/media/image3.png" ContentType="image/png"/>
  <Override PartName="/ppt/media/image16.gif" ContentType="image/gif"/>
  <Override PartName="/ppt/media/image1.wmf" ContentType="image/x-wmf"/>
  <Override PartName="/ppt/media/image15.gif" ContentType="image/gif"/>
  <Override PartName="/ppt/media/image14.gif" ContentType="image/gif"/>
  <Override PartName="/ppt/media/image6.png" ContentType="image/png"/>
  <Override PartName="/ppt/media/image4.jpeg" ContentType="image/jpeg"/>
  <Override PartName="/ppt/media/image8.gif" ContentType="image/gif"/>
  <Override PartName="/ppt/media/image13.gif" ContentType="image/gif"/>
  <Override PartName="/ppt/media/image2.gif" ContentType="image/gi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AEE8-E4C1-4280-B0D5-572A289ECA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79B5-8D28-4924-9DFA-C35D9C6E56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4B03-2DB9-46BD-A0C4-949729F5B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A9B9-70C3-481D-8E97-8357175E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A036-FBFE-43CB-BA13-637FA7D9A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B092-BEA1-4713-8E1D-24C796BDF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CE55-946B-4AA8-B0DC-57368864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0AA3-5BA5-4978-BCAF-2BA60F2D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F42F-8C38-4477-8F78-1C25C000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24D0-489E-403D-9E77-E065F79B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89F4-5FF8-409B-A2A5-30C17232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4203-43CB-4BE4-8667-DBC69415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178D-261F-4D70-A8D9-D9943070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E0BC-FF0E-476A-A8C5-E505561A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CA40-A312-44CE-8E2C-EF5686607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" Target="slide2.xml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628280"/>
            <a:ext cx="8064360" cy="3313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Решение задач с помощью дробно-рациональных выражений</a:t>
            </a:r>
            <a:br>
              <a:rPr sz="4000"/>
            </a:br>
            <a:br>
              <a:rPr sz="40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8 класс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5300640"/>
            <a:ext cx="7056360" cy="10447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г.Черепов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G:\Из школы\картинки\34.wmf"/>
          <p:cNvPicPr/>
          <p:nvPr/>
        </p:nvPicPr>
        <p:blipFill>
          <a:blip r:embed="rId1"/>
          <a:stretch/>
        </p:blipFill>
        <p:spPr>
          <a:xfrm>
            <a:off x="6715080" y="214200"/>
            <a:ext cx="2040120" cy="1500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9640" y="160200"/>
            <a:ext cx="489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МОУ «СОШ №14» 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О т в е т 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I </a:t>
            </a: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вариант:        ,          (       ;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II </a:t>
            </a: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вариант:                (        ;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III </a:t>
            </a: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вариант:              (         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IV</a:t>
            </a: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вариант:      ,         (       ;       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276720" y="1700280"/>
                <a:ext cx="11523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572000" y="1700280"/>
                <a:ext cx="14400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156360" y="1773360"/>
                <a:ext cx="10796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7308720" y="1768320"/>
                <a:ext cx="86364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851280" y="2492280"/>
                <a:ext cx="12254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0,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940360" y="2492280"/>
                <a:ext cx="10796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≠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7308720" y="2478240"/>
                <a:ext cx="100836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780000" y="3573360"/>
                <a:ext cx="9363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724360" y="4013280"/>
                <a:ext cx="8636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≠</m:t>
                    </m:r>
                    <m:r>
                      <m:t xml:space="preserve">0,5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6659640" y="3933720"/>
                <a:ext cx="151128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492360" y="4653000"/>
                <a:ext cx="8636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500720" y="4716360"/>
                <a:ext cx="12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5867280" y="4653000"/>
                <a:ext cx="9352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7093080" y="4581360"/>
                <a:ext cx="100800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Скругленный прямоугольник 30"/>
          <p:cNvSpPr/>
          <p:nvPr/>
        </p:nvSpPr>
        <p:spPr>
          <a:xfrm>
            <a:off x="1015920" y="2500200"/>
            <a:ext cx="707256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 –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стояние,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 –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орость,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 -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мя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5"/>
          <p:cNvSpPr/>
          <p:nvPr/>
        </p:nvSpPr>
        <p:spPr>
          <a:xfrm>
            <a:off x="3532320" y="3262320"/>
            <a:ext cx="20714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Группа 53"/>
          <p:cNvGrpSpPr/>
          <p:nvPr/>
        </p:nvGrpSpPr>
        <p:grpSpPr>
          <a:xfrm>
            <a:off x="500040" y="2457360"/>
            <a:ext cx="8215200" cy="1384560"/>
            <a:chOff x="500040" y="2457360"/>
            <a:chExt cx="8215200" cy="1384560"/>
          </a:xfrm>
        </p:grpSpPr>
        <p:sp>
          <p:nvSpPr>
            <p:cNvPr id="168" name="Скругленный прямоугольник 51"/>
            <p:cNvSpPr/>
            <p:nvPr/>
          </p:nvSpPr>
          <p:spPr>
            <a:xfrm>
              <a:off x="500040" y="2484360"/>
              <a:ext cx="8215200" cy="1357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Прямоугольник 52"/>
            <p:cNvSpPr/>
            <p:nvPr/>
          </p:nvSpPr>
          <p:spPr>
            <a:xfrm>
              <a:off x="571320" y="2457360"/>
              <a:ext cx="81439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усть х ч – время, затраченное на дорогу от озера до деревни. Какое из уравнений соответствует условию задачи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0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171" name="Группа 46"/>
          <p:cNvGrpSpPr/>
          <p:nvPr/>
        </p:nvGrpSpPr>
        <p:grpSpPr>
          <a:xfrm>
            <a:off x="500040" y="173160"/>
            <a:ext cx="8215200" cy="2226960"/>
            <a:chOff x="500040" y="173160"/>
            <a:chExt cx="8215200" cy="2226960"/>
          </a:xfrm>
        </p:grpSpPr>
        <p:sp>
          <p:nvSpPr>
            <p:cNvPr id="172" name="Скругленный прямоугольник 44"/>
            <p:cNvSpPr/>
            <p:nvPr/>
          </p:nvSpPr>
          <p:spPr>
            <a:xfrm>
              <a:off x="500040" y="173160"/>
              <a:ext cx="8215200" cy="221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елосипедист от озера до деревни ехал со скоростью 15 км/ч, а обратно – со скоростью 10 км/ч. Сколько времени ушло у него на дорогу от озера до деревни, если на весь путь туда и обратно велосипедист затратил 1 ч? Велосипедист от озера до деревни ехал со скоростью 15 км/ч, а обратно – со скоростью 10 км/ч. Сколько времени ушло у него на дорогу от озера до деревни, если на весь путь туда и обратно велосипедист затратил 1 ч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Прямоугольник 45"/>
            <p:cNvSpPr/>
            <p:nvPr/>
          </p:nvSpPr>
          <p:spPr>
            <a:xfrm>
              <a:off x="785520" y="173160"/>
              <a:ext cx="77151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Велосипедист от озера до деревни ехал со скоростью 15 км/ч, а обратно – со скоростью 10 км/ч. Сколько времени ушло у него на дорогу от озера до деревни, если на весь путь туда и обратно велосипедист затратил 1 ч?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Прямоугольник 34"/>
          <p:cNvSpPr/>
          <p:nvPr/>
        </p:nvSpPr>
        <p:spPr>
          <a:xfrm>
            <a:off x="684360" y="0"/>
            <a:ext cx="7858080" cy="5000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33"/>
          <p:cNvSpPr/>
          <p:nvPr/>
        </p:nvSpPr>
        <p:spPr>
          <a:xfrm>
            <a:off x="714240" y="649440"/>
            <a:ext cx="3143520" cy="5000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29"/>
          <p:cNvSpPr/>
          <p:nvPr/>
        </p:nvSpPr>
        <p:spPr>
          <a:xfrm>
            <a:off x="3857760" y="649440"/>
            <a:ext cx="4714920" cy="5000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22"/>
          <p:cNvSpPr/>
          <p:nvPr/>
        </p:nvSpPr>
        <p:spPr>
          <a:xfrm>
            <a:off x="714240" y="1150920"/>
            <a:ext cx="1000440" cy="4208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28"/>
          <p:cNvSpPr/>
          <p:nvPr/>
        </p:nvSpPr>
        <p:spPr>
          <a:xfrm>
            <a:off x="714240" y="1928880"/>
            <a:ext cx="5572440" cy="4046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37"/>
          <p:cNvSpPr/>
          <p:nvPr/>
        </p:nvSpPr>
        <p:spPr>
          <a:xfrm>
            <a:off x="3929040" y="1576440"/>
            <a:ext cx="4643640" cy="35712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58800" y="3960720"/>
          <a:ext cx="7827840" cy="2538360"/>
        </p:xfrm>
        <a:graphic>
          <a:graphicData uri="http://schemas.openxmlformats.org/drawingml/2006/table">
            <a:tbl>
              <a:tblPr/>
              <a:tblGrid>
                <a:gridCol w="1984320"/>
                <a:gridCol w="1785960"/>
                <a:gridCol w="1770120"/>
                <a:gridCol w="2287440"/>
              </a:tblGrid>
              <a:tr h="79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кор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Рассто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От оз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От дерев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Скругленный прямоугольник 57"/>
          <p:cNvSpPr/>
          <p:nvPr/>
        </p:nvSpPr>
        <p:spPr>
          <a:xfrm>
            <a:off x="2786040" y="4890960"/>
            <a:ext cx="150012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кругленный прямоугольник 58"/>
          <p:cNvSpPr/>
          <p:nvPr/>
        </p:nvSpPr>
        <p:spPr>
          <a:xfrm>
            <a:off x="2786040" y="5676840"/>
            <a:ext cx="150012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59"/>
          <p:cNvSpPr/>
          <p:nvPr/>
        </p:nvSpPr>
        <p:spPr>
          <a:xfrm>
            <a:off x="4587840" y="4890960"/>
            <a:ext cx="144000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Скругленный прямоугольник 60"/>
          <p:cNvSpPr/>
          <p:nvPr/>
        </p:nvSpPr>
        <p:spPr>
          <a:xfrm>
            <a:off x="4592520" y="5659560"/>
            <a:ext cx="144000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Скругленный прямоугольник 61"/>
          <p:cNvSpPr/>
          <p:nvPr/>
        </p:nvSpPr>
        <p:spPr>
          <a:xfrm>
            <a:off x="6310440" y="4890960"/>
            <a:ext cx="20714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Скругленный прямоугольник 62"/>
          <p:cNvSpPr/>
          <p:nvPr/>
        </p:nvSpPr>
        <p:spPr>
          <a:xfrm>
            <a:off x="6310440" y="5676840"/>
            <a:ext cx="205560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(1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" descr="F:\2.jpg"/>
          <p:cNvPicPr/>
          <p:nvPr/>
        </p:nvPicPr>
        <p:blipFill>
          <a:blip r:embed="rId1"/>
          <a:stretch/>
        </p:blipFill>
        <p:spPr>
          <a:xfrm>
            <a:off x="3902040" y="6334200"/>
            <a:ext cx="1316160" cy="5428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C:\Users\Надежда\Desktop\КАРТИНКИ\рисунок Стрелка влево\102.gif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01040" y="628668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189" name="Управляющая кнопка: сведения 27"/>
          <p:cNvSpPr/>
          <p:nvPr/>
        </p:nvSpPr>
        <p:spPr>
          <a:xfrm>
            <a:off x="8501040" y="4143240"/>
            <a:ext cx="642960" cy="85752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857520"/>
              <a:gd name="textAreaBottom" fmla="*/ 816120 h 857520"/>
            </a:gdLst>
            <a:ahLst/>
            <a:rect l="textAreaLeft" t="textAreaTop" r="textAreaRight" b="textAreaBottom"/>
            <a:pathLst>
              <a:path w="21600" h="28804">
                <a:moveTo>
                  <a:pt x="0" y="0"/>
                </a:moveTo>
                <a:lnTo>
                  <a:pt x="21600" y="0"/>
                </a:lnTo>
                <a:lnTo>
                  <a:pt x="21600" y="28804"/>
                </a:lnTo>
                <a:lnTo>
                  <a:pt x="0" y="28804"/>
                </a:lnTo>
                <a:close/>
              </a:path>
              <a:path fill="lightenLess" w="21600" h="28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4">
                <a:moveTo>
                  <a:pt x="21600" y="0"/>
                </a:moveTo>
                <a:lnTo>
                  <a:pt x="21600" y="28804"/>
                </a:lnTo>
                <a:lnTo>
                  <a:pt x="20200" y="27404"/>
                </a:lnTo>
                <a:lnTo>
                  <a:pt x="20200" y="1400"/>
                </a:lnTo>
                <a:close/>
              </a:path>
              <a:path fill="darkenLess" w="21600" h="28804">
                <a:moveTo>
                  <a:pt x="21600" y="28804"/>
                </a:moveTo>
                <a:lnTo>
                  <a:pt x="0" y="28804"/>
                </a:lnTo>
                <a:lnTo>
                  <a:pt x="1400" y="27404"/>
                </a:lnTo>
                <a:lnTo>
                  <a:pt x="20200" y="27404"/>
                </a:lnTo>
                <a:close/>
              </a:path>
              <a:path fill="lighten" w="21600" h="28804">
                <a:moveTo>
                  <a:pt x="0" y="28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4"/>
                </a:lnTo>
                <a:close/>
              </a:path>
              <a:path fill="darken" w="21600" h="28804">
                <a:moveTo>
                  <a:pt x="10800" y="7396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8804">
                <a:moveTo>
                  <a:pt x="10800" y="7770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8804">
                <a:moveTo>
                  <a:pt x="8224" y="11826"/>
                </a:moveTo>
                <a:lnTo>
                  <a:pt x="12088" y="11826"/>
                </a:lnTo>
                <a:lnTo>
                  <a:pt x="12088" y="18823"/>
                </a:lnTo>
                <a:lnTo>
                  <a:pt x="13376" y="18823"/>
                </a:lnTo>
                <a:lnTo>
                  <a:pt x="13376" y="19746"/>
                </a:lnTo>
                <a:lnTo>
                  <a:pt x="8224" y="19746"/>
                </a:lnTo>
                <a:lnTo>
                  <a:pt x="8224" y="18823"/>
                </a:lnTo>
                <a:lnTo>
                  <a:pt x="9512" y="18823"/>
                </a:lnTo>
                <a:lnTo>
                  <a:pt x="9512" y="12731"/>
                </a:lnTo>
                <a:lnTo>
                  <a:pt x="8224" y="12731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авая фигурная скобка 38"/>
          <p:cNvSpPr/>
          <p:nvPr/>
        </p:nvSpPr>
        <p:spPr>
          <a:xfrm>
            <a:off x="5929200" y="4863960"/>
            <a:ext cx="360360" cy="1357560"/>
          </a:xfrm>
          <a:custGeom>
            <a:avLst/>
            <a:gdLst>
              <a:gd name="textAreaLeft" fmla="*/ 0 w 360360"/>
              <a:gd name="textAreaRight" fmla="*/ 129960 w 360360"/>
              <a:gd name="textAreaTop" fmla="*/ 9360 h 1357560"/>
              <a:gd name="textAreaBottom" fmla="*/ 1348200 h 135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39"/>
                  <a:pt x="10800" y="478"/>
                </a:cubicBezTo>
                <a:lnTo>
                  <a:pt x="10800" y="10322"/>
                </a:lnTo>
                <a:cubicBezTo>
                  <a:pt x="10800" y="10561"/>
                  <a:pt x="16200" y="10800"/>
                  <a:pt x="21600" y="10800"/>
                </a:cubicBezTo>
                <a:cubicBezTo>
                  <a:pt x="16200" y="10800"/>
                  <a:pt x="10800" y="11039"/>
                  <a:pt x="10800" y="11278"/>
                </a:cubicBezTo>
                <a:lnTo>
                  <a:pt x="10800" y="21122"/>
                </a:lnTo>
                <a:cubicBezTo>
                  <a:pt x="10800" y="2136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Скругленный прямоугольник 39"/>
          <p:cNvSpPr/>
          <p:nvPr/>
        </p:nvSpPr>
        <p:spPr>
          <a:xfrm>
            <a:off x="6357960" y="5230800"/>
            <a:ext cx="81756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Прямая со стрелкой 31"/>
          <p:cNvCxnSpPr/>
          <p:nvPr/>
        </p:nvCxnSpPr>
        <p:spPr>
          <a:xfrm>
            <a:off x="2784960" y="1000080"/>
            <a:ext cx="857880" cy="4144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93" name="Прямая со стрелкой 36"/>
          <p:cNvCxnSpPr/>
          <p:nvPr/>
        </p:nvCxnSpPr>
        <p:spPr>
          <a:xfrm flipH="1">
            <a:off x="3928680" y="1000080"/>
            <a:ext cx="4286880" cy="4929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94" name="Прямая со стрелкой 40"/>
          <p:cNvCxnSpPr/>
          <p:nvPr/>
        </p:nvCxnSpPr>
        <p:spPr>
          <a:xfrm>
            <a:off x="5857920" y="2285640"/>
            <a:ext cx="929520" cy="3072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95" name="Прямая со стрелкой 26"/>
          <p:cNvCxnSpPr/>
          <p:nvPr/>
        </p:nvCxnSpPr>
        <p:spPr>
          <a:xfrm>
            <a:off x="1856880" y="2857680"/>
            <a:ext cx="3287160" cy="2286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p:timing>
    <p:tnLst>
      <p:par>
        <p:cTn id="119" dur="indefinite" restart="never" nodeType="tmRoot">
          <p:childTnLst>
            <p:seq>
              <p:cTn id="120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Группа 28"/>
          <p:cNvGrpSpPr/>
          <p:nvPr/>
        </p:nvGrpSpPr>
        <p:grpSpPr>
          <a:xfrm>
            <a:off x="1616040" y="2786040"/>
            <a:ext cx="5627880" cy="571680"/>
            <a:chOff x="1616040" y="2786040"/>
            <a:chExt cx="5627880" cy="571680"/>
          </a:xfrm>
        </p:grpSpPr>
        <p:sp>
          <p:nvSpPr>
            <p:cNvPr id="197" name="Скругленный прямоугольник 25"/>
            <p:cNvSpPr/>
            <p:nvPr/>
          </p:nvSpPr>
          <p:spPr>
            <a:xfrm>
              <a:off x="1616040" y="2786040"/>
              <a:ext cx="2071800" cy="571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к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Скругленный прямоугольник 26"/>
            <p:cNvSpPr/>
            <p:nvPr/>
          </p:nvSpPr>
          <p:spPr>
            <a:xfrm>
              <a:off x="5187960" y="2786040"/>
              <a:ext cx="2055960" cy="571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(1 –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к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Скругленный прямоугольник 27"/>
            <p:cNvSpPr/>
            <p:nvPr/>
          </p:nvSpPr>
          <p:spPr>
            <a:xfrm>
              <a:off x="3800520" y="2786040"/>
              <a:ext cx="1266840" cy="571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Скругленный прямоугольник 23"/>
          <p:cNvSpPr/>
          <p:nvPr/>
        </p:nvSpPr>
        <p:spPr>
          <a:xfrm>
            <a:off x="785880" y="2714760"/>
            <a:ext cx="757224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стояние одно и то же, т.е одинаков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571680" y="214200"/>
          <a:ext cx="7929360" cy="2390760"/>
        </p:xfrm>
        <a:graphic>
          <a:graphicData uri="http://schemas.openxmlformats.org/drawingml/2006/table">
            <a:tbl>
              <a:tblPr/>
              <a:tblGrid>
                <a:gridCol w="2111040"/>
                <a:gridCol w="1857600"/>
                <a:gridCol w="1657440"/>
                <a:gridCol w="2303280"/>
              </a:tblGrid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кор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Рассто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От оз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От дерев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Скругленный прямоугольник 13"/>
          <p:cNvSpPr/>
          <p:nvPr/>
        </p:nvSpPr>
        <p:spPr>
          <a:xfrm>
            <a:off x="2873520" y="1143000"/>
            <a:ext cx="150012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Скругленный прямоугольник 14"/>
          <p:cNvSpPr/>
          <p:nvPr/>
        </p:nvSpPr>
        <p:spPr>
          <a:xfrm>
            <a:off x="2873520" y="1928880"/>
            <a:ext cx="150012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Скругленный прямоугольник 15"/>
          <p:cNvSpPr/>
          <p:nvPr/>
        </p:nvSpPr>
        <p:spPr>
          <a:xfrm>
            <a:off x="4659480" y="1143000"/>
            <a:ext cx="14396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Скругленный прямоугольник 16"/>
          <p:cNvSpPr/>
          <p:nvPr/>
        </p:nvSpPr>
        <p:spPr>
          <a:xfrm>
            <a:off x="4659480" y="1928880"/>
            <a:ext cx="14396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Скругленный прямоугольник 17"/>
          <p:cNvSpPr/>
          <p:nvPr/>
        </p:nvSpPr>
        <p:spPr>
          <a:xfrm>
            <a:off x="6316560" y="1143000"/>
            <a:ext cx="207180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Скругленный прямоугольник 18"/>
          <p:cNvSpPr/>
          <p:nvPr/>
        </p:nvSpPr>
        <p:spPr>
          <a:xfrm>
            <a:off x="6332400" y="1928880"/>
            <a:ext cx="205596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(1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C:\Users\Надежда\Desktop\КАРТИНКИ\Рисунок Будильник\clip_image002.gif"/>
          <p:cNvPicPr/>
          <p:nvPr/>
        </p:nvPicPr>
        <p:blipFill>
          <a:blip r:embed="rId1"/>
          <a:stretch/>
        </p:blipFill>
        <p:spPr>
          <a:xfrm>
            <a:off x="7477200" y="3357720"/>
            <a:ext cx="809640" cy="1104840"/>
          </a:xfrm>
          <a:prstGeom prst="rect">
            <a:avLst/>
          </a:prstGeom>
          <a:ln w="0">
            <a:noFill/>
          </a:ln>
        </p:spPr>
      </p:pic>
      <p:sp>
        <p:nvSpPr>
          <p:cNvPr id="209" name="Скругленный прямоугольник 43"/>
          <p:cNvSpPr/>
          <p:nvPr/>
        </p:nvSpPr>
        <p:spPr>
          <a:xfrm>
            <a:off x="5302080" y="3532320"/>
            <a:ext cx="205596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Скругленный прямоугольник 44"/>
          <p:cNvSpPr/>
          <p:nvPr/>
        </p:nvSpPr>
        <p:spPr>
          <a:xfrm>
            <a:off x="1500120" y="3540240"/>
            <a:ext cx="357192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0(1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Скругленный прямоугольник 45"/>
          <p:cNvSpPr/>
          <p:nvPr/>
        </p:nvSpPr>
        <p:spPr>
          <a:xfrm>
            <a:off x="5286240" y="4367160"/>
            <a:ext cx="2055960" cy="72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Группа 46"/>
          <p:cNvGrpSpPr/>
          <p:nvPr/>
        </p:nvGrpSpPr>
        <p:grpSpPr>
          <a:xfrm>
            <a:off x="1500120" y="4303800"/>
            <a:ext cx="3571920" cy="856440"/>
            <a:chOff x="1500120" y="4303800"/>
            <a:chExt cx="3571920" cy="856440"/>
          </a:xfrm>
        </p:grpSpPr>
        <p:sp>
          <p:nvSpPr>
            <p:cNvPr id="213" name="Скругленный прямоугольник 47"/>
            <p:cNvSpPr/>
            <p:nvPr/>
          </p:nvSpPr>
          <p:spPr>
            <a:xfrm>
              <a:off x="1500120" y="4378320"/>
              <a:ext cx="3571920" cy="714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Б.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Группа 53"/>
            <p:cNvGrpSpPr/>
            <p:nvPr/>
          </p:nvGrpSpPr>
          <p:grpSpPr>
            <a:xfrm>
              <a:off x="2428560" y="4303800"/>
              <a:ext cx="2373840" cy="856440"/>
              <a:chOff x="2428560" y="4303800"/>
              <a:chExt cx="2373840" cy="856440"/>
            </a:xfrm>
          </p:grpSpPr>
          <p:sp>
            <p:nvSpPr>
              <p:cNvPr id="215" name="Rectangle 11"/>
              <p:cNvSpPr/>
              <p:nvPr/>
            </p:nvSpPr>
            <p:spPr>
              <a:xfrm>
                <a:off x="4623480" y="4518720"/>
                <a:ext cx="1789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19"/>
              <p:cNvSpPr/>
              <p:nvPr/>
            </p:nvSpPr>
            <p:spPr>
              <a:xfrm>
                <a:off x="4277160" y="4488120"/>
                <a:ext cx="2826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7" name="Группа 110"/>
              <p:cNvGrpSpPr/>
              <p:nvPr/>
            </p:nvGrpSpPr>
            <p:grpSpPr>
              <a:xfrm>
                <a:off x="2428560" y="4303800"/>
                <a:ext cx="447120" cy="856440"/>
                <a:chOff x="2428560" y="4303800"/>
                <a:chExt cx="447120" cy="856440"/>
              </a:xfrm>
            </p:grpSpPr>
            <p:sp>
              <p:nvSpPr>
                <p:cNvPr id="218" name="Rectangle 16"/>
                <p:cNvSpPr/>
                <p:nvPr/>
              </p:nvSpPr>
              <p:spPr>
                <a:xfrm>
                  <a:off x="2571480" y="4733280"/>
                  <a:ext cx="1576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х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Прямая соединительная линия 58"/>
                <p:cNvSpPr/>
                <p:nvPr/>
              </p:nvSpPr>
              <p:spPr>
                <a:xfrm>
                  <a:off x="2428560" y="4732560"/>
                  <a:ext cx="43164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Rectangle 21"/>
                <p:cNvSpPr/>
                <p:nvPr/>
              </p:nvSpPr>
              <p:spPr>
                <a:xfrm>
                  <a:off x="2429640" y="4303800"/>
                  <a:ext cx="44604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1" name="Rectangle 18"/>
              <p:cNvSpPr/>
              <p:nvPr/>
            </p:nvSpPr>
            <p:spPr>
              <a:xfrm>
                <a:off x="3000600" y="4493160"/>
                <a:ext cx="2005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2" name="Группа 112"/>
              <p:cNvGrpSpPr/>
              <p:nvPr/>
            </p:nvGrpSpPr>
            <p:grpSpPr>
              <a:xfrm>
                <a:off x="3348360" y="4317840"/>
                <a:ext cx="866160" cy="842040"/>
                <a:chOff x="3348360" y="4317840"/>
                <a:chExt cx="866160" cy="842040"/>
              </a:xfrm>
            </p:grpSpPr>
            <p:sp>
              <p:nvSpPr>
                <p:cNvPr id="223" name="Rectangle 14"/>
                <p:cNvSpPr/>
                <p:nvPr/>
              </p:nvSpPr>
              <p:spPr>
                <a:xfrm>
                  <a:off x="3383640" y="4732920"/>
                  <a:ext cx="6912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1 – 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х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Прямая соединительная линия 55"/>
                <p:cNvSpPr/>
                <p:nvPr/>
              </p:nvSpPr>
              <p:spPr>
                <a:xfrm>
                  <a:off x="3348360" y="4732200"/>
                  <a:ext cx="8661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Rectangle 13"/>
                <p:cNvSpPr/>
                <p:nvPr/>
              </p:nvSpPr>
              <p:spPr>
                <a:xfrm>
                  <a:off x="3581280" y="4317840"/>
                  <a:ext cx="35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6" name="Скругленный прямоугольник 60"/>
          <p:cNvSpPr/>
          <p:nvPr/>
        </p:nvSpPr>
        <p:spPr>
          <a:xfrm>
            <a:off x="5286240" y="5199120"/>
            <a:ext cx="2055960" cy="73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Скругленный прямоугольник 61"/>
          <p:cNvSpPr/>
          <p:nvPr/>
        </p:nvSpPr>
        <p:spPr>
          <a:xfrm>
            <a:off x="1500120" y="5197320"/>
            <a:ext cx="357192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(1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Скругленный прямоугольник 62"/>
          <p:cNvSpPr/>
          <p:nvPr/>
        </p:nvSpPr>
        <p:spPr>
          <a:xfrm>
            <a:off x="5286240" y="6016680"/>
            <a:ext cx="2055960" cy="73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кругленный прямоугольник 63"/>
          <p:cNvSpPr/>
          <p:nvPr/>
        </p:nvSpPr>
        <p:spPr>
          <a:xfrm>
            <a:off x="1500120" y="6029280"/>
            <a:ext cx="357192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(1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Группа 68"/>
          <p:cNvGrpSpPr/>
          <p:nvPr/>
        </p:nvGrpSpPr>
        <p:grpSpPr>
          <a:xfrm>
            <a:off x="5286240" y="4373280"/>
            <a:ext cx="2071800" cy="730440"/>
            <a:chOff x="5286240" y="4373280"/>
            <a:chExt cx="2071800" cy="730440"/>
          </a:xfrm>
        </p:grpSpPr>
        <p:sp>
          <p:nvSpPr>
            <p:cNvPr id="231" name="Скругленный прямоугольник 36"/>
            <p:cNvSpPr/>
            <p:nvPr/>
          </p:nvSpPr>
          <p:spPr>
            <a:xfrm>
              <a:off x="5286240" y="4373280"/>
              <a:ext cx="2071800" cy="730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Группа 67"/>
            <p:cNvGrpSpPr/>
            <p:nvPr/>
          </p:nvGrpSpPr>
          <p:grpSpPr>
            <a:xfrm>
              <a:off x="5785920" y="4373640"/>
              <a:ext cx="1172880" cy="670680"/>
              <a:chOff x="5785920" y="4373640"/>
              <a:chExt cx="1172880" cy="670680"/>
            </a:xfrm>
          </p:grpSpPr>
          <p:sp>
            <p:nvSpPr>
              <p:cNvPr id="233" name="Rectangle 16"/>
              <p:cNvSpPr/>
              <p:nvPr/>
            </p:nvSpPr>
            <p:spPr>
              <a:xfrm>
                <a:off x="5947560" y="4373640"/>
                <a:ext cx="101124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v </a:t>
                </a:r>
                <a:r>
                  <a:rPr b="1" lang="ru-RU" sz="4400" spc="-1" strike="noStrike">
                    <a:solidFill>
                      <a:srgbClr val="ff0000"/>
                    </a:solidFill>
                    <a:latin typeface="Times New Roman"/>
                  </a:rPr>
                  <a:t>: </a:t>
                </a:r>
                <a:r>
                  <a:rPr b="0" i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t</a:t>
                </a:r>
                <a:r>
                  <a:rPr b="0" i="1" lang="ru-RU" sz="4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Прямая соединительная линия 65"/>
              <p:cNvSpPr/>
              <p:nvPr/>
            </p:nvSpPr>
            <p:spPr>
              <a:xfrm>
                <a:off x="5785920" y="4471560"/>
                <a:ext cx="1100880" cy="514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Прямая соединительная линия 66"/>
              <p:cNvSpPr/>
              <p:nvPr/>
            </p:nvSpPr>
            <p:spPr>
              <a:xfrm flipH="1">
                <a:off x="5843160" y="4512960"/>
                <a:ext cx="1108800" cy="493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6" name="Группа 82"/>
          <p:cNvGrpSpPr/>
          <p:nvPr/>
        </p:nvGrpSpPr>
        <p:grpSpPr>
          <a:xfrm>
            <a:off x="5286240" y="5121360"/>
            <a:ext cx="2071800" cy="817200"/>
            <a:chOff x="5286240" y="5121360"/>
            <a:chExt cx="2071800" cy="817200"/>
          </a:xfrm>
        </p:grpSpPr>
        <p:sp>
          <p:nvSpPr>
            <p:cNvPr id="237" name="Скругленный прямоугольник 70"/>
            <p:cNvSpPr/>
            <p:nvPr/>
          </p:nvSpPr>
          <p:spPr>
            <a:xfrm>
              <a:off x="5286240" y="5208480"/>
              <a:ext cx="2071800" cy="730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Группа 103"/>
            <p:cNvGrpSpPr/>
            <p:nvPr/>
          </p:nvGrpSpPr>
          <p:grpSpPr>
            <a:xfrm>
              <a:off x="5402160" y="5121360"/>
              <a:ext cx="1828080" cy="801720"/>
              <a:chOff x="5402160" y="5121360"/>
              <a:chExt cx="1828080" cy="801720"/>
            </a:xfrm>
          </p:grpSpPr>
          <p:grpSp>
            <p:nvGrpSpPr>
              <p:cNvPr id="239" name="Группа 71"/>
              <p:cNvGrpSpPr/>
              <p:nvPr/>
            </p:nvGrpSpPr>
            <p:grpSpPr>
              <a:xfrm>
                <a:off x="5715360" y="5371200"/>
                <a:ext cx="1180800" cy="492480"/>
                <a:chOff x="5715360" y="5371200"/>
                <a:chExt cx="1180800" cy="492480"/>
              </a:xfrm>
            </p:grpSpPr>
            <p:sp>
              <p:nvSpPr>
                <p:cNvPr id="240" name="Прямая соединительная линия 73"/>
                <p:cNvSpPr/>
                <p:nvPr/>
              </p:nvSpPr>
              <p:spPr>
                <a:xfrm>
                  <a:off x="5741640" y="5401080"/>
                  <a:ext cx="1154520" cy="3765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Прямая соединительная линия 74"/>
                <p:cNvSpPr/>
                <p:nvPr/>
              </p:nvSpPr>
              <p:spPr>
                <a:xfrm flipH="1">
                  <a:off x="5715360" y="5371200"/>
                  <a:ext cx="1110240" cy="4924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Группа 64"/>
              <p:cNvGrpSpPr/>
              <p:nvPr/>
            </p:nvGrpSpPr>
            <p:grpSpPr>
              <a:xfrm>
                <a:off x="5402160" y="5121360"/>
                <a:ext cx="1828080" cy="801720"/>
                <a:chOff x="5402160" y="5121360"/>
                <a:chExt cx="1828080" cy="801720"/>
              </a:xfrm>
            </p:grpSpPr>
            <p:sp>
              <p:nvSpPr>
                <p:cNvPr id="243" name="Rectangle 82"/>
                <p:cNvSpPr/>
                <p:nvPr/>
              </p:nvSpPr>
              <p:spPr>
                <a:xfrm>
                  <a:off x="6435360" y="552600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83"/>
                <p:cNvSpPr/>
                <p:nvPr/>
              </p:nvSpPr>
              <p:spPr>
                <a:xfrm>
                  <a:off x="5581080" y="552600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Rectangle 88"/>
                <p:cNvSpPr/>
                <p:nvPr/>
              </p:nvSpPr>
              <p:spPr>
                <a:xfrm>
                  <a:off x="7074000" y="5184720"/>
                  <a:ext cx="1562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t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89"/>
                <p:cNvSpPr/>
                <p:nvPr/>
              </p:nvSpPr>
              <p:spPr>
                <a:xfrm>
                  <a:off x="6221160" y="5184720"/>
                  <a:ext cx="2185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s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Rectangle 90"/>
                <p:cNvSpPr/>
                <p:nvPr/>
              </p:nvSpPr>
              <p:spPr>
                <a:xfrm>
                  <a:off x="5402160" y="5184720"/>
                  <a:ext cx="2185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s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Rectangle 94"/>
                <p:cNvSpPr/>
                <p:nvPr/>
              </p:nvSpPr>
              <p:spPr>
                <a:xfrm>
                  <a:off x="6710400" y="5252400"/>
                  <a:ext cx="2797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Calibri"/>
                    </a:rPr>
                    <a:t>=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95"/>
                <p:cNvSpPr/>
                <p:nvPr/>
              </p:nvSpPr>
              <p:spPr>
                <a:xfrm>
                  <a:off x="5823360" y="5121360"/>
                  <a:ext cx="32688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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50" name="Группа 102"/>
          <p:cNvGrpSpPr/>
          <p:nvPr/>
        </p:nvGrpSpPr>
        <p:grpSpPr>
          <a:xfrm>
            <a:off x="5214960" y="5954040"/>
            <a:ext cx="2500200" cy="825840"/>
            <a:chOff x="5214960" y="5954040"/>
            <a:chExt cx="2500200" cy="825840"/>
          </a:xfrm>
        </p:grpSpPr>
        <p:grpSp>
          <p:nvGrpSpPr>
            <p:cNvPr id="251" name="Группа 99"/>
            <p:cNvGrpSpPr/>
            <p:nvPr/>
          </p:nvGrpSpPr>
          <p:grpSpPr>
            <a:xfrm>
              <a:off x="5214960" y="5954040"/>
              <a:ext cx="2500200" cy="825840"/>
              <a:chOff x="5214960" y="5954040"/>
              <a:chExt cx="2500200" cy="825840"/>
            </a:xfrm>
          </p:grpSpPr>
          <p:sp>
            <p:nvSpPr>
              <p:cNvPr id="252" name="Скругленный прямоугольник 84"/>
              <p:cNvSpPr/>
              <p:nvPr/>
            </p:nvSpPr>
            <p:spPr>
              <a:xfrm>
                <a:off x="5214960" y="6026040"/>
                <a:ext cx="2500200" cy="728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3" name="Группа 85"/>
              <p:cNvGrpSpPr/>
              <p:nvPr/>
            </p:nvGrpSpPr>
            <p:grpSpPr>
              <a:xfrm>
                <a:off x="5350680" y="5954040"/>
                <a:ext cx="2344680" cy="825840"/>
                <a:chOff x="5350680" y="5954040"/>
                <a:chExt cx="2344680" cy="825840"/>
              </a:xfrm>
            </p:grpSpPr>
            <p:sp>
              <p:nvSpPr>
                <p:cNvPr id="254" name="Rectangle 78"/>
                <p:cNvSpPr/>
                <p:nvPr/>
              </p:nvSpPr>
              <p:spPr>
                <a:xfrm>
                  <a:off x="7536240" y="635868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79"/>
                <p:cNvSpPr/>
                <p:nvPr/>
              </p:nvSpPr>
              <p:spPr>
                <a:xfrm>
                  <a:off x="6995160" y="635868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80"/>
                <p:cNvSpPr/>
                <p:nvPr/>
              </p:nvSpPr>
              <p:spPr>
                <a:xfrm>
                  <a:off x="6107400" y="635868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Rectangle 81"/>
                <p:cNvSpPr/>
                <p:nvPr/>
              </p:nvSpPr>
              <p:spPr>
                <a:xfrm>
                  <a:off x="5553360" y="635868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84"/>
                <p:cNvSpPr/>
                <p:nvPr/>
              </p:nvSpPr>
              <p:spPr>
                <a:xfrm>
                  <a:off x="7408080" y="6017400"/>
                  <a:ext cx="1562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t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85"/>
                <p:cNvSpPr/>
                <p:nvPr/>
              </p:nvSpPr>
              <p:spPr>
                <a:xfrm>
                  <a:off x="6753960" y="6017400"/>
                  <a:ext cx="249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v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86"/>
                <p:cNvSpPr/>
                <p:nvPr/>
              </p:nvSpPr>
              <p:spPr>
                <a:xfrm>
                  <a:off x="5942880" y="6017400"/>
                  <a:ext cx="1562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t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Rectangle 87"/>
                <p:cNvSpPr/>
                <p:nvPr/>
              </p:nvSpPr>
              <p:spPr>
                <a:xfrm>
                  <a:off x="5350680" y="6017400"/>
                  <a:ext cx="249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v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Rectangle 91"/>
                <p:cNvSpPr/>
                <p:nvPr/>
              </p:nvSpPr>
              <p:spPr>
                <a:xfrm>
                  <a:off x="7052400" y="5954040"/>
                  <a:ext cx="3236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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92"/>
                <p:cNvSpPr/>
                <p:nvPr/>
              </p:nvSpPr>
              <p:spPr>
                <a:xfrm>
                  <a:off x="6382440" y="6109200"/>
                  <a:ext cx="2797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Calibri"/>
                    </a:rPr>
                    <a:t>=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93"/>
                <p:cNvSpPr/>
                <p:nvPr/>
              </p:nvSpPr>
              <p:spPr>
                <a:xfrm>
                  <a:off x="5623200" y="5954040"/>
                  <a:ext cx="3236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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5" name="Прямая соединительная линия 100"/>
            <p:cNvSpPr/>
            <p:nvPr/>
          </p:nvSpPr>
          <p:spPr>
            <a:xfrm flipH="1">
              <a:off x="5960520" y="6132240"/>
              <a:ext cx="1110960" cy="491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Прямая соединительная линия 101"/>
            <p:cNvSpPr/>
            <p:nvPr/>
          </p:nvSpPr>
          <p:spPr>
            <a:xfrm>
              <a:off x="5949000" y="6132960"/>
              <a:ext cx="1133280" cy="436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Группа 97"/>
          <p:cNvGrpSpPr/>
          <p:nvPr/>
        </p:nvGrpSpPr>
        <p:grpSpPr>
          <a:xfrm>
            <a:off x="7829640" y="5357880"/>
            <a:ext cx="1243080" cy="1285920"/>
            <a:chOff x="7829640" y="5357880"/>
            <a:chExt cx="1243080" cy="1285920"/>
          </a:xfrm>
        </p:grpSpPr>
        <p:pic>
          <p:nvPicPr>
            <p:cNvPr id="268" name="Picture 3" descr="C:\Users\Надежда\Videos\Downloads\Pictures\Организатор клипов (Microsoft)\j0441443.png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72640" y="5357880"/>
              <a:ext cx="79200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Скругленный прямоугольник 104">
              <a:hlinkClick r:id="" action="ppaction://hlinkshowjump?jump=endshow"/>
            </p:cNvPr>
            <p:cNvSpPr/>
            <p:nvPr/>
          </p:nvSpPr>
          <p:spPr>
            <a:xfrm>
              <a:off x="7829640" y="6212160"/>
              <a:ext cx="1243080" cy="43164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66"/>
                  </a:solidFill>
                  <a:latin typeface="Times New Roman"/>
                  <a:ea typeface="Times New Roman"/>
                </a:rPr>
                <a:t>вых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275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287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302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0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271" name="Группа 46"/>
          <p:cNvGrpSpPr/>
          <p:nvPr/>
        </p:nvGrpSpPr>
        <p:grpSpPr>
          <a:xfrm>
            <a:off x="500040" y="173160"/>
            <a:ext cx="8215200" cy="2226960"/>
            <a:chOff x="500040" y="173160"/>
            <a:chExt cx="8215200" cy="2226960"/>
          </a:xfrm>
        </p:grpSpPr>
        <p:sp>
          <p:nvSpPr>
            <p:cNvPr id="272" name="Скругленный прямоугольник 44"/>
            <p:cNvSpPr/>
            <p:nvPr/>
          </p:nvSpPr>
          <p:spPr>
            <a:xfrm>
              <a:off x="500040" y="173160"/>
              <a:ext cx="8215200" cy="221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елосипедист от озера до деревни ехал со скоростью 15 км/ч, а обратно – со скоростью 10 км/ч. Сколько времени ушло у него на дорогу от озера до деревни, если на весь путь туда и обратно велосипедист затратил 1 ч? Велосипедист от озера до деревни ехал со скоростью 15 км/ч, а обратно – со скоростью 10 км/ч. Сколько времени ушло у него на дорогу от озера до деревни, если на весь путь туда и обратно велосипедист затратил 1 ч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Прямоугольник 45"/>
            <p:cNvSpPr/>
            <p:nvPr/>
          </p:nvSpPr>
          <p:spPr>
            <a:xfrm>
              <a:off x="785520" y="173160"/>
              <a:ext cx="77151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Лыжник от озера до деревни ехал со скоростью 15 км/ч, а обратно – со скоростью 12 км/ч. Сколько времени ушло у него на обратную дорогу, если на весь путь туда и обратно велосипедист затратил 3 ч?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Группа 43"/>
          <p:cNvGrpSpPr/>
          <p:nvPr/>
        </p:nvGrpSpPr>
        <p:grpSpPr>
          <a:xfrm>
            <a:off x="684360" y="189000"/>
            <a:ext cx="7858080" cy="928440"/>
            <a:chOff x="684360" y="189000"/>
            <a:chExt cx="7858080" cy="928440"/>
          </a:xfrm>
        </p:grpSpPr>
        <p:sp>
          <p:nvSpPr>
            <p:cNvPr id="275" name="Прямоугольник 34"/>
            <p:cNvSpPr/>
            <p:nvPr/>
          </p:nvSpPr>
          <p:spPr>
            <a:xfrm>
              <a:off x="684360" y="189000"/>
              <a:ext cx="7858080" cy="50004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Прямоугольник 33"/>
            <p:cNvSpPr/>
            <p:nvPr/>
          </p:nvSpPr>
          <p:spPr>
            <a:xfrm>
              <a:off x="684360" y="689040"/>
              <a:ext cx="1698480" cy="42840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Прямоугольник 29"/>
          <p:cNvSpPr/>
          <p:nvPr/>
        </p:nvSpPr>
        <p:spPr>
          <a:xfrm>
            <a:off x="2416320" y="714240"/>
            <a:ext cx="6143400" cy="42876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Группа 46"/>
          <p:cNvGrpSpPr/>
          <p:nvPr/>
        </p:nvGrpSpPr>
        <p:grpSpPr>
          <a:xfrm>
            <a:off x="714240" y="1500120"/>
            <a:ext cx="7858440" cy="857160"/>
            <a:chOff x="714240" y="1500120"/>
            <a:chExt cx="7858440" cy="857160"/>
          </a:xfrm>
        </p:grpSpPr>
        <p:sp>
          <p:nvSpPr>
            <p:cNvPr id="279" name="Прямоугольник 28"/>
            <p:cNvSpPr/>
            <p:nvPr/>
          </p:nvSpPr>
          <p:spPr>
            <a:xfrm>
              <a:off x="2143080" y="1500120"/>
              <a:ext cx="6429600" cy="50004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Прямоугольник 37"/>
            <p:cNvSpPr/>
            <p:nvPr/>
          </p:nvSpPr>
          <p:spPr>
            <a:xfrm>
              <a:off x="714240" y="2000160"/>
              <a:ext cx="7858440" cy="35712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81" name=""/>
          <p:cNvGraphicFramePr/>
          <p:nvPr/>
        </p:nvGraphicFramePr>
        <p:xfrm>
          <a:off x="395280" y="4040280"/>
          <a:ext cx="8035920" cy="2197080"/>
        </p:xfrm>
        <a:graphic>
          <a:graphicData uri="http://schemas.openxmlformats.org/drawingml/2006/table">
            <a:tbl>
              <a:tblPr/>
              <a:tblGrid>
                <a:gridCol w="2089080"/>
                <a:gridCol w="1801800"/>
                <a:gridCol w="1785960"/>
                <a:gridCol w="2359080"/>
              </a:tblGrid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кор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Рассто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От оз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От дерев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Скругленный прямоугольник 57"/>
          <p:cNvSpPr/>
          <p:nvPr/>
        </p:nvSpPr>
        <p:spPr>
          <a:xfrm>
            <a:off x="2682720" y="4770360"/>
            <a:ext cx="15004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Скругленный прямоугольник 58"/>
          <p:cNvSpPr/>
          <p:nvPr/>
        </p:nvSpPr>
        <p:spPr>
          <a:xfrm>
            <a:off x="2682720" y="5556240"/>
            <a:ext cx="15004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Скругленный прямоугольник 59"/>
          <p:cNvSpPr/>
          <p:nvPr/>
        </p:nvSpPr>
        <p:spPr>
          <a:xfrm>
            <a:off x="4449600" y="5572080"/>
            <a:ext cx="144000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Скругленный прямоугольник 60"/>
          <p:cNvSpPr/>
          <p:nvPr/>
        </p:nvSpPr>
        <p:spPr>
          <a:xfrm>
            <a:off x="4433760" y="4754520"/>
            <a:ext cx="144000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Скругленный прямоугольник 61"/>
          <p:cNvSpPr/>
          <p:nvPr/>
        </p:nvSpPr>
        <p:spPr>
          <a:xfrm>
            <a:off x="6215040" y="4770360"/>
            <a:ext cx="207180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(3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Скругленный прямоугольник 62"/>
          <p:cNvSpPr/>
          <p:nvPr/>
        </p:nvSpPr>
        <p:spPr>
          <a:xfrm>
            <a:off x="6230880" y="5556240"/>
            <a:ext cx="205596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1" descr="F:\2.jpg"/>
          <p:cNvPicPr/>
          <p:nvPr/>
        </p:nvPicPr>
        <p:blipFill>
          <a:blip r:embed="rId1"/>
          <a:stretch/>
        </p:blipFill>
        <p:spPr>
          <a:xfrm>
            <a:off x="3902040" y="6303960"/>
            <a:ext cx="1316160" cy="5414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" descr="C:\Users\Надежда\Desktop\КАРТИНКИ\рисунок Стрелка влево\102.gif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01040" y="628668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290" name="Управляющая кнопка: сведения 30"/>
          <p:cNvSpPr/>
          <p:nvPr/>
        </p:nvSpPr>
        <p:spPr>
          <a:xfrm>
            <a:off x="8429760" y="4143240"/>
            <a:ext cx="642960" cy="85752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857520"/>
              <a:gd name="textAreaBottom" fmla="*/ 816120 h 857520"/>
            </a:gdLst>
            <a:ahLst/>
            <a:rect l="textAreaLeft" t="textAreaTop" r="textAreaRight" b="textAreaBottom"/>
            <a:pathLst>
              <a:path w="21600" h="28804">
                <a:moveTo>
                  <a:pt x="0" y="0"/>
                </a:moveTo>
                <a:lnTo>
                  <a:pt x="21600" y="0"/>
                </a:lnTo>
                <a:lnTo>
                  <a:pt x="21600" y="28804"/>
                </a:lnTo>
                <a:lnTo>
                  <a:pt x="0" y="28804"/>
                </a:lnTo>
                <a:close/>
              </a:path>
              <a:path fill="lightenLess" w="21600" h="28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4">
                <a:moveTo>
                  <a:pt x="21600" y="0"/>
                </a:moveTo>
                <a:lnTo>
                  <a:pt x="21600" y="28804"/>
                </a:lnTo>
                <a:lnTo>
                  <a:pt x="20200" y="27404"/>
                </a:lnTo>
                <a:lnTo>
                  <a:pt x="20200" y="1400"/>
                </a:lnTo>
                <a:close/>
              </a:path>
              <a:path fill="darkenLess" w="21600" h="28804">
                <a:moveTo>
                  <a:pt x="21600" y="28804"/>
                </a:moveTo>
                <a:lnTo>
                  <a:pt x="0" y="28804"/>
                </a:lnTo>
                <a:lnTo>
                  <a:pt x="1400" y="27404"/>
                </a:lnTo>
                <a:lnTo>
                  <a:pt x="20200" y="27404"/>
                </a:lnTo>
                <a:close/>
              </a:path>
              <a:path fill="lighten" w="21600" h="28804">
                <a:moveTo>
                  <a:pt x="0" y="28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4"/>
                </a:lnTo>
                <a:close/>
              </a:path>
              <a:path fill="darken" w="21600" h="28804">
                <a:moveTo>
                  <a:pt x="10800" y="7396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8804">
                <a:moveTo>
                  <a:pt x="10800" y="7770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8804">
                <a:moveTo>
                  <a:pt x="8224" y="11826"/>
                </a:moveTo>
                <a:lnTo>
                  <a:pt x="12088" y="11826"/>
                </a:lnTo>
                <a:lnTo>
                  <a:pt x="12088" y="18823"/>
                </a:lnTo>
                <a:lnTo>
                  <a:pt x="13376" y="18823"/>
                </a:lnTo>
                <a:lnTo>
                  <a:pt x="13376" y="19746"/>
                </a:lnTo>
                <a:lnTo>
                  <a:pt x="8224" y="19746"/>
                </a:lnTo>
                <a:lnTo>
                  <a:pt x="8224" y="18823"/>
                </a:lnTo>
                <a:lnTo>
                  <a:pt x="9512" y="18823"/>
                </a:lnTo>
                <a:lnTo>
                  <a:pt x="9512" y="12731"/>
                </a:lnTo>
                <a:lnTo>
                  <a:pt x="8224" y="12731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авая фигурная скобка 35"/>
          <p:cNvSpPr/>
          <p:nvPr/>
        </p:nvSpPr>
        <p:spPr>
          <a:xfrm>
            <a:off x="5783400" y="4768920"/>
            <a:ext cx="360360" cy="1357200"/>
          </a:xfrm>
          <a:custGeom>
            <a:avLst/>
            <a:gdLst>
              <a:gd name="textAreaLeft" fmla="*/ 0 w 360360"/>
              <a:gd name="textAreaRight" fmla="*/ 129960 w 360360"/>
              <a:gd name="textAreaTop" fmla="*/ 9360 h 1357200"/>
              <a:gd name="textAreaBottom" fmla="*/ 1347840 h 13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39"/>
                  <a:pt x="10800" y="478"/>
                </a:cubicBezTo>
                <a:lnTo>
                  <a:pt x="10800" y="10322"/>
                </a:lnTo>
                <a:cubicBezTo>
                  <a:pt x="10800" y="10561"/>
                  <a:pt x="16200" y="10800"/>
                  <a:pt x="21600" y="10800"/>
                </a:cubicBezTo>
                <a:cubicBezTo>
                  <a:pt x="16200" y="10800"/>
                  <a:pt x="10800" y="11039"/>
                  <a:pt x="10800" y="11278"/>
                </a:cubicBezTo>
                <a:lnTo>
                  <a:pt x="10800" y="21122"/>
                </a:lnTo>
                <a:cubicBezTo>
                  <a:pt x="10800" y="2136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Скругленный прямоугольник 54"/>
          <p:cNvSpPr/>
          <p:nvPr/>
        </p:nvSpPr>
        <p:spPr>
          <a:xfrm>
            <a:off x="6111720" y="5214960"/>
            <a:ext cx="81756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Скругленный прямоугольник 38"/>
          <p:cNvSpPr/>
          <p:nvPr/>
        </p:nvSpPr>
        <p:spPr>
          <a:xfrm>
            <a:off x="1015920" y="2500200"/>
            <a:ext cx="707256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 –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стояние,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 –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орость,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 -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мя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Скругленный прямоугольник 39"/>
          <p:cNvSpPr/>
          <p:nvPr/>
        </p:nvSpPr>
        <p:spPr>
          <a:xfrm>
            <a:off x="3532320" y="3262320"/>
            <a:ext cx="20714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Группа 53"/>
          <p:cNvGrpSpPr/>
          <p:nvPr/>
        </p:nvGrpSpPr>
        <p:grpSpPr>
          <a:xfrm>
            <a:off x="500040" y="2492280"/>
            <a:ext cx="8215200" cy="1357560"/>
            <a:chOff x="500040" y="2492280"/>
            <a:chExt cx="8215200" cy="1357560"/>
          </a:xfrm>
        </p:grpSpPr>
        <p:sp>
          <p:nvSpPr>
            <p:cNvPr id="296" name="Скругленный прямоугольник 51"/>
            <p:cNvSpPr/>
            <p:nvPr/>
          </p:nvSpPr>
          <p:spPr>
            <a:xfrm>
              <a:off x="500040" y="2492280"/>
              <a:ext cx="8215200" cy="1357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Прямоугольник 52"/>
            <p:cNvSpPr/>
            <p:nvPr/>
          </p:nvSpPr>
          <p:spPr>
            <a:xfrm>
              <a:off x="571320" y="2680920"/>
              <a:ext cx="8143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усть х ч – время на обратную дорогу. Какое из уравнений соответствует условию задачи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8" name="Прямая со стрелкой 26"/>
          <p:cNvCxnSpPr/>
          <p:nvPr/>
        </p:nvCxnSpPr>
        <p:spPr>
          <a:xfrm>
            <a:off x="2143080" y="3143160"/>
            <a:ext cx="2858400" cy="2643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9" name="Прямая со стрелкой 31"/>
          <p:cNvCxnSpPr/>
          <p:nvPr/>
        </p:nvCxnSpPr>
        <p:spPr>
          <a:xfrm>
            <a:off x="1141920" y="1071720"/>
            <a:ext cx="2429640" cy="3929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00" name="Прямая со стрелкой 36"/>
          <p:cNvCxnSpPr/>
          <p:nvPr/>
        </p:nvCxnSpPr>
        <p:spPr>
          <a:xfrm flipH="1">
            <a:off x="3642480" y="1071720"/>
            <a:ext cx="3644280" cy="47152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01" name="Прямая со стрелкой 40"/>
          <p:cNvCxnSpPr/>
          <p:nvPr/>
        </p:nvCxnSpPr>
        <p:spPr>
          <a:xfrm>
            <a:off x="4499640" y="2285640"/>
            <a:ext cx="1786680" cy="3143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p:timing>
    <p:tnLst>
      <p:par>
        <p:cTn id="331" dur="indefinite" restart="never" nodeType="tmRoot">
          <p:childTnLst>
            <p:seq>
              <p:cTn id="332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333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8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449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Группа 25"/>
          <p:cNvGrpSpPr/>
          <p:nvPr/>
        </p:nvGrpSpPr>
        <p:grpSpPr>
          <a:xfrm>
            <a:off x="1755720" y="2786040"/>
            <a:ext cx="5629320" cy="571680"/>
            <a:chOff x="1755720" y="2786040"/>
            <a:chExt cx="5629320" cy="571680"/>
          </a:xfrm>
        </p:grpSpPr>
        <p:sp>
          <p:nvSpPr>
            <p:cNvPr id="303" name="Скругленный прямоугольник 26"/>
            <p:cNvSpPr/>
            <p:nvPr/>
          </p:nvSpPr>
          <p:spPr>
            <a:xfrm>
              <a:off x="1755720" y="2786040"/>
              <a:ext cx="2071800" cy="571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(3 –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к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Скругленный прямоугольник 27"/>
            <p:cNvSpPr/>
            <p:nvPr/>
          </p:nvSpPr>
          <p:spPr>
            <a:xfrm>
              <a:off x="5327640" y="2786040"/>
              <a:ext cx="2057400" cy="571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к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Скругленный прямоугольник 28"/>
            <p:cNvSpPr/>
            <p:nvPr/>
          </p:nvSpPr>
          <p:spPr>
            <a:xfrm>
              <a:off x="3941640" y="2786040"/>
              <a:ext cx="1265040" cy="571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06" name=""/>
          <p:cNvGraphicFramePr/>
          <p:nvPr/>
        </p:nvGraphicFramePr>
        <p:xfrm>
          <a:off x="603360" y="142920"/>
          <a:ext cx="7929360" cy="2390760"/>
        </p:xfrm>
        <a:graphic>
          <a:graphicData uri="http://schemas.openxmlformats.org/drawingml/2006/table">
            <a:tbl>
              <a:tblPr/>
              <a:tblGrid>
                <a:gridCol w="2168280"/>
                <a:gridCol w="1800360"/>
                <a:gridCol w="1657440"/>
                <a:gridCol w="2303280"/>
              </a:tblGrid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кор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Рассто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От оз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От дерев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7" name="Скругленный прямоугольник 2"/>
          <p:cNvSpPr/>
          <p:nvPr/>
        </p:nvSpPr>
        <p:spPr>
          <a:xfrm>
            <a:off x="2984400" y="1071720"/>
            <a:ext cx="150012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Скругленный прямоугольник 3"/>
          <p:cNvSpPr/>
          <p:nvPr/>
        </p:nvSpPr>
        <p:spPr>
          <a:xfrm>
            <a:off x="2984400" y="1857240"/>
            <a:ext cx="150012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Скругленный прямоугольник 4"/>
          <p:cNvSpPr/>
          <p:nvPr/>
        </p:nvSpPr>
        <p:spPr>
          <a:xfrm>
            <a:off x="4703760" y="1857240"/>
            <a:ext cx="144000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Скругленный прямоугольник 5"/>
          <p:cNvSpPr/>
          <p:nvPr/>
        </p:nvSpPr>
        <p:spPr>
          <a:xfrm>
            <a:off x="4699080" y="1071720"/>
            <a:ext cx="14396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Скругленный прямоугольник 6"/>
          <p:cNvSpPr/>
          <p:nvPr/>
        </p:nvSpPr>
        <p:spPr>
          <a:xfrm>
            <a:off x="6348240" y="1071720"/>
            <a:ext cx="207180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(3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Скругленный прямоугольник 7"/>
          <p:cNvSpPr/>
          <p:nvPr/>
        </p:nvSpPr>
        <p:spPr>
          <a:xfrm>
            <a:off x="6364440" y="1857240"/>
            <a:ext cx="205560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Скругленный прямоугольник 29"/>
          <p:cNvSpPr/>
          <p:nvPr/>
        </p:nvSpPr>
        <p:spPr>
          <a:xfrm>
            <a:off x="5302080" y="3579840"/>
            <a:ext cx="205596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Скругленный прямоугольник 30"/>
          <p:cNvSpPr/>
          <p:nvPr/>
        </p:nvSpPr>
        <p:spPr>
          <a:xfrm>
            <a:off x="1500120" y="3571920"/>
            <a:ext cx="357192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(3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Скругленный прямоугольник 31"/>
          <p:cNvSpPr/>
          <p:nvPr/>
        </p:nvSpPr>
        <p:spPr>
          <a:xfrm>
            <a:off x="5286240" y="4397400"/>
            <a:ext cx="2055960" cy="73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Группа 32"/>
          <p:cNvGrpSpPr/>
          <p:nvPr/>
        </p:nvGrpSpPr>
        <p:grpSpPr>
          <a:xfrm>
            <a:off x="1500120" y="4330800"/>
            <a:ext cx="3571920" cy="856440"/>
            <a:chOff x="1500120" y="4330800"/>
            <a:chExt cx="3571920" cy="856440"/>
          </a:xfrm>
        </p:grpSpPr>
        <p:sp>
          <p:nvSpPr>
            <p:cNvPr id="317" name="Скругленный прямоугольник 33"/>
            <p:cNvSpPr/>
            <p:nvPr/>
          </p:nvSpPr>
          <p:spPr>
            <a:xfrm>
              <a:off x="1500120" y="4405320"/>
              <a:ext cx="3571920" cy="714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Б.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8" name="Группа 53"/>
            <p:cNvGrpSpPr/>
            <p:nvPr/>
          </p:nvGrpSpPr>
          <p:grpSpPr>
            <a:xfrm>
              <a:off x="2428560" y="4330800"/>
              <a:ext cx="2373840" cy="856440"/>
              <a:chOff x="2428560" y="4330800"/>
              <a:chExt cx="2373840" cy="856440"/>
            </a:xfrm>
          </p:grpSpPr>
          <p:sp>
            <p:nvSpPr>
              <p:cNvPr id="319" name="Rectangle 11"/>
              <p:cNvSpPr/>
              <p:nvPr/>
            </p:nvSpPr>
            <p:spPr>
              <a:xfrm>
                <a:off x="4623480" y="4545720"/>
                <a:ext cx="1789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19"/>
              <p:cNvSpPr/>
              <p:nvPr/>
            </p:nvSpPr>
            <p:spPr>
              <a:xfrm>
                <a:off x="4277160" y="4515120"/>
                <a:ext cx="2826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1" name="Группа 110"/>
              <p:cNvGrpSpPr/>
              <p:nvPr/>
            </p:nvGrpSpPr>
            <p:grpSpPr>
              <a:xfrm>
                <a:off x="2428560" y="4330800"/>
                <a:ext cx="447120" cy="856440"/>
                <a:chOff x="2428560" y="4330800"/>
                <a:chExt cx="447120" cy="856440"/>
              </a:xfrm>
            </p:grpSpPr>
            <p:sp>
              <p:nvSpPr>
                <p:cNvPr id="322" name="Rectangle 16"/>
                <p:cNvSpPr/>
                <p:nvPr/>
              </p:nvSpPr>
              <p:spPr>
                <a:xfrm>
                  <a:off x="2571480" y="4760280"/>
                  <a:ext cx="1576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х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Прямая соединительная линия 44"/>
                <p:cNvSpPr/>
                <p:nvPr/>
              </p:nvSpPr>
              <p:spPr>
                <a:xfrm>
                  <a:off x="2428560" y="4759560"/>
                  <a:ext cx="43164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Rectangle 21"/>
                <p:cNvSpPr/>
                <p:nvPr/>
              </p:nvSpPr>
              <p:spPr>
                <a:xfrm>
                  <a:off x="2429640" y="4330800"/>
                  <a:ext cx="44604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5" name="Rectangle 18"/>
              <p:cNvSpPr/>
              <p:nvPr/>
            </p:nvSpPr>
            <p:spPr>
              <a:xfrm>
                <a:off x="3000600" y="4520160"/>
                <a:ext cx="2005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6" name="Группа 112"/>
              <p:cNvGrpSpPr/>
              <p:nvPr/>
            </p:nvGrpSpPr>
            <p:grpSpPr>
              <a:xfrm>
                <a:off x="3348360" y="4344840"/>
                <a:ext cx="866160" cy="842040"/>
                <a:chOff x="3348360" y="4344840"/>
                <a:chExt cx="866160" cy="842040"/>
              </a:xfrm>
            </p:grpSpPr>
            <p:sp>
              <p:nvSpPr>
                <p:cNvPr id="327" name="Rectangle 14"/>
                <p:cNvSpPr/>
                <p:nvPr/>
              </p:nvSpPr>
              <p:spPr>
                <a:xfrm>
                  <a:off x="3383640" y="4759920"/>
                  <a:ext cx="6912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3 – 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х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Прямая соединительная линия 41"/>
                <p:cNvSpPr/>
                <p:nvPr/>
              </p:nvSpPr>
              <p:spPr>
                <a:xfrm>
                  <a:off x="3348360" y="4759200"/>
                  <a:ext cx="8661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Rectangle 13"/>
                <p:cNvSpPr/>
                <p:nvPr/>
              </p:nvSpPr>
              <p:spPr>
                <a:xfrm>
                  <a:off x="3581280" y="4344840"/>
                  <a:ext cx="35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1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0" name="Скругленный прямоугольник 46"/>
          <p:cNvSpPr/>
          <p:nvPr/>
        </p:nvSpPr>
        <p:spPr>
          <a:xfrm>
            <a:off x="5286240" y="5214960"/>
            <a:ext cx="2055960" cy="73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Скругленный прямоугольник 47"/>
          <p:cNvSpPr/>
          <p:nvPr/>
        </p:nvSpPr>
        <p:spPr>
          <a:xfrm>
            <a:off x="1500120" y="5238720"/>
            <a:ext cx="357192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(3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Скругленный прямоугольник 48"/>
          <p:cNvSpPr/>
          <p:nvPr/>
        </p:nvSpPr>
        <p:spPr>
          <a:xfrm>
            <a:off x="5286240" y="6048360"/>
            <a:ext cx="2055960" cy="730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Скругленный прямоугольник 49"/>
          <p:cNvSpPr/>
          <p:nvPr/>
        </p:nvSpPr>
        <p:spPr>
          <a:xfrm>
            <a:off x="1500120" y="6056280"/>
            <a:ext cx="357192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2(3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Скругленный прямоугольник 24"/>
          <p:cNvSpPr/>
          <p:nvPr/>
        </p:nvSpPr>
        <p:spPr>
          <a:xfrm>
            <a:off x="785880" y="2714760"/>
            <a:ext cx="757224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стояние одно и то же, т.е одинаков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Группа 53"/>
          <p:cNvGrpSpPr/>
          <p:nvPr/>
        </p:nvGrpSpPr>
        <p:grpSpPr>
          <a:xfrm>
            <a:off x="5286240" y="5152320"/>
            <a:ext cx="2500560" cy="801360"/>
            <a:chOff x="5286240" y="5152320"/>
            <a:chExt cx="2500560" cy="801360"/>
          </a:xfrm>
        </p:grpSpPr>
        <p:grpSp>
          <p:nvGrpSpPr>
            <p:cNvPr id="336" name="Группа 99"/>
            <p:cNvGrpSpPr/>
            <p:nvPr/>
          </p:nvGrpSpPr>
          <p:grpSpPr>
            <a:xfrm>
              <a:off x="5286240" y="5152320"/>
              <a:ext cx="2500560" cy="801360"/>
              <a:chOff x="5286240" y="5152320"/>
              <a:chExt cx="2500560" cy="801360"/>
            </a:xfrm>
          </p:grpSpPr>
          <p:sp>
            <p:nvSpPr>
              <p:cNvPr id="337" name="Скругленный прямоугольник 57"/>
              <p:cNvSpPr/>
              <p:nvPr/>
            </p:nvSpPr>
            <p:spPr>
              <a:xfrm>
                <a:off x="5286240" y="5223960"/>
                <a:ext cx="2500560" cy="7297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8" name="Группа 85"/>
              <p:cNvGrpSpPr/>
              <p:nvPr/>
            </p:nvGrpSpPr>
            <p:grpSpPr>
              <a:xfrm>
                <a:off x="5421960" y="5152320"/>
                <a:ext cx="2345040" cy="786600"/>
                <a:chOff x="5421960" y="5152320"/>
                <a:chExt cx="2345040" cy="786600"/>
              </a:xfrm>
            </p:grpSpPr>
            <p:sp>
              <p:nvSpPr>
                <p:cNvPr id="339" name="Rectangle 78"/>
                <p:cNvSpPr/>
                <p:nvPr/>
              </p:nvSpPr>
              <p:spPr>
                <a:xfrm>
                  <a:off x="7607880" y="555768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Rectangle 79"/>
                <p:cNvSpPr/>
                <p:nvPr/>
              </p:nvSpPr>
              <p:spPr>
                <a:xfrm>
                  <a:off x="7066440" y="555768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Rectangle 80"/>
                <p:cNvSpPr/>
                <p:nvPr/>
              </p:nvSpPr>
              <p:spPr>
                <a:xfrm>
                  <a:off x="6179040" y="555768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Rectangle 81"/>
                <p:cNvSpPr/>
                <p:nvPr/>
              </p:nvSpPr>
              <p:spPr>
                <a:xfrm>
                  <a:off x="5624640" y="555768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Rectangle 84"/>
                <p:cNvSpPr/>
                <p:nvPr/>
              </p:nvSpPr>
              <p:spPr>
                <a:xfrm>
                  <a:off x="7479720" y="5215680"/>
                  <a:ext cx="1562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t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Rectangle 85"/>
                <p:cNvSpPr/>
                <p:nvPr/>
              </p:nvSpPr>
              <p:spPr>
                <a:xfrm>
                  <a:off x="6825600" y="5215680"/>
                  <a:ext cx="249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v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86"/>
                <p:cNvSpPr/>
                <p:nvPr/>
              </p:nvSpPr>
              <p:spPr>
                <a:xfrm>
                  <a:off x="6014160" y="5215680"/>
                  <a:ext cx="1562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t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Rectangle 87"/>
                <p:cNvSpPr/>
                <p:nvPr/>
              </p:nvSpPr>
              <p:spPr>
                <a:xfrm>
                  <a:off x="5421960" y="5215680"/>
                  <a:ext cx="249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v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Rectangle 91"/>
                <p:cNvSpPr/>
                <p:nvPr/>
              </p:nvSpPr>
              <p:spPr>
                <a:xfrm>
                  <a:off x="7123680" y="5152320"/>
                  <a:ext cx="3236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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Rectangle 92"/>
                <p:cNvSpPr/>
                <p:nvPr/>
              </p:nvSpPr>
              <p:spPr>
                <a:xfrm>
                  <a:off x="6445080" y="5152320"/>
                  <a:ext cx="32688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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Rectangle 93"/>
                <p:cNvSpPr/>
                <p:nvPr/>
              </p:nvSpPr>
              <p:spPr>
                <a:xfrm>
                  <a:off x="5694840" y="5152320"/>
                  <a:ext cx="3236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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0" name="Прямая соединительная линия 55"/>
            <p:cNvSpPr/>
            <p:nvPr/>
          </p:nvSpPr>
          <p:spPr>
            <a:xfrm flipH="1">
              <a:off x="6104160" y="5361480"/>
              <a:ext cx="1109880" cy="492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Прямая соединительная линия 56"/>
            <p:cNvSpPr/>
            <p:nvPr/>
          </p:nvSpPr>
          <p:spPr>
            <a:xfrm>
              <a:off x="6105600" y="5334120"/>
              <a:ext cx="1109160" cy="495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Группа 70"/>
          <p:cNvGrpSpPr/>
          <p:nvPr/>
        </p:nvGrpSpPr>
        <p:grpSpPr>
          <a:xfrm>
            <a:off x="5286240" y="4404960"/>
            <a:ext cx="2071800" cy="730440"/>
            <a:chOff x="5286240" y="4404960"/>
            <a:chExt cx="2071800" cy="730440"/>
          </a:xfrm>
        </p:grpSpPr>
        <p:sp>
          <p:nvSpPr>
            <p:cNvPr id="353" name="Скругленный прямоугольник 71"/>
            <p:cNvSpPr/>
            <p:nvPr/>
          </p:nvSpPr>
          <p:spPr>
            <a:xfrm>
              <a:off x="5286240" y="4404960"/>
              <a:ext cx="2071800" cy="730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" name="Группа 67"/>
            <p:cNvGrpSpPr/>
            <p:nvPr/>
          </p:nvGrpSpPr>
          <p:grpSpPr>
            <a:xfrm>
              <a:off x="5821920" y="4405320"/>
              <a:ext cx="1137240" cy="670680"/>
              <a:chOff x="5821920" y="4405320"/>
              <a:chExt cx="1137240" cy="670680"/>
            </a:xfrm>
          </p:grpSpPr>
          <p:sp>
            <p:nvSpPr>
              <p:cNvPr id="355" name="Rectangle 16"/>
              <p:cNvSpPr/>
              <p:nvPr/>
            </p:nvSpPr>
            <p:spPr>
              <a:xfrm>
                <a:off x="5947920" y="4405320"/>
                <a:ext cx="101124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v </a:t>
                </a:r>
                <a:r>
                  <a:rPr b="1" lang="ru-RU" sz="4400" spc="-1" strike="noStrike">
                    <a:solidFill>
                      <a:srgbClr val="ff0000"/>
                    </a:solidFill>
                    <a:latin typeface="Times New Roman"/>
                  </a:rPr>
                  <a:t>: </a:t>
                </a:r>
                <a:r>
                  <a:rPr b="0" i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t</a:t>
                </a:r>
                <a:r>
                  <a:rPr b="0" i="1" lang="ru-RU" sz="4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Прямая соединительная линия 74"/>
              <p:cNvSpPr/>
              <p:nvPr/>
            </p:nvSpPr>
            <p:spPr>
              <a:xfrm>
                <a:off x="5841000" y="4490640"/>
                <a:ext cx="1071000" cy="571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Прямая соединительная линия 75"/>
              <p:cNvSpPr/>
              <p:nvPr/>
            </p:nvSpPr>
            <p:spPr>
              <a:xfrm flipH="1">
                <a:off x="5821920" y="4545360"/>
                <a:ext cx="1109880" cy="492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8" name="Группа 76"/>
          <p:cNvGrpSpPr/>
          <p:nvPr/>
        </p:nvGrpSpPr>
        <p:grpSpPr>
          <a:xfrm>
            <a:off x="5214960" y="5985720"/>
            <a:ext cx="2500200" cy="825840"/>
            <a:chOff x="5214960" y="5985720"/>
            <a:chExt cx="2500200" cy="825840"/>
          </a:xfrm>
        </p:grpSpPr>
        <p:grpSp>
          <p:nvGrpSpPr>
            <p:cNvPr id="359" name="Группа 99"/>
            <p:cNvGrpSpPr/>
            <p:nvPr/>
          </p:nvGrpSpPr>
          <p:grpSpPr>
            <a:xfrm>
              <a:off x="5214960" y="5985720"/>
              <a:ext cx="2500200" cy="825840"/>
              <a:chOff x="5214960" y="5985720"/>
              <a:chExt cx="2500200" cy="825840"/>
            </a:xfrm>
          </p:grpSpPr>
          <p:sp>
            <p:nvSpPr>
              <p:cNvPr id="360" name="Скругленный прямоугольник 80"/>
              <p:cNvSpPr/>
              <p:nvPr/>
            </p:nvSpPr>
            <p:spPr>
              <a:xfrm>
                <a:off x="5214960" y="6057720"/>
                <a:ext cx="2500200" cy="729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1" name="Группа 85"/>
              <p:cNvGrpSpPr/>
              <p:nvPr/>
            </p:nvGrpSpPr>
            <p:grpSpPr>
              <a:xfrm>
                <a:off x="5350680" y="5985720"/>
                <a:ext cx="2344680" cy="825840"/>
                <a:chOff x="5350680" y="5985720"/>
                <a:chExt cx="2344680" cy="825840"/>
              </a:xfrm>
            </p:grpSpPr>
            <p:sp>
              <p:nvSpPr>
                <p:cNvPr id="362" name="Rectangle 78"/>
                <p:cNvSpPr/>
                <p:nvPr/>
              </p:nvSpPr>
              <p:spPr>
                <a:xfrm>
                  <a:off x="7536240" y="639072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Rectangle 79"/>
                <p:cNvSpPr/>
                <p:nvPr/>
              </p:nvSpPr>
              <p:spPr>
                <a:xfrm>
                  <a:off x="6995160" y="639072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Rectangle 80"/>
                <p:cNvSpPr/>
                <p:nvPr/>
              </p:nvSpPr>
              <p:spPr>
                <a:xfrm>
                  <a:off x="6107400" y="639072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Rectangle 81"/>
                <p:cNvSpPr/>
                <p:nvPr/>
              </p:nvSpPr>
              <p:spPr>
                <a:xfrm>
                  <a:off x="5553360" y="639072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Rectangle 84"/>
                <p:cNvSpPr/>
                <p:nvPr/>
              </p:nvSpPr>
              <p:spPr>
                <a:xfrm>
                  <a:off x="7408080" y="6049080"/>
                  <a:ext cx="1562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t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Rectangle 85"/>
                <p:cNvSpPr/>
                <p:nvPr/>
              </p:nvSpPr>
              <p:spPr>
                <a:xfrm>
                  <a:off x="6753960" y="6049080"/>
                  <a:ext cx="249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v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Rectangle 86"/>
                <p:cNvSpPr/>
                <p:nvPr/>
              </p:nvSpPr>
              <p:spPr>
                <a:xfrm>
                  <a:off x="5942880" y="6049080"/>
                  <a:ext cx="1562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t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Rectangle 87"/>
                <p:cNvSpPr/>
                <p:nvPr/>
              </p:nvSpPr>
              <p:spPr>
                <a:xfrm>
                  <a:off x="5350680" y="6049080"/>
                  <a:ext cx="249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v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Rectangle 91"/>
                <p:cNvSpPr/>
                <p:nvPr/>
              </p:nvSpPr>
              <p:spPr>
                <a:xfrm>
                  <a:off x="7052400" y="5985720"/>
                  <a:ext cx="3236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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Rectangle 92"/>
                <p:cNvSpPr/>
                <p:nvPr/>
              </p:nvSpPr>
              <p:spPr>
                <a:xfrm>
                  <a:off x="6382440" y="6140880"/>
                  <a:ext cx="2797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Calibri"/>
                    </a:rPr>
                    <a:t>=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Rectangle 93"/>
                <p:cNvSpPr/>
                <p:nvPr/>
              </p:nvSpPr>
              <p:spPr>
                <a:xfrm>
                  <a:off x="5623200" y="5985720"/>
                  <a:ext cx="3236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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3" name="Прямая соединительная линия 78"/>
            <p:cNvSpPr/>
            <p:nvPr/>
          </p:nvSpPr>
          <p:spPr>
            <a:xfrm flipH="1">
              <a:off x="5960160" y="6163920"/>
              <a:ext cx="1111320" cy="491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Прямая соединительная линия 79"/>
            <p:cNvSpPr/>
            <p:nvPr/>
          </p:nvSpPr>
          <p:spPr>
            <a:xfrm>
              <a:off x="5949000" y="6165000"/>
              <a:ext cx="1133280" cy="437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Picture 1" descr="C:\Users\Надежда\Desktop\1d90e5e00dd3a78a9cecac4192a26616.gif"/>
          <p:cNvPicPr/>
          <p:nvPr/>
        </p:nvPicPr>
        <p:blipFill>
          <a:blip r:embed="rId1"/>
          <a:stretch/>
        </p:blipFill>
        <p:spPr>
          <a:xfrm flipH="1">
            <a:off x="7265880" y="3463920"/>
            <a:ext cx="1457280" cy="1600200"/>
          </a:xfrm>
          <a:prstGeom prst="rect">
            <a:avLst/>
          </a:prstGeom>
          <a:ln w="0">
            <a:noFill/>
          </a:ln>
        </p:spPr>
      </p:pic>
      <p:grpSp>
        <p:nvGrpSpPr>
          <p:cNvPr id="376" name="Группа 91"/>
          <p:cNvGrpSpPr/>
          <p:nvPr/>
        </p:nvGrpSpPr>
        <p:grpSpPr>
          <a:xfrm>
            <a:off x="7829640" y="5357880"/>
            <a:ext cx="1243080" cy="1285920"/>
            <a:chOff x="7829640" y="5357880"/>
            <a:chExt cx="1243080" cy="1285920"/>
          </a:xfrm>
        </p:grpSpPr>
        <p:pic>
          <p:nvPicPr>
            <p:cNvPr id="377" name="Picture 3" descr="C:\Users\Надежда\Videos\Downloads\Pictures\Организатор клипов (Microsoft)\j0441443.png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72640" y="5357880"/>
              <a:ext cx="79200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Скругленный прямоугольник 93">
              <a:hlinkClick r:id="" action="ppaction://hlinkshowjump?jump=endshow"/>
            </p:cNvPr>
            <p:cNvSpPr/>
            <p:nvPr/>
          </p:nvSpPr>
          <p:spPr>
            <a:xfrm>
              <a:off x="7829640" y="6212160"/>
              <a:ext cx="1243080" cy="43164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66"/>
                  </a:solidFill>
                  <a:latin typeface="Times New Roman"/>
                  <a:ea typeface="Times New Roman"/>
                </a:rPr>
                <a:t>вых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58" dur="indefinite" restart="never" nodeType="tmRoot">
          <p:childTnLst>
            <p:seq>
              <p:cTn id="459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460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7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468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9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480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4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495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9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510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Группа 47"/>
          <p:cNvGrpSpPr/>
          <p:nvPr/>
        </p:nvGrpSpPr>
        <p:grpSpPr>
          <a:xfrm>
            <a:off x="7000920" y="5699160"/>
            <a:ext cx="1214280" cy="888840"/>
            <a:chOff x="7000920" y="5699160"/>
            <a:chExt cx="1214280" cy="888840"/>
          </a:xfrm>
        </p:grpSpPr>
        <p:sp>
          <p:nvSpPr>
            <p:cNvPr id="380" name="Скругленный прямоугольник 48"/>
            <p:cNvSpPr/>
            <p:nvPr/>
          </p:nvSpPr>
          <p:spPr>
            <a:xfrm>
              <a:off x="7000920" y="5729040"/>
              <a:ext cx="1214280" cy="858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Группа 20"/>
            <p:cNvGrpSpPr/>
            <p:nvPr/>
          </p:nvGrpSpPr>
          <p:grpSpPr>
            <a:xfrm>
              <a:off x="7229880" y="5699160"/>
              <a:ext cx="924480" cy="856080"/>
              <a:chOff x="7229880" y="5699160"/>
              <a:chExt cx="924480" cy="856080"/>
            </a:xfrm>
          </p:grpSpPr>
          <p:sp>
            <p:nvSpPr>
              <p:cNvPr id="382" name="Rectangle 16"/>
              <p:cNvSpPr/>
              <p:nvPr/>
            </p:nvSpPr>
            <p:spPr>
              <a:xfrm>
                <a:off x="7286040" y="6128280"/>
                <a:ext cx="868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х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– 3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Rectangle 21"/>
              <p:cNvSpPr/>
              <p:nvPr/>
            </p:nvSpPr>
            <p:spPr>
              <a:xfrm>
                <a:off x="7401240" y="569916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Прямая соединительная линия 54"/>
              <p:cNvSpPr/>
              <p:nvPr/>
            </p:nvSpPr>
            <p:spPr>
              <a:xfrm>
                <a:off x="7229880" y="6130800"/>
                <a:ext cx="720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5" name="Скругленный прямоугольник 35"/>
          <p:cNvSpPr/>
          <p:nvPr/>
        </p:nvSpPr>
        <p:spPr>
          <a:xfrm>
            <a:off x="2903400" y="5873760"/>
            <a:ext cx="171468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Скругленный прямоугольник 60"/>
          <p:cNvSpPr/>
          <p:nvPr/>
        </p:nvSpPr>
        <p:spPr>
          <a:xfrm>
            <a:off x="4903920" y="5857920"/>
            <a:ext cx="152532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Скругленный прямоугольник 30"/>
          <p:cNvSpPr/>
          <p:nvPr/>
        </p:nvSpPr>
        <p:spPr>
          <a:xfrm>
            <a:off x="4270320" y="5857920"/>
            <a:ext cx="292896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3 км/ч мен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389" name="Группа 46"/>
          <p:cNvGrpSpPr/>
          <p:nvPr/>
        </p:nvGrpSpPr>
        <p:grpSpPr>
          <a:xfrm>
            <a:off x="500040" y="82440"/>
            <a:ext cx="8215200" cy="2226960"/>
            <a:chOff x="500040" y="82440"/>
            <a:chExt cx="8215200" cy="2226960"/>
          </a:xfrm>
        </p:grpSpPr>
        <p:sp>
          <p:nvSpPr>
            <p:cNvPr id="390" name="Скругленный прямоугольник 44"/>
            <p:cNvSpPr/>
            <p:nvPr/>
          </p:nvSpPr>
          <p:spPr>
            <a:xfrm>
              <a:off x="500040" y="82440"/>
              <a:ext cx="8215200" cy="221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елосипедист от озера до деревни ехал со скоростью 15 км/ч, а обратно – со скоростью 10 км/ч. Сколько времени ушло у него на дорогу от озера до деревни, если на весь путь туда и обратно велосипедист затратил 1 ч? Велосипедист от озера до деревни ехал со скоростью 15 км/ч, а обратно – со скоростью 10 км/ч. Сколько времени ушло у него на дорогу от озера до деревни, если на весь путь туда и обратно велосипедист затратил 1 ч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Прямоугольник 45"/>
            <p:cNvSpPr/>
            <p:nvPr/>
          </p:nvSpPr>
          <p:spPr>
            <a:xfrm>
              <a:off x="785520" y="82440"/>
              <a:ext cx="77151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Скорость первого велосипедиста на 3 км/ч больше скорости второго, поэтому на путь длиной 20 км ему потребовалось на 20 мин меньше, чем второму. Чему равны скорости велосипедистов?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Группа 55"/>
          <p:cNvGrpSpPr/>
          <p:nvPr/>
        </p:nvGrpSpPr>
        <p:grpSpPr>
          <a:xfrm>
            <a:off x="785880" y="584280"/>
            <a:ext cx="7715160" cy="915840"/>
            <a:chOff x="785880" y="584280"/>
            <a:chExt cx="7715160" cy="915840"/>
          </a:xfrm>
        </p:grpSpPr>
        <p:sp>
          <p:nvSpPr>
            <p:cNvPr id="393" name="Прямоугольник 28"/>
            <p:cNvSpPr/>
            <p:nvPr/>
          </p:nvSpPr>
          <p:spPr>
            <a:xfrm>
              <a:off x="785880" y="1000080"/>
              <a:ext cx="2500200" cy="50004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Прямоугольник 37"/>
            <p:cNvSpPr/>
            <p:nvPr/>
          </p:nvSpPr>
          <p:spPr>
            <a:xfrm>
              <a:off x="7643880" y="584280"/>
              <a:ext cx="857160" cy="42840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95" name=""/>
          <p:cNvGraphicFramePr/>
          <p:nvPr/>
        </p:nvGraphicFramePr>
        <p:xfrm>
          <a:off x="817560" y="3827520"/>
          <a:ext cx="7542360" cy="3192480"/>
        </p:xfrm>
        <a:graphic>
          <a:graphicData uri="http://schemas.openxmlformats.org/drawingml/2006/table">
            <a:tbl>
              <a:tblPr/>
              <a:tblGrid>
                <a:gridCol w="1968480"/>
                <a:gridCol w="1928880"/>
                <a:gridCol w="1930320"/>
                <a:gridCol w="17146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Расстояние (км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корость (км/ч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(ч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Первый велосипеди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Второй велосипеди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6" name="Скругленный прямоугольник 59"/>
          <p:cNvSpPr/>
          <p:nvPr/>
        </p:nvSpPr>
        <p:spPr>
          <a:xfrm>
            <a:off x="4917960" y="4857840"/>
            <a:ext cx="151128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Скругленный прямоугольник 61"/>
          <p:cNvSpPr/>
          <p:nvPr/>
        </p:nvSpPr>
        <p:spPr>
          <a:xfrm>
            <a:off x="2898720" y="4857840"/>
            <a:ext cx="171468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1" descr="F:\2.jpg"/>
          <p:cNvPicPr/>
          <p:nvPr/>
        </p:nvPicPr>
        <p:blipFill>
          <a:blip r:embed="rId1"/>
          <a:stretch/>
        </p:blipFill>
        <p:spPr>
          <a:xfrm>
            <a:off x="3902040" y="6473880"/>
            <a:ext cx="1316160" cy="4032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" descr="C:\Users\Надежда\Desktop\КАРТИНКИ\рисунок Стрелка влево\102.gif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01040" y="6286680"/>
            <a:ext cx="571680" cy="571320"/>
          </a:xfrm>
          <a:prstGeom prst="rect">
            <a:avLst/>
          </a:prstGeom>
          <a:ln w="0">
            <a:noFill/>
          </a:ln>
        </p:spPr>
      </p:pic>
      <p:grpSp>
        <p:nvGrpSpPr>
          <p:cNvPr id="400" name="Группа 38"/>
          <p:cNvGrpSpPr/>
          <p:nvPr/>
        </p:nvGrpSpPr>
        <p:grpSpPr>
          <a:xfrm>
            <a:off x="7000920" y="4714920"/>
            <a:ext cx="1214280" cy="857880"/>
            <a:chOff x="7000920" y="4714920"/>
            <a:chExt cx="1214280" cy="857880"/>
          </a:xfrm>
        </p:grpSpPr>
        <p:sp>
          <p:nvSpPr>
            <p:cNvPr id="401" name="Скругленный прямоугольник 39"/>
            <p:cNvSpPr/>
            <p:nvPr/>
          </p:nvSpPr>
          <p:spPr>
            <a:xfrm>
              <a:off x="7000920" y="4714920"/>
              <a:ext cx="1214280" cy="857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Группа 13"/>
            <p:cNvGrpSpPr/>
            <p:nvPr/>
          </p:nvGrpSpPr>
          <p:grpSpPr>
            <a:xfrm>
              <a:off x="7363800" y="4714920"/>
              <a:ext cx="450360" cy="857880"/>
              <a:chOff x="7363800" y="4714920"/>
              <a:chExt cx="450360" cy="857880"/>
            </a:xfrm>
          </p:grpSpPr>
          <p:sp>
            <p:nvSpPr>
              <p:cNvPr id="403" name="Rectangle 16"/>
              <p:cNvSpPr/>
              <p:nvPr/>
            </p:nvSpPr>
            <p:spPr>
              <a:xfrm>
                <a:off x="7555680" y="5145840"/>
                <a:ext cx="2462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х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Rectangle 21"/>
              <p:cNvSpPr/>
              <p:nvPr/>
            </p:nvSpPr>
            <p:spPr>
              <a:xfrm>
                <a:off x="7368120" y="471492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Прямая соединительная линия 46"/>
              <p:cNvSpPr/>
              <p:nvPr/>
            </p:nvSpPr>
            <p:spPr>
              <a:xfrm>
                <a:off x="7363800" y="5146560"/>
                <a:ext cx="432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6" name="Группа 67"/>
          <p:cNvGrpSpPr/>
          <p:nvPr/>
        </p:nvGrpSpPr>
        <p:grpSpPr>
          <a:xfrm>
            <a:off x="785880" y="87480"/>
            <a:ext cx="7715160" cy="912600"/>
            <a:chOff x="785880" y="87480"/>
            <a:chExt cx="7715160" cy="912600"/>
          </a:xfrm>
        </p:grpSpPr>
        <p:sp>
          <p:nvSpPr>
            <p:cNvPr id="407" name="Прямоугольник 22"/>
            <p:cNvSpPr/>
            <p:nvPr/>
          </p:nvSpPr>
          <p:spPr>
            <a:xfrm>
              <a:off x="785880" y="584280"/>
              <a:ext cx="4572000" cy="41580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Прямоугольник 66"/>
            <p:cNvSpPr/>
            <p:nvPr/>
          </p:nvSpPr>
          <p:spPr>
            <a:xfrm>
              <a:off x="785880" y="87480"/>
              <a:ext cx="7715160" cy="50004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Управляющая кнопка: сведения 72"/>
          <p:cNvSpPr/>
          <p:nvPr/>
        </p:nvSpPr>
        <p:spPr>
          <a:xfrm>
            <a:off x="8429760" y="4143240"/>
            <a:ext cx="642960" cy="85752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857520"/>
              <a:gd name="textAreaBottom" fmla="*/ 816120 h 857520"/>
            </a:gdLst>
            <a:ahLst/>
            <a:rect l="textAreaLeft" t="textAreaTop" r="textAreaRight" b="textAreaBottom"/>
            <a:pathLst>
              <a:path w="21600" h="28804">
                <a:moveTo>
                  <a:pt x="0" y="0"/>
                </a:moveTo>
                <a:lnTo>
                  <a:pt x="21600" y="0"/>
                </a:lnTo>
                <a:lnTo>
                  <a:pt x="21600" y="28804"/>
                </a:lnTo>
                <a:lnTo>
                  <a:pt x="0" y="28804"/>
                </a:lnTo>
                <a:close/>
              </a:path>
              <a:path fill="lightenLess" w="21600" h="28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4">
                <a:moveTo>
                  <a:pt x="21600" y="0"/>
                </a:moveTo>
                <a:lnTo>
                  <a:pt x="21600" y="28804"/>
                </a:lnTo>
                <a:lnTo>
                  <a:pt x="20200" y="27404"/>
                </a:lnTo>
                <a:lnTo>
                  <a:pt x="20200" y="1400"/>
                </a:lnTo>
                <a:close/>
              </a:path>
              <a:path fill="darkenLess" w="21600" h="28804">
                <a:moveTo>
                  <a:pt x="21600" y="28804"/>
                </a:moveTo>
                <a:lnTo>
                  <a:pt x="0" y="28804"/>
                </a:lnTo>
                <a:lnTo>
                  <a:pt x="1400" y="27404"/>
                </a:lnTo>
                <a:lnTo>
                  <a:pt x="20200" y="27404"/>
                </a:lnTo>
                <a:close/>
              </a:path>
              <a:path fill="lighten" w="21600" h="28804">
                <a:moveTo>
                  <a:pt x="0" y="28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4"/>
                </a:lnTo>
                <a:close/>
              </a:path>
              <a:path fill="darken" w="21600" h="28804">
                <a:moveTo>
                  <a:pt x="10800" y="7396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8804">
                <a:moveTo>
                  <a:pt x="10800" y="7770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8804">
                <a:moveTo>
                  <a:pt x="8224" y="11826"/>
                </a:moveTo>
                <a:lnTo>
                  <a:pt x="12088" y="11826"/>
                </a:lnTo>
                <a:lnTo>
                  <a:pt x="12088" y="18823"/>
                </a:lnTo>
                <a:lnTo>
                  <a:pt x="13376" y="18823"/>
                </a:lnTo>
                <a:lnTo>
                  <a:pt x="13376" y="19746"/>
                </a:lnTo>
                <a:lnTo>
                  <a:pt x="8224" y="19746"/>
                </a:lnTo>
                <a:lnTo>
                  <a:pt x="8224" y="18823"/>
                </a:lnTo>
                <a:lnTo>
                  <a:pt x="9512" y="18823"/>
                </a:lnTo>
                <a:lnTo>
                  <a:pt x="9512" y="12731"/>
                </a:lnTo>
                <a:lnTo>
                  <a:pt x="8224" y="12731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Двойная стрелка влево/вверх 73"/>
          <p:cNvSpPr/>
          <p:nvPr/>
        </p:nvSpPr>
        <p:spPr>
          <a:xfrm rot="18969000">
            <a:off x="8190000" y="5214600"/>
            <a:ext cx="785880" cy="8571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74"/>
          <p:cNvSpPr/>
          <p:nvPr/>
        </p:nvSpPr>
        <p:spPr>
          <a:xfrm>
            <a:off x="6572160" y="1011240"/>
            <a:ext cx="1928880" cy="48888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75"/>
          <p:cNvSpPr/>
          <p:nvPr/>
        </p:nvSpPr>
        <p:spPr>
          <a:xfrm>
            <a:off x="785880" y="1500120"/>
            <a:ext cx="3786120" cy="42876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Скругленный прямоугольник 27"/>
          <p:cNvSpPr/>
          <p:nvPr/>
        </p:nvSpPr>
        <p:spPr>
          <a:xfrm>
            <a:off x="4286160" y="4857840"/>
            <a:ext cx="292896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3 км/ч бол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Скругленный прямоугольник 58"/>
          <p:cNvSpPr/>
          <p:nvPr/>
        </p:nvSpPr>
        <p:spPr>
          <a:xfrm>
            <a:off x="1015920" y="2421000"/>
            <a:ext cx="707256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 –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стояние,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 –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орость,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 -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мя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Скругленный прямоугольник 62"/>
          <p:cNvSpPr/>
          <p:nvPr/>
        </p:nvSpPr>
        <p:spPr>
          <a:xfrm>
            <a:off x="3532320" y="3182760"/>
            <a:ext cx="20714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 = s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Группа 53"/>
          <p:cNvGrpSpPr/>
          <p:nvPr/>
        </p:nvGrpSpPr>
        <p:grpSpPr>
          <a:xfrm>
            <a:off x="500040" y="2386080"/>
            <a:ext cx="8215200" cy="1373760"/>
            <a:chOff x="500040" y="2386080"/>
            <a:chExt cx="8215200" cy="1373760"/>
          </a:xfrm>
        </p:grpSpPr>
        <p:sp>
          <p:nvSpPr>
            <p:cNvPr id="417" name="Скругленный прямоугольник 51"/>
            <p:cNvSpPr/>
            <p:nvPr/>
          </p:nvSpPr>
          <p:spPr>
            <a:xfrm>
              <a:off x="500040" y="2388960"/>
              <a:ext cx="8215200" cy="1357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Прямоугольник 52"/>
            <p:cNvSpPr/>
            <p:nvPr/>
          </p:nvSpPr>
          <p:spPr>
            <a:xfrm>
              <a:off x="571320" y="2386080"/>
              <a:ext cx="81439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усть х км/ч – скорость первого велосипедиста. Какое из уравнений соответствует условию задачи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19" name="Прямая со стрелкой 63"/>
          <p:cNvCxnSpPr/>
          <p:nvPr/>
        </p:nvCxnSpPr>
        <p:spPr>
          <a:xfrm>
            <a:off x="2500200" y="1428840"/>
            <a:ext cx="1000800" cy="4572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20" name="Прямая со стрелкой 31"/>
          <p:cNvCxnSpPr/>
          <p:nvPr/>
        </p:nvCxnSpPr>
        <p:spPr>
          <a:xfrm>
            <a:off x="2499120" y="1428480"/>
            <a:ext cx="1143720" cy="3715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21" name="Прямая со стрелкой 26"/>
          <p:cNvCxnSpPr/>
          <p:nvPr/>
        </p:nvCxnSpPr>
        <p:spPr>
          <a:xfrm>
            <a:off x="2071440" y="2786040"/>
            <a:ext cx="3072600" cy="2215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22" name="Прямая со стрелкой 40"/>
          <p:cNvCxnSpPr/>
          <p:nvPr/>
        </p:nvCxnSpPr>
        <p:spPr>
          <a:xfrm flipH="1">
            <a:off x="5714640" y="500040"/>
            <a:ext cx="1572480" cy="4572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23" name="Прямая со стрелкой 57"/>
          <p:cNvCxnSpPr/>
          <p:nvPr/>
        </p:nvCxnSpPr>
        <p:spPr>
          <a:xfrm flipH="1">
            <a:off x="6000480" y="500040"/>
            <a:ext cx="1286640" cy="5501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24" name="Прямая со стрелкой 36"/>
          <p:cNvCxnSpPr/>
          <p:nvPr/>
        </p:nvCxnSpPr>
        <p:spPr>
          <a:xfrm>
            <a:off x="7286760" y="1356840"/>
            <a:ext cx="1643760" cy="42872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p:timing>
    <p:tnLst>
      <p:par>
        <p:cTn id="524" dur="indefinite" restart="never" nodeType="tmRoot">
          <p:childTnLst>
            <p:seq>
              <p:cTn id="525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526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0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651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0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661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Группа 173"/>
          <p:cNvGrpSpPr/>
          <p:nvPr/>
        </p:nvGrpSpPr>
        <p:grpSpPr>
          <a:xfrm>
            <a:off x="2714760" y="2928960"/>
            <a:ext cx="3714480" cy="857880"/>
            <a:chOff x="2714760" y="2928960"/>
            <a:chExt cx="3714480" cy="857880"/>
          </a:xfrm>
        </p:grpSpPr>
        <p:sp>
          <p:nvSpPr>
            <p:cNvPr id="426" name="Скругленный прямоугольник 168"/>
            <p:cNvSpPr/>
            <p:nvPr/>
          </p:nvSpPr>
          <p:spPr>
            <a:xfrm>
              <a:off x="2714760" y="2928960"/>
              <a:ext cx="3714480" cy="857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 мин =        ч =        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Группа 172"/>
            <p:cNvGrpSpPr/>
            <p:nvPr/>
          </p:nvGrpSpPr>
          <p:grpSpPr>
            <a:xfrm>
              <a:off x="4327920" y="2928960"/>
              <a:ext cx="1631880" cy="857880"/>
              <a:chOff x="4327920" y="2928960"/>
              <a:chExt cx="1631880" cy="857880"/>
            </a:xfrm>
          </p:grpSpPr>
          <p:sp>
            <p:nvSpPr>
              <p:cNvPr id="428" name="Rectangle 16"/>
              <p:cNvSpPr/>
              <p:nvPr/>
            </p:nvSpPr>
            <p:spPr>
              <a:xfrm>
                <a:off x="4436640" y="335988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60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Rectangle 21"/>
              <p:cNvSpPr/>
              <p:nvPr/>
            </p:nvSpPr>
            <p:spPr>
              <a:xfrm>
                <a:off x="4327920" y="292896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Прямая соединительная линия 171"/>
              <p:cNvSpPr/>
              <p:nvPr/>
            </p:nvSpPr>
            <p:spPr>
              <a:xfrm>
                <a:off x="4357800" y="3360600"/>
                <a:ext cx="431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Rectangle 21"/>
              <p:cNvSpPr/>
              <p:nvPr/>
            </p:nvSpPr>
            <p:spPr>
              <a:xfrm>
                <a:off x="5589360" y="2928960"/>
                <a:ext cx="2674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Rectangle 16"/>
              <p:cNvSpPr/>
              <p:nvPr/>
            </p:nvSpPr>
            <p:spPr>
              <a:xfrm>
                <a:off x="5692320" y="3357720"/>
                <a:ext cx="2674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Прямая соединительная линия 86"/>
              <p:cNvSpPr/>
              <p:nvPr/>
            </p:nvSpPr>
            <p:spPr>
              <a:xfrm>
                <a:off x="5497560" y="3357360"/>
                <a:ext cx="431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434" name=""/>
          <p:cNvGraphicFramePr/>
          <p:nvPr/>
        </p:nvGraphicFramePr>
        <p:xfrm>
          <a:off x="817560" y="46080"/>
          <a:ext cx="7542360" cy="2844720"/>
        </p:xfrm>
        <a:graphic>
          <a:graphicData uri="http://schemas.openxmlformats.org/drawingml/2006/table">
            <a:tbl>
              <a:tblPr/>
              <a:tblGrid>
                <a:gridCol w="1968480"/>
                <a:gridCol w="1928880"/>
                <a:gridCol w="1930320"/>
                <a:gridCol w="17146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ояние (км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(км/ч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ый велосипеди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ой велосипеди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5" name="Скругленный прямоугольник 2"/>
          <p:cNvSpPr/>
          <p:nvPr/>
        </p:nvSpPr>
        <p:spPr>
          <a:xfrm>
            <a:off x="4917960" y="1163520"/>
            <a:ext cx="15112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Скругленный прямоугольник 3"/>
          <p:cNvSpPr/>
          <p:nvPr/>
        </p:nvSpPr>
        <p:spPr>
          <a:xfrm>
            <a:off x="4903920" y="2092320"/>
            <a:ext cx="152532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Скругленный прямоугольник 4"/>
          <p:cNvSpPr/>
          <p:nvPr/>
        </p:nvSpPr>
        <p:spPr>
          <a:xfrm>
            <a:off x="2898720" y="1092240"/>
            <a:ext cx="171468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Скругленный прямоугольник 5"/>
          <p:cNvSpPr/>
          <p:nvPr/>
        </p:nvSpPr>
        <p:spPr>
          <a:xfrm>
            <a:off x="2903400" y="2108160"/>
            <a:ext cx="17146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Группа 6"/>
          <p:cNvGrpSpPr/>
          <p:nvPr/>
        </p:nvGrpSpPr>
        <p:grpSpPr>
          <a:xfrm>
            <a:off x="7000920" y="949320"/>
            <a:ext cx="1214280" cy="857880"/>
            <a:chOff x="7000920" y="949320"/>
            <a:chExt cx="1214280" cy="857880"/>
          </a:xfrm>
        </p:grpSpPr>
        <p:sp>
          <p:nvSpPr>
            <p:cNvPr id="440" name="Скругленный прямоугольник 7"/>
            <p:cNvSpPr/>
            <p:nvPr/>
          </p:nvSpPr>
          <p:spPr>
            <a:xfrm>
              <a:off x="7000920" y="949320"/>
              <a:ext cx="1214280" cy="857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Группа 13"/>
            <p:cNvGrpSpPr/>
            <p:nvPr/>
          </p:nvGrpSpPr>
          <p:grpSpPr>
            <a:xfrm>
              <a:off x="7363800" y="949320"/>
              <a:ext cx="450360" cy="857880"/>
              <a:chOff x="7363800" y="949320"/>
              <a:chExt cx="450360" cy="857880"/>
            </a:xfrm>
          </p:grpSpPr>
          <p:sp>
            <p:nvSpPr>
              <p:cNvPr id="442" name="Rectangle 16"/>
              <p:cNvSpPr/>
              <p:nvPr/>
            </p:nvSpPr>
            <p:spPr>
              <a:xfrm>
                <a:off x="7555680" y="1380240"/>
                <a:ext cx="2462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х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Rectangle 21"/>
              <p:cNvSpPr/>
              <p:nvPr/>
            </p:nvSpPr>
            <p:spPr>
              <a:xfrm>
                <a:off x="7368120" y="94932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Прямая соединительная линия 11"/>
              <p:cNvSpPr/>
              <p:nvPr/>
            </p:nvSpPr>
            <p:spPr>
              <a:xfrm>
                <a:off x="7363800" y="1380960"/>
                <a:ext cx="432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5" name="Группа 12"/>
          <p:cNvGrpSpPr/>
          <p:nvPr/>
        </p:nvGrpSpPr>
        <p:grpSpPr>
          <a:xfrm>
            <a:off x="7000920" y="1933560"/>
            <a:ext cx="1214280" cy="888840"/>
            <a:chOff x="7000920" y="1933560"/>
            <a:chExt cx="1214280" cy="888840"/>
          </a:xfrm>
        </p:grpSpPr>
        <p:sp>
          <p:nvSpPr>
            <p:cNvPr id="446" name="Скругленный прямоугольник 13"/>
            <p:cNvSpPr/>
            <p:nvPr/>
          </p:nvSpPr>
          <p:spPr>
            <a:xfrm>
              <a:off x="7000920" y="1963440"/>
              <a:ext cx="1214280" cy="858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" name="Группа 20"/>
            <p:cNvGrpSpPr/>
            <p:nvPr/>
          </p:nvGrpSpPr>
          <p:grpSpPr>
            <a:xfrm>
              <a:off x="7229880" y="1933560"/>
              <a:ext cx="924480" cy="856080"/>
              <a:chOff x="7229880" y="1933560"/>
              <a:chExt cx="924480" cy="856080"/>
            </a:xfrm>
          </p:grpSpPr>
          <p:sp>
            <p:nvSpPr>
              <p:cNvPr id="448" name="Rectangle 16"/>
              <p:cNvSpPr/>
              <p:nvPr/>
            </p:nvSpPr>
            <p:spPr>
              <a:xfrm>
                <a:off x="7286040" y="2362680"/>
                <a:ext cx="868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х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– 3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Rectangle 21"/>
              <p:cNvSpPr/>
              <p:nvPr/>
            </p:nvSpPr>
            <p:spPr>
              <a:xfrm>
                <a:off x="7401240" y="193356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Прямая соединительная линия 17"/>
              <p:cNvSpPr/>
              <p:nvPr/>
            </p:nvSpPr>
            <p:spPr>
              <a:xfrm>
                <a:off x="7229880" y="2365200"/>
                <a:ext cx="720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1" name="Скругленный прямоугольник 19"/>
          <p:cNvSpPr/>
          <p:nvPr/>
        </p:nvSpPr>
        <p:spPr>
          <a:xfrm>
            <a:off x="785880" y="2928960"/>
            <a:ext cx="757224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мя первого велосипедиста на 20 мин меньше, чем время втор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Группа 112"/>
          <p:cNvGrpSpPr/>
          <p:nvPr/>
        </p:nvGrpSpPr>
        <p:grpSpPr>
          <a:xfrm>
            <a:off x="1332000" y="3789360"/>
            <a:ext cx="3787560" cy="858960"/>
            <a:chOff x="1332000" y="3789360"/>
            <a:chExt cx="3787560" cy="858960"/>
          </a:xfrm>
        </p:grpSpPr>
        <p:sp>
          <p:nvSpPr>
            <p:cNvPr id="453" name="Скругленный прямоугольник 113"/>
            <p:cNvSpPr/>
            <p:nvPr/>
          </p:nvSpPr>
          <p:spPr>
            <a:xfrm>
              <a:off x="1332000" y="3863880"/>
              <a:ext cx="3787560" cy="714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А.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4" name="Группа 69"/>
            <p:cNvGrpSpPr/>
            <p:nvPr/>
          </p:nvGrpSpPr>
          <p:grpSpPr>
            <a:xfrm>
              <a:off x="2315880" y="3789360"/>
              <a:ext cx="2739600" cy="858960"/>
              <a:chOff x="2315880" y="3789360"/>
              <a:chExt cx="2739600" cy="858960"/>
            </a:xfrm>
          </p:grpSpPr>
          <p:grpSp>
            <p:nvGrpSpPr>
              <p:cNvPr id="455" name="Группа 53"/>
              <p:cNvGrpSpPr/>
              <p:nvPr/>
            </p:nvGrpSpPr>
            <p:grpSpPr>
              <a:xfrm>
                <a:off x="2315880" y="3789360"/>
                <a:ext cx="2240640" cy="855720"/>
                <a:chOff x="2315880" y="3789360"/>
                <a:chExt cx="2240640" cy="855720"/>
              </a:xfrm>
            </p:grpSpPr>
            <p:sp>
              <p:nvSpPr>
                <p:cNvPr id="456" name="Rectangle 19"/>
                <p:cNvSpPr/>
                <p:nvPr/>
              </p:nvSpPr>
              <p:spPr>
                <a:xfrm>
                  <a:off x="4273920" y="3973320"/>
                  <a:ext cx="282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7" name="Группа 110"/>
                <p:cNvGrpSpPr/>
                <p:nvPr/>
              </p:nvGrpSpPr>
              <p:grpSpPr>
                <a:xfrm>
                  <a:off x="2315880" y="3789360"/>
                  <a:ext cx="458640" cy="855720"/>
                  <a:chOff x="2315880" y="3789360"/>
                  <a:chExt cx="458640" cy="855720"/>
                </a:xfrm>
              </p:grpSpPr>
              <p:sp>
                <p:nvSpPr>
                  <p:cNvPr id="458" name="Rectangle 16"/>
                  <p:cNvSpPr/>
                  <p:nvPr/>
                </p:nvSpPr>
                <p:spPr>
                  <a:xfrm>
                    <a:off x="2468160" y="4218120"/>
                    <a:ext cx="1576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Прямая соединительная линия 128"/>
                  <p:cNvSpPr/>
                  <p:nvPr/>
                </p:nvSpPr>
                <p:spPr>
                  <a:xfrm>
                    <a:off x="2316600" y="4218120"/>
                    <a:ext cx="45792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Rectangle 21"/>
                  <p:cNvSpPr/>
                  <p:nvPr/>
                </p:nvSpPr>
                <p:spPr>
                  <a:xfrm>
                    <a:off x="2315880" y="3789360"/>
                    <a:ext cx="44604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1" name="Rectangle 18"/>
                <p:cNvSpPr/>
                <p:nvPr/>
              </p:nvSpPr>
              <p:spPr>
                <a:xfrm>
                  <a:off x="2922120" y="397836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–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2" name="Группа 112"/>
                <p:cNvGrpSpPr/>
                <p:nvPr/>
              </p:nvGrpSpPr>
              <p:grpSpPr>
                <a:xfrm>
                  <a:off x="3291480" y="3803400"/>
                  <a:ext cx="919080" cy="841680"/>
                  <a:chOff x="3291480" y="3803400"/>
                  <a:chExt cx="919080" cy="841680"/>
                </a:xfrm>
              </p:grpSpPr>
              <p:sp>
                <p:nvSpPr>
                  <p:cNvPr id="463" name="Rectangle 14"/>
                  <p:cNvSpPr/>
                  <p:nvPr/>
                </p:nvSpPr>
                <p:spPr>
                  <a:xfrm>
                    <a:off x="3327120" y="4218120"/>
                    <a:ext cx="69120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– 3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Прямая соединительная линия 125"/>
                  <p:cNvSpPr/>
                  <p:nvPr/>
                </p:nvSpPr>
                <p:spPr>
                  <a:xfrm>
                    <a:off x="3291480" y="4218120"/>
                    <a:ext cx="91908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Rectangle 13"/>
                  <p:cNvSpPr/>
                  <p:nvPr/>
                </p:nvSpPr>
                <p:spPr>
                  <a:xfrm>
                    <a:off x="3539160" y="3803400"/>
                    <a:ext cx="3574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6" name="Группа 65"/>
              <p:cNvGrpSpPr/>
              <p:nvPr/>
            </p:nvGrpSpPr>
            <p:grpSpPr>
              <a:xfrm>
                <a:off x="4597560" y="3789360"/>
                <a:ext cx="457920" cy="858960"/>
                <a:chOff x="4597560" y="3789360"/>
                <a:chExt cx="457920" cy="858960"/>
              </a:xfrm>
            </p:grpSpPr>
            <p:sp>
              <p:nvSpPr>
                <p:cNvPr id="467" name="Rectangle 16"/>
                <p:cNvSpPr/>
                <p:nvPr/>
              </p:nvSpPr>
              <p:spPr>
                <a:xfrm>
                  <a:off x="4714200" y="422136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Rectangle 21"/>
                <p:cNvSpPr/>
                <p:nvPr/>
              </p:nvSpPr>
              <p:spPr>
                <a:xfrm>
                  <a:off x="4600080" y="378936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Прямая соединительная линия 119"/>
                <p:cNvSpPr/>
                <p:nvPr/>
              </p:nvSpPr>
              <p:spPr>
                <a:xfrm>
                  <a:off x="4597560" y="4221360"/>
                  <a:ext cx="45792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70" name="Скругленный прямоугольник 130"/>
          <p:cNvSpPr/>
          <p:nvPr/>
        </p:nvSpPr>
        <p:spPr>
          <a:xfrm>
            <a:off x="5302080" y="3827520"/>
            <a:ext cx="205596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Группа 131"/>
          <p:cNvGrpSpPr/>
          <p:nvPr/>
        </p:nvGrpSpPr>
        <p:grpSpPr>
          <a:xfrm>
            <a:off x="1332000" y="4508640"/>
            <a:ext cx="3816360" cy="860760"/>
            <a:chOff x="1332000" y="4508640"/>
            <a:chExt cx="3816360" cy="860760"/>
          </a:xfrm>
        </p:grpSpPr>
        <p:sp>
          <p:nvSpPr>
            <p:cNvPr id="472" name="Скругленный прямоугольник 132"/>
            <p:cNvSpPr/>
            <p:nvPr/>
          </p:nvSpPr>
          <p:spPr>
            <a:xfrm>
              <a:off x="1332000" y="4584600"/>
              <a:ext cx="3816360" cy="714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Б.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Группа 69"/>
            <p:cNvGrpSpPr/>
            <p:nvPr/>
          </p:nvGrpSpPr>
          <p:grpSpPr>
            <a:xfrm>
              <a:off x="2241000" y="4508640"/>
              <a:ext cx="2842920" cy="860760"/>
              <a:chOff x="2241000" y="4508640"/>
              <a:chExt cx="2842920" cy="860760"/>
            </a:xfrm>
          </p:grpSpPr>
          <p:grpSp>
            <p:nvGrpSpPr>
              <p:cNvPr id="474" name="Группа 53"/>
              <p:cNvGrpSpPr/>
              <p:nvPr/>
            </p:nvGrpSpPr>
            <p:grpSpPr>
              <a:xfrm>
                <a:off x="2241000" y="4508640"/>
                <a:ext cx="2339640" cy="858600"/>
                <a:chOff x="2241000" y="4508640"/>
                <a:chExt cx="2339640" cy="858600"/>
              </a:xfrm>
            </p:grpSpPr>
            <p:sp>
              <p:nvSpPr>
                <p:cNvPr id="475" name="Rectangle 19"/>
                <p:cNvSpPr/>
                <p:nvPr/>
              </p:nvSpPr>
              <p:spPr>
                <a:xfrm>
                  <a:off x="4298040" y="4695840"/>
                  <a:ext cx="282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76" name="Группа 110"/>
                <p:cNvGrpSpPr/>
                <p:nvPr/>
              </p:nvGrpSpPr>
              <p:grpSpPr>
                <a:xfrm>
                  <a:off x="2241000" y="4508640"/>
                  <a:ext cx="770040" cy="858600"/>
                  <a:chOff x="2241000" y="4508640"/>
                  <a:chExt cx="770040" cy="858600"/>
                </a:xfrm>
              </p:grpSpPr>
              <p:sp>
                <p:nvSpPr>
                  <p:cNvPr id="477" name="Rectangle 16"/>
                  <p:cNvSpPr/>
                  <p:nvPr/>
                </p:nvSpPr>
                <p:spPr>
                  <a:xfrm>
                    <a:off x="2247120" y="4940280"/>
                    <a:ext cx="69120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– 3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Прямая соединительная линия 147"/>
                  <p:cNvSpPr/>
                  <p:nvPr/>
                </p:nvSpPr>
                <p:spPr>
                  <a:xfrm>
                    <a:off x="2241000" y="4940640"/>
                    <a:ext cx="77004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Rectangle 21"/>
                  <p:cNvSpPr/>
                  <p:nvPr/>
                </p:nvSpPr>
                <p:spPr>
                  <a:xfrm>
                    <a:off x="2378160" y="4508640"/>
                    <a:ext cx="44604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0" name="Rectangle 18"/>
                <p:cNvSpPr/>
                <p:nvPr/>
              </p:nvSpPr>
              <p:spPr>
                <a:xfrm>
                  <a:off x="3180960" y="470052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–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81" name="Группа 112"/>
                <p:cNvGrpSpPr/>
                <p:nvPr/>
              </p:nvGrpSpPr>
              <p:grpSpPr>
                <a:xfrm>
                  <a:off x="3542040" y="4525200"/>
                  <a:ext cx="461160" cy="840960"/>
                  <a:chOff x="3542040" y="4525200"/>
                  <a:chExt cx="461160" cy="840960"/>
                </a:xfrm>
              </p:grpSpPr>
              <p:sp>
                <p:nvSpPr>
                  <p:cNvPr id="482" name="Rectangle 14"/>
                  <p:cNvSpPr/>
                  <p:nvPr/>
                </p:nvSpPr>
                <p:spPr>
                  <a:xfrm>
                    <a:off x="3680280" y="4939200"/>
                    <a:ext cx="1576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Прямая соединительная линия 144"/>
                  <p:cNvSpPr/>
                  <p:nvPr/>
                </p:nvSpPr>
                <p:spPr>
                  <a:xfrm>
                    <a:off x="3542040" y="4938840"/>
                    <a:ext cx="46116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Rectangle 13"/>
                  <p:cNvSpPr/>
                  <p:nvPr/>
                </p:nvSpPr>
                <p:spPr>
                  <a:xfrm>
                    <a:off x="3555720" y="4525200"/>
                    <a:ext cx="3574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5" name="Группа 65"/>
              <p:cNvGrpSpPr/>
              <p:nvPr/>
            </p:nvGrpSpPr>
            <p:grpSpPr>
              <a:xfrm>
                <a:off x="4622760" y="4510800"/>
                <a:ext cx="461160" cy="858600"/>
                <a:chOff x="4622760" y="4510800"/>
                <a:chExt cx="461160" cy="858600"/>
              </a:xfrm>
            </p:grpSpPr>
            <p:sp>
              <p:nvSpPr>
                <p:cNvPr id="486" name="Rectangle 16"/>
                <p:cNvSpPr/>
                <p:nvPr/>
              </p:nvSpPr>
              <p:spPr>
                <a:xfrm>
                  <a:off x="4741200" y="494244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Rectangle 21"/>
                <p:cNvSpPr/>
                <p:nvPr/>
              </p:nvSpPr>
              <p:spPr>
                <a:xfrm>
                  <a:off x="4625280" y="451080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Прямая соединительная линия 138"/>
                <p:cNvSpPr/>
                <p:nvPr/>
              </p:nvSpPr>
              <p:spPr>
                <a:xfrm>
                  <a:off x="4622760" y="4942080"/>
                  <a:ext cx="4611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89" name="Скругленный прямоугольник 149"/>
          <p:cNvSpPr/>
          <p:nvPr/>
        </p:nvSpPr>
        <p:spPr>
          <a:xfrm>
            <a:off x="5286240" y="4589640"/>
            <a:ext cx="2055960" cy="712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Группа 150"/>
          <p:cNvGrpSpPr/>
          <p:nvPr/>
        </p:nvGrpSpPr>
        <p:grpSpPr>
          <a:xfrm>
            <a:off x="1332000" y="5229360"/>
            <a:ext cx="3816360" cy="858600"/>
            <a:chOff x="1332000" y="5229360"/>
            <a:chExt cx="3816360" cy="858600"/>
          </a:xfrm>
        </p:grpSpPr>
        <p:sp>
          <p:nvSpPr>
            <p:cNvPr id="491" name="Скругленный прямоугольник 151"/>
            <p:cNvSpPr/>
            <p:nvPr/>
          </p:nvSpPr>
          <p:spPr>
            <a:xfrm>
              <a:off x="1332000" y="5305320"/>
              <a:ext cx="3816360" cy="714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В.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2" name="Группа 69"/>
            <p:cNvGrpSpPr/>
            <p:nvPr/>
          </p:nvGrpSpPr>
          <p:grpSpPr>
            <a:xfrm>
              <a:off x="2241000" y="5229360"/>
              <a:ext cx="2817360" cy="858600"/>
              <a:chOff x="2241000" y="5229360"/>
              <a:chExt cx="2817360" cy="858600"/>
            </a:xfrm>
          </p:grpSpPr>
          <p:grpSp>
            <p:nvGrpSpPr>
              <p:cNvPr id="493" name="Группа 53"/>
              <p:cNvGrpSpPr/>
              <p:nvPr/>
            </p:nvGrpSpPr>
            <p:grpSpPr>
              <a:xfrm>
                <a:off x="2241000" y="5229360"/>
                <a:ext cx="2338560" cy="858600"/>
                <a:chOff x="2241000" y="5229360"/>
                <a:chExt cx="2338560" cy="858600"/>
              </a:xfrm>
            </p:grpSpPr>
            <p:sp>
              <p:nvSpPr>
                <p:cNvPr id="494" name="Rectangle 19"/>
                <p:cNvSpPr/>
                <p:nvPr/>
              </p:nvSpPr>
              <p:spPr>
                <a:xfrm>
                  <a:off x="4296960" y="5416560"/>
                  <a:ext cx="282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5" name="Группа 110"/>
                <p:cNvGrpSpPr/>
                <p:nvPr/>
              </p:nvGrpSpPr>
              <p:grpSpPr>
                <a:xfrm>
                  <a:off x="2241000" y="5229360"/>
                  <a:ext cx="770040" cy="858600"/>
                  <a:chOff x="2241000" y="5229360"/>
                  <a:chExt cx="770040" cy="858600"/>
                </a:xfrm>
              </p:grpSpPr>
              <p:sp>
                <p:nvSpPr>
                  <p:cNvPr id="496" name="Rectangle 16"/>
                  <p:cNvSpPr/>
                  <p:nvPr/>
                </p:nvSpPr>
                <p:spPr>
                  <a:xfrm>
                    <a:off x="2247120" y="5661000"/>
                    <a:ext cx="69120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– 3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Прямая соединительная линия 163"/>
                  <p:cNvSpPr/>
                  <p:nvPr/>
                </p:nvSpPr>
                <p:spPr>
                  <a:xfrm>
                    <a:off x="2241000" y="5661360"/>
                    <a:ext cx="77004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Rectangle 21"/>
                  <p:cNvSpPr/>
                  <p:nvPr/>
                </p:nvSpPr>
                <p:spPr>
                  <a:xfrm>
                    <a:off x="2378160" y="5229360"/>
                    <a:ext cx="44604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9" name="Rectangle 18"/>
                <p:cNvSpPr/>
                <p:nvPr/>
              </p:nvSpPr>
              <p:spPr>
                <a:xfrm>
                  <a:off x="3182400" y="542124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–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0" name="Группа 112"/>
                <p:cNvGrpSpPr/>
                <p:nvPr/>
              </p:nvGrpSpPr>
              <p:grpSpPr>
                <a:xfrm>
                  <a:off x="3542040" y="5245920"/>
                  <a:ext cx="461160" cy="841320"/>
                  <a:chOff x="3542040" y="5245920"/>
                  <a:chExt cx="461160" cy="841320"/>
                </a:xfrm>
              </p:grpSpPr>
              <p:sp>
                <p:nvSpPr>
                  <p:cNvPr id="501" name="Rectangle 14"/>
                  <p:cNvSpPr/>
                  <p:nvPr/>
                </p:nvSpPr>
                <p:spPr>
                  <a:xfrm>
                    <a:off x="3678840" y="5660280"/>
                    <a:ext cx="1576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Прямая соединительная линия 160"/>
                  <p:cNvSpPr/>
                  <p:nvPr/>
                </p:nvSpPr>
                <p:spPr>
                  <a:xfrm>
                    <a:off x="3542040" y="5659920"/>
                    <a:ext cx="46116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Rectangle 13"/>
                  <p:cNvSpPr/>
                  <p:nvPr/>
                </p:nvSpPr>
                <p:spPr>
                  <a:xfrm>
                    <a:off x="3556800" y="5245920"/>
                    <a:ext cx="3574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4" name="Rectangle 16"/>
              <p:cNvSpPr/>
              <p:nvPr/>
            </p:nvSpPr>
            <p:spPr>
              <a:xfrm>
                <a:off x="4612320" y="544176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5" name="Скругленный прямоугольник 165"/>
          <p:cNvSpPr/>
          <p:nvPr/>
        </p:nvSpPr>
        <p:spPr>
          <a:xfrm>
            <a:off x="5286240" y="5351400"/>
            <a:ext cx="2055960" cy="712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Скругленный прямоугольник 166"/>
          <p:cNvSpPr/>
          <p:nvPr/>
        </p:nvSpPr>
        <p:spPr>
          <a:xfrm>
            <a:off x="1332000" y="6143760"/>
            <a:ext cx="378756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3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Скругленный прямоугольник 167"/>
          <p:cNvSpPr/>
          <p:nvPr/>
        </p:nvSpPr>
        <p:spPr>
          <a:xfrm>
            <a:off x="5286240" y="6103800"/>
            <a:ext cx="2055960" cy="712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Группа 184"/>
          <p:cNvGrpSpPr/>
          <p:nvPr/>
        </p:nvGrpSpPr>
        <p:grpSpPr>
          <a:xfrm>
            <a:off x="5286240" y="6024600"/>
            <a:ext cx="2071800" cy="793800"/>
            <a:chOff x="5286240" y="6024600"/>
            <a:chExt cx="2071800" cy="793800"/>
          </a:xfrm>
        </p:grpSpPr>
        <p:sp>
          <p:nvSpPr>
            <p:cNvPr id="509" name="Скругленный прямоугольник 179"/>
            <p:cNvSpPr/>
            <p:nvPr/>
          </p:nvSpPr>
          <p:spPr>
            <a:xfrm>
              <a:off x="5286240" y="6105600"/>
              <a:ext cx="2071800" cy="712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0" name="Группа 180"/>
            <p:cNvGrpSpPr/>
            <p:nvPr/>
          </p:nvGrpSpPr>
          <p:grpSpPr>
            <a:xfrm>
              <a:off x="5551200" y="6024600"/>
              <a:ext cx="1155960" cy="684720"/>
              <a:chOff x="5551200" y="6024600"/>
              <a:chExt cx="1155960" cy="684720"/>
            </a:xfrm>
          </p:grpSpPr>
          <p:sp>
            <p:nvSpPr>
              <p:cNvPr id="511" name="Rectangle 87"/>
              <p:cNvSpPr/>
              <p:nvPr/>
            </p:nvSpPr>
            <p:spPr>
              <a:xfrm>
                <a:off x="5838480" y="6024600"/>
                <a:ext cx="60732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s∙</a:t>
                </a:r>
                <a:r>
                  <a:rPr b="0" i="1" lang="ru-RU" sz="4400" spc="-1" strike="noStrike">
                    <a:solidFill>
                      <a:srgbClr val="ff0000"/>
                    </a:solidFill>
                    <a:latin typeface="Times New Roman"/>
                  </a:rPr>
                  <a:t>v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Прямая соединительная линия 182"/>
              <p:cNvSpPr/>
              <p:nvPr/>
            </p:nvSpPr>
            <p:spPr>
              <a:xfrm>
                <a:off x="5551200" y="6260760"/>
                <a:ext cx="1112040" cy="419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Прямая соединительная линия 183"/>
              <p:cNvSpPr/>
              <p:nvPr/>
            </p:nvSpPr>
            <p:spPr>
              <a:xfrm flipH="1">
                <a:off x="5649120" y="6283800"/>
                <a:ext cx="1058040" cy="425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4" name="Группа 185"/>
          <p:cNvGrpSpPr/>
          <p:nvPr/>
        </p:nvGrpSpPr>
        <p:grpSpPr>
          <a:xfrm>
            <a:off x="5286240" y="3772080"/>
            <a:ext cx="2071800" cy="769680"/>
            <a:chOff x="5286240" y="3772080"/>
            <a:chExt cx="2071800" cy="769680"/>
          </a:xfrm>
        </p:grpSpPr>
        <p:sp>
          <p:nvSpPr>
            <p:cNvPr id="515" name="Скругленный прямоугольник 102"/>
            <p:cNvSpPr/>
            <p:nvPr/>
          </p:nvSpPr>
          <p:spPr>
            <a:xfrm>
              <a:off x="5286240" y="3827520"/>
              <a:ext cx="2071800" cy="714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Группа 90"/>
            <p:cNvGrpSpPr/>
            <p:nvPr/>
          </p:nvGrpSpPr>
          <p:grpSpPr>
            <a:xfrm>
              <a:off x="5857920" y="3772080"/>
              <a:ext cx="1000080" cy="730440"/>
              <a:chOff x="5857920" y="3772080"/>
              <a:chExt cx="1000080" cy="730440"/>
            </a:xfrm>
          </p:grpSpPr>
          <p:sp>
            <p:nvSpPr>
              <p:cNvPr id="517" name="Rectangle 78"/>
              <p:cNvSpPr/>
              <p:nvPr/>
            </p:nvSpPr>
            <p:spPr>
              <a:xfrm>
                <a:off x="5986080" y="411336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Rectangle 80"/>
              <p:cNvSpPr/>
              <p:nvPr/>
            </p:nvSpPr>
            <p:spPr>
              <a:xfrm>
                <a:off x="6698880" y="412128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Rectangle 84"/>
              <p:cNvSpPr/>
              <p:nvPr/>
            </p:nvSpPr>
            <p:spPr>
              <a:xfrm>
                <a:off x="5857920" y="3772080"/>
                <a:ext cx="15624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t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Rectangle 86"/>
              <p:cNvSpPr/>
              <p:nvPr/>
            </p:nvSpPr>
            <p:spPr>
              <a:xfrm>
                <a:off x="6534360" y="3780000"/>
                <a:ext cx="15624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t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93"/>
              <p:cNvSpPr/>
              <p:nvPr/>
            </p:nvSpPr>
            <p:spPr>
              <a:xfrm>
                <a:off x="6134400" y="3823920"/>
                <a:ext cx="32688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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2" name="Группа 188"/>
          <p:cNvGrpSpPr/>
          <p:nvPr/>
        </p:nvGrpSpPr>
        <p:grpSpPr>
          <a:xfrm>
            <a:off x="5286240" y="5353200"/>
            <a:ext cx="2071800" cy="712800"/>
            <a:chOff x="5286240" y="5353200"/>
            <a:chExt cx="2071800" cy="712800"/>
          </a:xfrm>
        </p:grpSpPr>
        <p:sp>
          <p:nvSpPr>
            <p:cNvPr id="523" name="Скругленный прямоугольник 88"/>
            <p:cNvSpPr/>
            <p:nvPr/>
          </p:nvSpPr>
          <p:spPr>
            <a:xfrm>
              <a:off x="5286240" y="5353200"/>
              <a:ext cx="2071800" cy="712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20 мин!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Группа 178"/>
            <p:cNvGrpSpPr/>
            <p:nvPr/>
          </p:nvGrpSpPr>
          <p:grpSpPr>
            <a:xfrm>
              <a:off x="5733720" y="5471640"/>
              <a:ext cx="1045800" cy="477720"/>
              <a:chOff x="5733720" y="5471640"/>
              <a:chExt cx="1045800" cy="477720"/>
            </a:xfrm>
          </p:grpSpPr>
          <p:sp>
            <p:nvSpPr>
              <p:cNvPr id="525" name="Прямая соединительная линия 186"/>
              <p:cNvSpPr/>
              <p:nvPr/>
            </p:nvSpPr>
            <p:spPr>
              <a:xfrm>
                <a:off x="5733720" y="5471640"/>
                <a:ext cx="1045800" cy="453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Прямая соединительная линия 187"/>
              <p:cNvSpPr/>
              <p:nvPr/>
            </p:nvSpPr>
            <p:spPr>
              <a:xfrm flipH="1">
                <a:off x="5736600" y="5475960"/>
                <a:ext cx="1036440" cy="473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27" name="Picture 1" descr="C:\Users\Надежда\Desktop\43d14d9e7b26c0d8588286b8b358e05f.gif"/>
          <p:cNvPicPr/>
          <p:nvPr/>
        </p:nvPicPr>
        <p:blipFill>
          <a:blip r:embed="rId1"/>
          <a:stretch/>
        </p:blipFill>
        <p:spPr>
          <a:xfrm>
            <a:off x="7858080" y="4572000"/>
            <a:ext cx="523800" cy="695160"/>
          </a:xfrm>
          <a:prstGeom prst="rect">
            <a:avLst/>
          </a:prstGeom>
          <a:ln w="0">
            <a:noFill/>
          </a:ln>
        </p:spPr>
      </p:pic>
      <p:grpSp>
        <p:nvGrpSpPr>
          <p:cNvPr id="528" name="Группа 106"/>
          <p:cNvGrpSpPr/>
          <p:nvPr/>
        </p:nvGrpSpPr>
        <p:grpSpPr>
          <a:xfrm>
            <a:off x="7829640" y="5357880"/>
            <a:ext cx="1243080" cy="1285920"/>
            <a:chOff x="7829640" y="5357880"/>
            <a:chExt cx="1243080" cy="1285920"/>
          </a:xfrm>
        </p:grpSpPr>
        <p:pic>
          <p:nvPicPr>
            <p:cNvPr id="529" name="Picture 3" descr="C:\Users\Надежда\Videos\Downloads\Pictures\Организатор клипов (Microsoft)\j0441443.png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72640" y="5357880"/>
              <a:ext cx="79200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Скругленный прямоугольник 108">
              <a:hlinkClick r:id="" action="ppaction://hlinkshowjump?jump=endshow"/>
            </p:cNvPr>
            <p:cNvSpPr/>
            <p:nvPr/>
          </p:nvSpPr>
          <p:spPr>
            <a:xfrm>
              <a:off x="7829640" y="6212160"/>
              <a:ext cx="1243080" cy="43164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66"/>
                  </a:solidFill>
                  <a:latin typeface="Times New Roman"/>
                  <a:ea typeface="Times New Roman"/>
                </a:rPr>
                <a:t>вых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70" dur="indefinite" restart="never" nodeType="tmRoot">
          <p:childTnLst>
            <p:seq>
              <p:cTn id="671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672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6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677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1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692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3" restart="whenNotActive" nodeType="interactiveSeq" fill="hold">
                <p:stCondLst>
                  <p:cond evt="onClick">
                    <p:tgtEl>
                      <p:spTgt spid="490"/>
                    </p:tgtEl>
                  </p:cond>
                </p:stCondLst>
                <p:childTnLst>
                  <p:par>
                    <p:cTn id="704" fill="hold">
                      <p:stCondLst>
                        <p:cond evt="onClick">
                          <p:tgtEl>
                            <p:spTgt spid="490"/>
                          </p:tgtEl>
                        </p:cond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evt="onClick">
                          <p:tgtEl>
                            <p:spTgt spid="490"/>
                          </p:tgtEl>
                        </p:cond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evt="onClick">
                          <p:tgtEl>
                            <p:spTgt spid="490"/>
                          </p:tgtEl>
                        </p:cond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8" restart="whenNotActive" nodeType="interactiveSeq" fill="hold">
                <p:stCondLst>
                  <p:cond evt="onClick">
                    <p:tgtEl>
                      <p:spTgt spid="506"/>
                    </p:tgtEl>
                  </p:cond>
                </p:stCondLst>
                <p:childTnLst>
                  <p:par>
                    <p:cTn id="719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31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532" name="Группа 46"/>
          <p:cNvGrpSpPr/>
          <p:nvPr/>
        </p:nvGrpSpPr>
        <p:grpSpPr>
          <a:xfrm>
            <a:off x="500040" y="82440"/>
            <a:ext cx="8215200" cy="1917720"/>
            <a:chOff x="500040" y="82440"/>
            <a:chExt cx="8215200" cy="1917720"/>
          </a:xfrm>
        </p:grpSpPr>
        <p:sp>
          <p:nvSpPr>
            <p:cNvPr id="533" name="Скругленный прямоугольник 44"/>
            <p:cNvSpPr/>
            <p:nvPr/>
          </p:nvSpPr>
          <p:spPr>
            <a:xfrm>
              <a:off x="500040" y="82440"/>
              <a:ext cx="8215200" cy="1917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елосипедист от озера до деревни ехал со скоростью 15 км/ч, а обратно – со скоростью 10 км/ч. Сколько времени ушло у него на дорогу от озера до деревни, если на весь путь туда и обратно велосипедист затратил 1 ч? Велосипедист от озера до деревни ехал со скоростью 15 км/ч, а обратно – со скоростью 10 км/ч. Сколько времени ушло у него на дорогу от озера до деревни, если на весь путь туда и обратно велосипедист затратил 1 ч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Прямоугольник 45"/>
            <p:cNvSpPr/>
            <p:nvPr/>
          </p:nvSpPr>
          <p:spPr>
            <a:xfrm>
              <a:off x="785520" y="82440"/>
              <a:ext cx="77151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корость первого пешехода на 1 км/ч больше скорости второго, поэтому на путь длиной 5 км ему потребовалось на 15 мин меньше, чем второму. Чему равны скорости пешеходов?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35" name=""/>
          <p:cNvGraphicFramePr/>
          <p:nvPr/>
        </p:nvGraphicFramePr>
        <p:xfrm>
          <a:off x="817560" y="3429000"/>
          <a:ext cx="7542360" cy="2844720"/>
        </p:xfrm>
        <a:graphic>
          <a:graphicData uri="http://schemas.openxmlformats.org/drawingml/2006/table">
            <a:tbl>
              <a:tblPr/>
              <a:tblGrid>
                <a:gridCol w="1968480"/>
                <a:gridCol w="1928880"/>
                <a:gridCol w="1930320"/>
                <a:gridCol w="17146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ояние (км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(км/ч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ый пешех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ой пешех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6" name="Скругленный прямоугольник 59"/>
          <p:cNvSpPr/>
          <p:nvPr/>
        </p:nvSpPr>
        <p:spPr>
          <a:xfrm>
            <a:off x="4917960" y="4459320"/>
            <a:ext cx="151128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Скругленный прямоугольник 60"/>
          <p:cNvSpPr/>
          <p:nvPr/>
        </p:nvSpPr>
        <p:spPr>
          <a:xfrm>
            <a:off x="4903920" y="5459400"/>
            <a:ext cx="152532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Скругленный прямоугольник 61"/>
          <p:cNvSpPr/>
          <p:nvPr/>
        </p:nvSpPr>
        <p:spPr>
          <a:xfrm>
            <a:off x="2898720" y="4459320"/>
            <a:ext cx="171468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1" descr="F:\2.jpg"/>
          <p:cNvPicPr/>
          <p:nvPr/>
        </p:nvPicPr>
        <p:blipFill>
          <a:blip r:embed="rId1"/>
          <a:stretch/>
        </p:blipFill>
        <p:spPr>
          <a:xfrm>
            <a:off x="3902040" y="6334200"/>
            <a:ext cx="1316160" cy="5428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2" descr="C:\Users\Надежда\Desktop\КАРТИНКИ\рисунок Стрелка влево\102.gif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01040" y="628668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541" name="Скругленный прямоугольник 35"/>
          <p:cNvSpPr/>
          <p:nvPr/>
        </p:nvSpPr>
        <p:spPr>
          <a:xfrm>
            <a:off x="2903400" y="5475240"/>
            <a:ext cx="17146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Группа 38"/>
          <p:cNvGrpSpPr/>
          <p:nvPr/>
        </p:nvGrpSpPr>
        <p:grpSpPr>
          <a:xfrm>
            <a:off x="7000920" y="4316400"/>
            <a:ext cx="1214280" cy="857880"/>
            <a:chOff x="7000920" y="4316400"/>
            <a:chExt cx="1214280" cy="857880"/>
          </a:xfrm>
        </p:grpSpPr>
        <p:sp>
          <p:nvSpPr>
            <p:cNvPr id="543" name="Скругленный прямоугольник 39"/>
            <p:cNvSpPr/>
            <p:nvPr/>
          </p:nvSpPr>
          <p:spPr>
            <a:xfrm>
              <a:off x="7000920" y="4316400"/>
              <a:ext cx="1214280" cy="857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" name="Группа 13"/>
            <p:cNvGrpSpPr/>
            <p:nvPr/>
          </p:nvGrpSpPr>
          <p:grpSpPr>
            <a:xfrm>
              <a:off x="7363800" y="4316400"/>
              <a:ext cx="432000" cy="857880"/>
              <a:chOff x="7363800" y="4316400"/>
              <a:chExt cx="432000" cy="857880"/>
            </a:xfrm>
          </p:grpSpPr>
          <p:sp>
            <p:nvSpPr>
              <p:cNvPr id="545" name="Rectangle 16"/>
              <p:cNvSpPr/>
              <p:nvPr/>
            </p:nvSpPr>
            <p:spPr>
              <a:xfrm>
                <a:off x="7538760" y="4747320"/>
                <a:ext cx="2462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х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Rectangle 21"/>
              <p:cNvSpPr/>
              <p:nvPr/>
            </p:nvSpPr>
            <p:spPr>
              <a:xfrm>
                <a:off x="7446240" y="4316400"/>
                <a:ext cx="2674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Прямая соединительная линия 46"/>
              <p:cNvSpPr/>
              <p:nvPr/>
            </p:nvSpPr>
            <p:spPr>
              <a:xfrm>
                <a:off x="7363800" y="4748400"/>
                <a:ext cx="432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8" name="Группа 47"/>
          <p:cNvGrpSpPr/>
          <p:nvPr/>
        </p:nvGrpSpPr>
        <p:grpSpPr>
          <a:xfrm>
            <a:off x="7000920" y="5302080"/>
            <a:ext cx="1214280" cy="887760"/>
            <a:chOff x="7000920" y="5302080"/>
            <a:chExt cx="1214280" cy="887760"/>
          </a:xfrm>
        </p:grpSpPr>
        <p:sp>
          <p:nvSpPr>
            <p:cNvPr id="549" name="Скругленный прямоугольник 48"/>
            <p:cNvSpPr/>
            <p:nvPr/>
          </p:nvSpPr>
          <p:spPr>
            <a:xfrm>
              <a:off x="7000920" y="5331960"/>
              <a:ext cx="1214280" cy="857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0" name="Группа 20"/>
            <p:cNvGrpSpPr/>
            <p:nvPr/>
          </p:nvGrpSpPr>
          <p:grpSpPr>
            <a:xfrm>
              <a:off x="7229880" y="5302080"/>
              <a:ext cx="924480" cy="855720"/>
              <a:chOff x="7229880" y="5302080"/>
              <a:chExt cx="924480" cy="855720"/>
            </a:xfrm>
          </p:grpSpPr>
          <p:sp>
            <p:nvSpPr>
              <p:cNvPr id="551" name="Rectangle 16"/>
              <p:cNvSpPr/>
              <p:nvPr/>
            </p:nvSpPr>
            <p:spPr>
              <a:xfrm>
                <a:off x="7286040" y="5730840"/>
                <a:ext cx="868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х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– 1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Rectangle 21"/>
              <p:cNvSpPr/>
              <p:nvPr/>
            </p:nvSpPr>
            <p:spPr>
              <a:xfrm>
                <a:off x="7446960" y="5302080"/>
                <a:ext cx="2674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Прямая соединительная линия 54"/>
              <p:cNvSpPr/>
              <p:nvPr/>
            </p:nvSpPr>
            <p:spPr>
              <a:xfrm>
                <a:off x="7229880" y="5734080"/>
                <a:ext cx="720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Двойная стрелка влево/вверх 73"/>
          <p:cNvSpPr/>
          <p:nvPr/>
        </p:nvSpPr>
        <p:spPr>
          <a:xfrm rot="18969000">
            <a:off x="8189640" y="4785840"/>
            <a:ext cx="785880" cy="85752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Прямоугольник 74"/>
          <p:cNvSpPr/>
          <p:nvPr/>
        </p:nvSpPr>
        <p:spPr>
          <a:xfrm>
            <a:off x="4214880" y="1011240"/>
            <a:ext cx="4357800" cy="48888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рямоугольник 75"/>
          <p:cNvSpPr/>
          <p:nvPr/>
        </p:nvSpPr>
        <p:spPr>
          <a:xfrm>
            <a:off x="714240" y="1500120"/>
            <a:ext cx="1500480" cy="5000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Скругленный прямоугольник 30"/>
          <p:cNvSpPr/>
          <p:nvPr/>
        </p:nvSpPr>
        <p:spPr>
          <a:xfrm>
            <a:off x="4286160" y="5460840"/>
            <a:ext cx="292896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 км/ч мен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Скругленный прямоугольник 27"/>
          <p:cNvSpPr/>
          <p:nvPr/>
        </p:nvSpPr>
        <p:spPr>
          <a:xfrm>
            <a:off x="4286160" y="4460760"/>
            <a:ext cx="292896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 км/ч бол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Группа 67"/>
          <p:cNvGrpSpPr/>
          <p:nvPr/>
        </p:nvGrpSpPr>
        <p:grpSpPr>
          <a:xfrm>
            <a:off x="714240" y="87480"/>
            <a:ext cx="7858440" cy="984240"/>
            <a:chOff x="714240" y="87480"/>
            <a:chExt cx="7858440" cy="984240"/>
          </a:xfrm>
        </p:grpSpPr>
        <p:sp>
          <p:nvSpPr>
            <p:cNvPr id="560" name="Прямоугольник 49"/>
            <p:cNvSpPr/>
            <p:nvPr/>
          </p:nvSpPr>
          <p:spPr>
            <a:xfrm>
              <a:off x="714240" y="584280"/>
              <a:ext cx="2928960" cy="48744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Прямоугольник 55"/>
            <p:cNvSpPr/>
            <p:nvPr/>
          </p:nvSpPr>
          <p:spPr>
            <a:xfrm>
              <a:off x="714240" y="87480"/>
              <a:ext cx="7858440" cy="50004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Прямоугольник 62"/>
          <p:cNvSpPr/>
          <p:nvPr/>
        </p:nvSpPr>
        <p:spPr>
          <a:xfrm>
            <a:off x="5572080" y="584280"/>
            <a:ext cx="3000600" cy="4284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Управляющая кнопка: сведения 68"/>
          <p:cNvSpPr/>
          <p:nvPr/>
        </p:nvSpPr>
        <p:spPr>
          <a:xfrm>
            <a:off x="8429760" y="3429000"/>
            <a:ext cx="642960" cy="8571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857160"/>
              <a:gd name="textAreaBottom" fmla="*/ 815760 h 857160"/>
            </a:gdLst>
            <a:ahLst/>
            <a:rect l="textAreaLeft" t="textAreaTop" r="textAreaRight" b="textAreaBottom"/>
            <a:pathLst>
              <a:path w="21600" h="28792">
                <a:moveTo>
                  <a:pt x="0" y="0"/>
                </a:moveTo>
                <a:lnTo>
                  <a:pt x="21600" y="0"/>
                </a:lnTo>
                <a:lnTo>
                  <a:pt x="21600" y="28792"/>
                </a:lnTo>
                <a:lnTo>
                  <a:pt x="0" y="28792"/>
                </a:lnTo>
                <a:close/>
              </a:path>
              <a:path fill="lightenLess" w="21600" h="287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2">
                <a:moveTo>
                  <a:pt x="21600" y="0"/>
                </a:moveTo>
                <a:lnTo>
                  <a:pt x="21600" y="28792"/>
                </a:lnTo>
                <a:lnTo>
                  <a:pt x="20200" y="27392"/>
                </a:lnTo>
                <a:lnTo>
                  <a:pt x="20200" y="1400"/>
                </a:lnTo>
                <a:close/>
              </a:path>
              <a:path fill="darkenLess" w="21600" h="28792">
                <a:moveTo>
                  <a:pt x="21600" y="28792"/>
                </a:moveTo>
                <a:lnTo>
                  <a:pt x="0" y="28792"/>
                </a:lnTo>
                <a:lnTo>
                  <a:pt x="1400" y="27392"/>
                </a:lnTo>
                <a:lnTo>
                  <a:pt x="20200" y="27392"/>
                </a:lnTo>
                <a:close/>
              </a:path>
              <a:path fill="lighten" w="21600" h="28792">
                <a:moveTo>
                  <a:pt x="0" y="287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2"/>
                </a:lnTo>
                <a:close/>
              </a:path>
              <a:path fill="darken" w="21600" h="28792">
                <a:moveTo>
                  <a:pt x="10800" y="738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8792">
                <a:moveTo>
                  <a:pt x="10800" y="776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8792">
                <a:moveTo>
                  <a:pt x="8224" y="11820"/>
                </a:moveTo>
                <a:lnTo>
                  <a:pt x="12088" y="11820"/>
                </a:lnTo>
                <a:lnTo>
                  <a:pt x="12088" y="18817"/>
                </a:lnTo>
                <a:lnTo>
                  <a:pt x="13376" y="18817"/>
                </a:lnTo>
                <a:lnTo>
                  <a:pt x="13376" y="19740"/>
                </a:lnTo>
                <a:lnTo>
                  <a:pt x="8224" y="19740"/>
                </a:lnTo>
                <a:lnTo>
                  <a:pt x="8224" y="18817"/>
                </a:lnTo>
                <a:lnTo>
                  <a:pt x="9512" y="18817"/>
                </a:lnTo>
                <a:lnTo>
                  <a:pt x="9512" y="12725"/>
                </a:lnTo>
                <a:lnTo>
                  <a:pt x="8224" y="12725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Скругленный прямоугольник 64"/>
          <p:cNvSpPr/>
          <p:nvPr/>
        </p:nvSpPr>
        <p:spPr>
          <a:xfrm>
            <a:off x="3532320" y="2428920"/>
            <a:ext cx="20714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 = s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Группа 53"/>
          <p:cNvGrpSpPr/>
          <p:nvPr/>
        </p:nvGrpSpPr>
        <p:grpSpPr>
          <a:xfrm>
            <a:off x="500040" y="2214720"/>
            <a:ext cx="8215200" cy="1000080"/>
            <a:chOff x="500040" y="2214720"/>
            <a:chExt cx="8215200" cy="1000080"/>
          </a:xfrm>
        </p:grpSpPr>
        <p:sp>
          <p:nvSpPr>
            <p:cNvPr id="566" name="Скругленный прямоугольник 51"/>
            <p:cNvSpPr/>
            <p:nvPr/>
          </p:nvSpPr>
          <p:spPr>
            <a:xfrm>
              <a:off x="500040" y="2241360"/>
              <a:ext cx="8215200" cy="973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Прямоугольник 52"/>
            <p:cNvSpPr/>
            <p:nvPr/>
          </p:nvSpPr>
          <p:spPr>
            <a:xfrm>
              <a:off x="571320" y="2214720"/>
              <a:ext cx="8143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усть х км/ч – скорость первого пешехода. Какое из уравнений соответствует условию задачи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68" name="Прямая со стрелкой 31"/>
          <p:cNvCxnSpPr/>
          <p:nvPr/>
        </p:nvCxnSpPr>
        <p:spPr>
          <a:xfrm flipH="1">
            <a:off x="3928680" y="927720"/>
            <a:ext cx="3858480" cy="3786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9" name="Прямая со стрелкой 36"/>
          <p:cNvCxnSpPr/>
          <p:nvPr/>
        </p:nvCxnSpPr>
        <p:spPr>
          <a:xfrm>
            <a:off x="5000760" y="1357200"/>
            <a:ext cx="3929760" cy="38584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0" name="Прямая со стрелкой 63"/>
          <p:cNvCxnSpPr/>
          <p:nvPr/>
        </p:nvCxnSpPr>
        <p:spPr>
          <a:xfrm flipH="1">
            <a:off x="3928680" y="928440"/>
            <a:ext cx="3858480" cy="4786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1" name="Прямая со стрелкой 26"/>
          <p:cNvCxnSpPr/>
          <p:nvPr/>
        </p:nvCxnSpPr>
        <p:spPr>
          <a:xfrm>
            <a:off x="1857240" y="2571840"/>
            <a:ext cx="3501360" cy="2071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2" name="Прямая со стрелкой 40"/>
          <p:cNvCxnSpPr/>
          <p:nvPr/>
        </p:nvCxnSpPr>
        <p:spPr>
          <a:xfrm flipH="1">
            <a:off x="5857560" y="499680"/>
            <a:ext cx="286560" cy="40014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3" name="Прямая со стрелкой 57"/>
          <p:cNvCxnSpPr/>
          <p:nvPr/>
        </p:nvCxnSpPr>
        <p:spPr>
          <a:xfrm flipH="1">
            <a:off x="6143400" y="571680"/>
            <a:ext cx="2160" cy="50011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p:timing>
    <p:tnLst>
      <p:par>
        <p:cTn id="733" dur="indefinite" restart="never" nodeType="tmRoot">
          <p:childTnLst>
            <p:seq>
              <p:cTn id="734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735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500"/>
                            </p:stCondLst>
                            <p:childTnLst>
                              <p:par>
                                <p:cTn id="8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9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860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" name="Группа 173"/>
          <p:cNvGrpSpPr/>
          <p:nvPr/>
        </p:nvGrpSpPr>
        <p:grpSpPr>
          <a:xfrm>
            <a:off x="3500280" y="2928960"/>
            <a:ext cx="2428920" cy="857880"/>
            <a:chOff x="3500280" y="2928960"/>
            <a:chExt cx="2428920" cy="857880"/>
          </a:xfrm>
        </p:grpSpPr>
        <p:sp>
          <p:nvSpPr>
            <p:cNvPr id="575" name="Скругленный прямоугольник 168"/>
            <p:cNvSpPr/>
            <p:nvPr/>
          </p:nvSpPr>
          <p:spPr>
            <a:xfrm>
              <a:off x="3500280" y="2928960"/>
              <a:ext cx="2428920" cy="857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 мин =       ч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Группа 172"/>
            <p:cNvGrpSpPr/>
            <p:nvPr/>
          </p:nvGrpSpPr>
          <p:grpSpPr>
            <a:xfrm>
              <a:off x="5068440" y="2928960"/>
              <a:ext cx="432000" cy="857880"/>
              <a:chOff x="5068440" y="2928960"/>
              <a:chExt cx="432000" cy="857880"/>
            </a:xfrm>
          </p:grpSpPr>
          <p:sp>
            <p:nvSpPr>
              <p:cNvPr id="577" name="Rectangle 16"/>
              <p:cNvSpPr/>
              <p:nvPr/>
            </p:nvSpPr>
            <p:spPr>
              <a:xfrm>
                <a:off x="5221800" y="3359880"/>
                <a:ext cx="2674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Rectangle 21"/>
              <p:cNvSpPr/>
              <p:nvPr/>
            </p:nvSpPr>
            <p:spPr>
              <a:xfrm>
                <a:off x="5113080" y="2928960"/>
                <a:ext cx="2674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Прямая соединительная линия 171"/>
              <p:cNvSpPr/>
              <p:nvPr/>
            </p:nvSpPr>
            <p:spPr>
              <a:xfrm>
                <a:off x="5068440" y="3360600"/>
                <a:ext cx="432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580" name=""/>
          <p:cNvGraphicFramePr/>
          <p:nvPr/>
        </p:nvGraphicFramePr>
        <p:xfrm>
          <a:off x="817560" y="39600"/>
          <a:ext cx="7542360" cy="2844720"/>
        </p:xfrm>
        <a:graphic>
          <a:graphicData uri="http://schemas.openxmlformats.org/drawingml/2006/table">
            <a:tbl>
              <a:tblPr/>
              <a:tblGrid>
                <a:gridCol w="1968480"/>
                <a:gridCol w="1928880"/>
                <a:gridCol w="1930320"/>
                <a:gridCol w="17146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ояние (км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(км/ч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ый пешех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ой пешех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1" name="Скругленный прямоугольник 85"/>
          <p:cNvSpPr/>
          <p:nvPr/>
        </p:nvSpPr>
        <p:spPr>
          <a:xfrm>
            <a:off x="4917960" y="1069920"/>
            <a:ext cx="15112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Скругленный прямоугольник 86"/>
          <p:cNvSpPr/>
          <p:nvPr/>
        </p:nvSpPr>
        <p:spPr>
          <a:xfrm>
            <a:off x="4903920" y="2070000"/>
            <a:ext cx="152532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Скругленный прямоугольник 87"/>
          <p:cNvSpPr/>
          <p:nvPr/>
        </p:nvSpPr>
        <p:spPr>
          <a:xfrm>
            <a:off x="2898720" y="1069920"/>
            <a:ext cx="17146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Скругленный прямоугольник 88"/>
          <p:cNvSpPr/>
          <p:nvPr/>
        </p:nvSpPr>
        <p:spPr>
          <a:xfrm>
            <a:off x="2903400" y="2085840"/>
            <a:ext cx="17146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Группа 38"/>
          <p:cNvGrpSpPr/>
          <p:nvPr/>
        </p:nvGrpSpPr>
        <p:grpSpPr>
          <a:xfrm>
            <a:off x="7000920" y="927000"/>
            <a:ext cx="1214280" cy="857880"/>
            <a:chOff x="7000920" y="927000"/>
            <a:chExt cx="1214280" cy="857880"/>
          </a:xfrm>
        </p:grpSpPr>
        <p:sp>
          <p:nvSpPr>
            <p:cNvPr id="586" name="Скругленный прямоугольник 90"/>
            <p:cNvSpPr/>
            <p:nvPr/>
          </p:nvSpPr>
          <p:spPr>
            <a:xfrm>
              <a:off x="7000920" y="927000"/>
              <a:ext cx="1214280" cy="857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7" name="Группа 13"/>
            <p:cNvGrpSpPr/>
            <p:nvPr/>
          </p:nvGrpSpPr>
          <p:grpSpPr>
            <a:xfrm>
              <a:off x="7363800" y="927000"/>
              <a:ext cx="432000" cy="857880"/>
              <a:chOff x="7363800" y="927000"/>
              <a:chExt cx="432000" cy="857880"/>
            </a:xfrm>
          </p:grpSpPr>
          <p:sp>
            <p:nvSpPr>
              <p:cNvPr id="588" name="Rectangle 16"/>
              <p:cNvSpPr/>
              <p:nvPr/>
            </p:nvSpPr>
            <p:spPr>
              <a:xfrm>
                <a:off x="7538760" y="1357920"/>
                <a:ext cx="2462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х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Rectangle 21"/>
              <p:cNvSpPr/>
              <p:nvPr/>
            </p:nvSpPr>
            <p:spPr>
              <a:xfrm>
                <a:off x="7446240" y="927000"/>
                <a:ext cx="2674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Прямая соединительная линия 94"/>
              <p:cNvSpPr/>
              <p:nvPr/>
            </p:nvSpPr>
            <p:spPr>
              <a:xfrm>
                <a:off x="7363800" y="1359000"/>
                <a:ext cx="4320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1" name="Группа 47"/>
          <p:cNvGrpSpPr/>
          <p:nvPr/>
        </p:nvGrpSpPr>
        <p:grpSpPr>
          <a:xfrm>
            <a:off x="7000920" y="1913040"/>
            <a:ext cx="1214280" cy="887400"/>
            <a:chOff x="7000920" y="1913040"/>
            <a:chExt cx="1214280" cy="887400"/>
          </a:xfrm>
        </p:grpSpPr>
        <p:sp>
          <p:nvSpPr>
            <p:cNvPr id="592" name="Скругленный прямоугольник 104"/>
            <p:cNvSpPr/>
            <p:nvPr/>
          </p:nvSpPr>
          <p:spPr>
            <a:xfrm>
              <a:off x="7000920" y="1942920"/>
              <a:ext cx="1214280" cy="857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3" name="Группа 20"/>
            <p:cNvGrpSpPr/>
            <p:nvPr/>
          </p:nvGrpSpPr>
          <p:grpSpPr>
            <a:xfrm>
              <a:off x="7229880" y="1913040"/>
              <a:ext cx="924480" cy="855360"/>
              <a:chOff x="7229880" y="1913040"/>
              <a:chExt cx="924480" cy="855360"/>
            </a:xfrm>
          </p:grpSpPr>
          <p:sp>
            <p:nvSpPr>
              <p:cNvPr id="594" name="Rectangle 16"/>
              <p:cNvSpPr/>
              <p:nvPr/>
            </p:nvSpPr>
            <p:spPr>
              <a:xfrm>
                <a:off x="7286040" y="2341440"/>
                <a:ext cx="868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х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– 1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Rectangle 21"/>
              <p:cNvSpPr/>
              <p:nvPr/>
            </p:nvSpPr>
            <p:spPr>
              <a:xfrm>
                <a:off x="7446960" y="1913040"/>
                <a:ext cx="2674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Прямая соединительная линия 108"/>
              <p:cNvSpPr/>
              <p:nvPr/>
            </p:nvSpPr>
            <p:spPr>
              <a:xfrm>
                <a:off x="7229880" y="2345040"/>
                <a:ext cx="720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7" name="Группа 112"/>
          <p:cNvGrpSpPr/>
          <p:nvPr/>
        </p:nvGrpSpPr>
        <p:grpSpPr>
          <a:xfrm>
            <a:off x="1500120" y="3751200"/>
            <a:ext cx="3571920" cy="857880"/>
            <a:chOff x="1500120" y="3751200"/>
            <a:chExt cx="3571920" cy="857880"/>
          </a:xfrm>
        </p:grpSpPr>
        <p:sp>
          <p:nvSpPr>
            <p:cNvPr id="598" name="Скругленный прямоугольник 27"/>
            <p:cNvSpPr/>
            <p:nvPr/>
          </p:nvSpPr>
          <p:spPr>
            <a:xfrm>
              <a:off x="1500120" y="3825720"/>
              <a:ext cx="3571920" cy="714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А.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9" name="Группа 69"/>
            <p:cNvGrpSpPr/>
            <p:nvPr/>
          </p:nvGrpSpPr>
          <p:grpSpPr>
            <a:xfrm>
              <a:off x="2428560" y="3751200"/>
              <a:ext cx="2445480" cy="857880"/>
              <a:chOff x="2428560" y="3751200"/>
              <a:chExt cx="2445480" cy="857880"/>
            </a:xfrm>
          </p:grpSpPr>
          <p:grpSp>
            <p:nvGrpSpPr>
              <p:cNvPr id="600" name="Группа 53"/>
              <p:cNvGrpSpPr/>
              <p:nvPr/>
            </p:nvGrpSpPr>
            <p:grpSpPr>
              <a:xfrm>
                <a:off x="2428560" y="3751200"/>
                <a:ext cx="1988640" cy="819000"/>
                <a:chOff x="2428560" y="3751200"/>
                <a:chExt cx="1988640" cy="819000"/>
              </a:xfrm>
            </p:grpSpPr>
            <p:sp>
              <p:nvSpPr>
                <p:cNvPr id="601" name="Rectangle 19"/>
                <p:cNvSpPr/>
                <p:nvPr/>
              </p:nvSpPr>
              <p:spPr>
                <a:xfrm>
                  <a:off x="4134600" y="3935880"/>
                  <a:ext cx="282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2" name="Группа 110"/>
                <p:cNvGrpSpPr/>
                <p:nvPr/>
              </p:nvGrpSpPr>
              <p:grpSpPr>
                <a:xfrm>
                  <a:off x="2428560" y="3751200"/>
                  <a:ext cx="720000" cy="819000"/>
                  <a:chOff x="2428560" y="3751200"/>
                  <a:chExt cx="720000" cy="819000"/>
                </a:xfrm>
              </p:grpSpPr>
              <p:sp>
                <p:nvSpPr>
                  <p:cNvPr id="603" name="Rectangle 16"/>
                  <p:cNvSpPr/>
                  <p:nvPr/>
                </p:nvSpPr>
                <p:spPr>
                  <a:xfrm>
                    <a:off x="2431440" y="4143240"/>
                    <a:ext cx="69084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 –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Прямая соединительная линия 42"/>
                  <p:cNvSpPr/>
                  <p:nvPr/>
                </p:nvSpPr>
                <p:spPr>
                  <a:xfrm>
                    <a:off x="2428560" y="4179960"/>
                    <a:ext cx="7200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Rectangle 21"/>
                  <p:cNvSpPr/>
                  <p:nvPr/>
                </p:nvSpPr>
                <p:spPr>
                  <a:xfrm>
                    <a:off x="2643480" y="3751200"/>
                    <a:ext cx="2674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5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6" name="Rectangle 18"/>
                <p:cNvSpPr/>
                <p:nvPr/>
              </p:nvSpPr>
              <p:spPr>
                <a:xfrm>
                  <a:off x="3303000" y="394056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–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7" name="Группа 112"/>
                <p:cNvGrpSpPr/>
                <p:nvPr/>
              </p:nvGrpSpPr>
              <p:grpSpPr>
                <a:xfrm>
                  <a:off x="3645360" y="3765240"/>
                  <a:ext cx="432000" cy="804960"/>
                  <a:chOff x="3645360" y="3765240"/>
                  <a:chExt cx="432000" cy="804960"/>
                </a:xfrm>
              </p:grpSpPr>
              <p:sp>
                <p:nvSpPr>
                  <p:cNvPr id="608" name="Rectangle 14"/>
                  <p:cNvSpPr/>
                  <p:nvPr/>
                </p:nvSpPr>
                <p:spPr>
                  <a:xfrm>
                    <a:off x="3770280" y="4143240"/>
                    <a:ext cx="1576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Прямая соединительная линия 39"/>
                  <p:cNvSpPr/>
                  <p:nvPr/>
                </p:nvSpPr>
                <p:spPr>
                  <a:xfrm>
                    <a:off x="3645360" y="4179960"/>
                    <a:ext cx="4320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Rectangle 13"/>
                  <p:cNvSpPr/>
                  <p:nvPr/>
                </p:nvSpPr>
                <p:spPr>
                  <a:xfrm>
                    <a:off x="3797640" y="376524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11" name="Группа 65"/>
              <p:cNvGrpSpPr/>
              <p:nvPr/>
            </p:nvGrpSpPr>
            <p:grpSpPr>
              <a:xfrm>
                <a:off x="4440960" y="3751200"/>
                <a:ext cx="433080" cy="857880"/>
                <a:chOff x="4440960" y="3751200"/>
                <a:chExt cx="433080" cy="857880"/>
              </a:xfrm>
            </p:grpSpPr>
            <p:sp>
              <p:nvSpPr>
                <p:cNvPr id="612" name="Rectangle 16"/>
                <p:cNvSpPr/>
                <p:nvPr/>
              </p:nvSpPr>
              <p:spPr>
                <a:xfrm>
                  <a:off x="4549680" y="418212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Rectangle 21"/>
                <p:cNvSpPr/>
                <p:nvPr/>
              </p:nvSpPr>
              <p:spPr>
                <a:xfrm>
                  <a:off x="4440960" y="375120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Прямая соединительная линия 33"/>
                <p:cNvSpPr/>
                <p:nvPr/>
              </p:nvSpPr>
              <p:spPr>
                <a:xfrm>
                  <a:off x="4441680" y="4183200"/>
                  <a:ext cx="4323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15" name="Скругленный прямоугольник 82"/>
          <p:cNvSpPr/>
          <p:nvPr/>
        </p:nvSpPr>
        <p:spPr>
          <a:xfrm>
            <a:off x="5302080" y="3827520"/>
            <a:ext cx="205596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Группа 131"/>
          <p:cNvGrpSpPr/>
          <p:nvPr/>
        </p:nvGrpSpPr>
        <p:grpSpPr>
          <a:xfrm>
            <a:off x="1500120" y="4514760"/>
            <a:ext cx="3571920" cy="860760"/>
            <a:chOff x="1500120" y="4514760"/>
            <a:chExt cx="3571920" cy="860760"/>
          </a:xfrm>
        </p:grpSpPr>
        <p:sp>
          <p:nvSpPr>
            <p:cNvPr id="617" name="Скругленный прямоугольник 96"/>
            <p:cNvSpPr/>
            <p:nvPr/>
          </p:nvSpPr>
          <p:spPr>
            <a:xfrm>
              <a:off x="1500120" y="4590720"/>
              <a:ext cx="3571920" cy="716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Б.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8" name="Группа 69"/>
            <p:cNvGrpSpPr/>
            <p:nvPr/>
          </p:nvGrpSpPr>
          <p:grpSpPr>
            <a:xfrm>
              <a:off x="2425320" y="4514760"/>
              <a:ext cx="2585880" cy="860760"/>
              <a:chOff x="2425320" y="4514760"/>
              <a:chExt cx="2585880" cy="860760"/>
            </a:xfrm>
          </p:grpSpPr>
          <p:grpSp>
            <p:nvGrpSpPr>
              <p:cNvPr id="619" name="Группа 53"/>
              <p:cNvGrpSpPr/>
              <p:nvPr/>
            </p:nvGrpSpPr>
            <p:grpSpPr>
              <a:xfrm>
                <a:off x="2425320" y="4514760"/>
                <a:ext cx="2104200" cy="859320"/>
                <a:chOff x="2425320" y="4514760"/>
                <a:chExt cx="2104200" cy="859320"/>
              </a:xfrm>
            </p:grpSpPr>
            <p:sp>
              <p:nvSpPr>
                <p:cNvPr id="620" name="Rectangle 19"/>
                <p:cNvSpPr/>
                <p:nvPr/>
              </p:nvSpPr>
              <p:spPr>
                <a:xfrm>
                  <a:off x="4246920" y="4701600"/>
                  <a:ext cx="282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21" name="Группа 110"/>
                <p:cNvGrpSpPr/>
                <p:nvPr/>
              </p:nvGrpSpPr>
              <p:grpSpPr>
                <a:xfrm>
                  <a:off x="2425320" y="4514760"/>
                  <a:ext cx="432000" cy="858600"/>
                  <a:chOff x="2425320" y="4514760"/>
                  <a:chExt cx="432000" cy="858600"/>
                </a:xfrm>
              </p:grpSpPr>
              <p:sp>
                <p:nvSpPr>
                  <p:cNvPr id="622" name="Rectangle 16"/>
                  <p:cNvSpPr/>
                  <p:nvPr/>
                </p:nvSpPr>
                <p:spPr>
                  <a:xfrm>
                    <a:off x="2556000" y="4946400"/>
                    <a:ext cx="1576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Прямая соединительная линия 117"/>
                  <p:cNvSpPr/>
                  <p:nvPr/>
                </p:nvSpPr>
                <p:spPr>
                  <a:xfrm>
                    <a:off x="2425320" y="4946760"/>
                    <a:ext cx="4320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" name="Rectangle 21"/>
                  <p:cNvSpPr/>
                  <p:nvPr/>
                </p:nvSpPr>
                <p:spPr>
                  <a:xfrm>
                    <a:off x="2480760" y="4514760"/>
                    <a:ext cx="2674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5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5" name="Rectangle 18"/>
                <p:cNvSpPr/>
                <p:nvPr/>
              </p:nvSpPr>
              <p:spPr>
                <a:xfrm>
                  <a:off x="3000960" y="470664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–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26" name="Группа 112"/>
                <p:cNvGrpSpPr/>
                <p:nvPr/>
              </p:nvGrpSpPr>
              <p:grpSpPr>
                <a:xfrm>
                  <a:off x="3357360" y="4531320"/>
                  <a:ext cx="765360" cy="842760"/>
                  <a:chOff x="3357360" y="4531320"/>
                  <a:chExt cx="765360" cy="842760"/>
                </a:xfrm>
              </p:grpSpPr>
              <p:sp>
                <p:nvSpPr>
                  <p:cNvPr id="627" name="Rectangle 14"/>
                  <p:cNvSpPr/>
                  <p:nvPr/>
                </p:nvSpPr>
                <p:spPr>
                  <a:xfrm>
                    <a:off x="3431520" y="4947120"/>
                    <a:ext cx="69120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– 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Прямая соединительная линия 114"/>
                  <p:cNvSpPr/>
                  <p:nvPr/>
                </p:nvSpPr>
                <p:spPr>
                  <a:xfrm>
                    <a:off x="3357360" y="4946760"/>
                    <a:ext cx="72396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Rectangle 13"/>
                  <p:cNvSpPr/>
                  <p:nvPr/>
                </p:nvSpPr>
                <p:spPr>
                  <a:xfrm>
                    <a:off x="3583080" y="453132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0" name="Группа 65"/>
              <p:cNvGrpSpPr/>
              <p:nvPr/>
            </p:nvGrpSpPr>
            <p:grpSpPr>
              <a:xfrm>
                <a:off x="4579200" y="4516920"/>
                <a:ext cx="432000" cy="858600"/>
                <a:chOff x="4579200" y="4516920"/>
                <a:chExt cx="432000" cy="858600"/>
              </a:xfrm>
            </p:grpSpPr>
            <p:sp>
              <p:nvSpPr>
                <p:cNvPr id="631" name="Rectangle 16"/>
                <p:cNvSpPr/>
                <p:nvPr/>
              </p:nvSpPr>
              <p:spPr>
                <a:xfrm>
                  <a:off x="4691880" y="494856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Rectangle 21"/>
                <p:cNvSpPr/>
                <p:nvPr/>
              </p:nvSpPr>
              <p:spPr>
                <a:xfrm>
                  <a:off x="4582800" y="451692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Прямая соединительная линия 102"/>
                <p:cNvSpPr/>
                <p:nvPr/>
              </p:nvSpPr>
              <p:spPr>
                <a:xfrm>
                  <a:off x="4579200" y="4948200"/>
                  <a:ext cx="43200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34" name="Скругленный прямоугольник 119"/>
          <p:cNvSpPr/>
          <p:nvPr/>
        </p:nvSpPr>
        <p:spPr>
          <a:xfrm>
            <a:off x="5286240" y="4595760"/>
            <a:ext cx="2055960" cy="712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Группа 150"/>
          <p:cNvGrpSpPr/>
          <p:nvPr/>
        </p:nvGrpSpPr>
        <p:grpSpPr>
          <a:xfrm>
            <a:off x="1500120" y="5280120"/>
            <a:ext cx="3571920" cy="858240"/>
            <a:chOff x="1500120" y="5280120"/>
            <a:chExt cx="3571920" cy="858240"/>
          </a:xfrm>
        </p:grpSpPr>
        <p:sp>
          <p:nvSpPr>
            <p:cNvPr id="636" name="Скругленный прямоугольник 121"/>
            <p:cNvSpPr/>
            <p:nvPr/>
          </p:nvSpPr>
          <p:spPr>
            <a:xfrm>
              <a:off x="1500120" y="5356080"/>
              <a:ext cx="3571920" cy="714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В.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7" name="Группа 69"/>
            <p:cNvGrpSpPr/>
            <p:nvPr/>
          </p:nvGrpSpPr>
          <p:grpSpPr>
            <a:xfrm>
              <a:off x="2351520" y="5280120"/>
              <a:ext cx="2667600" cy="858240"/>
              <a:chOff x="2351520" y="5280120"/>
              <a:chExt cx="2667600" cy="858240"/>
            </a:xfrm>
          </p:grpSpPr>
          <p:grpSp>
            <p:nvGrpSpPr>
              <p:cNvPr id="638" name="Группа 53"/>
              <p:cNvGrpSpPr/>
              <p:nvPr/>
            </p:nvGrpSpPr>
            <p:grpSpPr>
              <a:xfrm>
                <a:off x="2351520" y="5280120"/>
                <a:ext cx="2106720" cy="858240"/>
                <a:chOff x="2351520" y="5280120"/>
                <a:chExt cx="2106720" cy="858240"/>
              </a:xfrm>
            </p:grpSpPr>
            <p:sp>
              <p:nvSpPr>
                <p:cNvPr id="639" name="Rectangle 19"/>
                <p:cNvSpPr/>
                <p:nvPr/>
              </p:nvSpPr>
              <p:spPr>
                <a:xfrm>
                  <a:off x="4175640" y="5466600"/>
                  <a:ext cx="282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0" name="Группа 110"/>
                <p:cNvGrpSpPr/>
                <p:nvPr/>
              </p:nvGrpSpPr>
              <p:grpSpPr>
                <a:xfrm>
                  <a:off x="2351520" y="5280120"/>
                  <a:ext cx="720000" cy="857520"/>
                  <a:chOff x="2351520" y="5280120"/>
                  <a:chExt cx="720000" cy="857520"/>
                </a:xfrm>
              </p:grpSpPr>
              <p:sp>
                <p:nvSpPr>
                  <p:cNvPr id="641" name="Rectangle 16"/>
                  <p:cNvSpPr/>
                  <p:nvPr/>
                </p:nvSpPr>
                <p:spPr>
                  <a:xfrm>
                    <a:off x="2360160" y="5710680"/>
                    <a:ext cx="69120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– 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Прямая соединительная линия 133"/>
                  <p:cNvSpPr/>
                  <p:nvPr/>
                </p:nvSpPr>
                <p:spPr>
                  <a:xfrm>
                    <a:off x="2351520" y="5712120"/>
                    <a:ext cx="7200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Rectangle 21"/>
                  <p:cNvSpPr/>
                  <p:nvPr/>
                </p:nvSpPr>
                <p:spPr>
                  <a:xfrm>
                    <a:off x="2589120" y="5280120"/>
                    <a:ext cx="2674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5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4" name="Rectangle 18"/>
                <p:cNvSpPr/>
                <p:nvPr/>
              </p:nvSpPr>
              <p:spPr>
                <a:xfrm>
                  <a:off x="3231720" y="547128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–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5" name="Группа 112"/>
                <p:cNvGrpSpPr/>
                <p:nvPr/>
              </p:nvGrpSpPr>
              <p:grpSpPr>
                <a:xfrm>
                  <a:off x="3568320" y="5296680"/>
                  <a:ext cx="432000" cy="841680"/>
                  <a:chOff x="3568320" y="5296680"/>
                  <a:chExt cx="432000" cy="841680"/>
                </a:xfrm>
              </p:grpSpPr>
              <p:sp>
                <p:nvSpPr>
                  <p:cNvPr id="646" name="Rectangle 14"/>
                  <p:cNvSpPr/>
                  <p:nvPr/>
                </p:nvSpPr>
                <p:spPr>
                  <a:xfrm>
                    <a:off x="3699000" y="5711400"/>
                    <a:ext cx="1576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Прямая соединительная линия 130"/>
                  <p:cNvSpPr/>
                  <p:nvPr/>
                </p:nvSpPr>
                <p:spPr>
                  <a:xfrm>
                    <a:off x="3568320" y="5710320"/>
                    <a:ext cx="4320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Rectangle 13"/>
                  <p:cNvSpPr/>
                  <p:nvPr/>
                </p:nvSpPr>
                <p:spPr>
                  <a:xfrm>
                    <a:off x="3678120" y="529668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49" name="Rectangle 16"/>
              <p:cNvSpPr/>
              <p:nvPr/>
            </p:nvSpPr>
            <p:spPr>
              <a:xfrm>
                <a:off x="4573080" y="549180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0" name="Скругленный прямоугольник 135"/>
          <p:cNvSpPr/>
          <p:nvPr/>
        </p:nvSpPr>
        <p:spPr>
          <a:xfrm>
            <a:off x="5286240" y="5356080"/>
            <a:ext cx="2055960" cy="712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Скругленный прямоугольник 136"/>
          <p:cNvSpPr/>
          <p:nvPr/>
        </p:nvSpPr>
        <p:spPr>
          <a:xfrm>
            <a:off x="1500120" y="6118200"/>
            <a:ext cx="357192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Скругленный прямоугольник 137"/>
          <p:cNvSpPr/>
          <p:nvPr/>
        </p:nvSpPr>
        <p:spPr>
          <a:xfrm>
            <a:off x="5286240" y="6118200"/>
            <a:ext cx="2055960" cy="712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Скругленный прямоугольник 140"/>
          <p:cNvSpPr/>
          <p:nvPr/>
        </p:nvSpPr>
        <p:spPr>
          <a:xfrm>
            <a:off x="785880" y="2928960"/>
            <a:ext cx="757224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мя первого пешехода на 15 мин меньше, чем время втор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4" descr="C:\Documents and Settings\Admin\Мои документы\Мои рисунки\d416be4447f8.gif"/>
          <p:cNvPicPr/>
          <p:nvPr/>
        </p:nvPicPr>
        <p:blipFill>
          <a:blip r:embed="rId1"/>
          <a:stretch/>
        </p:blipFill>
        <p:spPr>
          <a:xfrm>
            <a:off x="-490680" y="3857760"/>
            <a:ext cx="2073240" cy="20952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9" descr="j0354669"/>
          <p:cNvPicPr/>
          <p:nvPr/>
        </p:nvPicPr>
        <p:blipFill>
          <a:blip r:embed="rId2"/>
          <a:stretch/>
        </p:blipFill>
        <p:spPr>
          <a:xfrm rot="295200">
            <a:off x="785520" y="4777920"/>
            <a:ext cx="893520" cy="1473120"/>
          </a:xfrm>
          <a:prstGeom prst="rect">
            <a:avLst/>
          </a:prstGeom>
          <a:ln w="0">
            <a:noFill/>
          </a:ln>
        </p:spPr>
      </p:pic>
      <p:grpSp>
        <p:nvGrpSpPr>
          <p:cNvPr id="656" name="Группа 161"/>
          <p:cNvGrpSpPr/>
          <p:nvPr/>
        </p:nvGrpSpPr>
        <p:grpSpPr>
          <a:xfrm>
            <a:off x="5286240" y="4540320"/>
            <a:ext cx="2055960" cy="761760"/>
            <a:chOff x="5286240" y="4540320"/>
            <a:chExt cx="2055960" cy="761760"/>
          </a:xfrm>
        </p:grpSpPr>
        <p:sp>
          <p:nvSpPr>
            <p:cNvPr id="657" name="Скругленный прямоугольник 138"/>
            <p:cNvSpPr/>
            <p:nvPr/>
          </p:nvSpPr>
          <p:spPr>
            <a:xfrm>
              <a:off x="5286240" y="4587840"/>
              <a:ext cx="2055960" cy="714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8" name="Группа 119"/>
            <p:cNvGrpSpPr/>
            <p:nvPr/>
          </p:nvGrpSpPr>
          <p:grpSpPr>
            <a:xfrm>
              <a:off x="5415840" y="4540320"/>
              <a:ext cx="1367640" cy="730800"/>
              <a:chOff x="5415840" y="4540320"/>
              <a:chExt cx="1367640" cy="730800"/>
            </a:xfrm>
          </p:grpSpPr>
          <p:sp>
            <p:nvSpPr>
              <p:cNvPr id="659" name="Rectangle 78"/>
              <p:cNvSpPr/>
              <p:nvPr/>
            </p:nvSpPr>
            <p:spPr>
              <a:xfrm>
                <a:off x="6002640" y="488196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Rectangle 80"/>
              <p:cNvSpPr/>
              <p:nvPr/>
            </p:nvSpPr>
            <p:spPr>
              <a:xfrm>
                <a:off x="6624360" y="488988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Rectangle 84"/>
              <p:cNvSpPr/>
              <p:nvPr/>
            </p:nvSpPr>
            <p:spPr>
              <a:xfrm>
                <a:off x="5891040" y="4540320"/>
                <a:ext cx="15624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t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Rectangle 86"/>
              <p:cNvSpPr/>
              <p:nvPr/>
            </p:nvSpPr>
            <p:spPr>
              <a:xfrm>
                <a:off x="6481080" y="4548240"/>
                <a:ext cx="15624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t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Rectangle 91"/>
              <p:cNvSpPr/>
              <p:nvPr/>
            </p:nvSpPr>
            <p:spPr>
              <a:xfrm>
                <a:off x="5415840" y="4548240"/>
                <a:ext cx="36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Rectangle 93"/>
              <p:cNvSpPr/>
              <p:nvPr/>
            </p:nvSpPr>
            <p:spPr>
              <a:xfrm>
                <a:off x="6121800" y="4592160"/>
                <a:ext cx="32688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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5" name="Группа 163"/>
          <p:cNvGrpSpPr/>
          <p:nvPr/>
        </p:nvGrpSpPr>
        <p:grpSpPr>
          <a:xfrm>
            <a:off x="5286240" y="6083280"/>
            <a:ext cx="2055960" cy="752040"/>
            <a:chOff x="5286240" y="6083280"/>
            <a:chExt cx="2055960" cy="752040"/>
          </a:xfrm>
        </p:grpSpPr>
        <p:sp>
          <p:nvSpPr>
            <p:cNvPr id="666" name="Скругленный прямоугольник 150"/>
            <p:cNvSpPr/>
            <p:nvPr/>
          </p:nvSpPr>
          <p:spPr>
            <a:xfrm>
              <a:off x="5286240" y="6111720"/>
              <a:ext cx="2055960" cy="71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7" name="Группа 151"/>
            <p:cNvGrpSpPr/>
            <p:nvPr/>
          </p:nvGrpSpPr>
          <p:grpSpPr>
            <a:xfrm>
              <a:off x="6002640" y="6083280"/>
              <a:ext cx="747360" cy="752040"/>
              <a:chOff x="6002640" y="6083280"/>
              <a:chExt cx="747360" cy="752040"/>
            </a:xfrm>
          </p:grpSpPr>
          <p:sp>
            <p:nvSpPr>
              <p:cNvPr id="668" name="Rectangle 87"/>
              <p:cNvSpPr/>
              <p:nvPr/>
            </p:nvSpPr>
            <p:spPr>
              <a:xfrm>
                <a:off x="6002640" y="6083280"/>
                <a:ext cx="74736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0" i="1" lang="ru-RU" sz="4400" spc="-1" strike="noStrike">
                    <a:solidFill>
                      <a:srgbClr val="ff0000"/>
                    </a:solidFill>
                    <a:latin typeface="Times New Roman"/>
                  </a:rPr>
                  <a:t>  v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Rectangle 93"/>
              <p:cNvSpPr/>
              <p:nvPr/>
            </p:nvSpPr>
            <p:spPr>
              <a:xfrm>
                <a:off x="6175080" y="6164640"/>
                <a:ext cx="35136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0000"/>
                    </a:solidFill>
                    <a:latin typeface="Calibri"/>
                  </a:rPr>
                  <a:t>∙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" name="Группа 154"/>
            <p:cNvGrpSpPr/>
            <p:nvPr/>
          </p:nvGrpSpPr>
          <p:grpSpPr>
            <a:xfrm>
              <a:off x="5803560" y="6233400"/>
              <a:ext cx="1078200" cy="458640"/>
              <a:chOff x="5803560" y="6233400"/>
              <a:chExt cx="1078200" cy="458640"/>
            </a:xfrm>
          </p:grpSpPr>
          <p:sp>
            <p:nvSpPr>
              <p:cNvPr id="671" name="Прямая соединительная линия 155"/>
              <p:cNvSpPr/>
              <p:nvPr/>
            </p:nvSpPr>
            <p:spPr>
              <a:xfrm>
                <a:off x="5830200" y="6233400"/>
                <a:ext cx="1051560" cy="435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Прямая соединительная линия 156"/>
              <p:cNvSpPr/>
              <p:nvPr/>
            </p:nvSpPr>
            <p:spPr>
              <a:xfrm flipH="1">
                <a:off x="5803560" y="6237720"/>
                <a:ext cx="1044000" cy="45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3" name="Группа 160"/>
          <p:cNvGrpSpPr/>
          <p:nvPr/>
        </p:nvGrpSpPr>
        <p:grpSpPr>
          <a:xfrm>
            <a:off x="5286240" y="5357880"/>
            <a:ext cx="2055960" cy="712800"/>
            <a:chOff x="5286240" y="5357880"/>
            <a:chExt cx="2055960" cy="712800"/>
          </a:xfrm>
        </p:grpSpPr>
        <p:sp>
          <p:nvSpPr>
            <p:cNvPr id="674" name="Скругленный прямоугольник 149"/>
            <p:cNvSpPr/>
            <p:nvPr/>
          </p:nvSpPr>
          <p:spPr>
            <a:xfrm>
              <a:off x="5286240" y="5357880"/>
              <a:ext cx="2055960" cy="712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15 </a:t>
              </a: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мин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5" name="Группа 157"/>
            <p:cNvGrpSpPr/>
            <p:nvPr/>
          </p:nvGrpSpPr>
          <p:grpSpPr>
            <a:xfrm>
              <a:off x="5789880" y="5508000"/>
              <a:ext cx="1045440" cy="477360"/>
              <a:chOff x="5789880" y="5508000"/>
              <a:chExt cx="1045440" cy="477360"/>
            </a:xfrm>
          </p:grpSpPr>
          <p:sp>
            <p:nvSpPr>
              <p:cNvPr id="676" name="Прямая соединительная линия 158"/>
              <p:cNvSpPr/>
              <p:nvPr/>
            </p:nvSpPr>
            <p:spPr>
              <a:xfrm>
                <a:off x="5789880" y="5508000"/>
                <a:ext cx="1045440" cy="453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Прямая соединительная линия 159"/>
              <p:cNvSpPr/>
              <p:nvPr/>
            </p:nvSpPr>
            <p:spPr>
              <a:xfrm flipH="1">
                <a:off x="5793120" y="5512320"/>
                <a:ext cx="1036080" cy="473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8" name="Группа 164"/>
          <p:cNvGrpSpPr/>
          <p:nvPr/>
        </p:nvGrpSpPr>
        <p:grpSpPr>
          <a:xfrm>
            <a:off x="7829640" y="5357880"/>
            <a:ext cx="1243080" cy="1285920"/>
            <a:chOff x="7829640" y="5357880"/>
            <a:chExt cx="1243080" cy="1285920"/>
          </a:xfrm>
        </p:grpSpPr>
        <p:pic>
          <p:nvPicPr>
            <p:cNvPr id="679" name="Picture 3" descr="C:\Users\Надежда\Videos\Downloads\Pictures\Организатор клипов (Microsoft)\j0441443.png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8072640" y="5357880"/>
              <a:ext cx="79200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0" name="Скругленный прямоугольник 166">
              <a:hlinkClick r:id="" action="ppaction://hlinkshowjump?jump=endshow"/>
            </p:cNvPr>
            <p:cNvSpPr/>
            <p:nvPr/>
          </p:nvSpPr>
          <p:spPr>
            <a:xfrm>
              <a:off x="7829640" y="6212160"/>
              <a:ext cx="1243080" cy="43164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66"/>
                  </a:solidFill>
                  <a:latin typeface="Times New Roman"/>
                  <a:ea typeface="Times New Roman"/>
                </a:rPr>
                <a:t>вых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0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5" restart="whenNotActive" nodeType="interactiveSeq" fill="hold">
                <p:stCondLst>
                  <p:cond evt="onClick">
                    <p:tgtEl>
                      <p:spTgt spid="597"/>
                    </p:tgtEl>
                  </p:cond>
                </p:stCondLst>
                <p:childTnLst>
                  <p:par>
                    <p:cTn id="876" fill="hold">
                      <p:stCondLst>
                        <p:cond evt="onClick">
                          <p:tgtEl>
                            <p:spTgt spid="597"/>
                          </p:tgtEl>
                        </p:cond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evt="onClick">
                          <p:tgtEl>
                            <p:spTgt spid="597"/>
                          </p:tgtEl>
                        </p:cond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2" restart="whenNotActive" nodeType="interactiveSeq" fill="hold">
                <p:stCondLst>
                  <p:cond evt="onClick">
                    <p:tgtEl>
                      <p:spTgt spid="616"/>
                    </p:tgtEl>
                  </p:cond>
                </p:stCondLst>
                <p:childTnLst>
                  <p:par>
                    <p:cTn id="893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7" restart="whenNotActive" nodeType="interactiveSeq" fill="hold">
                <p:stCondLst>
                  <p:cond evt="onClick">
                    <p:tgtEl>
                      <p:spTgt spid="635"/>
                    </p:tgtEl>
                  </p:cond>
                </p:stCondLst>
                <p:childTnLst>
                  <p:par>
                    <p:cTn id="908" fill="hold">
                      <p:stCondLst>
                        <p:cond evt="onClick">
                          <p:tgtEl>
                            <p:spTgt spid="635"/>
                          </p:tgtEl>
                        </p:cond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evt="onClick">
                          <p:tgtEl>
                            <p:spTgt spid="635"/>
                          </p:tgtEl>
                        </p:cond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evt="onClick">
                          <p:tgtEl>
                            <p:spTgt spid="635"/>
                          </p:tgtEl>
                        </p:cond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2" restart="whenNotActive" nodeType="interactiveSeq" fill="hold">
                <p:stCondLst>
                  <p:cond evt="onClick">
                    <p:tgtEl>
                      <p:spTgt spid="651"/>
                    </p:tgtEl>
                  </p:cond>
                </p:stCondLst>
                <p:childTnLst>
                  <p:par>
                    <p:cTn id="923" fill="hold">
                      <p:stCondLst>
                        <p:cond evt="onClick">
                          <p:tgtEl>
                            <p:spTgt spid="651"/>
                          </p:tgtEl>
                        </p:cond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evt="onClick">
                          <p:tgtEl>
                            <p:spTgt spid="651"/>
                          </p:tgtEl>
                        </p:cond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evt="onClick">
                          <p:tgtEl>
                            <p:spTgt spid="651"/>
                          </p:tgtEl>
                        </p:cond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7" restart="whenNotActive" nodeType="interactiveSeq" fill="hold">
                <p:stCondLst>
                  <p:cond evt="onClick">
                    <p:tgtEl>
                      <p:spTgt spid="653"/>
                    </p:tgtEl>
                  </p:cond>
                </p:stCondLst>
                <p:childTnLst>
                  <p:par>
                    <p:cTn id="938" fill="hold">
                      <p:stCondLst>
                        <p:cond evt="onClick">
                          <p:tgtEl>
                            <p:spTgt spid="653"/>
                          </p:tgtEl>
                        </p:cond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Скругленный прямоугольник 72"/>
          <p:cNvSpPr/>
          <p:nvPr/>
        </p:nvSpPr>
        <p:spPr>
          <a:xfrm>
            <a:off x="3532320" y="2746440"/>
            <a:ext cx="20714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 = s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2" name="Группа 53"/>
          <p:cNvGrpSpPr/>
          <p:nvPr/>
        </p:nvGrpSpPr>
        <p:grpSpPr>
          <a:xfrm>
            <a:off x="500040" y="2503440"/>
            <a:ext cx="8215200" cy="1028880"/>
            <a:chOff x="500040" y="2503440"/>
            <a:chExt cx="8215200" cy="1028880"/>
          </a:xfrm>
        </p:grpSpPr>
        <p:sp>
          <p:nvSpPr>
            <p:cNvPr id="683" name="Скругленный прямоугольник 51"/>
            <p:cNvSpPr/>
            <p:nvPr/>
          </p:nvSpPr>
          <p:spPr>
            <a:xfrm>
              <a:off x="500040" y="2530440"/>
              <a:ext cx="8215200" cy="1001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Прямоугольник 52"/>
            <p:cNvSpPr/>
            <p:nvPr/>
          </p:nvSpPr>
          <p:spPr>
            <a:xfrm>
              <a:off x="571320" y="2503440"/>
              <a:ext cx="8143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усть х ч – собственная скорость лодки. Какое из уравнений соответствует условию задачи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85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686" name="Группа 46"/>
          <p:cNvGrpSpPr/>
          <p:nvPr/>
        </p:nvGrpSpPr>
        <p:grpSpPr>
          <a:xfrm>
            <a:off x="500040" y="173160"/>
            <a:ext cx="8215200" cy="2255760"/>
            <a:chOff x="500040" y="173160"/>
            <a:chExt cx="8215200" cy="2255760"/>
          </a:xfrm>
        </p:grpSpPr>
        <p:sp>
          <p:nvSpPr>
            <p:cNvPr id="687" name="Скругленный прямоугольник 44"/>
            <p:cNvSpPr/>
            <p:nvPr/>
          </p:nvSpPr>
          <p:spPr>
            <a:xfrm>
              <a:off x="500040" y="173160"/>
              <a:ext cx="8215200" cy="2255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елосипедист от озера до деревни ехал со скоростью 15 км/ч, а обратно – со скоростью 10 км/ч. Сколяько времени ушло у него на дорогу от озера до деревни, если на весь путь туда и обратно велосипедист затратил 1 ч? Велосипедист от озера до деревни ехал со скоростью 15 км/ч, а обратно – со скоростью 10 км/ч. Сколько времени ушло у него на дорогу от озера до деревни, если на весь путь туда и обратно велосипедист затратил 1 ч? 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Прямоугольник 45"/>
            <p:cNvSpPr/>
            <p:nvPr/>
          </p:nvSpPr>
          <p:spPr>
            <a:xfrm>
              <a:off x="785520" y="173160"/>
              <a:ext cx="77151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сстояние по реке между двумя деревнями равно 2 км. На путь туда и обратно моторная лодка затратила 22 мин. Чему равна собственная скорость лодки, если скорость течения реки равна 1 км/ч?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89" name=""/>
          <p:cNvGraphicFramePr/>
          <p:nvPr/>
        </p:nvGraphicFramePr>
        <p:xfrm>
          <a:off x="603360" y="3643200"/>
          <a:ext cx="7827840" cy="2492640"/>
        </p:xfrm>
        <a:graphic>
          <a:graphicData uri="http://schemas.openxmlformats.org/drawingml/2006/table">
            <a:tbl>
              <a:tblPr/>
              <a:tblGrid>
                <a:gridCol w="1825560"/>
                <a:gridCol w="2071800"/>
                <a:gridCol w="2216160"/>
                <a:gridCol w="1714320"/>
              </a:tblGrid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о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течени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в теч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0" name="Скругленный прямоугольник 57"/>
          <p:cNvSpPr/>
          <p:nvPr/>
        </p:nvSpPr>
        <p:spPr>
          <a:xfrm>
            <a:off x="2587680" y="4460760"/>
            <a:ext cx="171432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Скругленный прямоугольник 58"/>
          <p:cNvSpPr/>
          <p:nvPr/>
        </p:nvSpPr>
        <p:spPr>
          <a:xfrm>
            <a:off x="2587680" y="5365800"/>
            <a:ext cx="178596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Скругленный прямоугольник 59"/>
          <p:cNvSpPr/>
          <p:nvPr/>
        </p:nvSpPr>
        <p:spPr>
          <a:xfrm>
            <a:off x="4672080" y="4460760"/>
            <a:ext cx="194292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Скругленный прямоугольник 60"/>
          <p:cNvSpPr/>
          <p:nvPr/>
        </p:nvSpPr>
        <p:spPr>
          <a:xfrm>
            <a:off x="4667400" y="5364000"/>
            <a:ext cx="194436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) км/ч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4" name="Прямая со стрелкой 36"/>
          <p:cNvCxnSpPr/>
          <p:nvPr/>
        </p:nvCxnSpPr>
        <p:spPr>
          <a:xfrm>
            <a:off x="1928880" y="2286000"/>
            <a:ext cx="3286800" cy="2286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95" name="Прямая со стрелкой 31"/>
          <p:cNvCxnSpPr/>
          <p:nvPr/>
        </p:nvCxnSpPr>
        <p:spPr>
          <a:xfrm>
            <a:off x="2071800" y="1000080"/>
            <a:ext cx="1429200" cy="3643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96" name="Прямая со стрелкой 26"/>
          <p:cNvCxnSpPr/>
          <p:nvPr/>
        </p:nvCxnSpPr>
        <p:spPr>
          <a:xfrm>
            <a:off x="1856880" y="2928960"/>
            <a:ext cx="3358440" cy="1643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697" name="Picture 1" descr="F:\2.jpg"/>
          <p:cNvPicPr/>
          <p:nvPr/>
        </p:nvPicPr>
        <p:blipFill>
          <a:blip r:embed="rId1"/>
          <a:stretch/>
        </p:blipFill>
        <p:spPr>
          <a:xfrm>
            <a:off x="3902040" y="6303960"/>
            <a:ext cx="1316160" cy="54144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2" descr="C:\Users\Надежда\Desktop\КАРТИНКИ\рисунок Стрелка влево\102.gif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01040" y="628668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699" name="Управляющая кнопка: сведения 30"/>
          <p:cNvSpPr/>
          <p:nvPr/>
        </p:nvSpPr>
        <p:spPr>
          <a:xfrm>
            <a:off x="8429760" y="4143240"/>
            <a:ext cx="642960" cy="85752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857520"/>
              <a:gd name="textAreaBottom" fmla="*/ 816120 h 857520"/>
            </a:gdLst>
            <a:ahLst/>
            <a:rect l="textAreaLeft" t="textAreaTop" r="textAreaRight" b="textAreaBottom"/>
            <a:pathLst>
              <a:path w="21600" h="28804">
                <a:moveTo>
                  <a:pt x="0" y="0"/>
                </a:moveTo>
                <a:lnTo>
                  <a:pt x="21600" y="0"/>
                </a:lnTo>
                <a:lnTo>
                  <a:pt x="21600" y="28804"/>
                </a:lnTo>
                <a:lnTo>
                  <a:pt x="0" y="28804"/>
                </a:lnTo>
                <a:close/>
              </a:path>
              <a:path fill="lightenLess" w="21600" h="28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4">
                <a:moveTo>
                  <a:pt x="21600" y="0"/>
                </a:moveTo>
                <a:lnTo>
                  <a:pt x="21600" y="28804"/>
                </a:lnTo>
                <a:lnTo>
                  <a:pt x="20200" y="27404"/>
                </a:lnTo>
                <a:lnTo>
                  <a:pt x="20200" y="1400"/>
                </a:lnTo>
                <a:close/>
              </a:path>
              <a:path fill="darkenLess" w="21600" h="28804">
                <a:moveTo>
                  <a:pt x="21600" y="28804"/>
                </a:moveTo>
                <a:lnTo>
                  <a:pt x="0" y="28804"/>
                </a:lnTo>
                <a:lnTo>
                  <a:pt x="1400" y="27404"/>
                </a:lnTo>
                <a:lnTo>
                  <a:pt x="20200" y="27404"/>
                </a:lnTo>
                <a:close/>
              </a:path>
              <a:path fill="lighten" w="21600" h="28804">
                <a:moveTo>
                  <a:pt x="0" y="28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4"/>
                </a:lnTo>
                <a:close/>
              </a:path>
              <a:path fill="darken" w="21600" h="28804">
                <a:moveTo>
                  <a:pt x="10800" y="7396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8804">
                <a:moveTo>
                  <a:pt x="10800" y="7770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8804">
                <a:moveTo>
                  <a:pt x="8224" y="11826"/>
                </a:moveTo>
                <a:lnTo>
                  <a:pt x="12088" y="11826"/>
                </a:lnTo>
                <a:lnTo>
                  <a:pt x="12088" y="18823"/>
                </a:lnTo>
                <a:lnTo>
                  <a:pt x="13376" y="18823"/>
                </a:lnTo>
                <a:lnTo>
                  <a:pt x="13376" y="19746"/>
                </a:lnTo>
                <a:lnTo>
                  <a:pt x="8224" y="19746"/>
                </a:lnTo>
                <a:lnTo>
                  <a:pt x="8224" y="18823"/>
                </a:lnTo>
                <a:lnTo>
                  <a:pt x="9512" y="18823"/>
                </a:lnTo>
                <a:lnTo>
                  <a:pt x="9512" y="12731"/>
                </a:lnTo>
                <a:lnTo>
                  <a:pt x="8224" y="12731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Прямоугольник 54"/>
          <p:cNvSpPr/>
          <p:nvPr/>
        </p:nvSpPr>
        <p:spPr>
          <a:xfrm>
            <a:off x="785880" y="198360"/>
            <a:ext cx="7715160" cy="5000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Прямоугольник 55"/>
          <p:cNvSpPr/>
          <p:nvPr/>
        </p:nvSpPr>
        <p:spPr>
          <a:xfrm>
            <a:off x="785880" y="698400"/>
            <a:ext cx="2071800" cy="444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Прямая со стрелкой 66"/>
          <p:cNvCxnSpPr/>
          <p:nvPr/>
        </p:nvCxnSpPr>
        <p:spPr>
          <a:xfrm>
            <a:off x="2071800" y="1000080"/>
            <a:ext cx="1429200" cy="4572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03" name="Прямоугольник 67"/>
          <p:cNvSpPr/>
          <p:nvPr/>
        </p:nvSpPr>
        <p:spPr>
          <a:xfrm>
            <a:off x="4572000" y="1512720"/>
            <a:ext cx="3929040" cy="5004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Прямоугольник 68"/>
          <p:cNvSpPr/>
          <p:nvPr/>
        </p:nvSpPr>
        <p:spPr>
          <a:xfrm>
            <a:off x="801720" y="1928880"/>
            <a:ext cx="2198520" cy="5000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5" name="Прямая со стрелкой 76"/>
          <p:cNvCxnSpPr/>
          <p:nvPr/>
        </p:nvCxnSpPr>
        <p:spPr>
          <a:xfrm>
            <a:off x="1856880" y="2928960"/>
            <a:ext cx="3358440" cy="2572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06" name="Прямая со стрелкой 78"/>
          <p:cNvCxnSpPr/>
          <p:nvPr/>
        </p:nvCxnSpPr>
        <p:spPr>
          <a:xfrm>
            <a:off x="1928880" y="2286000"/>
            <a:ext cx="3286800" cy="3215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707" name="Object 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08" name="Правая фигурная скобка 61"/>
          <p:cNvSpPr/>
          <p:nvPr/>
        </p:nvSpPr>
        <p:spPr>
          <a:xfrm>
            <a:off x="8143920" y="4299120"/>
            <a:ext cx="360360" cy="1785600"/>
          </a:xfrm>
          <a:custGeom>
            <a:avLst/>
            <a:gdLst>
              <a:gd name="textAreaLeft" fmla="*/ 0 w 360360"/>
              <a:gd name="textAreaRight" fmla="*/ 129960 w 360360"/>
              <a:gd name="textAreaTop" fmla="*/ 9360 h 1785600"/>
              <a:gd name="textAreaBottom" fmla="*/ 1776240 h 178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2"/>
                  <a:pt x="10800" y="363"/>
                </a:cubicBezTo>
                <a:lnTo>
                  <a:pt x="10800" y="10437"/>
                </a:lnTo>
                <a:cubicBezTo>
                  <a:pt x="10800" y="10619"/>
                  <a:pt x="16200" y="10800"/>
                  <a:pt x="21600" y="10800"/>
                </a:cubicBezTo>
                <a:cubicBezTo>
                  <a:pt x="16200" y="10800"/>
                  <a:pt x="10800" y="10982"/>
                  <a:pt x="10800" y="11163"/>
                </a:cubicBezTo>
                <a:lnTo>
                  <a:pt x="10800" y="21237"/>
                </a:lnTo>
                <a:cubicBezTo>
                  <a:pt x="10800" y="21419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Прямоугольник 62"/>
          <p:cNvSpPr/>
          <p:nvPr/>
        </p:nvSpPr>
        <p:spPr>
          <a:xfrm>
            <a:off x="4327560" y="684360"/>
            <a:ext cx="4173480" cy="4284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Прямоугольник 64"/>
          <p:cNvSpPr/>
          <p:nvPr/>
        </p:nvSpPr>
        <p:spPr>
          <a:xfrm>
            <a:off x="785880" y="1143000"/>
            <a:ext cx="3786120" cy="5000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1" name="Группа 69"/>
          <p:cNvGrpSpPr/>
          <p:nvPr/>
        </p:nvGrpSpPr>
        <p:grpSpPr>
          <a:xfrm>
            <a:off x="6881760" y="4255920"/>
            <a:ext cx="1332360" cy="887760"/>
            <a:chOff x="6881760" y="4255920"/>
            <a:chExt cx="1332360" cy="887760"/>
          </a:xfrm>
        </p:grpSpPr>
        <p:grpSp>
          <p:nvGrpSpPr>
            <p:cNvPr id="712" name="Группа 47"/>
            <p:cNvGrpSpPr/>
            <p:nvPr/>
          </p:nvGrpSpPr>
          <p:grpSpPr>
            <a:xfrm>
              <a:off x="6881760" y="4255920"/>
              <a:ext cx="1332360" cy="887760"/>
              <a:chOff x="6881760" y="4255920"/>
              <a:chExt cx="1332360" cy="887760"/>
            </a:xfrm>
          </p:grpSpPr>
          <p:sp>
            <p:nvSpPr>
              <p:cNvPr id="713" name="Скругленный прямоугольник 38"/>
              <p:cNvSpPr/>
              <p:nvPr/>
            </p:nvSpPr>
            <p:spPr>
              <a:xfrm>
                <a:off x="6881760" y="4285800"/>
                <a:ext cx="1332360" cy="857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4" name="Группа 20"/>
              <p:cNvGrpSpPr/>
              <p:nvPr/>
            </p:nvGrpSpPr>
            <p:grpSpPr>
              <a:xfrm>
                <a:off x="7110720" y="4255920"/>
                <a:ext cx="986400" cy="855720"/>
                <a:chOff x="7110720" y="4255920"/>
                <a:chExt cx="986400" cy="855720"/>
              </a:xfrm>
            </p:grpSpPr>
            <p:sp>
              <p:nvSpPr>
                <p:cNvPr id="715" name="Rectangle 16"/>
                <p:cNvSpPr/>
                <p:nvPr/>
              </p:nvSpPr>
              <p:spPr>
                <a:xfrm>
                  <a:off x="7168320" y="4684680"/>
                  <a:ext cx="9288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х +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1 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Rectangle 21"/>
                <p:cNvSpPr/>
                <p:nvPr/>
              </p:nvSpPr>
              <p:spPr>
                <a:xfrm>
                  <a:off x="7327800" y="425592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Прямая соединительная линия 43"/>
                <p:cNvSpPr/>
                <p:nvPr/>
              </p:nvSpPr>
              <p:spPr>
                <a:xfrm>
                  <a:off x="7110720" y="4687920"/>
                  <a:ext cx="72072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18" name="Rectangle 16"/>
            <p:cNvSpPr/>
            <p:nvPr/>
          </p:nvSpPr>
          <p:spPr>
            <a:xfrm>
              <a:off x="7945920" y="4444920"/>
              <a:ext cx="26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ч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Группа 74"/>
          <p:cNvGrpSpPr/>
          <p:nvPr/>
        </p:nvGrpSpPr>
        <p:grpSpPr>
          <a:xfrm>
            <a:off x="6883560" y="5216400"/>
            <a:ext cx="1332360" cy="887400"/>
            <a:chOff x="6883560" y="5216400"/>
            <a:chExt cx="1332360" cy="887400"/>
          </a:xfrm>
        </p:grpSpPr>
        <p:grpSp>
          <p:nvGrpSpPr>
            <p:cNvPr id="720" name="Группа 47"/>
            <p:cNvGrpSpPr/>
            <p:nvPr/>
          </p:nvGrpSpPr>
          <p:grpSpPr>
            <a:xfrm>
              <a:off x="6883560" y="5216400"/>
              <a:ext cx="1332360" cy="887400"/>
              <a:chOff x="6883560" y="5216400"/>
              <a:chExt cx="1332360" cy="887400"/>
            </a:xfrm>
          </p:grpSpPr>
          <p:sp>
            <p:nvSpPr>
              <p:cNvPr id="721" name="Скругленный прямоугольник 47"/>
              <p:cNvSpPr/>
              <p:nvPr/>
            </p:nvSpPr>
            <p:spPr>
              <a:xfrm>
                <a:off x="6883560" y="5246280"/>
                <a:ext cx="1332360" cy="8575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2" name="Группа 20"/>
              <p:cNvGrpSpPr/>
              <p:nvPr/>
            </p:nvGrpSpPr>
            <p:grpSpPr>
              <a:xfrm>
                <a:off x="7112520" y="5216400"/>
                <a:ext cx="924840" cy="855360"/>
                <a:chOff x="7112520" y="5216400"/>
                <a:chExt cx="924840" cy="855360"/>
              </a:xfrm>
            </p:grpSpPr>
            <p:sp>
              <p:nvSpPr>
                <p:cNvPr id="723" name="Rectangle 16"/>
                <p:cNvSpPr/>
                <p:nvPr/>
              </p:nvSpPr>
              <p:spPr>
                <a:xfrm>
                  <a:off x="7169040" y="5644800"/>
                  <a:ext cx="86832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х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– 1 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Rectangle 21"/>
                <p:cNvSpPr/>
                <p:nvPr/>
              </p:nvSpPr>
              <p:spPr>
                <a:xfrm>
                  <a:off x="7329600" y="521640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Прямая соединительная линия 53"/>
                <p:cNvSpPr/>
                <p:nvPr/>
              </p:nvSpPr>
              <p:spPr>
                <a:xfrm>
                  <a:off x="7112520" y="5648400"/>
                  <a:ext cx="72072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26" name="Rectangle 16"/>
            <p:cNvSpPr/>
            <p:nvPr/>
          </p:nvSpPr>
          <p:spPr>
            <a:xfrm>
              <a:off x="7947720" y="5357880"/>
              <a:ext cx="26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ч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27" name="Прямая со стрелкой 63"/>
          <p:cNvCxnSpPr/>
          <p:nvPr/>
        </p:nvCxnSpPr>
        <p:spPr>
          <a:xfrm>
            <a:off x="3642840" y="1428480"/>
            <a:ext cx="5001480" cy="3715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p:timing>
    <p:tnLst>
      <p:par>
        <p:cTn id="942" dur="indefinite" restart="never" nodeType="tmRoot">
          <p:childTnLst>
            <p:seq>
              <p:cTn id="943" restart="whenNotActive" nodeType="interactiveSeq" fill="hold">
                <p:stCondLst>
                  <p:cond evt="onClick">
                    <p:tgtEl>
                      <p:spTgt spid="697"/>
                    </p:tgtEl>
                  </p:cond>
                </p:stCondLst>
                <p:childTnLst>
                  <p:par>
                    <p:cTn id="944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1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8" restart="whenNotActive" nodeType="interactiveSeq" fill="hold">
                <p:stCondLst>
                  <p:cond evt="onClick">
                    <p:tgtEl>
                      <p:spTgt spid="699"/>
                    </p:tgtEl>
                  </p:cond>
                </p:stCondLst>
                <p:childTnLst>
                  <p:par>
                    <p:cTn id="1059" fill="hold">
                      <p:stCondLst>
                        <p:cond evt="onClick">
                          <p:tgtEl>
                            <p:spTgt spid="699"/>
                          </p:tgtEl>
                        </p:cond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evt="onClick">
                          <p:tgtEl>
                            <p:spTgt spid="699"/>
                          </p:tgtEl>
                        </p:cond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Arial"/>
              </a:rPr>
              <a:t>«Успех – это не пункт назначения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Arial"/>
              </a:rPr>
              <a:t>Это движение».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Arial"/>
              </a:rPr>
              <a:t>Т. Фастер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8" name=""/>
          <p:cNvGraphicFramePr/>
          <p:nvPr/>
        </p:nvGraphicFramePr>
        <p:xfrm>
          <a:off x="603360" y="142920"/>
          <a:ext cx="7827840" cy="2492280"/>
        </p:xfrm>
        <a:graphic>
          <a:graphicData uri="http://schemas.openxmlformats.org/drawingml/2006/table">
            <a:tbl>
              <a:tblPr/>
              <a:tblGrid>
                <a:gridCol w="1825560"/>
                <a:gridCol w="2071800"/>
                <a:gridCol w="2216160"/>
                <a:gridCol w="1714320"/>
              </a:tblGrid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Рассто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кор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По течени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Против теч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9" name="Скругленный прямоугольник 2"/>
          <p:cNvSpPr/>
          <p:nvPr/>
        </p:nvSpPr>
        <p:spPr>
          <a:xfrm>
            <a:off x="2643120" y="960480"/>
            <a:ext cx="171468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Скругленный прямоугольник 3"/>
          <p:cNvSpPr/>
          <p:nvPr/>
        </p:nvSpPr>
        <p:spPr>
          <a:xfrm>
            <a:off x="2587680" y="1865160"/>
            <a:ext cx="178596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Скругленный прямоугольник 4"/>
          <p:cNvSpPr/>
          <p:nvPr/>
        </p:nvSpPr>
        <p:spPr>
          <a:xfrm>
            <a:off x="4611600" y="960480"/>
            <a:ext cx="201636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Скругленный прямоугольник 5"/>
          <p:cNvSpPr/>
          <p:nvPr/>
        </p:nvSpPr>
        <p:spPr>
          <a:xfrm>
            <a:off x="4611600" y="1863720"/>
            <a:ext cx="201636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) км/ч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Группа 173"/>
          <p:cNvGrpSpPr/>
          <p:nvPr/>
        </p:nvGrpSpPr>
        <p:grpSpPr>
          <a:xfrm>
            <a:off x="2741760" y="2786040"/>
            <a:ext cx="3643200" cy="926640"/>
            <a:chOff x="2741760" y="2786040"/>
            <a:chExt cx="3643200" cy="926640"/>
          </a:xfrm>
        </p:grpSpPr>
        <p:sp>
          <p:nvSpPr>
            <p:cNvPr id="734" name="Скругленный прямоугольник 19"/>
            <p:cNvSpPr/>
            <p:nvPr/>
          </p:nvSpPr>
          <p:spPr>
            <a:xfrm>
              <a:off x="2741760" y="2786040"/>
              <a:ext cx="3643200" cy="857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2 мин =       ч =        ч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5" name="Группа 172"/>
            <p:cNvGrpSpPr/>
            <p:nvPr/>
          </p:nvGrpSpPr>
          <p:grpSpPr>
            <a:xfrm>
              <a:off x="4309920" y="2786040"/>
              <a:ext cx="1641600" cy="926640"/>
              <a:chOff x="4309920" y="2786040"/>
              <a:chExt cx="1641600" cy="926640"/>
            </a:xfrm>
          </p:grpSpPr>
          <p:sp>
            <p:nvSpPr>
              <p:cNvPr id="736" name="Rectangle 16"/>
              <p:cNvSpPr/>
              <p:nvPr/>
            </p:nvSpPr>
            <p:spPr>
              <a:xfrm>
                <a:off x="4412880" y="321660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60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Rectangle 21"/>
              <p:cNvSpPr/>
              <p:nvPr/>
            </p:nvSpPr>
            <p:spPr>
              <a:xfrm>
                <a:off x="4354920" y="278604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Прямая соединительная линия 23"/>
              <p:cNvSpPr/>
              <p:nvPr/>
            </p:nvSpPr>
            <p:spPr>
              <a:xfrm>
                <a:off x="4309920" y="3217680"/>
                <a:ext cx="431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Rectangle 21"/>
              <p:cNvSpPr/>
              <p:nvPr/>
            </p:nvSpPr>
            <p:spPr>
              <a:xfrm>
                <a:off x="5430600" y="282996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Прямая соединительная линия 85"/>
              <p:cNvSpPr/>
              <p:nvPr/>
            </p:nvSpPr>
            <p:spPr>
              <a:xfrm>
                <a:off x="5467320" y="3230640"/>
                <a:ext cx="431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Rectangle 16"/>
              <p:cNvSpPr/>
              <p:nvPr/>
            </p:nvSpPr>
            <p:spPr>
              <a:xfrm>
                <a:off x="5505480" y="328572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2" name="Скругленный прямоугольник 24"/>
          <p:cNvSpPr/>
          <p:nvPr/>
        </p:nvSpPr>
        <p:spPr>
          <a:xfrm>
            <a:off x="785880" y="2786040"/>
            <a:ext cx="757224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весь путь по течению и против течения лодка затратила 22 м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Скругленный прямоугольник 25"/>
          <p:cNvSpPr/>
          <p:nvPr/>
        </p:nvSpPr>
        <p:spPr>
          <a:xfrm>
            <a:off x="1357200" y="3699000"/>
            <a:ext cx="428652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+ 2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) = 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Скругленный прямоугольник 27"/>
          <p:cNvSpPr/>
          <p:nvPr/>
        </p:nvSpPr>
        <p:spPr>
          <a:xfrm>
            <a:off x="5857920" y="3706920"/>
            <a:ext cx="205560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Группа 131"/>
          <p:cNvGrpSpPr/>
          <p:nvPr/>
        </p:nvGrpSpPr>
        <p:grpSpPr>
          <a:xfrm>
            <a:off x="1357200" y="4406760"/>
            <a:ext cx="4286520" cy="859680"/>
            <a:chOff x="1357200" y="4406760"/>
            <a:chExt cx="4286520" cy="859680"/>
          </a:xfrm>
        </p:grpSpPr>
        <p:sp>
          <p:nvSpPr>
            <p:cNvPr id="746" name="Скругленный прямоугольник 29"/>
            <p:cNvSpPr/>
            <p:nvPr/>
          </p:nvSpPr>
          <p:spPr>
            <a:xfrm>
              <a:off x="1357200" y="4482720"/>
              <a:ext cx="4286520" cy="714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Б.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7" name="Группа 69"/>
            <p:cNvGrpSpPr/>
            <p:nvPr/>
          </p:nvGrpSpPr>
          <p:grpSpPr>
            <a:xfrm>
              <a:off x="2208600" y="4406760"/>
              <a:ext cx="3076200" cy="859680"/>
              <a:chOff x="2208600" y="4406760"/>
              <a:chExt cx="3076200" cy="859680"/>
            </a:xfrm>
          </p:grpSpPr>
          <p:grpSp>
            <p:nvGrpSpPr>
              <p:cNvPr id="748" name="Группа 53"/>
              <p:cNvGrpSpPr/>
              <p:nvPr/>
            </p:nvGrpSpPr>
            <p:grpSpPr>
              <a:xfrm>
                <a:off x="2208600" y="4406760"/>
                <a:ext cx="2426040" cy="858240"/>
                <a:chOff x="2208600" y="4406760"/>
                <a:chExt cx="2426040" cy="858240"/>
              </a:xfrm>
            </p:grpSpPr>
            <p:sp>
              <p:nvSpPr>
                <p:cNvPr id="749" name="Rectangle 19"/>
                <p:cNvSpPr/>
                <p:nvPr/>
              </p:nvSpPr>
              <p:spPr>
                <a:xfrm>
                  <a:off x="4352040" y="4593240"/>
                  <a:ext cx="282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0" name="Группа 110"/>
                <p:cNvGrpSpPr/>
                <p:nvPr/>
              </p:nvGrpSpPr>
              <p:grpSpPr>
                <a:xfrm>
                  <a:off x="2208600" y="4406760"/>
                  <a:ext cx="761760" cy="857880"/>
                  <a:chOff x="2208600" y="4406760"/>
                  <a:chExt cx="761760" cy="857880"/>
                </a:xfrm>
              </p:grpSpPr>
              <p:sp>
                <p:nvSpPr>
                  <p:cNvPr id="751" name="Rectangle 16"/>
                  <p:cNvSpPr/>
                  <p:nvPr/>
                </p:nvSpPr>
                <p:spPr>
                  <a:xfrm>
                    <a:off x="2218320" y="4837680"/>
                    <a:ext cx="75204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 +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Прямая соединительная линия 44"/>
                  <p:cNvSpPr/>
                  <p:nvPr/>
                </p:nvSpPr>
                <p:spPr>
                  <a:xfrm>
                    <a:off x="2208600" y="4838760"/>
                    <a:ext cx="71532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Rectangle 21"/>
                  <p:cNvSpPr/>
                  <p:nvPr/>
                </p:nvSpPr>
                <p:spPr>
                  <a:xfrm>
                    <a:off x="2462040" y="4406760"/>
                    <a:ext cx="2674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54" name="Rectangle 18"/>
                <p:cNvSpPr/>
                <p:nvPr/>
              </p:nvSpPr>
              <p:spPr>
                <a:xfrm>
                  <a:off x="3089520" y="4598280"/>
                  <a:ext cx="28872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5" name="Группа 112"/>
                <p:cNvGrpSpPr/>
                <p:nvPr/>
              </p:nvGrpSpPr>
              <p:grpSpPr>
                <a:xfrm>
                  <a:off x="3425400" y="4423320"/>
                  <a:ext cx="824400" cy="841680"/>
                  <a:chOff x="3425400" y="4423320"/>
                  <a:chExt cx="824400" cy="841680"/>
                </a:xfrm>
              </p:grpSpPr>
              <p:sp>
                <p:nvSpPr>
                  <p:cNvPr id="756" name="Rectangle 14"/>
                  <p:cNvSpPr/>
                  <p:nvPr/>
                </p:nvSpPr>
                <p:spPr>
                  <a:xfrm>
                    <a:off x="3558600" y="4838040"/>
                    <a:ext cx="69120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– 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Прямая соединительная линия 41"/>
                  <p:cNvSpPr/>
                  <p:nvPr/>
                </p:nvSpPr>
                <p:spPr>
                  <a:xfrm>
                    <a:off x="3425400" y="4836960"/>
                    <a:ext cx="71928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Rectangle 13"/>
                  <p:cNvSpPr/>
                  <p:nvPr/>
                </p:nvSpPr>
                <p:spPr>
                  <a:xfrm>
                    <a:off x="3714480" y="442332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59" name="Группа 65"/>
              <p:cNvGrpSpPr/>
              <p:nvPr/>
            </p:nvGrpSpPr>
            <p:grpSpPr>
              <a:xfrm>
                <a:off x="4723560" y="4408920"/>
                <a:ext cx="561240" cy="857520"/>
                <a:chOff x="4723560" y="4408920"/>
                <a:chExt cx="561240" cy="857520"/>
              </a:xfrm>
            </p:grpSpPr>
            <p:sp>
              <p:nvSpPr>
                <p:cNvPr id="760" name="Rectangle 16"/>
                <p:cNvSpPr/>
                <p:nvPr/>
              </p:nvSpPr>
              <p:spPr>
                <a:xfrm>
                  <a:off x="4838760" y="4839480"/>
                  <a:ext cx="44604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30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Rectangle 21"/>
                <p:cNvSpPr/>
                <p:nvPr/>
              </p:nvSpPr>
              <p:spPr>
                <a:xfrm>
                  <a:off x="4723560" y="4408920"/>
                  <a:ext cx="44604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Прямая соединительная линия 35"/>
                <p:cNvSpPr/>
                <p:nvPr/>
              </p:nvSpPr>
              <p:spPr>
                <a:xfrm>
                  <a:off x="4782960" y="4840200"/>
                  <a:ext cx="43200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63" name="Скругленный прямоугольник 47"/>
          <p:cNvSpPr/>
          <p:nvPr/>
        </p:nvSpPr>
        <p:spPr>
          <a:xfrm>
            <a:off x="5857920" y="4484520"/>
            <a:ext cx="205560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Группа 131"/>
          <p:cNvGrpSpPr/>
          <p:nvPr/>
        </p:nvGrpSpPr>
        <p:grpSpPr>
          <a:xfrm>
            <a:off x="1357200" y="5192640"/>
            <a:ext cx="4286520" cy="862560"/>
            <a:chOff x="1357200" y="5192640"/>
            <a:chExt cx="4286520" cy="862560"/>
          </a:xfrm>
        </p:grpSpPr>
        <p:sp>
          <p:nvSpPr>
            <p:cNvPr id="765" name="Скругленный прямоугольник 49"/>
            <p:cNvSpPr/>
            <p:nvPr/>
          </p:nvSpPr>
          <p:spPr>
            <a:xfrm>
              <a:off x="1357200" y="5268600"/>
              <a:ext cx="4286520" cy="716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В.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6" name="Группа 69"/>
            <p:cNvGrpSpPr/>
            <p:nvPr/>
          </p:nvGrpSpPr>
          <p:grpSpPr>
            <a:xfrm>
              <a:off x="2208600" y="5192640"/>
              <a:ext cx="3147840" cy="862560"/>
              <a:chOff x="2208600" y="5192640"/>
              <a:chExt cx="3147840" cy="862560"/>
            </a:xfrm>
          </p:grpSpPr>
          <p:grpSp>
            <p:nvGrpSpPr>
              <p:cNvPr id="767" name="Группа 53"/>
              <p:cNvGrpSpPr/>
              <p:nvPr/>
            </p:nvGrpSpPr>
            <p:grpSpPr>
              <a:xfrm>
                <a:off x="2208600" y="5192640"/>
                <a:ext cx="2464200" cy="862560"/>
                <a:chOff x="2208600" y="5192640"/>
                <a:chExt cx="2464200" cy="862560"/>
              </a:xfrm>
            </p:grpSpPr>
            <p:sp>
              <p:nvSpPr>
                <p:cNvPr id="768" name="Rectangle 19"/>
                <p:cNvSpPr/>
                <p:nvPr/>
              </p:nvSpPr>
              <p:spPr>
                <a:xfrm>
                  <a:off x="4390200" y="5379480"/>
                  <a:ext cx="282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69" name="Группа 110"/>
                <p:cNvGrpSpPr/>
                <p:nvPr/>
              </p:nvGrpSpPr>
              <p:grpSpPr>
                <a:xfrm>
                  <a:off x="2208600" y="5192640"/>
                  <a:ext cx="954360" cy="858240"/>
                  <a:chOff x="2208600" y="5192640"/>
                  <a:chExt cx="954360" cy="858240"/>
                </a:xfrm>
              </p:grpSpPr>
              <p:sp>
                <p:nvSpPr>
                  <p:cNvPr id="770" name="Rectangle 16"/>
                  <p:cNvSpPr/>
                  <p:nvPr/>
                </p:nvSpPr>
                <p:spPr>
                  <a:xfrm>
                    <a:off x="2675520" y="5623920"/>
                    <a:ext cx="1807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Calibri"/>
                      </a:rPr>
                      <a:t>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1" name="Прямая соединительная линия 64"/>
                  <p:cNvSpPr/>
                  <p:nvPr/>
                </p:nvSpPr>
                <p:spPr>
                  <a:xfrm>
                    <a:off x="2208600" y="5624640"/>
                    <a:ext cx="72036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Rectangle 21"/>
                  <p:cNvSpPr/>
                  <p:nvPr/>
                </p:nvSpPr>
                <p:spPr>
                  <a:xfrm>
                    <a:off x="2322360" y="5192640"/>
                    <a:ext cx="84060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х +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3" name="Rectangle 18"/>
                <p:cNvSpPr/>
                <p:nvPr/>
              </p:nvSpPr>
              <p:spPr>
                <a:xfrm>
                  <a:off x="3088800" y="538416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–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74" name="Группа 112"/>
                <p:cNvGrpSpPr/>
                <p:nvPr/>
              </p:nvGrpSpPr>
              <p:grpSpPr>
                <a:xfrm>
                  <a:off x="3425400" y="5196960"/>
                  <a:ext cx="720000" cy="858240"/>
                  <a:chOff x="3425400" y="5196960"/>
                  <a:chExt cx="720000" cy="858240"/>
                </a:xfrm>
              </p:grpSpPr>
              <p:sp>
                <p:nvSpPr>
                  <p:cNvPr id="775" name="Rectangle 14"/>
                  <p:cNvSpPr/>
                  <p:nvPr/>
                </p:nvSpPr>
                <p:spPr>
                  <a:xfrm>
                    <a:off x="3715920" y="562824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Прямая соединительная линия 61"/>
                  <p:cNvSpPr/>
                  <p:nvPr/>
                </p:nvSpPr>
                <p:spPr>
                  <a:xfrm>
                    <a:off x="3425400" y="5624280"/>
                    <a:ext cx="7200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Rectangle 13"/>
                  <p:cNvSpPr/>
                  <p:nvPr/>
                </p:nvSpPr>
                <p:spPr>
                  <a:xfrm>
                    <a:off x="3440880" y="5196960"/>
                    <a:ext cx="69120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– 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78" name="Группа 65"/>
              <p:cNvGrpSpPr/>
              <p:nvPr/>
            </p:nvGrpSpPr>
            <p:grpSpPr>
              <a:xfrm>
                <a:off x="4795200" y="5194800"/>
                <a:ext cx="561240" cy="858240"/>
                <a:chOff x="4795200" y="5194800"/>
                <a:chExt cx="561240" cy="858240"/>
              </a:xfrm>
            </p:grpSpPr>
            <p:sp>
              <p:nvSpPr>
                <p:cNvPr id="779" name="Rectangle 16"/>
                <p:cNvSpPr/>
                <p:nvPr/>
              </p:nvSpPr>
              <p:spPr>
                <a:xfrm>
                  <a:off x="4910400" y="5626080"/>
                  <a:ext cx="44604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30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Rectangle 21"/>
                <p:cNvSpPr/>
                <p:nvPr/>
              </p:nvSpPr>
              <p:spPr>
                <a:xfrm>
                  <a:off x="4795200" y="5194800"/>
                  <a:ext cx="44604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Прямая соединительная линия 55"/>
                <p:cNvSpPr/>
                <p:nvPr/>
              </p:nvSpPr>
              <p:spPr>
                <a:xfrm>
                  <a:off x="4854600" y="5626080"/>
                  <a:ext cx="43200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82" name="Скругленный прямоугольник 66"/>
          <p:cNvSpPr/>
          <p:nvPr/>
        </p:nvSpPr>
        <p:spPr>
          <a:xfrm>
            <a:off x="5873760" y="5270400"/>
            <a:ext cx="205596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" name="Группа 150"/>
          <p:cNvGrpSpPr/>
          <p:nvPr/>
        </p:nvGrpSpPr>
        <p:grpSpPr>
          <a:xfrm>
            <a:off x="1357200" y="5964120"/>
            <a:ext cx="4286520" cy="862200"/>
            <a:chOff x="1357200" y="5964120"/>
            <a:chExt cx="4286520" cy="862200"/>
          </a:xfrm>
        </p:grpSpPr>
        <p:sp>
          <p:nvSpPr>
            <p:cNvPr id="784" name="Скругленный прямоугольник 68"/>
            <p:cNvSpPr/>
            <p:nvPr/>
          </p:nvSpPr>
          <p:spPr>
            <a:xfrm>
              <a:off x="1357200" y="6040080"/>
              <a:ext cx="4286520" cy="786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Г.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5" name="Группа 69"/>
            <p:cNvGrpSpPr/>
            <p:nvPr/>
          </p:nvGrpSpPr>
          <p:grpSpPr>
            <a:xfrm>
              <a:off x="2208600" y="5964120"/>
              <a:ext cx="3096360" cy="858240"/>
              <a:chOff x="2208600" y="5964120"/>
              <a:chExt cx="3096360" cy="858240"/>
            </a:xfrm>
          </p:grpSpPr>
          <p:grpSp>
            <p:nvGrpSpPr>
              <p:cNvPr id="786" name="Группа 53"/>
              <p:cNvGrpSpPr/>
              <p:nvPr/>
            </p:nvGrpSpPr>
            <p:grpSpPr>
              <a:xfrm>
                <a:off x="2208600" y="5964120"/>
                <a:ext cx="2535480" cy="858240"/>
                <a:chOff x="2208600" y="5964120"/>
                <a:chExt cx="2535480" cy="858240"/>
              </a:xfrm>
            </p:grpSpPr>
            <p:sp>
              <p:nvSpPr>
                <p:cNvPr id="787" name="Rectangle 19"/>
                <p:cNvSpPr/>
                <p:nvPr/>
              </p:nvSpPr>
              <p:spPr>
                <a:xfrm>
                  <a:off x="4461480" y="6150600"/>
                  <a:ext cx="282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88" name="Группа 110"/>
                <p:cNvGrpSpPr/>
                <p:nvPr/>
              </p:nvGrpSpPr>
              <p:grpSpPr>
                <a:xfrm>
                  <a:off x="2208600" y="5964120"/>
                  <a:ext cx="761760" cy="858240"/>
                  <a:chOff x="2208600" y="5964120"/>
                  <a:chExt cx="761760" cy="858240"/>
                </a:xfrm>
              </p:grpSpPr>
              <p:sp>
                <p:nvSpPr>
                  <p:cNvPr id="789" name="Rectangle 16"/>
                  <p:cNvSpPr/>
                  <p:nvPr/>
                </p:nvSpPr>
                <p:spPr>
                  <a:xfrm>
                    <a:off x="2218320" y="6395400"/>
                    <a:ext cx="75204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 +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Прямая соединительная линия 80"/>
                  <p:cNvSpPr/>
                  <p:nvPr/>
                </p:nvSpPr>
                <p:spPr>
                  <a:xfrm>
                    <a:off x="2208600" y="6396120"/>
                    <a:ext cx="71532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Rectangle 21"/>
                  <p:cNvSpPr/>
                  <p:nvPr/>
                </p:nvSpPr>
                <p:spPr>
                  <a:xfrm>
                    <a:off x="2446200" y="5964120"/>
                    <a:ext cx="2674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2" name="Rectangle 18"/>
                <p:cNvSpPr/>
                <p:nvPr/>
              </p:nvSpPr>
              <p:spPr>
                <a:xfrm>
                  <a:off x="3089520" y="6155640"/>
                  <a:ext cx="28872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93" name="Группа 112"/>
                <p:cNvGrpSpPr/>
                <p:nvPr/>
              </p:nvGrpSpPr>
              <p:grpSpPr>
                <a:xfrm>
                  <a:off x="3425400" y="5980680"/>
                  <a:ext cx="824400" cy="841680"/>
                  <a:chOff x="3425400" y="5980680"/>
                  <a:chExt cx="824400" cy="841680"/>
                </a:xfrm>
              </p:grpSpPr>
              <p:sp>
                <p:nvSpPr>
                  <p:cNvPr id="794" name="Rectangle 14"/>
                  <p:cNvSpPr/>
                  <p:nvPr/>
                </p:nvSpPr>
                <p:spPr>
                  <a:xfrm>
                    <a:off x="3558600" y="6395400"/>
                    <a:ext cx="69120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– 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Прямая соединительная линия 77"/>
                  <p:cNvSpPr/>
                  <p:nvPr/>
                </p:nvSpPr>
                <p:spPr>
                  <a:xfrm>
                    <a:off x="3425400" y="6394320"/>
                    <a:ext cx="71928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Rectangle 13"/>
                  <p:cNvSpPr/>
                  <p:nvPr/>
                </p:nvSpPr>
                <p:spPr>
                  <a:xfrm>
                    <a:off x="3677760" y="598068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97" name="Rectangle 16"/>
              <p:cNvSpPr/>
              <p:nvPr/>
            </p:nvSpPr>
            <p:spPr>
              <a:xfrm>
                <a:off x="4858920" y="617616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2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8" name="Скругленный прямоугольник 82"/>
          <p:cNvSpPr/>
          <p:nvPr/>
        </p:nvSpPr>
        <p:spPr>
          <a:xfrm>
            <a:off x="5897520" y="6087960"/>
            <a:ext cx="205596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Правая фигурная скобка 87"/>
          <p:cNvSpPr/>
          <p:nvPr/>
        </p:nvSpPr>
        <p:spPr>
          <a:xfrm>
            <a:off x="8140680" y="785880"/>
            <a:ext cx="360360" cy="1785960"/>
          </a:xfrm>
          <a:custGeom>
            <a:avLst/>
            <a:gdLst>
              <a:gd name="textAreaLeft" fmla="*/ 0 w 360360"/>
              <a:gd name="textAreaRight" fmla="*/ 129960 w 360360"/>
              <a:gd name="textAreaTop" fmla="*/ 9360 h 1785960"/>
              <a:gd name="textAreaBottom" fmla="*/ 1776600 h 17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2"/>
                  <a:pt x="10800" y="363"/>
                </a:cubicBezTo>
                <a:lnTo>
                  <a:pt x="10800" y="10437"/>
                </a:lnTo>
                <a:cubicBezTo>
                  <a:pt x="10800" y="10619"/>
                  <a:pt x="16200" y="10800"/>
                  <a:pt x="21600" y="10800"/>
                </a:cubicBezTo>
                <a:cubicBezTo>
                  <a:pt x="16200" y="10800"/>
                  <a:pt x="10800" y="10982"/>
                  <a:pt x="10800" y="11163"/>
                </a:cubicBezTo>
                <a:lnTo>
                  <a:pt x="10800" y="21237"/>
                </a:lnTo>
                <a:cubicBezTo>
                  <a:pt x="10800" y="21419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0" name="Группа 104"/>
          <p:cNvGrpSpPr/>
          <p:nvPr/>
        </p:nvGrpSpPr>
        <p:grpSpPr>
          <a:xfrm>
            <a:off x="5857920" y="3665160"/>
            <a:ext cx="2071800" cy="764640"/>
            <a:chOff x="5857920" y="3665160"/>
            <a:chExt cx="2071800" cy="764640"/>
          </a:xfrm>
        </p:grpSpPr>
        <p:grpSp>
          <p:nvGrpSpPr>
            <p:cNvPr id="801" name="Группа 103"/>
            <p:cNvGrpSpPr/>
            <p:nvPr/>
          </p:nvGrpSpPr>
          <p:grpSpPr>
            <a:xfrm>
              <a:off x="5857920" y="3665160"/>
              <a:ext cx="2071800" cy="764640"/>
              <a:chOff x="5857920" y="3665160"/>
              <a:chExt cx="2071800" cy="764640"/>
            </a:xfrm>
          </p:grpSpPr>
          <p:sp>
            <p:nvSpPr>
              <p:cNvPr id="802" name="Скругленный прямоугольник 90"/>
              <p:cNvSpPr/>
              <p:nvPr/>
            </p:nvSpPr>
            <p:spPr>
              <a:xfrm>
                <a:off x="5857920" y="3700440"/>
                <a:ext cx="2071800" cy="729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Rectangle 90"/>
              <p:cNvSpPr/>
              <p:nvPr/>
            </p:nvSpPr>
            <p:spPr>
              <a:xfrm>
                <a:off x="6454080" y="3665160"/>
                <a:ext cx="88776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0" i="1" lang="ru-RU" sz="4400" spc="-1" strike="noStrike">
                    <a:solidFill>
                      <a:srgbClr val="ff0000"/>
                    </a:solidFill>
                    <a:latin typeface="Times New Roman"/>
                  </a:rPr>
                  <a:t> ∙</a:t>
                </a:r>
                <a:r>
                  <a:rPr b="0" i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 v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4" name="Группа 71"/>
            <p:cNvGrpSpPr/>
            <p:nvPr/>
          </p:nvGrpSpPr>
          <p:grpSpPr>
            <a:xfrm>
              <a:off x="6327000" y="3821760"/>
              <a:ext cx="1133640" cy="492480"/>
              <a:chOff x="6327000" y="3821760"/>
              <a:chExt cx="1133640" cy="492480"/>
            </a:xfrm>
          </p:grpSpPr>
          <p:sp>
            <p:nvSpPr>
              <p:cNvPr id="805" name="Прямая соединительная линия 101"/>
              <p:cNvSpPr/>
              <p:nvPr/>
            </p:nvSpPr>
            <p:spPr>
              <a:xfrm>
                <a:off x="6327000" y="3834360"/>
                <a:ext cx="1133640" cy="436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Прямая соединительная линия 102"/>
              <p:cNvSpPr/>
              <p:nvPr/>
            </p:nvSpPr>
            <p:spPr>
              <a:xfrm flipH="1">
                <a:off x="6339600" y="3821760"/>
                <a:ext cx="1110240" cy="492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Группа 112"/>
          <p:cNvGrpSpPr/>
          <p:nvPr/>
        </p:nvGrpSpPr>
        <p:grpSpPr>
          <a:xfrm>
            <a:off x="5873760" y="5230800"/>
            <a:ext cx="2055960" cy="754200"/>
            <a:chOff x="5873760" y="5230800"/>
            <a:chExt cx="2055960" cy="754200"/>
          </a:xfrm>
        </p:grpSpPr>
        <p:grpSp>
          <p:nvGrpSpPr>
            <p:cNvPr id="808" name="Группа 111"/>
            <p:cNvGrpSpPr/>
            <p:nvPr/>
          </p:nvGrpSpPr>
          <p:grpSpPr>
            <a:xfrm>
              <a:off x="5873760" y="5230800"/>
              <a:ext cx="2055960" cy="754200"/>
              <a:chOff x="5873760" y="5230800"/>
              <a:chExt cx="2055960" cy="754200"/>
            </a:xfrm>
          </p:grpSpPr>
          <p:sp>
            <p:nvSpPr>
              <p:cNvPr id="809" name="Скругленный прямоугольник 94"/>
              <p:cNvSpPr/>
              <p:nvPr/>
            </p:nvSpPr>
            <p:spPr>
              <a:xfrm>
                <a:off x="5873760" y="5270400"/>
                <a:ext cx="2055960" cy="7146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Группа 95"/>
              <p:cNvGrpSpPr/>
              <p:nvPr/>
            </p:nvGrpSpPr>
            <p:grpSpPr>
              <a:xfrm>
                <a:off x="6537240" y="5230800"/>
                <a:ext cx="747360" cy="707760"/>
                <a:chOff x="6537240" y="5230800"/>
                <a:chExt cx="747360" cy="707760"/>
              </a:xfrm>
            </p:grpSpPr>
            <p:sp>
              <p:nvSpPr>
                <p:cNvPr id="811" name="Rectangle 87"/>
                <p:cNvSpPr/>
                <p:nvPr/>
              </p:nvSpPr>
              <p:spPr>
                <a:xfrm>
                  <a:off x="6537240" y="5230800"/>
                  <a:ext cx="74736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v</a:t>
                  </a:r>
                  <a:r>
                    <a:rPr b="0" i="1" lang="ru-RU" sz="4400" spc="-1" strike="noStrike">
                      <a:solidFill>
                        <a:srgbClr val="ff0000"/>
                      </a:solidFill>
                      <a:latin typeface="Times New Roman"/>
                    </a:rPr>
                    <a:t>  </a:t>
                  </a: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s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Rectangle 93"/>
                <p:cNvSpPr/>
                <p:nvPr/>
              </p:nvSpPr>
              <p:spPr>
                <a:xfrm>
                  <a:off x="6857640" y="5267880"/>
                  <a:ext cx="150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Calibri"/>
                    </a:rPr>
                    <a:t>: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Группа 98"/>
            <p:cNvGrpSpPr/>
            <p:nvPr/>
          </p:nvGrpSpPr>
          <p:grpSpPr>
            <a:xfrm>
              <a:off x="6425640" y="5428440"/>
              <a:ext cx="1045440" cy="477360"/>
              <a:chOff x="6425640" y="5428440"/>
              <a:chExt cx="1045440" cy="477360"/>
            </a:xfrm>
          </p:grpSpPr>
          <p:sp>
            <p:nvSpPr>
              <p:cNvPr id="814" name="Прямая соединительная линия 99"/>
              <p:cNvSpPr/>
              <p:nvPr/>
            </p:nvSpPr>
            <p:spPr>
              <a:xfrm>
                <a:off x="6425640" y="5428440"/>
                <a:ext cx="1045440" cy="453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Прямая соединительная линия 100"/>
              <p:cNvSpPr/>
              <p:nvPr/>
            </p:nvSpPr>
            <p:spPr>
              <a:xfrm flipH="1">
                <a:off x="6428880" y="5432760"/>
                <a:ext cx="1036080" cy="473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6" name="Группа 110"/>
          <p:cNvGrpSpPr/>
          <p:nvPr/>
        </p:nvGrpSpPr>
        <p:grpSpPr>
          <a:xfrm>
            <a:off x="5897520" y="6040440"/>
            <a:ext cx="2055960" cy="785880"/>
            <a:chOff x="5897520" y="6040440"/>
            <a:chExt cx="2055960" cy="785880"/>
          </a:xfrm>
        </p:grpSpPr>
        <p:sp>
          <p:nvSpPr>
            <p:cNvPr id="817" name="Скругленный прямоугольник 105"/>
            <p:cNvSpPr/>
            <p:nvPr/>
          </p:nvSpPr>
          <p:spPr>
            <a:xfrm>
              <a:off x="5897520" y="6040440"/>
              <a:ext cx="2055960" cy="785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22 </a:t>
              </a: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ми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8" name="Группа 107"/>
            <p:cNvGrpSpPr/>
            <p:nvPr/>
          </p:nvGrpSpPr>
          <p:grpSpPr>
            <a:xfrm>
              <a:off x="6405840" y="6190920"/>
              <a:ext cx="1045440" cy="477720"/>
              <a:chOff x="6405840" y="6190920"/>
              <a:chExt cx="1045440" cy="477720"/>
            </a:xfrm>
          </p:grpSpPr>
          <p:sp>
            <p:nvSpPr>
              <p:cNvPr id="819" name="Прямая соединительная линия 108"/>
              <p:cNvSpPr/>
              <p:nvPr/>
            </p:nvSpPr>
            <p:spPr>
              <a:xfrm>
                <a:off x="6405840" y="6190920"/>
                <a:ext cx="1045440" cy="45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Прямая соединительная линия 109"/>
              <p:cNvSpPr/>
              <p:nvPr/>
            </p:nvSpPr>
            <p:spPr>
              <a:xfrm flipH="1">
                <a:off x="6408720" y="6195600"/>
                <a:ext cx="1036800" cy="473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21" name="Picture 1" descr="C:\Users\Надежда\Desktop\sea39.gif"/>
          <p:cNvPicPr/>
          <p:nvPr/>
        </p:nvPicPr>
        <p:blipFill>
          <a:blip r:embed="rId1"/>
          <a:stretch/>
        </p:blipFill>
        <p:spPr>
          <a:xfrm>
            <a:off x="7605720" y="4043520"/>
            <a:ext cx="1324080" cy="1028520"/>
          </a:xfrm>
          <a:prstGeom prst="rect">
            <a:avLst/>
          </a:prstGeom>
          <a:ln w="0">
            <a:noFill/>
          </a:ln>
        </p:spPr>
      </p:pic>
      <p:grpSp>
        <p:nvGrpSpPr>
          <p:cNvPr id="822" name="Группа 116"/>
          <p:cNvGrpSpPr/>
          <p:nvPr/>
        </p:nvGrpSpPr>
        <p:grpSpPr>
          <a:xfrm>
            <a:off x="6897600" y="1716120"/>
            <a:ext cx="1429560" cy="887400"/>
            <a:chOff x="6897600" y="1716120"/>
            <a:chExt cx="1429560" cy="887400"/>
          </a:xfrm>
        </p:grpSpPr>
        <p:grpSp>
          <p:nvGrpSpPr>
            <p:cNvPr id="823" name="Группа 47"/>
            <p:cNvGrpSpPr/>
            <p:nvPr/>
          </p:nvGrpSpPr>
          <p:grpSpPr>
            <a:xfrm>
              <a:off x="6897600" y="1716120"/>
              <a:ext cx="1332000" cy="887400"/>
              <a:chOff x="6897600" y="1716120"/>
              <a:chExt cx="1332000" cy="887400"/>
            </a:xfrm>
          </p:grpSpPr>
          <p:sp>
            <p:nvSpPr>
              <p:cNvPr id="824" name="Скругленный прямоугольник 13"/>
              <p:cNvSpPr/>
              <p:nvPr/>
            </p:nvSpPr>
            <p:spPr>
              <a:xfrm>
                <a:off x="6897600" y="1746000"/>
                <a:ext cx="1332000" cy="8575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5" name="Группа 20"/>
              <p:cNvGrpSpPr/>
              <p:nvPr/>
            </p:nvGrpSpPr>
            <p:grpSpPr>
              <a:xfrm>
                <a:off x="7126560" y="1716120"/>
                <a:ext cx="924480" cy="855360"/>
                <a:chOff x="7126560" y="1716120"/>
                <a:chExt cx="924480" cy="855360"/>
              </a:xfrm>
            </p:grpSpPr>
            <p:sp>
              <p:nvSpPr>
                <p:cNvPr id="826" name="Rectangle 16"/>
                <p:cNvSpPr/>
                <p:nvPr/>
              </p:nvSpPr>
              <p:spPr>
                <a:xfrm>
                  <a:off x="7182720" y="2144520"/>
                  <a:ext cx="86832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х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– 1 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Rectangle 21"/>
                <p:cNvSpPr/>
                <p:nvPr/>
              </p:nvSpPr>
              <p:spPr>
                <a:xfrm>
                  <a:off x="7343280" y="171612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Прямая соединительная линия 17"/>
                <p:cNvSpPr/>
                <p:nvPr/>
              </p:nvSpPr>
              <p:spPr>
                <a:xfrm>
                  <a:off x="7126560" y="2148120"/>
                  <a:ext cx="7203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Rectangle 16"/>
            <p:cNvSpPr/>
            <p:nvPr/>
          </p:nvSpPr>
          <p:spPr>
            <a:xfrm>
              <a:off x="7971120" y="1913400"/>
              <a:ext cx="356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ч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0" name="Группа 115"/>
          <p:cNvGrpSpPr/>
          <p:nvPr/>
        </p:nvGrpSpPr>
        <p:grpSpPr>
          <a:xfrm>
            <a:off x="6897600" y="755640"/>
            <a:ext cx="1405800" cy="887400"/>
            <a:chOff x="6897600" y="755640"/>
            <a:chExt cx="1405800" cy="887400"/>
          </a:xfrm>
        </p:grpSpPr>
        <p:grpSp>
          <p:nvGrpSpPr>
            <p:cNvPr id="831" name="Группа 47"/>
            <p:cNvGrpSpPr/>
            <p:nvPr/>
          </p:nvGrpSpPr>
          <p:grpSpPr>
            <a:xfrm>
              <a:off x="6897600" y="755640"/>
              <a:ext cx="1332360" cy="887400"/>
              <a:chOff x="6897600" y="755640"/>
              <a:chExt cx="1332360" cy="887400"/>
            </a:xfrm>
          </p:grpSpPr>
          <p:sp>
            <p:nvSpPr>
              <p:cNvPr id="832" name="Скругленный прямоугольник 7"/>
              <p:cNvSpPr/>
              <p:nvPr/>
            </p:nvSpPr>
            <p:spPr>
              <a:xfrm>
                <a:off x="6897600" y="785520"/>
                <a:ext cx="1332360" cy="8575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3" name="Группа 20"/>
              <p:cNvGrpSpPr/>
              <p:nvPr/>
            </p:nvGrpSpPr>
            <p:grpSpPr>
              <a:xfrm>
                <a:off x="7126560" y="755640"/>
                <a:ext cx="986400" cy="855360"/>
                <a:chOff x="7126560" y="755640"/>
                <a:chExt cx="986400" cy="855360"/>
              </a:xfrm>
            </p:grpSpPr>
            <p:sp>
              <p:nvSpPr>
                <p:cNvPr id="834" name="Rectangle 16"/>
                <p:cNvSpPr/>
                <p:nvPr/>
              </p:nvSpPr>
              <p:spPr>
                <a:xfrm>
                  <a:off x="7184160" y="1184040"/>
                  <a:ext cx="9288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х +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1 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Rectangle 21"/>
                <p:cNvSpPr/>
                <p:nvPr/>
              </p:nvSpPr>
              <p:spPr>
                <a:xfrm>
                  <a:off x="7343640" y="75564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Прямая соединительная линия 11"/>
                <p:cNvSpPr/>
                <p:nvPr/>
              </p:nvSpPr>
              <p:spPr>
                <a:xfrm>
                  <a:off x="7126560" y="1187640"/>
                  <a:ext cx="72072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7" name="Rectangle 16"/>
            <p:cNvSpPr/>
            <p:nvPr/>
          </p:nvSpPr>
          <p:spPr>
            <a:xfrm>
              <a:off x="7947360" y="944640"/>
              <a:ext cx="356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ч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Группа 118"/>
          <p:cNvGrpSpPr/>
          <p:nvPr/>
        </p:nvGrpSpPr>
        <p:grpSpPr>
          <a:xfrm>
            <a:off x="7829640" y="5357880"/>
            <a:ext cx="1243080" cy="1285920"/>
            <a:chOff x="7829640" y="5357880"/>
            <a:chExt cx="1243080" cy="1285920"/>
          </a:xfrm>
        </p:grpSpPr>
        <p:pic>
          <p:nvPicPr>
            <p:cNvPr id="839" name="Picture 3" descr="C:\Users\Надежда\Videos\Downloads\Pictures\Организатор клипов (Microsoft)\j0441443.png"/>
            <p:cNvPicPr/>
            <p:nvPr/>
          </p:nvPicPr>
          <p:blipFill>
            <a:blip r:embed="rId2"/>
            <a:stretch/>
          </p:blipFill>
          <p:spPr>
            <a:xfrm>
              <a:off x="8072640" y="5357880"/>
              <a:ext cx="79200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0" name="Скругленный прямоугольник 120">
              <a:hlinkClick r:id="" action="ppaction://hlinkshowjump?jump=endshow"/>
            </p:cNvPr>
            <p:cNvSpPr/>
            <p:nvPr/>
          </p:nvSpPr>
          <p:spPr>
            <a:xfrm>
              <a:off x="7829640" y="6212160"/>
              <a:ext cx="1243080" cy="4316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66"/>
                  </a:solidFill>
                  <a:latin typeface="Times New Roman"/>
                  <a:ea typeface="Times New Roman"/>
                </a:rPr>
                <a:t>вых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0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4" restart="whenNotActive" nodeType="interactiveSeq" fill="hold">
                <p:stCondLst>
                  <p:cond evt="onClick">
                    <p:tgtEl>
                      <p:spTgt spid="742"/>
                    </p:tgtEl>
                  </p:cond>
                </p:stCondLst>
                <p:childTnLst>
                  <p:par>
                    <p:cTn id="1075" fill="hold">
                      <p:stCondLst>
                        <p:cond evt="onClick">
                          <p:tgtEl>
                            <p:spTgt spid="742"/>
                          </p:tgtEl>
                        </p:cond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9" restart="whenNotActive" nodeType="interactiveSeq" fill="hold">
                <p:stCondLst>
                  <p:cond evt="onClick">
                    <p:tgtEl>
                      <p:spTgt spid="743"/>
                    </p:tgtEl>
                  </p:cond>
                </p:stCondLst>
                <p:childTnLst>
                  <p:par>
                    <p:cTn id="1080" fill="hold">
                      <p:stCondLst>
                        <p:cond evt="onClick">
                          <p:tgtEl>
                            <p:spTgt spid="743"/>
                          </p:tgtEl>
                        </p:cond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4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evt="onClick">
                          <p:tgtEl>
                            <p:spTgt spid="743"/>
                          </p:tgtEl>
                        </p:cond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9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evt="onClick">
                          <p:tgtEl>
                            <p:spTgt spid="743"/>
                          </p:tgtEl>
                        </p:cond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4" restart="whenNotActive" nodeType="interactiveSeq" fill="hold">
                <p:stCondLst>
                  <p:cond evt="onClick">
                    <p:tgtEl>
                      <p:spTgt spid="745"/>
                    </p:tgtEl>
                  </p:cond>
                </p:stCondLst>
                <p:childTnLst>
                  <p:par>
                    <p:cTn id="1095" fill="hold">
                      <p:stCondLst>
                        <p:cond evt="onClick">
                          <p:tgtEl>
                            <p:spTgt spid="745"/>
                          </p:tgtEl>
                        </p:cond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9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evt="onClick">
                          <p:tgtEl>
                            <p:spTgt spid="745"/>
                          </p:tgtEl>
                        </p:cond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6" restart="whenNotActive" nodeType="interactiveSeq" fill="hold">
                <p:stCondLst>
                  <p:cond evt="onClick">
                    <p:tgtEl>
                      <p:spTgt spid="764"/>
                    </p:tgtEl>
                  </p:cond>
                </p:stCondLst>
                <p:childTnLst>
                  <p:par>
                    <p:cTn id="1107" fill="hold">
                      <p:stCondLst>
                        <p:cond evt="onClick">
                          <p:tgtEl>
                            <p:spTgt spid="764"/>
                          </p:tgtEl>
                        </p:cond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evt="onClick">
                          <p:tgtEl>
                            <p:spTgt spid="764"/>
                          </p:tgtEl>
                        </p:cond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6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evt="onClick">
                          <p:tgtEl>
                            <p:spTgt spid="764"/>
                          </p:tgtEl>
                        </p:cond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1" restart="whenNotActive" nodeType="interactiveSeq" fill="hold">
                <p:stCondLst>
                  <p:cond evt="onClick">
                    <p:tgtEl>
                      <p:spTgt spid="783"/>
                    </p:tgtEl>
                  </p:cond>
                </p:stCondLst>
                <p:childTnLst>
                  <p:par>
                    <p:cTn id="1122" fill="hold">
                      <p:stCondLst>
                        <p:cond evt="onClick">
                          <p:tgtEl>
                            <p:spTgt spid="783"/>
                          </p:tgtEl>
                        </p:cond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6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evt="onClick">
                          <p:tgtEl>
                            <p:spTgt spid="783"/>
                          </p:tgtEl>
                        </p:cond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1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evt="onClick">
                          <p:tgtEl>
                            <p:spTgt spid="783"/>
                          </p:tgtEl>
                        </p:cond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Скругленный прямоугольник 54"/>
          <p:cNvSpPr/>
          <p:nvPr/>
        </p:nvSpPr>
        <p:spPr>
          <a:xfrm>
            <a:off x="3532320" y="3071880"/>
            <a:ext cx="20714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 = s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2" name="Группа 53"/>
          <p:cNvGrpSpPr/>
          <p:nvPr/>
        </p:nvGrpSpPr>
        <p:grpSpPr>
          <a:xfrm>
            <a:off x="500040" y="2773440"/>
            <a:ext cx="8215200" cy="1028520"/>
            <a:chOff x="500040" y="2773440"/>
            <a:chExt cx="8215200" cy="1028520"/>
          </a:xfrm>
        </p:grpSpPr>
        <p:sp>
          <p:nvSpPr>
            <p:cNvPr id="843" name="Скругленный прямоугольник 51"/>
            <p:cNvSpPr/>
            <p:nvPr/>
          </p:nvSpPr>
          <p:spPr>
            <a:xfrm>
              <a:off x="500040" y="2800080"/>
              <a:ext cx="8215200" cy="1001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Прямоугольник 52"/>
            <p:cNvSpPr/>
            <p:nvPr/>
          </p:nvSpPr>
          <p:spPr>
            <a:xfrm>
              <a:off x="571320" y="2773440"/>
              <a:ext cx="8143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усть х ч – скорость течения реки. Какое из уравнений соответствует условию задачи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45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846" name="Группа 46"/>
          <p:cNvGrpSpPr/>
          <p:nvPr/>
        </p:nvGrpSpPr>
        <p:grpSpPr>
          <a:xfrm>
            <a:off x="500040" y="55440"/>
            <a:ext cx="8215200" cy="3080160"/>
            <a:chOff x="500040" y="55440"/>
            <a:chExt cx="8215200" cy="3080160"/>
          </a:xfrm>
        </p:grpSpPr>
        <p:sp>
          <p:nvSpPr>
            <p:cNvPr id="847" name="Скругленный прямоугольник 44"/>
            <p:cNvSpPr/>
            <p:nvPr/>
          </p:nvSpPr>
          <p:spPr>
            <a:xfrm>
              <a:off x="500040" y="55440"/>
              <a:ext cx="8215200" cy="2684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елосипедист от озера до деревни ехал со скоростью 15 км/ч, а обратно – со скоростью 10 км/ч. времени ушло у него на дорогу от озера до деревни, если на весь путь туда и обратно велосипедист затратил 1 ч? Велосипедист от озера до деревни ехал со скоростью 15 км/ч, а обратно – со скоростью 10 км/ч. Сколько времени ушло у него на дорогу от озера до деревни, если на весь путь туда и обратно велосипедист затратил 1 ч? 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Прямоугольник 45"/>
            <p:cNvSpPr/>
            <p:nvPr/>
          </p:nvSpPr>
          <p:spPr>
            <a:xfrm>
              <a:off x="785520" y="55440"/>
              <a:ext cx="7715160" cy="30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оторная лодка курсирует между двумя пристанями, расстояние между которыми по реке  равно 4 км. На путь по течению у нее уходит на 3 мин меньше, чем на путь против течения. Чему равна скорость течения реки, если известно, что  скорость лодки в стоячей воде равна 18 км/ч?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49" name=""/>
          <p:cNvGraphicFramePr/>
          <p:nvPr/>
        </p:nvGraphicFramePr>
        <p:xfrm>
          <a:off x="603360" y="3865680"/>
          <a:ext cx="7827840" cy="2492280"/>
        </p:xfrm>
        <a:graphic>
          <a:graphicData uri="http://schemas.openxmlformats.org/drawingml/2006/table">
            <a:tbl>
              <a:tblPr/>
              <a:tblGrid>
                <a:gridCol w="1753920"/>
                <a:gridCol w="2000520"/>
                <a:gridCol w="2359080"/>
                <a:gridCol w="1714320"/>
              </a:tblGrid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о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течени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в теч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0" name="Скругленный прямоугольник 57"/>
          <p:cNvSpPr/>
          <p:nvPr/>
        </p:nvSpPr>
        <p:spPr>
          <a:xfrm>
            <a:off x="2484360" y="4643280"/>
            <a:ext cx="177012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Скругленный прямоугольник 58"/>
          <p:cNvSpPr/>
          <p:nvPr/>
        </p:nvSpPr>
        <p:spPr>
          <a:xfrm>
            <a:off x="2484360" y="5587920"/>
            <a:ext cx="178596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Скругленный прямоугольник 59"/>
          <p:cNvSpPr/>
          <p:nvPr/>
        </p:nvSpPr>
        <p:spPr>
          <a:xfrm>
            <a:off x="4468680" y="4643280"/>
            <a:ext cx="216072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Скругленный прямоугольник 60"/>
          <p:cNvSpPr/>
          <p:nvPr/>
        </p:nvSpPr>
        <p:spPr>
          <a:xfrm>
            <a:off x="4468680" y="5587920"/>
            <a:ext cx="216072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км/ч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4" name="Прямая со стрелкой 36"/>
          <p:cNvCxnSpPr/>
          <p:nvPr/>
        </p:nvCxnSpPr>
        <p:spPr>
          <a:xfrm flipH="1">
            <a:off x="5214240" y="2643120"/>
            <a:ext cx="1500840" cy="2215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5" name="Прямая со стрелкой 31"/>
          <p:cNvCxnSpPr/>
          <p:nvPr/>
        </p:nvCxnSpPr>
        <p:spPr>
          <a:xfrm>
            <a:off x="2071800" y="1357200"/>
            <a:ext cx="1357920" cy="3501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6" name="Прямая со стрелкой 26"/>
          <p:cNvCxnSpPr/>
          <p:nvPr/>
        </p:nvCxnSpPr>
        <p:spPr>
          <a:xfrm>
            <a:off x="2000160" y="3214800"/>
            <a:ext cx="3215520" cy="1643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857" name="Picture 1" descr="F:\2.jpg"/>
          <p:cNvPicPr/>
          <p:nvPr/>
        </p:nvPicPr>
        <p:blipFill>
          <a:blip r:embed="rId1"/>
          <a:stretch/>
        </p:blipFill>
        <p:spPr>
          <a:xfrm>
            <a:off x="3902040" y="6334200"/>
            <a:ext cx="1316160" cy="54288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2" descr="C:\Users\Надежда\Desktop\КАРТИНКИ\рисунок Стрелка влево\102.gif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01040" y="628668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59" name="Управляющая кнопка: сведения 30"/>
          <p:cNvSpPr/>
          <p:nvPr/>
        </p:nvSpPr>
        <p:spPr>
          <a:xfrm>
            <a:off x="8429760" y="4143240"/>
            <a:ext cx="642960" cy="85752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857520"/>
              <a:gd name="textAreaBottom" fmla="*/ 816120 h 857520"/>
            </a:gdLst>
            <a:ahLst/>
            <a:rect l="textAreaLeft" t="textAreaTop" r="textAreaRight" b="textAreaBottom"/>
            <a:pathLst>
              <a:path w="21600" h="28804">
                <a:moveTo>
                  <a:pt x="0" y="0"/>
                </a:moveTo>
                <a:lnTo>
                  <a:pt x="21600" y="0"/>
                </a:lnTo>
                <a:lnTo>
                  <a:pt x="21600" y="28804"/>
                </a:lnTo>
                <a:lnTo>
                  <a:pt x="0" y="28804"/>
                </a:lnTo>
                <a:close/>
              </a:path>
              <a:path fill="lightenLess" w="21600" h="28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4">
                <a:moveTo>
                  <a:pt x="21600" y="0"/>
                </a:moveTo>
                <a:lnTo>
                  <a:pt x="21600" y="28804"/>
                </a:lnTo>
                <a:lnTo>
                  <a:pt x="20200" y="27404"/>
                </a:lnTo>
                <a:lnTo>
                  <a:pt x="20200" y="1400"/>
                </a:lnTo>
                <a:close/>
              </a:path>
              <a:path fill="darkenLess" w="21600" h="28804">
                <a:moveTo>
                  <a:pt x="21600" y="28804"/>
                </a:moveTo>
                <a:lnTo>
                  <a:pt x="0" y="28804"/>
                </a:lnTo>
                <a:lnTo>
                  <a:pt x="1400" y="27404"/>
                </a:lnTo>
                <a:lnTo>
                  <a:pt x="20200" y="27404"/>
                </a:lnTo>
                <a:close/>
              </a:path>
              <a:path fill="lighten" w="21600" h="28804">
                <a:moveTo>
                  <a:pt x="0" y="28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4"/>
                </a:lnTo>
                <a:close/>
              </a:path>
              <a:path fill="darken" w="21600" h="28804">
                <a:moveTo>
                  <a:pt x="10800" y="7396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8804">
                <a:moveTo>
                  <a:pt x="10800" y="7770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8804">
                <a:moveTo>
                  <a:pt x="8224" y="11826"/>
                </a:moveTo>
                <a:lnTo>
                  <a:pt x="12088" y="11826"/>
                </a:lnTo>
                <a:lnTo>
                  <a:pt x="12088" y="18823"/>
                </a:lnTo>
                <a:lnTo>
                  <a:pt x="13376" y="18823"/>
                </a:lnTo>
                <a:lnTo>
                  <a:pt x="13376" y="19746"/>
                </a:lnTo>
                <a:lnTo>
                  <a:pt x="8224" y="19746"/>
                </a:lnTo>
                <a:lnTo>
                  <a:pt x="8224" y="18823"/>
                </a:lnTo>
                <a:lnTo>
                  <a:pt x="9512" y="18823"/>
                </a:lnTo>
                <a:lnTo>
                  <a:pt x="9512" y="12731"/>
                </a:lnTo>
                <a:lnTo>
                  <a:pt x="8224" y="12731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0" name="Прямая со стрелкой 66"/>
          <p:cNvCxnSpPr/>
          <p:nvPr/>
        </p:nvCxnSpPr>
        <p:spPr>
          <a:xfrm>
            <a:off x="2071800" y="1356840"/>
            <a:ext cx="1357920" cy="4429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61" name="Прямая со стрелкой 76"/>
          <p:cNvCxnSpPr/>
          <p:nvPr/>
        </p:nvCxnSpPr>
        <p:spPr>
          <a:xfrm>
            <a:off x="2000160" y="3214440"/>
            <a:ext cx="3286800" cy="2500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62" name="Прямая со стрелкой 78"/>
          <p:cNvCxnSpPr/>
          <p:nvPr/>
        </p:nvCxnSpPr>
        <p:spPr>
          <a:xfrm flipH="1">
            <a:off x="5285520" y="2642760"/>
            <a:ext cx="1429560" cy="3072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63" name="Двойная стрелка влево/вверх 63"/>
          <p:cNvSpPr/>
          <p:nvPr/>
        </p:nvSpPr>
        <p:spPr>
          <a:xfrm rot="18969000">
            <a:off x="8190000" y="4919400"/>
            <a:ext cx="785880" cy="8571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4" name="Прямая со стрелкой 65"/>
          <p:cNvCxnSpPr/>
          <p:nvPr/>
        </p:nvCxnSpPr>
        <p:spPr>
          <a:xfrm>
            <a:off x="8286840" y="1357200"/>
            <a:ext cx="643320" cy="37872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65" name="Прямоугольник 37"/>
          <p:cNvSpPr/>
          <p:nvPr/>
        </p:nvSpPr>
        <p:spPr>
          <a:xfrm>
            <a:off x="785880" y="2214720"/>
            <a:ext cx="7072200" cy="5000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Прямоугольник 39"/>
          <p:cNvSpPr/>
          <p:nvPr/>
        </p:nvSpPr>
        <p:spPr>
          <a:xfrm>
            <a:off x="2786040" y="500040"/>
            <a:ext cx="5786640" cy="5000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Прямоугольник 40"/>
          <p:cNvSpPr/>
          <p:nvPr/>
        </p:nvSpPr>
        <p:spPr>
          <a:xfrm>
            <a:off x="785880" y="981000"/>
            <a:ext cx="1857240" cy="4478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Прямоугольник 46"/>
          <p:cNvSpPr/>
          <p:nvPr/>
        </p:nvSpPr>
        <p:spPr>
          <a:xfrm>
            <a:off x="3929040" y="1000080"/>
            <a:ext cx="4643640" cy="42876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Прямоугольник 48"/>
          <p:cNvSpPr/>
          <p:nvPr/>
        </p:nvSpPr>
        <p:spPr>
          <a:xfrm>
            <a:off x="785880" y="1427040"/>
            <a:ext cx="2143080" cy="4302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Группа 62"/>
          <p:cNvGrpSpPr/>
          <p:nvPr/>
        </p:nvGrpSpPr>
        <p:grpSpPr>
          <a:xfrm>
            <a:off x="6913440" y="4478400"/>
            <a:ext cx="1339920" cy="887400"/>
            <a:chOff x="6913440" y="4478400"/>
            <a:chExt cx="1339920" cy="887400"/>
          </a:xfrm>
        </p:grpSpPr>
        <p:grpSp>
          <p:nvGrpSpPr>
            <p:cNvPr id="871" name="Группа 47"/>
            <p:cNvGrpSpPr/>
            <p:nvPr/>
          </p:nvGrpSpPr>
          <p:grpSpPr>
            <a:xfrm>
              <a:off x="6913440" y="4478400"/>
              <a:ext cx="1332360" cy="887400"/>
              <a:chOff x="6913440" y="4478400"/>
              <a:chExt cx="1332360" cy="887400"/>
            </a:xfrm>
          </p:grpSpPr>
          <p:sp>
            <p:nvSpPr>
              <p:cNvPr id="872" name="Скругленный прямоугольник 38"/>
              <p:cNvSpPr/>
              <p:nvPr/>
            </p:nvSpPr>
            <p:spPr>
              <a:xfrm>
                <a:off x="6913440" y="4508280"/>
                <a:ext cx="1332360" cy="8575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Группа 20"/>
              <p:cNvGrpSpPr/>
              <p:nvPr/>
            </p:nvGrpSpPr>
            <p:grpSpPr>
              <a:xfrm>
                <a:off x="7060680" y="4478400"/>
                <a:ext cx="930600" cy="855360"/>
                <a:chOff x="7060680" y="4478400"/>
                <a:chExt cx="930600" cy="855360"/>
              </a:xfrm>
            </p:grpSpPr>
            <p:sp>
              <p:nvSpPr>
                <p:cNvPr id="874" name="Rectangle 16"/>
                <p:cNvSpPr/>
                <p:nvPr/>
              </p:nvSpPr>
              <p:spPr>
                <a:xfrm>
                  <a:off x="7060680" y="4906800"/>
                  <a:ext cx="930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18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+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х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Rectangle 21"/>
                <p:cNvSpPr/>
                <p:nvPr/>
              </p:nvSpPr>
              <p:spPr>
                <a:xfrm>
                  <a:off x="7359120" y="447840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Прямая соединительная линия 43"/>
                <p:cNvSpPr/>
                <p:nvPr/>
              </p:nvSpPr>
              <p:spPr>
                <a:xfrm>
                  <a:off x="7142040" y="4910400"/>
                  <a:ext cx="72108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Rectangle 16"/>
            <p:cNvSpPr/>
            <p:nvPr/>
          </p:nvSpPr>
          <p:spPr>
            <a:xfrm>
              <a:off x="7985880" y="4659120"/>
              <a:ext cx="26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ч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Группа 64"/>
          <p:cNvGrpSpPr/>
          <p:nvPr/>
        </p:nvGrpSpPr>
        <p:grpSpPr>
          <a:xfrm>
            <a:off x="6897600" y="5438880"/>
            <a:ext cx="1339560" cy="887400"/>
            <a:chOff x="6897600" y="5438880"/>
            <a:chExt cx="1339560" cy="887400"/>
          </a:xfrm>
        </p:grpSpPr>
        <p:grpSp>
          <p:nvGrpSpPr>
            <p:cNvPr id="879" name="Группа 47"/>
            <p:cNvGrpSpPr/>
            <p:nvPr/>
          </p:nvGrpSpPr>
          <p:grpSpPr>
            <a:xfrm>
              <a:off x="6897600" y="5438880"/>
              <a:ext cx="1332000" cy="887400"/>
              <a:chOff x="6897600" y="5438880"/>
              <a:chExt cx="1332000" cy="887400"/>
            </a:xfrm>
          </p:grpSpPr>
          <p:sp>
            <p:nvSpPr>
              <p:cNvPr id="880" name="Скругленный прямоугольник 47"/>
              <p:cNvSpPr/>
              <p:nvPr/>
            </p:nvSpPr>
            <p:spPr>
              <a:xfrm>
                <a:off x="6897600" y="5468760"/>
                <a:ext cx="1332000" cy="8575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1" name="Группа 20"/>
              <p:cNvGrpSpPr/>
              <p:nvPr/>
            </p:nvGrpSpPr>
            <p:grpSpPr>
              <a:xfrm>
                <a:off x="7043760" y="5438880"/>
                <a:ext cx="869760" cy="855360"/>
                <a:chOff x="7043760" y="5438880"/>
                <a:chExt cx="869760" cy="855360"/>
              </a:xfrm>
            </p:grpSpPr>
            <p:sp>
              <p:nvSpPr>
                <p:cNvPr id="882" name="Rectangle 16"/>
                <p:cNvSpPr/>
                <p:nvPr/>
              </p:nvSpPr>
              <p:spPr>
                <a:xfrm>
                  <a:off x="7043760" y="5867280"/>
                  <a:ext cx="86976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18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– 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х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Rectangle 21"/>
                <p:cNvSpPr/>
                <p:nvPr/>
              </p:nvSpPr>
              <p:spPr>
                <a:xfrm>
                  <a:off x="7342920" y="543888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Прямая соединительная линия 53"/>
                <p:cNvSpPr/>
                <p:nvPr/>
              </p:nvSpPr>
              <p:spPr>
                <a:xfrm>
                  <a:off x="7125840" y="5870880"/>
                  <a:ext cx="72108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5" name="Rectangle 16"/>
            <p:cNvSpPr/>
            <p:nvPr/>
          </p:nvSpPr>
          <p:spPr>
            <a:xfrm>
              <a:off x="7969680" y="5627880"/>
              <a:ext cx="26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ч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36" dur="indefinite" restart="never" nodeType="tmRoot">
          <p:childTnLst>
            <p:seq>
              <p:cTn id="1137" restart="whenNotActive" nodeType="interactiveSeq" fill="hold">
                <p:stCondLst>
                  <p:cond evt="onClick">
                    <p:tgtEl>
                      <p:spTgt spid="857"/>
                    </p:tgtEl>
                  </p:cond>
                </p:stCondLst>
                <p:childTnLst>
                  <p:par>
                    <p:cTn id="1138" fill="hold">
                      <p:stCondLst>
                        <p:cond evt="onClick">
                          <p:tgtEl>
                            <p:spTgt spid="857"/>
                          </p:tgtEl>
                        </p:cond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evt="onClick">
                          <p:tgtEl>
                            <p:spTgt spid="857"/>
                          </p:tgtEl>
                        </p:cond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evt="onClick">
                          <p:tgtEl>
                            <p:spTgt spid="857"/>
                          </p:tgtEl>
                        </p:cond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evt="onClick">
                          <p:tgtEl>
                            <p:spTgt spid="857"/>
                          </p:tgtEl>
                        </p:cond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evt="onClick">
                          <p:tgtEl>
                            <p:spTgt spid="857"/>
                          </p:tgtEl>
                        </p:cond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evt="onClick">
                          <p:tgtEl>
                            <p:spTgt spid="857"/>
                          </p:tgtEl>
                        </p:cond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evt="onClick">
                          <p:tgtEl>
                            <p:spTgt spid="857"/>
                          </p:tgtEl>
                        </p:cond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evt="onClick">
                          <p:tgtEl>
                            <p:spTgt spid="857"/>
                          </p:tgtEl>
                        </p:cond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evt="onClick">
                          <p:tgtEl>
                            <p:spTgt spid="857"/>
                          </p:tgtEl>
                        </p:cond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1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evt="onClick">
                          <p:tgtEl>
                            <p:spTgt spid="857"/>
                          </p:tgtEl>
                        </p:cond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evt="onClick">
                          <p:tgtEl>
                            <p:spTgt spid="857"/>
                          </p:tgtEl>
                        </p:cond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evt="onClick">
                          <p:tgtEl>
                            <p:spTgt spid="857"/>
                          </p:tgtEl>
                        </p:cond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evt="onClick">
                          <p:tgtEl>
                            <p:spTgt spid="857"/>
                          </p:tgtEl>
                        </p:cond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evt="onClick">
                          <p:tgtEl>
                            <p:spTgt spid="857"/>
                          </p:tgtEl>
                        </p:cond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7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500"/>
                            </p:stCondLst>
                            <p:childTnLst>
                              <p:par>
                                <p:cTn id="12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500"/>
                            </p:stCondLst>
                            <p:childTnLst>
                              <p:par>
                                <p:cTn id="12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7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9" restart="whenNotActive" nodeType="interactiveSeq" fill="hold">
                <p:stCondLst>
                  <p:cond evt="onClick">
                    <p:tgtEl>
                      <p:spTgt spid="859"/>
                    </p:tgtEl>
                  </p:cond>
                </p:stCondLst>
                <p:childTnLst>
                  <p:par>
                    <p:cTn id="1250" fill="hold">
                      <p:stCondLst>
                        <p:cond evt="onClick">
                          <p:tgtEl>
                            <p:spTgt spid="859"/>
                          </p:tgtEl>
                        </p:cond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4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evt="onClick">
                          <p:tgtEl>
                            <p:spTgt spid="859"/>
                          </p:tgtEl>
                        </p:cond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6" name=""/>
          <p:cNvGraphicFramePr/>
          <p:nvPr/>
        </p:nvGraphicFramePr>
        <p:xfrm>
          <a:off x="817560" y="150840"/>
          <a:ext cx="7542360" cy="2492280"/>
        </p:xfrm>
        <a:graphic>
          <a:graphicData uri="http://schemas.openxmlformats.org/drawingml/2006/table">
            <a:tbl>
              <a:tblPr/>
              <a:tblGrid>
                <a:gridCol w="1611360"/>
                <a:gridCol w="2000160"/>
                <a:gridCol w="2359080"/>
                <a:gridCol w="1571760"/>
              </a:tblGrid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о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течени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в теч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7" name="Скругленный прямоугольник 2"/>
          <p:cNvSpPr/>
          <p:nvPr/>
        </p:nvSpPr>
        <p:spPr>
          <a:xfrm>
            <a:off x="2579760" y="966960"/>
            <a:ext cx="171432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Скругленный прямоугольник 3"/>
          <p:cNvSpPr/>
          <p:nvPr/>
        </p:nvSpPr>
        <p:spPr>
          <a:xfrm>
            <a:off x="2556000" y="1871640"/>
            <a:ext cx="1712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Скругленный прямоугольник 4"/>
          <p:cNvSpPr/>
          <p:nvPr/>
        </p:nvSpPr>
        <p:spPr>
          <a:xfrm>
            <a:off x="4548240" y="966960"/>
            <a:ext cx="216036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Скругленный прямоугольник 5"/>
          <p:cNvSpPr/>
          <p:nvPr/>
        </p:nvSpPr>
        <p:spPr>
          <a:xfrm>
            <a:off x="4579920" y="1871640"/>
            <a:ext cx="212400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км/ч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1" name="Группа 131"/>
          <p:cNvGrpSpPr/>
          <p:nvPr/>
        </p:nvGrpSpPr>
        <p:grpSpPr>
          <a:xfrm>
            <a:off x="1357200" y="3675240"/>
            <a:ext cx="4286520" cy="796320"/>
            <a:chOff x="1357200" y="3675240"/>
            <a:chExt cx="4286520" cy="796320"/>
          </a:xfrm>
        </p:grpSpPr>
        <p:sp>
          <p:nvSpPr>
            <p:cNvPr id="892" name="Скругленный прямоугольник 76"/>
            <p:cNvSpPr/>
            <p:nvPr/>
          </p:nvSpPr>
          <p:spPr>
            <a:xfrm>
              <a:off x="1357200" y="3719520"/>
              <a:ext cx="4286520" cy="714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А.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3" name="Группа 69"/>
            <p:cNvGrpSpPr/>
            <p:nvPr/>
          </p:nvGrpSpPr>
          <p:grpSpPr>
            <a:xfrm>
              <a:off x="2146680" y="3675240"/>
              <a:ext cx="3138480" cy="796320"/>
              <a:chOff x="2146680" y="3675240"/>
              <a:chExt cx="3138480" cy="796320"/>
            </a:xfrm>
          </p:grpSpPr>
          <p:grpSp>
            <p:nvGrpSpPr>
              <p:cNvPr id="894" name="Группа 53"/>
              <p:cNvGrpSpPr/>
              <p:nvPr/>
            </p:nvGrpSpPr>
            <p:grpSpPr>
              <a:xfrm>
                <a:off x="2146680" y="3675240"/>
                <a:ext cx="2488320" cy="794880"/>
                <a:chOff x="2146680" y="3675240"/>
                <a:chExt cx="2488320" cy="794880"/>
              </a:xfrm>
            </p:grpSpPr>
            <p:sp>
              <p:nvSpPr>
                <p:cNvPr id="895" name="Rectangle 19"/>
                <p:cNvSpPr/>
                <p:nvPr/>
              </p:nvSpPr>
              <p:spPr>
                <a:xfrm>
                  <a:off x="4352400" y="3830040"/>
                  <a:ext cx="282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96" name="Группа 110"/>
                <p:cNvGrpSpPr/>
                <p:nvPr/>
              </p:nvGrpSpPr>
              <p:grpSpPr>
                <a:xfrm>
                  <a:off x="2146680" y="3675240"/>
                  <a:ext cx="869400" cy="794520"/>
                  <a:chOff x="2146680" y="3675240"/>
                  <a:chExt cx="869400" cy="794520"/>
                </a:xfrm>
              </p:grpSpPr>
              <p:sp>
                <p:nvSpPr>
                  <p:cNvPr id="897" name="Rectangle 16"/>
                  <p:cNvSpPr/>
                  <p:nvPr/>
                </p:nvSpPr>
                <p:spPr>
                  <a:xfrm>
                    <a:off x="2146680" y="4042800"/>
                    <a:ext cx="86940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8 – </a:t>
                    </a: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" name="Прямая соединительная линия 91"/>
                  <p:cNvSpPr/>
                  <p:nvPr/>
                </p:nvSpPr>
                <p:spPr>
                  <a:xfrm>
                    <a:off x="2207880" y="4075560"/>
                    <a:ext cx="72108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Rectangle 21"/>
                  <p:cNvSpPr/>
                  <p:nvPr/>
                </p:nvSpPr>
                <p:spPr>
                  <a:xfrm>
                    <a:off x="2461680" y="3675240"/>
                    <a:ext cx="2674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4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00" name="Rectangle 18"/>
                <p:cNvSpPr/>
                <p:nvPr/>
              </p:nvSpPr>
              <p:spPr>
                <a:xfrm>
                  <a:off x="3088800" y="383508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–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01" name="Группа 112"/>
                <p:cNvGrpSpPr/>
                <p:nvPr/>
              </p:nvGrpSpPr>
              <p:grpSpPr>
                <a:xfrm>
                  <a:off x="3322080" y="3691800"/>
                  <a:ext cx="890640" cy="778320"/>
                  <a:chOff x="3322080" y="3691800"/>
                  <a:chExt cx="890640" cy="778320"/>
                </a:xfrm>
              </p:grpSpPr>
              <p:sp>
                <p:nvSpPr>
                  <p:cNvPr id="902" name="Rectangle 14"/>
                  <p:cNvSpPr/>
                  <p:nvPr/>
                </p:nvSpPr>
                <p:spPr>
                  <a:xfrm>
                    <a:off x="3322080" y="4043160"/>
                    <a:ext cx="89064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8 + </a:t>
                    </a: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Прямая соединительная линия 88"/>
                  <p:cNvSpPr/>
                  <p:nvPr/>
                </p:nvSpPr>
                <p:spPr>
                  <a:xfrm>
                    <a:off x="3425760" y="4073760"/>
                    <a:ext cx="71928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Rectangle 13"/>
                  <p:cNvSpPr/>
                  <p:nvPr/>
                </p:nvSpPr>
                <p:spPr>
                  <a:xfrm>
                    <a:off x="3714840" y="369180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05" name="Группа 65"/>
              <p:cNvGrpSpPr/>
              <p:nvPr/>
            </p:nvGrpSpPr>
            <p:grpSpPr>
              <a:xfrm>
                <a:off x="4783320" y="3677400"/>
                <a:ext cx="501840" cy="794160"/>
                <a:chOff x="4783320" y="3677400"/>
                <a:chExt cx="501840" cy="794160"/>
              </a:xfrm>
            </p:grpSpPr>
            <p:sp>
              <p:nvSpPr>
                <p:cNvPr id="906" name="Rectangle 16"/>
                <p:cNvSpPr/>
                <p:nvPr/>
              </p:nvSpPr>
              <p:spPr>
                <a:xfrm>
                  <a:off x="4839120" y="4044600"/>
                  <a:ext cx="44604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20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Rectangle 21"/>
                <p:cNvSpPr/>
                <p:nvPr/>
              </p:nvSpPr>
              <p:spPr>
                <a:xfrm>
                  <a:off x="4859280" y="367740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Прямая соединительная линия 82"/>
                <p:cNvSpPr/>
                <p:nvPr/>
              </p:nvSpPr>
              <p:spPr>
                <a:xfrm>
                  <a:off x="4783320" y="4076640"/>
                  <a:ext cx="43200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09" name="Скругленный прямоугольник 93"/>
          <p:cNvSpPr/>
          <p:nvPr/>
        </p:nvSpPr>
        <p:spPr>
          <a:xfrm>
            <a:off x="5857920" y="3714840"/>
            <a:ext cx="205560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0" name="Группа 131"/>
          <p:cNvGrpSpPr/>
          <p:nvPr/>
        </p:nvGrpSpPr>
        <p:grpSpPr>
          <a:xfrm>
            <a:off x="1357200" y="4457880"/>
            <a:ext cx="4286520" cy="802080"/>
            <a:chOff x="1357200" y="4457880"/>
            <a:chExt cx="4286520" cy="802080"/>
          </a:xfrm>
        </p:grpSpPr>
        <p:sp>
          <p:nvSpPr>
            <p:cNvPr id="911" name="Скругленный прямоугольник 95"/>
            <p:cNvSpPr/>
            <p:nvPr/>
          </p:nvSpPr>
          <p:spPr>
            <a:xfrm>
              <a:off x="1357200" y="4505400"/>
              <a:ext cx="4286520" cy="714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Б.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2" name="Группа 69"/>
            <p:cNvGrpSpPr/>
            <p:nvPr/>
          </p:nvGrpSpPr>
          <p:grpSpPr>
            <a:xfrm>
              <a:off x="2075760" y="4457880"/>
              <a:ext cx="3066840" cy="802080"/>
              <a:chOff x="2075760" y="4457880"/>
              <a:chExt cx="3066840" cy="802080"/>
            </a:xfrm>
          </p:grpSpPr>
          <p:grpSp>
            <p:nvGrpSpPr>
              <p:cNvPr id="913" name="Группа 53"/>
              <p:cNvGrpSpPr/>
              <p:nvPr/>
            </p:nvGrpSpPr>
            <p:grpSpPr>
              <a:xfrm>
                <a:off x="2075760" y="4457880"/>
                <a:ext cx="2678760" cy="802080"/>
                <a:chOff x="2075760" y="4457880"/>
                <a:chExt cx="2678760" cy="802080"/>
              </a:xfrm>
            </p:grpSpPr>
            <p:sp>
              <p:nvSpPr>
                <p:cNvPr id="914" name="Rectangle 19"/>
                <p:cNvSpPr/>
                <p:nvPr/>
              </p:nvSpPr>
              <p:spPr>
                <a:xfrm>
                  <a:off x="4471920" y="4615560"/>
                  <a:ext cx="282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15" name="Группа 110"/>
                <p:cNvGrpSpPr/>
                <p:nvPr/>
              </p:nvGrpSpPr>
              <p:grpSpPr>
                <a:xfrm>
                  <a:off x="2075760" y="4460040"/>
                  <a:ext cx="957960" cy="795240"/>
                  <a:chOff x="2075760" y="4460040"/>
                  <a:chExt cx="957960" cy="795240"/>
                </a:xfrm>
              </p:grpSpPr>
              <p:sp>
                <p:nvSpPr>
                  <p:cNvPr id="916" name="Rectangle 16"/>
                  <p:cNvSpPr/>
                  <p:nvPr/>
                </p:nvSpPr>
                <p:spPr>
                  <a:xfrm>
                    <a:off x="2573640" y="482832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4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Прямая соединительная линия 107"/>
                  <p:cNvSpPr/>
                  <p:nvPr/>
                </p:nvSpPr>
                <p:spPr>
                  <a:xfrm>
                    <a:off x="2207880" y="4859640"/>
                    <a:ext cx="72108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Rectangle 21"/>
                  <p:cNvSpPr/>
                  <p:nvPr/>
                </p:nvSpPr>
                <p:spPr>
                  <a:xfrm>
                    <a:off x="2075760" y="4460040"/>
                    <a:ext cx="95796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18 – </a:t>
                    </a: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9" name="Rectangle 18"/>
                <p:cNvSpPr/>
                <p:nvPr/>
              </p:nvSpPr>
              <p:spPr>
                <a:xfrm>
                  <a:off x="3160440" y="462024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–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20" name="Группа 112"/>
                <p:cNvGrpSpPr/>
                <p:nvPr/>
              </p:nvGrpSpPr>
              <p:grpSpPr>
                <a:xfrm>
                  <a:off x="3462840" y="4457880"/>
                  <a:ext cx="890640" cy="802080"/>
                  <a:chOff x="3462840" y="4457880"/>
                  <a:chExt cx="890640" cy="802080"/>
                </a:xfrm>
              </p:grpSpPr>
              <p:sp>
                <p:nvSpPr>
                  <p:cNvPr id="921" name="Rectangle 14"/>
                  <p:cNvSpPr/>
                  <p:nvPr/>
                </p:nvSpPr>
                <p:spPr>
                  <a:xfrm>
                    <a:off x="3818880" y="483300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Прямая соединительная линия 104"/>
                  <p:cNvSpPr/>
                  <p:nvPr/>
                </p:nvSpPr>
                <p:spPr>
                  <a:xfrm>
                    <a:off x="3567240" y="4861080"/>
                    <a:ext cx="71928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" name="Rectangle 13"/>
                  <p:cNvSpPr/>
                  <p:nvPr/>
                </p:nvSpPr>
                <p:spPr>
                  <a:xfrm>
                    <a:off x="3462840" y="4457880"/>
                    <a:ext cx="89064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8 + </a:t>
                    </a: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24" name="Rectangle 21"/>
              <p:cNvSpPr/>
              <p:nvPr/>
            </p:nvSpPr>
            <p:spPr>
              <a:xfrm>
                <a:off x="4875120" y="4640760"/>
                <a:ext cx="2674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5" name="Скругленный прямоугольник 109"/>
          <p:cNvSpPr/>
          <p:nvPr/>
        </p:nvSpPr>
        <p:spPr>
          <a:xfrm>
            <a:off x="5857920" y="4500720"/>
            <a:ext cx="205560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6" name="Группа 131"/>
          <p:cNvGrpSpPr/>
          <p:nvPr/>
        </p:nvGrpSpPr>
        <p:grpSpPr>
          <a:xfrm>
            <a:off x="1357200" y="5216400"/>
            <a:ext cx="4286520" cy="826560"/>
            <a:chOff x="1357200" y="5216400"/>
            <a:chExt cx="4286520" cy="826560"/>
          </a:xfrm>
        </p:grpSpPr>
        <p:sp>
          <p:nvSpPr>
            <p:cNvPr id="927" name="Скругленный прямоугольник 111"/>
            <p:cNvSpPr/>
            <p:nvPr/>
          </p:nvSpPr>
          <p:spPr>
            <a:xfrm>
              <a:off x="1357200" y="5290920"/>
              <a:ext cx="4286520" cy="714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В.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8" name="Группа 69"/>
            <p:cNvGrpSpPr/>
            <p:nvPr/>
          </p:nvGrpSpPr>
          <p:grpSpPr>
            <a:xfrm>
              <a:off x="2147400" y="5216400"/>
              <a:ext cx="3137760" cy="826560"/>
              <a:chOff x="2147400" y="5216400"/>
              <a:chExt cx="3137760" cy="826560"/>
            </a:xfrm>
          </p:grpSpPr>
          <p:grpSp>
            <p:nvGrpSpPr>
              <p:cNvPr id="929" name="Группа 53"/>
              <p:cNvGrpSpPr/>
              <p:nvPr/>
            </p:nvGrpSpPr>
            <p:grpSpPr>
              <a:xfrm>
                <a:off x="2147400" y="5245560"/>
                <a:ext cx="2487600" cy="795600"/>
                <a:chOff x="2147400" y="5245560"/>
                <a:chExt cx="2487600" cy="795600"/>
              </a:xfrm>
            </p:grpSpPr>
            <p:sp>
              <p:nvSpPr>
                <p:cNvPr id="930" name="Rectangle 19"/>
                <p:cNvSpPr/>
                <p:nvPr/>
              </p:nvSpPr>
              <p:spPr>
                <a:xfrm>
                  <a:off x="4352400" y="5400720"/>
                  <a:ext cx="282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31" name="Группа 110"/>
                <p:cNvGrpSpPr/>
                <p:nvPr/>
              </p:nvGrpSpPr>
              <p:grpSpPr>
                <a:xfrm>
                  <a:off x="2147400" y="5245560"/>
                  <a:ext cx="890640" cy="795240"/>
                  <a:chOff x="2147400" y="5245560"/>
                  <a:chExt cx="890640" cy="795240"/>
                </a:xfrm>
              </p:grpSpPr>
              <p:sp>
                <p:nvSpPr>
                  <p:cNvPr id="932" name="Rectangle 16"/>
                  <p:cNvSpPr/>
                  <p:nvPr/>
                </p:nvSpPr>
                <p:spPr>
                  <a:xfrm>
                    <a:off x="2147400" y="5613840"/>
                    <a:ext cx="89064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8 + </a:t>
                    </a: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Прямая соединительная линия 126"/>
                  <p:cNvSpPr/>
                  <p:nvPr/>
                </p:nvSpPr>
                <p:spPr>
                  <a:xfrm>
                    <a:off x="2207880" y="5645160"/>
                    <a:ext cx="72072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Rectangle 21"/>
                  <p:cNvSpPr/>
                  <p:nvPr/>
                </p:nvSpPr>
                <p:spPr>
                  <a:xfrm>
                    <a:off x="2461680" y="5245560"/>
                    <a:ext cx="2674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4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35" name="Rectangle 18"/>
                <p:cNvSpPr/>
                <p:nvPr/>
              </p:nvSpPr>
              <p:spPr>
                <a:xfrm>
                  <a:off x="3088800" y="540540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–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36" name="Группа 112"/>
                <p:cNvGrpSpPr/>
                <p:nvPr/>
              </p:nvGrpSpPr>
              <p:grpSpPr>
                <a:xfrm>
                  <a:off x="3321360" y="5262120"/>
                  <a:ext cx="869400" cy="779040"/>
                  <a:chOff x="3321360" y="5262120"/>
                  <a:chExt cx="869400" cy="779040"/>
                </a:xfrm>
              </p:grpSpPr>
              <p:sp>
                <p:nvSpPr>
                  <p:cNvPr id="937" name="Rectangle 14"/>
                  <p:cNvSpPr/>
                  <p:nvPr/>
                </p:nvSpPr>
                <p:spPr>
                  <a:xfrm>
                    <a:off x="3321360" y="5614200"/>
                    <a:ext cx="86940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8 – </a:t>
                    </a: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Прямая соединительная линия 123"/>
                  <p:cNvSpPr/>
                  <p:nvPr/>
                </p:nvSpPr>
                <p:spPr>
                  <a:xfrm>
                    <a:off x="3425760" y="5645160"/>
                    <a:ext cx="71928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Rectangle 13"/>
                  <p:cNvSpPr/>
                  <p:nvPr/>
                </p:nvSpPr>
                <p:spPr>
                  <a:xfrm>
                    <a:off x="3714840" y="526212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40" name="Группа 65"/>
              <p:cNvGrpSpPr/>
              <p:nvPr/>
            </p:nvGrpSpPr>
            <p:grpSpPr>
              <a:xfrm>
                <a:off x="4783320" y="5216400"/>
                <a:ext cx="501840" cy="826560"/>
                <a:chOff x="4783320" y="5216400"/>
                <a:chExt cx="501840" cy="826560"/>
              </a:xfrm>
            </p:grpSpPr>
            <p:sp>
              <p:nvSpPr>
                <p:cNvPr id="941" name="Rectangle 16"/>
                <p:cNvSpPr/>
                <p:nvPr/>
              </p:nvSpPr>
              <p:spPr>
                <a:xfrm>
                  <a:off x="4839120" y="5616000"/>
                  <a:ext cx="44604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20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Rectangle 21"/>
                <p:cNvSpPr/>
                <p:nvPr/>
              </p:nvSpPr>
              <p:spPr>
                <a:xfrm>
                  <a:off x="4859280" y="521640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Прямая соединительная линия 117"/>
                <p:cNvSpPr/>
                <p:nvPr/>
              </p:nvSpPr>
              <p:spPr>
                <a:xfrm>
                  <a:off x="4783320" y="5648400"/>
                  <a:ext cx="43200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44" name="Скругленный прямоугольник 128"/>
          <p:cNvSpPr/>
          <p:nvPr/>
        </p:nvSpPr>
        <p:spPr>
          <a:xfrm>
            <a:off x="5873760" y="5286240"/>
            <a:ext cx="205596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Скругленный прямоугольник 129"/>
          <p:cNvSpPr/>
          <p:nvPr/>
        </p:nvSpPr>
        <p:spPr>
          <a:xfrm>
            <a:off x="1357200" y="6087960"/>
            <a:ext cx="428652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(1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4(18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Скругленный прямоугольник 130"/>
          <p:cNvSpPr/>
          <p:nvPr/>
        </p:nvSpPr>
        <p:spPr>
          <a:xfrm>
            <a:off x="5881680" y="6072120"/>
            <a:ext cx="205596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7" name="Группа 173"/>
          <p:cNvGrpSpPr/>
          <p:nvPr/>
        </p:nvGrpSpPr>
        <p:grpSpPr>
          <a:xfrm>
            <a:off x="2741760" y="2786040"/>
            <a:ext cx="3473280" cy="872280"/>
            <a:chOff x="2741760" y="2786040"/>
            <a:chExt cx="3473280" cy="872280"/>
          </a:xfrm>
        </p:grpSpPr>
        <p:sp>
          <p:nvSpPr>
            <p:cNvPr id="948" name="Скругленный прямоугольник 133"/>
            <p:cNvSpPr/>
            <p:nvPr/>
          </p:nvSpPr>
          <p:spPr>
            <a:xfrm>
              <a:off x="2741760" y="2786040"/>
              <a:ext cx="3473280" cy="857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 мин =       ч =       ч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9" name="Группа 172"/>
            <p:cNvGrpSpPr/>
            <p:nvPr/>
          </p:nvGrpSpPr>
          <p:grpSpPr>
            <a:xfrm>
              <a:off x="4143240" y="2786040"/>
              <a:ext cx="1641600" cy="872280"/>
              <a:chOff x="4143240" y="2786040"/>
              <a:chExt cx="1641600" cy="872280"/>
            </a:xfrm>
          </p:grpSpPr>
          <p:sp>
            <p:nvSpPr>
              <p:cNvPr id="950" name="Rectangle 16"/>
              <p:cNvSpPr/>
              <p:nvPr/>
            </p:nvSpPr>
            <p:spPr>
              <a:xfrm>
                <a:off x="4246200" y="321696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60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Rectangle 21"/>
              <p:cNvSpPr/>
              <p:nvPr/>
            </p:nvSpPr>
            <p:spPr>
              <a:xfrm>
                <a:off x="4272480" y="2786040"/>
                <a:ext cx="2674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Прямая соединительная линия 137"/>
              <p:cNvSpPr/>
              <p:nvPr/>
            </p:nvSpPr>
            <p:spPr>
              <a:xfrm>
                <a:off x="4143240" y="3217680"/>
                <a:ext cx="431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Rectangle 21"/>
              <p:cNvSpPr/>
              <p:nvPr/>
            </p:nvSpPr>
            <p:spPr>
              <a:xfrm>
                <a:off x="5367600" y="2829960"/>
                <a:ext cx="2674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Прямая соединительная линия 139"/>
              <p:cNvSpPr/>
              <p:nvPr/>
            </p:nvSpPr>
            <p:spPr>
              <a:xfrm>
                <a:off x="5286240" y="3232080"/>
                <a:ext cx="431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Rectangle 16"/>
              <p:cNvSpPr/>
              <p:nvPr/>
            </p:nvSpPr>
            <p:spPr>
              <a:xfrm>
                <a:off x="5338800" y="323136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6" name="Скругленный прямоугольник 19"/>
          <p:cNvSpPr/>
          <p:nvPr/>
        </p:nvSpPr>
        <p:spPr>
          <a:xfrm>
            <a:off x="785880" y="2786040"/>
            <a:ext cx="757224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мя по течению на 3 мин меньше, чем время против те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Группа 164"/>
          <p:cNvGrpSpPr/>
          <p:nvPr/>
        </p:nvGrpSpPr>
        <p:grpSpPr>
          <a:xfrm>
            <a:off x="5857920" y="4500720"/>
            <a:ext cx="2055600" cy="714240"/>
            <a:chOff x="5857920" y="4500720"/>
            <a:chExt cx="2055600" cy="714240"/>
          </a:xfrm>
        </p:grpSpPr>
        <p:grpSp>
          <p:nvGrpSpPr>
            <p:cNvPr id="958" name="Группа 163"/>
            <p:cNvGrpSpPr/>
            <p:nvPr/>
          </p:nvGrpSpPr>
          <p:grpSpPr>
            <a:xfrm>
              <a:off x="5857920" y="4500720"/>
              <a:ext cx="2055600" cy="714240"/>
              <a:chOff x="5857920" y="4500720"/>
              <a:chExt cx="2055600" cy="714240"/>
            </a:xfrm>
          </p:grpSpPr>
          <p:sp>
            <p:nvSpPr>
              <p:cNvPr id="959" name="Скругленный прямоугольник 141"/>
              <p:cNvSpPr/>
              <p:nvPr/>
            </p:nvSpPr>
            <p:spPr>
              <a:xfrm>
                <a:off x="5857920" y="4500720"/>
                <a:ext cx="2055600" cy="7142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0" name="Группа 142"/>
              <p:cNvGrpSpPr/>
              <p:nvPr/>
            </p:nvGrpSpPr>
            <p:grpSpPr>
              <a:xfrm>
                <a:off x="6431400" y="4500720"/>
                <a:ext cx="747360" cy="707760"/>
                <a:chOff x="6431400" y="4500720"/>
                <a:chExt cx="747360" cy="707760"/>
              </a:xfrm>
            </p:grpSpPr>
            <p:sp>
              <p:nvSpPr>
                <p:cNvPr id="961" name="Rectangle 87"/>
                <p:cNvSpPr/>
                <p:nvPr/>
              </p:nvSpPr>
              <p:spPr>
                <a:xfrm>
                  <a:off x="6431400" y="4500720"/>
                  <a:ext cx="74736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v</a:t>
                  </a:r>
                  <a:r>
                    <a:rPr b="0" i="1" lang="ru-RU" sz="4400" spc="-1" strike="noStrike">
                      <a:solidFill>
                        <a:srgbClr val="ff0000"/>
                      </a:solidFill>
                      <a:latin typeface="Times New Roman"/>
                    </a:rPr>
                    <a:t>  </a:t>
                  </a: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s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Rectangle 93"/>
                <p:cNvSpPr/>
                <p:nvPr/>
              </p:nvSpPr>
              <p:spPr>
                <a:xfrm>
                  <a:off x="6704280" y="4537800"/>
                  <a:ext cx="150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Calibri"/>
                    </a:rPr>
                    <a:t>: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3" name="Группа 145"/>
            <p:cNvGrpSpPr/>
            <p:nvPr/>
          </p:nvGrpSpPr>
          <p:grpSpPr>
            <a:xfrm>
              <a:off x="6258240" y="4698000"/>
              <a:ext cx="1045440" cy="477360"/>
              <a:chOff x="6258240" y="4698000"/>
              <a:chExt cx="1045440" cy="477360"/>
            </a:xfrm>
          </p:grpSpPr>
          <p:sp>
            <p:nvSpPr>
              <p:cNvPr id="964" name="Прямая соединительная линия 146"/>
              <p:cNvSpPr/>
              <p:nvPr/>
            </p:nvSpPr>
            <p:spPr>
              <a:xfrm>
                <a:off x="6258240" y="4698000"/>
                <a:ext cx="1045440" cy="453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Прямая соединительная линия 147"/>
              <p:cNvSpPr/>
              <p:nvPr/>
            </p:nvSpPr>
            <p:spPr>
              <a:xfrm flipH="1">
                <a:off x="6261480" y="4702320"/>
                <a:ext cx="1036080" cy="473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6" name="Группа 165"/>
          <p:cNvGrpSpPr/>
          <p:nvPr/>
        </p:nvGrpSpPr>
        <p:grpSpPr>
          <a:xfrm>
            <a:off x="5873760" y="5214960"/>
            <a:ext cx="2055960" cy="785880"/>
            <a:chOff x="5873760" y="5214960"/>
            <a:chExt cx="2055960" cy="785880"/>
          </a:xfrm>
        </p:grpSpPr>
        <p:sp>
          <p:nvSpPr>
            <p:cNvPr id="967" name="Скругленный прямоугольник 148"/>
            <p:cNvSpPr/>
            <p:nvPr/>
          </p:nvSpPr>
          <p:spPr>
            <a:xfrm>
              <a:off x="5873760" y="5286240"/>
              <a:ext cx="2055960" cy="714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8" name="Группа 119"/>
            <p:cNvGrpSpPr/>
            <p:nvPr/>
          </p:nvGrpSpPr>
          <p:grpSpPr>
            <a:xfrm>
              <a:off x="5945040" y="5214960"/>
              <a:ext cx="1367640" cy="730440"/>
              <a:chOff x="5945040" y="5214960"/>
              <a:chExt cx="1367640" cy="730440"/>
            </a:xfrm>
          </p:grpSpPr>
          <p:sp>
            <p:nvSpPr>
              <p:cNvPr id="969" name="Rectangle 78"/>
              <p:cNvSpPr/>
              <p:nvPr/>
            </p:nvSpPr>
            <p:spPr>
              <a:xfrm>
                <a:off x="6531840" y="555624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Rectangle 80"/>
              <p:cNvSpPr/>
              <p:nvPr/>
            </p:nvSpPr>
            <p:spPr>
              <a:xfrm>
                <a:off x="7153560" y="556416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Rectangle 84"/>
              <p:cNvSpPr/>
              <p:nvPr/>
            </p:nvSpPr>
            <p:spPr>
              <a:xfrm>
                <a:off x="6420240" y="5214960"/>
                <a:ext cx="15624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t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Rectangle 86"/>
              <p:cNvSpPr/>
              <p:nvPr/>
            </p:nvSpPr>
            <p:spPr>
              <a:xfrm>
                <a:off x="7010280" y="5222880"/>
                <a:ext cx="15624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t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Rectangle 91"/>
              <p:cNvSpPr/>
              <p:nvPr/>
            </p:nvSpPr>
            <p:spPr>
              <a:xfrm>
                <a:off x="5945040" y="5222880"/>
                <a:ext cx="36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Rectangle 93"/>
              <p:cNvSpPr/>
              <p:nvPr/>
            </p:nvSpPr>
            <p:spPr>
              <a:xfrm>
                <a:off x="6651000" y="5266800"/>
                <a:ext cx="32688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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5" name="Группа 167"/>
          <p:cNvGrpSpPr/>
          <p:nvPr/>
        </p:nvGrpSpPr>
        <p:grpSpPr>
          <a:xfrm>
            <a:off x="5880240" y="6000840"/>
            <a:ext cx="2057400" cy="785880"/>
            <a:chOff x="5880240" y="6000840"/>
            <a:chExt cx="2057400" cy="785880"/>
          </a:xfrm>
        </p:grpSpPr>
        <p:grpSp>
          <p:nvGrpSpPr>
            <p:cNvPr id="976" name="Группа 166"/>
            <p:cNvGrpSpPr/>
            <p:nvPr/>
          </p:nvGrpSpPr>
          <p:grpSpPr>
            <a:xfrm>
              <a:off x="5880240" y="6000840"/>
              <a:ext cx="2057400" cy="785880"/>
              <a:chOff x="5880240" y="6000840"/>
              <a:chExt cx="2057400" cy="785880"/>
            </a:xfrm>
          </p:grpSpPr>
          <p:sp>
            <p:nvSpPr>
              <p:cNvPr id="977" name="Скругленный прямоугольник 156"/>
              <p:cNvSpPr/>
              <p:nvPr/>
            </p:nvSpPr>
            <p:spPr>
              <a:xfrm>
                <a:off x="5880240" y="6072120"/>
                <a:ext cx="2057400" cy="7146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8" name="Группа 157"/>
              <p:cNvGrpSpPr/>
              <p:nvPr/>
            </p:nvGrpSpPr>
            <p:grpSpPr>
              <a:xfrm>
                <a:off x="6438600" y="6000840"/>
                <a:ext cx="747360" cy="752040"/>
                <a:chOff x="6438600" y="6000840"/>
                <a:chExt cx="747360" cy="752040"/>
              </a:xfrm>
            </p:grpSpPr>
            <p:sp>
              <p:nvSpPr>
                <p:cNvPr id="979" name="Rectangle 87"/>
                <p:cNvSpPr/>
                <p:nvPr/>
              </p:nvSpPr>
              <p:spPr>
                <a:xfrm>
                  <a:off x="6438600" y="6000840"/>
                  <a:ext cx="74736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s</a:t>
                  </a:r>
                  <a:r>
                    <a:rPr b="0" i="1" lang="ru-RU" sz="4400" spc="-1" strike="noStrike">
                      <a:solidFill>
                        <a:srgbClr val="ff0000"/>
                      </a:solidFill>
                      <a:latin typeface="Times New Roman"/>
                    </a:rPr>
                    <a:t>  v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Rectangle 93"/>
                <p:cNvSpPr/>
                <p:nvPr/>
              </p:nvSpPr>
              <p:spPr>
                <a:xfrm>
                  <a:off x="6611400" y="6082200"/>
                  <a:ext cx="35136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Calibri"/>
                    </a:rPr>
                    <a:t>∙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1" name="Группа 160"/>
            <p:cNvGrpSpPr/>
            <p:nvPr/>
          </p:nvGrpSpPr>
          <p:grpSpPr>
            <a:xfrm>
              <a:off x="6240960" y="6148080"/>
              <a:ext cx="1046160" cy="477720"/>
              <a:chOff x="6240960" y="6148080"/>
              <a:chExt cx="1046160" cy="477720"/>
            </a:xfrm>
          </p:grpSpPr>
          <p:sp>
            <p:nvSpPr>
              <p:cNvPr id="982" name="Прямая соединительная линия 161"/>
              <p:cNvSpPr/>
              <p:nvPr/>
            </p:nvSpPr>
            <p:spPr>
              <a:xfrm>
                <a:off x="6240960" y="6148080"/>
                <a:ext cx="1046160" cy="453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Прямая соединительная линия 162"/>
              <p:cNvSpPr/>
              <p:nvPr/>
            </p:nvSpPr>
            <p:spPr>
              <a:xfrm flipH="1">
                <a:off x="6244200" y="6152040"/>
                <a:ext cx="1036800" cy="473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84" name="Picture 1" descr="C:\Users\Надежда\Desktop\2b703ffd8556a47ac1147fcdae08fd33.gif"/>
          <p:cNvPicPr/>
          <p:nvPr/>
        </p:nvPicPr>
        <p:blipFill>
          <a:blip r:embed="rId1"/>
          <a:stretch/>
        </p:blipFill>
        <p:spPr>
          <a:xfrm flipH="1">
            <a:off x="8048520" y="3429000"/>
            <a:ext cx="952560" cy="1143000"/>
          </a:xfrm>
          <a:prstGeom prst="rect">
            <a:avLst/>
          </a:prstGeom>
          <a:ln w="0">
            <a:noFill/>
          </a:ln>
        </p:spPr>
      </p:pic>
      <p:grpSp>
        <p:nvGrpSpPr>
          <p:cNvPr id="985" name="Группа 171"/>
          <p:cNvGrpSpPr/>
          <p:nvPr/>
        </p:nvGrpSpPr>
        <p:grpSpPr>
          <a:xfrm>
            <a:off x="6913440" y="762120"/>
            <a:ext cx="1341360" cy="888840"/>
            <a:chOff x="6913440" y="762120"/>
            <a:chExt cx="1341360" cy="888840"/>
          </a:xfrm>
        </p:grpSpPr>
        <p:grpSp>
          <p:nvGrpSpPr>
            <p:cNvPr id="986" name="Группа 47"/>
            <p:cNvGrpSpPr/>
            <p:nvPr/>
          </p:nvGrpSpPr>
          <p:grpSpPr>
            <a:xfrm>
              <a:off x="6913440" y="762120"/>
              <a:ext cx="1332720" cy="888840"/>
              <a:chOff x="6913440" y="762120"/>
              <a:chExt cx="1332720" cy="888840"/>
            </a:xfrm>
          </p:grpSpPr>
          <p:sp>
            <p:nvSpPr>
              <p:cNvPr id="987" name="Скругленный прямоугольник 7"/>
              <p:cNvSpPr/>
              <p:nvPr/>
            </p:nvSpPr>
            <p:spPr>
              <a:xfrm>
                <a:off x="6913440" y="792000"/>
                <a:ext cx="1332720" cy="8589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8" name="Группа 20"/>
              <p:cNvGrpSpPr/>
              <p:nvPr/>
            </p:nvGrpSpPr>
            <p:grpSpPr>
              <a:xfrm>
                <a:off x="7061040" y="762120"/>
                <a:ext cx="930600" cy="856080"/>
                <a:chOff x="7061040" y="762120"/>
                <a:chExt cx="930600" cy="856080"/>
              </a:xfrm>
            </p:grpSpPr>
            <p:sp>
              <p:nvSpPr>
                <p:cNvPr id="989" name="Rectangle 16"/>
                <p:cNvSpPr/>
                <p:nvPr/>
              </p:nvSpPr>
              <p:spPr>
                <a:xfrm>
                  <a:off x="7061040" y="1191240"/>
                  <a:ext cx="930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18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+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х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Rectangle 21"/>
                <p:cNvSpPr/>
                <p:nvPr/>
              </p:nvSpPr>
              <p:spPr>
                <a:xfrm>
                  <a:off x="7359840" y="76212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Прямая соединительная линия 11"/>
                <p:cNvSpPr/>
                <p:nvPr/>
              </p:nvSpPr>
              <p:spPr>
                <a:xfrm>
                  <a:off x="7142040" y="1193760"/>
                  <a:ext cx="72144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2" name="Rectangle 16"/>
            <p:cNvSpPr/>
            <p:nvPr/>
          </p:nvSpPr>
          <p:spPr>
            <a:xfrm>
              <a:off x="7987320" y="959760"/>
              <a:ext cx="26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ч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3" name="Группа 172"/>
          <p:cNvGrpSpPr/>
          <p:nvPr/>
        </p:nvGrpSpPr>
        <p:grpSpPr>
          <a:xfrm>
            <a:off x="6913440" y="1722600"/>
            <a:ext cx="1341360" cy="887400"/>
            <a:chOff x="6913440" y="1722600"/>
            <a:chExt cx="1341360" cy="887400"/>
          </a:xfrm>
        </p:grpSpPr>
        <p:grpSp>
          <p:nvGrpSpPr>
            <p:cNvPr id="994" name="Группа 47"/>
            <p:cNvGrpSpPr/>
            <p:nvPr/>
          </p:nvGrpSpPr>
          <p:grpSpPr>
            <a:xfrm>
              <a:off x="6913440" y="1722600"/>
              <a:ext cx="1332720" cy="887400"/>
              <a:chOff x="6913440" y="1722600"/>
              <a:chExt cx="1332720" cy="887400"/>
            </a:xfrm>
          </p:grpSpPr>
          <p:sp>
            <p:nvSpPr>
              <p:cNvPr id="995" name="Скругленный прямоугольник 13"/>
              <p:cNvSpPr/>
              <p:nvPr/>
            </p:nvSpPr>
            <p:spPr>
              <a:xfrm>
                <a:off x="6913440" y="1752480"/>
                <a:ext cx="1332720" cy="8575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Группа 20"/>
              <p:cNvGrpSpPr/>
              <p:nvPr/>
            </p:nvGrpSpPr>
            <p:grpSpPr>
              <a:xfrm>
                <a:off x="7060320" y="1722600"/>
                <a:ext cx="869760" cy="855360"/>
                <a:chOff x="7060320" y="1722600"/>
                <a:chExt cx="869760" cy="855360"/>
              </a:xfrm>
            </p:grpSpPr>
            <p:sp>
              <p:nvSpPr>
                <p:cNvPr id="997" name="Rectangle 16"/>
                <p:cNvSpPr/>
                <p:nvPr/>
              </p:nvSpPr>
              <p:spPr>
                <a:xfrm>
                  <a:off x="7060320" y="2151000"/>
                  <a:ext cx="86976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18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– 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х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Rectangle 21"/>
                <p:cNvSpPr/>
                <p:nvPr/>
              </p:nvSpPr>
              <p:spPr>
                <a:xfrm>
                  <a:off x="7359840" y="172260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Прямая соединительная линия 17"/>
                <p:cNvSpPr/>
                <p:nvPr/>
              </p:nvSpPr>
              <p:spPr>
                <a:xfrm>
                  <a:off x="7142040" y="2154600"/>
                  <a:ext cx="71820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0" name="Rectangle 16"/>
            <p:cNvSpPr/>
            <p:nvPr/>
          </p:nvSpPr>
          <p:spPr>
            <a:xfrm>
              <a:off x="7987320" y="1928520"/>
              <a:ext cx="26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ч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1" name="Группа 174"/>
          <p:cNvGrpSpPr/>
          <p:nvPr/>
        </p:nvGrpSpPr>
        <p:grpSpPr>
          <a:xfrm>
            <a:off x="7829640" y="5357880"/>
            <a:ext cx="1243080" cy="1285920"/>
            <a:chOff x="7829640" y="5357880"/>
            <a:chExt cx="1243080" cy="1285920"/>
          </a:xfrm>
        </p:grpSpPr>
        <p:pic>
          <p:nvPicPr>
            <p:cNvPr id="1002" name="Picture 3" descr="C:\Users\Надежда\Videos\Downloads\Pictures\Организатор клипов (Microsoft)\j0441443.png"/>
            <p:cNvPicPr/>
            <p:nvPr/>
          </p:nvPicPr>
          <p:blipFill>
            <a:blip r:embed="rId2"/>
            <a:stretch/>
          </p:blipFill>
          <p:spPr>
            <a:xfrm>
              <a:off x="8072640" y="5357880"/>
              <a:ext cx="79200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3" name="Скругленный прямоугольник 176">
              <a:hlinkClick r:id="" action="ppaction://hlinkshowjump?jump=endshow"/>
            </p:cNvPr>
            <p:cNvSpPr/>
            <p:nvPr/>
          </p:nvSpPr>
          <p:spPr>
            <a:xfrm>
              <a:off x="7829640" y="6212160"/>
              <a:ext cx="1243080" cy="4316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66"/>
                  </a:solidFill>
                  <a:latin typeface="Times New Roman"/>
                  <a:ea typeface="Times New Roman"/>
                </a:rPr>
                <a:t>вых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0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5" restart="whenNotActive" nodeType="interactiveSeq" fill="hold">
                <p:stCondLst>
                  <p:cond evt="onClick">
                    <p:tgtEl>
                      <p:spTgt spid="956"/>
                    </p:tgtEl>
                  </p:cond>
                </p:stCondLst>
                <p:childTnLst>
                  <p:par>
                    <p:cTn id="1266" fill="hold">
                      <p:stCondLst>
                        <p:cond evt="onClick">
                          <p:tgtEl>
                            <p:spTgt spid="956"/>
                          </p:tgtEl>
                        </p:cond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0" restart="whenNotActive" nodeType="interactiveSeq" fill="hold">
                <p:stCondLst>
                  <p:cond evt="onClick">
                    <p:tgtEl>
                      <p:spTgt spid="891"/>
                    </p:tgtEl>
                  </p:cond>
                </p:stCondLst>
                <p:childTnLst>
                  <p:par>
                    <p:cTn id="1271" fill="hold">
                      <p:stCondLst>
                        <p:cond evt="onClick">
                          <p:tgtEl>
                            <p:spTgt spid="891"/>
                          </p:tgtEl>
                        </p:cond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5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evt="onClick">
                          <p:tgtEl>
                            <p:spTgt spid="891"/>
                          </p:tgtEl>
                        </p:cond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2" restart="whenNotActive" nodeType="interactiveSeq" fill="hold">
                <p:stCondLst>
                  <p:cond evt="onClick">
                    <p:tgtEl>
                      <p:spTgt spid="910"/>
                    </p:tgtEl>
                  </p:cond>
                </p:stCondLst>
                <p:childTnLst>
                  <p:par>
                    <p:cTn id="1283" fill="hold">
                      <p:stCondLst>
                        <p:cond evt="onClick">
                          <p:tgtEl>
                            <p:spTgt spid="910"/>
                          </p:tgtEl>
                        </p:cond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7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evt="onClick">
                          <p:tgtEl>
                            <p:spTgt spid="910"/>
                          </p:tgtEl>
                        </p:cond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2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evt="onClick">
                          <p:tgtEl>
                            <p:spTgt spid="910"/>
                          </p:tgtEl>
                        </p:cond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7" restart="whenNotActive" nodeType="interactiveSeq" fill="hold">
                <p:stCondLst>
                  <p:cond evt="onClick">
                    <p:tgtEl>
                      <p:spTgt spid="926"/>
                    </p:tgtEl>
                  </p:cond>
                </p:stCondLst>
                <p:childTnLst>
                  <p:par>
                    <p:cTn id="1298" fill="hold">
                      <p:stCondLst>
                        <p:cond evt="onClick">
                          <p:tgtEl>
                            <p:spTgt spid="926"/>
                          </p:tgtEl>
                        </p:cond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2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evt="onClick">
                          <p:tgtEl>
                            <p:spTgt spid="926"/>
                          </p:tgtEl>
                        </p:cond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7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evt="onClick">
                          <p:tgtEl>
                            <p:spTgt spid="926"/>
                          </p:tgtEl>
                        </p:cond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2" restart="whenNotActive" nodeType="interactiveSeq" fill="hold">
                <p:stCondLst>
                  <p:cond evt="onClick">
                    <p:tgtEl>
                      <p:spTgt spid="945"/>
                    </p:tgtEl>
                  </p:cond>
                </p:stCondLst>
                <p:childTnLst>
                  <p:par>
                    <p:cTn id="1313" fill="hold">
                      <p:stCondLst>
                        <p:cond evt="onClick">
                          <p:tgtEl>
                            <p:spTgt spid="945"/>
                          </p:tgtEl>
                        </p:cond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7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evt="onClick">
                          <p:tgtEl>
                            <p:spTgt spid="945"/>
                          </p:tgtEl>
                        </p:cond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2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evt="onClick">
                          <p:tgtEl>
                            <p:spTgt spid="945"/>
                          </p:tgtEl>
                        </p:cond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4" name="Группа 46"/>
          <p:cNvGrpSpPr/>
          <p:nvPr/>
        </p:nvGrpSpPr>
        <p:grpSpPr>
          <a:xfrm>
            <a:off x="500040" y="82440"/>
            <a:ext cx="8215200" cy="1917720"/>
            <a:chOff x="500040" y="82440"/>
            <a:chExt cx="8215200" cy="1917720"/>
          </a:xfrm>
        </p:grpSpPr>
        <p:sp>
          <p:nvSpPr>
            <p:cNvPr id="1005" name="Скругленный прямоугольник 2"/>
            <p:cNvSpPr/>
            <p:nvPr/>
          </p:nvSpPr>
          <p:spPr>
            <a:xfrm>
              <a:off x="500040" y="82440"/>
              <a:ext cx="8215200" cy="1917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елосипедист от озера до деревни ехал со скоростью 15 км/ч, а обратно – со скоростью 10 км/ч. Сколько времени ушло у него на дорогу от озера до деревни, если на весь путь туда и обратно велосипедист затратил 1 ч? Велосипедист от озера до деревни ехал со скоростью 15 км/ч, а обратно – со скоростью 10 км/ч. Сколько времени ушло у него на дорогу от озера до деревни, если на весь путь туда и обратно велосипедист затратил 1 ч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Прямоугольник 3"/>
            <p:cNvSpPr/>
            <p:nvPr/>
          </p:nvSpPr>
          <p:spPr>
            <a:xfrm>
              <a:off x="785520" y="82440"/>
              <a:ext cx="77151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т города до поселка автомобиль доехал за 3 ч. Если бы он увеличил скорость на 25 км/ч, то затратил бы на этот путь на 1 ч меньше. Чему равно расстояние от города до поселка?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07" name=""/>
          <p:cNvGraphicFramePr/>
          <p:nvPr/>
        </p:nvGraphicFramePr>
        <p:xfrm>
          <a:off x="1014480" y="3429000"/>
          <a:ext cx="7129440" cy="2844720"/>
        </p:xfrm>
        <a:graphic>
          <a:graphicData uri="http://schemas.openxmlformats.org/drawingml/2006/table">
            <a:tbl>
              <a:tblPr/>
              <a:tblGrid>
                <a:gridCol w="1968480"/>
                <a:gridCol w="1928880"/>
                <a:gridCol w="1517400"/>
                <a:gridCol w="17146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ояние (км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км/ч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х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г проех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08" name="Picture 1" descr="F:\2.jpg"/>
          <p:cNvPicPr/>
          <p:nvPr/>
        </p:nvPicPr>
        <p:blipFill>
          <a:blip r:embed="rId1"/>
          <a:stretch/>
        </p:blipFill>
        <p:spPr>
          <a:xfrm>
            <a:off x="3902040" y="6334200"/>
            <a:ext cx="1316160" cy="542880"/>
          </a:xfrm>
          <a:prstGeom prst="rect">
            <a:avLst/>
          </a:prstGeom>
          <a:ln w="0">
            <a:noFill/>
          </a:ln>
        </p:spPr>
      </p:pic>
      <p:sp>
        <p:nvSpPr>
          <p:cNvPr id="1009" name="Скругленный прямоугольник 10"/>
          <p:cNvSpPr/>
          <p:nvPr/>
        </p:nvSpPr>
        <p:spPr>
          <a:xfrm>
            <a:off x="3357720" y="4468680"/>
            <a:ext cx="12650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Скругленный прямоугольник 17"/>
          <p:cNvSpPr/>
          <p:nvPr/>
        </p:nvSpPr>
        <p:spPr>
          <a:xfrm>
            <a:off x="3378240" y="5500800"/>
            <a:ext cx="12650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Скругленный прямоугольник 22"/>
          <p:cNvSpPr/>
          <p:nvPr/>
        </p:nvSpPr>
        <p:spPr>
          <a:xfrm>
            <a:off x="5021280" y="4500720"/>
            <a:ext cx="126540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Скругленный прямоугольник 23"/>
          <p:cNvSpPr/>
          <p:nvPr/>
        </p:nvSpPr>
        <p:spPr>
          <a:xfrm>
            <a:off x="4413240" y="5500800"/>
            <a:ext cx="244476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 ч мен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Скругленный прямоугольник 26"/>
          <p:cNvSpPr/>
          <p:nvPr/>
        </p:nvSpPr>
        <p:spPr>
          <a:xfrm>
            <a:off x="5000760" y="5492880"/>
            <a:ext cx="12650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4" name="Группа 28"/>
          <p:cNvGrpSpPr/>
          <p:nvPr/>
        </p:nvGrpSpPr>
        <p:grpSpPr>
          <a:xfrm>
            <a:off x="6691320" y="4336920"/>
            <a:ext cx="1214280" cy="857880"/>
            <a:chOff x="6691320" y="4336920"/>
            <a:chExt cx="1214280" cy="857880"/>
          </a:xfrm>
        </p:grpSpPr>
        <p:sp>
          <p:nvSpPr>
            <p:cNvPr id="1015" name="Скругленный прямоугольник 29"/>
            <p:cNvSpPr/>
            <p:nvPr/>
          </p:nvSpPr>
          <p:spPr>
            <a:xfrm>
              <a:off x="6691320" y="4336920"/>
              <a:ext cx="1214280" cy="857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6" name="Группа 13"/>
            <p:cNvGrpSpPr/>
            <p:nvPr/>
          </p:nvGrpSpPr>
          <p:grpSpPr>
            <a:xfrm>
              <a:off x="7054200" y="4336920"/>
              <a:ext cx="436320" cy="857880"/>
              <a:chOff x="7054200" y="4336920"/>
              <a:chExt cx="436320" cy="857880"/>
            </a:xfrm>
          </p:grpSpPr>
          <p:sp>
            <p:nvSpPr>
              <p:cNvPr id="1017" name="Rectangle 16"/>
              <p:cNvSpPr/>
              <p:nvPr/>
            </p:nvSpPr>
            <p:spPr>
              <a:xfrm>
                <a:off x="7223040" y="4767840"/>
                <a:ext cx="2674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Rectangle 21"/>
              <p:cNvSpPr/>
              <p:nvPr/>
            </p:nvSpPr>
            <p:spPr>
              <a:xfrm>
                <a:off x="7135200" y="4336920"/>
                <a:ext cx="2462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Прямая соединительная линия 33"/>
              <p:cNvSpPr/>
              <p:nvPr/>
            </p:nvSpPr>
            <p:spPr>
              <a:xfrm>
                <a:off x="7054200" y="4768920"/>
                <a:ext cx="432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0" name="Группа 34"/>
          <p:cNvGrpSpPr/>
          <p:nvPr/>
        </p:nvGrpSpPr>
        <p:grpSpPr>
          <a:xfrm>
            <a:off x="6683400" y="5337000"/>
            <a:ext cx="1214280" cy="857880"/>
            <a:chOff x="6683400" y="5337000"/>
            <a:chExt cx="1214280" cy="857880"/>
          </a:xfrm>
        </p:grpSpPr>
        <p:sp>
          <p:nvSpPr>
            <p:cNvPr id="1021" name="Скругленный прямоугольник 35"/>
            <p:cNvSpPr/>
            <p:nvPr/>
          </p:nvSpPr>
          <p:spPr>
            <a:xfrm>
              <a:off x="6683400" y="5337000"/>
              <a:ext cx="1214280" cy="857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Группа 77"/>
            <p:cNvGrpSpPr/>
            <p:nvPr/>
          </p:nvGrpSpPr>
          <p:grpSpPr>
            <a:xfrm>
              <a:off x="7046280" y="5337000"/>
              <a:ext cx="436320" cy="857880"/>
              <a:chOff x="7046280" y="5337000"/>
              <a:chExt cx="436320" cy="857880"/>
            </a:xfrm>
          </p:grpSpPr>
          <p:sp>
            <p:nvSpPr>
              <p:cNvPr id="1023" name="Rectangle 16"/>
              <p:cNvSpPr/>
              <p:nvPr/>
            </p:nvSpPr>
            <p:spPr>
              <a:xfrm>
                <a:off x="7215120" y="5767920"/>
                <a:ext cx="2674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Rectangle 21"/>
              <p:cNvSpPr/>
              <p:nvPr/>
            </p:nvSpPr>
            <p:spPr>
              <a:xfrm>
                <a:off x="7127280" y="5337000"/>
                <a:ext cx="2462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Прямая соединительная линия 39"/>
              <p:cNvSpPr/>
              <p:nvPr/>
            </p:nvSpPr>
            <p:spPr>
              <a:xfrm>
                <a:off x="7046280" y="5769000"/>
                <a:ext cx="432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26" name="Picture 2" descr="C:\Users\Надежда\Desktop\КАРТИНКИ\рисунок Стрелка влево\102.gif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01040" y="628668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1027" name="Прямоугольник 41"/>
          <p:cNvSpPr/>
          <p:nvPr/>
        </p:nvSpPr>
        <p:spPr>
          <a:xfrm>
            <a:off x="714240" y="1063800"/>
            <a:ext cx="6858000" cy="4284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Прямоугольник 42"/>
          <p:cNvSpPr/>
          <p:nvPr/>
        </p:nvSpPr>
        <p:spPr>
          <a:xfrm>
            <a:off x="714240" y="555480"/>
            <a:ext cx="7286760" cy="5000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Прямоугольник 47"/>
          <p:cNvSpPr/>
          <p:nvPr/>
        </p:nvSpPr>
        <p:spPr>
          <a:xfrm>
            <a:off x="714240" y="71280"/>
            <a:ext cx="7786800" cy="5004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Скругленный прямоугольник 43"/>
          <p:cNvSpPr/>
          <p:nvPr/>
        </p:nvSpPr>
        <p:spPr>
          <a:xfrm>
            <a:off x="3532320" y="2428920"/>
            <a:ext cx="20714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Управляющая кнопка: сведения 44"/>
          <p:cNvSpPr/>
          <p:nvPr/>
        </p:nvSpPr>
        <p:spPr>
          <a:xfrm>
            <a:off x="8429760" y="4143240"/>
            <a:ext cx="642960" cy="85752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857520"/>
              <a:gd name="textAreaBottom" fmla="*/ 816120 h 857520"/>
            </a:gdLst>
            <a:ahLst/>
            <a:rect l="textAreaLeft" t="textAreaTop" r="textAreaRight" b="textAreaBottom"/>
            <a:pathLst>
              <a:path w="21600" h="28804">
                <a:moveTo>
                  <a:pt x="0" y="0"/>
                </a:moveTo>
                <a:lnTo>
                  <a:pt x="21600" y="0"/>
                </a:lnTo>
                <a:lnTo>
                  <a:pt x="21600" y="28804"/>
                </a:lnTo>
                <a:lnTo>
                  <a:pt x="0" y="28804"/>
                </a:lnTo>
                <a:close/>
              </a:path>
              <a:path fill="lightenLess" w="21600" h="28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4">
                <a:moveTo>
                  <a:pt x="21600" y="0"/>
                </a:moveTo>
                <a:lnTo>
                  <a:pt x="21600" y="28804"/>
                </a:lnTo>
                <a:lnTo>
                  <a:pt x="20200" y="27404"/>
                </a:lnTo>
                <a:lnTo>
                  <a:pt x="20200" y="1400"/>
                </a:lnTo>
                <a:close/>
              </a:path>
              <a:path fill="darkenLess" w="21600" h="28804">
                <a:moveTo>
                  <a:pt x="21600" y="28804"/>
                </a:moveTo>
                <a:lnTo>
                  <a:pt x="0" y="28804"/>
                </a:lnTo>
                <a:lnTo>
                  <a:pt x="1400" y="27404"/>
                </a:lnTo>
                <a:lnTo>
                  <a:pt x="20200" y="27404"/>
                </a:lnTo>
                <a:close/>
              </a:path>
              <a:path fill="lighten" w="21600" h="28804">
                <a:moveTo>
                  <a:pt x="0" y="28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4"/>
                </a:lnTo>
                <a:close/>
              </a:path>
              <a:path fill="darken" w="21600" h="28804">
                <a:moveTo>
                  <a:pt x="10800" y="7396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8804">
                <a:moveTo>
                  <a:pt x="10800" y="7770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8804">
                <a:moveTo>
                  <a:pt x="8224" y="11826"/>
                </a:moveTo>
                <a:lnTo>
                  <a:pt x="12088" y="11826"/>
                </a:lnTo>
                <a:lnTo>
                  <a:pt x="12088" y="18823"/>
                </a:lnTo>
                <a:lnTo>
                  <a:pt x="13376" y="18823"/>
                </a:lnTo>
                <a:lnTo>
                  <a:pt x="13376" y="19746"/>
                </a:lnTo>
                <a:lnTo>
                  <a:pt x="8224" y="19746"/>
                </a:lnTo>
                <a:lnTo>
                  <a:pt x="8224" y="18823"/>
                </a:lnTo>
                <a:lnTo>
                  <a:pt x="9512" y="18823"/>
                </a:lnTo>
                <a:lnTo>
                  <a:pt x="9512" y="12731"/>
                </a:lnTo>
                <a:lnTo>
                  <a:pt x="8224" y="12731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2" name="Группа 7"/>
          <p:cNvGrpSpPr/>
          <p:nvPr/>
        </p:nvGrpSpPr>
        <p:grpSpPr>
          <a:xfrm>
            <a:off x="500040" y="2143080"/>
            <a:ext cx="8215200" cy="1116000"/>
            <a:chOff x="500040" y="2143080"/>
            <a:chExt cx="8215200" cy="1116000"/>
          </a:xfrm>
        </p:grpSpPr>
        <p:sp>
          <p:nvSpPr>
            <p:cNvPr id="1033" name="Скругленный прямоугольник 5"/>
            <p:cNvSpPr/>
            <p:nvPr/>
          </p:nvSpPr>
          <p:spPr>
            <a:xfrm>
              <a:off x="500040" y="2143080"/>
              <a:ext cx="8215200" cy="111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Прямоугольник 6"/>
            <p:cNvSpPr/>
            <p:nvPr/>
          </p:nvSpPr>
          <p:spPr>
            <a:xfrm>
              <a:off x="571320" y="2186640"/>
              <a:ext cx="8143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усть х км – расстояние от города до поселка. Какое уравнение соответствует условию задачи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35" name="Прямая со стрелкой 11"/>
          <p:cNvCxnSpPr/>
          <p:nvPr/>
        </p:nvCxnSpPr>
        <p:spPr>
          <a:xfrm>
            <a:off x="1856160" y="2642760"/>
            <a:ext cx="2072520" cy="207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36" name="Прямая со стрелкой 14"/>
          <p:cNvCxnSpPr/>
          <p:nvPr/>
        </p:nvCxnSpPr>
        <p:spPr>
          <a:xfrm>
            <a:off x="1856160" y="2642760"/>
            <a:ext cx="2001240" cy="3072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37" name="Прямая со стрелкой 19"/>
          <p:cNvCxnSpPr/>
          <p:nvPr/>
        </p:nvCxnSpPr>
        <p:spPr>
          <a:xfrm flipH="1">
            <a:off x="5714640" y="571680"/>
            <a:ext cx="2215440" cy="4072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38" name="Прямая со стрелкой 24"/>
          <p:cNvCxnSpPr/>
          <p:nvPr/>
        </p:nvCxnSpPr>
        <p:spPr>
          <a:xfrm flipH="1">
            <a:off x="5643360" y="1356840"/>
            <a:ext cx="72000" cy="42872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39" name="Прямая со стрелкой 49"/>
          <p:cNvCxnSpPr/>
          <p:nvPr/>
        </p:nvCxnSpPr>
        <p:spPr>
          <a:xfrm>
            <a:off x="6786720" y="928800"/>
            <a:ext cx="2071800" cy="4286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40" name="Двойная стрелка влево/вверх 48"/>
          <p:cNvSpPr/>
          <p:nvPr/>
        </p:nvSpPr>
        <p:spPr>
          <a:xfrm rot="18969000">
            <a:off x="7974000" y="4824000"/>
            <a:ext cx="785880" cy="8571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7" dur="indefinite" restart="never" nodeType="tmRoot">
          <p:childTnLst>
            <p:seq>
              <p:cTn id="1328" restart="whenNotActive" nodeType="interactiveSeq" fill="hold">
                <p:stCondLst>
                  <p:cond evt="onClick">
                    <p:tgtEl>
                      <p:spTgt spid="1008"/>
                    </p:tgtEl>
                  </p:cond>
                </p:stCondLst>
                <p:childTnLst>
                  <p:par>
                    <p:cTn id="1329" fill="hold">
                      <p:stCondLst>
                        <p:cond evt="onClick">
                          <p:tgtEl>
                            <p:spTgt spid="1008"/>
                          </p:tgtEl>
                        </p:cond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evt="onClick">
                          <p:tgtEl>
                            <p:spTgt spid="1008"/>
                          </p:tgtEl>
                        </p:cond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evt="onClick">
                          <p:tgtEl>
                            <p:spTgt spid="1008"/>
                          </p:tgtEl>
                        </p:cond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evt="onClick">
                          <p:tgtEl>
                            <p:spTgt spid="1008"/>
                          </p:tgtEl>
                        </p:cond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7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0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evt="onClick">
                          <p:tgtEl>
                            <p:spTgt spid="1008"/>
                          </p:tgtEl>
                        </p:cond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evt="onClick">
                          <p:tgtEl>
                            <p:spTgt spid="1008"/>
                          </p:tgtEl>
                        </p:cond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evt="onClick">
                          <p:tgtEl>
                            <p:spTgt spid="1008"/>
                          </p:tgtEl>
                        </p:cond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9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evt="onClick">
                          <p:tgtEl>
                            <p:spTgt spid="1008"/>
                          </p:tgtEl>
                        </p:cond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evt="onClick">
                          <p:tgtEl>
                            <p:spTgt spid="1008"/>
                          </p:tgtEl>
                        </p:cond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4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evt="onClick">
                          <p:tgtEl>
                            <p:spTgt spid="1008"/>
                          </p:tgtEl>
                        </p:cond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2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evt="onClick">
                          <p:tgtEl>
                            <p:spTgt spid="1008"/>
                          </p:tgtEl>
                        </p:cond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evt="onClick">
                          <p:tgtEl>
                            <p:spTgt spid="1008"/>
                          </p:tgtEl>
                        </p:cond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6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evt="onClick">
                          <p:tgtEl>
                            <p:spTgt spid="1008"/>
                          </p:tgtEl>
                        </p:cond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1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evt="onClick">
                          <p:tgtEl>
                            <p:spTgt spid="1008"/>
                          </p:tgtEl>
                        </p:cond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evt="onClick">
                          <p:tgtEl>
                            <p:spTgt spid="1008"/>
                          </p:tgtEl>
                        </p:cond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evt="onClick">
                          <p:tgtEl>
                            <p:spTgt spid="1008"/>
                          </p:tgtEl>
                        </p:cond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4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fill="hold">
                            <p:stCondLst>
                              <p:cond delay="500"/>
                            </p:stCondLst>
                            <p:childTnLst>
                              <p:par>
                                <p:cTn id="143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1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3" restart="whenNotActive" nodeType="interactiveSeq" fill="hold">
                <p:stCondLst>
                  <p:cond evt="onClick">
                    <p:tgtEl>
                      <p:spTgt spid="1031"/>
                    </p:tgtEl>
                  </p:cond>
                </p:stCondLst>
                <p:childTnLst>
                  <p:par>
                    <p:cTn id="1434" fill="hold">
                      <p:stCondLst>
                        <p:cond evt="onClick">
                          <p:tgtEl>
                            <p:spTgt spid="1031"/>
                          </p:tgtEl>
                        </p:cond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8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evt="onClick">
                          <p:tgtEl>
                            <p:spTgt spid="1031"/>
                          </p:tgtEl>
                        </p:cond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1" name=""/>
          <p:cNvGraphicFramePr/>
          <p:nvPr/>
        </p:nvGraphicFramePr>
        <p:xfrm>
          <a:off x="1014480" y="34920"/>
          <a:ext cx="7129440" cy="2844720"/>
        </p:xfrm>
        <a:graphic>
          <a:graphicData uri="http://schemas.openxmlformats.org/drawingml/2006/table">
            <a:tbl>
              <a:tblPr/>
              <a:tblGrid>
                <a:gridCol w="1968480"/>
                <a:gridCol w="1928880"/>
                <a:gridCol w="1517400"/>
                <a:gridCol w="17146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ояние (км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км/ч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х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г проех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2" name="Скругленный прямоугольник 2"/>
          <p:cNvSpPr/>
          <p:nvPr/>
        </p:nvSpPr>
        <p:spPr>
          <a:xfrm>
            <a:off x="3340080" y="1074600"/>
            <a:ext cx="12668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Скругленный прямоугольник 3"/>
          <p:cNvSpPr/>
          <p:nvPr/>
        </p:nvSpPr>
        <p:spPr>
          <a:xfrm>
            <a:off x="3340080" y="2106720"/>
            <a:ext cx="12668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Скругленный прямоугольник 4"/>
          <p:cNvSpPr/>
          <p:nvPr/>
        </p:nvSpPr>
        <p:spPr>
          <a:xfrm>
            <a:off x="5051520" y="1106640"/>
            <a:ext cx="12668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Скругленный прямоугольник 5"/>
          <p:cNvSpPr/>
          <p:nvPr/>
        </p:nvSpPr>
        <p:spPr>
          <a:xfrm>
            <a:off x="5032440" y="2098800"/>
            <a:ext cx="12650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6" name="Группа 6"/>
          <p:cNvGrpSpPr/>
          <p:nvPr/>
        </p:nvGrpSpPr>
        <p:grpSpPr>
          <a:xfrm>
            <a:off x="6675480" y="942840"/>
            <a:ext cx="1214280" cy="857880"/>
            <a:chOff x="6675480" y="942840"/>
            <a:chExt cx="1214280" cy="857880"/>
          </a:xfrm>
        </p:grpSpPr>
        <p:sp>
          <p:nvSpPr>
            <p:cNvPr id="1047" name="Скругленный прямоугольник 7"/>
            <p:cNvSpPr/>
            <p:nvPr/>
          </p:nvSpPr>
          <p:spPr>
            <a:xfrm>
              <a:off x="6675480" y="942840"/>
              <a:ext cx="1214280" cy="857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8" name="Группа 13"/>
            <p:cNvGrpSpPr/>
            <p:nvPr/>
          </p:nvGrpSpPr>
          <p:grpSpPr>
            <a:xfrm>
              <a:off x="7038360" y="942840"/>
              <a:ext cx="436320" cy="857880"/>
              <a:chOff x="7038360" y="942840"/>
              <a:chExt cx="436320" cy="857880"/>
            </a:xfrm>
          </p:grpSpPr>
          <p:sp>
            <p:nvSpPr>
              <p:cNvPr id="1049" name="Rectangle 16"/>
              <p:cNvSpPr/>
              <p:nvPr/>
            </p:nvSpPr>
            <p:spPr>
              <a:xfrm>
                <a:off x="7207200" y="1373760"/>
                <a:ext cx="2674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21"/>
              <p:cNvSpPr/>
              <p:nvPr/>
            </p:nvSpPr>
            <p:spPr>
              <a:xfrm>
                <a:off x="7119360" y="942840"/>
                <a:ext cx="2462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Прямая соединительная линия 11"/>
              <p:cNvSpPr/>
              <p:nvPr/>
            </p:nvSpPr>
            <p:spPr>
              <a:xfrm>
                <a:off x="7038360" y="1374840"/>
                <a:ext cx="432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2" name="Группа 12"/>
          <p:cNvGrpSpPr/>
          <p:nvPr/>
        </p:nvGrpSpPr>
        <p:grpSpPr>
          <a:xfrm>
            <a:off x="6683400" y="1943280"/>
            <a:ext cx="1214280" cy="857880"/>
            <a:chOff x="6683400" y="1943280"/>
            <a:chExt cx="1214280" cy="857880"/>
          </a:xfrm>
        </p:grpSpPr>
        <p:sp>
          <p:nvSpPr>
            <p:cNvPr id="1053" name="Скругленный прямоугольник 13"/>
            <p:cNvSpPr/>
            <p:nvPr/>
          </p:nvSpPr>
          <p:spPr>
            <a:xfrm>
              <a:off x="6683400" y="1943280"/>
              <a:ext cx="1214280" cy="857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4" name="Группа 77"/>
            <p:cNvGrpSpPr/>
            <p:nvPr/>
          </p:nvGrpSpPr>
          <p:grpSpPr>
            <a:xfrm>
              <a:off x="7046280" y="1943280"/>
              <a:ext cx="436320" cy="857880"/>
              <a:chOff x="7046280" y="1943280"/>
              <a:chExt cx="436320" cy="857880"/>
            </a:xfrm>
          </p:grpSpPr>
          <p:sp>
            <p:nvSpPr>
              <p:cNvPr id="1055" name="Rectangle 16"/>
              <p:cNvSpPr/>
              <p:nvPr/>
            </p:nvSpPr>
            <p:spPr>
              <a:xfrm>
                <a:off x="7215120" y="2374200"/>
                <a:ext cx="2674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Rectangle 21"/>
              <p:cNvSpPr/>
              <p:nvPr/>
            </p:nvSpPr>
            <p:spPr>
              <a:xfrm>
                <a:off x="7127280" y="1943280"/>
                <a:ext cx="2462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Прямая соединительная линия 17"/>
              <p:cNvSpPr/>
              <p:nvPr/>
            </p:nvSpPr>
            <p:spPr>
              <a:xfrm>
                <a:off x="7046280" y="2374920"/>
                <a:ext cx="432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8" name="Группа 131"/>
          <p:cNvGrpSpPr/>
          <p:nvPr/>
        </p:nvGrpSpPr>
        <p:grpSpPr>
          <a:xfrm>
            <a:off x="1714680" y="3767040"/>
            <a:ext cx="3571560" cy="853560"/>
            <a:chOff x="1714680" y="3767040"/>
            <a:chExt cx="3571560" cy="853560"/>
          </a:xfrm>
        </p:grpSpPr>
        <p:sp>
          <p:nvSpPr>
            <p:cNvPr id="1059" name="Скругленный прямоугольник 20"/>
            <p:cNvSpPr/>
            <p:nvPr/>
          </p:nvSpPr>
          <p:spPr>
            <a:xfrm>
              <a:off x="1714680" y="3843000"/>
              <a:ext cx="3571560" cy="714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А.  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0" name="Группа 69"/>
            <p:cNvGrpSpPr/>
            <p:nvPr/>
          </p:nvGrpSpPr>
          <p:grpSpPr>
            <a:xfrm>
              <a:off x="2528640" y="3767040"/>
              <a:ext cx="2684880" cy="853560"/>
              <a:chOff x="2528640" y="3767040"/>
              <a:chExt cx="2684880" cy="853560"/>
            </a:xfrm>
          </p:grpSpPr>
          <p:grpSp>
            <p:nvGrpSpPr>
              <p:cNvPr id="1061" name="Группа 53"/>
              <p:cNvGrpSpPr/>
              <p:nvPr/>
            </p:nvGrpSpPr>
            <p:grpSpPr>
              <a:xfrm>
                <a:off x="2528640" y="3767040"/>
                <a:ext cx="2001240" cy="853560"/>
                <a:chOff x="2528640" y="3767040"/>
                <a:chExt cx="2001240" cy="853560"/>
              </a:xfrm>
            </p:grpSpPr>
            <p:sp>
              <p:nvSpPr>
                <p:cNvPr id="1062" name="Rectangle 19"/>
                <p:cNvSpPr/>
                <p:nvPr/>
              </p:nvSpPr>
              <p:spPr>
                <a:xfrm>
                  <a:off x="4247280" y="3953520"/>
                  <a:ext cx="282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63" name="Группа 110"/>
                <p:cNvGrpSpPr/>
                <p:nvPr/>
              </p:nvGrpSpPr>
              <p:grpSpPr>
                <a:xfrm>
                  <a:off x="2528640" y="3767040"/>
                  <a:ext cx="432000" cy="840600"/>
                  <a:chOff x="2528640" y="3767040"/>
                  <a:chExt cx="432000" cy="840600"/>
                </a:xfrm>
              </p:grpSpPr>
              <p:sp>
                <p:nvSpPr>
                  <p:cNvPr id="1064" name="Rectangle 16"/>
                  <p:cNvSpPr/>
                  <p:nvPr/>
                </p:nvSpPr>
                <p:spPr>
                  <a:xfrm>
                    <a:off x="2676240" y="418068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Прямая соединительная линия 32"/>
                  <p:cNvSpPr/>
                  <p:nvPr/>
                </p:nvSpPr>
                <p:spPr>
                  <a:xfrm>
                    <a:off x="2528640" y="4199040"/>
                    <a:ext cx="4320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Rectangle 21"/>
                  <p:cNvSpPr/>
                  <p:nvPr/>
                </p:nvSpPr>
                <p:spPr>
                  <a:xfrm>
                    <a:off x="2609640" y="3767040"/>
                    <a:ext cx="24624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67" name="Rectangle 18"/>
                <p:cNvSpPr/>
                <p:nvPr/>
              </p:nvSpPr>
              <p:spPr>
                <a:xfrm>
                  <a:off x="3089160" y="395856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–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68" name="Группа 112"/>
                <p:cNvGrpSpPr/>
                <p:nvPr/>
              </p:nvGrpSpPr>
              <p:grpSpPr>
                <a:xfrm>
                  <a:off x="3568680" y="3771360"/>
                  <a:ext cx="432000" cy="849240"/>
                  <a:chOff x="3568680" y="3771360"/>
                  <a:chExt cx="432000" cy="849240"/>
                </a:xfrm>
              </p:grpSpPr>
              <p:sp>
                <p:nvSpPr>
                  <p:cNvPr id="1069" name="Rectangle 14"/>
                  <p:cNvSpPr/>
                  <p:nvPr/>
                </p:nvSpPr>
                <p:spPr>
                  <a:xfrm>
                    <a:off x="3718440" y="419364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Прямая соединительная линия 29"/>
                  <p:cNvSpPr/>
                  <p:nvPr/>
                </p:nvSpPr>
                <p:spPr>
                  <a:xfrm>
                    <a:off x="3568680" y="4199040"/>
                    <a:ext cx="4320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" name="Rectangle 13"/>
                  <p:cNvSpPr/>
                  <p:nvPr/>
                </p:nvSpPr>
                <p:spPr>
                  <a:xfrm>
                    <a:off x="3699360" y="3771360"/>
                    <a:ext cx="1576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72" name="Rectangle 16"/>
              <p:cNvSpPr/>
              <p:nvPr/>
            </p:nvSpPr>
            <p:spPr>
              <a:xfrm>
                <a:off x="4767480" y="398808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5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73" name="Скругленный прямоугольник 34"/>
          <p:cNvSpPr/>
          <p:nvPr/>
        </p:nvSpPr>
        <p:spPr>
          <a:xfrm>
            <a:off x="5572080" y="3848040"/>
            <a:ext cx="205596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4" name="Группа 131"/>
          <p:cNvGrpSpPr/>
          <p:nvPr/>
        </p:nvGrpSpPr>
        <p:grpSpPr>
          <a:xfrm>
            <a:off x="1714680" y="4530600"/>
            <a:ext cx="3571560" cy="830880"/>
            <a:chOff x="1714680" y="4530600"/>
            <a:chExt cx="3571560" cy="830880"/>
          </a:xfrm>
        </p:grpSpPr>
        <p:sp>
          <p:nvSpPr>
            <p:cNvPr id="1075" name="Скругленный прямоугольник 36"/>
            <p:cNvSpPr/>
            <p:nvPr/>
          </p:nvSpPr>
          <p:spPr>
            <a:xfrm>
              <a:off x="1714680" y="4606560"/>
              <a:ext cx="3571560" cy="714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Б.  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6" name="Группа 69"/>
            <p:cNvGrpSpPr/>
            <p:nvPr/>
          </p:nvGrpSpPr>
          <p:grpSpPr>
            <a:xfrm>
              <a:off x="2528640" y="4530600"/>
              <a:ext cx="2684880" cy="830880"/>
              <a:chOff x="2528640" y="4530600"/>
              <a:chExt cx="2684880" cy="830880"/>
            </a:xfrm>
          </p:grpSpPr>
          <p:grpSp>
            <p:nvGrpSpPr>
              <p:cNvPr id="1077" name="Группа 53"/>
              <p:cNvGrpSpPr/>
              <p:nvPr/>
            </p:nvGrpSpPr>
            <p:grpSpPr>
              <a:xfrm>
                <a:off x="2528640" y="4530600"/>
                <a:ext cx="2001240" cy="830880"/>
                <a:chOff x="2528640" y="4530600"/>
                <a:chExt cx="2001240" cy="830880"/>
              </a:xfrm>
            </p:grpSpPr>
            <p:sp>
              <p:nvSpPr>
                <p:cNvPr id="1078" name="Rectangle 19"/>
                <p:cNvSpPr/>
                <p:nvPr/>
              </p:nvSpPr>
              <p:spPr>
                <a:xfrm>
                  <a:off x="4247280" y="4717440"/>
                  <a:ext cx="282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79" name="Группа 110"/>
                <p:cNvGrpSpPr/>
                <p:nvPr/>
              </p:nvGrpSpPr>
              <p:grpSpPr>
                <a:xfrm>
                  <a:off x="2528640" y="4530600"/>
                  <a:ext cx="432000" cy="826560"/>
                  <a:chOff x="2528640" y="4530600"/>
                  <a:chExt cx="432000" cy="826560"/>
                </a:xfrm>
              </p:grpSpPr>
              <p:sp>
                <p:nvSpPr>
                  <p:cNvPr id="1080" name="Rectangle 16"/>
                  <p:cNvSpPr/>
                  <p:nvPr/>
                </p:nvSpPr>
                <p:spPr>
                  <a:xfrm>
                    <a:off x="2674800" y="493020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3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Прямая соединительная линия 48"/>
                  <p:cNvSpPr/>
                  <p:nvPr/>
                </p:nvSpPr>
                <p:spPr>
                  <a:xfrm>
                    <a:off x="2528640" y="4962600"/>
                    <a:ext cx="4320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Rectangle 21"/>
                  <p:cNvSpPr/>
                  <p:nvPr/>
                </p:nvSpPr>
                <p:spPr>
                  <a:xfrm>
                    <a:off x="2609640" y="4530600"/>
                    <a:ext cx="24624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3" name="Rectangle 18"/>
                <p:cNvSpPr/>
                <p:nvPr/>
              </p:nvSpPr>
              <p:spPr>
                <a:xfrm>
                  <a:off x="3089160" y="472212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–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84" name="Группа 112"/>
                <p:cNvGrpSpPr/>
                <p:nvPr/>
              </p:nvGrpSpPr>
              <p:grpSpPr>
                <a:xfrm>
                  <a:off x="3568680" y="4534920"/>
                  <a:ext cx="432000" cy="826560"/>
                  <a:chOff x="3568680" y="4534920"/>
                  <a:chExt cx="432000" cy="826560"/>
                </a:xfrm>
              </p:grpSpPr>
              <p:sp>
                <p:nvSpPr>
                  <p:cNvPr id="1085" name="Rectangle 14"/>
                  <p:cNvSpPr/>
                  <p:nvPr/>
                </p:nvSpPr>
                <p:spPr>
                  <a:xfrm>
                    <a:off x="3718440" y="493452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Прямая соединительная линия 45"/>
                  <p:cNvSpPr/>
                  <p:nvPr/>
                </p:nvSpPr>
                <p:spPr>
                  <a:xfrm>
                    <a:off x="3568680" y="4962240"/>
                    <a:ext cx="4320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Rectangle 13"/>
                  <p:cNvSpPr/>
                  <p:nvPr/>
                </p:nvSpPr>
                <p:spPr>
                  <a:xfrm>
                    <a:off x="3699360" y="4534920"/>
                    <a:ext cx="1576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88" name="Rectangle 16"/>
              <p:cNvSpPr/>
              <p:nvPr/>
            </p:nvSpPr>
            <p:spPr>
              <a:xfrm>
                <a:off x="4767480" y="475164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5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9" name="Группа 131"/>
          <p:cNvGrpSpPr/>
          <p:nvPr/>
        </p:nvGrpSpPr>
        <p:grpSpPr>
          <a:xfrm>
            <a:off x="1714680" y="5316480"/>
            <a:ext cx="3571560" cy="768600"/>
            <a:chOff x="1714680" y="5316480"/>
            <a:chExt cx="3571560" cy="768600"/>
          </a:xfrm>
        </p:grpSpPr>
        <p:sp>
          <p:nvSpPr>
            <p:cNvPr id="1090" name="Скругленный прямоугольник 52"/>
            <p:cNvSpPr/>
            <p:nvPr/>
          </p:nvSpPr>
          <p:spPr>
            <a:xfrm>
              <a:off x="1714680" y="5360760"/>
              <a:ext cx="3571560" cy="716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В.  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1" name="Группа 69"/>
            <p:cNvGrpSpPr/>
            <p:nvPr/>
          </p:nvGrpSpPr>
          <p:grpSpPr>
            <a:xfrm>
              <a:off x="2528640" y="5316480"/>
              <a:ext cx="2684880" cy="768600"/>
              <a:chOff x="2528640" y="5316480"/>
              <a:chExt cx="2684880" cy="768600"/>
            </a:xfrm>
          </p:grpSpPr>
          <p:grpSp>
            <p:nvGrpSpPr>
              <p:cNvPr id="1092" name="Группа 53"/>
              <p:cNvGrpSpPr/>
              <p:nvPr/>
            </p:nvGrpSpPr>
            <p:grpSpPr>
              <a:xfrm>
                <a:off x="2528640" y="5316480"/>
                <a:ext cx="2001240" cy="768600"/>
                <a:chOff x="2528640" y="5316480"/>
                <a:chExt cx="2001240" cy="768600"/>
              </a:xfrm>
            </p:grpSpPr>
            <p:sp>
              <p:nvSpPr>
                <p:cNvPr id="1093" name="Rectangle 19"/>
                <p:cNvSpPr/>
                <p:nvPr/>
              </p:nvSpPr>
              <p:spPr>
                <a:xfrm>
                  <a:off x="4247280" y="5471640"/>
                  <a:ext cx="282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94" name="Группа 110"/>
                <p:cNvGrpSpPr/>
                <p:nvPr/>
              </p:nvGrpSpPr>
              <p:grpSpPr>
                <a:xfrm>
                  <a:off x="2528640" y="5316480"/>
                  <a:ext cx="432000" cy="753120"/>
                  <a:chOff x="2528640" y="5316480"/>
                  <a:chExt cx="432000" cy="753120"/>
                </a:xfrm>
              </p:grpSpPr>
              <p:sp>
                <p:nvSpPr>
                  <p:cNvPr id="1095" name="Rectangle 16"/>
                  <p:cNvSpPr/>
                  <p:nvPr/>
                </p:nvSpPr>
                <p:spPr>
                  <a:xfrm>
                    <a:off x="2674800" y="5642640"/>
                    <a:ext cx="1576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" name="Прямая соединительная линия 64"/>
                  <p:cNvSpPr/>
                  <p:nvPr/>
                </p:nvSpPr>
                <p:spPr>
                  <a:xfrm>
                    <a:off x="2528640" y="5716800"/>
                    <a:ext cx="4320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" name="Rectangle 21"/>
                  <p:cNvSpPr/>
                  <p:nvPr/>
                </p:nvSpPr>
                <p:spPr>
                  <a:xfrm>
                    <a:off x="2578320" y="5316480"/>
                    <a:ext cx="2674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Rectangle 18"/>
                <p:cNvSpPr/>
                <p:nvPr/>
              </p:nvSpPr>
              <p:spPr>
                <a:xfrm>
                  <a:off x="3089160" y="547668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–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99" name="Группа 112"/>
                <p:cNvGrpSpPr/>
                <p:nvPr/>
              </p:nvGrpSpPr>
              <p:grpSpPr>
                <a:xfrm>
                  <a:off x="3568680" y="5320800"/>
                  <a:ext cx="432000" cy="764280"/>
                  <a:chOff x="3568680" y="5320800"/>
                  <a:chExt cx="432000" cy="764280"/>
                </a:xfrm>
              </p:grpSpPr>
              <p:sp>
                <p:nvSpPr>
                  <p:cNvPr id="1100" name="Rectangle 14"/>
                  <p:cNvSpPr/>
                  <p:nvPr/>
                </p:nvSpPr>
                <p:spPr>
                  <a:xfrm>
                    <a:off x="3718440" y="5658120"/>
                    <a:ext cx="1576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1" name="Прямая соединительная линия 61"/>
                  <p:cNvSpPr/>
                  <p:nvPr/>
                </p:nvSpPr>
                <p:spPr>
                  <a:xfrm>
                    <a:off x="3568680" y="5716440"/>
                    <a:ext cx="4320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" name="Rectangle 13"/>
                  <p:cNvSpPr/>
                  <p:nvPr/>
                </p:nvSpPr>
                <p:spPr>
                  <a:xfrm>
                    <a:off x="3699360" y="532080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03" name="Rectangle 16"/>
              <p:cNvSpPr/>
              <p:nvPr/>
            </p:nvSpPr>
            <p:spPr>
              <a:xfrm>
                <a:off x="4767480" y="550620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5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4" name="Скругленный прямоугольник 66"/>
          <p:cNvSpPr/>
          <p:nvPr/>
        </p:nvSpPr>
        <p:spPr>
          <a:xfrm>
            <a:off x="5587920" y="4611600"/>
            <a:ext cx="205596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Скругленный прямоугольник 67"/>
          <p:cNvSpPr/>
          <p:nvPr/>
        </p:nvSpPr>
        <p:spPr>
          <a:xfrm>
            <a:off x="5587920" y="5362560"/>
            <a:ext cx="205596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6" name="Группа 131"/>
          <p:cNvGrpSpPr/>
          <p:nvPr/>
        </p:nvGrpSpPr>
        <p:grpSpPr>
          <a:xfrm>
            <a:off x="1714680" y="6070680"/>
            <a:ext cx="3571560" cy="767880"/>
            <a:chOff x="1714680" y="6070680"/>
            <a:chExt cx="3571560" cy="767880"/>
          </a:xfrm>
        </p:grpSpPr>
        <p:sp>
          <p:nvSpPr>
            <p:cNvPr id="1107" name="Скругленный прямоугольник 69"/>
            <p:cNvSpPr/>
            <p:nvPr/>
          </p:nvSpPr>
          <p:spPr>
            <a:xfrm>
              <a:off x="1714680" y="6114960"/>
              <a:ext cx="3571560" cy="714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В.  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8" name="Группа 69"/>
            <p:cNvGrpSpPr/>
            <p:nvPr/>
          </p:nvGrpSpPr>
          <p:grpSpPr>
            <a:xfrm>
              <a:off x="2528640" y="6070680"/>
              <a:ext cx="2684880" cy="767880"/>
              <a:chOff x="2528640" y="6070680"/>
              <a:chExt cx="2684880" cy="767880"/>
            </a:xfrm>
          </p:grpSpPr>
          <p:grpSp>
            <p:nvGrpSpPr>
              <p:cNvPr id="1109" name="Группа 53"/>
              <p:cNvGrpSpPr/>
              <p:nvPr/>
            </p:nvGrpSpPr>
            <p:grpSpPr>
              <a:xfrm>
                <a:off x="2528640" y="6070680"/>
                <a:ext cx="2001240" cy="767880"/>
                <a:chOff x="2528640" y="6070680"/>
                <a:chExt cx="2001240" cy="767880"/>
              </a:xfrm>
            </p:grpSpPr>
            <p:sp>
              <p:nvSpPr>
                <p:cNvPr id="1110" name="Rectangle 19"/>
                <p:cNvSpPr/>
                <p:nvPr/>
              </p:nvSpPr>
              <p:spPr>
                <a:xfrm>
                  <a:off x="4247280" y="6225480"/>
                  <a:ext cx="282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11" name="Группа 110"/>
                <p:cNvGrpSpPr/>
                <p:nvPr/>
              </p:nvGrpSpPr>
              <p:grpSpPr>
                <a:xfrm>
                  <a:off x="2528640" y="6070680"/>
                  <a:ext cx="432000" cy="752400"/>
                  <a:chOff x="2528640" y="6070680"/>
                  <a:chExt cx="432000" cy="752400"/>
                </a:xfrm>
              </p:grpSpPr>
              <p:sp>
                <p:nvSpPr>
                  <p:cNvPr id="1112" name="Rectangle 16"/>
                  <p:cNvSpPr/>
                  <p:nvPr/>
                </p:nvSpPr>
                <p:spPr>
                  <a:xfrm>
                    <a:off x="2674800" y="6396120"/>
                    <a:ext cx="1576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3" name="Прямая соединительная линия 81"/>
                  <p:cNvSpPr/>
                  <p:nvPr/>
                </p:nvSpPr>
                <p:spPr>
                  <a:xfrm>
                    <a:off x="2528640" y="6471000"/>
                    <a:ext cx="4320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4" name="Rectangle 21"/>
                  <p:cNvSpPr/>
                  <p:nvPr/>
                </p:nvSpPr>
                <p:spPr>
                  <a:xfrm>
                    <a:off x="2578320" y="6070680"/>
                    <a:ext cx="2674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3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15" name="Rectangle 18"/>
                <p:cNvSpPr/>
                <p:nvPr/>
              </p:nvSpPr>
              <p:spPr>
                <a:xfrm>
                  <a:off x="3089160" y="623052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–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16" name="Группа 112"/>
                <p:cNvGrpSpPr/>
                <p:nvPr/>
              </p:nvGrpSpPr>
              <p:grpSpPr>
                <a:xfrm>
                  <a:off x="3568680" y="6075000"/>
                  <a:ext cx="432000" cy="763560"/>
                  <a:chOff x="3568680" y="6075000"/>
                  <a:chExt cx="432000" cy="763560"/>
                </a:xfrm>
              </p:grpSpPr>
              <p:sp>
                <p:nvSpPr>
                  <p:cNvPr id="1117" name="Rectangle 14"/>
                  <p:cNvSpPr/>
                  <p:nvPr/>
                </p:nvSpPr>
                <p:spPr>
                  <a:xfrm>
                    <a:off x="3718440" y="6411600"/>
                    <a:ext cx="1576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" name="Прямая соединительная линия 78"/>
                  <p:cNvSpPr/>
                  <p:nvPr/>
                </p:nvSpPr>
                <p:spPr>
                  <a:xfrm>
                    <a:off x="3568680" y="6470640"/>
                    <a:ext cx="4320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Rectangle 13"/>
                  <p:cNvSpPr/>
                  <p:nvPr/>
                </p:nvSpPr>
                <p:spPr>
                  <a:xfrm>
                    <a:off x="3699360" y="607500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20" name="Rectangle 16"/>
              <p:cNvSpPr/>
              <p:nvPr/>
            </p:nvSpPr>
            <p:spPr>
              <a:xfrm>
                <a:off x="4767480" y="626004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5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1" name="Скругленный прямоугольник 83"/>
          <p:cNvSpPr/>
          <p:nvPr/>
        </p:nvSpPr>
        <p:spPr>
          <a:xfrm>
            <a:off x="5572080" y="6127920"/>
            <a:ext cx="205596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2" name="Группа 100"/>
          <p:cNvGrpSpPr/>
          <p:nvPr/>
        </p:nvGrpSpPr>
        <p:grpSpPr>
          <a:xfrm>
            <a:off x="5587920" y="4587840"/>
            <a:ext cx="2055960" cy="738360"/>
            <a:chOff x="5587920" y="4587840"/>
            <a:chExt cx="2055960" cy="738360"/>
          </a:xfrm>
        </p:grpSpPr>
        <p:sp>
          <p:nvSpPr>
            <p:cNvPr id="1123" name="Скругленный прямоугольник 86"/>
            <p:cNvSpPr/>
            <p:nvPr/>
          </p:nvSpPr>
          <p:spPr>
            <a:xfrm>
              <a:off x="5587920" y="4611600"/>
              <a:ext cx="2055960" cy="714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4" name="Группа 90"/>
            <p:cNvGrpSpPr/>
            <p:nvPr/>
          </p:nvGrpSpPr>
          <p:grpSpPr>
            <a:xfrm>
              <a:off x="5992560" y="4587840"/>
              <a:ext cx="1185840" cy="722520"/>
              <a:chOff x="5992560" y="4587840"/>
              <a:chExt cx="1185840" cy="722520"/>
            </a:xfrm>
          </p:grpSpPr>
          <p:sp>
            <p:nvSpPr>
              <p:cNvPr id="1125" name="Rectangle 79"/>
              <p:cNvSpPr/>
              <p:nvPr/>
            </p:nvSpPr>
            <p:spPr>
              <a:xfrm>
                <a:off x="7019280" y="492912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Rectangle 81"/>
              <p:cNvSpPr/>
              <p:nvPr/>
            </p:nvSpPr>
            <p:spPr>
              <a:xfrm>
                <a:off x="6195240" y="492912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Rectangle 85"/>
              <p:cNvSpPr/>
              <p:nvPr/>
            </p:nvSpPr>
            <p:spPr>
              <a:xfrm>
                <a:off x="6778440" y="4587840"/>
                <a:ext cx="24912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v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Rectangle 87"/>
              <p:cNvSpPr/>
              <p:nvPr/>
            </p:nvSpPr>
            <p:spPr>
              <a:xfrm>
                <a:off x="5992560" y="4587840"/>
                <a:ext cx="24912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v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93"/>
              <p:cNvSpPr/>
              <p:nvPr/>
            </p:nvSpPr>
            <p:spPr>
              <a:xfrm>
                <a:off x="6388560" y="4595760"/>
                <a:ext cx="32688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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0" name="Группа 110"/>
          <p:cNvGrpSpPr/>
          <p:nvPr/>
        </p:nvGrpSpPr>
        <p:grpSpPr>
          <a:xfrm>
            <a:off x="5572080" y="6054840"/>
            <a:ext cx="2055960" cy="771480"/>
            <a:chOff x="5572080" y="6054840"/>
            <a:chExt cx="2055960" cy="771480"/>
          </a:xfrm>
        </p:grpSpPr>
        <p:grpSp>
          <p:nvGrpSpPr>
            <p:cNvPr id="1131" name="Группа 101"/>
            <p:cNvGrpSpPr/>
            <p:nvPr/>
          </p:nvGrpSpPr>
          <p:grpSpPr>
            <a:xfrm>
              <a:off x="5572080" y="6054840"/>
              <a:ext cx="2055960" cy="771480"/>
              <a:chOff x="5572080" y="6054840"/>
              <a:chExt cx="2055960" cy="771480"/>
            </a:xfrm>
          </p:grpSpPr>
          <p:sp>
            <p:nvSpPr>
              <p:cNvPr id="1132" name="Скругленный прямоугольник 93"/>
              <p:cNvSpPr/>
              <p:nvPr/>
            </p:nvSpPr>
            <p:spPr>
              <a:xfrm>
                <a:off x="5572080" y="6111720"/>
                <a:ext cx="2055960" cy="7146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Группа 94"/>
              <p:cNvGrpSpPr/>
              <p:nvPr/>
            </p:nvGrpSpPr>
            <p:grpSpPr>
              <a:xfrm>
                <a:off x="6145560" y="6054840"/>
                <a:ext cx="654480" cy="712080"/>
                <a:chOff x="6145560" y="6054840"/>
                <a:chExt cx="654480" cy="712080"/>
              </a:xfrm>
            </p:grpSpPr>
            <p:sp>
              <p:nvSpPr>
                <p:cNvPr id="1134" name="Rectangle 87"/>
                <p:cNvSpPr/>
                <p:nvPr/>
              </p:nvSpPr>
              <p:spPr>
                <a:xfrm>
                  <a:off x="6145560" y="6096240"/>
                  <a:ext cx="65448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t</a:t>
                  </a:r>
                  <a:r>
                    <a:rPr b="0" i="1" lang="ru-RU" sz="4400" spc="-1" strike="noStrike">
                      <a:solidFill>
                        <a:srgbClr val="ff0000"/>
                      </a:solidFill>
                      <a:latin typeface="Times New Roman"/>
                    </a:rPr>
                    <a:t>  </a:t>
                  </a: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s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Rectangle 93"/>
                <p:cNvSpPr/>
                <p:nvPr/>
              </p:nvSpPr>
              <p:spPr>
                <a:xfrm>
                  <a:off x="6360840" y="6054840"/>
                  <a:ext cx="150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Calibri"/>
                    </a:rPr>
                    <a:t>: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6" name="Группа 107"/>
            <p:cNvGrpSpPr/>
            <p:nvPr/>
          </p:nvGrpSpPr>
          <p:grpSpPr>
            <a:xfrm>
              <a:off x="5876640" y="6208560"/>
              <a:ext cx="1045440" cy="477360"/>
              <a:chOff x="5876640" y="6208560"/>
              <a:chExt cx="1045440" cy="477360"/>
            </a:xfrm>
          </p:grpSpPr>
          <p:sp>
            <p:nvSpPr>
              <p:cNvPr id="1137" name="Прямая соединительная линия 108"/>
              <p:cNvSpPr/>
              <p:nvPr/>
            </p:nvSpPr>
            <p:spPr>
              <a:xfrm>
                <a:off x="5876640" y="6208560"/>
                <a:ext cx="1045440" cy="453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Прямая соединительная линия 109"/>
              <p:cNvSpPr/>
              <p:nvPr/>
            </p:nvSpPr>
            <p:spPr>
              <a:xfrm flipH="1">
                <a:off x="5879880" y="6212880"/>
                <a:ext cx="1036080" cy="473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9" name="Группа 111"/>
          <p:cNvGrpSpPr/>
          <p:nvPr/>
        </p:nvGrpSpPr>
        <p:grpSpPr>
          <a:xfrm>
            <a:off x="5591160" y="5305320"/>
            <a:ext cx="2055960" cy="771480"/>
            <a:chOff x="5591160" y="5305320"/>
            <a:chExt cx="2055960" cy="771480"/>
          </a:xfrm>
        </p:grpSpPr>
        <p:grpSp>
          <p:nvGrpSpPr>
            <p:cNvPr id="1140" name="Группа 102"/>
            <p:cNvGrpSpPr/>
            <p:nvPr/>
          </p:nvGrpSpPr>
          <p:grpSpPr>
            <a:xfrm>
              <a:off x="5591160" y="5305320"/>
              <a:ext cx="2055960" cy="771480"/>
              <a:chOff x="5591160" y="5305320"/>
              <a:chExt cx="2055960" cy="771480"/>
            </a:xfrm>
          </p:grpSpPr>
          <p:sp>
            <p:nvSpPr>
              <p:cNvPr id="1141" name="Скругленный прямоугольник 103"/>
              <p:cNvSpPr/>
              <p:nvPr/>
            </p:nvSpPr>
            <p:spPr>
              <a:xfrm>
                <a:off x="5591160" y="5362200"/>
                <a:ext cx="2055960" cy="7146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2" name="Группа 104"/>
              <p:cNvGrpSpPr/>
              <p:nvPr/>
            </p:nvGrpSpPr>
            <p:grpSpPr>
              <a:xfrm>
                <a:off x="6164640" y="5305320"/>
                <a:ext cx="654480" cy="712080"/>
                <a:chOff x="6164640" y="5305320"/>
                <a:chExt cx="654480" cy="712080"/>
              </a:xfrm>
            </p:grpSpPr>
            <p:sp>
              <p:nvSpPr>
                <p:cNvPr id="1143" name="Rectangle 87"/>
                <p:cNvSpPr/>
                <p:nvPr/>
              </p:nvSpPr>
              <p:spPr>
                <a:xfrm>
                  <a:off x="6164640" y="5346720"/>
                  <a:ext cx="65448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t</a:t>
                  </a:r>
                  <a:r>
                    <a:rPr b="0" i="1" lang="ru-RU" sz="4400" spc="-1" strike="noStrike">
                      <a:solidFill>
                        <a:srgbClr val="ff0000"/>
                      </a:solidFill>
                      <a:latin typeface="Times New Roman"/>
                    </a:rPr>
                    <a:t>  </a:t>
                  </a: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s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Rectangle 93"/>
                <p:cNvSpPr/>
                <p:nvPr/>
              </p:nvSpPr>
              <p:spPr>
                <a:xfrm>
                  <a:off x="6379920" y="5305320"/>
                  <a:ext cx="150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Calibri"/>
                    </a:rPr>
                    <a:t>: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5" name="Группа 97"/>
            <p:cNvGrpSpPr/>
            <p:nvPr/>
          </p:nvGrpSpPr>
          <p:grpSpPr>
            <a:xfrm>
              <a:off x="5951880" y="5473080"/>
              <a:ext cx="1045440" cy="477360"/>
              <a:chOff x="5951880" y="5473080"/>
              <a:chExt cx="1045440" cy="477360"/>
            </a:xfrm>
          </p:grpSpPr>
          <p:sp>
            <p:nvSpPr>
              <p:cNvPr id="1146" name="Прямая соединительная линия 98"/>
              <p:cNvSpPr/>
              <p:nvPr/>
            </p:nvSpPr>
            <p:spPr>
              <a:xfrm>
                <a:off x="5951880" y="5473080"/>
                <a:ext cx="1045440" cy="453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Прямая соединительная линия 99"/>
              <p:cNvSpPr/>
              <p:nvPr/>
            </p:nvSpPr>
            <p:spPr>
              <a:xfrm flipH="1">
                <a:off x="5955120" y="5477400"/>
                <a:ext cx="1036080" cy="473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48" name="Скругленный прямоугольник 113"/>
          <p:cNvSpPr/>
          <p:nvPr/>
        </p:nvSpPr>
        <p:spPr>
          <a:xfrm>
            <a:off x="785880" y="2944800"/>
            <a:ext cx="757224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мени на путь затрачено больше, значит скорость движения меньш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Скругленный прямоугольник 18"/>
          <p:cNvSpPr/>
          <p:nvPr/>
        </p:nvSpPr>
        <p:spPr>
          <a:xfrm>
            <a:off x="785880" y="2928960"/>
            <a:ext cx="757224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величится скорость автомоби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25 км/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0" name="Группа 114"/>
          <p:cNvGrpSpPr/>
          <p:nvPr/>
        </p:nvGrpSpPr>
        <p:grpSpPr>
          <a:xfrm>
            <a:off x="7829640" y="5357880"/>
            <a:ext cx="1243080" cy="1285920"/>
            <a:chOff x="7829640" y="5357880"/>
            <a:chExt cx="1243080" cy="1285920"/>
          </a:xfrm>
        </p:grpSpPr>
        <p:pic>
          <p:nvPicPr>
            <p:cNvPr id="1151" name="Picture 3" descr="C:\Users\Надежда\Videos\Downloads\Pictures\Организатор клипов (Microsoft)\j0441443.png"/>
            <p:cNvPicPr/>
            <p:nvPr/>
          </p:nvPicPr>
          <p:blipFill>
            <a:blip r:embed="rId1"/>
            <a:stretch/>
          </p:blipFill>
          <p:spPr>
            <a:xfrm>
              <a:off x="8072640" y="5357880"/>
              <a:ext cx="79200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Скругленный прямоугольник 116">
              <a:hlinkClick r:id="" action="ppaction://hlinkshowjump?jump=endshow"/>
            </p:cNvPr>
            <p:cNvSpPr/>
            <p:nvPr/>
          </p:nvSpPr>
          <p:spPr>
            <a:xfrm>
              <a:off x="7829640" y="6212160"/>
              <a:ext cx="1243080" cy="43164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66"/>
                  </a:solidFill>
                  <a:latin typeface="Times New Roman"/>
                  <a:ea typeface="Times New Roman"/>
                </a:rPr>
                <a:t>вых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3" name="Picture 1" descr="C:\Users\Надежда\Desktop\КАРТИНКИ\На машине\02466140a952b12ef37210c57504fcf9.gif"/>
          <p:cNvPicPr/>
          <p:nvPr/>
        </p:nvPicPr>
        <p:blipFill>
          <a:blip r:embed="rId3"/>
          <a:stretch/>
        </p:blipFill>
        <p:spPr>
          <a:xfrm>
            <a:off x="71280" y="3643200"/>
            <a:ext cx="2095560" cy="145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3" dur="indefinite" restart="never" nodeType="tmRoot">
          <p:childTnLst>
            <p:seq>
              <p:cTn id="1444" dur="indefinite" nodeType="mainSeq">
                <p:childTnLst>
                  <p:par>
                    <p:cTn id="1445" fill="hold">
                      <p:stCondLst>
                        <p:cond delay="0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9" restart="whenNotActive" nodeType="interactiveSeq" fill="hold">
                <p:stCondLst>
                  <p:cond evt="onClick">
                    <p:tgtEl>
                      <p:spTgt spid="1058"/>
                    </p:tgtEl>
                  </p:cond>
                </p:stCondLst>
                <p:childTnLst>
                  <p:par>
                    <p:cTn id="1450" fill="hold">
                      <p:stCondLst>
                        <p:cond evt="onClick">
                          <p:tgtEl>
                            <p:spTgt spid="1058"/>
                          </p:tgtEl>
                        </p:cond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4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evt="onClick">
                          <p:tgtEl>
                            <p:spTgt spid="1058"/>
                          </p:tgtEl>
                        </p:cond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1" restart="whenNotActive" nodeType="interactiveSeq" fill="hold">
                <p:stCondLst>
                  <p:cond evt="onClick">
                    <p:tgtEl>
                      <p:spTgt spid="1074"/>
                    </p:tgtEl>
                  </p:cond>
                </p:stCondLst>
                <p:childTnLst>
                  <p:par>
                    <p:cTn id="1462" fill="hold">
                      <p:stCondLst>
                        <p:cond evt="onClick">
                          <p:tgtEl>
                            <p:spTgt spid="1074"/>
                          </p:tgtEl>
                        </p:cond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6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evt="onClick">
                          <p:tgtEl>
                            <p:spTgt spid="1074"/>
                          </p:tgtEl>
                        </p:cond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1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evt="onClick">
                          <p:tgtEl>
                            <p:spTgt spid="1074"/>
                          </p:tgtEl>
                        </p:cond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6" restart="whenNotActive" nodeType="interactiveSeq" fill="hold">
                <p:stCondLst>
                  <p:cond evt="onClick">
                    <p:tgtEl>
                      <p:spTgt spid="1089"/>
                    </p:tgtEl>
                  </p:cond>
                </p:stCondLst>
                <p:childTnLst>
                  <p:par>
                    <p:cTn id="1477" fill="hold">
                      <p:stCondLst>
                        <p:cond evt="onClick">
                          <p:tgtEl>
                            <p:spTgt spid="1089"/>
                          </p:tgtEl>
                        </p:cond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1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evt="onClick">
                          <p:tgtEl>
                            <p:spTgt spid="1089"/>
                          </p:tgtEl>
                        </p:cond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6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evt="onClick">
                          <p:tgtEl>
                            <p:spTgt spid="1089"/>
                          </p:tgtEl>
                        </p:cond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1" restart="whenNotActive" nodeType="interactiveSeq" fill="hold">
                <p:stCondLst>
                  <p:cond evt="onClick">
                    <p:tgtEl>
                      <p:spTgt spid="1106"/>
                    </p:tgtEl>
                  </p:cond>
                </p:stCondLst>
                <p:childTnLst>
                  <p:par>
                    <p:cTn id="1492" fill="hold">
                      <p:stCondLst>
                        <p:cond evt="onClick">
                          <p:tgtEl>
                            <p:spTgt spid="1106"/>
                          </p:tgtEl>
                        </p:cond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6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evt="onClick">
                          <p:tgtEl>
                            <p:spTgt spid="1106"/>
                          </p:tgtEl>
                        </p:cond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evt="onClick">
                          <p:tgtEl>
                            <p:spTgt spid="1106"/>
                          </p:tgtEl>
                        </p:cond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6" restart="whenNotActive" nodeType="interactiveSeq" fill="hold">
                <p:stCondLst>
                  <p:cond evt="onClick">
                    <p:tgtEl>
                      <p:spTgt spid="1149"/>
                    </p:tgtEl>
                  </p:cond>
                </p:stCondLst>
                <p:childTnLst>
                  <p:par>
                    <p:cTn id="1507" fill="hold">
                      <p:stCondLst>
                        <p:cond evt="onClick">
                          <p:tgtEl>
                            <p:spTgt spid="1149"/>
                          </p:tgtEl>
                        </p:cond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4" name="Группа 46"/>
          <p:cNvGrpSpPr/>
          <p:nvPr/>
        </p:nvGrpSpPr>
        <p:grpSpPr>
          <a:xfrm>
            <a:off x="500040" y="82440"/>
            <a:ext cx="8215200" cy="2274840"/>
            <a:chOff x="500040" y="82440"/>
            <a:chExt cx="8215200" cy="2274840"/>
          </a:xfrm>
        </p:grpSpPr>
        <p:sp>
          <p:nvSpPr>
            <p:cNvPr id="1155" name="Скругленный прямоугольник 2"/>
            <p:cNvSpPr/>
            <p:nvPr/>
          </p:nvSpPr>
          <p:spPr>
            <a:xfrm>
              <a:off x="500040" y="82440"/>
              <a:ext cx="8215200" cy="2274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елосипедист от озера до деревни ехал со скоростью 15 км/ч, а обратно – со скоростью 10 км/ч. Сколько времени ушло у него на дорогу от озера до деревни, если на весь путь туда и обратно велосипедист затратил 1 ч? Велосипедист от озера до деревни ехал со скоростью 15 км/ч, а обратно – со скоростью 10 км/ч. Сколько времени ушло у него на дорогу от озера до деревни, если на весь путь туда и обратно велосипедист затратил 1 ч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Прямоугольник 3"/>
            <p:cNvSpPr/>
            <p:nvPr/>
          </p:nvSpPr>
          <p:spPr>
            <a:xfrm>
              <a:off x="785520" y="82440"/>
              <a:ext cx="77151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т дома до школы Коля обычно едет на велосипеде со скоростью 10 км/ч. Чтобы приехать в школу раньше на ¼ ч, ему надо ехать со скоростью  12 км/ч. Чему равно расстояние от дома до школы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57" name=""/>
          <p:cNvGraphicFramePr/>
          <p:nvPr/>
        </p:nvGraphicFramePr>
        <p:xfrm>
          <a:off x="1014480" y="3643200"/>
          <a:ext cx="7129440" cy="2845080"/>
        </p:xfrm>
        <a:graphic>
          <a:graphicData uri="http://schemas.openxmlformats.org/drawingml/2006/table">
            <a:tbl>
              <a:tblPr/>
              <a:tblGrid>
                <a:gridCol w="1968480"/>
                <a:gridCol w="1928880"/>
                <a:gridCol w="1517400"/>
                <a:gridCol w="17146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ояние (км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(км/ч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до ех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8" name="Скругленный прямоугольник 8"/>
          <p:cNvSpPr/>
          <p:nvPr/>
        </p:nvSpPr>
        <p:spPr>
          <a:xfrm>
            <a:off x="3378240" y="4683240"/>
            <a:ext cx="12650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Скругленный прямоугольник 10"/>
          <p:cNvSpPr/>
          <p:nvPr/>
        </p:nvSpPr>
        <p:spPr>
          <a:xfrm>
            <a:off x="3378240" y="5715000"/>
            <a:ext cx="12650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Скругленный прямоугольник 12"/>
          <p:cNvSpPr/>
          <p:nvPr/>
        </p:nvSpPr>
        <p:spPr>
          <a:xfrm>
            <a:off x="5021280" y="4699080"/>
            <a:ext cx="126540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1" name="Группа 16"/>
          <p:cNvGrpSpPr/>
          <p:nvPr/>
        </p:nvGrpSpPr>
        <p:grpSpPr>
          <a:xfrm>
            <a:off x="6675480" y="4551480"/>
            <a:ext cx="1214280" cy="857880"/>
            <a:chOff x="6675480" y="4551480"/>
            <a:chExt cx="1214280" cy="857880"/>
          </a:xfrm>
        </p:grpSpPr>
        <p:sp>
          <p:nvSpPr>
            <p:cNvPr id="1162" name="Скругленный прямоугольник 17"/>
            <p:cNvSpPr/>
            <p:nvPr/>
          </p:nvSpPr>
          <p:spPr>
            <a:xfrm>
              <a:off x="6675480" y="4551480"/>
              <a:ext cx="1214280" cy="857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3" name="Группа 13"/>
            <p:cNvGrpSpPr/>
            <p:nvPr/>
          </p:nvGrpSpPr>
          <p:grpSpPr>
            <a:xfrm>
              <a:off x="7038360" y="4551480"/>
              <a:ext cx="480960" cy="857880"/>
              <a:chOff x="7038360" y="4551480"/>
              <a:chExt cx="480960" cy="857880"/>
            </a:xfrm>
          </p:grpSpPr>
          <p:sp>
            <p:nvSpPr>
              <p:cNvPr id="1164" name="Rectangle 16"/>
              <p:cNvSpPr/>
              <p:nvPr/>
            </p:nvSpPr>
            <p:spPr>
              <a:xfrm>
                <a:off x="7073280" y="498240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Rectangle 21"/>
              <p:cNvSpPr/>
              <p:nvPr/>
            </p:nvSpPr>
            <p:spPr>
              <a:xfrm>
                <a:off x="7119360" y="4551480"/>
                <a:ext cx="2462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Прямая соединительная линия 21"/>
              <p:cNvSpPr/>
              <p:nvPr/>
            </p:nvSpPr>
            <p:spPr>
              <a:xfrm>
                <a:off x="7038360" y="4983120"/>
                <a:ext cx="432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7" name="Группа 22"/>
          <p:cNvGrpSpPr/>
          <p:nvPr/>
        </p:nvGrpSpPr>
        <p:grpSpPr>
          <a:xfrm>
            <a:off x="6667560" y="5551560"/>
            <a:ext cx="1214280" cy="857880"/>
            <a:chOff x="6667560" y="5551560"/>
            <a:chExt cx="1214280" cy="857880"/>
          </a:xfrm>
        </p:grpSpPr>
        <p:sp>
          <p:nvSpPr>
            <p:cNvPr id="1168" name="Скругленный прямоугольник 23"/>
            <p:cNvSpPr/>
            <p:nvPr/>
          </p:nvSpPr>
          <p:spPr>
            <a:xfrm>
              <a:off x="6667560" y="5551560"/>
              <a:ext cx="1214280" cy="857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9" name="Группа 77"/>
            <p:cNvGrpSpPr/>
            <p:nvPr/>
          </p:nvGrpSpPr>
          <p:grpSpPr>
            <a:xfrm>
              <a:off x="7030440" y="5551560"/>
              <a:ext cx="472680" cy="857880"/>
              <a:chOff x="7030440" y="5551560"/>
              <a:chExt cx="472680" cy="857880"/>
            </a:xfrm>
          </p:grpSpPr>
          <p:sp>
            <p:nvSpPr>
              <p:cNvPr id="1170" name="Rectangle 16"/>
              <p:cNvSpPr/>
              <p:nvPr/>
            </p:nvSpPr>
            <p:spPr>
              <a:xfrm>
                <a:off x="7057080" y="598248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Rectangle 21"/>
              <p:cNvSpPr/>
              <p:nvPr/>
            </p:nvSpPr>
            <p:spPr>
              <a:xfrm>
                <a:off x="7111440" y="5551560"/>
                <a:ext cx="2462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Прямая соединительная линия 27"/>
              <p:cNvSpPr/>
              <p:nvPr/>
            </p:nvSpPr>
            <p:spPr>
              <a:xfrm>
                <a:off x="7030440" y="5983200"/>
                <a:ext cx="432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3" name="Скругленный прямоугольник 34"/>
          <p:cNvSpPr/>
          <p:nvPr/>
        </p:nvSpPr>
        <p:spPr>
          <a:xfrm>
            <a:off x="5008680" y="5715000"/>
            <a:ext cx="12668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4" name="Picture 1" descr="F:\2.jpg"/>
          <p:cNvPicPr/>
          <p:nvPr/>
        </p:nvPicPr>
        <p:blipFill>
          <a:blip r:embed="rId1"/>
          <a:stretch/>
        </p:blipFill>
        <p:spPr>
          <a:xfrm>
            <a:off x="3902040" y="6334200"/>
            <a:ext cx="1316160" cy="542880"/>
          </a:xfrm>
          <a:prstGeom prst="rect">
            <a:avLst/>
          </a:prstGeom>
          <a:ln w="0">
            <a:noFill/>
          </a:ln>
        </p:spPr>
      </p:pic>
      <p:pic>
        <p:nvPicPr>
          <p:cNvPr id="1175" name="Picture 2" descr="C:\Users\Надежда\Desktop\КАРТИНКИ\рисунок Стрелка влево\102.gif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01040" y="628668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1176" name="Прямоугольник 31"/>
          <p:cNvSpPr/>
          <p:nvPr/>
        </p:nvSpPr>
        <p:spPr>
          <a:xfrm>
            <a:off x="2786040" y="500040"/>
            <a:ext cx="4500720" cy="5000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Прямоугольник 32"/>
          <p:cNvSpPr/>
          <p:nvPr/>
        </p:nvSpPr>
        <p:spPr>
          <a:xfrm>
            <a:off x="6786720" y="1000080"/>
            <a:ext cx="1714320" cy="5000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Прямоугольник 33"/>
          <p:cNvSpPr/>
          <p:nvPr/>
        </p:nvSpPr>
        <p:spPr>
          <a:xfrm>
            <a:off x="785880" y="1428840"/>
            <a:ext cx="3643200" cy="5000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Прямоугольник 35"/>
          <p:cNvSpPr/>
          <p:nvPr/>
        </p:nvSpPr>
        <p:spPr>
          <a:xfrm>
            <a:off x="3643200" y="1000080"/>
            <a:ext cx="2428920" cy="42876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Двойная стрелка влево/вверх 39"/>
          <p:cNvSpPr/>
          <p:nvPr/>
        </p:nvSpPr>
        <p:spPr>
          <a:xfrm rot="18969000">
            <a:off x="7902360" y="5014800"/>
            <a:ext cx="785520" cy="85752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Скругленный прямоугольник 38"/>
          <p:cNvSpPr/>
          <p:nvPr/>
        </p:nvSpPr>
        <p:spPr>
          <a:xfrm>
            <a:off x="3532320" y="2643120"/>
            <a:ext cx="20714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 = s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Управляющая кнопка: сведения 40"/>
          <p:cNvSpPr/>
          <p:nvPr/>
        </p:nvSpPr>
        <p:spPr>
          <a:xfrm>
            <a:off x="8286840" y="3632040"/>
            <a:ext cx="642960" cy="85752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857520"/>
              <a:gd name="textAreaBottom" fmla="*/ 816120 h 857520"/>
            </a:gdLst>
            <a:ahLst/>
            <a:rect l="textAreaLeft" t="textAreaTop" r="textAreaRight" b="textAreaBottom"/>
            <a:pathLst>
              <a:path w="21600" h="28804">
                <a:moveTo>
                  <a:pt x="0" y="0"/>
                </a:moveTo>
                <a:lnTo>
                  <a:pt x="21600" y="0"/>
                </a:lnTo>
                <a:lnTo>
                  <a:pt x="21600" y="28804"/>
                </a:lnTo>
                <a:lnTo>
                  <a:pt x="0" y="28804"/>
                </a:lnTo>
                <a:close/>
              </a:path>
              <a:path fill="lightenLess" w="21600" h="28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4">
                <a:moveTo>
                  <a:pt x="21600" y="0"/>
                </a:moveTo>
                <a:lnTo>
                  <a:pt x="21600" y="28804"/>
                </a:lnTo>
                <a:lnTo>
                  <a:pt x="20200" y="27404"/>
                </a:lnTo>
                <a:lnTo>
                  <a:pt x="20200" y="1400"/>
                </a:lnTo>
                <a:close/>
              </a:path>
              <a:path fill="darkenLess" w="21600" h="28804">
                <a:moveTo>
                  <a:pt x="21600" y="28804"/>
                </a:moveTo>
                <a:lnTo>
                  <a:pt x="0" y="28804"/>
                </a:lnTo>
                <a:lnTo>
                  <a:pt x="1400" y="27404"/>
                </a:lnTo>
                <a:lnTo>
                  <a:pt x="20200" y="27404"/>
                </a:lnTo>
                <a:close/>
              </a:path>
              <a:path fill="lighten" w="21600" h="28804">
                <a:moveTo>
                  <a:pt x="0" y="28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4"/>
                </a:lnTo>
                <a:close/>
              </a:path>
              <a:path fill="darken" w="21600" h="28804">
                <a:moveTo>
                  <a:pt x="10800" y="7396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8804">
                <a:moveTo>
                  <a:pt x="10800" y="7770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8804">
                <a:moveTo>
                  <a:pt x="8224" y="11826"/>
                </a:moveTo>
                <a:lnTo>
                  <a:pt x="12088" y="11826"/>
                </a:lnTo>
                <a:lnTo>
                  <a:pt x="12088" y="18823"/>
                </a:lnTo>
                <a:lnTo>
                  <a:pt x="13376" y="18823"/>
                </a:lnTo>
                <a:lnTo>
                  <a:pt x="13376" y="19746"/>
                </a:lnTo>
                <a:lnTo>
                  <a:pt x="8224" y="19746"/>
                </a:lnTo>
                <a:lnTo>
                  <a:pt x="8224" y="18823"/>
                </a:lnTo>
                <a:lnTo>
                  <a:pt x="9512" y="18823"/>
                </a:lnTo>
                <a:lnTo>
                  <a:pt x="9512" y="12731"/>
                </a:lnTo>
                <a:lnTo>
                  <a:pt x="8224" y="12731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3" name="Группа 4"/>
          <p:cNvGrpSpPr/>
          <p:nvPr/>
        </p:nvGrpSpPr>
        <p:grpSpPr>
          <a:xfrm>
            <a:off x="452520" y="2455920"/>
            <a:ext cx="8215200" cy="1116000"/>
            <a:chOff x="452520" y="2455920"/>
            <a:chExt cx="8215200" cy="1116000"/>
          </a:xfrm>
        </p:grpSpPr>
        <p:sp>
          <p:nvSpPr>
            <p:cNvPr id="1184" name="Скругленный прямоугольник 5"/>
            <p:cNvSpPr/>
            <p:nvPr/>
          </p:nvSpPr>
          <p:spPr>
            <a:xfrm>
              <a:off x="452520" y="2455920"/>
              <a:ext cx="8215200" cy="111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Прямоугольник 6"/>
            <p:cNvSpPr/>
            <p:nvPr/>
          </p:nvSpPr>
          <p:spPr>
            <a:xfrm>
              <a:off x="523800" y="2499480"/>
              <a:ext cx="8143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усть х км – расстояние от дома до школы. Какое уравнение соответствует условию задачи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86" name="Прямая со стрелкой 9"/>
          <p:cNvCxnSpPr/>
          <p:nvPr/>
        </p:nvCxnSpPr>
        <p:spPr>
          <a:xfrm>
            <a:off x="1785600" y="2928960"/>
            <a:ext cx="2143800" cy="2000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87" name="Прямая со стрелкой 11"/>
          <p:cNvCxnSpPr/>
          <p:nvPr/>
        </p:nvCxnSpPr>
        <p:spPr>
          <a:xfrm>
            <a:off x="1784880" y="2928600"/>
            <a:ext cx="2072520" cy="3072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88" name="Прямая со стрелкой 13"/>
          <p:cNvCxnSpPr/>
          <p:nvPr/>
        </p:nvCxnSpPr>
        <p:spPr>
          <a:xfrm flipH="1">
            <a:off x="5571360" y="1000080"/>
            <a:ext cx="214920" cy="38584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89" name="Прямая со стрелкой 15"/>
          <p:cNvCxnSpPr/>
          <p:nvPr/>
        </p:nvCxnSpPr>
        <p:spPr>
          <a:xfrm>
            <a:off x="3356640" y="1785600"/>
            <a:ext cx="2215080" cy="4072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90" name="Прямая со стрелкой 37"/>
          <p:cNvCxnSpPr/>
          <p:nvPr/>
        </p:nvCxnSpPr>
        <p:spPr>
          <a:xfrm>
            <a:off x="5572080" y="1356840"/>
            <a:ext cx="3215520" cy="40014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p:timing>
    <p:tnLst>
      <p:par>
        <p:cTn id="1511" dur="indefinite" restart="never" nodeType="tmRoot">
          <p:childTnLst>
            <p:seq>
              <p:cTn id="1512" restart="whenNotActive" nodeType="interactiveSeq" fill="hold">
                <p:stCondLst>
                  <p:cond evt="onClick">
                    <p:tgtEl>
                      <p:spTgt spid="1174"/>
                    </p:tgtEl>
                  </p:cond>
                </p:stCondLst>
                <p:childTnLst>
                  <p:par>
                    <p:cTn id="1513" fill="hold">
                      <p:stCondLst>
                        <p:cond evt="onClick">
                          <p:tgtEl>
                            <p:spTgt spid="1174"/>
                          </p:tgtEl>
                        </p:cond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evt="onClick">
                          <p:tgtEl>
                            <p:spTgt spid="1174"/>
                          </p:tgtEl>
                        </p:cond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evt="onClick">
                          <p:tgtEl>
                            <p:spTgt spid="1174"/>
                          </p:tgtEl>
                        </p:cond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evt="onClick">
                          <p:tgtEl>
                            <p:spTgt spid="1174"/>
                          </p:tgtEl>
                        </p:cond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1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4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evt="onClick">
                          <p:tgtEl>
                            <p:spTgt spid="1174"/>
                          </p:tgtEl>
                        </p:cond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evt="onClick">
                          <p:tgtEl>
                            <p:spTgt spid="1174"/>
                          </p:tgtEl>
                        </p:cond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evt="onClick">
                          <p:tgtEl>
                            <p:spTgt spid="1174"/>
                          </p:tgtEl>
                        </p:cond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3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evt="onClick">
                          <p:tgtEl>
                            <p:spTgt spid="1174"/>
                          </p:tgtEl>
                        </p:cond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evt="onClick">
                          <p:tgtEl>
                            <p:spTgt spid="1174"/>
                          </p:tgtEl>
                        </p:cond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evt="onClick">
                          <p:tgtEl>
                            <p:spTgt spid="1174"/>
                          </p:tgtEl>
                        </p:cond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2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evt="onClick">
                          <p:tgtEl>
                            <p:spTgt spid="1174"/>
                          </p:tgtEl>
                        </p:cond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3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evt="onClick">
                          <p:tgtEl>
                            <p:spTgt spid="1174"/>
                          </p:tgtEl>
                        </p:cond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8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evt="onClick">
                          <p:tgtEl>
                            <p:spTgt spid="1174"/>
                          </p:tgtEl>
                        </p:cond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3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evt="onClick">
                          <p:tgtEl>
                            <p:spTgt spid="1174"/>
                          </p:tgtEl>
                        </p:cond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evt="onClick">
                          <p:tgtEl>
                            <p:spTgt spid="1174"/>
                          </p:tgtEl>
                        </p:cond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evt="onClick">
                          <p:tgtEl>
                            <p:spTgt spid="1174"/>
                          </p:tgtEl>
                        </p:cond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6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500"/>
                            </p:stCondLst>
                            <p:childTnLst>
                              <p:par>
                                <p:cTn id="16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3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5" restart="whenNotActive" nodeType="interactiveSeq" fill="hold">
                <p:stCondLst>
                  <p:cond evt="onClick">
                    <p:tgtEl>
                      <p:spTgt spid="1182"/>
                    </p:tgtEl>
                  </p:cond>
                </p:stCondLst>
                <p:childTnLst>
                  <p:par>
                    <p:cTn id="1616" fill="hold">
                      <p:stCondLst>
                        <p:cond evt="onClick">
                          <p:tgtEl>
                            <p:spTgt spid="1182"/>
                          </p:tgtEl>
                        </p:cond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0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evt="onClick">
                          <p:tgtEl>
                            <p:spTgt spid="1182"/>
                          </p:tgtEl>
                        </p:cond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1" name=""/>
          <p:cNvGraphicFramePr/>
          <p:nvPr/>
        </p:nvGraphicFramePr>
        <p:xfrm>
          <a:off x="1079640" y="39600"/>
          <a:ext cx="7000560" cy="2844720"/>
        </p:xfrm>
        <a:graphic>
          <a:graphicData uri="http://schemas.openxmlformats.org/drawingml/2006/table">
            <a:tbl>
              <a:tblPr/>
              <a:tblGrid>
                <a:gridCol w="2000160"/>
                <a:gridCol w="1827000"/>
                <a:gridCol w="1489320"/>
                <a:gridCol w="1684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ояние (км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(км/ч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х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до ех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2" name="Скругленный прямоугольник 2"/>
          <p:cNvSpPr/>
          <p:nvPr/>
        </p:nvSpPr>
        <p:spPr>
          <a:xfrm>
            <a:off x="3314880" y="1111320"/>
            <a:ext cx="12650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Скругленный прямоугольник 3"/>
          <p:cNvSpPr/>
          <p:nvPr/>
        </p:nvSpPr>
        <p:spPr>
          <a:xfrm>
            <a:off x="3314880" y="2143080"/>
            <a:ext cx="12650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Скругленный прямоугольник 4"/>
          <p:cNvSpPr/>
          <p:nvPr/>
        </p:nvSpPr>
        <p:spPr>
          <a:xfrm>
            <a:off x="5021280" y="1127160"/>
            <a:ext cx="126540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5" name="Группа 5"/>
          <p:cNvGrpSpPr/>
          <p:nvPr/>
        </p:nvGrpSpPr>
        <p:grpSpPr>
          <a:xfrm>
            <a:off x="6611760" y="947880"/>
            <a:ext cx="1214640" cy="857880"/>
            <a:chOff x="6611760" y="947880"/>
            <a:chExt cx="1214640" cy="857880"/>
          </a:xfrm>
        </p:grpSpPr>
        <p:sp>
          <p:nvSpPr>
            <p:cNvPr id="1196" name="Скругленный прямоугольник 6"/>
            <p:cNvSpPr/>
            <p:nvPr/>
          </p:nvSpPr>
          <p:spPr>
            <a:xfrm>
              <a:off x="6611760" y="947880"/>
              <a:ext cx="1214640" cy="857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7" name="Группа 13"/>
            <p:cNvGrpSpPr/>
            <p:nvPr/>
          </p:nvGrpSpPr>
          <p:grpSpPr>
            <a:xfrm>
              <a:off x="6975000" y="947880"/>
              <a:ext cx="480960" cy="857880"/>
              <a:chOff x="6975000" y="947880"/>
              <a:chExt cx="480960" cy="857880"/>
            </a:xfrm>
          </p:grpSpPr>
          <p:sp>
            <p:nvSpPr>
              <p:cNvPr id="1198" name="Rectangle 16"/>
              <p:cNvSpPr/>
              <p:nvPr/>
            </p:nvSpPr>
            <p:spPr>
              <a:xfrm>
                <a:off x="7009920" y="137880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Rectangle 21"/>
              <p:cNvSpPr/>
              <p:nvPr/>
            </p:nvSpPr>
            <p:spPr>
              <a:xfrm>
                <a:off x="7056000" y="947880"/>
                <a:ext cx="2462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Прямая соединительная линия 10"/>
              <p:cNvSpPr/>
              <p:nvPr/>
            </p:nvSpPr>
            <p:spPr>
              <a:xfrm>
                <a:off x="6975000" y="1379520"/>
                <a:ext cx="432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1" name="Группа 11"/>
          <p:cNvGrpSpPr/>
          <p:nvPr/>
        </p:nvGrpSpPr>
        <p:grpSpPr>
          <a:xfrm>
            <a:off x="6620040" y="1979640"/>
            <a:ext cx="1214280" cy="857880"/>
            <a:chOff x="6620040" y="1979640"/>
            <a:chExt cx="1214280" cy="857880"/>
          </a:xfrm>
        </p:grpSpPr>
        <p:sp>
          <p:nvSpPr>
            <p:cNvPr id="1202" name="Скругленный прямоугольник 12"/>
            <p:cNvSpPr/>
            <p:nvPr/>
          </p:nvSpPr>
          <p:spPr>
            <a:xfrm>
              <a:off x="6620040" y="1979640"/>
              <a:ext cx="1214280" cy="857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3" name="Группа 77"/>
            <p:cNvGrpSpPr/>
            <p:nvPr/>
          </p:nvGrpSpPr>
          <p:grpSpPr>
            <a:xfrm>
              <a:off x="6982920" y="1979640"/>
              <a:ext cx="472680" cy="857880"/>
              <a:chOff x="6982920" y="1979640"/>
              <a:chExt cx="472680" cy="857880"/>
            </a:xfrm>
          </p:grpSpPr>
          <p:sp>
            <p:nvSpPr>
              <p:cNvPr id="1204" name="Rectangle 16"/>
              <p:cNvSpPr/>
              <p:nvPr/>
            </p:nvSpPr>
            <p:spPr>
              <a:xfrm>
                <a:off x="7009560" y="241056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Rectangle 21"/>
              <p:cNvSpPr/>
              <p:nvPr/>
            </p:nvSpPr>
            <p:spPr>
              <a:xfrm>
                <a:off x="7063920" y="1979640"/>
                <a:ext cx="2462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х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Прямая соединительная линия 16"/>
              <p:cNvSpPr/>
              <p:nvPr/>
            </p:nvSpPr>
            <p:spPr>
              <a:xfrm>
                <a:off x="6982920" y="2411280"/>
                <a:ext cx="432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7" name="Скругленный прямоугольник 17"/>
          <p:cNvSpPr/>
          <p:nvPr/>
        </p:nvSpPr>
        <p:spPr>
          <a:xfrm>
            <a:off x="5008680" y="2143080"/>
            <a:ext cx="12668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8" name="Группа 43"/>
          <p:cNvGrpSpPr/>
          <p:nvPr/>
        </p:nvGrpSpPr>
        <p:grpSpPr>
          <a:xfrm>
            <a:off x="1714680" y="3786120"/>
            <a:ext cx="3571560" cy="830880"/>
            <a:chOff x="1714680" y="3786120"/>
            <a:chExt cx="3571560" cy="830880"/>
          </a:xfrm>
        </p:grpSpPr>
        <p:grpSp>
          <p:nvGrpSpPr>
            <p:cNvPr id="1209" name="Группа 131"/>
            <p:cNvGrpSpPr/>
            <p:nvPr/>
          </p:nvGrpSpPr>
          <p:grpSpPr>
            <a:xfrm>
              <a:off x="1714680" y="3786120"/>
              <a:ext cx="3571560" cy="830880"/>
              <a:chOff x="1714680" y="3786120"/>
              <a:chExt cx="3571560" cy="830880"/>
            </a:xfrm>
          </p:grpSpPr>
          <p:sp>
            <p:nvSpPr>
              <p:cNvPr id="1210" name="Скругленный прямоугольник 20"/>
              <p:cNvSpPr/>
              <p:nvPr/>
            </p:nvSpPr>
            <p:spPr>
              <a:xfrm>
                <a:off x="1714680" y="3862080"/>
                <a:ext cx="3571560" cy="7146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А.                    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1" name="Группа 53"/>
              <p:cNvGrpSpPr/>
              <p:nvPr/>
            </p:nvGrpSpPr>
            <p:grpSpPr>
              <a:xfrm>
                <a:off x="2528640" y="3786120"/>
                <a:ext cx="2440080" cy="830880"/>
                <a:chOff x="2528640" y="3786120"/>
                <a:chExt cx="2440080" cy="830880"/>
              </a:xfrm>
            </p:grpSpPr>
            <p:sp>
              <p:nvSpPr>
                <p:cNvPr id="1212" name="Rectangle 19"/>
                <p:cNvSpPr/>
                <p:nvPr/>
              </p:nvSpPr>
              <p:spPr>
                <a:xfrm>
                  <a:off x="4247280" y="3972960"/>
                  <a:ext cx="282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3" name="Группа 110"/>
                <p:cNvGrpSpPr/>
                <p:nvPr/>
              </p:nvGrpSpPr>
              <p:grpSpPr>
                <a:xfrm>
                  <a:off x="2528640" y="3786120"/>
                  <a:ext cx="432000" cy="810720"/>
                  <a:chOff x="2528640" y="3786120"/>
                  <a:chExt cx="432000" cy="810720"/>
                </a:xfrm>
              </p:grpSpPr>
              <p:sp>
                <p:nvSpPr>
                  <p:cNvPr id="1214" name="Rectangle 16"/>
                  <p:cNvSpPr/>
                  <p:nvPr/>
                </p:nvSpPr>
                <p:spPr>
                  <a:xfrm>
                    <a:off x="2572200" y="4169880"/>
                    <a:ext cx="3574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1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5" name="Прямая соединительная линия 32"/>
                  <p:cNvSpPr/>
                  <p:nvPr/>
                </p:nvSpPr>
                <p:spPr>
                  <a:xfrm>
                    <a:off x="2528640" y="4218120"/>
                    <a:ext cx="4320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6" name="Rectangle 21"/>
                  <p:cNvSpPr/>
                  <p:nvPr/>
                </p:nvSpPr>
                <p:spPr>
                  <a:xfrm>
                    <a:off x="2609640" y="3786120"/>
                    <a:ext cx="24624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17" name="Rectangle 18"/>
                <p:cNvSpPr/>
                <p:nvPr/>
              </p:nvSpPr>
              <p:spPr>
                <a:xfrm>
                  <a:off x="3089160" y="397764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–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8" name="Группа 112"/>
                <p:cNvGrpSpPr/>
                <p:nvPr/>
              </p:nvGrpSpPr>
              <p:grpSpPr>
                <a:xfrm>
                  <a:off x="3568680" y="3790440"/>
                  <a:ext cx="1400040" cy="826560"/>
                  <a:chOff x="3568680" y="3790440"/>
                  <a:chExt cx="1400040" cy="826560"/>
                </a:xfrm>
              </p:grpSpPr>
              <p:sp>
                <p:nvSpPr>
                  <p:cNvPr id="1219" name="Rectangle 14"/>
                  <p:cNvSpPr/>
                  <p:nvPr/>
                </p:nvSpPr>
                <p:spPr>
                  <a:xfrm>
                    <a:off x="3572280" y="4190040"/>
                    <a:ext cx="3574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0" name="Прямая соединительная линия 29"/>
                  <p:cNvSpPr/>
                  <p:nvPr/>
                </p:nvSpPr>
                <p:spPr>
                  <a:xfrm>
                    <a:off x="3568680" y="4217760"/>
                    <a:ext cx="43164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Rectangle 13"/>
                  <p:cNvSpPr/>
                  <p:nvPr/>
                </p:nvSpPr>
                <p:spPr>
                  <a:xfrm>
                    <a:off x="3699000" y="3790440"/>
                    <a:ext cx="1576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Rectangle 13"/>
                  <p:cNvSpPr/>
                  <p:nvPr/>
                </p:nvSpPr>
                <p:spPr>
                  <a:xfrm>
                    <a:off x="4786560" y="381744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3" name="Rectangle 14"/>
                  <p:cNvSpPr/>
                  <p:nvPr/>
                </p:nvSpPr>
                <p:spPr>
                  <a:xfrm>
                    <a:off x="4789800" y="418320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224" name="Прямая соединительная линия 42"/>
            <p:cNvSpPr/>
            <p:nvPr/>
          </p:nvSpPr>
          <p:spPr>
            <a:xfrm>
              <a:off x="4640400" y="4213080"/>
              <a:ext cx="431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5" name="Скругленный прямоугольник 44"/>
          <p:cNvSpPr/>
          <p:nvPr/>
        </p:nvSpPr>
        <p:spPr>
          <a:xfrm>
            <a:off x="5572080" y="3857760"/>
            <a:ext cx="205596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6" name="Группа 131"/>
          <p:cNvGrpSpPr/>
          <p:nvPr/>
        </p:nvGrpSpPr>
        <p:grpSpPr>
          <a:xfrm>
            <a:off x="1714680" y="4540320"/>
            <a:ext cx="3571560" cy="815400"/>
            <a:chOff x="1714680" y="4540320"/>
            <a:chExt cx="3571560" cy="815400"/>
          </a:xfrm>
        </p:grpSpPr>
        <p:sp>
          <p:nvSpPr>
            <p:cNvPr id="1227" name="Скругленный прямоугольник 46"/>
            <p:cNvSpPr/>
            <p:nvPr/>
          </p:nvSpPr>
          <p:spPr>
            <a:xfrm>
              <a:off x="1714680" y="4616280"/>
              <a:ext cx="3571560" cy="714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Б.  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8" name="Группа 69"/>
            <p:cNvGrpSpPr/>
            <p:nvPr/>
          </p:nvGrpSpPr>
          <p:grpSpPr>
            <a:xfrm>
              <a:off x="2528640" y="4540320"/>
              <a:ext cx="2684880" cy="815400"/>
              <a:chOff x="2528640" y="4540320"/>
              <a:chExt cx="2684880" cy="815400"/>
            </a:xfrm>
          </p:grpSpPr>
          <p:grpSp>
            <p:nvGrpSpPr>
              <p:cNvPr id="1229" name="Группа 53"/>
              <p:cNvGrpSpPr/>
              <p:nvPr/>
            </p:nvGrpSpPr>
            <p:grpSpPr>
              <a:xfrm>
                <a:off x="2528640" y="4540320"/>
                <a:ext cx="2001240" cy="815400"/>
                <a:chOff x="2528640" y="4540320"/>
                <a:chExt cx="2001240" cy="815400"/>
              </a:xfrm>
            </p:grpSpPr>
            <p:sp>
              <p:nvSpPr>
                <p:cNvPr id="1230" name="Rectangle 19"/>
                <p:cNvSpPr/>
                <p:nvPr/>
              </p:nvSpPr>
              <p:spPr>
                <a:xfrm>
                  <a:off x="4247280" y="4726800"/>
                  <a:ext cx="282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31" name="Группа 110"/>
                <p:cNvGrpSpPr/>
                <p:nvPr/>
              </p:nvGrpSpPr>
              <p:grpSpPr>
                <a:xfrm>
                  <a:off x="2528640" y="4540320"/>
                  <a:ext cx="432000" cy="815400"/>
                  <a:chOff x="2528640" y="4540320"/>
                  <a:chExt cx="432000" cy="815400"/>
                </a:xfrm>
              </p:grpSpPr>
              <p:sp>
                <p:nvSpPr>
                  <p:cNvPr id="1232" name="Rectangle 16"/>
                  <p:cNvSpPr/>
                  <p:nvPr/>
                </p:nvSpPr>
                <p:spPr>
                  <a:xfrm>
                    <a:off x="2572200" y="4928760"/>
                    <a:ext cx="3574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1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Прямая соединительная линия 58"/>
                  <p:cNvSpPr/>
                  <p:nvPr/>
                </p:nvSpPr>
                <p:spPr>
                  <a:xfrm>
                    <a:off x="2528640" y="4971960"/>
                    <a:ext cx="4320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" name="Rectangle 21"/>
                  <p:cNvSpPr/>
                  <p:nvPr/>
                </p:nvSpPr>
                <p:spPr>
                  <a:xfrm>
                    <a:off x="2609640" y="4540320"/>
                    <a:ext cx="24624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5" name="Rectangle 18"/>
                <p:cNvSpPr/>
                <p:nvPr/>
              </p:nvSpPr>
              <p:spPr>
                <a:xfrm>
                  <a:off x="3089160" y="473148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–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36" name="Группа 112"/>
                <p:cNvGrpSpPr/>
                <p:nvPr/>
              </p:nvGrpSpPr>
              <p:grpSpPr>
                <a:xfrm>
                  <a:off x="3568680" y="4544640"/>
                  <a:ext cx="432000" cy="811080"/>
                  <a:chOff x="3568680" y="4544640"/>
                  <a:chExt cx="432000" cy="811080"/>
                </a:xfrm>
              </p:grpSpPr>
              <p:sp>
                <p:nvSpPr>
                  <p:cNvPr id="1237" name="Rectangle 14"/>
                  <p:cNvSpPr/>
                  <p:nvPr/>
                </p:nvSpPr>
                <p:spPr>
                  <a:xfrm>
                    <a:off x="3612240" y="4928760"/>
                    <a:ext cx="3574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" name="Прямая соединительная линия 55"/>
                  <p:cNvSpPr/>
                  <p:nvPr/>
                </p:nvSpPr>
                <p:spPr>
                  <a:xfrm>
                    <a:off x="3568680" y="4971960"/>
                    <a:ext cx="4320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Rectangle 13"/>
                  <p:cNvSpPr/>
                  <p:nvPr/>
                </p:nvSpPr>
                <p:spPr>
                  <a:xfrm>
                    <a:off x="3699360" y="4544640"/>
                    <a:ext cx="1576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40" name="Rectangle 16"/>
              <p:cNvSpPr/>
              <p:nvPr/>
            </p:nvSpPr>
            <p:spPr>
              <a:xfrm>
                <a:off x="4767480" y="476100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1" name="Скругленный прямоугольник 60"/>
          <p:cNvSpPr/>
          <p:nvPr/>
        </p:nvSpPr>
        <p:spPr>
          <a:xfrm>
            <a:off x="5587920" y="4611600"/>
            <a:ext cx="205596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2" name="Группа 61"/>
          <p:cNvGrpSpPr/>
          <p:nvPr/>
        </p:nvGrpSpPr>
        <p:grpSpPr>
          <a:xfrm>
            <a:off x="1722600" y="5286240"/>
            <a:ext cx="3571560" cy="830880"/>
            <a:chOff x="1722600" y="5286240"/>
            <a:chExt cx="3571560" cy="830880"/>
          </a:xfrm>
        </p:grpSpPr>
        <p:grpSp>
          <p:nvGrpSpPr>
            <p:cNvPr id="1243" name="Группа 131"/>
            <p:cNvGrpSpPr/>
            <p:nvPr/>
          </p:nvGrpSpPr>
          <p:grpSpPr>
            <a:xfrm>
              <a:off x="1722600" y="5286240"/>
              <a:ext cx="3571560" cy="830880"/>
              <a:chOff x="1722600" y="5286240"/>
              <a:chExt cx="3571560" cy="830880"/>
            </a:xfrm>
          </p:grpSpPr>
          <p:sp>
            <p:nvSpPr>
              <p:cNvPr id="1244" name="Скругленный прямоугольник 64"/>
              <p:cNvSpPr/>
              <p:nvPr/>
            </p:nvSpPr>
            <p:spPr>
              <a:xfrm>
                <a:off x="1722600" y="5378040"/>
                <a:ext cx="3571560" cy="7146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А.                    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45" name="Группа 53"/>
              <p:cNvGrpSpPr/>
              <p:nvPr/>
            </p:nvGrpSpPr>
            <p:grpSpPr>
              <a:xfrm>
                <a:off x="2473200" y="5286240"/>
                <a:ext cx="2440080" cy="830880"/>
                <a:chOff x="2473200" y="5286240"/>
                <a:chExt cx="2440080" cy="830880"/>
              </a:xfrm>
            </p:grpSpPr>
            <p:sp>
              <p:nvSpPr>
                <p:cNvPr id="1246" name="Rectangle 19"/>
                <p:cNvSpPr/>
                <p:nvPr/>
              </p:nvSpPr>
              <p:spPr>
                <a:xfrm>
                  <a:off x="4191840" y="5473080"/>
                  <a:ext cx="282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47" name="Группа 110"/>
                <p:cNvGrpSpPr/>
                <p:nvPr/>
              </p:nvGrpSpPr>
              <p:grpSpPr>
                <a:xfrm>
                  <a:off x="2473200" y="5286240"/>
                  <a:ext cx="432000" cy="810720"/>
                  <a:chOff x="2473200" y="5286240"/>
                  <a:chExt cx="432000" cy="810720"/>
                </a:xfrm>
              </p:grpSpPr>
              <p:sp>
                <p:nvSpPr>
                  <p:cNvPr id="1248" name="Rectangle 16"/>
                  <p:cNvSpPr/>
                  <p:nvPr/>
                </p:nvSpPr>
                <p:spPr>
                  <a:xfrm>
                    <a:off x="2517120" y="5670000"/>
                    <a:ext cx="3574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1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9" name="Прямая соединительная линия 76"/>
                  <p:cNvSpPr/>
                  <p:nvPr/>
                </p:nvSpPr>
                <p:spPr>
                  <a:xfrm>
                    <a:off x="2473200" y="5718240"/>
                    <a:ext cx="4320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0" name="Rectangle 21"/>
                  <p:cNvSpPr/>
                  <p:nvPr/>
                </p:nvSpPr>
                <p:spPr>
                  <a:xfrm>
                    <a:off x="2554920" y="5286240"/>
                    <a:ext cx="24624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1" name="Rectangle 18"/>
                <p:cNvSpPr/>
                <p:nvPr/>
              </p:nvSpPr>
              <p:spPr>
                <a:xfrm>
                  <a:off x="3033720" y="547776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–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52" name="Группа 112"/>
                <p:cNvGrpSpPr/>
                <p:nvPr/>
              </p:nvGrpSpPr>
              <p:grpSpPr>
                <a:xfrm>
                  <a:off x="3513240" y="5290560"/>
                  <a:ext cx="1400040" cy="826560"/>
                  <a:chOff x="3513240" y="5290560"/>
                  <a:chExt cx="1400040" cy="826560"/>
                </a:xfrm>
              </p:grpSpPr>
              <p:sp>
                <p:nvSpPr>
                  <p:cNvPr id="1253" name="Rectangle 14"/>
                  <p:cNvSpPr/>
                  <p:nvPr/>
                </p:nvSpPr>
                <p:spPr>
                  <a:xfrm>
                    <a:off x="3517560" y="5690160"/>
                    <a:ext cx="3574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" name="Прямая соединительная линия 71"/>
                  <p:cNvSpPr/>
                  <p:nvPr/>
                </p:nvSpPr>
                <p:spPr>
                  <a:xfrm>
                    <a:off x="3513240" y="5717880"/>
                    <a:ext cx="43164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" name="Rectangle 13"/>
                  <p:cNvSpPr/>
                  <p:nvPr/>
                </p:nvSpPr>
                <p:spPr>
                  <a:xfrm>
                    <a:off x="3643920" y="5290560"/>
                    <a:ext cx="1576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6" name="Rectangle 13"/>
                  <p:cNvSpPr/>
                  <p:nvPr/>
                </p:nvSpPr>
                <p:spPr>
                  <a:xfrm>
                    <a:off x="4731120" y="531756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7" name="Rectangle 14"/>
                  <p:cNvSpPr/>
                  <p:nvPr/>
                </p:nvSpPr>
                <p:spPr>
                  <a:xfrm>
                    <a:off x="4734360" y="5683320"/>
                    <a:ext cx="17892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258" name="Прямая соединительная линия 63"/>
            <p:cNvSpPr/>
            <p:nvPr/>
          </p:nvSpPr>
          <p:spPr>
            <a:xfrm>
              <a:off x="4584600" y="5713200"/>
              <a:ext cx="431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9" name="Скругленный прямоугольник 78"/>
          <p:cNvSpPr/>
          <p:nvPr/>
        </p:nvSpPr>
        <p:spPr>
          <a:xfrm>
            <a:off x="5580000" y="5381640"/>
            <a:ext cx="205596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0" name="Группа 131"/>
          <p:cNvGrpSpPr/>
          <p:nvPr/>
        </p:nvGrpSpPr>
        <p:grpSpPr>
          <a:xfrm>
            <a:off x="1714680" y="6054840"/>
            <a:ext cx="3571560" cy="815400"/>
            <a:chOff x="1714680" y="6054840"/>
            <a:chExt cx="3571560" cy="815400"/>
          </a:xfrm>
        </p:grpSpPr>
        <p:sp>
          <p:nvSpPr>
            <p:cNvPr id="1261" name="Скругленный прямоугольник 80"/>
            <p:cNvSpPr/>
            <p:nvPr/>
          </p:nvSpPr>
          <p:spPr>
            <a:xfrm>
              <a:off x="1714680" y="6130800"/>
              <a:ext cx="3571560" cy="714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Б.  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Группа 69"/>
            <p:cNvGrpSpPr/>
            <p:nvPr/>
          </p:nvGrpSpPr>
          <p:grpSpPr>
            <a:xfrm>
              <a:off x="2528640" y="6054840"/>
              <a:ext cx="2684880" cy="815400"/>
              <a:chOff x="2528640" y="6054840"/>
              <a:chExt cx="2684880" cy="815400"/>
            </a:xfrm>
          </p:grpSpPr>
          <p:grpSp>
            <p:nvGrpSpPr>
              <p:cNvPr id="1263" name="Группа 53"/>
              <p:cNvGrpSpPr/>
              <p:nvPr/>
            </p:nvGrpSpPr>
            <p:grpSpPr>
              <a:xfrm>
                <a:off x="2528640" y="6054840"/>
                <a:ext cx="2001240" cy="815400"/>
                <a:chOff x="2528640" y="6054840"/>
                <a:chExt cx="2001240" cy="815400"/>
              </a:xfrm>
            </p:grpSpPr>
            <p:sp>
              <p:nvSpPr>
                <p:cNvPr id="1264" name="Rectangle 19"/>
                <p:cNvSpPr/>
                <p:nvPr/>
              </p:nvSpPr>
              <p:spPr>
                <a:xfrm>
                  <a:off x="4247280" y="6241320"/>
                  <a:ext cx="2826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65" name="Группа 110"/>
                <p:cNvGrpSpPr/>
                <p:nvPr/>
              </p:nvGrpSpPr>
              <p:grpSpPr>
                <a:xfrm>
                  <a:off x="2528640" y="6054840"/>
                  <a:ext cx="432000" cy="815400"/>
                  <a:chOff x="2528640" y="6054840"/>
                  <a:chExt cx="432000" cy="815400"/>
                </a:xfrm>
              </p:grpSpPr>
              <p:sp>
                <p:nvSpPr>
                  <p:cNvPr id="1266" name="Rectangle 16"/>
                  <p:cNvSpPr/>
                  <p:nvPr/>
                </p:nvSpPr>
                <p:spPr>
                  <a:xfrm>
                    <a:off x="2572200" y="6443280"/>
                    <a:ext cx="3574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1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" name="Прямая соединительная линия 92"/>
                  <p:cNvSpPr/>
                  <p:nvPr/>
                </p:nvSpPr>
                <p:spPr>
                  <a:xfrm>
                    <a:off x="2528640" y="6486480"/>
                    <a:ext cx="4320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8" name="Rectangle 21"/>
                  <p:cNvSpPr/>
                  <p:nvPr/>
                </p:nvSpPr>
                <p:spPr>
                  <a:xfrm>
                    <a:off x="2609640" y="6054840"/>
                    <a:ext cx="24624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9" name="Rectangle 18"/>
                <p:cNvSpPr/>
                <p:nvPr/>
              </p:nvSpPr>
              <p:spPr>
                <a:xfrm>
                  <a:off x="3089160" y="6246000"/>
                  <a:ext cx="2674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–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70" name="Группа 112"/>
                <p:cNvGrpSpPr/>
                <p:nvPr/>
              </p:nvGrpSpPr>
              <p:grpSpPr>
                <a:xfrm>
                  <a:off x="3568680" y="6059160"/>
                  <a:ext cx="432000" cy="811080"/>
                  <a:chOff x="3568680" y="6059160"/>
                  <a:chExt cx="432000" cy="811080"/>
                </a:xfrm>
              </p:grpSpPr>
              <p:sp>
                <p:nvSpPr>
                  <p:cNvPr id="1271" name="Rectangle 14"/>
                  <p:cNvSpPr/>
                  <p:nvPr/>
                </p:nvSpPr>
                <p:spPr>
                  <a:xfrm>
                    <a:off x="3612240" y="6443280"/>
                    <a:ext cx="3574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2" name="Прямая соединительная линия 89"/>
                  <p:cNvSpPr/>
                  <p:nvPr/>
                </p:nvSpPr>
                <p:spPr>
                  <a:xfrm>
                    <a:off x="3568680" y="6486480"/>
                    <a:ext cx="4320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3" name="Rectangle 13"/>
                  <p:cNvSpPr/>
                  <p:nvPr/>
                </p:nvSpPr>
                <p:spPr>
                  <a:xfrm>
                    <a:off x="3699360" y="6059160"/>
                    <a:ext cx="1576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х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74" name="Rectangle 16"/>
              <p:cNvSpPr/>
              <p:nvPr/>
            </p:nvSpPr>
            <p:spPr>
              <a:xfrm>
                <a:off x="4767480" y="6275520"/>
                <a:ext cx="4460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5" name="Скругленный прямоугольник 94"/>
          <p:cNvSpPr/>
          <p:nvPr/>
        </p:nvSpPr>
        <p:spPr>
          <a:xfrm>
            <a:off x="5587920" y="6127920"/>
            <a:ext cx="205596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6" name="Группа 118"/>
          <p:cNvGrpSpPr/>
          <p:nvPr/>
        </p:nvGrpSpPr>
        <p:grpSpPr>
          <a:xfrm>
            <a:off x="5572080" y="5346720"/>
            <a:ext cx="2055960" cy="749160"/>
            <a:chOff x="5572080" y="5346720"/>
            <a:chExt cx="2055960" cy="749160"/>
          </a:xfrm>
        </p:grpSpPr>
        <p:sp>
          <p:nvSpPr>
            <p:cNvPr id="1277" name="Скругленный прямоугольник 98"/>
            <p:cNvSpPr/>
            <p:nvPr/>
          </p:nvSpPr>
          <p:spPr>
            <a:xfrm>
              <a:off x="5572080" y="5381640"/>
              <a:ext cx="2055960" cy="714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8" name="Группа 119"/>
            <p:cNvGrpSpPr/>
            <p:nvPr/>
          </p:nvGrpSpPr>
          <p:grpSpPr>
            <a:xfrm>
              <a:off x="5714640" y="5346720"/>
              <a:ext cx="1378440" cy="730440"/>
              <a:chOff x="5714640" y="5346720"/>
              <a:chExt cx="1378440" cy="730440"/>
            </a:xfrm>
          </p:grpSpPr>
          <p:sp>
            <p:nvSpPr>
              <p:cNvPr id="1279" name="Rectangle 78"/>
              <p:cNvSpPr/>
              <p:nvPr/>
            </p:nvSpPr>
            <p:spPr>
              <a:xfrm>
                <a:off x="6312240" y="568800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Rectangle 80"/>
              <p:cNvSpPr/>
              <p:nvPr/>
            </p:nvSpPr>
            <p:spPr>
              <a:xfrm>
                <a:off x="6933960" y="569592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Rectangle 84"/>
              <p:cNvSpPr/>
              <p:nvPr/>
            </p:nvSpPr>
            <p:spPr>
              <a:xfrm>
                <a:off x="6149160" y="5346720"/>
                <a:ext cx="15624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t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Rectangle 86"/>
              <p:cNvSpPr/>
              <p:nvPr/>
            </p:nvSpPr>
            <p:spPr>
              <a:xfrm>
                <a:off x="6779880" y="5354640"/>
                <a:ext cx="15624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t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Rectangle 91"/>
              <p:cNvSpPr/>
              <p:nvPr/>
            </p:nvSpPr>
            <p:spPr>
              <a:xfrm>
                <a:off x="5714640" y="5354640"/>
                <a:ext cx="36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Rectangle 93"/>
              <p:cNvSpPr/>
              <p:nvPr/>
            </p:nvSpPr>
            <p:spPr>
              <a:xfrm>
                <a:off x="6420600" y="5398560"/>
                <a:ext cx="32688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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85" name="Группа 119"/>
          <p:cNvGrpSpPr/>
          <p:nvPr/>
        </p:nvGrpSpPr>
        <p:grpSpPr>
          <a:xfrm>
            <a:off x="5587920" y="6108840"/>
            <a:ext cx="2055960" cy="733320"/>
            <a:chOff x="5587920" y="6108840"/>
            <a:chExt cx="2055960" cy="733320"/>
          </a:xfrm>
        </p:grpSpPr>
        <p:sp>
          <p:nvSpPr>
            <p:cNvPr id="1286" name="Скругленный прямоугольник 106"/>
            <p:cNvSpPr/>
            <p:nvPr/>
          </p:nvSpPr>
          <p:spPr>
            <a:xfrm>
              <a:off x="5587920" y="6127560"/>
              <a:ext cx="2055960" cy="714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7" name="Группа 119"/>
            <p:cNvGrpSpPr/>
            <p:nvPr/>
          </p:nvGrpSpPr>
          <p:grpSpPr>
            <a:xfrm>
              <a:off x="5730840" y="6108840"/>
              <a:ext cx="1378440" cy="730080"/>
              <a:chOff x="5730840" y="6108840"/>
              <a:chExt cx="1378440" cy="730080"/>
            </a:xfrm>
          </p:grpSpPr>
          <p:sp>
            <p:nvSpPr>
              <p:cNvPr id="1288" name="Rectangle 78"/>
              <p:cNvSpPr/>
              <p:nvPr/>
            </p:nvSpPr>
            <p:spPr>
              <a:xfrm>
                <a:off x="6328440" y="644976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Rectangle 80"/>
              <p:cNvSpPr/>
              <p:nvPr/>
            </p:nvSpPr>
            <p:spPr>
              <a:xfrm>
                <a:off x="6950160" y="645768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Rectangle 84"/>
              <p:cNvSpPr/>
              <p:nvPr/>
            </p:nvSpPr>
            <p:spPr>
              <a:xfrm>
                <a:off x="6165360" y="6108840"/>
                <a:ext cx="15624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t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Rectangle 86"/>
              <p:cNvSpPr/>
              <p:nvPr/>
            </p:nvSpPr>
            <p:spPr>
              <a:xfrm>
                <a:off x="6796080" y="6116760"/>
                <a:ext cx="15624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>
                    <a:solidFill>
                      <a:srgbClr val="ff0000"/>
                    </a:solidFill>
                    <a:latin typeface="Times New Roman"/>
                  </a:rPr>
                  <a:t>t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Rectangle 91"/>
              <p:cNvSpPr/>
              <p:nvPr/>
            </p:nvSpPr>
            <p:spPr>
              <a:xfrm>
                <a:off x="5730840" y="6116760"/>
                <a:ext cx="36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Rectangle 93"/>
              <p:cNvSpPr/>
              <p:nvPr/>
            </p:nvSpPr>
            <p:spPr>
              <a:xfrm>
                <a:off x="6436800" y="6160680"/>
                <a:ext cx="32688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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4" name="Группа 117"/>
          <p:cNvGrpSpPr/>
          <p:nvPr/>
        </p:nvGrpSpPr>
        <p:grpSpPr>
          <a:xfrm>
            <a:off x="5587920" y="4611600"/>
            <a:ext cx="2055960" cy="714600"/>
            <a:chOff x="5587920" y="4611600"/>
            <a:chExt cx="2055960" cy="714600"/>
          </a:xfrm>
        </p:grpSpPr>
        <p:sp>
          <p:nvSpPr>
            <p:cNvPr id="1295" name="Скругленный прямоугольник 97"/>
            <p:cNvSpPr/>
            <p:nvPr/>
          </p:nvSpPr>
          <p:spPr>
            <a:xfrm>
              <a:off x="5587920" y="4611600"/>
              <a:ext cx="2055960" cy="714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15 </a:t>
              </a: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ми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6" name="Группа 114"/>
            <p:cNvGrpSpPr/>
            <p:nvPr/>
          </p:nvGrpSpPr>
          <p:grpSpPr>
            <a:xfrm>
              <a:off x="6068880" y="4758840"/>
              <a:ext cx="1083600" cy="480600"/>
              <a:chOff x="6068880" y="4758840"/>
              <a:chExt cx="1083600" cy="480600"/>
            </a:xfrm>
          </p:grpSpPr>
          <p:sp>
            <p:nvSpPr>
              <p:cNvPr id="1297" name="Прямая соединительная линия 115"/>
              <p:cNvSpPr/>
              <p:nvPr/>
            </p:nvSpPr>
            <p:spPr>
              <a:xfrm>
                <a:off x="6107040" y="4761720"/>
                <a:ext cx="1045440" cy="453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Прямая соединительная линия 116"/>
              <p:cNvSpPr/>
              <p:nvPr/>
            </p:nvSpPr>
            <p:spPr>
              <a:xfrm flipH="1">
                <a:off x="6109920" y="4766400"/>
                <a:ext cx="1036080" cy="473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Прямая соединительная линия 120"/>
              <p:cNvSpPr/>
              <p:nvPr/>
            </p:nvSpPr>
            <p:spPr>
              <a:xfrm>
                <a:off x="6068880" y="4758840"/>
                <a:ext cx="1045440" cy="453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Прямая соединительная линия 121"/>
              <p:cNvSpPr/>
              <p:nvPr/>
            </p:nvSpPr>
            <p:spPr>
              <a:xfrm flipH="1">
                <a:off x="6072120" y="4763160"/>
                <a:ext cx="1036080" cy="473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1" name="Скругленный прямоугольник 123"/>
          <p:cNvSpPr/>
          <p:nvPr/>
        </p:nvSpPr>
        <p:spPr>
          <a:xfrm>
            <a:off x="785880" y="2944800"/>
            <a:ext cx="757224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орость движения меньше, значит времени на путь затрачено больш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Скругленный прямоугольник 124"/>
          <p:cNvSpPr/>
          <p:nvPr/>
        </p:nvSpPr>
        <p:spPr>
          <a:xfrm>
            <a:off x="785880" y="2928960"/>
            <a:ext cx="757224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едет раньше на ¼ ча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3" name="Picture 2" descr="C:\Users\Надежда\Desktop\58c87b99e578ba2ced5adeb7834036b2.gif"/>
          <p:cNvPicPr/>
          <p:nvPr/>
        </p:nvPicPr>
        <p:blipFill>
          <a:blip r:embed="rId1"/>
          <a:stretch/>
        </p:blipFill>
        <p:spPr>
          <a:xfrm>
            <a:off x="7548480" y="3575160"/>
            <a:ext cx="1524240" cy="1218960"/>
          </a:xfrm>
          <a:prstGeom prst="rect">
            <a:avLst/>
          </a:prstGeom>
          <a:ln w="0">
            <a:noFill/>
          </a:ln>
        </p:spPr>
      </p:pic>
      <p:grpSp>
        <p:nvGrpSpPr>
          <p:cNvPr id="1304" name="Группа 125"/>
          <p:cNvGrpSpPr/>
          <p:nvPr/>
        </p:nvGrpSpPr>
        <p:grpSpPr>
          <a:xfrm>
            <a:off x="7829640" y="5357880"/>
            <a:ext cx="1243080" cy="1285920"/>
            <a:chOff x="7829640" y="5357880"/>
            <a:chExt cx="1243080" cy="1285920"/>
          </a:xfrm>
        </p:grpSpPr>
        <p:pic>
          <p:nvPicPr>
            <p:cNvPr id="1305" name="Picture 3" descr="C:\Users\Надежда\Videos\Downloads\Pictures\Организатор клипов (Microsoft)\j0441443.png"/>
            <p:cNvPicPr/>
            <p:nvPr/>
          </p:nvPicPr>
          <p:blipFill>
            <a:blip r:embed="rId2"/>
            <a:stretch/>
          </p:blipFill>
          <p:spPr>
            <a:xfrm>
              <a:off x="8072640" y="5357880"/>
              <a:ext cx="79200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6" name="Скругленный прямоугольник 127">
              <a:hlinkClick r:id="" action="ppaction://hlinkshowjump?jump=endshow"/>
            </p:cNvPr>
            <p:cNvSpPr/>
            <p:nvPr/>
          </p:nvSpPr>
          <p:spPr>
            <a:xfrm>
              <a:off x="7829640" y="6212160"/>
              <a:ext cx="1243080" cy="4316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66"/>
                  </a:solidFill>
                  <a:latin typeface="Times New Roman"/>
                  <a:ea typeface="Times New Roman"/>
                </a:rPr>
                <a:t>вых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25" dur="indefinite" restart="never" nodeType="tmRoot">
          <p:childTnLst>
            <p:seq>
              <p:cTn id="1626" dur="indefinite" nodeType="mainSeq">
                <p:childTnLst>
                  <p:par>
                    <p:cTn id="1627" fill="hold">
                      <p:stCondLst>
                        <p:cond delay="0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1" restart="whenNotActive" nodeType="interactiveSeq" fill="hold">
                <p:stCondLst>
                  <p:cond evt="onClick">
                    <p:tgtEl>
                      <p:spTgt spid="1208"/>
                    </p:tgtEl>
                  </p:cond>
                </p:stCondLst>
                <p:childTnLst>
                  <p:par>
                    <p:cTn id="1632" fill="hold">
                      <p:stCondLst>
                        <p:cond evt="onClick">
                          <p:tgtEl>
                            <p:spTgt spid="1208"/>
                          </p:tgtEl>
                        </p:cond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6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evt="onClick">
                          <p:tgtEl>
                            <p:spTgt spid="1208"/>
                          </p:tgtEl>
                        </p:cond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3" restart="whenNotActive" nodeType="interactiveSeq" fill="hold">
                <p:stCondLst>
                  <p:cond evt="onClick">
                    <p:tgtEl>
                      <p:spTgt spid="1226"/>
                    </p:tgtEl>
                  </p:cond>
                </p:stCondLst>
                <p:childTnLst>
                  <p:par>
                    <p:cTn id="1644" fill="hold">
                      <p:stCondLst>
                        <p:cond evt="onClick">
                          <p:tgtEl>
                            <p:spTgt spid="1226"/>
                          </p:tgtEl>
                        </p:cond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8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evt="onClick">
                          <p:tgtEl>
                            <p:spTgt spid="1226"/>
                          </p:tgtEl>
                        </p:cond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3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evt="onClick">
                          <p:tgtEl>
                            <p:spTgt spid="1226"/>
                          </p:tgtEl>
                        </p:cond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8" restart="whenNotActive" nodeType="interactiveSeq" fill="hold">
                <p:stCondLst>
                  <p:cond evt="onClick">
                    <p:tgtEl>
                      <p:spTgt spid="1242"/>
                    </p:tgtEl>
                  </p:cond>
                </p:stCondLst>
                <p:childTnLst>
                  <p:par>
                    <p:cTn id="1659" fill="hold">
                      <p:stCondLst>
                        <p:cond evt="onClick">
                          <p:tgtEl>
                            <p:spTgt spid="1242"/>
                          </p:tgtEl>
                        </p:cond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3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evt="onClick">
                          <p:tgtEl>
                            <p:spTgt spid="1242"/>
                          </p:tgtEl>
                        </p:cond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8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evt="onClick">
                          <p:tgtEl>
                            <p:spTgt spid="1242"/>
                          </p:tgtEl>
                        </p:cond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3" restart="whenNotActive" nodeType="interactiveSeq" fill="hold">
                <p:stCondLst>
                  <p:cond evt="onClick">
                    <p:tgtEl>
                      <p:spTgt spid="1260"/>
                    </p:tgtEl>
                  </p:cond>
                </p:stCondLst>
                <p:childTnLst>
                  <p:par>
                    <p:cTn id="1674" fill="hold">
                      <p:stCondLst>
                        <p:cond evt="onClick">
                          <p:tgtEl>
                            <p:spTgt spid="1260"/>
                          </p:tgtEl>
                        </p:cond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8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evt="onClick">
                          <p:tgtEl>
                            <p:spTgt spid="1260"/>
                          </p:tgtEl>
                        </p:cond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3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evt="onClick">
                          <p:tgtEl>
                            <p:spTgt spid="1260"/>
                          </p:tgtEl>
                        </p:cond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8" restart="whenNotActive" nodeType="interactiveSeq" fill="hold">
                <p:stCondLst>
                  <p:cond evt="onClick">
                    <p:tgtEl>
                      <p:spTgt spid="1302"/>
                    </p:tgtEl>
                  </p:cond>
                </p:stCondLst>
                <p:childTnLst>
                  <p:par>
                    <p:cTn id="1689" fill="hold">
                      <p:stCondLst>
                        <p:cond evt="onClick">
                          <p:tgtEl>
                            <p:spTgt spid="1302"/>
                          </p:tgtEl>
                        </p:cond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Прямоугольник 1"/>
          <p:cNvSpPr/>
          <p:nvPr/>
        </p:nvSpPr>
        <p:spPr>
          <a:xfrm>
            <a:off x="2500200" y="571680"/>
            <a:ext cx="39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 ГИА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Прямоугольник 2"/>
          <p:cNvSpPr/>
          <p:nvPr/>
        </p:nvSpPr>
        <p:spPr>
          <a:xfrm>
            <a:off x="3357720" y="1214280"/>
            <a:ext cx="2447640" cy="1511280"/>
          </a:xfrm>
          <a:prstGeom prst="rect">
            <a:avLst/>
          </a:prstGeom>
          <a:solidFill>
            <a:srgbClr val="d6ecee"/>
          </a:solidFill>
          <a:ln w="9360">
            <a:solidFill>
              <a:srgbClr val="72bf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ариант 1. Какова скорость автобус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Прямоугольник 4"/>
          <p:cNvSpPr/>
          <p:nvPr/>
        </p:nvSpPr>
        <p:spPr>
          <a:xfrm>
            <a:off x="3357720" y="2928960"/>
            <a:ext cx="2447640" cy="1511280"/>
          </a:xfrm>
          <a:prstGeom prst="rect">
            <a:avLst/>
          </a:prstGeom>
          <a:solidFill>
            <a:srgbClr val="d6ecee"/>
          </a:solidFill>
          <a:ln w="9360">
            <a:solidFill>
              <a:srgbClr val="72bf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ариант 2. Какова скорость автобус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Прямоугольник 5"/>
          <p:cNvSpPr/>
          <p:nvPr/>
        </p:nvSpPr>
        <p:spPr>
          <a:xfrm>
            <a:off x="3357720" y="4643280"/>
            <a:ext cx="2447640" cy="1511280"/>
          </a:xfrm>
          <a:prstGeom prst="rect">
            <a:avLst/>
          </a:prstGeom>
          <a:solidFill>
            <a:srgbClr val="d6ecee"/>
          </a:solidFill>
          <a:ln w="9360">
            <a:solidFill>
              <a:srgbClr val="72bf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ариант 3. Какова скорость велосипедис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Скругленный прямоугольник 30"/>
          <p:cNvSpPr/>
          <p:nvPr/>
        </p:nvSpPr>
        <p:spPr>
          <a:xfrm>
            <a:off x="1015920" y="2500200"/>
            <a:ext cx="707256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 –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стояние,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 –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орость,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 -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мя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2" name="Группа 53"/>
          <p:cNvGrpSpPr/>
          <p:nvPr/>
        </p:nvGrpSpPr>
        <p:grpSpPr>
          <a:xfrm>
            <a:off x="500040" y="2166840"/>
            <a:ext cx="8215200" cy="1047960"/>
            <a:chOff x="500040" y="2166840"/>
            <a:chExt cx="8215200" cy="1047960"/>
          </a:xfrm>
        </p:grpSpPr>
        <p:sp>
          <p:nvSpPr>
            <p:cNvPr id="1313" name="Скругленный прямоугольник 47"/>
            <p:cNvSpPr/>
            <p:nvPr/>
          </p:nvSpPr>
          <p:spPr>
            <a:xfrm>
              <a:off x="500040" y="2169720"/>
              <a:ext cx="8215200" cy="1045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Прямоугольник 48"/>
            <p:cNvSpPr/>
            <p:nvPr/>
          </p:nvSpPr>
          <p:spPr>
            <a:xfrm>
              <a:off x="571320" y="2166840"/>
              <a:ext cx="8143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усть скорость автобуса х км/ч. Какое из уравнений соответствует условию задачи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5" name="Группа 46"/>
          <p:cNvGrpSpPr/>
          <p:nvPr/>
        </p:nvGrpSpPr>
        <p:grpSpPr>
          <a:xfrm>
            <a:off x="500040" y="82440"/>
            <a:ext cx="8215200" cy="1906560"/>
            <a:chOff x="500040" y="82440"/>
            <a:chExt cx="8215200" cy="1906560"/>
          </a:xfrm>
        </p:grpSpPr>
        <p:sp>
          <p:nvSpPr>
            <p:cNvPr id="1316" name="Скругленный прямоугольник 42"/>
            <p:cNvSpPr/>
            <p:nvPr/>
          </p:nvSpPr>
          <p:spPr>
            <a:xfrm>
              <a:off x="500040" y="82440"/>
              <a:ext cx="8215200" cy="1906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елосипедист от озера до деревни ехал со скоростью 15 км/ч, а обратно – со скоростью 10 км/ч. Сколько времени ушло у него на дорогу от озера до деревни, если на весь путь туда и обратно велосипедист затратил 1 ч? Велосипедист от озера до деревни ехал со скоростью 15 км/ч, а обратно – со скоростью 10 км/ч. Сколько времени ушло у него на дорогу от озера до деревни, если на весь путь туда и обратно велосипедист затратил 1 ч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Прямоугольник 43"/>
            <p:cNvSpPr/>
            <p:nvPr/>
          </p:nvSpPr>
          <p:spPr>
            <a:xfrm>
              <a:off x="785520" y="82440"/>
              <a:ext cx="77151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корость автобуса на 25 км/ч меньше скорости автомобиля. Расстояние от города до поселка автобус проезжает за 3 ч, а автомобиль за 2 ч. Какова скорость автобуса?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8" name="Скругленный прямоугольник 35"/>
          <p:cNvSpPr/>
          <p:nvPr/>
        </p:nvSpPr>
        <p:spPr>
          <a:xfrm>
            <a:off x="3532320" y="3262320"/>
            <a:ext cx="20714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9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20" name="Прямоугольник 34"/>
          <p:cNvSpPr/>
          <p:nvPr/>
        </p:nvSpPr>
        <p:spPr>
          <a:xfrm>
            <a:off x="714240" y="149400"/>
            <a:ext cx="7858440" cy="5000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Прямоугольник 33"/>
          <p:cNvSpPr/>
          <p:nvPr/>
        </p:nvSpPr>
        <p:spPr>
          <a:xfrm>
            <a:off x="714240" y="649440"/>
            <a:ext cx="2143440" cy="42228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Прямоугольник 29"/>
          <p:cNvSpPr/>
          <p:nvPr/>
        </p:nvSpPr>
        <p:spPr>
          <a:xfrm>
            <a:off x="2857680" y="649440"/>
            <a:ext cx="5715000" cy="42228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Прямоугольник 22"/>
          <p:cNvSpPr/>
          <p:nvPr/>
        </p:nvSpPr>
        <p:spPr>
          <a:xfrm>
            <a:off x="714240" y="1071720"/>
            <a:ext cx="4357800" cy="4284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Прямоугольник 37"/>
          <p:cNvSpPr/>
          <p:nvPr/>
        </p:nvSpPr>
        <p:spPr>
          <a:xfrm>
            <a:off x="5072040" y="1071720"/>
            <a:ext cx="3500640" cy="4284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5" name=""/>
          <p:cNvGraphicFramePr/>
          <p:nvPr/>
        </p:nvGraphicFramePr>
        <p:xfrm>
          <a:off x="571680" y="3960720"/>
          <a:ext cx="7913520" cy="2390760"/>
        </p:xfrm>
        <a:graphic>
          <a:graphicData uri="http://schemas.openxmlformats.org/drawingml/2006/table">
            <a:tbl>
              <a:tblPr/>
              <a:tblGrid>
                <a:gridCol w="2071440"/>
                <a:gridCol w="2286000"/>
                <a:gridCol w="1285920"/>
                <a:gridCol w="2270160"/>
              </a:tblGrid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о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бу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6" name="Скругленный прямоугольник 57"/>
          <p:cNvSpPr/>
          <p:nvPr/>
        </p:nvSpPr>
        <p:spPr>
          <a:xfrm>
            <a:off x="5048280" y="4889520"/>
            <a:ext cx="10796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Скругленный прямоугольник 58"/>
          <p:cNvSpPr/>
          <p:nvPr/>
        </p:nvSpPr>
        <p:spPr>
          <a:xfrm>
            <a:off x="2678040" y="5676840"/>
            <a:ext cx="21956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) 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Скругленный прямоугольник 59"/>
          <p:cNvSpPr/>
          <p:nvPr/>
        </p:nvSpPr>
        <p:spPr>
          <a:xfrm>
            <a:off x="2682720" y="4890960"/>
            <a:ext cx="21956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Скругленный прямоугольник 60"/>
          <p:cNvSpPr/>
          <p:nvPr/>
        </p:nvSpPr>
        <p:spPr>
          <a:xfrm>
            <a:off x="5048280" y="5683320"/>
            <a:ext cx="10796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Скругленный прямоугольник 61"/>
          <p:cNvSpPr/>
          <p:nvPr/>
        </p:nvSpPr>
        <p:spPr>
          <a:xfrm>
            <a:off x="6310440" y="4890960"/>
            <a:ext cx="20714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Скругленный прямоугольник 62"/>
          <p:cNvSpPr/>
          <p:nvPr/>
        </p:nvSpPr>
        <p:spPr>
          <a:xfrm>
            <a:off x="6310440" y="5676840"/>
            <a:ext cx="205560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5)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2" name="Picture 1" descr="F:\2.jpg"/>
          <p:cNvPicPr/>
          <p:nvPr/>
        </p:nvPicPr>
        <p:blipFill>
          <a:blip r:embed="rId1"/>
          <a:stretch/>
        </p:blipFill>
        <p:spPr>
          <a:xfrm>
            <a:off x="3902040" y="6334200"/>
            <a:ext cx="1316160" cy="542880"/>
          </a:xfrm>
          <a:prstGeom prst="rect">
            <a:avLst/>
          </a:prstGeom>
          <a:ln w="0">
            <a:noFill/>
          </a:ln>
        </p:spPr>
      </p:pic>
      <p:pic>
        <p:nvPicPr>
          <p:cNvPr id="1333" name="Picture 2" descr="C:\Users\Надежда\Desktop\КАРТИНКИ\рисунок Стрелка влево\102.gif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01040" y="628668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1334" name="Управляющая кнопка: сведения 27"/>
          <p:cNvSpPr/>
          <p:nvPr/>
        </p:nvSpPr>
        <p:spPr>
          <a:xfrm>
            <a:off x="8501040" y="4143240"/>
            <a:ext cx="642960" cy="85752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857520"/>
              <a:gd name="textAreaBottom" fmla="*/ 816120 h 857520"/>
            </a:gdLst>
            <a:ahLst/>
            <a:rect l="textAreaLeft" t="textAreaTop" r="textAreaRight" b="textAreaBottom"/>
            <a:pathLst>
              <a:path w="21600" h="28804">
                <a:moveTo>
                  <a:pt x="0" y="0"/>
                </a:moveTo>
                <a:lnTo>
                  <a:pt x="21600" y="0"/>
                </a:lnTo>
                <a:lnTo>
                  <a:pt x="21600" y="28804"/>
                </a:lnTo>
                <a:lnTo>
                  <a:pt x="0" y="28804"/>
                </a:lnTo>
                <a:close/>
              </a:path>
              <a:path fill="lightenLess" w="21600" h="28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4">
                <a:moveTo>
                  <a:pt x="21600" y="0"/>
                </a:moveTo>
                <a:lnTo>
                  <a:pt x="21600" y="28804"/>
                </a:lnTo>
                <a:lnTo>
                  <a:pt x="20200" y="27404"/>
                </a:lnTo>
                <a:lnTo>
                  <a:pt x="20200" y="1400"/>
                </a:lnTo>
                <a:close/>
              </a:path>
              <a:path fill="darkenLess" w="21600" h="28804">
                <a:moveTo>
                  <a:pt x="21600" y="28804"/>
                </a:moveTo>
                <a:lnTo>
                  <a:pt x="0" y="28804"/>
                </a:lnTo>
                <a:lnTo>
                  <a:pt x="1400" y="27404"/>
                </a:lnTo>
                <a:lnTo>
                  <a:pt x="20200" y="27404"/>
                </a:lnTo>
                <a:close/>
              </a:path>
              <a:path fill="lighten" w="21600" h="28804">
                <a:moveTo>
                  <a:pt x="0" y="28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4"/>
                </a:lnTo>
                <a:close/>
              </a:path>
              <a:path fill="darken" w="21600" h="28804">
                <a:moveTo>
                  <a:pt x="10800" y="7396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8804">
                <a:moveTo>
                  <a:pt x="10800" y="7770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8804">
                <a:moveTo>
                  <a:pt x="8224" y="11826"/>
                </a:moveTo>
                <a:lnTo>
                  <a:pt x="12088" y="11826"/>
                </a:lnTo>
                <a:lnTo>
                  <a:pt x="12088" y="18823"/>
                </a:lnTo>
                <a:lnTo>
                  <a:pt x="13376" y="18823"/>
                </a:lnTo>
                <a:lnTo>
                  <a:pt x="13376" y="19746"/>
                </a:lnTo>
                <a:lnTo>
                  <a:pt x="8224" y="19746"/>
                </a:lnTo>
                <a:lnTo>
                  <a:pt x="8224" y="18823"/>
                </a:lnTo>
                <a:lnTo>
                  <a:pt x="9512" y="18823"/>
                </a:lnTo>
                <a:lnTo>
                  <a:pt x="9512" y="12731"/>
                </a:lnTo>
                <a:lnTo>
                  <a:pt x="8224" y="12731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5" name="Прямая со стрелкой 36"/>
          <p:cNvCxnSpPr/>
          <p:nvPr/>
        </p:nvCxnSpPr>
        <p:spPr>
          <a:xfrm>
            <a:off x="4286160" y="1356840"/>
            <a:ext cx="1286640" cy="3715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36" name="Скругленный прямоугольник 53"/>
          <p:cNvSpPr/>
          <p:nvPr/>
        </p:nvSpPr>
        <p:spPr>
          <a:xfrm>
            <a:off x="2286000" y="5675400"/>
            <a:ext cx="306072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25 км/ч бол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Скругленный прямоугольник 63"/>
          <p:cNvSpPr/>
          <p:nvPr/>
        </p:nvSpPr>
        <p:spPr>
          <a:xfrm>
            <a:off x="2286000" y="4889520"/>
            <a:ext cx="306072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25 км/ч мен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8" name="Прямая со стрелкой 64"/>
          <p:cNvCxnSpPr/>
          <p:nvPr/>
        </p:nvCxnSpPr>
        <p:spPr>
          <a:xfrm flipH="1">
            <a:off x="3928680" y="500040"/>
            <a:ext cx="714960" cy="5286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39" name="Прямая со стрелкой 31"/>
          <p:cNvCxnSpPr/>
          <p:nvPr/>
        </p:nvCxnSpPr>
        <p:spPr>
          <a:xfrm flipH="1">
            <a:off x="3642840" y="499680"/>
            <a:ext cx="1000800" cy="4644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40" name="Прямая со стрелкой 40"/>
          <p:cNvCxnSpPr/>
          <p:nvPr/>
        </p:nvCxnSpPr>
        <p:spPr>
          <a:xfrm flipH="1">
            <a:off x="5857200" y="1357200"/>
            <a:ext cx="2072520" cy="4572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41" name="Прямая со стрелкой 26"/>
          <p:cNvCxnSpPr/>
          <p:nvPr/>
        </p:nvCxnSpPr>
        <p:spPr>
          <a:xfrm flipH="1">
            <a:off x="3928680" y="2642760"/>
            <a:ext cx="1643760" cy="2429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p:timing>
    <p:tnLst>
      <p:par>
        <p:cTn id="1693" dur="indefinite" restart="never" nodeType="tmRoot">
          <p:childTnLst>
            <p:seq>
              <p:cTn id="1694" restart="whenNotActive" nodeType="interactiveSeq" fill="hold">
                <p:stCondLst>
                  <p:cond evt="onClick">
                    <p:tgtEl>
                      <p:spTgt spid="1332"/>
                    </p:tgtEl>
                  </p:cond>
                </p:stCondLst>
                <p:childTnLst>
                  <p:par>
                    <p:cTn id="1695" fill="hold">
                      <p:stCondLst>
                        <p:cond evt="onClick">
                          <p:tgtEl>
                            <p:spTgt spid="1332"/>
                          </p:tgtEl>
                        </p:cond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evt="onClick">
                          <p:tgtEl>
                            <p:spTgt spid="1332"/>
                          </p:tgtEl>
                        </p:cond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evt="onClick">
                          <p:tgtEl>
                            <p:spTgt spid="1332"/>
                          </p:tgtEl>
                        </p:cond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evt="onClick">
                          <p:tgtEl>
                            <p:spTgt spid="1332"/>
                          </p:tgtEl>
                        </p:cond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1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13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evt="onClick">
                          <p:tgtEl>
                            <p:spTgt spid="1332"/>
                          </p:tgtEl>
                        </p:cond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1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evt="onClick">
                          <p:tgtEl>
                            <p:spTgt spid="1332"/>
                          </p:tgtEl>
                        </p:cond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evt="onClick">
                          <p:tgtEl>
                            <p:spTgt spid="1332"/>
                          </p:tgtEl>
                        </p:cond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0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evt="onClick">
                          <p:tgtEl>
                            <p:spTgt spid="1332"/>
                          </p:tgtEl>
                        </p:cond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evt="onClick">
                          <p:tgtEl>
                            <p:spTgt spid="1332"/>
                          </p:tgtEl>
                        </p:cond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1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evt="onClick">
                          <p:tgtEl>
                            <p:spTgt spid="1332"/>
                          </p:tgtEl>
                        </p:cond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0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evt="onClick">
                          <p:tgtEl>
                            <p:spTgt spid="1332"/>
                          </p:tgtEl>
                        </p:cond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evt="onClick">
                          <p:tgtEl>
                            <p:spTgt spid="1332"/>
                          </p:tgtEl>
                        </p:cond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evt="onClick">
                          <p:tgtEl>
                            <p:spTgt spid="1332"/>
                          </p:tgtEl>
                        </p:cond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1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evt="onClick">
                          <p:tgtEl>
                            <p:spTgt spid="1332"/>
                          </p:tgtEl>
                        </p:cond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fill="hold">
                      <p:stCondLst>
                        <p:cond evt="onClick">
                          <p:tgtEl>
                            <p:spTgt spid="1332"/>
                          </p:tgtEl>
                        </p:cond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fill="hold">
                      <p:stCondLst>
                        <p:cond evt="onClick">
                          <p:tgtEl>
                            <p:spTgt spid="1332"/>
                          </p:tgtEl>
                        </p:cond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0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evt="onClick">
                          <p:tgtEl>
                            <p:spTgt spid="1332"/>
                          </p:tgtEl>
                        </p:cond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9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evt="onClick">
                          <p:tgtEl>
                            <p:spTgt spid="1332"/>
                          </p:tgtEl>
                        </p:cond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4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evt="onClick">
                          <p:tgtEl>
                            <p:spTgt spid="1332"/>
                          </p:tgtEl>
                        </p:cond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9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12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4" restart="whenNotActive" nodeType="interactiveSeq" fill="hold">
                <p:stCondLst>
                  <p:cond evt="onClick">
                    <p:tgtEl>
                      <p:spTgt spid="1334"/>
                    </p:tgtEl>
                  </p:cond>
                </p:stCondLst>
                <p:childTnLst>
                  <p:par>
                    <p:cTn id="1815" fill="hold">
                      <p:stCondLst>
                        <p:cond evt="onClick">
                          <p:tgtEl>
                            <p:spTgt spid="1334"/>
                          </p:tgtEl>
                        </p:cond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9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evt="onClick">
                          <p:tgtEl>
                            <p:spTgt spid="1334"/>
                          </p:tgtEl>
                        </p:cond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4" restart="whenNotActive" nodeType="interactiveSeq" fill="hold">
                <p:stCondLst>
                  <p:cond evt="onClick">
                    <p:tgtEl>
                      <p:spTgt spid="1312"/>
                    </p:tgtEl>
                  </p:cond>
                </p:stCondLst>
                <p:childTnLst>
                  <p:par>
                    <p:cTn id="1825" fill="hold">
                      <p:stCondLst>
                        <p:cond evt="onClick">
                          <p:tgtEl>
                            <p:spTgt spid="1312"/>
                          </p:tgtEl>
                        </p:cond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9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1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2" name=""/>
          <p:cNvGraphicFramePr/>
          <p:nvPr/>
        </p:nvGraphicFramePr>
        <p:xfrm>
          <a:off x="571680" y="182520"/>
          <a:ext cx="7913520" cy="2390760"/>
        </p:xfrm>
        <a:graphic>
          <a:graphicData uri="http://schemas.openxmlformats.org/drawingml/2006/table">
            <a:tbl>
              <a:tblPr/>
              <a:tblGrid>
                <a:gridCol w="2071440"/>
                <a:gridCol w="2286000"/>
                <a:gridCol w="1285920"/>
                <a:gridCol w="2270160"/>
              </a:tblGrid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о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бу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43" name="Группа 2"/>
          <p:cNvGrpSpPr/>
          <p:nvPr/>
        </p:nvGrpSpPr>
        <p:grpSpPr>
          <a:xfrm>
            <a:off x="2678040" y="1103400"/>
            <a:ext cx="5703840" cy="1365120"/>
            <a:chOff x="2678040" y="1103400"/>
            <a:chExt cx="5703840" cy="1365120"/>
          </a:xfrm>
        </p:grpSpPr>
        <p:sp>
          <p:nvSpPr>
            <p:cNvPr id="1344" name="Скругленный прямоугольник 3"/>
            <p:cNvSpPr/>
            <p:nvPr/>
          </p:nvSpPr>
          <p:spPr>
            <a:xfrm>
              <a:off x="5048280" y="1103400"/>
              <a:ext cx="107928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 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Скругленный прямоугольник 4"/>
            <p:cNvSpPr/>
            <p:nvPr/>
          </p:nvSpPr>
          <p:spPr>
            <a:xfrm>
              <a:off x="2678040" y="1890720"/>
              <a:ext cx="219528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 +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5) км/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Скругленный прямоугольник 5"/>
            <p:cNvSpPr/>
            <p:nvPr/>
          </p:nvSpPr>
          <p:spPr>
            <a:xfrm>
              <a:off x="2684160" y="1104840"/>
              <a:ext cx="219528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км/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Скругленный прямоугольник 6"/>
            <p:cNvSpPr/>
            <p:nvPr/>
          </p:nvSpPr>
          <p:spPr>
            <a:xfrm>
              <a:off x="5048280" y="1897200"/>
              <a:ext cx="107928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 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Скругленный прямоугольник 7"/>
            <p:cNvSpPr/>
            <p:nvPr/>
          </p:nvSpPr>
          <p:spPr>
            <a:xfrm>
              <a:off x="6310080" y="1104840"/>
              <a:ext cx="207180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к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Скругленный прямоугольник 8"/>
            <p:cNvSpPr/>
            <p:nvPr/>
          </p:nvSpPr>
          <p:spPr>
            <a:xfrm>
              <a:off x="6310080" y="1890720"/>
              <a:ext cx="205560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 25) к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0" name="Скругленный прямоугольник 9"/>
          <p:cNvSpPr/>
          <p:nvPr/>
        </p:nvSpPr>
        <p:spPr>
          <a:xfrm>
            <a:off x="785880" y="2714760"/>
            <a:ext cx="757224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стояние одно и то же, т.е одинаков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Скругленный прямоугольник 27"/>
          <p:cNvSpPr/>
          <p:nvPr/>
        </p:nvSpPr>
        <p:spPr>
          <a:xfrm>
            <a:off x="1500120" y="3540240"/>
            <a:ext cx="357192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Скругленный прямоугольник 28"/>
          <p:cNvSpPr/>
          <p:nvPr/>
        </p:nvSpPr>
        <p:spPr>
          <a:xfrm>
            <a:off x="5302080" y="3532320"/>
            <a:ext cx="205596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Скругленный прямоугольник 29"/>
          <p:cNvSpPr/>
          <p:nvPr/>
        </p:nvSpPr>
        <p:spPr>
          <a:xfrm>
            <a:off x="1500120" y="4357800"/>
            <a:ext cx="357192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Скругленный прямоугольник 30"/>
          <p:cNvSpPr/>
          <p:nvPr/>
        </p:nvSpPr>
        <p:spPr>
          <a:xfrm>
            <a:off x="5286240" y="4357800"/>
            <a:ext cx="205596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Скругленный прямоугольник 31"/>
          <p:cNvSpPr/>
          <p:nvPr/>
        </p:nvSpPr>
        <p:spPr>
          <a:xfrm>
            <a:off x="1500120" y="5175360"/>
            <a:ext cx="357192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Скругленный прямоугольник 32"/>
          <p:cNvSpPr/>
          <p:nvPr/>
        </p:nvSpPr>
        <p:spPr>
          <a:xfrm>
            <a:off x="5294160" y="5183280"/>
            <a:ext cx="205740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Скругленный прямоугольник 33"/>
          <p:cNvSpPr/>
          <p:nvPr/>
        </p:nvSpPr>
        <p:spPr>
          <a:xfrm>
            <a:off x="1500120" y="6000840"/>
            <a:ext cx="357192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Скругленный прямоугольник 34"/>
          <p:cNvSpPr/>
          <p:nvPr/>
        </p:nvSpPr>
        <p:spPr>
          <a:xfrm>
            <a:off x="5310360" y="6000840"/>
            <a:ext cx="205560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9" name="Группа 44"/>
          <p:cNvGrpSpPr/>
          <p:nvPr/>
        </p:nvGrpSpPr>
        <p:grpSpPr>
          <a:xfrm>
            <a:off x="5286240" y="4270320"/>
            <a:ext cx="2055960" cy="786240"/>
            <a:chOff x="5286240" y="4270320"/>
            <a:chExt cx="2055960" cy="786240"/>
          </a:xfrm>
        </p:grpSpPr>
        <p:grpSp>
          <p:nvGrpSpPr>
            <p:cNvPr id="1360" name="Группа 99"/>
            <p:cNvGrpSpPr/>
            <p:nvPr/>
          </p:nvGrpSpPr>
          <p:grpSpPr>
            <a:xfrm>
              <a:off x="5286240" y="4270320"/>
              <a:ext cx="2055960" cy="786240"/>
              <a:chOff x="5286240" y="4270320"/>
              <a:chExt cx="2055960" cy="786240"/>
            </a:xfrm>
          </p:grpSpPr>
          <p:sp>
            <p:nvSpPr>
              <p:cNvPr id="1361" name="Скругленный прямоугольник 22"/>
              <p:cNvSpPr/>
              <p:nvPr/>
            </p:nvSpPr>
            <p:spPr>
              <a:xfrm>
                <a:off x="5286240" y="4341240"/>
                <a:ext cx="2055960" cy="7131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2" name="Группа 85"/>
              <p:cNvGrpSpPr/>
              <p:nvPr/>
            </p:nvGrpSpPr>
            <p:grpSpPr>
              <a:xfrm>
                <a:off x="5906160" y="4270320"/>
                <a:ext cx="916200" cy="786240"/>
                <a:chOff x="5906160" y="4270320"/>
                <a:chExt cx="916200" cy="786240"/>
              </a:xfrm>
            </p:grpSpPr>
            <p:sp>
              <p:nvSpPr>
                <p:cNvPr id="1363" name="Rectangle 80"/>
                <p:cNvSpPr/>
                <p:nvPr/>
              </p:nvSpPr>
              <p:spPr>
                <a:xfrm>
                  <a:off x="6663240" y="467532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4" name="Rectangle 81"/>
                <p:cNvSpPr/>
                <p:nvPr/>
              </p:nvSpPr>
              <p:spPr>
                <a:xfrm>
                  <a:off x="6108840" y="467532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5" name="Rectangle 86"/>
                <p:cNvSpPr/>
                <p:nvPr/>
              </p:nvSpPr>
              <p:spPr>
                <a:xfrm>
                  <a:off x="6498360" y="4333680"/>
                  <a:ext cx="1562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t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6" name="Rectangle 87"/>
                <p:cNvSpPr/>
                <p:nvPr/>
              </p:nvSpPr>
              <p:spPr>
                <a:xfrm>
                  <a:off x="5906160" y="4333680"/>
                  <a:ext cx="249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v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7" name="Rectangle 93"/>
                <p:cNvSpPr/>
                <p:nvPr/>
              </p:nvSpPr>
              <p:spPr>
                <a:xfrm>
                  <a:off x="6179400" y="4270320"/>
                  <a:ext cx="3236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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8" name="Группа 43"/>
            <p:cNvGrpSpPr/>
            <p:nvPr/>
          </p:nvGrpSpPr>
          <p:grpSpPr>
            <a:xfrm>
              <a:off x="5790600" y="4448520"/>
              <a:ext cx="1133640" cy="492840"/>
              <a:chOff x="5790600" y="4448520"/>
              <a:chExt cx="1133640" cy="492840"/>
            </a:xfrm>
          </p:grpSpPr>
          <p:sp>
            <p:nvSpPr>
              <p:cNvPr id="1369" name="Прямая соединительная линия 20"/>
              <p:cNvSpPr/>
              <p:nvPr/>
            </p:nvSpPr>
            <p:spPr>
              <a:xfrm flipH="1">
                <a:off x="5801400" y="4448520"/>
                <a:ext cx="1110240" cy="492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Прямая соединительная линия 21"/>
              <p:cNvSpPr/>
              <p:nvPr/>
            </p:nvSpPr>
            <p:spPr>
              <a:xfrm>
                <a:off x="5790600" y="4450320"/>
                <a:ext cx="1133640" cy="437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1" name="Группа 45"/>
          <p:cNvGrpSpPr/>
          <p:nvPr/>
        </p:nvGrpSpPr>
        <p:grpSpPr>
          <a:xfrm>
            <a:off x="5286240" y="5112000"/>
            <a:ext cx="2055960" cy="786240"/>
            <a:chOff x="5286240" y="5112000"/>
            <a:chExt cx="2055960" cy="786240"/>
          </a:xfrm>
        </p:grpSpPr>
        <p:grpSp>
          <p:nvGrpSpPr>
            <p:cNvPr id="1372" name="Группа 99"/>
            <p:cNvGrpSpPr/>
            <p:nvPr/>
          </p:nvGrpSpPr>
          <p:grpSpPr>
            <a:xfrm>
              <a:off x="5286240" y="5112000"/>
              <a:ext cx="2055960" cy="786240"/>
              <a:chOff x="5286240" y="5112000"/>
              <a:chExt cx="2055960" cy="786240"/>
            </a:xfrm>
          </p:grpSpPr>
          <p:sp>
            <p:nvSpPr>
              <p:cNvPr id="1373" name="Скругленный прямоугольник 50"/>
              <p:cNvSpPr/>
              <p:nvPr/>
            </p:nvSpPr>
            <p:spPr>
              <a:xfrm>
                <a:off x="5286240" y="5182920"/>
                <a:ext cx="2055960" cy="7131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Группа 85"/>
              <p:cNvGrpSpPr/>
              <p:nvPr/>
            </p:nvGrpSpPr>
            <p:grpSpPr>
              <a:xfrm>
                <a:off x="5834520" y="5112000"/>
                <a:ext cx="916200" cy="786240"/>
                <a:chOff x="5834520" y="5112000"/>
                <a:chExt cx="916200" cy="786240"/>
              </a:xfrm>
            </p:grpSpPr>
            <p:sp>
              <p:nvSpPr>
                <p:cNvPr id="1375" name="Rectangle 80"/>
                <p:cNvSpPr/>
                <p:nvPr/>
              </p:nvSpPr>
              <p:spPr>
                <a:xfrm>
                  <a:off x="6591600" y="551700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Rectangle 81"/>
                <p:cNvSpPr/>
                <p:nvPr/>
              </p:nvSpPr>
              <p:spPr>
                <a:xfrm>
                  <a:off x="6037200" y="551700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7" name="Rectangle 86"/>
                <p:cNvSpPr/>
                <p:nvPr/>
              </p:nvSpPr>
              <p:spPr>
                <a:xfrm>
                  <a:off x="6426720" y="5175360"/>
                  <a:ext cx="1562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t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8" name="Rectangle 87"/>
                <p:cNvSpPr/>
                <p:nvPr/>
              </p:nvSpPr>
              <p:spPr>
                <a:xfrm>
                  <a:off x="5834520" y="5175360"/>
                  <a:ext cx="249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v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9" name="Rectangle 93"/>
                <p:cNvSpPr/>
                <p:nvPr/>
              </p:nvSpPr>
              <p:spPr>
                <a:xfrm>
                  <a:off x="6107760" y="5112000"/>
                  <a:ext cx="3236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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0" name="Группа 47"/>
            <p:cNvGrpSpPr/>
            <p:nvPr/>
          </p:nvGrpSpPr>
          <p:grpSpPr>
            <a:xfrm>
              <a:off x="5719320" y="5290200"/>
              <a:ext cx="1133640" cy="492480"/>
              <a:chOff x="5719320" y="5290200"/>
              <a:chExt cx="1133640" cy="492480"/>
            </a:xfrm>
          </p:grpSpPr>
          <p:sp>
            <p:nvSpPr>
              <p:cNvPr id="1381" name="Прямая соединительная линия 48"/>
              <p:cNvSpPr/>
              <p:nvPr/>
            </p:nvSpPr>
            <p:spPr>
              <a:xfrm flipH="1">
                <a:off x="5730120" y="5290200"/>
                <a:ext cx="1110240" cy="492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Прямая соединительная линия 49"/>
              <p:cNvSpPr/>
              <p:nvPr/>
            </p:nvSpPr>
            <p:spPr>
              <a:xfrm>
                <a:off x="5719320" y="5291640"/>
                <a:ext cx="1133640" cy="436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3" name="Группа 92"/>
          <p:cNvGrpSpPr/>
          <p:nvPr/>
        </p:nvGrpSpPr>
        <p:grpSpPr>
          <a:xfrm>
            <a:off x="5302080" y="5938200"/>
            <a:ext cx="2055960" cy="785880"/>
            <a:chOff x="5302080" y="5938200"/>
            <a:chExt cx="2055960" cy="785880"/>
          </a:xfrm>
        </p:grpSpPr>
        <p:grpSp>
          <p:nvGrpSpPr>
            <p:cNvPr id="1384" name="Группа 99"/>
            <p:cNvGrpSpPr/>
            <p:nvPr/>
          </p:nvGrpSpPr>
          <p:grpSpPr>
            <a:xfrm>
              <a:off x="5302080" y="5938200"/>
              <a:ext cx="2055960" cy="785880"/>
              <a:chOff x="5302080" y="5938200"/>
              <a:chExt cx="2055960" cy="785880"/>
            </a:xfrm>
          </p:grpSpPr>
          <p:sp>
            <p:nvSpPr>
              <p:cNvPr id="1385" name="Скругленный прямоугольник 79"/>
              <p:cNvSpPr/>
              <p:nvPr/>
            </p:nvSpPr>
            <p:spPr>
              <a:xfrm>
                <a:off x="5302080" y="6010200"/>
                <a:ext cx="2055960" cy="7128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6" name="Группа 85"/>
              <p:cNvGrpSpPr/>
              <p:nvPr/>
            </p:nvGrpSpPr>
            <p:grpSpPr>
              <a:xfrm>
                <a:off x="5968080" y="5938200"/>
                <a:ext cx="942120" cy="785880"/>
                <a:chOff x="5968080" y="5938200"/>
                <a:chExt cx="942120" cy="785880"/>
              </a:xfrm>
            </p:grpSpPr>
            <p:sp>
              <p:nvSpPr>
                <p:cNvPr id="1387" name="Rectangle 78"/>
                <p:cNvSpPr/>
                <p:nvPr/>
              </p:nvSpPr>
              <p:spPr>
                <a:xfrm>
                  <a:off x="6751080" y="634284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8" name="Rectangle 79"/>
                <p:cNvSpPr/>
                <p:nvPr/>
              </p:nvSpPr>
              <p:spPr>
                <a:xfrm>
                  <a:off x="6208920" y="634284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9" name="Rectangle 84"/>
                <p:cNvSpPr/>
                <p:nvPr/>
              </p:nvSpPr>
              <p:spPr>
                <a:xfrm>
                  <a:off x="6622560" y="6001560"/>
                  <a:ext cx="1562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t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0" name="Rectangle 85"/>
                <p:cNvSpPr/>
                <p:nvPr/>
              </p:nvSpPr>
              <p:spPr>
                <a:xfrm>
                  <a:off x="5968080" y="6001560"/>
                  <a:ext cx="249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v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1" name="Rectangle 91"/>
                <p:cNvSpPr/>
                <p:nvPr/>
              </p:nvSpPr>
              <p:spPr>
                <a:xfrm>
                  <a:off x="6266880" y="5938200"/>
                  <a:ext cx="3236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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2" name="Группа 74"/>
            <p:cNvGrpSpPr/>
            <p:nvPr/>
          </p:nvGrpSpPr>
          <p:grpSpPr>
            <a:xfrm>
              <a:off x="5469120" y="6131520"/>
              <a:ext cx="1133640" cy="492480"/>
              <a:chOff x="5469120" y="6131520"/>
              <a:chExt cx="1133640" cy="492480"/>
            </a:xfrm>
          </p:grpSpPr>
          <p:sp>
            <p:nvSpPr>
              <p:cNvPr id="1393" name="Прямая соединительная линия 59"/>
              <p:cNvSpPr/>
              <p:nvPr/>
            </p:nvSpPr>
            <p:spPr>
              <a:xfrm flipH="1">
                <a:off x="5479920" y="6131520"/>
                <a:ext cx="1110240" cy="492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Прямая соединительная линия 60"/>
              <p:cNvSpPr/>
              <p:nvPr/>
            </p:nvSpPr>
            <p:spPr>
              <a:xfrm>
                <a:off x="5469120" y="6132960"/>
                <a:ext cx="1133640" cy="436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95" name="Picture 2" descr="C:\Users\Надежда\Desktop\КАРТИНКИ\Автобус\3b365df9be941dff91f0a76677218867.gif"/>
          <p:cNvPicPr/>
          <p:nvPr/>
        </p:nvPicPr>
        <p:blipFill>
          <a:blip r:embed="rId1"/>
          <a:stretch/>
        </p:blipFill>
        <p:spPr>
          <a:xfrm>
            <a:off x="7577280" y="3629160"/>
            <a:ext cx="1209600" cy="657000"/>
          </a:xfrm>
          <a:prstGeom prst="rect">
            <a:avLst/>
          </a:prstGeom>
          <a:ln w="0">
            <a:noFill/>
          </a:ln>
        </p:spPr>
      </p:pic>
      <p:grpSp>
        <p:nvGrpSpPr>
          <p:cNvPr id="1396" name="Группа 57"/>
          <p:cNvGrpSpPr/>
          <p:nvPr/>
        </p:nvGrpSpPr>
        <p:grpSpPr>
          <a:xfrm>
            <a:off x="7829640" y="5357880"/>
            <a:ext cx="1243080" cy="1285920"/>
            <a:chOff x="7829640" y="5357880"/>
            <a:chExt cx="1243080" cy="1285920"/>
          </a:xfrm>
        </p:grpSpPr>
        <p:pic>
          <p:nvPicPr>
            <p:cNvPr id="1397" name="Picture 3" descr="C:\Users\Надежда\Videos\Downloads\Pictures\Организатор клипов (Microsoft)\j0441443.png"/>
            <p:cNvPicPr/>
            <p:nvPr/>
          </p:nvPicPr>
          <p:blipFill>
            <a:blip r:embed="rId2"/>
            <a:stretch/>
          </p:blipFill>
          <p:spPr>
            <a:xfrm>
              <a:off x="8072640" y="5357880"/>
              <a:ext cx="79200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8" name="Скругленный прямоугольник 61">
              <a:hlinkClick r:id="" action="ppaction://hlinkshowjump?jump=endshow"/>
            </p:cNvPr>
            <p:cNvSpPr/>
            <p:nvPr/>
          </p:nvSpPr>
          <p:spPr>
            <a:xfrm>
              <a:off x="7829640" y="6212160"/>
              <a:ext cx="1243080" cy="4316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66"/>
                  </a:solidFill>
                  <a:latin typeface="Times New Roman"/>
                  <a:ea typeface="Times New Roman"/>
                </a:rPr>
                <a:t>вых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3" dur="indefinite" restart="never" nodeType="tmRoot">
          <p:childTnLst>
            <p:seq>
              <p:cTn id="1834" restart="whenNotActive" nodeType="interactiveSeq" fill="hold">
                <p:stCondLst>
                  <p:cond evt="onClick">
                    <p:tgtEl>
                      <p:spTgt spid="1351"/>
                    </p:tgtEl>
                  </p:cond>
                </p:stCondLst>
                <p:childTnLst>
                  <p:par>
                    <p:cTn id="1835" fill="hold">
                      <p:stCondLst>
                        <p:cond evt="onClick">
                          <p:tgtEl>
                            <p:spTgt spid="1351"/>
                          </p:tgtEl>
                        </p:cond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9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fill="hold">
                      <p:stCondLst>
                        <p:cond evt="onClick">
                          <p:tgtEl>
                            <p:spTgt spid="1351"/>
                          </p:tgtEl>
                        </p:cond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6" restart="whenNotActive" nodeType="interactiveSeq" fill="hold">
                <p:stCondLst>
                  <p:cond evt="onClick">
                    <p:tgtEl>
                      <p:spTgt spid="1353"/>
                    </p:tgtEl>
                  </p:cond>
                </p:stCondLst>
                <p:childTnLst>
                  <p:par>
                    <p:cTn id="1847" fill="hold">
                      <p:stCondLst>
                        <p:cond evt="onClick">
                          <p:tgtEl>
                            <p:spTgt spid="1353"/>
                          </p:tgtEl>
                        </p:cond>
                      </p:stCondLst>
                      <p:childTnLst>
                        <p:par>
                          <p:cTn id="1848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1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fill="hold">
                      <p:stCondLst>
                        <p:cond evt="onClick">
                          <p:tgtEl>
                            <p:spTgt spid="1353"/>
                          </p:tgtEl>
                        </p:cond>
                      </p:stCondLst>
                      <p:childTnLst>
                        <p:par>
                          <p:cTn id="1853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6" dur="5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fill="hold">
                      <p:stCondLst>
                        <p:cond evt="onClick">
                          <p:tgtEl>
                            <p:spTgt spid="1353"/>
                          </p:tgtEl>
                        </p:cond>
                      </p:stCondLst>
                      <p:childTnLst>
                        <p:par>
                          <p:cTn id="1858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1" restart="whenNotActive" nodeType="interactiveSeq" fill="hold">
                <p:stCondLst>
                  <p:cond evt="onClick">
                    <p:tgtEl>
                      <p:spTgt spid="1355"/>
                    </p:tgtEl>
                  </p:cond>
                </p:stCondLst>
                <p:childTnLst>
                  <p:par>
                    <p:cTn id="1862" fill="hold">
                      <p:stCondLst>
                        <p:cond evt="onClick">
                          <p:tgtEl>
                            <p:spTgt spid="1355"/>
                          </p:tgtEl>
                        </p:cond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6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evt="onClick">
                          <p:tgtEl>
                            <p:spTgt spid="1355"/>
                          </p:tgtEl>
                        </p:cond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1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evt="onClick">
                          <p:tgtEl>
                            <p:spTgt spid="1355"/>
                          </p:tgtEl>
                        </p:cond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6" restart="whenNotActive" nodeType="interactiveSeq" fill="hold">
                <p:stCondLst>
                  <p:cond evt="onClick">
                    <p:tgtEl>
                      <p:spTgt spid="1357"/>
                    </p:tgtEl>
                  </p:cond>
                </p:stCondLst>
                <p:childTnLst>
                  <p:par>
                    <p:cTn id="1877" fill="hold">
                      <p:stCondLst>
                        <p:cond evt="onClick">
                          <p:tgtEl>
                            <p:spTgt spid="1357"/>
                          </p:tgtEl>
                        </p:cond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1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fill="hold">
                      <p:stCondLst>
                        <p:cond evt="onClick">
                          <p:tgtEl>
                            <p:spTgt spid="1357"/>
                          </p:tgtEl>
                        </p:cond>
                      </p:stCondLst>
                      <p:childTnLst>
                        <p:par>
                          <p:cTn id="1883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6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fill="hold">
                      <p:stCondLst>
                        <p:cond evt="onClick">
                          <p:tgtEl>
                            <p:spTgt spid="1357"/>
                          </p:tgtEl>
                        </p:cond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351360" y="43236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1"/>
          <p:cNvSpPr/>
          <p:nvPr/>
        </p:nvSpPr>
        <p:spPr>
          <a:xfrm>
            <a:off x="539640" y="333360"/>
            <a:ext cx="842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alibri (Заголовки)ой текст)"/>
              </a:rPr>
              <a:t>Если обе части уравнения являются рациональным выражением, то такие уравнения называют рациональным уравн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2985480" y="1747800"/>
            <a:ext cx="32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Рациональные урав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5"/>
          <p:cNvSpPr/>
          <p:nvPr/>
        </p:nvSpPr>
        <p:spPr>
          <a:xfrm flipH="1">
            <a:off x="2195280" y="2205000"/>
            <a:ext cx="865080" cy="8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8"/>
          <p:cNvSpPr/>
          <p:nvPr/>
        </p:nvSpPr>
        <p:spPr>
          <a:xfrm>
            <a:off x="6084720" y="2133720"/>
            <a:ext cx="863640" cy="8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9"/>
          <p:cNvSpPr/>
          <p:nvPr/>
        </p:nvSpPr>
        <p:spPr>
          <a:xfrm>
            <a:off x="327600" y="3068640"/>
            <a:ext cx="371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Целые рациональные урав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5223600" y="3068640"/>
            <a:ext cx="37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Дробно-рациональные урав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2"/>
              <p:cNvSpPr txBox="1"/>
              <p:nvPr/>
            </p:nvSpPr>
            <p:spPr>
              <a:xfrm>
                <a:off x="539640" y="3573360"/>
                <a:ext cx="2764080" cy="30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х</m:t>
                        </m:r>
                        <m:r>
                          <m:t xml:space="preserve">;</m:t>
                        </m:r>
                      </m:e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f>
                          <m:num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2"/>
              <p:cNvSpPr txBox="1"/>
              <p:nvPr/>
            </p:nvSpPr>
            <p:spPr>
              <a:xfrm>
                <a:off x="5904000" y="3500280"/>
                <a:ext cx="2700360" cy="309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+</m:t>
                            </m:r>
                            <m:r>
                              <m:t xml:space="preserve">х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х</m:t>
                        </m:r>
                        <m:r>
                          <m:t xml:space="preserve">;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f>
                          <m:num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х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Управляющая кнопка: сведения 27"/>
          <p:cNvSpPr/>
          <p:nvPr/>
        </p:nvSpPr>
        <p:spPr>
          <a:xfrm>
            <a:off x="8501040" y="4143240"/>
            <a:ext cx="642960" cy="85752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857520"/>
              <a:gd name="textAreaBottom" fmla="*/ 816120 h 857520"/>
            </a:gdLst>
            <a:ahLst/>
            <a:rect l="textAreaLeft" t="textAreaTop" r="textAreaRight" b="textAreaBottom"/>
            <a:pathLst>
              <a:path w="21600" h="28804">
                <a:moveTo>
                  <a:pt x="0" y="0"/>
                </a:moveTo>
                <a:lnTo>
                  <a:pt x="21600" y="0"/>
                </a:lnTo>
                <a:lnTo>
                  <a:pt x="21600" y="28804"/>
                </a:lnTo>
                <a:lnTo>
                  <a:pt x="0" y="28804"/>
                </a:lnTo>
                <a:close/>
              </a:path>
              <a:path fill="lightenLess" w="21600" h="28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4">
                <a:moveTo>
                  <a:pt x="21600" y="0"/>
                </a:moveTo>
                <a:lnTo>
                  <a:pt x="21600" y="28804"/>
                </a:lnTo>
                <a:lnTo>
                  <a:pt x="20200" y="27404"/>
                </a:lnTo>
                <a:lnTo>
                  <a:pt x="20200" y="1400"/>
                </a:lnTo>
                <a:close/>
              </a:path>
              <a:path fill="darkenLess" w="21600" h="28804">
                <a:moveTo>
                  <a:pt x="21600" y="28804"/>
                </a:moveTo>
                <a:lnTo>
                  <a:pt x="0" y="28804"/>
                </a:lnTo>
                <a:lnTo>
                  <a:pt x="1400" y="27404"/>
                </a:lnTo>
                <a:lnTo>
                  <a:pt x="20200" y="27404"/>
                </a:lnTo>
                <a:close/>
              </a:path>
              <a:path fill="lighten" w="21600" h="28804">
                <a:moveTo>
                  <a:pt x="0" y="28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4"/>
                </a:lnTo>
                <a:close/>
              </a:path>
              <a:path fill="darken" w="21600" h="28804">
                <a:moveTo>
                  <a:pt x="10800" y="7396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8804">
                <a:moveTo>
                  <a:pt x="10800" y="7770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8804">
                <a:moveTo>
                  <a:pt x="8224" y="11826"/>
                </a:moveTo>
                <a:lnTo>
                  <a:pt x="12088" y="11826"/>
                </a:lnTo>
                <a:lnTo>
                  <a:pt x="12088" y="18823"/>
                </a:lnTo>
                <a:lnTo>
                  <a:pt x="13376" y="18823"/>
                </a:lnTo>
                <a:lnTo>
                  <a:pt x="13376" y="19746"/>
                </a:lnTo>
                <a:lnTo>
                  <a:pt x="8224" y="19746"/>
                </a:lnTo>
                <a:lnTo>
                  <a:pt x="8224" y="18823"/>
                </a:lnTo>
                <a:lnTo>
                  <a:pt x="9512" y="18823"/>
                </a:lnTo>
                <a:lnTo>
                  <a:pt x="9512" y="12731"/>
                </a:lnTo>
                <a:lnTo>
                  <a:pt x="8224" y="12731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0" name=""/>
          <p:cNvGraphicFramePr/>
          <p:nvPr/>
        </p:nvGraphicFramePr>
        <p:xfrm>
          <a:off x="87480" y="3960720"/>
          <a:ext cx="8485200" cy="2390760"/>
        </p:xfrm>
        <a:graphic>
          <a:graphicData uri="http://schemas.openxmlformats.org/drawingml/2006/table">
            <a:tbl>
              <a:tblPr/>
              <a:tblGrid>
                <a:gridCol w="2484360"/>
                <a:gridCol w="2373120"/>
                <a:gridCol w="1357560"/>
                <a:gridCol w="2270160"/>
              </a:tblGrid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о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бу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осипеди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01" name="Группа 46"/>
          <p:cNvGrpSpPr/>
          <p:nvPr/>
        </p:nvGrpSpPr>
        <p:grpSpPr>
          <a:xfrm>
            <a:off x="500040" y="82440"/>
            <a:ext cx="8215200" cy="1906560"/>
            <a:chOff x="500040" y="82440"/>
            <a:chExt cx="8215200" cy="1906560"/>
          </a:xfrm>
        </p:grpSpPr>
        <p:sp>
          <p:nvSpPr>
            <p:cNvPr id="1402" name="Скругленный прямоугольник 46"/>
            <p:cNvSpPr/>
            <p:nvPr/>
          </p:nvSpPr>
          <p:spPr>
            <a:xfrm>
              <a:off x="500040" y="82440"/>
              <a:ext cx="8215200" cy="1906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елосипедист от озера до деревни ехал со скоростью 15 км/ч, а обратно – со скоростью 10 км/ч. Сколько времени ушло у него на дорогу от озера до деревни, если на весь путь туда и обратно велосипедист затратил 1 ч? Велосипедист от озера до деревни ехал со скоростью 15 км/ч, а обратно – со скоростью 10 км/ч. Сколько времени ушло у него на дорогу от озера до деревни, если на весь путь туда и обратно велосипедист затратил 1 ч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Прямоугольник 49"/>
            <p:cNvSpPr/>
            <p:nvPr/>
          </p:nvSpPr>
          <p:spPr>
            <a:xfrm>
              <a:off x="785520" y="82440"/>
              <a:ext cx="77151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корость автобуса на 27 км/ч больше скорости велосипедиста. Расстояние от города до поселка велосипедист проезжает за 5 ч, а автобус за 2 ч. Какова скорость автобуса?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4" name="Скругленный прямоугольник 30"/>
          <p:cNvSpPr/>
          <p:nvPr/>
        </p:nvSpPr>
        <p:spPr>
          <a:xfrm>
            <a:off x="1015920" y="2500200"/>
            <a:ext cx="707256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 –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стояние,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 –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орость,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 -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мя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5" name="Группа 53"/>
          <p:cNvGrpSpPr/>
          <p:nvPr/>
        </p:nvGrpSpPr>
        <p:grpSpPr>
          <a:xfrm>
            <a:off x="500040" y="2166840"/>
            <a:ext cx="8215200" cy="1047960"/>
            <a:chOff x="500040" y="2166840"/>
            <a:chExt cx="8215200" cy="1047960"/>
          </a:xfrm>
        </p:grpSpPr>
        <p:sp>
          <p:nvSpPr>
            <p:cNvPr id="1406" name="Скругленный прямоугольник 47"/>
            <p:cNvSpPr/>
            <p:nvPr/>
          </p:nvSpPr>
          <p:spPr>
            <a:xfrm>
              <a:off x="500040" y="2169720"/>
              <a:ext cx="8215200" cy="1045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Прямоугольник 48"/>
            <p:cNvSpPr/>
            <p:nvPr/>
          </p:nvSpPr>
          <p:spPr>
            <a:xfrm>
              <a:off x="571320" y="2166840"/>
              <a:ext cx="8143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усть скорость автобуса х км/ч. Какое из уравнений соответствует условию задачи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8" name="Скругленный прямоугольник 35"/>
          <p:cNvSpPr/>
          <p:nvPr/>
        </p:nvSpPr>
        <p:spPr>
          <a:xfrm>
            <a:off x="3532320" y="3294000"/>
            <a:ext cx="20714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9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10" name="Прямоугольник 34"/>
          <p:cNvSpPr/>
          <p:nvPr/>
        </p:nvSpPr>
        <p:spPr>
          <a:xfrm>
            <a:off x="714240" y="149400"/>
            <a:ext cx="7858440" cy="5000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Прямоугольник 33"/>
          <p:cNvSpPr/>
          <p:nvPr/>
        </p:nvSpPr>
        <p:spPr>
          <a:xfrm>
            <a:off x="714240" y="649440"/>
            <a:ext cx="2500560" cy="42228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Прямоугольник 29"/>
          <p:cNvSpPr/>
          <p:nvPr/>
        </p:nvSpPr>
        <p:spPr>
          <a:xfrm>
            <a:off x="3214800" y="633240"/>
            <a:ext cx="5357880" cy="42228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Прямоугольник 22"/>
          <p:cNvSpPr/>
          <p:nvPr/>
        </p:nvSpPr>
        <p:spPr>
          <a:xfrm>
            <a:off x="714240" y="1055520"/>
            <a:ext cx="5072040" cy="4208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Прямоугольник 37"/>
          <p:cNvSpPr/>
          <p:nvPr/>
        </p:nvSpPr>
        <p:spPr>
          <a:xfrm>
            <a:off x="5786280" y="1055520"/>
            <a:ext cx="2786400" cy="42876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Скругленный прямоугольник 57"/>
          <p:cNvSpPr/>
          <p:nvPr/>
        </p:nvSpPr>
        <p:spPr>
          <a:xfrm>
            <a:off x="5095800" y="4889520"/>
            <a:ext cx="10796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Скругленный прямоугольник 58"/>
          <p:cNvSpPr/>
          <p:nvPr/>
        </p:nvSpPr>
        <p:spPr>
          <a:xfrm>
            <a:off x="2678040" y="5676840"/>
            <a:ext cx="21956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) 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Скругленный прямоугольник 59"/>
          <p:cNvSpPr/>
          <p:nvPr/>
        </p:nvSpPr>
        <p:spPr>
          <a:xfrm>
            <a:off x="2682720" y="4890960"/>
            <a:ext cx="21956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Скругленный прямоугольник 60"/>
          <p:cNvSpPr/>
          <p:nvPr/>
        </p:nvSpPr>
        <p:spPr>
          <a:xfrm>
            <a:off x="5095800" y="5667480"/>
            <a:ext cx="10796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Скругленный прямоугольник 61"/>
          <p:cNvSpPr/>
          <p:nvPr/>
        </p:nvSpPr>
        <p:spPr>
          <a:xfrm>
            <a:off x="6405480" y="4890960"/>
            <a:ext cx="207180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Скругленный прямоугольник 62"/>
          <p:cNvSpPr/>
          <p:nvPr/>
        </p:nvSpPr>
        <p:spPr>
          <a:xfrm>
            <a:off x="6421320" y="5676840"/>
            <a:ext cx="205596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)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1" name="Picture 1" descr="F:\2.jpg"/>
          <p:cNvPicPr/>
          <p:nvPr/>
        </p:nvPicPr>
        <p:blipFill>
          <a:blip r:embed="rId2"/>
          <a:stretch/>
        </p:blipFill>
        <p:spPr>
          <a:xfrm>
            <a:off x="3902040" y="6334200"/>
            <a:ext cx="1316160" cy="542880"/>
          </a:xfrm>
          <a:prstGeom prst="rect">
            <a:avLst/>
          </a:prstGeom>
          <a:ln w="0">
            <a:noFill/>
          </a:ln>
        </p:spPr>
      </p:pic>
      <p:pic>
        <p:nvPicPr>
          <p:cNvPr id="1422" name="Picture 2" descr="C:\Users\Надежда\Desktop\КАРТИНКИ\рисунок Стрелка влево\102.gif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501040" y="6286680"/>
            <a:ext cx="571680" cy="571320"/>
          </a:xfrm>
          <a:prstGeom prst="rect">
            <a:avLst/>
          </a:prstGeom>
          <a:ln w="0">
            <a:noFill/>
          </a:ln>
        </p:spPr>
      </p:pic>
      <p:cxnSp>
        <p:nvCxnSpPr>
          <p:cNvPr id="1423" name="Прямая со стрелкой 36"/>
          <p:cNvCxnSpPr/>
          <p:nvPr/>
        </p:nvCxnSpPr>
        <p:spPr>
          <a:xfrm>
            <a:off x="5285160" y="1357200"/>
            <a:ext cx="500760" cy="4572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24" name="Скругленный прямоугольник 53"/>
          <p:cNvSpPr/>
          <p:nvPr/>
        </p:nvSpPr>
        <p:spPr>
          <a:xfrm>
            <a:off x="2286000" y="5659560"/>
            <a:ext cx="306072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27 км/ч мен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Скругленный прямоугольник 63"/>
          <p:cNvSpPr/>
          <p:nvPr/>
        </p:nvSpPr>
        <p:spPr>
          <a:xfrm>
            <a:off x="2270160" y="4878360"/>
            <a:ext cx="306072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27 км/ч бол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6" name="Прямая со стрелкой 64"/>
          <p:cNvCxnSpPr/>
          <p:nvPr/>
        </p:nvCxnSpPr>
        <p:spPr>
          <a:xfrm flipH="1">
            <a:off x="3928680" y="500040"/>
            <a:ext cx="714960" cy="5286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27" name="Прямая со стрелкой 31"/>
          <p:cNvCxnSpPr/>
          <p:nvPr/>
        </p:nvCxnSpPr>
        <p:spPr>
          <a:xfrm flipH="1">
            <a:off x="3642840" y="499680"/>
            <a:ext cx="1000800" cy="4644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28" name="Прямая со стрелкой 40"/>
          <p:cNvCxnSpPr/>
          <p:nvPr/>
        </p:nvCxnSpPr>
        <p:spPr>
          <a:xfrm flipH="1">
            <a:off x="5928480" y="1357200"/>
            <a:ext cx="2001240" cy="37872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29" name="Прямая со стрелкой 26"/>
          <p:cNvCxnSpPr/>
          <p:nvPr/>
        </p:nvCxnSpPr>
        <p:spPr>
          <a:xfrm flipH="1">
            <a:off x="4071240" y="2642760"/>
            <a:ext cx="1500840" cy="2429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p:timing>
    <p:tnLst>
      <p:par>
        <p:cTn id="1891" dur="indefinite" restart="never" nodeType="tmRoot">
          <p:childTnLst>
            <p:seq>
              <p:cTn id="1892" restart="whenNotActive" nodeType="interactiveSeq" fill="hold">
                <p:stCondLst>
                  <p:cond evt="onClick">
                    <p:tgtEl>
                      <p:spTgt spid="1421"/>
                    </p:tgtEl>
                  </p:cond>
                </p:stCondLst>
                <p:childTnLst>
                  <p:par>
                    <p:cTn id="1893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9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1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9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4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8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9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8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1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1962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9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0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1981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4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1985" fill="hold">
                            <p:stCondLst>
                              <p:cond delay="0"/>
                            </p:stCondLst>
                            <p:childTnLst>
                              <p:par>
                                <p:cTn id="19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8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7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8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1999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2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evt="onClick">
                          <p:tgtEl>
                            <p:spTgt spid="1421"/>
                          </p:tgtEl>
                        </p:cond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7" dur="5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0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0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2" restart="whenNotActive" nodeType="interactiveSeq" fill="hold">
                <p:stCondLst>
                  <p:cond evt="onClick">
                    <p:tgtEl>
                      <p:spTgt spid="1399"/>
                    </p:tgtEl>
                  </p:cond>
                </p:stCondLst>
                <p:childTnLst>
                  <p:par>
                    <p:cTn id="2013" fill="hold">
                      <p:stCondLst>
                        <p:cond evt="onClick">
                          <p:tgtEl>
                            <p:spTgt spid="1399"/>
                          </p:tgtEl>
                        </p:cond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7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8" fill="hold">
                      <p:stCondLst>
                        <p:cond evt="onClick">
                          <p:tgtEl>
                            <p:spTgt spid="1399"/>
                          </p:tgtEl>
                        </p:cond>
                      </p:stCondLst>
                      <p:childTnLst>
                        <p:par>
                          <p:cTn id="2019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2" restart="whenNotActive" nodeType="interactiveSeq" fill="hold">
                <p:stCondLst>
                  <p:cond evt="onClick">
                    <p:tgtEl>
                      <p:spTgt spid="1405"/>
                    </p:tgtEl>
                  </p:cond>
                </p:stCondLst>
                <p:childTnLst>
                  <p:par>
                    <p:cTn id="2023" fill="hold">
                      <p:stCondLst>
                        <p:cond evt="onClick">
                          <p:tgtEl>
                            <p:spTgt spid="1405"/>
                          </p:tgtEl>
                        </p:cond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7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29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0" name=""/>
          <p:cNvGraphicFramePr/>
          <p:nvPr/>
        </p:nvGraphicFramePr>
        <p:xfrm>
          <a:off x="341280" y="357120"/>
          <a:ext cx="8485200" cy="2390760"/>
        </p:xfrm>
        <a:graphic>
          <a:graphicData uri="http://schemas.openxmlformats.org/drawingml/2006/table">
            <a:tbl>
              <a:tblPr/>
              <a:tblGrid>
                <a:gridCol w="2643120"/>
                <a:gridCol w="2301840"/>
                <a:gridCol w="1270080"/>
                <a:gridCol w="2270160"/>
              </a:tblGrid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о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бу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осипеди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31" name="Группа 2"/>
          <p:cNvGrpSpPr/>
          <p:nvPr/>
        </p:nvGrpSpPr>
        <p:grpSpPr>
          <a:xfrm>
            <a:off x="3048120" y="1285920"/>
            <a:ext cx="5682960" cy="1365120"/>
            <a:chOff x="3048120" y="1285920"/>
            <a:chExt cx="5682960" cy="1365120"/>
          </a:xfrm>
        </p:grpSpPr>
        <p:sp>
          <p:nvSpPr>
            <p:cNvPr id="1432" name="Скругленный прямоугольник 3"/>
            <p:cNvSpPr/>
            <p:nvPr/>
          </p:nvSpPr>
          <p:spPr>
            <a:xfrm>
              <a:off x="5397480" y="1285920"/>
              <a:ext cx="107928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 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Скругленный прямоугольник 4"/>
            <p:cNvSpPr/>
            <p:nvPr/>
          </p:nvSpPr>
          <p:spPr>
            <a:xfrm>
              <a:off x="3073320" y="2073240"/>
              <a:ext cx="219708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 –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7) км/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Скругленный прямоугольник 5"/>
            <p:cNvSpPr/>
            <p:nvPr/>
          </p:nvSpPr>
          <p:spPr>
            <a:xfrm>
              <a:off x="3048120" y="1287360"/>
              <a:ext cx="219528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км/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Скругленный прямоугольник 6"/>
            <p:cNvSpPr/>
            <p:nvPr/>
          </p:nvSpPr>
          <p:spPr>
            <a:xfrm>
              <a:off x="5397480" y="2079720"/>
              <a:ext cx="107928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 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Скругленный прямоугольник 7"/>
            <p:cNvSpPr/>
            <p:nvPr/>
          </p:nvSpPr>
          <p:spPr>
            <a:xfrm>
              <a:off x="6659640" y="1287360"/>
              <a:ext cx="207144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к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Скругленный прямоугольник 8"/>
            <p:cNvSpPr/>
            <p:nvPr/>
          </p:nvSpPr>
          <p:spPr>
            <a:xfrm>
              <a:off x="6659640" y="2073240"/>
              <a:ext cx="205560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 –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7) к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8" name="Скругленный прямоугольник 9"/>
          <p:cNvSpPr/>
          <p:nvPr/>
        </p:nvSpPr>
        <p:spPr>
          <a:xfrm>
            <a:off x="785880" y="2817720"/>
            <a:ext cx="757224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стояние одно и то же, т.е одинаков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Скругленный прямоугольник 10"/>
          <p:cNvSpPr/>
          <p:nvPr/>
        </p:nvSpPr>
        <p:spPr>
          <a:xfrm>
            <a:off x="1500120" y="3627360"/>
            <a:ext cx="357192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Скругленный прямоугольник 11"/>
          <p:cNvSpPr/>
          <p:nvPr/>
        </p:nvSpPr>
        <p:spPr>
          <a:xfrm>
            <a:off x="5302080" y="3619440"/>
            <a:ext cx="205596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Скругленный прямоугольник 12"/>
          <p:cNvSpPr/>
          <p:nvPr/>
        </p:nvSpPr>
        <p:spPr>
          <a:xfrm>
            <a:off x="1500120" y="4429080"/>
            <a:ext cx="357192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Скругленный прямоугольник 13"/>
          <p:cNvSpPr/>
          <p:nvPr/>
        </p:nvSpPr>
        <p:spPr>
          <a:xfrm>
            <a:off x="5286240" y="4429080"/>
            <a:ext cx="205596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Скругленный прямоугольник 14"/>
          <p:cNvSpPr/>
          <p:nvPr/>
        </p:nvSpPr>
        <p:spPr>
          <a:xfrm>
            <a:off x="1500120" y="5246640"/>
            <a:ext cx="357192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5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Скругленный прямоугольник 15"/>
          <p:cNvSpPr/>
          <p:nvPr/>
        </p:nvSpPr>
        <p:spPr>
          <a:xfrm>
            <a:off x="5294160" y="5254560"/>
            <a:ext cx="205740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Скругленный прямоугольник 16"/>
          <p:cNvSpPr/>
          <p:nvPr/>
        </p:nvSpPr>
        <p:spPr>
          <a:xfrm>
            <a:off x="1500120" y="6072120"/>
            <a:ext cx="357192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5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Скругленный прямоугольник 17"/>
          <p:cNvSpPr/>
          <p:nvPr/>
        </p:nvSpPr>
        <p:spPr>
          <a:xfrm>
            <a:off x="5310360" y="6072120"/>
            <a:ext cx="205560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7" name="Группа 20"/>
          <p:cNvGrpSpPr/>
          <p:nvPr/>
        </p:nvGrpSpPr>
        <p:grpSpPr>
          <a:xfrm>
            <a:off x="5286240" y="3556080"/>
            <a:ext cx="2055960" cy="786240"/>
            <a:chOff x="5286240" y="3556080"/>
            <a:chExt cx="2055960" cy="786240"/>
          </a:xfrm>
        </p:grpSpPr>
        <p:grpSp>
          <p:nvGrpSpPr>
            <p:cNvPr id="1448" name="Группа 99"/>
            <p:cNvGrpSpPr/>
            <p:nvPr/>
          </p:nvGrpSpPr>
          <p:grpSpPr>
            <a:xfrm>
              <a:off x="5286240" y="3556080"/>
              <a:ext cx="2055960" cy="786240"/>
              <a:chOff x="5286240" y="3556080"/>
              <a:chExt cx="2055960" cy="786240"/>
            </a:xfrm>
          </p:grpSpPr>
          <p:sp>
            <p:nvSpPr>
              <p:cNvPr id="1449" name="Скругленный прямоугольник 25"/>
              <p:cNvSpPr/>
              <p:nvPr/>
            </p:nvSpPr>
            <p:spPr>
              <a:xfrm>
                <a:off x="5286240" y="3627000"/>
                <a:ext cx="2055960" cy="7131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0" name="Группа 85"/>
              <p:cNvGrpSpPr/>
              <p:nvPr/>
            </p:nvGrpSpPr>
            <p:grpSpPr>
              <a:xfrm>
                <a:off x="5906160" y="3556080"/>
                <a:ext cx="916200" cy="786240"/>
                <a:chOff x="5906160" y="3556080"/>
                <a:chExt cx="916200" cy="786240"/>
              </a:xfrm>
            </p:grpSpPr>
            <p:sp>
              <p:nvSpPr>
                <p:cNvPr id="1451" name="Rectangle 80"/>
                <p:cNvSpPr/>
                <p:nvPr/>
              </p:nvSpPr>
              <p:spPr>
                <a:xfrm>
                  <a:off x="6663240" y="396108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2" name="Rectangle 81"/>
                <p:cNvSpPr/>
                <p:nvPr/>
              </p:nvSpPr>
              <p:spPr>
                <a:xfrm>
                  <a:off x="6108840" y="396108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3" name="Rectangle 86"/>
                <p:cNvSpPr/>
                <p:nvPr/>
              </p:nvSpPr>
              <p:spPr>
                <a:xfrm>
                  <a:off x="6498360" y="3619440"/>
                  <a:ext cx="1562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t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4" name="Rectangle 87"/>
                <p:cNvSpPr/>
                <p:nvPr/>
              </p:nvSpPr>
              <p:spPr>
                <a:xfrm>
                  <a:off x="5906160" y="3619440"/>
                  <a:ext cx="249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v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5" name="Rectangle 93"/>
                <p:cNvSpPr/>
                <p:nvPr/>
              </p:nvSpPr>
              <p:spPr>
                <a:xfrm>
                  <a:off x="6179400" y="3556080"/>
                  <a:ext cx="3236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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56" name="Группа 43"/>
            <p:cNvGrpSpPr/>
            <p:nvPr/>
          </p:nvGrpSpPr>
          <p:grpSpPr>
            <a:xfrm>
              <a:off x="5790600" y="3734280"/>
              <a:ext cx="1133640" cy="492840"/>
              <a:chOff x="5790600" y="3734280"/>
              <a:chExt cx="1133640" cy="492840"/>
            </a:xfrm>
          </p:grpSpPr>
          <p:sp>
            <p:nvSpPr>
              <p:cNvPr id="1457" name="Прямая соединительная линия 23"/>
              <p:cNvSpPr/>
              <p:nvPr/>
            </p:nvSpPr>
            <p:spPr>
              <a:xfrm flipH="1">
                <a:off x="5801400" y="3734280"/>
                <a:ext cx="1110240" cy="492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Прямая соединительная линия 24"/>
              <p:cNvSpPr/>
              <p:nvPr/>
            </p:nvSpPr>
            <p:spPr>
              <a:xfrm>
                <a:off x="5790600" y="3736080"/>
                <a:ext cx="1133640" cy="437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9" name="Группа 32"/>
          <p:cNvGrpSpPr/>
          <p:nvPr/>
        </p:nvGrpSpPr>
        <p:grpSpPr>
          <a:xfrm>
            <a:off x="5286240" y="4357800"/>
            <a:ext cx="2055960" cy="786240"/>
            <a:chOff x="5286240" y="4357800"/>
            <a:chExt cx="2055960" cy="786240"/>
          </a:xfrm>
        </p:grpSpPr>
        <p:grpSp>
          <p:nvGrpSpPr>
            <p:cNvPr id="1460" name="Группа 99"/>
            <p:cNvGrpSpPr/>
            <p:nvPr/>
          </p:nvGrpSpPr>
          <p:grpSpPr>
            <a:xfrm>
              <a:off x="5286240" y="4357800"/>
              <a:ext cx="2055960" cy="786240"/>
              <a:chOff x="5286240" y="4357800"/>
              <a:chExt cx="2055960" cy="786240"/>
            </a:xfrm>
          </p:grpSpPr>
          <p:sp>
            <p:nvSpPr>
              <p:cNvPr id="1461" name="Скругленный прямоугольник 37"/>
              <p:cNvSpPr/>
              <p:nvPr/>
            </p:nvSpPr>
            <p:spPr>
              <a:xfrm>
                <a:off x="5286240" y="4428720"/>
                <a:ext cx="2055960" cy="7131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2" name="Группа 85"/>
              <p:cNvGrpSpPr/>
              <p:nvPr/>
            </p:nvGrpSpPr>
            <p:grpSpPr>
              <a:xfrm>
                <a:off x="5906160" y="4357800"/>
                <a:ext cx="916200" cy="786240"/>
                <a:chOff x="5906160" y="4357800"/>
                <a:chExt cx="916200" cy="786240"/>
              </a:xfrm>
            </p:grpSpPr>
            <p:sp>
              <p:nvSpPr>
                <p:cNvPr id="1463" name="Rectangle 80"/>
                <p:cNvSpPr/>
                <p:nvPr/>
              </p:nvSpPr>
              <p:spPr>
                <a:xfrm>
                  <a:off x="6663240" y="476280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4" name="Rectangle 81"/>
                <p:cNvSpPr/>
                <p:nvPr/>
              </p:nvSpPr>
              <p:spPr>
                <a:xfrm>
                  <a:off x="6108840" y="476280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5" name="Rectangle 86"/>
                <p:cNvSpPr/>
                <p:nvPr/>
              </p:nvSpPr>
              <p:spPr>
                <a:xfrm>
                  <a:off x="6498360" y="4421160"/>
                  <a:ext cx="1562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t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6" name="Rectangle 87"/>
                <p:cNvSpPr/>
                <p:nvPr/>
              </p:nvSpPr>
              <p:spPr>
                <a:xfrm>
                  <a:off x="5906160" y="4421160"/>
                  <a:ext cx="249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v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7" name="Rectangle 93"/>
                <p:cNvSpPr/>
                <p:nvPr/>
              </p:nvSpPr>
              <p:spPr>
                <a:xfrm>
                  <a:off x="6179400" y="4357800"/>
                  <a:ext cx="3236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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68" name="Группа 43"/>
            <p:cNvGrpSpPr/>
            <p:nvPr/>
          </p:nvGrpSpPr>
          <p:grpSpPr>
            <a:xfrm>
              <a:off x="5790600" y="4536000"/>
              <a:ext cx="1133640" cy="492840"/>
              <a:chOff x="5790600" y="4536000"/>
              <a:chExt cx="1133640" cy="492840"/>
            </a:xfrm>
          </p:grpSpPr>
          <p:sp>
            <p:nvSpPr>
              <p:cNvPr id="1469" name="Прямая соединительная линия 35"/>
              <p:cNvSpPr/>
              <p:nvPr/>
            </p:nvSpPr>
            <p:spPr>
              <a:xfrm flipH="1">
                <a:off x="5801400" y="4536000"/>
                <a:ext cx="1110240" cy="492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Прямая соединительная линия 36"/>
              <p:cNvSpPr/>
              <p:nvPr/>
            </p:nvSpPr>
            <p:spPr>
              <a:xfrm>
                <a:off x="5790600" y="4537800"/>
                <a:ext cx="1133640" cy="437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1" name="Группа 44"/>
          <p:cNvGrpSpPr/>
          <p:nvPr/>
        </p:nvGrpSpPr>
        <p:grpSpPr>
          <a:xfrm>
            <a:off x="5286240" y="5184000"/>
            <a:ext cx="2055960" cy="786240"/>
            <a:chOff x="5286240" y="5184000"/>
            <a:chExt cx="2055960" cy="786240"/>
          </a:xfrm>
        </p:grpSpPr>
        <p:grpSp>
          <p:nvGrpSpPr>
            <p:cNvPr id="1472" name="Группа 99"/>
            <p:cNvGrpSpPr/>
            <p:nvPr/>
          </p:nvGrpSpPr>
          <p:grpSpPr>
            <a:xfrm>
              <a:off x="5286240" y="5184000"/>
              <a:ext cx="2055960" cy="786240"/>
              <a:chOff x="5286240" y="5184000"/>
              <a:chExt cx="2055960" cy="786240"/>
            </a:xfrm>
          </p:grpSpPr>
          <p:sp>
            <p:nvSpPr>
              <p:cNvPr id="1473" name="Скругленный прямоугольник 49"/>
              <p:cNvSpPr/>
              <p:nvPr/>
            </p:nvSpPr>
            <p:spPr>
              <a:xfrm>
                <a:off x="5286240" y="5256000"/>
                <a:ext cx="2055960" cy="7131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4" name="Группа 85"/>
              <p:cNvGrpSpPr/>
              <p:nvPr/>
            </p:nvGrpSpPr>
            <p:grpSpPr>
              <a:xfrm>
                <a:off x="5952240" y="5184000"/>
                <a:ext cx="942120" cy="786240"/>
                <a:chOff x="5952240" y="5184000"/>
                <a:chExt cx="942120" cy="786240"/>
              </a:xfrm>
            </p:grpSpPr>
            <p:sp>
              <p:nvSpPr>
                <p:cNvPr id="1475" name="Rectangle 78"/>
                <p:cNvSpPr/>
                <p:nvPr/>
              </p:nvSpPr>
              <p:spPr>
                <a:xfrm>
                  <a:off x="6735240" y="558900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6" name="Rectangle 79"/>
                <p:cNvSpPr/>
                <p:nvPr/>
              </p:nvSpPr>
              <p:spPr>
                <a:xfrm>
                  <a:off x="6193080" y="558900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7" name="Rectangle 84"/>
                <p:cNvSpPr/>
                <p:nvPr/>
              </p:nvSpPr>
              <p:spPr>
                <a:xfrm>
                  <a:off x="6606720" y="5247360"/>
                  <a:ext cx="1562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t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8" name="Rectangle 85"/>
                <p:cNvSpPr/>
                <p:nvPr/>
              </p:nvSpPr>
              <p:spPr>
                <a:xfrm>
                  <a:off x="5952240" y="5247360"/>
                  <a:ext cx="249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v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9" name="Rectangle 91"/>
                <p:cNvSpPr/>
                <p:nvPr/>
              </p:nvSpPr>
              <p:spPr>
                <a:xfrm>
                  <a:off x="6251040" y="5184000"/>
                  <a:ext cx="3236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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0" name="Группа 74"/>
            <p:cNvGrpSpPr/>
            <p:nvPr/>
          </p:nvGrpSpPr>
          <p:grpSpPr>
            <a:xfrm>
              <a:off x="5453280" y="5377320"/>
              <a:ext cx="1133640" cy="492840"/>
              <a:chOff x="5453280" y="5377320"/>
              <a:chExt cx="1133640" cy="492840"/>
            </a:xfrm>
          </p:grpSpPr>
          <p:sp>
            <p:nvSpPr>
              <p:cNvPr id="1481" name="Прямая соединительная линия 47"/>
              <p:cNvSpPr/>
              <p:nvPr/>
            </p:nvSpPr>
            <p:spPr>
              <a:xfrm flipH="1">
                <a:off x="5464080" y="5377320"/>
                <a:ext cx="1110240" cy="492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Прямая соединительная линия 48"/>
              <p:cNvSpPr/>
              <p:nvPr/>
            </p:nvSpPr>
            <p:spPr>
              <a:xfrm>
                <a:off x="5453280" y="5379120"/>
                <a:ext cx="1133640" cy="437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83" name="Picture 2" descr="C:\Users\Надежда\Desktop\КАРТИНКИ\Автобус\3b365df9be941dff91f0a76677218867.gif"/>
          <p:cNvPicPr/>
          <p:nvPr/>
        </p:nvPicPr>
        <p:blipFill>
          <a:blip r:embed="rId1"/>
          <a:stretch/>
        </p:blipFill>
        <p:spPr>
          <a:xfrm>
            <a:off x="7577280" y="3629160"/>
            <a:ext cx="1209600" cy="657000"/>
          </a:xfrm>
          <a:prstGeom prst="rect">
            <a:avLst/>
          </a:prstGeom>
          <a:ln w="0">
            <a:noFill/>
          </a:ln>
        </p:spPr>
      </p:pic>
      <p:grpSp>
        <p:nvGrpSpPr>
          <p:cNvPr id="1484" name="Группа 56"/>
          <p:cNvGrpSpPr/>
          <p:nvPr/>
        </p:nvGrpSpPr>
        <p:grpSpPr>
          <a:xfrm>
            <a:off x="7829640" y="5357880"/>
            <a:ext cx="1243080" cy="1285920"/>
            <a:chOff x="7829640" y="5357880"/>
            <a:chExt cx="1243080" cy="1285920"/>
          </a:xfrm>
        </p:grpSpPr>
        <p:pic>
          <p:nvPicPr>
            <p:cNvPr id="1485" name="Picture 3" descr="C:\Users\Надежда\Videos\Downloads\Pictures\Организатор клипов (Microsoft)\j0441443.png"/>
            <p:cNvPicPr/>
            <p:nvPr/>
          </p:nvPicPr>
          <p:blipFill>
            <a:blip r:embed="rId2"/>
            <a:stretch/>
          </p:blipFill>
          <p:spPr>
            <a:xfrm>
              <a:off x="8072640" y="5357880"/>
              <a:ext cx="79200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6" name="Скругленный прямоугольник 60">
              <a:hlinkClick r:id="" action="ppaction://hlinkshowjump?jump=endshow"/>
            </p:cNvPr>
            <p:cNvSpPr/>
            <p:nvPr/>
          </p:nvSpPr>
          <p:spPr>
            <a:xfrm>
              <a:off x="7829640" y="6212160"/>
              <a:ext cx="1243080" cy="4316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66"/>
                  </a:solidFill>
                  <a:latin typeface="Times New Roman"/>
                  <a:ea typeface="Times New Roman"/>
                </a:rPr>
                <a:t>вых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1" dur="indefinite" restart="never" nodeType="tmRoot">
          <p:childTnLst>
            <p:seq>
              <p:cTn id="2032" restart="whenNotActive" nodeType="interactiveSeq" fill="hold">
                <p:stCondLst>
                  <p:cond evt="onClick">
                    <p:tgtEl>
                      <p:spTgt spid="1439"/>
                    </p:tgtEl>
                  </p:cond>
                </p:stCondLst>
                <p:childTnLst>
                  <p:par>
                    <p:cTn id="2033" fill="hold">
                      <p:stCondLst>
                        <p:cond evt="onClick">
                          <p:tgtEl>
                            <p:spTgt spid="1439"/>
                          </p:tgtEl>
                        </p:cond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7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8" fill="hold">
                      <p:stCondLst>
                        <p:cond evt="onClick">
                          <p:tgtEl>
                            <p:spTgt spid="1439"/>
                          </p:tgtEl>
                        </p:cond>
                      </p:stCondLst>
                      <p:childTnLst>
                        <p:par>
                          <p:cTn id="2039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2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evt="onClick">
                          <p:tgtEl>
                            <p:spTgt spid="1439"/>
                          </p:tgtEl>
                        </p:cond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7" restart="whenNotActive" nodeType="interactiveSeq" fill="hold">
                <p:stCondLst>
                  <p:cond evt="onClick">
                    <p:tgtEl>
                      <p:spTgt spid="1441"/>
                    </p:tgtEl>
                  </p:cond>
                </p:stCondLst>
                <p:childTnLst>
                  <p:par>
                    <p:cTn id="2048" fill="hold">
                      <p:stCondLst>
                        <p:cond evt="onClick">
                          <p:tgtEl>
                            <p:spTgt spid="1441"/>
                          </p:tgtEl>
                        </p:cond>
                      </p:stCondLst>
                      <p:childTnLst>
                        <p:par>
                          <p:cTn id="2049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2" dur="5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evt="onClick">
                          <p:tgtEl>
                            <p:spTgt spid="1441"/>
                          </p:tgtEl>
                        </p:cond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7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fill="hold">
                      <p:stCondLst>
                        <p:cond evt="onClick">
                          <p:tgtEl>
                            <p:spTgt spid="1441"/>
                          </p:tgtEl>
                        </p:cond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2" restart="whenNotActive" nodeType="interactiveSeq" fill="hold">
                <p:stCondLst>
                  <p:cond evt="onClick">
                    <p:tgtEl>
                      <p:spTgt spid="1443"/>
                    </p:tgtEl>
                  </p:cond>
                </p:stCondLst>
                <p:childTnLst>
                  <p:par>
                    <p:cTn id="2063" fill="hold">
                      <p:stCondLst>
                        <p:cond evt="onClick">
                          <p:tgtEl>
                            <p:spTgt spid="1443"/>
                          </p:tgtEl>
                        </p:cond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7" dur="5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fill="hold">
                      <p:stCondLst>
                        <p:cond evt="onClick">
                          <p:tgtEl>
                            <p:spTgt spid="1443"/>
                          </p:tgtEl>
                        </p:cond>
                      </p:stCondLst>
                      <p:childTnLst>
                        <p:par>
                          <p:cTn id="2069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2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evt="onClick">
                          <p:tgtEl>
                            <p:spTgt spid="1443"/>
                          </p:tgtEl>
                        </p:cond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7" restart="whenNotActive" nodeType="interactiveSeq" fill="hold">
                <p:stCondLst>
                  <p:cond evt="onClick">
                    <p:tgtEl>
                      <p:spTgt spid="1445"/>
                    </p:tgtEl>
                  </p:cond>
                </p:stCondLst>
                <p:childTnLst>
                  <p:par>
                    <p:cTn id="2078" fill="hold">
                      <p:stCondLst>
                        <p:cond evt="onClick">
                          <p:tgtEl>
                            <p:spTgt spid="1445"/>
                          </p:tgtEl>
                        </p:cond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2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evt="onClick">
                          <p:tgtEl>
                            <p:spTgt spid="1445"/>
                          </p:tgtEl>
                        </p:cond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Управляющая кнопка: сведения 27"/>
          <p:cNvSpPr/>
          <p:nvPr/>
        </p:nvSpPr>
        <p:spPr>
          <a:xfrm>
            <a:off x="8501040" y="4143240"/>
            <a:ext cx="642960" cy="85752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857520"/>
              <a:gd name="textAreaBottom" fmla="*/ 816120 h 857520"/>
            </a:gdLst>
            <a:ahLst/>
            <a:rect l="textAreaLeft" t="textAreaTop" r="textAreaRight" b="textAreaBottom"/>
            <a:pathLst>
              <a:path w="21600" h="28804">
                <a:moveTo>
                  <a:pt x="0" y="0"/>
                </a:moveTo>
                <a:lnTo>
                  <a:pt x="21600" y="0"/>
                </a:lnTo>
                <a:lnTo>
                  <a:pt x="21600" y="28804"/>
                </a:lnTo>
                <a:lnTo>
                  <a:pt x="0" y="28804"/>
                </a:lnTo>
                <a:close/>
              </a:path>
              <a:path fill="lightenLess" w="21600" h="28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4">
                <a:moveTo>
                  <a:pt x="21600" y="0"/>
                </a:moveTo>
                <a:lnTo>
                  <a:pt x="21600" y="28804"/>
                </a:lnTo>
                <a:lnTo>
                  <a:pt x="20200" y="27404"/>
                </a:lnTo>
                <a:lnTo>
                  <a:pt x="20200" y="1400"/>
                </a:lnTo>
                <a:close/>
              </a:path>
              <a:path fill="darkenLess" w="21600" h="28804">
                <a:moveTo>
                  <a:pt x="21600" y="28804"/>
                </a:moveTo>
                <a:lnTo>
                  <a:pt x="0" y="28804"/>
                </a:lnTo>
                <a:lnTo>
                  <a:pt x="1400" y="27404"/>
                </a:lnTo>
                <a:lnTo>
                  <a:pt x="20200" y="27404"/>
                </a:lnTo>
                <a:close/>
              </a:path>
              <a:path fill="lighten" w="21600" h="28804">
                <a:moveTo>
                  <a:pt x="0" y="28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4"/>
                </a:lnTo>
                <a:close/>
              </a:path>
              <a:path fill="darken" w="21600" h="28804">
                <a:moveTo>
                  <a:pt x="10800" y="7396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8804">
                <a:moveTo>
                  <a:pt x="10800" y="7770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8804">
                <a:moveTo>
                  <a:pt x="8224" y="11826"/>
                </a:moveTo>
                <a:lnTo>
                  <a:pt x="12088" y="11826"/>
                </a:lnTo>
                <a:lnTo>
                  <a:pt x="12088" y="18823"/>
                </a:lnTo>
                <a:lnTo>
                  <a:pt x="13376" y="18823"/>
                </a:lnTo>
                <a:lnTo>
                  <a:pt x="13376" y="19746"/>
                </a:lnTo>
                <a:lnTo>
                  <a:pt x="8224" y="19746"/>
                </a:lnTo>
                <a:lnTo>
                  <a:pt x="8224" y="18823"/>
                </a:lnTo>
                <a:lnTo>
                  <a:pt x="9512" y="18823"/>
                </a:lnTo>
                <a:lnTo>
                  <a:pt x="9512" y="12731"/>
                </a:lnTo>
                <a:lnTo>
                  <a:pt x="8224" y="12731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8" name="Группа 46"/>
          <p:cNvGrpSpPr/>
          <p:nvPr/>
        </p:nvGrpSpPr>
        <p:grpSpPr>
          <a:xfrm>
            <a:off x="500040" y="82440"/>
            <a:ext cx="8215200" cy="2266920"/>
            <a:chOff x="500040" y="82440"/>
            <a:chExt cx="8215200" cy="2266920"/>
          </a:xfrm>
        </p:grpSpPr>
        <p:sp>
          <p:nvSpPr>
            <p:cNvPr id="1489" name="Скругленный прямоугольник 39"/>
            <p:cNvSpPr/>
            <p:nvPr/>
          </p:nvSpPr>
          <p:spPr>
            <a:xfrm>
              <a:off x="500040" y="82440"/>
              <a:ext cx="8215200" cy="2266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елосипедист от озера до деревни ехал со скоростью 15 км/ч, а обратно – со скоростью 10 км/ч. Сколько времени ушло у него на дорогу от озера до деревни, если на весь путь туда и обратно велосипедист затратил 1 ч? Велосипедист от озера до деревни ехал со скоростью 15 км/ч, а обратно – со скоростью 10 км/ч. Сколько времени ушло у него на дорогу от озера до деревни, если на весь путь туда и обратно велосипедист затратил 1 ч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Прямоугольник 41"/>
            <p:cNvSpPr/>
            <p:nvPr/>
          </p:nvSpPr>
          <p:spPr>
            <a:xfrm>
              <a:off x="785520" y="82440"/>
              <a:ext cx="77151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корость велосипедиста на 36 км/ч меньше скорости мотоциклиста. Расстояние от города до поселка велосипедист проезжает за 6 ч, а мотоциклист за 2 ч. Какова скорость велосипедиста?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91" name=""/>
          <p:cNvGraphicFramePr/>
          <p:nvPr/>
        </p:nvGraphicFramePr>
        <p:xfrm>
          <a:off x="87480" y="3960720"/>
          <a:ext cx="8485200" cy="2390760"/>
        </p:xfrm>
        <a:graphic>
          <a:graphicData uri="http://schemas.openxmlformats.org/drawingml/2006/table">
            <a:tbl>
              <a:tblPr/>
              <a:tblGrid>
                <a:gridCol w="2484360"/>
                <a:gridCol w="2373120"/>
                <a:gridCol w="1357560"/>
                <a:gridCol w="2270160"/>
              </a:tblGrid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о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осипеди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оцикли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2" name="Скругленный прямоугольник 30"/>
          <p:cNvSpPr/>
          <p:nvPr/>
        </p:nvSpPr>
        <p:spPr>
          <a:xfrm>
            <a:off x="1015920" y="2500200"/>
            <a:ext cx="707256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 –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стояние,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 –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орость,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 - 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мя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Скругленный прямоугольник 35"/>
          <p:cNvSpPr/>
          <p:nvPr/>
        </p:nvSpPr>
        <p:spPr>
          <a:xfrm>
            <a:off x="3532320" y="3286080"/>
            <a:ext cx="20714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4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95" name="Прямоугольник 34"/>
          <p:cNvSpPr/>
          <p:nvPr/>
        </p:nvSpPr>
        <p:spPr>
          <a:xfrm>
            <a:off x="714240" y="149400"/>
            <a:ext cx="7858440" cy="5000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Прямоугольник 33"/>
          <p:cNvSpPr/>
          <p:nvPr/>
        </p:nvSpPr>
        <p:spPr>
          <a:xfrm>
            <a:off x="714240" y="649440"/>
            <a:ext cx="3929040" cy="42228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Прямоугольник 29"/>
          <p:cNvSpPr/>
          <p:nvPr/>
        </p:nvSpPr>
        <p:spPr>
          <a:xfrm>
            <a:off x="4643280" y="649440"/>
            <a:ext cx="3929400" cy="42228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Прямоугольник 22"/>
          <p:cNvSpPr/>
          <p:nvPr/>
        </p:nvSpPr>
        <p:spPr>
          <a:xfrm>
            <a:off x="714240" y="1071720"/>
            <a:ext cx="7215480" cy="42048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Прямоугольник 37"/>
          <p:cNvSpPr/>
          <p:nvPr/>
        </p:nvSpPr>
        <p:spPr>
          <a:xfrm>
            <a:off x="7929720" y="1071720"/>
            <a:ext cx="642960" cy="4284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Скругленный прямоугольник 57"/>
          <p:cNvSpPr/>
          <p:nvPr/>
        </p:nvSpPr>
        <p:spPr>
          <a:xfrm>
            <a:off x="5079960" y="4889520"/>
            <a:ext cx="10796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Скругленный прямоугольник 58"/>
          <p:cNvSpPr/>
          <p:nvPr/>
        </p:nvSpPr>
        <p:spPr>
          <a:xfrm>
            <a:off x="2678040" y="5676840"/>
            <a:ext cx="21956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) 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Скругленный прямоугольник 59"/>
          <p:cNvSpPr/>
          <p:nvPr/>
        </p:nvSpPr>
        <p:spPr>
          <a:xfrm>
            <a:off x="2682720" y="4890960"/>
            <a:ext cx="21956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Скругленный прямоугольник 60"/>
          <p:cNvSpPr/>
          <p:nvPr/>
        </p:nvSpPr>
        <p:spPr>
          <a:xfrm>
            <a:off x="5095800" y="5683320"/>
            <a:ext cx="10796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Скругленный прямоугольник 61"/>
          <p:cNvSpPr/>
          <p:nvPr/>
        </p:nvSpPr>
        <p:spPr>
          <a:xfrm>
            <a:off x="6405480" y="4890960"/>
            <a:ext cx="207180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Скругленный прямоугольник 62"/>
          <p:cNvSpPr/>
          <p:nvPr/>
        </p:nvSpPr>
        <p:spPr>
          <a:xfrm>
            <a:off x="6381720" y="5676840"/>
            <a:ext cx="20876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)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6" name="Picture 1" descr="F:\2.jpg"/>
          <p:cNvPicPr/>
          <p:nvPr/>
        </p:nvPicPr>
        <p:blipFill>
          <a:blip r:embed="rId2"/>
          <a:stretch/>
        </p:blipFill>
        <p:spPr>
          <a:xfrm>
            <a:off x="3902040" y="6334200"/>
            <a:ext cx="1316160" cy="542880"/>
          </a:xfrm>
          <a:prstGeom prst="rect">
            <a:avLst/>
          </a:prstGeom>
          <a:ln w="0">
            <a:noFill/>
          </a:ln>
        </p:spPr>
      </p:pic>
      <p:pic>
        <p:nvPicPr>
          <p:cNvPr id="1507" name="Picture 2" descr="C:\Users\Надежда\Desktop\КАРТИНКИ\рисунок Стрелка влево\102.gif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501040" y="628668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1508" name="Скругленный прямоугольник 53"/>
          <p:cNvSpPr/>
          <p:nvPr/>
        </p:nvSpPr>
        <p:spPr>
          <a:xfrm>
            <a:off x="2286000" y="5675400"/>
            <a:ext cx="306072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36 км/ч бол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Скругленный прямоугольник 63"/>
          <p:cNvSpPr/>
          <p:nvPr/>
        </p:nvSpPr>
        <p:spPr>
          <a:xfrm>
            <a:off x="2286000" y="4889520"/>
            <a:ext cx="306072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36 км/ч мен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0" name="Группа 53"/>
          <p:cNvGrpSpPr/>
          <p:nvPr/>
        </p:nvGrpSpPr>
        <p:grpSpPr>
          <a:xfrm>
            <a:off x="500040" y="2357280"/>
            <a:ext cx="8215200" cy="1047960"/>
            <a:chOff x="500040" y="2357280"/>
            <a:chExt cx="8215200" cy="1047960"/>
          </a:xfrm>
        </p:grpSpPr>
        <p:sp>
          <p:nvSpPr>
            <p:cNvPr id="1511" name="Скругленный прямоугольник 47"/>
            <p:cNvSpPr/>
            <p:nvPr/>
          </p:nvSpPr>
          <p:spPr>
            <a:xfrm>
              <a:off x="500040" y="2360160"/>
              <a:ext cx="8215200" cy="1045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Прямоугольник 48"/>
            <p:cNvSpPr/>
            <p:nvPr/>
          </p:nvSpPr>
          <p:spPr>
            <a:xfrm>
              <a:off x="571320" y="2357280"/>
              <a:ext cx="8143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усть скорость велосипедиста х км/ч. Какое уравнение соответствует условию задачи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13" name="Прямая со стрелкой 26"/>
          <p:cNvCxnSpPr/>
          <p:nvPr/>
        </p:nvCxnSpPr>
        <p:spPr>
          <a:xfrm flipH="1">
            <a:off x="3928680" y="2927880"/>
            <a:ext cx="2286720" cy="2143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14" name="Прямая со стрелкой 36"/>
          <p:cNvCxnSpPr/>
          <p:nvPr/>
        </p:nvCxnSpPr>
        <p:spPr>
          <a:xfrm flipH="1">
            <a:off x="5571360" y="1356840"/>
            <a:ext cx="1715400" cy="3715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15" name="Прямая со стрелкой 64"/>
          <p:cNvCxnSpPr/>
          <p:nvPr/>
        </p:nvCxnSpPr>
        <p:spPr>
          <a:xfrm flipH="1">
            <a:off x="3928680" y="571320"/>
            <a:ext cx="2000880" cy="5214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16" name="Прямая со стрелкой 31"/>
          <p:cNvCxnSpPr/>
          <p:nvPr/>
        </p:nvCxnSpPr>
        <p:spPr>
          <a:xfrm flipH="1">
            <a:off x="3642840" y="571680"/>
            <a:ext cx="2286720" cy="4572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17" name="Прямая со стрелкой 40"/>
          <p:cNvCxnSpPr/>
          <p:nvPr/>
        </p:nvCxnSpPr>
        <p:spPr>
          <a:xfrm>
            <a:off x="4214880" y="1785600"/>
            <a:ext cx="1357920" cy="4072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18" name="Прямоугольник 42"/>
          <p:cNvSpPr/>
          <p:nvPr/>
        </p:nvSpPr>
        <p:spPr>
          <a:xfrm>
            <a:off x="714240" y="1500120"/>
            <a:ext cx="4500720" cy="35712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9" dur="indefinite" restart="never" nodeType="tmRoot">
          <p:childTnLst>
            <p:seq>
              <p:cTn id="2090" restart="whenNotActive" nodeType="interactiveSeq" fill="hold">
                <p:stCondLst>
                  <p:cond evt="onClick">
                    <p:tgtEl>
                      <p:spTgt spid="1506"/>
                    </p:tgtEl>
                  </p:cond>
                </p:stCondLst>
                <p:childTnLst>
                  <p:par>
                    <p:cTn id="2091" fill="hold">
                      <p:stCondLst>
                        <p:cond evt="onClick">
                          <p:tgtEl>
                            <p:spTgt spid="1506"/>
                          </p:tgtEl>
                        </p:cond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5" fill="hold">
                      <p:stCondLst>
                        <p:cond evt="onClick">
                          <p:tgtEl>
                            <p:spTgt spid="1506"/>
                          </p:tgtEl>
                        </p:cond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fill="hold">
                      <p:stCondLst>
                        <p:cond evt="onClick">
                          <p:tgtEl>
                            <p:spTgt spid="1506"/>
                          </p:tgtEl>
                        </p:cond>
                      </p:stCondLst>
                      <p:childTnLst>
                        <p:par>
                          <p:cTn id="2100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evt="onClick">
                          <p:tgtEl>
                            <p:spTgt spid="1506"/>
                          </p:tgtEl>
                        </p:cond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7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9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evt="onClick">
                          <p:tgtEl>
                            <p:spTgt spid="1506"/>
                          </p:tgtEl>
                        </p:cond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7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fill="hold">
                      <p:stCondLst>
                        <p:cond evt="onClick">
                          <p:tgtEl>
                            <p:spTgt spid="1506"/>
                          </p:tgtEl>
                        </p:cond>
                      </p:stCondLst>
                      <p:childTnLst>
                        <p:par>
                          <p:cTn id="2119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2" fill="hold">
                      <p:stCondLst>
                        <p:cond evt="onClick">
                          <p:tgtEl>
                            <p:spTgt spid="1506"/>
                          </p:tgtEl>
                        </p:cond>
                      </p:stCondLst>
                      <p:childTnLst>
                        <p:par>
                          <p:cTn id="2123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6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evt="onClick">
                          <p:tgtEl>
                            <p:spTgt spid="1506"/>
                          </p:tgtEl>
                        </p:cond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fill="hold">
                      <p:stCondLst>
                        <p:cond evt="onClick">
                          <p:tgtEl>
                            <p:spTgt spid="1506"/>
                          </p:tgtEl>
                        </p:cond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7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2" fill="hold">
                      <p:stCondLst>
                        <p:cond evt="onClick">
                          <p:tgtEl>
                            <p:spTgt spid="1506"/>
                          </p:tgtEl>
                        </p:cond>
                      </p:stCondLst>
                      <p:childTnLst>
                        <p:par>
                          <p:cTn id="2143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6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fill="hold">
                      <p:stCondLst>
                        <p:cond evt="onClick">
                          <p:tgtEl>
                            <p:spTgt spid="1506"/>
                          </p:tgtEl>
                        </p:cond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fill="hold">
                      <p:stCondLst>
                        <p:cond evt="onClick">
                          <p:tgtEl>
                            <p:spTgt spid="1506"/>
                          </p:tgtEl>
                        </p:cond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3" fill="hold">
                      <p:stCondLst>
                        <p:cond evt="onClick">
                          <p:tgtEl>
                            <p:spTgt spid="1506"/>
                          </p:tgtEl>
                        </p:cond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7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4" fill="hold">
                      <p:stCondLst>
                        <p:cond evt="onClick">
                          <p:tgtEl>
                            <p:spTgt spid="1506"/>
                          </p:tgtEl>
                        </p:cond>
                      </p:stCondLst>
                      <p:childTnLst>
                        <p:par>
                          <p:cTn id="2175" fill="hold">
                            <p:stCondLst>
                              <p:cond delay="0"/>
                            </p:stCondLst>
                            <p:childTnLst>
                              <p:par>
                                <p:cTn id="2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0" fill="hold">
                      <p:stCondLst>
                        <p:cond evt="onClick">
                          <p:tgtEl>
                            <p:spTgt spid="1506"/>
                          </p:tgtEl>
                        </p:cond>
                      </p:stCondLst>
                      <p:childTnLst>
                        <p:par>
                          <p:cTn id="2181" fill="hold">
                            <p:stCondLst>
                              <p:cond delay="0"/>
                            </p:stCondLst>
                            <p:childTnLst>
                              <p:par>
                                <p:cTn id="2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fill="hold">
                      <p:stCondLst>
                        <p:cond evt="onClick">
                          <p:tgtEl>
                            <p:spTgt spid="1506"/>
                          </p:tgtEl>
                        </p:cond>
                      </p:stCondLst>
                      <p:childTnLst>
                        <p:par>
                          <p:cTn id="2185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8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fill="hold">
                      <p:stCondLst>
                        <p:cond evt="onClick">
                          <p:tgtEl>
                            <p:spTgt spid="1506"/>
                          </p:tgtEl>
                        </p:cond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9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0" fill="hold">
                      <p:stCondLst>
                        <p:cond evt="onClick">
                          <p:tgtEl>
                            <p:spTgt spid="1506"/>
                          </p:tgtEl>
                        </p:cond>
                      </p:stCondLst>
                      <p:childTnLst>
                        <p:par>
                          <p:cTn id="2201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4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evt="onClick">
                          <p:tgtEl>
                            <p:spTgt spid="1506"/>
                          </p:tgtEl>
                        </p:cond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9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2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4" restart="whenNotActive" nodeType="interactiveSeq" fill="hold">
                <p:stCondLst>
                  <p:cond evt="onClick">
                    <p:tgtEl>
                      <p:spTgt spid="1487"/>
                    </p:tgtEl>
                  </p:cond>
                </p:stCondLst>
                <p:childTnLst>
                  <p:par>
                    <p:cTn id="2215" fill="hold">
                      <p:stCondLst>
                        <p:cond evt="onClick">
                          <p:tgtEl>
                            <p:spTgt spid="1487"/>
                          </p:tgtEl>
                        </p:cond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9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fill="hold">
                      <p:stCondLst>
                        <p:cond evt="onClick">
                          <p:tgtEl>
                            <p:spTgt spid="1487"/>
                          </p:tgtEl>
                        </p:cond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4" restart="whenNotActive" nodeType="interactiveSeq" fill="hold">
                <p:stCondLst>
                  <p:cond evt="onClick">
                    <p:tgtEl>
                      <p:spTgt spid="1510"/>
                    </p:tgtEl>
                  </p:cond>
                </p:stCondLst>
                <p:childTnLst>
                  <p:par>
                    <p:cTn id="2225" fill="hold">
                      <p:stCondLst>
                        <p:cond evt="onClick">
                          <p:tgtEl>
                            <p:spTgt spid="1510"/>
                          </p:tgtEl>
                        </p:cond>
                      </p:stCondLst>
                      <p:childTnLst>
                        <p:par>
                          <p:cTn id="2226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9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1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9" name=""/>
          <p:cNvGraphicFramePr/>
          <p:nvPr/>
        </p:nvGraphicFramePr>
        <p:xfrm>
          <a:off x="301680" y="285840"/>
          <a:ext cx="8485200" cy="2390760"/>
        </p:xfrm>
        <a:graphic>
          <a:graphicData uri="http://schemas.openxmlformats.org/drawingml/2006/table">
            <a:tbl>
              <a:tblPr/>
              <a:tblGrid>
                <a:gridCol w="2484360"/>
                <a:gridCol w="2373480"/>
                <a:gridCol w="1357200"/>
                <a:gridCol w="2270160"/>
              </a:tblGrid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о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осипеди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оцикли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0" name="Скругленный прямоугольник 2"/>
          <p:cNvSpPr/>
          <p:nvPr/>
        </p:nvSpPr>
        <p:spPr>
          <a:xfrm>
            <a:off x="5310360" y="1206360"/>
            <a:ext cx="10810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Скругленный прямоугольник 3"/>
          <p:cNvSpPr/>
          <p:nvPr/>
        </p:nvSpPr>
        <p:spPr>
          <a:xfrm>
            <a:off x="5326200" y="2000160"/>
            <a:ext cx="10792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Скругленный прямоугольник 4"/>
          <p:cNvSpPr/>
          <p:nvPr/>
        </p:nvSpPr>
        <p:spPr>
          <a:xfrm>
            <a:off x="6588000" y="2000160"/>
            <a:ext cx="20876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)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Скругленный прямоугольник 5"/>
          <p:cNvSpPr/>
          <p:nvPr/>
        </p:nvSpPr>
        <p:spPr>
          <a:xfrm>
            <a:off x="6611760" y="1214280"/>
            <a:ext cx="207180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Скругленный прямоугольник 6"/>
          <p:cNvSpPr/>
          <p:nvPr/>
        </p:nvSpPr>
        <p:spPr>
          <a:xfrm>
            <a:off x="2876400" y="1214280"/>
            <a:ext cx="21956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Скругленный прямоугольник 7"/>
          <p:cNvSpPr/>
          <p:nvPr/>
        </p:nvSpPr>
        <p:spPr>
          <a:xfrm>
            <a:off x="2876400" y="2000160"/>
            <a:ext cx="21956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) 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Скругленный прямоугольник 8"/>
          <p:cNvSpPr/>
          <p:nvPr/>
        </p:nvSpPr>
        <p:spPr>
          <a:xfrm>
            <a:off x="785880" y="2786040"/>
            <a:ext cx="757224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стояние одно и то же, т.е одинаков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Скругленный прямоугольник 9"/>
          <p:cNvSpPr/>
          <p:nvPr/>
        </p:nvSpPr>
        <p:spPr>
          <a:xfrm>
            <a:off x="1500120" y="3627360"/>
            <a:ext cx="357192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Скругленный прямоугольник 10"/>
          <p:cNvSpPr/>
          <p:nvPr/>
        </p:nvSpPr>
        <p:spPr>
          <a:xfrm>
            <a:off x="5302080" y="3619440"/>
            <a:ext cx="205596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Скругленный прямоугольник 11"/>
          <p:cNvSpPr/>
          <p:nvPr/>
        </p:nvSpPr>
        <p:spPr>
          <a:xfrm>
            <a:off x="1500120" y="4429080"/>
            <a:ext cx="357192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0" name="Группа 12"/>
          <p:cNvGrpSpPr/>
          <p:nvPr/>
        </p:nvGrpSpPr>
        <p:grpSpPr>
          <a:xfrm>
            <a:off x="5302080" y="3556800"/>
            <a:ext cx="2055960" cy="786240"/>
            <a:chOff x="5302080" y="3556800"/>
            <a:chExt cx="2055960" cy="786240"/>
          </a:xfrm>
        </p:grpSpPr>
        <p:grpSp>
          <p:nvGrpSpPr>
            <p:cNvPr id="1531" name="Группа 99"/>
            <p:cNvGrpSpPr/>
            <p:nvPr/>
          </p:nvGrpSpPr>
          <p:grpSpPr>
            <a:xfrm>
              <a:off x="5302080" y="3556800"/>
              <a:ext cx="2055960" cy="786240"/>
              <a:chOff x="5302080" y="3556800"/>
              <a:chExt cx="2055960" cy="786240"/>
            </a:xfrm>
          </p:grpSpPr>
          <p:sp>
            <p:nvSpPr>
              <p:cNvPr id="1532" name="Скругленный прямоугольник 17"/>
              <p:cNvSpPr/>
              <p:nvPr/>
            </p:nvSpPr>
            <p:spPr>
              <a:xfrm>
                <a:off x="5302080" y="3628800"/>
                <a:ext cx="2055960" cy="7131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33" name="Группа 85"/>
              <p:cNvGrpSpPr/>
              <p:nvPr/>
            </p:nvGrpSpPr>
            <p:grpSpPr>
              <a:xfrm>
                <a:off x="5968080" y="3556800"/>
                <a:ext cx="942120" cy="786240"/>
                <a:chOff x="5968080" y="3556800"/>
                <a:chExt cx="942120" cy="786240"/>
              </a:xfrm>
            </p:grpSpPr>
            <p:sp>
              <p:nvSpPr>
                <p:cNvPr id="1534" name="Rectangle 78"/>
                <p:cNvSpPr/>
                <p:nvPr/>
              </p:nvSpPr>
              <p:spPr>
                <a:xfrm>
                  <a:off x="6751080" y="396180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5" name="Rectangle 79"/>
                <p:cNvSpPr/>
                <p:nvPr/>
              </p:nvSpPr>
              <p:spPr>
                <a:xfrm>
                  <a:off x="6208920" y="396180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6" name="Rectangle 84"/>
                <p:cNvSpPr/>
                <p:nvPr/>
              </p:nvSpPr>
              <p:spPr>
                <a:xfrm>
                  <a:off x="6622560" y="3620160"/>
                  <a:ext cx="1562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t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7" name="Rectangle 85"/>
                <p:cNvSpPr/>
                <p:nvPr/>
              </p:nvSpPr>
              <p:spPr>
                <a:xfrm>
                  <a:off x="5968080" y="3620160"/>
                  <a:ext cx="249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v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8" name="Rectangle 91"/>
                <p:cNvSpPr/>
                <p:nvPr/>
              </p:nvSpPr>
              <p:spPr>
                <a:xfrm>
                  <a:off x="6266880" y="3556800"/>
                  <a:ext cx="3236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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39" name="Группа 74"/>
            <p:cNvGrpSpPr/>
            <p:nvPr/>
          </p:nvGrpSpPr>
          <p:grpSpPr>
            <a:xfrm>
              <a:off x="5469120" y="3750120"/>
              <a:ext cx="1133640" cy="492840"/>
              <a:chOff x="5469120" y="3750120"/>
              <a:chExt cx="1133640" cy="492840"/>
            </a:xfrm>
          </p:grpSpPr>
          <p:sp>
            <p:nvSpPr>
              <p:cNvPr id="1540" name="Прямая соединительная линия 15"/>
              <p:cNvSpPr/>
              <p:nvPr/>
            </p:nvSpPr>
            <p:spPr>
              <a:xfrm flipH="1">
                <a:off x="5479920" y="3750120"/>
                <a:ext cx="1110240" cy="492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Прямая соединительная линия 16"/>
              <p:cNvSpPr/>
              <p:nvPr/>
            </p:nvSpPr>
            <p:spPr>
              <a:xfrm>
                <a:off x="5469120" y="3751920"/>
                <a:ext cx="1133640" cy="437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2" name="Скругленный прямоугольник 24"/>
          <p:cNvSpPr/>
          <p:nvPr/>
        </p:nvSpPr>
        <p:spPr>
          <a:xfrm>
            <a:off x="5286240" y="4429080"/>
            <a:ext cx="205596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Скругленный прямоугольник 25"/>
          <p:cNvSpPr/>
          <p:nvPr/>
        </p:nvSpPr>
        <p:spPr>
          <a:xfrm>
            <a:off x="1500120" y="5246640"/>
            <a:ext cx="357192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6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Скругленный прямоугольник 26"/>
          <p:cNvSpPr/>
          <p:nvPr/>
        </p:nvSpPr>
        <p:spPr>
          <a:xfrm>
            <a:off x="5294160" y="5254560"/>
            <a:ext cx="205740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5" name="Группа 27"/>
          <p:cNvGrpSpPr/>
          <p:nvPr/>
        </p:nvGrpSpPr>
        <p:grpSpPr>
          <a:xfrm>
            <a:off x="5286240" y="5183280"/>
            <a:ext cx="2055960" cy="786240"/>
            <a:chOff x="5286240" y="5183280"/>
            <a:chExt cx="2055960" cy="786240"/>
          </a:xfrm>
        </p:grpSpPr>
        <p:grpSp>
          <p:nvGrpSpPr>
            <p:cNvPr id="1546" name="Группа 99"/>
            <p:cNvGrpSpPr/>
            <p:nvPr/>
          </p:nvGrpSpPr>
          <p:grpSpPr>
            <a:xfrm>
              <a:off x="5286240" y="5183280"/>
              <a:ext cx="2055960" cy="786240"/>
              <a:chOff x="5286240" y="5183280"/>
              <a:chExt cx="2055960" cy="786240"/>
            </a:xfrm>
          </p:grpSpPr>
          <p:sp>
            <p:nvSpPr>
              <p:cNvPr id="1547" name="Скругленный прямоугольник 32"/>
              <p:cNvSpPr/>
              <p:nvPr/>
            </p:nvSpPr>
            <p:spPr>
              <a:xfrm>
                <a:off x="5286240" y="5254200"/>
                <a:ext cx="2055960" cy="7131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8" name="Группа 85"/>
              <p:cNvGrpSpPr/>
              <p:nvPr/>
            </p:nvGrpSpPr>
            <p:grpSpPr>
              <a:xfrm>
                <a:off x="5906160" y="5183280"/>
                <a:ext cx="916200" cy="786240"/>
                <a:chOff x="5906160" y="5183280"/>
                <a:chExt cx="916200" cy="786240"/>
              </a:xfrm>
            </p:grpSpPr>
            <p:sp>
              <p:nvSpPr>
                <p:cNvPr id="1549" name="Rectangle 80"/>
                <p:cNvSpPr/>
                <p:nvPr/>
              </p:nvSpPr>
              <p:spPr>
                <a:xfrm>
                  <a:off x="6663240" y="558828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0" name="Rectangle 81"/>
                <p:cNvSpPr/>
                <p:nvPr/>
              </p:nvSpPr>
              <p:spPr>
                <a:xfrm>
                  <a:off x="6108840" y="558828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1" name="Rectangle 86"/>
                <p:cNvSpPr/>
                <p:nvPr/>
              </p:nvSpPr>
              <p:spPr>
                <a:xfrm>
                  <a:off x="6498360" y="5246640"/>
                  <a:ext cx="1562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t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2" name="Rectangle 87"/>
                <p:cNvSpPr/>
                <p:nvPr/>
              </p:nvSpPr>
              <p:spPr>
                <a:xfrm>
                  <a:off x="5906160" y="5246640"/>
                  <a:ext cx="249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v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3" name="Rectangle 93"/>
                <p:cNvSpPr/>
                <p:nvPr/>
              </p:nvSpPr>
              <p:spPr>
                <a:xfrm>
                  <a:off x="6179400" y="5183280"/>
                  <a:ext cx="3236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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4" name="Группа 43"/>
            <p:cNvGrpSpPr/>
            <p:nvPr/>
          </p:nvGrpSpPr>
          <p:grpSpPr>
            <a:xfrm>
              <a:off x="5790600" y="5361480"/>
              <a:ext cx="1133640" cy="492840"/>
              <a:chOff x="5790600" y="5361480"/>
              <a:chExt cx="1133640" cy="492840"/>
            </a:xfrm>
          </p:grpSpPr>
          <p:sp>
            <p:nvSpPr>
              <p:cNvPr id="1555" name="Прямая соединительная линия 30"/>
              <p:cNvSpPr/>
              <p:nvPr/>
            </p:nvSpPr>
            <p:spPr>
              <a:xfrm flipH="1">
                <a:off x="5801400" y="5361480"/>
                <a:ext cx="1110240" cy="492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Прямая соединительная линия 31"/>
              <p:cNvSpPr/>
              <p:nvPr/>
            </p:nvSpPr>
            <p:spPr>
              <a:xfrm>
                <a:off x="5790600" y="5363280"/>
                <a:ext cx="1133640" cy="437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57" name="Скругленный прямоугольник 39"/>
          <p:cNvSpPr/>
          <p:nvPr/>
        </p:nvSpPr>
        <p:spPr>
          <a:xfrm>
            <a:off x="1500120" y="6072120"/>
            <a:ext cx="357192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6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Скругленный прямоугольник 40"/>
          <p:cNvSpPr/>
          <p:nvPr/>
        </p:nvSpPr>
        <p:spPr>
          <a:xfrm>
            <a:off x="5310360" y="6072120"/>
            <a:ext cx="205560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9" name="Группа 41"/>
          <p:cNvGrpSpPr/>
          <p:nvPr/>
        </p:nvGrpSpPr>
        <p:grpSpPr>
          <a:xfrm>
            <a:off x="5318280" y="6000840"/>
            <a:ext cx="2055600" cy="786240"/>
            <a:chOff x="5318280" y="6000840"/>
            <a:chExt cx="2055600" cy="786240"/>
          </a:xfrm>
        </p:grpSpPr>
        <p:grpSp>
          <p:nvGrpSpPr>
            <p:cNvPr id="1560" name="Группа 99"/>
            <p:cNvGrpSpPr/>
            <p:nvPr/>
          </p:nvGrpSpPr>
          <p:grpSpPr>
            <a:xfrm>
              <a:off x="5318280" y="6000840"/>
              <a:ext cx="2055600" cy="786240"/>
              <a:chOff x="5318280" y="6000840"/>
              <a:chExt cx="2055600" cy="786240"/>
            </a:xfrm>
          </p:grpSpPr>
          <p:sp>
            <p:nvSpPr>
              <p:cNvPr id="1561" name="Скругленный прямоугольник 46"/>
              <p:cNvSpPr/>
              <p:nvPr/>
            </p:nvSpPr>
            <p:spPr>
              <a:xfrm>
                <a:off x="5318280" y="6071760"/>
                <a:ext cx="2055600" cy="7131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2" name="Группа 85"/>
              <p:cNvGrpSpPr/>
              <p:nvPr/>
            </p:nvGrpSpPr>
            <p:grpSpPr>
              <a:xfrm>
                <a:off x="5937840" y="6000840"/>
                <a:ext cx="915840" cy="786240"/>
                <a:chOff x="5937840" y="6000840"/>
                <a:chExt cx="915840" cy="786240"/>
              </a:xfrm>
            </p:grpSpPr>
            <p:sp>
              <p:nvSpPr>
                <p:cNvPr id="1563" name="Rectangle 80"/>
                <p:cNvSpPr/>
                <p:nvPr/>
              </p:nvSpPr>
              <p:spPr>
                <a:xfrm>
                  <a:off x="6694560" y="640584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4" name="Rectangle 81"/>
                <p:cNvSpPr/>
                <p:nvPr/>
              </p:nvSpPr>
              <p:spPr>
                <a:xfrm>
                  <a:off x="6140520" y="6405840"/>
                  <a:ext cx="1591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5" name="Rectangle 86"/>
                <p:cNvSpPr/>
                <p:nvPr/>
              </p:nvSpPr>
              <p:spPr>
                <a:xfrm>
                  <a:off x="6530040" y="6064200"/>
                  <a:ext cx="1562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t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6" name="Rectangle 87"/>
                <p:cNvSpPr/>
                <p:nvPr/>
              </p:nvSpPr>
              <p:spPr>
                <a:xfrm>
                  <a:off x="5937840" y="6064200"/>
                  <a:ext cx="24912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400" spc="-1" strike="noStrike">
                      <a:solidFill>
                        <a:srgbClr val="ff0000"/>
                      </a:solidFill>
                      <a:latin typeface="Times New Roman"/>
                    </a:rPr>
                    <a:t>v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7" name="Rectangle 93"/>
                <p:cNvSpPr/>
                <p:nvPr/>
              </p:nvSpPr>
              <p:spPr>
                <a:xfrm>
                  <a:off x="6210360" y="6000840"/>
                  <a:ext cx="3236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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68" name="Группа 43"/>
            <p:cNvGrpSpPr/>
            <p:nvPr/>
          </p:nvGrpSpPr>
          <p:grpSpPr>
            <a:xfrm>
              <a:off x="5822640" y="6179040"/>
              <a:ext cx="1133640" cy="492840"/>
              <a:chOff x="5822640" y="6179040"/>
              <a:chExt cx="1133640" cy="492840"/>
            </a:xfrm>
          </p:grpSpPr>
          <p:sp>
            <p:nvSpPr>
              <p:cNvPr id="1569" name="Прямая соединительная линия 44"/>
              <p:cNvSpPr/>
              <p:nvPr/>
            </p:nvSpPr>
            <p:spPr>
              <a:xfrm flipH="1">
                <a:off x="5833440" y="6179040"/>
                <a:ext cx="1110240" cy="492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Прямая соединительная линия 45"/>
              <p:cNvSpPr/>
              <p:nvPr/>
            </p:nvSpPr>
            <p:spPr>
              <a:xfrm>
                <a:off x="5822640" y="6180840"/>
                <a:ext cx="1133640" cy="437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1" name="Группа 53"/>
          <p:cNvGrpSpPr/>
          <p:nvPr/>
        </p:nvGrpSpPr>
        <p:grpSpPr>
          <a:xfrm>
            <a:off x="7829640" y="5357880"/>
            <a:ext cx="1243080" cy="1285920"/>
            <a:chOff x="7829640" y="5357880"/>
            <a:chExt cx="1243080" cy="1285920"/>
          </a:xfrm>
        </p:grpSpPr>
        <p:pic>
          <p:nvPicPr>
            <p:cNvPr id="1572" name="Picture 3" descr="C:\Users\Надежда\Videos\Downloads\Pictures\Организатор клипов (Microsoft)\j0441443.png"/>
            <p:cNvPicPr/>
            <p:nvPr/>
          </p:nvPicPr>
          <p:blipFill>
            <a:blip r:embed="rId1"/>
            <a:stretch/>
          </p:blipFill>
          <p:spPr>
            <a:xfrm>
              <a:off x="8072640" y="5357880"/>
              <a:ext cx="79200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3" name="Скругленный прямоугольник 55">
              <a:hlinkClick r:id="" action="ppaction://hlinkshowjump?jump=endshow"/>
            </p:cNvPr>
            <p:cNvSpPr/>
            <p:nvPr/>
          </p:nvSpPr>
          <p:spPr>
            <a:xfrm>
              <a:off x="7829640" y="6212160"/>
              <a:ext cx="1243080" cy="43164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66"/>
                  </a:solidFill>
                  <a:latin typeface="Times New Roman"/>
                  <a:ea typeface="Times New Roman"/>
                </a:rPr>
                <a:t>вых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4" name="Picture 2" descr="C:\Users\Надежда\Desktop\КАРТИНКИ\Мотоцикл с коляской\841a3db8a02ab83385627c090ec424ee.gif"/>
          <p:cNvPicPr/>
          <p:nvPr/>
        </p:nvPicPr>
        <p:blipFill>
          <a:blip r:embed="rId3"/>
          <a:stretch/>
        </p:blipFill>
        <p:spPr>
          <a:xfrm flipH="1">
            <a:off x="7714800" y="4214880"/>
            <a:ext cx="7621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3" dur="indefinite" restart="never" nodeType="tmRoot">
          <p:childTnLst>
            <p:seq>
              <p:cTn id="2234" restart="whenNotActive" nodeType="interactiveSeq" fill="hold">
                <p:stCondLst>
                  <p:cond evt="onClick">
                    <p:tgtEl>
                      <p:spTgt spid="1527"/>
                    </p:tgtEl>
                  </p:cond>
                </p:stCondLst>
                <p:childTnLst>
                  <p:par>
                    <p:cTn id="2235" fill="hold">
                      <p:stCondLst>
                        <p:cond evt="onClick">
                          <p:tgtEl>
                            <p:spTgt spid="1527"/>
                          </p:tgtEl>
                        </p:cond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9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0" fill="hold">
                      <p:stCondLst>
                        <p:cond evt="onClick">
                          <p:tgtEl>
                            <p:spTgt spid="1527"/>
                          </p:tgtEl>
                        </p:cond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4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5" fill="hold">
                      <p:stCondLst>
                        <p:cond evt="onClick">
                          <p:tgtEl>
                            <p:spTgt spid="1527"/>
                          </p:tgtEl>
                        </p:cond>
                      </p:stCondLst>
                      <p:childTnLst>
                        <p:par>
                          <p:cTn id="2246" fill="hold">
                            <p:stCondLst>
                              <p:cond delay="0"/>
                            </p:stCondLst>
                            <p:childTnLst>
                              <p:par>
                                <p:cTn id="22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9" restart="whenNotActive" nodeType="interactiveSeq" fill="hold">
                <p:stCondLst>
                  <p:cond evt="onClick">
                    <p:tgtEl>
                      <p:spTgt spid="1529"/>
                    </p:tgtEl>
                  </p:cond>
                </p:stCondLst>
                <p:childTnLst>
                  <p:par>
                    <p:cTn id="2250" fill="hold">
                      <p:stCondLst>
                        <p:cond evt="onClick">
                          <p:tgtEl>
                            <p:spTgt spid="1529"/>
                          </p:tgtEl>
                        </p:cond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4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7" fill="hold">
                      <p:stCondLst>
                        <p:cond evt="onClick">
                          <p:tgtEl>
                            <p:spTgt spid="1529"/>
                          </p:tgtEl>
                        </p:cond>
                      </p:stCondLst>
                      <p:childTnLst>
                        <p:par>
                          <p:cTn id="2258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1" restart="whenNotActive" nodeType="interactiveSeq" fill="hold">
                <p:stCondLst>
                  <p:cond evt="onClick">
                    <p:tgtEl>
                      <p:spTgt spid="1543"/>
                    </p:tgtEl>
                  </p:cond>
                </p:stCondLst>
                <p:childTnLst>
                  <p:par>
                    <p:cTn id="2262" fill="hold">
                      <p:stCondLst>
                        <p:cond evt="onClick">
                          <p:tgtEl>
                            <p:spTgt spid="1543"/>
                          </p:tgtEl>
                        </p:cond>
                      </p:stCondLst>
                      <p:childTnLst>
                        <p:par>
                          <p:cTn id="2263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6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7" fill="hold">
                      <p:stCondLst>
                        <p:cond evt="onClick">
                          <p:tgtEl>
                            <p:spTgt spid="1543"/>
                          </p:tgtEl>
                        </p:cond>
                      </p:stCondLst>
                      <p:childTnLst>
                        <p:par>
                          <p:cTn id="2268" fill="hold">
                            <p:stCondLst>
                              <p:cond delay="0"/>
                            </p:stCondLst>
                            <p:childTnLst>
                              <p:par>
                                <p:cTn id="2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1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2" fill="hold">
                      <p:stCondLst>
                        <p:cond evt="onClick">
                          <p:tgtEl>
                            <p:spTgt spid="1543"/>
                          </p:tgtEl>
                        </p:cond>
                      </p:stCondLst>
                      <p:childTnLst>
                        <p:par>
                          <p:cTn id="2273" fill="hold">
                            <p:stCondLst>
                              <p:cond delay="0"/>
                            </p:stCondLst>
                            <p:childTnLst>
                              <p:par>
                                <p:cTn id="22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6" restart="whenNotActive" nodeType="interactiveSeq" fill="hold">
                <p:stCondLst>
                  <p:cond evt="onClick">
                    <p:tgtEl>
                      <p:spTgt spid="1557"/>
                    </p:tgtEl>
                  </p:cond>
                </p:stCondLst>
                <p:childTnLst>
                  <p:par>
                    <p:cTn id="2277" fill="hold">
                      <p:stCondLst>
                        <p:cond evt="onClick">
                          <p:tgtEl>
                            <p:spTgt spid="1557"/>
                          </p:tgtEl>
                        </p:cond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1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2" fill="hold">
                      <p:stCondLst>
                        <p:cond evt="onClick">
                          <p:tgtEl>
                            <p:spTgt spid="1557"/>
                          </p:tgtEl>
                        </p:cond>
                      </p:stCondLst>
                      <p:childTnLst>
                        <p:par>
                          <p:cTn id="2283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6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fill="hold">
                      <p:stCondLst>
                        <p:cond evt="onClick">
                          <p:tgtEl>
                            <p:spTgt spid="1557"/>
                          </p:tgtEl>
                        </p:cond>
                      </p:stCondLst>
                      <p:childTnLst>
                        <p:par>
                          <p:cTn id="2288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Алгоритм решения дробно-рациональных уравн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285840" y="1247760"/>
            <a:ext cx="831852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Найти общий знаменатель дробей, входящих в уравн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Умножить обе части уравнения на этот общий знаменател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чтобы получить целое уравн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Решить полученное целое уравн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Исключить корни, обращающие каждый знаменатель в ну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или найти ОДЗ (Область допустимых значений                                     переменных в знаменателях данных дробей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Calibri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Задачи на движение по местн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Задачи на движение по вод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Задачи на работ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Задачи на нахождение дробей и т.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Скругленный прямоугольник 1"/>
          <p:cNvSpPr/>
          <p:nvPr/>
        </p:nvSpPr>
        <p:spPr>
          <a:xfrm>
            <a:off x="1015920" y="142920"/>
            <a:ext cx="791388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 – </a:t>
            </a:r>
            <a:r>
              <a:rPr b="0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стояние,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 – </a:t>
            </a:r>
            <a:r>
              <a:rPr b="0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орость,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 - </a:t>
            </a:r>
            <a:r>
              <a:rPr b="0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мя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2"/>
          <p:cNvSpPr/>
          <p:nvPr/>
        </p:nvSpPr>
        <p:spPr>
          <a:xfrm>
            <a:off x="1000080" y="1428840"/>
            <a:ext cx="207180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 =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кругленный прямоугольник 3"/>
          <p:cNvSpPr/>
          <p:nvPr/>
        </p:nvSpPr>
        <p:spPr>
          <a:xfrm>
            <a:off x="3857760" y="2071800"/>
            <a:ext cx="20714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 = s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кругленный прямоугольник 4"/>
          <p:cNvSpPr/>
          <p:nvPr/>
        </p:nvSpPr>
        <p:spPr>
          <a:xfrm>
            <a:off x="6715080" y="2786040"/>
            <a:ext cx="207180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5"/>
          <p:cNvSpPr/>
          <p:nvPr/>
        </p:nvSpPr>
        <p:spPr>
          <a:xfrm>
            <a:off x="1000080" y="2809800"/>
            <a:ext cx="207180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 =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6"/>
          <p:cNvSpPr/>
          <p:nvPr/>
        </p:nvSpPr>
        <p:spPr>
          <a:xfrm>
            <a:off x="3857760" y="3429000"/>
            <a:ext cx="20714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 = s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∙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7"/>
          <p:cNvSpPr/>
          <p:nvPr/>
        </p:nvSpPr>
        <p:spPr>
          <a:xfrm>
            <a:off x="6786720" y="4214880"/>
            <a:ext cx="20714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" descr="C:\Users\Надежда\Desktop\136.gif"/>
          <p:cNvPicPr/>
          <p:nvPr/>
        </p:nvPicPr>
        <p:blipFill>
          <a:blip r:embed="rId1"/>
          <a:stretch/>
        </p:blipFill>
        <p:spPr>
          <a:xfrm>
            <a:off x="1357200" y="6211800"/>
            <a:ext cx="7199280" cy="432000"/>
          </a:xfrm>
          <a:prstGeom prst="rect">
            <a:avLst/>
          </a:prstGeom>
          <a:ln w="0">
            <a:noFill/>
          </a:ln>
        </p:spPr>
      </p:pic>
      <p:grpSp>
        <p:nvGrpSpPr>
          <p:cNvPr id="76" name="Группа 114"/>
          <p:cNvGrpSpPr/>
          <p:nvPr/>
        </p:nvGrpSpPr>
        <p:grpSpPr>
          <a:xfrm>
            <a:off x="1376280" y="2850840"/>
            <a:ext cx="1084320" cy="480600"/>
            <a:chOff x="1376280" y="2850840"/>
            <a:chExt cx="1084320" cy="480600"/>
          </a:xfrm>
        </p:grpSpPr>
        <p:sp>
          <p:nvSpPr>
            <p:cNvPr id="77" name="Прямая соединительная линия 12"/>
            <p:cNvSpPr/>
            <p:nvPr/>
          </p:nvSpPr>
          <p:spPr>
            <a:xfrm>
              <a:off x="1414440" y="2853720"/>
              <a:ext cx="1046160" cy="453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Прямая соединительная линия 13"/>
            <p:cNvSpPr/>
            <p:nvPr/>
          </p:nvSpPr>
          <p:spPr>
            <a:xfrm flipH="1">
              <a:off x="1417320" y="2857320"/>
              <a:ext cx="1036440" cy="474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Прямая соединительная линия 14"/>
            <p:cNvSpPr/>
            <p:nvPr/>
          </p:nvSpPr>
          <p:spPr>
            <a:xfrm>
              <a:off x="1376280" y="2850840"/>
              <a:ext cx="1046160" cy="453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Прямая соединительная линия 15"/>
            <p:cNvSpPr/>
            <p:nvPr/>
          </p:nvSpPr>
          <p:spPr>
            <a:xfrm flipH="1">
              <a:off x="1379520" y="2854080"/>
              <a:ext cx="1036440" cy="474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Группа 114"/>
          <p:cNvGrpSpPr/>
          <p:nvPr/>
        </p:nvGrpSpPr>
        <p:grpSpPr>
          <a:xfrm>
            <a:off x="4233960" y="3470040"/>
            <a:ext cx="1083960" cy="480600"/>
            <a:chOff x="4233960" y="3470040"/>
            <a:chExt cx="1083960" cy="480600"/>
          </a:xfrm>
        </p:grpSpPr>
        <p:sp>
          <p:nvSpPr>
            <p:cNvPr id="82" name="Прямая соединительная линия 17"/>
            <p:cNvSpPr/>
            <p:nvPr/>
          </p:nvSpPr>
          <p:spPr>
            <a:xfrm>
              <a:off x="4272120" y="3472920"/>
              <a:ext cx="1045800" cy="453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Прямая соединительная линия 18"/>
            <p:cNvSpPr/>
            <p:nvPr/>
          </p:nvSpPr>
          <p:spPr>
            <a:xfrm flipH="1">
              <a:off x="4274640" y="3476880"/>
              <a:ext cx="1036440" cy="473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Прямая соединительная линия 19"/>
            <p:cNvSpPr/>
            <p:nvPr/>
          </p:nvSpPr>
          <p:spPr>
            <a:xfrm>
              <a:off x="4233960" y="3470040"/>
              <a:ext cx="1045800" cy="453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Прямая соединительная линия 20"/>
            <p:cNvSpPr/>
            <p:nvPr/>
          </p:nvSpPr>
          <p:spPr>
            <a:xfrm flipH="1">
              <a:off x="4236840" y="3473640"/>
              <a:ext cx="1036440" cy="473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Группа 114"/>
          <p:cNvGrpSpPr/>
          <p:nvPr/>
        </p:nvGrpSpPr>
        <p:grpSpPr>
          <a:xfrm>
            <a:off x="7162920" y="4263480"/>
            <a:ext cx="1083960" cy="480960"/>
            <a:chOff x="7162920" y="4263480"/>
            <a:chExt cx="1083960" cy="480960"/>
          </a:xfrm>
        </p:grpSpPr>
        <p:sp>
          <p:nvSpPr>
            <p:cNvPr id="87" name="Прямая соединительная линия 22"/>
            <p:cNvSpPr/>
            <p:nvPr/>
          </p:nvSpPr>
          <p:spPr>
            <a:xfrm>
              <a:off x="7201080" y="4266360"/>
              <a:ext cx="1045800" cy="453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Прямая соединительная линия 23"/>
            <p:cNvSpPr/>
            <p:nvPr/>
          </p:nvSpPr>
          <p:spPr>
            <a:xfrm flipH="1">
              <a:off x="7203600" y="4271040"/>
              <a:ext cx="1036440" cy="473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Прямая соединительная линия 24"/>
            <p:cNvSpPr/>
            <p:nvPr/>
          </p:nvSpPr>
          <p:spPr>
            <a:xfrm>
              <a:off x="7162920" y="4263480"/>
              <a:ext cx="1045800" cy="453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Прямая соединительная линия 25"/>
            <p:cNvSpPr/>
            <p:nvPr/>
          </p:nvSpPr>
          <p:spPr>
            <a:xfrm flipH="1">
              <a:off x="7165800" y="4267800"/>
              <a:ext cx="1036440" cy="473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Скругленный прямоугольник 26"/>
          <p:cNvSpPr/>
          <p:nvPr/>
        </p:nvSpPr>
        <p:spPr>
          <a:xfrm>
            <a:off x="3857760" y="4857840"/>
            <a:ext cx="20714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 ∙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27"/>
          <p:cNvSpPr/>
          <p:nvPr/>
        </p:nvSpPr>
        <p:spPr>
          <a:xfrm>
            <a:off x="1071720" y="4214880"/>
            <a:ext cx="207144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 =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Группа 114"/>
          <p:cNvGrpSpPr/>
          <p:nvPr/>
        </p:nvGrpSpPr>
        <p:grpSpPr>
          <a:xfrm>
            <a:off x="1519200" y="4255560"/>
            <a:ext cx="1083960" cy="480960"/>
            <a:chOff x="1519200" y="4255560"/>
            <a:chExt cx="1083960" cy="480960"/>
          </a:xfrm>
        </p:grpSpPr>
        <p:sp>
          <p:nvSpPr>
            <p:cNvPr id="94" name="Прямая соединительная линия 29"/>
            <p:cNvSpPr/>
            <p:nvPr/>
          </p:nvSpPr>
          <p:spPr>
            <a:xfrm>
              <a:off x="1557360" y="4258440"/>
              <a:ext cx="1045800" cy="453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Прямая соединительная линия 30"/>
            <p:cNvSpPr/>
            <p:nvPr/>
          </p:nvSpPr>
          <p:spPr>
            <a:xfrm flipH="1">
              <a:off x="1559880" y="4263120"/>
              <a:ext cx="1036440" cy="473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Прямая соединительная линия 31"/>
            <p:cNvSpPr/>
            <p:nvPr/>
          </p:nvSpPr>
          <p:spPr>
            <a:xfrm>
              <a:off x="1519200" y="4255560"/>
              <a:ext cx="1045800" cy="453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Прямая соединительная линия 32"/>
            <p:cNvSpPr/>
            <p:nvPr/>
          </p:nvSpPr>
          <p:spPr>
            <a:xfrm flipH="1">
              <a:off x="1522080" y="4259880"/>
              <a:ext cx="1036440" cy="473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Группа 36"/>
          <p:cNvGrpSpPr/>
          <p:nvPr/>
        </p:nvGrpSpPr>
        <p:grpSpPr>
          <a:xfrm>
            <a:off x="7829640" y="4929120"/>
            <a:ext cx="1243080" cy="1285920"/>
            <a:chOff x="7829640" y="4929120"/>
            <a:chExt cx="1243080" cy="1285920"/>
          </a:xfrm>
        </p:grpSpPr>
        <p:pic>
          <p:nvPicPr>
            <p:cNvPr id="99" name="Picture 3" descr="C:\Users\Надежда\Videos\Downloads\Pictures\Организатор клипов (Microsoft)\j0441443.png"/>
            <p:cNvPicPr/>
            <p:nvPr/>
          </p:nvPicPr>
          <p:blipFill>
            <a:blip r:embed="rId2"/>
            <a:stretch/>
          </p:blipFill>
          <p:spPr>
            <a:xfrm>
              <a:off x="8072640" y="4929120"/>
              <a:ext cx="79200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Скругленный прямоугольник 34">
              <a:hlinkClick r:id="" action="ppaction://hlinkshowjump?jump=endshow"/>
            </p:cNvPr>
            <p:cNvSpPr/>
            <p:nvPr/>
          </p:nvSpPr>
          <p:spPr>
            <a:xfrm>
              <a:off x="7829640" y="5783400"/>
              <a:ext cx="1243080" cy="4316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66"/>
                  </a:solidFill>
                  <a:latin typeface="Times New Roman"/>
                  <a:ea typeface="Times New Roman"/>
                </a:rPr>
                <a:t>вых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Устные упражнения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. При каких значениях переменной существует данная дроб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а)              б)                 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. Разложите на множи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а)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1" lang="ru-RU" sz="32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- 2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xy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+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1" lang="ru-RU" sz="32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- 25          б)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1" lang="ru-RU" sz="32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+8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-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332000" y="2781360"/>
                <a:ext cx="10951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348000" y="2708280"/>
                <a:ext cx="10796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. Решите уравне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50920" y="1197000"/>
                <a:ext cx="3384360" cy="432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867280" y="1268280"/>
                <a:ext cx="223380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651640" y="2492280"/>
                <a:ext cx="312552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≠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0" y="327168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0" y="3490920"/>
                <a:ext cx="1144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796000" y="3357720"/>
                <a:ext cx="237636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651640" y="4005360"/>
                <a:ext cx="273528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156360" y="5099040"/>
                <a:ext cx="23763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или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5435640" y="58964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твет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Решение  уравнений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В а р и а н т  1.               В а р и а н т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В а р и а н т  3.                В а р и а н т  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900000" y="2421000"/>
                <a:ext cx="259236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724360" y="2368440"/>
                <a:ext cx="2376720" cy="10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971640" y="4711680"/>
                <a:ext cx="266364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х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х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796000" y="4681440"/>
                <a:ext cx="23763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х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х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6:54:54Z</dcterms:created>
  <dc:creator>Lenuska</dc:creator>
  <dc:description/>
  <dc:language>en-US</dc:language>
  <cp:lastModifiedBy>Нина Сергеевна</cp:lastModifiedBy>
  <dcterms:modified xsi:type="dcterms:W3CDTF">2011-11-06T15:11:50Z</dcterms:modified>
  <cp:revision>106</cp:revision>
  <dc:subject/>
  <dc:title>Слайд 1</dc:title>
</cp:coreProperties>
</file>