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B424-87B1-4C8D-A9D3-33965F1F89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5E98-5E2A-4109-9988-89C687C50E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E44-1656-46FE-A54E-ABBCED99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909-3201-40B5-8751-EB3A70A1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FA743-E8A5-4845-ADB4-4A112701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17FBAB-0F9E-4BE8-A44B-2531FD76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843C5-F9C1-4355-8E7A-018720E7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C1D27D-04F9-4CB9-BB8E-889AA356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F9499-66B1-4B62-BEDC-59E3793E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90549-74CB-4E35-BF35-A79A3411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11093-299D-40CC-B6EB-06934CC3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24B67-99C8-4FF7-AE94-FDDF2CB1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9D30F4-FA2B-4690-88E6-B772003D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4D741-1C39-4AFA-81D7-0DC3FD1F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03F-0921-4071-BDFD-D84E5FEF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3F93D-EE66-4B7A-A4C4-C6B86492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35AEF-0ACC-417C-B463-4397A5DA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7B9D3-96EF-4FF6-9482-AD25A25A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F881D-4ABC-4F44-AEF3-45AEF1A3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FDEA0-DC2B-4EC4-BEAB-E8B4AF03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51CEF-85E0-445D-9A64-D6664093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C26DE-4731-4DC6-A98E-05F5DB28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E67D0-5045-4D93-BA46-5CC60F3B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45F6B9-D9FB-4CE4-99D9-EC2CB71A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139E8-E651-45DF-BB56-FFF92DCE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3066-19CB-4969-866D-AE1AD319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FE7DB3-81DC-483F-816C-C89C81B7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84901-C473-427A-98B9-C797536C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0B2E1-E1E5-46A1-961D-524146E8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99D11-BFFD-4B31-A92C-7A592B6D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7D613-FD73-42A8-9CB4-7FAC673A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06EF2-3714-4D19-BB09-D6D874CE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05F4B-DB26-4B0A-B98E-4CC8CA5E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A7B9A-9683-4C7A-9754-44F7CB98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F7434-DDC9-41BD-8F80-FACB3FBC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EFA65-FC45-4AC2-99FF-2AF68D95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D921-1AAD-4B6E-A6A4-38981E75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733BE-8F30-4052-A648-A0C6EA91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4F203-DB49-4089-AFC0-51E16229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EE2FF-E8B1-44EC-B315-9001721D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6B9827-CEEC-40E1-998D-58D2F729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D8302C-DC88-4EC0-BCD3-AD104608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143507-5122-405F-85A5-3CD81AE8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3F446D-3D88-4FEA-81F8-7EE9D8BE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E5EE5-CC87-4CAD-AC7B-786E327A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5F3E9-F7AB-4C9C-8ED7-4D20E4FC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A6841-A35E-4192-AA88-4EC0EA22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266A-9114-4FB4-81DE-72B67410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F5AD8-EEBD-4D35-A2B5-54234975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ADEAA-6EBE-4399-ACE3-6A8D015C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86611-09FA-4478-B3BD-E0A234C5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8901F-7B8D-4AE8-AD08-EBECAC37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D52E3F-7E91-45F6-841A-D0197D76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89F0-95F7-4CCF-9235-6E71AF5A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914C-159D-45BD-93F6-8E0A578B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23B3-2686-4C94-8E59-CF99E90F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BD19-1E89-4F25-BC99-F0808AE4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455E-95D0-4C85-8E00-55829C85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37B-F02C-41DD-A589-3AC0D992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1F8F-B7CD-410A-A463-B6B1D0E5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E704-DFAB-43DB-A5B4-CC3DDE03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6F31-67E1-4C95-86E7-C06FA3BD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91BE-DB87-4529-993E-64C9D6C8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5662-36E6-4C75-849D-AB71FEE7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457F5-8E46-4A8E-9E97-661ABFFC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A68B5-A282-43B6-A72E-A61FBCD6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0E063-0CDE-4804-8C4C-BD14EEB7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45DDF-5374-4082-90D5-ECC34852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404BC-B09C-44E9-A4A8-968A2A08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3A1-8937-4608-A5DD-C9D3E446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A0F9F-5D5B-410A-AAF3-65A0E873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7F24A-C98F-49E2-98CA-0300E2FB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93A20-7F6C-4B95-A089-4273A83C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26C2C-B48D-4157-986B-E2353D13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7310-74A6-4A15-A0ED-9AFA060A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6E50B-8DBA-430B-8EE8-EA389DC9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D372A-54AF-4A57-956A-54C16433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7B7EA-26E7-4768-883D-06286615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7970C-0A88-4D69-9083-352E739C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44EF4-FFCE-489B-87AF-B09120C2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7821-2EFE-454C-A526-3874AA9E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E5354-A6FE-40FA-BC8F-62C3251D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8A7F0-E1CA-4E6A-987D-A1444625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E48E0-695B-414A-ACBB-07EF06BD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2F101-AA6E-40CF-A1B7-91B4D7DB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B1AC0-50C6-4BF2-8C82-E51C4FBD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1AFEC-842D-4B42-9C56-D793D093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B0878-830D-49FF-90A4-BBF11060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62351-EB48-4D4B-B229-917AE73C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9053D-75BC-473B-A8F4-AF07B490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AB011-297C-4713-AF93-DFD14071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EB9-9816-4A28-A98F-9469599B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0A4D1-FBCF-495F-8D80-3D0F08AE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5301B-F96A-456C-9C8B-D31DA30B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E3586-EC21-47F9-A8E9-800FE484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EEE22-036E-415F-B64C-0B0A52C8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F68C8-A265-4561-87F7-E9BFCDCF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4D4A5-C723-4E2C-91C3-2A096066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C6DE0-B41B-43D8-9A97-1D9F55F4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9B9FA-9B73-4D79-9CB2-985083A0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7151A-0A22-4ECB-BB8C-E88A7DDF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A0421-61D3-4930-B5FA-F1F17EC2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E97-BC5F-4AA7-8ABB-A646B7D9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BF8C4-61E2-43B3-B0B3-08AD3FF3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C4048-746D-4304-802F-68D60DCC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25D7C-D6F6-4CCA-B39D-17C0D37D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29AA9-51A0-47EC-9003-059FFDD2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21B0B-0E59-40F3-AEF4-6BB1B89E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D5589-FC9D-4281-9115-DD9B0A4E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FC11C-69AF-4231-9187-2A5BBB66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92AA3-22BD-4A9B-A920-5BF90481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0E584-F897-469D-A951-F5B6AD23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A7509-5577-4841-A801-59749772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233-1513-422B-AA8D-C3DFFC8F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E697D-8D25-457A-BB26-31B49080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8B5FD-FA75-497D-8870-E2334108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494A2-1F3A-4D3D-8995-60BF6F38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3656C-AE06-4421-8B2D-0916E898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E2360-4AEF-4E65-8C1F-983EDCDC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BBB63-56FA-418A-9064-64DB45F8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931BE-467F-4425-B773-DA172A82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5C7DB-E08F-40E4-802A-FFF38B65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AD1E5-62D6-487A-9B1F-7CF93954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2F6B5-D55A-446F-BE83-0BF3D1B8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00E4-713E-4766-8ACF-9AA5915B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EBBBE-FD62-4F68-A797-752B13ED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93ABA-59EE-4CD6-A81A-6C065DA1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A138F-52B4-4BDC-B6DA-E0E823BD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30102-1D13-4FF1-8928-49ECF3A1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E19D9-B462-4DC0-BA8B-8A895A94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14516-B94D-48BC-A48D-EE195026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F8E66-AA60-4DF8-AFF3-1C5FBFAC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E66E4-FB78-4906-BDA2-FC0957E0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77F25-FBC6-442D-B1F8-9BA31B2F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F075C-80B4-42CC-8262-549B366B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21D-4648-42CB-91B4-309F2C9E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F5104-3205-42FF-9DD7-E1990055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6C181-6046-4F9E-9C93-A6915744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0DF89-3242-4CB1-BFA6-56FDFFA2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B03ED-4741-4123-A6E3-68FF58CB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E52B5-1383-4CF2-AA32-D598807D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2E3A8-5D9C-49FD-945C-2E896F8D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B5FC5-4F81-4523-A2A2-2E53D0FF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311CF5-E189-4E59-801F-123795AC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EF632-7A26-4916-B665-D19C3676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B12EE-EC3D-4E5E-B757-DDA0945D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EB9C-F1A4-43B4-B32B-3EA9CD3369F8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EDD3-3A06-4DD5-B391-ED97AEAFCB20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7104-4344-4F7E-98E0-DED2DCEE3847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89C0-D8F5-492C-8769-138710021EB5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C429-CED6-4F76-B452-29F8C8F6491A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521A-BB83-45AA-A21C-AC81ADCA99FF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FBB6-0C0F-46C0-80FA-702046E70A9B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D7A5-E2F8-4C58-8A5E-E8E476FE527A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52C3-18D1-419B-9BCB-F911D6E808DC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F563-2348-42F0-8432-1A1684296DC3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0FF6-F9A6-475E-9604-82A9D3452BED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8a44d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5508-24FD-4B7A-87F4-20E82ABB872A}" type="slidenum">
              <a:rPr b="0" lang="ru-RU" sz="1600" spc="-1" strike="noStrike">
                <a:solidFill>
                  <a:srgbClr val="88a44d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2743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f81bd"/>
                </a:solidFill>
                <a:latin typeface="Georgia"/>
              </a:rPr>
              <a:t>Трудные вопросы ЕГЭ</a:t>
            </a:r>
            <a:br>
              <a:rPr sz="4200"/>
            </a:br>
            <a:r>
              <a:rPr b="0" lang="ru-RU" sz="4200" spc="-1" strike="noStrike">
                <a:solidFill>
                  <a:srgbClr val="4f81bd"/>
                </a:solidFill>
                <a:latin typeface="Georgia"/>
              </a:rPr>
              <a:t>по русскому языку</a:t>
            </a:r>
            <a:endParaRPr b="0" lang="en-US" sz="42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Составное именное сказуемое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Определите , что является сказуемым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Лето уже не за горам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олос у тебя хоть куд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дание оказалось не по сила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м у него ого-г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дых вещь хороша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асилиса Егоровна – прехрабрая дам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Обратите внимание!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составном именном сказуемом слова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человек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мужчина, женщина , люди , вещь, дело, народ , животное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ступают в роли именной части с определениями при них, на которых лежит основная нагрузк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Старушки все – народ сердиты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Сложный  случай синтаксиса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Проговорите характеристику подчеркнутого предложения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вам приходили какие-то люди .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Завтра снова придут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У меня нет ни тетради ,ни ручки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У меня ни тетради , ни ручки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Набежала туча черная, кочевничья на солнышко красное , полетели стрелы вражьи, и несть им числа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На холме до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Разграничение союзов и частиц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32523"/>
                </a:solidFill>
                <a:latin typeface="Georgia"/>
              </a:rPr>
              <a:t>Определите морфологическую принадлежность выделенного слова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чему ты мне не звонишь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Лиш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одинокий фонарь освещал улиц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Лиш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поезд подошел к станции, сразу заиграла музык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т цветок я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сорвал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нашел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сорвал этот цветок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ы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сам хорошо учишьс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Разграничение союзов и частиц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7. Он стрелял быстро 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хотя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неточн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8. Войска все шли и шли 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хотя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была ноч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9. Приходите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хот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вс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0.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ускай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я слаб , мой меч силе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1.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ускай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Катя ко мне зайде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2. Скажи родителям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уст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придут в школ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3.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Как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иедешь, сразу позвон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4.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Как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ервый луч  весенний ярок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5. Постарайся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чтобы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все было готов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Разграничение союзов и частиц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6.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Чтоб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все было готово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7. Ты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ведь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не поможешь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8.Нужно взять такси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вед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до вокзала далек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9.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Только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не перебивай меня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0.Я все расскажу,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только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ы не перебивай мен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1.Хочу проверить , не обманываешь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ли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ты мен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2.Я работаю, ты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же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дыхаеш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3. Ты же знаешь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что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я прав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4.Объясните,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разв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я не прав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Разграничение союзов и частиц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5. Пришли все, кроме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разве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сед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6.Дом все тот же ,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разв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что краска слезл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7.Я готов бежать всю дорогу ,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лишь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ы успеть на поезд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8.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Лиш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бы не было дождя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Типы придаточных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84807"/>
                </a:solidFill>
                <a:latin typeface="Georgia"/>
              </a:rPr>
              <a:t>В части В было задание найти</a:t>
            </a:r>
            <a:r>
              <a:rPr b="1" lang="ru-RU" sz="2500" spc="-1" strike="noStrike">
                <a:solidFill>
                  <a:srgbClr val="984807"/>
                </a:solidFill>
                <a:latin typeface="Georgia"/>
              </a:rPr>
              <a:t> </a:t>
            </a:r>
            <a:r>
              <a:rPr b="1" lang="ru-RU" sz="2500" spc="-1" strike="noStrike" u="sng">
                <a:solidFill>
                  <a:srgbClr val="984807"/>
                </a:solidFill>
                <a:uFillTx/>
                <a:latin typeface="Georgia"/>
              </a:rPr>
              <a:t>определительное придаточное с оттенком меры и степени</a:t>
            </a:r>
            <a:r>
              <a:rPr b="0" lang="ru-RU" sz="2500" spc="-1" strike="noStrike" u="sng">
                <a:solidFill>
                  <a:srgbClr val="984807"/>
                </a:solidFill>
                <a:uFillTx/>
                <a:latin typeface="Georgia"/>
              </a:rPr>
              <a:t>. </a:t>
            </a:r>
            <a:r>
              <a:rPr b="0" lang="ru-RU" sz="2500" spc="-1" strike="noStrike">
                <a:solidFill>
                  <a:srgbClr val="984807"/>
                </a:solidFill>
                <a:latin typeface="Georgia"/>
              </a:rPr>
              <a:t>Какое из данных предложений будет являться таковым?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1.В произведениях Рублева отражены муки и испытания , что принял народ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2. У меня такая новость, что вы все ахнете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3. Не счесть художников , создавших полотна , где 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ействуют десятки фигур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. Этот факт его биографии так поразил меня, что я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умал о нем весь день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Союз </a:t>
            </a:r>
            <a:r>
              <a:rPr b="1" lang="ru-RU" sz="3300" spc="-1" strike="noStrike">
                <a:solidFill>
                  <a:srgbClr val="4f6228"/>
                </a:solidFill>
                <a:latin typeface="Georgia"/>
              </a:rPr>
              <a:t>потому что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шется </a:t>
            </a:r>
            <a:r>
              <a:rPr b="1" lang="ru-RU" sz="2700" spc="-1" strike="noStrike">
                <a:solidFill>
                  <a:srgbClr val="403152"/>
                </a:solidFill>
                <a:latin typeface="Georgia"/>
              </a:rPr>
              <a:t>потому что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1" lang="ru-RU" sz="2700" spc="-1" strike="noStrike">
                <a:solidFill>
                  <a:srgbClr val="403152"/>
                </a:solidFill>
                <a:latin typeface="Georgia"/>
              </a:rPr>
              <a:t>потому, чт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03152"/>
                </a:solidFill>
                <a:latin typeface="Georgia"/>
              </a:rPr>
              <a:t>Расчленяется , если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03152"/>
                </a:solidFill>
                <a:latin typeface="Georgia"/>
              </a:rPr>
              <a:t>            </a:t>
            </a:r>
            <a:r>
              <a:rPr b="0" lang="ru-RU" sz="2700" spc="-1" strike="noStrike">
                <a:solidFill>
                  <a:srgbClr val="1e1c11"/>
                </a:solidFill>
                <a:latin typeface="Georgia"/>
              </a:rPr>
              <a:t>1. если  перед ним стоит </a:t>
            </a:r>
            <a:r>
              <a:rPr b="1" lang="ru-RU" sz="2700" spc="-1" strike="noStrike">
                <a:solidFill>
                  <a:srgbClr val="1e1c11"/>
                </a:solidFill>
                <a:latin typeface="Georgia"/>
              </a:rPr>
              <a:t>н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        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не пришел не потому, что не захотел</a:t>
            </a:r>
            <a:r>
              <a:rPr b="1" lang="ru-RU" sz="2700" spc="-1" strike="noStrike">
                <a:solidFill>
                  <a:srgbClr val="1e1c11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e1c11"/>
                </a:solidFill>
                <a:latin typeface="Georgia"/>
              </a:rPr>
              <a:t>            </a:t>
            </a:r>
            <a:r>
              <a:rPr b="0" lang="ru-RU" sz="2700" spc="-1" strike="noStrike">
                <a:solidFill>
                  <a:srgbClr val="1e1c11"/>
                </a:solidFill>
                <a:latin typeface="Georgia"/>
              </a:rPr>
              <a:t>2. если рядом находится </a:t>
            </a:r>
            <a:r>
              <a:rPr b="1" lang="ru-RU" sz="2700" spc="-1" strike="noStrike">
                <a:solidFill>
                  <a:srgbClr val="1e1c11"/>
                </a:solidFill>
                <a:latin typeface="Georgia"/>
              </a:rPr>
              <a:t>вводное слово </a:t>
            </a:r>
            <a:r>
              <a:rPr b="0" lang="ru-RU" sz="2700" spc="-1" strike="noStrike">
                <a:solidFill>
                  <a:srgbClr val="1e1c11"/>
                </a:solidFill>
                <a:latin typeface="Georgia"/>
              </a:rPr>
              <a:t>,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e1c11"/>
                </a:solidFill>
                <a:latin typeface="Georgia"/>
              </a:rPr>
              <a:t>             </a:t>
            </a:r>
            <a:r>
              <a:rPr b="1" lang="ru-RU" sz="2700" spc="-1" strike="noStrike">
                <a:solidFill>
                  <a:srgbClr val="1e1c11"/>
                </a:solidFill>
                <a:latin typeface="Georgia"/>
              </a:rPr>
              <a:t>союз, частиц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e1c11"/>
                </a:solidFill>
                <a:latin typeface="Georgia"/>
              </a:rPr>
              <a:t>        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не пришел лишь потому, что оказался в пробк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632523"/>
                </a:solidFill>
                <a:latin typeface="Georgia"/>
              </a:rPr>
              <a:t>Функции инфинитива в предложении</a:t>
            </a:r>
            <a:endParaRPr b="0" lang="en-US" sz="30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ru-RU" sz="2400" spc="-1" strike="noStrike">
                <a:solidFill>
                  <a:srgbClr val="95b3d7"/>
                </a:solidFill>
                <a:latin typeface="Georgia"/>
              </a:rPr>
              <a:t>.Убедить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его в чем-нибудь было делом нелегким.(подлежащее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.А царица</a:t>
            </a:r>
            <a:r>
              <a:rPr b="0" i="1" lang="ru-RU" sz="2400" spc="-1" strike="noStrike">
                <a:solidFill>
                  <a:srgbClr val="95b3d7"/>
                </a:solidFill>
                <a:latin typeface="Georgia"/>
              </a:rPr>
              <a:t> хохотать.</a:t>
            </a: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(простое глагольное сказуемое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3.</a:t>
            </a:r>
            <a:r>
              <a:rPr b="0" lang="ru-RU" sz="2400" spc="-1" strike="noStrike">
                <a:solidFill>
                  <a:srgbClr val="0d0d0d"/>
                </a:solidFill>
                <a:latin typeface="Georgia"/>
              </a:rPr>
              <a:t>Меня попросили </a:t>
            </a:r>
            <a:r>
              <a:rPr b="0" i="1" lang="ru-RU" sz="2400" spc="-1" strike="noStrike">
                <a:solidFill>
                  <a:srgbClr val="95b3d7"/>
                </a:solidFill>
                <a:latin typeface="Georgia"/>
              </a:rPr>
              <a:t>сходить</a:t>
            </a:r>
            <a:r>
              <a:rPr b="0" lang="ru-RU" sz="2400" spc="-1" strike="noStrike">
                <a:solidFill>
                  <a:srgbClr val="0d0d0d"/>
                </a:solidFill>
                <a:latin typeface="Georgia"/>
              </a:rPr>
              <a:t> за </a:t>
            </a:r>
            <a:r>
              <a:rPr b="0" lang="ru-RU" sz="2400" spc="-1" strike="noStrike">
                <a:solidFill>
                  <a:srgbClr val="262626"/>
                </a:solidFill>
                <a:latin typeface="Georgia"/>
              </a:rPr>
              <a:t>хлебом</a:t>
            </a:r>
            <a:r>
              <a:rPr b="0" lang="ru-RU" sz="2400" spc="-1" strike="noStrike">
                <a:solidFill>
                  <a:srgbClr val="0d0d0d"/>
                </a:solidFill>
                <a:latin typeface="Georgia"/>
              </a:rPr>
              <a:t>.(дополнение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4.Я решил </a:t>
            </a:r>
            <a:r>
              <a:rPr b="0" i="1" lang="ru-RU" sz="2400" spc="-1" strike="noStrike">
                <a:solidFill>
                  <a:srgbClr val="95b3d7"/>
                </a:solidFill>
                <a:latin typeface="Georgia"/>
              </a:rPr>
              <a:t>сходить</a:t>
            </a: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 за хлебом.(составное глагольное сказуемое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5.Перед нами поставлена задача </a:t>
            </a:r>
            <a:r>
              <a:rPr b="0" i="1" lang="ru-RU" sz="2400" spc="-1" strike="noStrike">
                <a:solidFill>
                  <a:srgbClr val="95b3d7"/>
                </a:solidFill>
                <a:latin typeface="Georgia"/>
              </a:rPr>
              <a:t>учиться</a:t>
            </a: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(определение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6.Я пришел </a:t>
            </a:r>
            <a:r>
              <a:rPr b="0" i="1" lang="ru-RU" sz="2400" spc="-1" strike="noStrike">
                <a:solidFill>
                  <a:srgbClr val="95b3d7"/>
                </a:solidFill>
                <a:latin typeface="Georgia"/>
              </a:rPr>
              <a:t>постричься.</a:t>
            </a:r>
            <a:r>
              <a:rPr b="0" i="1" lang="ru-RU" sz="2400" spc="-1" strike="noStrike">
                <a:solidFill>
                  <a:srgbClr val="0d0d0d"/>
                </a:solidFill>
                <a:latin typeface="Georgia"/>
              </a:rPr>
              <a:t>(обстоятельство цели, если относится к глаголу движения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9bbb59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Определите функцию инфинитива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А мы бежать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Не догнать тебе бешеной тройки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Она подала Ивану напиться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Думать запретить нельзя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Марья Трофимовна ходила в луга убирать сено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Отдыхать хорошо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У него появилось желание поехать на Дальний Восток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Определите функцию инфинитива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99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еня попросили сдать книги в библиотек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>
              <a:spcBef>
                <a:spcPts val="799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Я пришел сдать книги в библиотек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>
              <a:spcBef>
                <a:spcPts val="799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Я хочу сдать книги в библиотек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>
              <a:spcBef>
                <a:spcPts val="799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дать книги в библиотеку- важное дело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>
              <a:spcBef>
                <a:spcPts val="799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воя задача- сдать книги в библиотек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78080" indent="-478080">
              <a:spcBef>
                <a:spcPts val="799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Мне поручили важное дело - сдать книги в библиотеку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Способы выражения сказуемого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i="1" lang="ru-RU" sz="4800" spc="-1" strike="noStrike">
                <a:solidFill>
                  <a:srgbClr val="953735"/>
                </a:solidFill>
                <a:latin typeface="Georgia"/>
              </a:rPr>
              <a:t>Типы сказуемых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953735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53735"/>
                </a:solidFill>
                <a:latin typeface="Georgia"/>
              </a:rPr>
              <a:t>   </a:t>
            </a:r>
            <a:r>
              <a:rPr b="0" i="1" lang="ru-RU" sz="3600" spc="-1" strike="noStrike">
                <a:solidFill>
                  <a:srgbClr val="953735"/>
                </a:solidFill>
                <a:latin typeface="Georgia"/>
              </a:rPr>
              <a:t>1. простое глагольно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53735"/>
                </a:solidFill>
                <a:latin typeface="Georgia"/>
              </a:rPr>
              <a:t>   </a:t>
            </a:r>
            <a:r>
              <a:rPr b="0" i="1" lang="ru-RU" sz="3600" spc="-1" strike="noStrike">
                <a:solidFill>
                  <a:srgbClr val="953735"/>
                </a:solidFill>
                <a:latin typeface="Georgia"/>
              </a:rPr>
              <a:t>2. составное глагольно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53735"/>
                </a:solidFill>
                <a:latin typeface="Georgia"/>
              </a:rPr>
              <a:t>   </a:t>
            </a:r>
            <a:r>
              <a:rPr b="0" i="1" lang="ru-RU" sz="3600" spc="-1" strike="noStrike">
                <a:solidFill>
                  <a:srgbClr val="953735"/>
                </a:solidFill>
                <a:latin typeface="Georgia"/>
              </a:rPr>
              <a:t>3. составное именно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Простое глагольное сказуемое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75"/>
              </a:spcBef>
              <a:buClr>
                <a:srgbClr val="4f81bd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Любой глагол в личной форм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буду говорить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(сложное будущее время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Инфинитиво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А царица хохотат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3.</a:t>
            </a:r>
            <a:r>
              <a:rPr b="0" lang="ru-RU" sz="2700" spc="-1" strike="noStrike" u="sng">
                <a:solidFill>
                  <a:srgbClr val="0d0d0d"/>
                </a:solidFill>
                <a:uFillTx/>
                <a:latin typeface="Georgia"/>
              </a:rPr>
              <a:t>Фразеологизмом,равным глаголу в личной форм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 вышел из себя от подобной наглост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СМ.: </a:t>
            </a: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принять участие, производить впечатление, повесить нос, прийти к убеждению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Простое глагольное сказуемое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. Усеченными глагольными  и междометными формам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Она прыг в сен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А мы ни гуг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5.</a:t>
            </a:r>
            <a:r>
              <a:rPr b="0" lang="ru-RU" sz="2700" spc="-1" strike="noStrike" u="sng">
                <a:solidFill>
                  <a:srgbClr val="0d0d0d"/>
                </a:solidFill>
                <a:uFillTx/>
                <a:latin typeface="Georgia"/>
              </a:rPr>
              <a:t>Простое глагольное сказуемое может быть осложнено частицами и повторами</a:t>
            </a: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Мы ждем не дождемс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А он знай себе пое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А он возьми да и убеги</a:t>
            </a:r>
            <a:r>
              <a:rPr b="1" lang="ru-RU" sz="2700" spc="-1" strike="noStrike">
                <a:solidFill>
                  <a:srgbClr val="e46c0a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Составное глагольное сказуемое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В роли вспомогательного глагола могут выступать фразеологизмы, равные глагол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Он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имел привычку лгать и изворачиватьс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имею намерение жениться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на не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имею обыкновение пить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чай по утра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2. </a:t>
            </a:r>
            <a:r>
              <a:rPr b="0" lang="ru-RU" sz="2700" spc="-1" strike="noStrike" u="sng">
                <a:solidFill>
                  <a:srgbClr val="0d0d0d"/>
                </a:solidFill>
                <a:uFillTx/>
                <a:latin typeface="Georgia"/>
              </a:rPr>
              <a:t>В роли инфинитива может выступать фразеологизм, равный глагол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Я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не хочу кривить душой</a:t>
            </a: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Вы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не должны выходить из себ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88a44d"/>
                </a:solidFill>
                <a:latin typeface="Georgia"/>
              </a:rPr>
              <a:t>Составное глагольное сказуемое 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Особо трудный случай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В роли вспомогательного глагола могут выступать существительные </a:t>
            </a:r>
            <a:r>
              <a:rPr b="1" lang="ru-RU" sz="2700" spc="-1" strike="noStrike">
                <a:solidFill>
                  <a:srgbClr val="31859c"/>
                </a:solidFill>
                <a:latin typeface="Georgia"/>
              </a:rPr>
              <a:t>мастер, любитель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700" spc="-1" strike="noStrike">
                <a:solidFill>
                  <a:srgbClr val="31859c"/>
                </a:solidFill>
                <a:latin typeface="Georgia"/>
              </a:rPr>
              <a:t>охотник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Она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охотница поговорит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84807"/>
                </a:solidFill>
                <a:latin typeface="Georgia"/>
              </a:rPr>
              <a:t>Он </a:t>
            </a:r>
            <a:r>
              <a:rPr b="1" lang="ru-RU" sz="2700" spc="-1" strike="noStrike">
                <a:solidFill>
                  <a:srgbClr val="604a7b"/>
                </a:solidFill>
                <a:latin typeface="Georgia"/>
              </a:rPr>
              <a:t>мастер плести корзины</a:t>
            </a:r>
            <a:r>
              <a:rPr b="0" lang="ru-RU" sz="2700" spc="-1" strike="noStrike">
                <a:solidFill>
                  <a:srgbClr val="0d0d0d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4:23:23Z</dcterms:created>
  <dc:creator>Герман</dc:creator>
  <dc:description/>
  <dc:language>en-US</dc:language>
  <cp:lastModifiedBy>COMP</cp:lastModifiedBy>
  <dcterms:modified xsi:type="dcterms:W3CDTF">2011-10-14T18:05:33Z</dcterms:modified>
  <cp:revision>35</cp:revision>
  <dc:subject/>
  <dc:title>Трудные вопросы ЕГЭ     </dc:title>
</cp:coreProperties>
</file>