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D837-13BE-40E0-BEDC-B3B91D9BFB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38C6-2470-4F0E-8476-92D42E7FC3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9C81-98EF-4098-AB82-C9D36F5E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030A-F723-47AF-A842-C94BEEDB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A64AF6-6A2D-4454-9626-6C9162CA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D8DBDE-E378-49E0-85EC-A299E355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8FEB9C-8DBD-405A-B175-93A68525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D9014A-ACA3-42F9-A307-F23CF03A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A5FFEF-B32B-496F-9E29-CE86EF55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60A912-070A-4042-86C6-8EF82A9A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CD6668-4915-4CCF-B151-6A0DEC9C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9CB495-2186-4933-A9E3-F1078C3B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81EA92-131A-4F28-ADA7-7CB8CC01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DBB16D-64B2-49D1-BEA3-A9F2AF95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DD15-00E4-4EC4-9A38-D9815931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07FFEA-02AD-4145-9D29-A7A94989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43086A-F1F4-42EC-8FD9-191F8792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8A7D89-6330-4DD4-A45D-946682CA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3747C2-B930-4D7F-BCF5-E2CAB78B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8AC290-09D3-4A7A-889B-2A4EC236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D37BA8-A639-448A-8CA6-BFC712BA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684B9A-8B91-4563-88BC-2B9A9924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9AE773-A8DB-4D27-A832-ADA80325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EAD6E-2347-4CB9-9D8F-5B817328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412B07-7A14-43D1-AB26-7A1C7742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9AAD-1F24-4CD5-96D3-D9B68B3D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2ACB74-32CA-47A3-920C-DE203CAB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C4B3D-C214-4D68-91FC-C798E6CA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799C1-96A6-494C-A21F-607ED17A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68D6F-B302-45F0-A95A-4ABA509E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ABA22-14C5-4D9B-8D8C-2F6DBAF0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8147E-110B-494C-8AE7-6AA85821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4C29E-57CE-4854-B83D-1258096E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86F51-CCFC-4C24-9B87-EABF4343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6F33C-24E3-4689-8FB9-27621BF6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AC2E5-2827-4296-A5B3-A1F4E8CD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F189-094A-4191-A694-FD80F682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C89D9-93C6-4306-969C-FC5A05A9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E4F1E-65ED-4B1C-85AE-58C43136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0B805-FBDD-4231-945E-BB4118F3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D853F4-AC6C-452E-8622-596DB653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417DFE-F411-4A05-AC57-185BDEA5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B36F24-04BD-4D1B-A84B-F694E517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0AF776-364C-428A-AAD8-71C29B11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241A76-7D83-43FA-B6ED-14AEEE39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7B6F08-1E47-4A3E-80B3-E88DB5CA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DB9FB1-6061-40C1-87E0-B34B29BC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AC5B-F4C7-4CA2-B58A-CD698FEE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D37B3B-A76E-471C-9E2B-4ABDD466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940C4F-24B2-4FAC-AD9E-1EBC77F3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0A84D3-A63E-4768-9A25-153606FC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AF4ECA-7DCF-4826-91C4-A767B704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1563BA-3B5D-4275-8BCB-22C067F1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AA9C-4E44-425B-9A31-D83E1A91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F0C9-4D48-458B-B784-C98DDB99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834F-D26B-429E-A60B-F3C40F73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92F5-828C-47F3-89F7-DDDF29B4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687A-72B0-4AD0-BDDF-7E06BAB0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0C37-C0F8-4F23-AA19-F6523F0C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DF9E-3D9B-4C07-BE7F-20C0CFFB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C108-74E2-460D-8F6F-E3E0BCA6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0576-926E-4EE0-BC66-EC4F76EE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8075-E1D7-4820-B061-C921BACC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977C-366C-42CA-A9EA-2B60DA60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6C78D-68CD-4327-AD0D-F47E5668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61D8C-FAFB-4358-BEF9-31DBE540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0C6DA-5C37-49D4-B62C-45DF9D9E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AAE33-C800-4228-BD80-5557B910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59680-2C37-4A84-A59D-A1053197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C597-A6C4-4D7F-B20D-2F726E9D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66EA9-6B12-470C-A6F0-426D49B2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644D6-97E9-4F8A-B959-F5F0EEAF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E7A98-0150-43D9-A702-64453BD8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5F994-93C3-47DA-93D4-C30C2AC3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408F1-CA99-403E-A93F-2872E8D2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447DC-2A39-477E-BD39-8EC92D99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A2C60-0DE2-4010-80B3-350C387B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1459E-23DF-4D69-884E-72C2BA6A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D8197-00CD-4F3E-BB90-CCC86914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02613-30D4-41DF-BCC1-C1B65786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5D92-EBDC-46B0-A53C-4DAFCB82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7511E-731B-469E-A931-021D2DB2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F7192-5B46-4631-9A19-D1080FBD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76E65-2140-4D8B-B8A4-A4FECC6E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760B7-7001-4951-85A8-3C2761F2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C88B7-FFEE-4748-819D-16582C2E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AED41-70FC-4FA0-BD75-34C8585B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4FFB3-7F2F-40AA-9D65-8A3B5D0E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6DD31-781C-48F4-889E-3F447EFB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4009B-B35C-45DF-ACE6-61B5FCD6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47130-20EB-4D16-B2AC-666F0838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58AE-E94E-45D4-8EB0-FCF34513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FCBF9-0BA3-4888-A206-59B18F19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438CD-1EDA-4419-BE6D-184E27AB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F9A72-2835-4A3D-BEBD-DCE6DE7C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7EF3C-9DE9-4FDB-9718-79B0D375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D7BE0-1353-491F-8CF5-E1636F4F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3D77E-AFC9-4B65-A614-E1B3BDB1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F0D73-3B30-4DEC-ABD5-E8B38CC5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B7C09-B0D6-4164-9DB4-F006D8AB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D402D-E743-40B7-89A1-DB8C8F39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B6F2D-5D3D-45C4-B530-22347DFE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62DA-206A-4D9F-9902-33472F9A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37353-0212-45A2-BD66-761F8F45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9C6C4-9155-45F4-83CE-31380618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409C1-97ED-495F-88BE-500F1CD5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FDE65-2E25-4BE0-8725-1B3AB528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25866-5CEF-4BB9-BF0C-E68BC395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C5DF8-798A-416C-B4F0-E8A7A40F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23FDF-0AC4-458F-9CE0-913C9CBB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9B4E7-259E-4506-A4D5-46CE9C30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12EC4-AF9D-4B50-98C5-A89A1994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74FAA-F45E-4BFF-A6EC-2CF0E2C8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06BC-7B35-4027-A3D4-64403DE9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3FC9D-9588-4945-916D-3B0F8BEA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1465C-F23D-4F0F-B529-D7B17748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FB207-2DF9-4780-8FCF-589538EF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377E1-2E83-4E5C-87ED-F80FE683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8EB5D-D56C-4FAB-89D5-ADBECF01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4CCA9-4CFA-4E61-B5CF-C7E574FC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96A3F-596B-48B0-8480-0E0C17CD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4F9CE-4939-409A-B190-8605D6E4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C8F94-66BF-4735-8D5A-E99A2C55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FEAC5-1672-4A61-BCAA-86E23C1C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A24D-8C89-4C49-B2F4-8510AC1C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40A04-6691-4DEA-8623-D7E20E02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49361-ED6B-446B-B55E-6409F1D0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810C0-1BD6-42F0-9B77-6F23FC2F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A7514-447D-4080-81E6-231BE688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CA9EF-4C60-48CC-AD83-370D3613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20D4A-351F-4BAA-93CC-1167261B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45E94-85CC-482E-9563-79773120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F06D5-42B9-4EA7-9E1F-27346BDE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5DFB6-F7C3-4640-8C16-850C3787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FE683-FCAB-4DE0-B28D-A8CBECF9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D27D-580F-4025-8BF4-58F5295F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691CC-0847-4D10-A9E3-FCE1AEE1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38EFB-F94A-4031-B4DE-4AF76221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7B012-719C-40D2-BEE8-77A3EFF9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33F8A-8906-4E98-8538-A27F9F01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75D7C-4A63-495C-B4C7-AC502D1A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EEEEE-9182-4567-846F-928F6296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9C4DA-D5FE-49A6-8A19-06FF407C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B97C88-1D72-45C1-B6FA-B910F9C5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ADD879-8036-458C-936C-EAA00E74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C8C20F-7423-4971-B776-F289C047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8060-AEC8-45CF-B25F-71F4D736AABF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6576-2F02-4086-AB07-AF9BCB998682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196C-673B-4F15-B065-79F552FC214F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1221-E295-421B-B652-03912C2B6CF3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39B9-6F31-4CA8-80BE-9573E595E4F1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C885-3145-469A-BEE1-C868ADD54945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F347-011E-4D85-A5B8-54B63D2D67DA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BB27-8899-4E6B-8828-16C14479AD5F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B8BE-926D-404D-86F9-89432E69ED02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243A-B600-4B9B-9AF1-8ECEF3E443D1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E421-459F-4C8A-90E7-D86300567B07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753F-3D45-4A34-AC9A-1BCF251D27DC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2743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4f81bd"/>
                </a:solidFill>
                <a:latin typeface="Georgia"/>
              </a:rPr>
              <a:t>Трудные вопросы ЕГЭ</a:t>
            </a:r>
            <a:br>
              <a:rPr sz="4200"/>
            </a:br>
            <a:r>
              <a:rPr b="0" lang="ru-RU" sz="4200" spc="-1" strike="noStrike">
                <a:solidFill>
                  <a:srgbClr val="4f81bd"/>
                </a:solidFill>
                <a:latin typeface="Georgia"/>
              </a:rPr>
              <a:t>по русскому языку</a:t>
            </a:r>
            <a:endParaRPr b="0" lang="en-US" sz="4200" spc="-1" strike="noStrike">
              <a:solidFill>
                <a:srgbClr val="88a44d"/>
              </a:solidFill>
              <a:latin typeface="Georgi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Составное именное сказуемое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Определите , что является сказуемым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Лето уже не за горам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Голос у тебя хоть куд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адание оказалось не по сила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м у него ого-г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тдых вещь хороша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асилиса Егоровна – прехрабрая дам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Обратите внимание!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составном именном сказуемом слова </a:t>
            </a: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человек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мужчина, женщина , люди , вещь, дело, народ , животное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ыступают в роли именной части с определениями при них, на которых лежит основная нагрузка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Старушки все – народ сердиты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Сложный  случай синтаксиса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Проговорите характеристику подчеркнутого предложения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 вам приходили какие-то люди .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Завтра снова придут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У меня нет ни тетради ,ни ручки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У меня ни тетради , ни ручки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Набежала туча черная, кочевничья на солнышко красное , полетели стрелы вражьи, и несть им числа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На холме до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Разграничение союзов и частиц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32523"/>
                </a:solidFill>
                <a:latin typeface="Georgia"/>
              </a:rPr>
              <a:t>Определите морфологическую принадлежность выделенного слова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чему ты мне не звонишь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Лишь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одинокий фонарь освещал улиц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Лишь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поезд подошел к станции, сразу заиграла музык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тот цветок я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сорвал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нашел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сорвал этот цветок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Ты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сам хорошо учишьс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Разграничение союзов и частиц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7. Он стрелял быстро ,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хотя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неточн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8. Войска все шли и шли ,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хотя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была ночь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9. Приходите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хоть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вс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0.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ускай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я слаб , мой меч силе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1.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ускай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Катя ко мне зайдет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2. Скажи родителям,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усть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придут в школ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3.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Как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иедешь, сразу позвон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4.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Как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ервый луч  весенний ярок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5. Постарайся,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чтобы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все было готов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Разграничение союзов и частиц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6.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Чтоб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все было готово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7. Ты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ведь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не поможешь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8.Нужно взять такси,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ведь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до вокзала далек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9.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Только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не перебивай меня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0.Я все расскажу,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только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ты не перебивай мен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1.Хочу проверить , не обманываешь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ли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ты мен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2.Я работаю, ты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же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тдыхаешь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3. Ты же знаешь,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что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я прав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4.Объясните,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разве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я не прав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Разграничение союзов и частиц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5. Пришли все, кроме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разве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осед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6.Дом все тот же ,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разве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что краска слезла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7.Я готов бежать всю дорогу ,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лишь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ы успеть на поезд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8.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Лишь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бы не было дождя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Типы придаточных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84807"/>
                </a:solidFill>
                <a:latin typeface="Georgia"/>
              </a:rPr>
              <a:t>В части В было задание найти</a:t>
            </a:r>
            <a:r>
              <a:rPr b="1" lang="ru-RU" sz="2500" spc="-1" strike="noStrike">
                <a:solidFill>
                  <a:srgbClr val="984807"/>
                </a:solidFill>
                <a:latin typeface="Georgia"/>
              </a:rPr>
              <a:t> </a:t>
            </a:r>
            <a:r>
              <a:rPr b="1" lang="ru-RU" sz="2500" spc="-1" strike="noStrike" u="sng">
                <a:solidFill>
                  <a:srgbClr val="984807"/>
                </a:solidFill>
                <a:uFillTx/>
                <a:latin typeface="Georgia"/>
              </a:rPr>
              <a:t>определительное придаточное с оттенком меры и степени</a:t>
            </a:r>
            <a:r>
              <a:rPr b="0" lang="ru-RU" sz="2500" spc="-1" strike="noStrike" u="sng">
                <a:solidFill>
                  <a:srgbClr val="984807"/>
                </a:solidFill>
                <a:uFillTx/>
                <a:latin typeface="Georgia"/>
              </a:rPr>
              <a:t>. </a:t>
            </a:r>
            <a:r>
              <a:rPr b="0" lang="ru-RU" sz="2500" spc="-1" strike="noStrike">
                <a:solidFill>
                  <a:srgbClr val="984807"/>
                </a:solidFill>
                <a:latin typeface="Georgia"/>
              </a:rPr>
              <a:t>Какое из данных предложений будет являться таковым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1.В произведениях Рублева отражены муки и испытания , что принял народ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2. У меня такая новость, что вы все ахнете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3. Не счесть художников , создавших полотна , где 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действуют десятки фигур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4. Этот факт его биографии так поразил меня, что я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думал о нем весь день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Союз </a:t>
            </a:r>
            <a:r>
              <a:rPr b="1" lang="ru-RU" sz="3300" spc="-1" strike="noStrike">
                <a:solidFill>
                  <a:srgbClr val="4f6228"/>
                </a:solidFill>
                <a:latin typeface="Georgia"/>
              </a:rPr>
              <a:t>потому что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ишется </a:t>
            </a:r>
            <a:r>
              <a:rPr b="1" lang="ru-RU" sz="2700" spc="-1" strike="noStrike">
                <a:solidFill>
                  <a:srgbClr val="403152"/>
                </a:solidFill>
                <a:latin typeface="Georgia"/>
              </a:rPr>
              <a:t>потому что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1" lang="ru-RU" sz="2700" spc="-1" strike="noStrike">
                <a:solidFill>
                  <a:srgbClr val="403152"/>
                </a:solidFill>
                <a:latin typeface="Georgia"/>
              </a:rPr>
              <a:t>потому, чт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03152"/>
                </a:solidFill>
                <a:latin typeface="Georgia"/>
              </a:rPr>
              <a:t>Расчленяется , если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03152"/>
                </a:solidFill>
                <a:latin typeface="Georgia"/>
              </a:rPr>
              <a:t>            </a:t>
            </a:r>
            <a:r>
              <a:rPr b="0" lang="ru-RU" sz="2700" spc="-1" strike="noStrike">
                <a:solidFill>
                  <a:srgbClr val="1e1c11"/>
                </a:solidFill>
                <a:latin typeface="Georgia"/>
              </a:rPr>
              <a:t>1. если  перед ним стоит </a:t>
            </a:r>
            <a:r>
              <a:rPr b="1" lang="ru-RU" sz="2700" spc="-1" strike="noStrike">
                <a:solidFill>
                  <a:srgbClr val="1e1c11"/>
                </a:solidFill>
                <a:latin typeface="Georgia"/>
              </a:rPr>
              <a:t>н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         </a:t>
            </a: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Я не пришел не потому, что не захотел</a:t>
            </a:r>
            <a:r>
              <a:rPr b="1" lang="ru-RU" sz="2700" spc="-1" strike="noStrike">
                <a:solidFill>
                  <a:srgbClr val="1e1c11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e1c11"/>
                </a:solidFill>
                <a:latin typeface="Georgia"/>
              </a:rPr>
              <a:t>            </a:t>
            </a:r>
            <a:r>
              <a:rPr b="0" lang="ru-RU" sz="2700" spc="-1" strike="noStrike">
                <a:solidFill>
                  <a:srgbClr val="1e1c11"/>
                </a:solidFill>
                <a:latin typeface="Georgia"/>
              </a:rPr>
              <a:t>2. если рядом находится </a:t>
            </a:r>
            <a:r>
              <a:rPr b="1" lang="ru-RU" sz="2700" spc="-1" strike="noStrike">
                <a:solidFill>
                  <a:srgbClr val="1e1c11"/>
                </a:solidFill>
                <a:latin typeface="Georgia"/>
              </a:rPr>
              <a:t>вводное слово </a:t>
            </a:r>
            <a:r>
              <a:rPr b="0" lang="ru-RU" sz="2700" spc="-1" strike="noStrike">
                <a:solidFill>
                  <a:srgbClr val="1e1c11"/>
                </a:solidFill>
                <a:latin typeface="Georgia"/>
              </a:rPr>
              <a:t>,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e1c11"/>
                </a:solidFill>
                <a:latin typeface="Georgia"/>
              </a:rPr>
              <a:t>             </a:t>
            </a:r>
            <a:r>
              <a:rPr b="1" lang="ru-RU" sz="2700" spc="-1" strike="noStrike">
                <a:solidFill>
                  <a:srgbClr val="1e1c11"/>
                </a:solidFill>
                <a:latin typeface="Georgia"/>
              </a:rPr>
              <a:t>союз, частиц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e1c11"/>
                </a:solidFill>
                <a:latin typeface="Georgia"/>
              </a:rPr>
              <a:t>         </a:t>
            </a: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Я не пришел лишь потому, что оказался в пробк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632523"/>
                </a:solidFill>
                <a:latin typeface="Georgia"/>
              </a:rPr>
              <a:t>Функции инфинитива в предложении</a:t>
            </a:r>
            <a:endParaRPr b="0" lang="en-US" sz="3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ru-RU" sz="2400" spc="-1" strike="noStrike">
                <a:solidFill>
                  <a:srgbClr val="95b3d7"/>
                </a:solidFill>
                <a:latin typeface="Georgia"/>
              </a:rPr>
              <a:t>.Убедит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его в чем-нибудь было делом нелегким.(подлежащее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2.А царица</a:t>
            </a:r>
            <a:r>
              <a:rPr b="0" i="1" lang="ru-RU" sz="2400" spc="-1" strike="noStrike">
                <a:solidFill>
                  <a:srgbClr val="95b3d7"/>
                </a:solidFill>
                <a:latin typeface="Georgia"/>
              </a:rPr>
              <a:t> хохотать.</a:t>
            </a:r>
            <a:r>
              <a:rPr b="0" i="1" lang="ru-RU" sz="2400" spc="-1" strike="noStrike">
                <a:solidFill>
                  <a:srgbClr val="0d0d0d"/>
                </a:solidFill>
                <a:latin typeface="Georgia"/>
              </a:rPr>
              <a:t>(простое глагольное сказуемое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d0d0d"/>
                </a:solidFill>
                <a:latin typeface="Georgia"/>
              </a:rPr>
              <a:t>3.</a:t>
            </a:r>
            <a:r>
              <a:rPr b="0" lang="ru-RU" sz="2400" spc="-1" strike="noStrike">
                <a:solidFill>
                  <a:srgbClr val="0d0d0d"/>
                </a:solidFill>
                <a:latin typeface="Georgia"/>
              </a:rPr>
              <a:t>Меня попросили </a:t>
            </a:r>
            <a:r>
              <a:rPr b="0" i="1" lang="ru-RU" sz="2400" spc="-1" strike="noStrike">
                <a:solidFill>
                  <a:srgbClr val="95b3d7"/>
                </a:solidFill>
                <a:latin typeface="Georgia"/>
              </a:rPr>
              <a:t>сходить</a:t>
            </a:r>
            <a:r>
              <a:rPr b="0" lang="ru-RU" sz="2400" spc="-1" strike="noStrike">
                <a:solidFill>
                  <a:srgbClr val="0d0d0d"/>
                </a:solidFill>
                <a:latin typeface="Georgia"/>
              </a:rPr>
              <a:t> за </a:t>
            </a:r>
            <a:r>
              <a:rPr b="0" lang="ru-RU" sz="2400" spc="-1" strike="noStrike">
                <a:solidFill>
                  <a:srgbClr val="262626"/>
                </a:solidFill>
                <a:latin typeface="Georgia"/>
              </a:rPr>
              <a:t>хлебом</a:t>
            </a:r>
            <a:r>
              <a:rPr b="0" lang="ru-RU" sz="2400" spc="-1" strike="noStrike">
                <a:solidFill>
                  <a:srgbClr val="0d0d0d"/>
                </a:solidFill>
                <a:latin typeface="Georgia"/>
              </a:rPr>
              <a:t>.(дополнение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d0d0d"/>
                </a:solidFill>
                <a:latin typeface="Georgia"/>
              </a:rPr>
              <a:t>4.Я решил </a:t>
            </a:r>
            <a:r>
              <a:rPr b="0" i="1" lang="ru-RU" sz="2400" spc="-1" strike="noStrike">
                <a:solidFill>
                  <a:srgbClr val="95b3d7"/>
                </a:solidFill>
                <a:latin typeface="Georgia"/>
              </a:rPr>
              <a:t>сходить</a:t>
            </a:r>
            <a:r>
              <a:rPr b="0" i="1" lang="ru-RU" sz="2400" spc="-1" strike="noStrike">
                <a:solidFill>
                  <a:srgbClr val="0d0d0d"/>
                </a:solidFill>
                <a:latin typeface="Georgia"/>
              </a:rPr>
              <a:t> за хлебом.(составное глагольное сказуемое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d0d0d"/>
                </a:solidFill>
                <a:latin typeface="Georgia"/>
              </a:rPr>
              <a:t>5.Перед нами поставлена задача </a:t>
            </a:r>
            <a:r>
              <a:rPr b="0" i="1" lang="ru-RU" sz="2400" spc="-1" strike="noStrike">
                <a:solidFill>
                  <a:srgbClr val="95b3d7"/>
                </a:solidFill>
                <a:latin typeface="Georgia"/>
              </a:rPr>
              <a:t>учиться</a:t>
            </a:r>
            <a:r>
              <a:rPr b="0" i="1" lang="ru-RU" sz="2400" spc="-1" strike="noStrike">
                <a:solidFill>
                  <a:srgbClr val="0d0d0d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d0d0d"/>
                </a:solidFill>
                <a:latin typeface="Georgia"/>
              </a:rPr>
              <a:t>(определение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d0d0d"/>
                </a:solidFill>
                <a:latin typeface="Georgia"/>
              </a:rPr>
              <a:t>6.Я пришел </a:t>
            </a:r>
            <a:r>
              <a:rPr b="0" i="1" lang="ru-RU" sz="2400" spc="-1" strike="noStrike">
                <a:solidFill>
                  <a:srgbClr val="95b3d7"/>
                </a:solidFill>
                <a:latin typeface="Georgia"/>
              </a:rPr>
              <a:t>постричься.</a:t>
            </a:r>
            <a:r>
              <a:rPr b="0" i="1" lang="ru-RU" sz="2400" spc="-1" strike="noStrike">
                <a:solidFill>
                  <a:srgbClr val="0d0d0d"/>
                </a:solidFill>
                <a:latin typeface="Georgia"/>
              </a:rPr>
              <a:t>(обстоятельство цели, если относится к глаголу движения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9bbb59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Определите функцию инфинитива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А мы бежать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Не догнать тебе бешеной тройки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Она подала Ивану напиться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Думать запретить нельзя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Марья Трофимовна ходила в луга убирать сено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Отдыхать хорошо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У него появилось желание поехать на Дальний Восток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Определите функцию инфинитива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799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Меня попросили сдать книги в библиотеку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78080" indent="-478080">
              <a:spcBef>
                <a:spcPts val="799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Я пришел сдать книги в библиотеку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78080" indent="-478080">
              <a:spcBef>
                <a:spcPts val="799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Я хочу сдать книги в библиотеку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78080" indent="-478080">
              <a:spcBef>
                <a:spcPts val="799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дать книги в библиотеку- важное дело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78080" indent="-478080">
              <a:spcBef>
                <a:spcPts val="799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Твоя задача- сдать книги в библиотеку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78080" indent="-478080">
              <a:spcBef>
                <a:spcPts val="799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Мне поручили важное дело - сдать книги в библиотеку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Способы выражения сказуемого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i="1" lang="ru-RU" sz="4800" spc="-1" strike="noStrike">
                <a:solidFill>
                  <a:srgbClr val="953735"/>
                </a:solidFill>
                <a:latin typeface="Georgia"/>
              </a:rPr>
              <a:t>Типы сказуемых: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953735"/>
                </a:solidFill>
                <a:latin typeface="Georgia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53735"/>
                </a:solidFill>
                <a:latin typeface="Georgia"/>
              </a:rPr>
              <a:t>   </a:t>
            </a:r>
            <a:r>
              <a:rPr b="0" i="1" lang="ru-RU" sz="3600" spc="-1" strike="noStrike">
                <a:solidFill>
                  <a:srgbClr val="953735"/>
                </a:solidFill>
                <a:latin typeface="Georgia"/>
              </a:rPr>
              <a:t>1. простое глагольное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53735"/>
                </a:solidFill>
                <a:latin typeface="Georgia"/>
              </a:rPr>
              <a:t>   </a:t>
            </a:r>
            <a:r>
              <a:rPr b="0" i="1" lang="ru-RU" sz="3600" spc="-1" strike="noStrike">
                <a:solidFill>
                  <a:srgbClr val="953735"/>
                </a:solidFill>
                <a:latin typeface="Georgia"/>
              </a:rPr>
              <a:t>2. составное глагольное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53735"/>
                </a:solidFill>
                <a:latin typeface="Georgia"/>
              </a:rPr>
              <a:t>   </a:t>
            </a:r>
            <a:r>
              <a:rPr b="0" i="1" lang="ru-RU" sz="3600" spc="-1" strike="noStrike">
                <a:solidFill>
                  <a:srgbClr val="953735"/>
                </a:solidFill>
                <a:latin typeface="Georgia"/>
              </a:rPr>
              <a:t>3. составное именное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Простое глагольное сказуемое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Любой глагол в личной форме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93560" indent="-4935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Я буду говорить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(сложное будущее время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93560" indent="-4935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Инфинитиво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93560" indent="-4935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А царица хохотать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93560" indent="-4935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Georgia"/>
              </a:rPr>
              <a:t>3.</a:t>
            </a:r>
            <a:r>
              <a:rPr b="0" lang="ru-RU" sz="2700" spc="-1" strike="noStrike" u="sng">
                <a:solidFill>
                  <a:srgbClr val="0d0d0d"/>
                </a:solidFill>
                <a:uFillTx/>
                <a:latin typeface="Georgia"/>
              </a:rPr>
              <a:t>Фразеологизмом,равным глаголу в личной форм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93560" indent="-4935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Georgia"/>
              </a:rPr>
              <a:t> </a:t>
            </a: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Я  вышел из себя от подобной наглост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93560" indent="-4935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СМ.: </a:t>
            </a:r>
            <a:r>
              <a:rPr b="0" lang="ru-RU" sz="2700" spc="-1" strike="noStrike">
                <a:solidFill>
                  <a:srgbClr val="0d0d0d"/>
                </a:solidFill>
                <a:latin typeface="Georgia"/>
              </a:rPr>
              <a:t>принять участие, производить впечатление, повесить нос, прийти к убеждени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Простое глагольное сказуемое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. Усеченными глагольными  и междометными форма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Она прыг в сен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А мы ни гуг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Georgia"/>
              </a:rPr>
              <a:t>5.</a:t>
            </a:r>
            <a:r>
              <a:rPr b="0" lang="ru-RU" sz="2700" spc="-1" strike="noStrike" u="sng">
                <a:solidFill>
                  <a:srgbClr val="0d0d0d"/>
                </a:solidFill>
                <a:uFillTx/>
                <a:latin typeface="Georgia"/>
              </a:rPr>
              <a:t>Простое глагольное сказуемое может быть осложнено частицами и повторами</a:t>
            </a:r>
            <a:r>
              <a:rPr b="0" lang="ru-RU" sz="2700" spc="-1" strike="noStrike">
                <a:solidFill>
                  <a:srgbClr val="0d0d0d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Мы ждем не дождемс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А он знай себе поет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А он возьми да и убеги</a:t>
            </a:r>
            <a:r>
              <a:rPr b="1" lang="ru-RU" sz="2700" spc="-1" strike="noStrike">
                <a:solidFill>
                  <a:srgbClr val="e46c0a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Составное глагольное сказуемое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В роли вспомогательного глагола могут выступать фразеологизмы, равные глагол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Он </a:t>
            </a:r>
            <a:r>
              <a:rPr b="1" lang="ru-RU" sz="2700" spc="-1" strike="noStrike">
                <a:solidFill>
                  <a:srgbClr val="604a7b"/>
                </a:solidFill>
                <a:latin typeface="Georgia"/>
              </a:rPr>
              <a:t>имел привычку лгать и изворачиватьс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Я </a:t>
            </a:r>
            <a:r>
              <a:rPr b="1" lang="ru-RU" sz="2700" spc="-1" strike="noStrike">
                <a:solidFill>
                  <a:srgbClr val="604a7b"/>
                </a:solidFill>
                <a:latin typeface="Georgia"/>
              </a:rPr>
              <a:t>имею намерение жениться </a:t>
            </a: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на не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Я </a:t>
            </a:r>
            <a:r>
              <a:rPr b="1" lang="ru-RU" sz="2700" spc="-1" strike="noStrike">
                <a:solidFill>
                  <a:srgbClr val="604a7b"/>
                </a:solidFill>
                <a:latin typeface="Georgia"/>
              </a:rPr>
              <a:t>имею обыкновение пить </a:t>
            </a: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чай по утра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Georgia"/>
              </a:rPr>
              <a:t>2. </a:t>
            </a:r>
            <a:r>
              <a:rPr b="0" lang="ru-RU" sz="2700" spc="-1" strike="noStrike" u="sng">
                <a:solidFill>
                  <a:srgbClr val="0d0d0d"/>
                </a:solidFill>
                <a:uFillTx/>
                <a:latin typeface="Georgia"/>
              </a:rPr>
              <a:t>В роли инфинитива может выступать фразеологизм, равный глагол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Georgia"/>
              </a:rPr>
              <a:t> </a:t>
            </a: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Я </a:t>
            </a:r>
            <a:r>
              <a:rPr b="1" lang="ru-RU" sz="2700" spc="-1" strike="noStrike">
                <a:solidFill>
                  <a:srgbClr val="604a7b"/>
                </a:solidFill>
                <a:latin typeface="Georgia"/>
              </a:rPr>
              <a:t>не хочу кривить душой</a:t>
            </a: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Вы </a:t>
            </a:r>
            <a:r>
              <a:rPr b="1" lang="ru-RU" sz="2700" spc="-1" strike="noStrike">
                <a:solidFill>
                  <a:srgbClr val="604a7b"/>
                </a:solidFill>
                <a:latin typeface="Georgia"/>
              </a:rPr>
              <a:t>не должны выходить из себ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Составное глагольное сказуемое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Особо трудный случай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.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В роли вспомогательного глагола могут выступать существительные </a:t>
            </a:r>
            <a:r>
              <a:rPr b="1" lang="ru-RU" sz="2700" spc="-1" strike="noStrike">
                <a:solidFill>
                  <a:srgbClr val="31859c"/>
                </a:solidFill>
                <a:latin typeface="Georgia"/>
              </a:rPr>
              <a:t>мастер, любитель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700" spc="-1" strike="noStrike">
                <a:solidFill>
                  <a:srgbClr val="31859c"/>
                </a:solidFill>
                <a:latin typeface="Georgia"/>
              </a:rPr>
              <a:t>охотник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Она </a:t>
            </a:r>
            <a:r>
              <a:rPr b="1" lang="ru-RU" sz="2700" spc="-1" strike="noStrike">
                <a:solidFill>
                  <a:srgbClr val="604a7b"/>
                </a:solidFill>
                <a:latin typeface="Georgia"/>
              </a:rPr>
              <a:t>охотница поговорить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Он </a:t>
            </a:r>
            <a:r>
              <a:rPr b="1" lang="ru-RU" sz="2700" spc="-1" strike="noStrike">
                <a:solidFill>
                  <a:srgbClr val="604a7b"/>
                </a:solidFill>
                <a:latin typeface="Georgia"/>
              </a:rPr>
              <a:t>мастер плести корзины</a:t>
            </a:r>
            <a:r>
              <a:rPr b="0" lang="ru-RU" sz="2700" spc="-1" strike="noStrike">
                <a:solidFill>
                  <a:srgbClr val="0d0d0d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4:23:23Z</dcterms:created>
  <dc:creator>Герман</dc:creator>
  <dc:description/>
  <dc:language>en-US</dc:language>
  <cp:lastModifiedBy>COMP</cp:lastModifiedBy>
  <dcterms:modified xsi:type="dcterms:W3CDTF">2011-10-14T18:05:33Z</dcterms:modified>
  <cp:revision>35</cp:revision>
  <dc:subject/>
  <dc:title>Трудные вопросы ЕГЭ     </dc:title>
</cp:coreProperties>
</file>