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009-598B-423C-884D-86C223546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B22-928A-401E-ABC3-30023E764A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452-E6A5-4B91-BDDC-A89DE447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82B-C071-4386-A304-AC327480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11395-1CC9-46B9-B015-AB1D19E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FFBF1-B99A-4003-AB77-2FE0D7F0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71237-3DE4-4C17-9359-F0AC2CE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0812F-8A2A-4557-A445-6E34D01F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AE69A-7092-4748-BDF1-235DFB4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63880-0427-4282-85ED-91BDC18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4230A-136E-438B-A2F1-0B45D04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132B9-8529-44D9-BC84-C96E71B1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CADC5-538C-418B-92F4-34F4029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7152B-8DAD-4F38-9887-5706254F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C55-C88A-4EC6-8BFA-226F2A07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D5AB2-2EA4-4332-87ED-F8407B4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F76FB-0509-4755-8CA7-E686991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5E26E-F403-46A2-A670-C1B990F0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702FE-3B07-4F35-B87A-E37AC69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32C1E-8C21-466F-A001-DA3A64D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7C753-01CA-4646-B1CB-2333524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A5A83-B3E6-41BC-9206-2C7CC20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7EB41-7C00-43AD-9221-5E13D90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5C873-AB9F-4573-847F-E3210E5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91600-9337-4BB2-B984-A71D1E54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535-B075-4F66-B192-8A28622C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22B16-AEBF-4733-8F50-5FD42591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4C6F-A597-4FE1-8A57-4E675B73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A8584-E212-4C7D-8940-A92A5B7B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98F90-0676-43DF-B994-9D017E3D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387F-B190-437C-A8DA-7342210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6BE34-CA84-49EE-A09C-E4564854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4F98-0EC0-4F98-B21F-F7C311A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5BB93-82E1-4BE0-BDF8-03DDAE3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DCA49-DC6C-4781-9CFB-BC0A135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ECBD-777E-44CB-9633-BBAE2B0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E49-F96D-4B42-806D-A1F0FBE0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695C-F088-4A54-A3CB-4BC7FDA9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1A4E3-E151-491D-A11D-6539DBFC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74558-DC9E-4C2D-9314-B32C96CD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9473E-AA14-4857-941E-BD60AC0D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1AEE0-08F9-4F08-9932-30F18829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98E9B-F39D-4463-954B-F8AAEA93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4AC92-4046-451A-B775-3D5B886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5EEC6-97E3-4671-AC3F-41FBC1D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4E4F0-E51A-42CB-8537-EB030F1B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4C754-C124-4B66-AF7D-D9C8EAEE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FC5C-2FE2-443F-82CA-7A6734AC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FB0E4-CEE6-4EC4-AF58-E9373FEB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3B85B-2564-4AC6-A994-3591DB6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A07D4-E497-421B-8C4F-04F9E031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8DDF1-68ED-4B9A-89BF-8520D598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A0930-45FA-454E-8815-C2E1F002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C0F5-198C-4C84-8E42-A3AE33B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0238-DBE7-49D3-A9E9-82730A5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175A-FB4F-44BF-9480-A0C8315E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9BC-C937-43E1-88AA-4878DA32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6C0-54A9-4BA0-BC02-A393CED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4BC-39DF-435A-9A1A-DFC6CB9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972-BD53-4FA1-90FE-DC7DE6A6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1D45-12C2-40A8-8114-8F8B26F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C8AB-A296-492A-A5AE-9D7B130B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96E9-A4F2-47D5-A382-F77D813D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4EDC-826B-4A65-9E28-ACC8FB46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01E4-651B-437C-92AB-D111FDEE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D26F-6B74-4D58-BB0C-5F9DD7A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96F0-8E07-41E3-B526-6BCD1622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BB0F-90A6-4D3A-811F-ADF8525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D4E5-8664-4E56-A643-05F4A70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E5F-6683-4E73-BCE6-0E0F392D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0C34-23A0-4DC1-B419-CBA2684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F532-D97D-48FA-883A-03AAC38C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39DD-B37F-4115-867A-2EB24BD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3684-D9C2-4594-822E-E142595C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5479-E297-47D9-B794-D02E7E4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D196-ADE5-45BA-9C55-16639433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C841-328F-4A76-A5B6-7935B4A3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B5DB-6D00-4A37-9A3C-62109CBD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D996-9B48-4F4C-8649-BE64124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109B-DCBB-46EB-8F9F-0F4207F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BB5-F108-4353-BA4F-F96DB91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C62B-E75E-4867-AFC4-B2415E79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6A035-398E-4A0C-A0F0-E0F812B1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82BF-A70F-43DC-ADF0-C555ACD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F325-DEAF-4DDF-ABD9-9752228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30C3-D4FC-4EF6-9AFC-2D6ED0E9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92B7-3B74-4516-95B3-315CACA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3501-F76D-46CD-8674-A171EEBC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C7E4-2009-4B35-93D6-36DA1D5A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E138-E7C2-4451-9B47-CFEDA9C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8DA1C-57B5-4521-9EFE-2424C18D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63B-0B74-4B58-9E1D-0CC7E0A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634D-592B-4842-A144-AFD3377D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D3E6-EB70-44EB-A4AE-EE46D033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8E1F-3162-4530-82B5-91659C1C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B4566-98D4-41B5-ACEE-F2568614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EE5F-501A-4E84-9161-F32522A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EF2D6-CE6C-4E97-9466-7BEDA69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72C1-7B16-4262-8EE1-0C71A67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1FBE-9D9A-4903-9617-28E897F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2A648-8C82-4994-86F6-DF4EF95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67A2-0DEF-4135-B529-835F417A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C54-4743-4B34-9F57-A1360842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B376E-8CA0-4286-B439-DC8FB267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AAF7-D340-46ED-A6F3-2E206374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0104-117F-4407-B4C8-D9B7445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2CF47-36E7-450F-AB98-D0BC18B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CF27-33AF-404B-982F-FEF304B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07047-0387-4A6C-A947-521F72A9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B7F1-3F9E-46D2-88D3-C156B65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6C15-562B-4C76-B7CD-351BF63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FF57-A504-4DB1-87B9-52E1790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C5243-80D5-45B2-AF2E-98F16AB0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A42-93BA-4436-B9F6-F6125628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03A5-EB50-4C4F-B08E-CD70051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0D9EA-59E7-420B-B634-05196BC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EAAA-E5CC-4E49-B8CA-459D7FE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643D-896C-479E-A506-30E05D77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9C205-7B16-49B8-815D-9A04626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FA65-4A70-4D2E-868D-24778011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6BA3-9B8F-448E-AB9D-0E23CAB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5143-BAFF-4311-8684-5720861A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4AE74-0480-49B0-A4A8-E2B6EDB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FEDF-7927-4691-AF1C-A0C7FB6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D89-ED05-49BF-814A-0407EEC4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4F64F-E814-4203-950F-8C9270D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0D5D-0F53-48F0-B716-79BBDA54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266C-949C-4620-B336-B9BAA5E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B7E45-A465-4905-9EEA-2A22E4F1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05273-EDE3-4611-AF30-4E9AF21B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0FBE-8446-447F-A8C3-534D122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388DA-B263-42C5-BE5F-3D3AEE5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24F3-B6DA-40E8-88DA-3E9A1A1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42C3-2968-4E1D-97E8-5B915AF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A1213-7FE1-4E34-A44A-201B76B8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4F4-A2A7-4AA9-88AA-24AD9ADE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ECE9-9375-4C1B-942E-3383F48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40D1F-8484-4DD1-B74A-AC42C84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F4569-FC43-4976-8117-850D295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F7E6C-F473-4748-A94E-1BFE0D95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AABA6-03F8-49E7-8A38-81E1837D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FC5C-B57C-4E7A-B493-A784DD68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307A-55A6-427C-A047-5648C0DF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BF398-11D9-4417-859B-83ACFE6C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5A4B9-6BB5-4884-B58D-90AFFB3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ED009-3E64-49E2-BAF1-68644D87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D566-2193-4E9B-BE83-538F5ECA2C1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8B2-9ABE-40CF-8662-6DB72910F639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DF26-31FE-4515-895D-75332598A177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431-E416-4EA5-8C3D-477B26A90356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5430-9BB5-4454-85B5-7139CD74E4BE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656-1E4A-4DBA-8971-2B13622997D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CFF6-9C9B-4A9F-92BB-F719F6AFD720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F9A0-2C44-43CB-B1CF-A234255668B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64E-5B5F-4409-8268-FFC36F5AFDC4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EDC-5041-4AF3-9ADB-C2BAE7AF0AC7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0E7D-AF7D-4589-9712-D2B6824E521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9D93-6B80-4277-A78D-904FB77E0552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Трудные вопросы ЕГЭ</a:t>
            </a:r>
            <a:br>
              <a:rPr sz="4200"/>
            </a:b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по русскому языку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имен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пределите , что является сказуемы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то уже не за гора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лос у тебя хоть ку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 оказалось не по сил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 у него ого-г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 вещь хорош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асилиса Егоровна – прехрабрая дам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братите внимание!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оставном именном сказуемом слова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еловек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ужчина, женщина , люди , вещь, дело, народ , животно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тупают в роли именной части с определениями при них, на которых лежит основная нагруз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тарушки все – народ сердиты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ложный  случай синтаксис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Проговорите характеристику подчеркнутого предложен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вам приходили какие-то люди 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Завтра снова приду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ет ни тетради ,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и тетради , 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бежала туча черная, кочевничья на солнышко красное , полетели стрелы вражьи, и несть им числ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 холме д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32523"/>
                </a:solidFill>
                <a:latin typeface="Georgia"/>
              </a:rPr>
              <a:t>Определите морфологическую принадлежность выделенного слов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ты мне не звони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одинокий фонарь освещал улиц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оезд подошел к станции, сразу заиграла музы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т цветок я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ашел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 этот цвет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ам хорошо учиш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 Он стрелял быстро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точ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. Войска все шли и шли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ла ноч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Приходит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0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слаб , мой меч силе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1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Катя ко мне зайд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2. Скажи родителям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ридут в школ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3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едешь, сразу позво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4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вый луч  весенний ярок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. Постарайся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6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.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поможе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.Нужно взять такси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до вокзала далек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ольк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 перебивай мен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0.Я все расскажу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тольк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не перебивай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1.Хочу проверить , не обманываешь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ты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2.Я работаю,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ж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аеш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3. Ты же знаешь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пра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4.Объясните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не пра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5. Пришли все, кром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е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6.Дом все тот же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что краска слезл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7.Я готов бежать всю дорогу 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лиш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ы успеть на поезд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8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 не было дожд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ипы придаточных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В части В было задание найти</a:t>
            </a:r>
            <a:r>
              <a:rPr b="1" lang="ru-RU" sz="2500" spc="-1" strike="noStrike">
                <a:solidFill>
                  <a:srgbClr val="984807"/>
                </a:solidFill>
                <a:latin typeface="Georgia"/>
              </a:rPr>
              <a:t> </a:t>
            </a:r>
            <a:r>
              <a:rPr b="1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определительное придаточное с оттенком меры и степени</a:t>
            </a:r>
            <a:r>
              <a:rPr b="0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. </a:t>
            </a: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Какое из данных предложений будет являться таковым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В произведениях Рублева отражены муки и испытания , что принял народ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У меня такая новость, что вы все ахнет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Не счесть художников , создавших полотна , где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ействуют десятки фигур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Этот факт его биографии так поразил меня, что я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умал о нем весь день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юз </a:t>
            </a:r>
            <a:r>
              <a:rPr b="1" lang="ru-RU" sz="3300" spc="-1" strike="noStrike">
                <a:solidFill>
                  <a:srgbClr val="4f6228"/>
                </a:solidFill>
                <a:latin typeface="Georgia"/>
              </a:rPr>
              <a:t>потому чт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шется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 чт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, чт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Расчленяется , есл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1. если  перед ним стоит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н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не потому, что не захотел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2. если рядом находится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вводное слово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,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союз, части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лишь потому, что оказался в пробк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32523"/>
                </a:solidFill>
                <a:latin typeface="Georgia"/>
              </a:rPr>
              <a:t>Функции инфинитива в предложени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.Убеди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его в чем-нибудь было делом нелегким.(подлежаще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А царица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 хохотать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прост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Меня попросили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 за </a:t>
            </a:r>
            <a:r>
              <a:rPr b="0" lang="ru-RU" sz="2400" spc="-1" strike="noStrike">
                <a:solidFill>
                  <a:srgbClr val="262626"/>
                </a:solidFill>
                <a:latin typeface="Georgia"/>
              </a:rPr>
              <a:t>хлебом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.(дополн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4.Я реши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 за хлебом.(составн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5.Перед нами поставлена задача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учиться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предел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6.Я прише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постричься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бстоятельство цели, если относится к глаголу движ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 мы бежать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е догнать тебе бешеной тройк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на подала Ивану напитьс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Думать запретить нельз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Марья Трофимовна ходила в луга убирать сен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тдыхать хорош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него появилось желание поехать на Дальний Восто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ня попросили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пришел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хочу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дать книги в библиотеку- важное дел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воя задача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не поручили важное дело 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пособы выражения сказуемог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4800" spc="-1" strike="noStrike">
                <a:solidFill>
                  <a:srgbClr val="953735"/>
                </a:solidFill>
                <a:latin typeface="Georgia"/>
              </a:rPr>
              <a:t>Типы сказуемых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53735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1. прост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2. составн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3. составное имен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Любой глагол в личной форм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буду говори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сложное будущее время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Инфинитив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царица хохота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Фразеологизмом,равным глаголу в личной форм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 вышел из себя от подобной нагл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СМ.: 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принять участие, производить впечатление, повесить нос, прийти к убе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. Усеченными глагольными  и междометными форм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прыг в се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мы ни гуг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5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Простое глагольное сказуемое может быть осложнено частицами и повторами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ы ждем не дождем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знай себе по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возьми да и убеги</a:t>
            </a:r>
            <a:r>
              <a:rPr b="1" lang="ru-RU" sz="2700" spc="-1" strike="noStrike">
                <a:solidFill>
                  <a:srgbClr val="e46c0a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фразеологизмы, равные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л привычку лгать и изворачиват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намерение жениться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на н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обыкновение пить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ай по ут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В роли инфинитива может выступать фразеологизм, равный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хочу кривить душой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Вы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должны выходить из себ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собо трудный случ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существительные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мастер, любител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охотник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охотница поговори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мастер плести корзины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23:23Z</dcterms:created>
  <dc:creator>Герман</dc:creator>
  <dc:description/>
  <dc:language>en-US</dc:language>
  <cp:lastModifiedBy>COMP</cp:lastModifiedBy>
  <dcterms:modified xsi:type="dcterms:W3CDTF">2011-10-14T18:05:33Z</dcterms:modified>
  <cp:revision>35</cp:revision>
  <dc:subject/>
  <dc:title>Трудные вопросы ЕГЭ     </dc:title>
</cp:coreProperties>
</file>