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2E42-3266-4FC3-A4BF-20C4E81CB47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C16F-6F45-46A8-8811-8D481E1A368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43C2-0FE6-461D-9C3E-1EDB4D6F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D07A-68E2-4FF3-8E24-43ACCD47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2C6C-62CF-4B92-9C83-153E7CBE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0376-A137-4585-B943-9C33AE45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48D3-81D9-49A7-ACCF-AFC26F9B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DB7B-9349-49EF-9675-2D8C690C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56F4-DE1B-4887-9B04-513A73AC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063B-4390-4CF4-AAAD-494788CC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F5BF-25EC-40D1-B93D-A9CD80A1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A34E-6BC2-4EE8-A856-6861FB2B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91D1-06DC-461E-8D08-3FD9F38B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220E-F0F6-407C-874C-215257E2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0890-315F-4685-9397-677294DE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4052-6996-4DA6-AC11-876DA6B3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297A-01A0-46F3-8C3A-ED3283F5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0D43-0E3A-4F3B-A5DF-78CEE379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E3C4-B4C5-40D9-AD97-DD7C7AD5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C320C-20BE-4909-8EB0-35CF32AF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88446-3B8E-4A38-A9F7-0054AE2D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17720-8F78-43AF-A6E0-F7F225E7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C391B-3108-40F4-B3FD-9673AF39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9BE36-34AA-4F3E-B7ED-8A88BBB3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8CAE-6CC3-4B90-9984-56CBCACE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D8F3E-9E79-48F1-A656-E7A0B9AC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8E872-9F70-412F-BE78-8DEEC29F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78F74-69A3-416B-A86A-F8B67DCD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1A2C5-6189-4090-88FA-52E56502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31B8F-BEC1-4BE9-BA9A-7A723350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FD844-FFA3-4663-A6C9-EC55D2D0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529C9-7627-4D64-A960-E3E02FFC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DABC-E940-44E7-8B31-B2021F25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26F3-02FD-49A8-B162-615920AE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E72C-8C60-4BD5-8F66-6BF5A163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DF2-CD8F-4AA7-8C2C-354E3237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4305-536D-47D6-AB26-C995A172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752E-3687-4F4F-B4A4-DBD8D01C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9D53-F110-407A-B1C7-E407036BCE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1FCD-DED7-4D22-BAAA-42A5FAD044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89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5065-3995-4AED-9FC6-D9B9ACB76A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4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64216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New Century Schoolbook"/>
              </a:rPr>
              <a:t>СТРЕСС В ПРОФЕССИОНАЛЬНОЙ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New Century Schoolbook"/>
              </a:rPr>
              <a:t>ДЕЯТЕЛЬНОСТИ: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New Century Schoolbook"/>
              </a:rPr>
              <a:t>причины и методы преодоле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d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New Century Schoolbook"/>
              </a:rPr>
              <a:t>ФАКТОРЫ, ВЛИЯЮЩИЕ НА РАЗВИТИЕ СТР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480" y="1428480"/>
            <a:ext cx="87152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Генетическая предрасположен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Тип высшей нерв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Ранний детский опы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Родительские сценар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Личностные особенности (характер, уровень самооценки, направленность, установки и ценност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Факторы социальной сре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Когнитивные факт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e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Когнитивные механизмы эмоциональной реа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417080" cy="42483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7"/>
          <p:cNvSpPr/>
          <p:nvPr/>
        </p:nvSpPr>
        <p:spPr>
          <a:xfrm>
            <a:off x="1403280" y="6021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ресс вызван неприятным инцидентом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Когнитивные механизмы эмоциональной реа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632720" cy="410364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"/>
          <p:cNvSpPr/>
          <p:nvPr/>
        </p:nvSpPr>
        <p:spPr>
          <a:xfrm>
            <a:off x="826920" y="602136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ресс вызван мыслями о неприятном событи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Факторы, усугубляющие воздействие стр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ежелание человека изменить собственные предст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Категоричность в восприятии альтернати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личие иррациональных установ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Инерция мыш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тремление избежать болезненных эмоциональных пережи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4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Century Schoolbook"/>
              </a:rPr>
              <a:t>Когнитивные </a:t>
            </a:r>
            <a:r>
              <a:rPr b="1" i="1" lang="ru-RU" sz="4400" spc="-1" strike="noStrike">
                <a:solidFill>
                  <a:srgbClr val="000099"/>
                </a:solidFill>
                <a:latin typeface="Century Schoolbook"/>
              </a:rPr>
              <a:t>механизмы</a:t>
            </a:r>
            <a:br>
              <a:rPr sz="4400"/>
            </a:br>
            <a:r>
              <a:rPr b="1" i="1" lang="ru-RU" sz="4400" spc="-1" strike="noStrike">
                <a:solidFill>
                  <a:srgbClr val="000099"/>
                </a:solidFill>
                <a:latin typeface="Century Schoolbook"/>
              </a:rPr>
              <a:t>эмоциональной реак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1908000" y="206064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Century Schoolbook"/>
              </a:rPr>
              <a:t>А В С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539640" y="2997360"/>
            <a:ext cx="8064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Garamond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Garamond"/>
              </a:rPr>
              <a:t> (</a:t>
            </a: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activating</a:t>
            </a:r>
            <a:r>
              <a:rPr b="1" lang="ru-RU" sz="2400" spc="-1" strike="noStrike">
                <a:solidFill>
                  <a:srgbClr val="000099"/>
                </a:solidFill>
                <a:latin typeface="Garamond"/>
              </a:rPr>
              <a:t>) -  активизирующее событие: ситуация, стимул, обусловливающий процесс реагирования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684360" y="4149720"/>
            <a:ext cx="82803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aramond"/>
              </a:rPr>
              <a:t>B</a:t>
            </a: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Garamond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beliefs</a:t>
            </a:r>
            <a:r>
              <a:rPr b="1" lang="ru-RU" sz="2400" spc="-1" strike="noStrike">
                <a:solidFill>
                  <a:srgbClr val="000099"/>
                </a:solidFill>
                <a:latin typeface="Garamond"/>
              </a:rPr>
              <a:t>)</a:t>
            </a: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 –</a:t>
            </a:r>
            <a:r>
              <a:rPr b="1" lang="ru-RU" sz="2400" spc="-1" strike="noStrike">
                <a:solidFill>
                  <a:srgbClr val="000099"/>
                </a:solidFill>
                <a:latin typeface="Garamond"/>
              </a:rPr>
              <a:t>убеждения, ожидания, установки, верования, представления о ситуации, интерпретации и выводы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TextBox 6"/>
          <p:cNvSpPr/>
          <p:nvPr/>
        </p:nvSpPr>
        <p:spPr>
          <a:xfrm flipH="1">
            <a:off x="611280" y="5300640"/>
            <a:ext cx="81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aramond"/>
              </a:rPr>
              <a:t>C</a:t>
            </a: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Garamond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consequences</a:t>
            </a:r>
            <a:r>
              <a:rPr b="1" lang="ru-RU" sz="2400" spc="-1" strike="noStrike">
                <a:solidFill>
                  <a:srgbClr val="000099"/>
                </a:solidFill>
                <a:latin typeface="Garamond"/>
              </a:rPr>
              <a:t>) – последствия: эмоции, чувства, поведение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New Century Schoolbook"/>
              </a:rPr>
              <a:t>Профессиональное выгорание</a:t>
            </a:r>
            <a:r>
              <a:rPr b="0" lang="ru-RU" sz="4400" spc="-1" strike="noStrike">
                <a:solidFill>
                  <a:srgbClr val="ffff66"/>
                </a:solidFill>
                <a:latin typeface="New Century Schoolboo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2888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о синдром, развивающийся на фоне хронического стресса и ведущий к снижению эмоционально-энергетических и личностных ресурсов работающего человека. Профессиональное выгорание  возникает в результате внутреннего накапливания отрицательных эмоций без соответствующей «разрядки» или «освобождения» от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d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9423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New Century Schoolbook"/>
              </a:rPr>
              <a:t>Работники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New Century Schoolbook"/>
              </a:rPr>
              <a:t>составляющие группу рис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Работа связана с интенсивным общени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озникновение внутренних конфликтов, связанных с рабо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Работа протекает в условиях нестаби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еобходимость постоянно демонстрировать высокую эффектив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ители крупных го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New Century Schoolbook"/>
              </a:rPr>
              <a:t>СИМПТОМЫ ВЫГОР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852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New Century Schoolbook"/>
              </a:rPr>
              <a:t>Психофизически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New Century Schoolbook"/>
              </a:rPr>
              <a:t>Социально-психологически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New Century Schoolbook"/>
              </a:rPr>
              <a:t>Поведенческие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8564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New Century Schoolbook"/>
              </a:rPr>
              <a:t>ПРИЧИНЫ «ВЫГОРА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3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New Century Schoolbook"/>
              </a:rPr>
              <a:t>Постоянные противоречия в стратегическом и тактическом руководств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New Century Schoolbook"/>
              </a:rPr>
              <a:t>Чрезмерные, невыполнимые требования к работник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New Century Schoolbook"/>
              </a:rPr>
              <a:t>Передача ответственности сотрудникам, не имеющим полномоч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New Century Schoolbook"/>
              </a:rPr>
              <a:t>Отсутствие объективных критериев для оценки результатов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New Century Schoolbook"/>
              </a:rPr>
              <a:t>Неэффективная система мотивирования и стимулирования персон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611280" y="549360"/>
            <a:ext cx="8208720" cy="107928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Методы нейтрализации стресса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179280" y="2349360"/>
            <a:ext cx="2089080" cy="91440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сихологически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2411280" y="2349360"/>
            <a:ext cx="2232000" cy="91440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изически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4788000" y="2349360"/>
            <a:ext cx="2089080" cy="91440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изиологически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7020000" y="2349360"/>
            <a:ext cx="1944720" cy="91440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Биохимически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395280" y="3573360"/>
            <a:ext cx="1706400" cy="213840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Аутотренинг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Медитация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Рациональная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терапия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2700360" y="3573360"/>
            <a:ext cx="1706400" cy="213840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Массаж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изически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упражнения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5003640" y="3573360"/>
            <a:ext cx="1706760" cy="213840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Баня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Закаливание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одны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роцедуры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6877080" y="3573360"/>
            <a:ext cx="2087640" cy="213840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армакотерапия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Алкоголь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итотерапия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14"/>
          <p:cNvSpPr/>
          <p:nvPr/>
        </p:nvSpPr>
        <p:spPr>
          <a:xfrm flipH="1">
            <a:off x="1258920" y="1628640"/>
            <a:ext cx="3457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15"/>
          <p:cNvSpPr/>
          <p:nvPr/>
        </p:nvSpPr>
        <p:spPr>
          <a:xfrm flipH="1">
            <a:off x="3492000" y="162864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4643280" y="162864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17"/>
          <p:cNvSpPr/>
          <p:nvPr/>
        </p:nvSpPr>
        <p:spPr>
          <a:xfrm>
            <a:off x="4643280" y="1628640"/>
            <a:ext cx="3313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18"/>
          <p:cNvSpPr/>
          <p:nvPr/>
        </p:nvSpPr>
        <p:spPr>
          <a:xfrm>
            <a:off x="125892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19"/>
          <p:cNvSpPr/>
          <p:nvPr/>
        </p:nvSpPr>
        <p:spPr>
          <a:xfrm>
            <a:off x="349236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20"/>
          <p:cNvSpPr/>
          <p:nvPr/>
        </p:nvSpPr>
        <p:spPr>
          <a:xfrm>
            <a:off x="586728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21"/>
          <p:cNvSpPr/>
          <p:nvPr/>
        </p:nvSpPr>
        <p:spPr>
          <a:xfrm>
            <a:off x="795672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7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entury Schoolbook"/>
              </a:rPr>
              <a:t>СТРЕСС </a:t>
            </a:r>
            <a:r>
              <a:rPr b="1" lang="ru-RU" sz="2800" spc="-1" strike="noStrike">
                <a:solidFill>
                  <a:srgbClr val="333399"/>
                </a:solidFill>
                <a:latin typeface="Century Schoolbook"/>
              </a:rPr>
              <a:t>– </a:t>
            </a:r>
            <a:r>
              <a:rPr b="1" lang="ru-RU" sz="4000" spc="-1" strike="noStrike">
                <a:solidFill>
                  <a:srgbClr val="333399"/>
                </a:solidFill>
                <a:latin typeface="Century Schoolbook"/>
              </a:rPr>
              <a:t>неспецифическая реакция организма в ответ на разнообразные  повреждающие воздействия (адаптационный синдро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d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Безымянный"/>
          <p:cNvPicPr/>
          <p:nvPr/>
        </p:nvPicPr>
        <p:blipFill>
          <a:blip r:embed="rId1"/>
          <a:stretch/>
        </p:blipFill>
        <p:spPr>
          <a:xfrm>
            <a:off x="900000" y="0"/>
            <a:ext cx="74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b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2"/>
          <p:cNvSpPr/>
          <p:nvPr/>
        </p:nvSpPr>
        <p:spPr>
          <a:xfrm>
            <a:off x="179280" y="1989000"/>
            <a:ext cx="1368360" cy="86364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Стрелка вправо 3"/>
          <p:cNvSpPr/>
          <p:nvPr/>
        </p:nvSpPr>
        <p:spPr>
          <a:xfrm>
            <a:off x="1547640" y="2133720"/>
            <a:ext cx="1729080" cy="647640"/>
          </a:xfrm>
          <a:prstGeom prst="rightArrow">
            <a:avLst>
              <a:gd name="adj1" fmla="val 50000"/>
              <a:gd name="adj2" fmla="val 57216"/>
            </a:avLst>
          </a:prstGeom>
          <a:solidFill>
            <a:srgbClr val="cd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Восприят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Скругленный прямоугольник 4"/>
          <p:cNvSpPr/>
          <p:nvPr/>
        </p:nvSpPr>
        <p:spPr>
          <a:xfrm>
            <a:off x="3203640" y="1989000"/>
            <a:ext cx="1224000" cy="935280"/>
          </a:xfrm>
          <a:prstGeom prst="roundRect">
            <a:avLst>
              <a:gd name="adj" fmla="val 16667"/>
            </a:avLst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Образ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Стрелка вправо 5"/>
          <p:cNvSpPr/>
          <p:nvPr/>
        </p:nvSpPr>
        <p:spPr>
          <a:xfrm>
            <a:off x="4500720" y="1844640"/>
            <a:ext cx="1942920" cy="1368360"/>
          </a:xfrm>
          <a:prstGeom prst="rightArrow">
            <a:avLst>
              <a:gd name="adj1" fmla="val 50000"/>
              <a:gd name="adj2" fmla="val 49959"/>
            </a:avLst>
          </a:prstGeom>
          <a:solidFill>
            <a:srgbClr val="cd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Эмоциональ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ная оценк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Пятиугольник 6"/>
          <p:cNvSpPr/>
          <p:nvPr/>
        </p:nvSpPr>
        <p:spPr>
          <a:xfrm>
            <a:off x="6443640" y="2205000"/>
            <a:ext cx="1514520" cy="57636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86" y="0"/>
                </a:lnTo>
                <a:lnTo>
                  <a:pt x="21600" y="10800"/>
                </a:lnTo>
                <a:lnTo>
                  <a:pt x="1748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d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овед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Блок-схема: узел 7"/>
          <p:cNvSpPr/>
          <p:nvPr/>
        </p:nvSpPr>
        <p:spPr>
          <a:xfrm>
            <a:off x="7956720" y="1989000"/>
            <a:ext cx="960120" cy="889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Минус 14"/>
          <p:cNvSpPr/>
          <p:nvPr/>
        </p:nvSpPr>
        <p:spPr>
          <a:xfrm>
            <a:off x="8172360" y="2637000"/>
            <a:ext cx="576360" cy="144360"/>
          </a:xfrm>
          <a:prstGeom prst="pie">
            <a:avLst/>
          </a:prstGeom>
          <a:solidFill>
            <a:srgbClr val="cd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Блок-схема: узел 15"/>
          <p:cNvSpPr/>
          <p:nvPr/>
        </p:nvSpPr>
        <p:spPr>
          <a:xfrm>
            <a:off x="8101080" y="2276640"/>
            <a:ext cx="216000" cy="72720"/>
          </a:xfrm>
          <a:prstGeom prst="flowChartConnector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Блок-схема: узел 17"/>
          <p:cNvSpPr/>
          <p:nvPr/>
        </p:nvSpPr>
        <p:spPr>
          <a:xfrm>
            <a:off x="8532720" y="2276640"/>
            <a:ext cx="216000" cy="72720"/>
          </a:xfrm>
          <a:prstGeom prst="flowChartConnector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9" name="Стрелка вверх 19" descr=""/>
          <p:cNvPicPr/>
          <p:nvPr/>
        </p:nvPicPr>
        <p:blipFill>
          <a:blip r:embed="rId1"/>
          <a:stretch/>
        </p:blipFill>
        <p:spPr>
          <a:xfrm>
            <a:off x="1407960" y="2992320"/>
            <a:ext cx="1401840" cy="3195720"/>
          </a:xfrm>
          <a:prstGeom prst="rect">
            <a:avLst/>
          </a:prstGeom>
          <a:ln w="0">
            <a:noFill/>
          </a:ln>
        </p:spPr>
      </p:pic>
      <p:pic>
        <p:nvPicPr>
          <p:cNvPr id="210" name="Стрелка вверх 20" descr=""/>
          <p:cNvPicPr/>
          <p:nvPr/>
        </p:nvPicPr>
        <p:blipFill>
          <a:blip r:embed="rId2"/>
          <a:stretch/>
        </p:blipFill>
        <p:spPr>
          <a:xfrm>
            <a:off x="3114720" y="2914560"/>
            <a:ext cx="1328760" cy="3187800"/>
          </a:xfrm>
          <a:prstGeom prst="rect">
            <a:avLst/>
          </a:prstGeom>
          <a:ln w="0">
            <a:noFill/>
          </a:ln>
        </p:spPr>
      </p:pic>
      <p:pic>
        <p:nvPicPr>
          <p:cNvPr id="211" name="Стрелка вверх 21" descr=""/>
          <p:cNvPicPr/>
          <p:nvPr/>
        </p:nvPicPr>
        <p:blipFill>
          <a:blip r:embed="rId3"/>
          <a:stretch/>
        </p:blipFill>
        <p:spPr>
          <a:xfrm>
            <a:off x="4552920" y="2914560"/>
            <a:ext cx="1335240" cy="3224160"/>
          </a:xfrm>
          <a:prstGeom prst="rect">
            <a:avLst/>
          </a:prstGeom>
          <a:ln w="0">
            <a:noFill/>
          </a:ln>
        </p:spPr>
      </p:pic>
      <p:pic>
        <p:nvPicPr>
          <p:cNvPr id="212" name="Стрелка вверх 22" descr=""/>
          <p:cNvPicPr/>
          <p:nvPr/>
        </p:nvPicPr>
        <p:blipFill>
          <a:blip r:embed="rId4"/>
          <a:stretch/>
        </p:blipFill>
        <p:spPr>
          <a:xfrm>
            <a:off x="6351480" y="2914560"/>
            <a:ext cx="1335240" cy="3187800"/>
          </a:xfrm>
          <a:prstGeom prst="rect">
            <a:avLst/>
          </a:prstGeom>
          <a:ln w="0">
            <a:noFill/>
          </a:ln>
        </p:spPr>
      </p:pic>
      <p:pic>
        <p:nvPicPr>
          <p:cNvPr id="213" name="Стрелка вверх 23" descr=""/>
          <p:cNvPicPr/>
          <p:nvPr/>
        </p:nvPicPr>
        <p:blipFill>
          <a:blip r:embed="rId5"/>
          <a:stretch/>
        </p:blipFill>
        <p:spPr>
          <a:xfrm>
            <a:off x="7864560" y="2840040"/>
            <a:ext cx="1298520" cy="32688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5"/>
          <p:cNvSpPr/>
          <p:nvPr/>
        </p:nvSpPr>
        <p:spPr>
          <a:xfrm>
            <a:off x="755640" y="620640"/>
            <a:ext cx="81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МЕТОДЫ УПРАВЛЕНИЯ ЭМОЦИЯМ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New Century Schoolbook"/>
              </a:rPr>
              <a:t>Алгоритм действий при наступлении стр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New 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Нейтрализация избытка негативных эмоци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New 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Формирование уверенности в себе (аутотренинг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New 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Определение структуры стрессора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с чем следует примириться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в чем можно найти позитивный момент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что в этой ситуации я должен изменить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4. Поиск ресурсов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какие уже есть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какие нужно добыть и как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составление плана на ближайшее врем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5. Приступить к выполнению пла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475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New Century Schoolbook"/>
              </a:rPr>
              <a:t>Алгоритм действий, если стрессовая ситуация произошла, но стресс еще сохраня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Диссоциирование от ситу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Поиск нужных ресур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Рациональная терапия (поиск позитивных моментов в ситуаци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Моделирование желаемого будущ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3" descr="resours"/>
          <p:cNvPicPr/>
          <p:nvPr/>
        </p:nvPicPr>
        <p:blipFill>
          <a:blip r:embed="rId1"/>
          <a:stretch/>
        </p:blipFill>
        <p:spPr>
          <a:xfrm>
            <a:off x="468360" y="1628640"/>
            <a:ext cx="8424720" cy="48960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1332000" y="333360"/>
            <a:ext cx="720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7136"/>
                </a:solidFill>
                <a:latin typeface="Century Schoolbook"/>
              </a:rPr>
              <a:t>РЕСУРСЫ.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7136"/>
                </a:solidFill>
                <a:latin typeface="Century Schoolbook"/>
              </a:rPr>
              <a:t>Что это такое и где их взять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e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"/>
          <p:cNvSpPr/>
          <p:nvPr/>
        </p:nvSpPr>
        <p:spPr>
          <a:xfrm>
            <a:off x="0" y="792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Garamond"/>
              </a:rPr>
              <a:t>АКТУАЛЬНОЕ СОСТОЯНИЕ + РЕСУРС =ЖЕЛАЕМОЕ СОСТОЯНИЕ</a:t>
            </a:r>
            <a:r>
              <a:rPr b="1" lang="ru-RU" sz="2000" spc="-1" strike="noStrike">
                <a:solidFill>
                  <a:srgbClr val="00cc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-2409840" y="1700280"/>
            <a:ext cx="106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ЧТО МОЖЕТ БЫТЬ РЕСУРСОМ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Rectangle 1"/>
          <p:cNvSpPr/>
          <p:nvPr/>
        </p:nvSpPr>
        <p:spPr>
          <a:xfrm>
            <a:off x="179280" y="2710080"/>
            <a:ext cx="87854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ояния (спокойствие, уверенность в себе);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ачества (настойчивость, усидчивость);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беждения ("Я имею право на ошибку");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ности (умение выбирать друзей,   способность  убеждать собеседника);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ния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Формы стресс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453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Дистресс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«плохой» стре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Эустресс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«хороший» стрес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643280" y="1628640"/>
            <a:ext cx="403884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4643280" y="1628640"/>
            <a:ext cx="403884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4643280" y="1628640"/>
            <a:ext cx="403884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4643280" y="1628640"/>
            <a:ext cx="403884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7" name="Picture 15" descr="XCADYP23BCAFDPAASCABZ4Y1BCA8XAAB0CANNFQHTCA4PKC74CAN0M61MCAD4323SCAV63KHNCALB14Z7CADO120JCA55X7QJCAW3GAAACAYIKED1CAWE8VWLCA2E838NCARTGMPUC"/>
          <p:cNvPicPr/>
          <p:nvPr/>
        </p:nvPicPr>
        <p:blipFill>
          <a:blip r:embed="rId1"/>
          <a:stretch/>
        </p:blipFill>
        <p:spPr>
          <a:xfrm>
            <a:off x="5651640" y="1484280"/>
            <a:ext cx="324144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2"/>
          <a:stretch/>
        </p:blipFill>
        <p:spPr>
          <a:xfrm>
            <a:off x="5580000" y="4437000"/>
            <a:ext cx="3384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stress_01"/>
          <p:cNvPicPr/>
          <p:nvPr/>
        </p:nvPicPr>
        <p:blipFill>
          <a:blip r:embed="rId1"/>
          <a:stretch/>
        </p:blipFill>
        <p:spPr>
          <a:xfrm>
            <a:off x="395280" y="404640"/>
            <a:ext cx="84978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New Century Schoolbook"/>
              </a:rPr>
              <a:t>СТАДИИ 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New Century Schoolbook"/>
              </a:rPr>
              <a:t>Стадия тревоги</a:t>
            </a:r>
            <a:r>
              <a:rPr b="0" lang="ru-RU" sz="2800" spc="-1" strike="noStrike">
                <a:solidFill>
                  <a:srgbClr val="000000"/>
                </a:solidFill>
                <a:latin typeface="New Century Schoolbook"/>
              </a:rPr>
              <a:t> (опасности) мобилизует организм встретить влияние стрессора: учащается дыхание, увеличивается кровяное давление, напрягаются мышц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New Century Schoolbook"/>
              </a:rPr>
              <a:t>Стадия сопротивления</a:t>
            </a:r>
            <a:r>
              <a:rPr b="0" lang="ru-RU" sz="2800" spc="-1" strike="noStrike">
                <a:solidFill>
                  <a:srgbClr val="000000"/>
                </a:solidFill>
                <a:latin typeface="New Century Schoolbook"/>
              </a:rPr>
              <a:t> – организм сопротивляется воздействию вредных внешних факторов и адаптирует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New Century Schoolbook"/>
              </a:rPr>
              <a:t>Стадия истощения</a:t>
            </a:r>
            <a:r>
              <a:rPr b="0" lang="ru-RU" sz="2800" spc="-1" strike="noStrike">
                <a:solidFill>
                  <a:srgbClr val="000000"/>
                </a:solidFill>
                <a:latin typeface="New Century Schoolbook"/>
              </a:rPr>
              <a:t> характеризуется резким снижением энергии сопроти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6612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ДИНАМИКА РАЗВИТИЯ СТР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dinamika"/>
          <p:cNvPicPr/>
          <p:nvPr/>
        </p:nvPicPr>
        <p:blipFill>
          <a:blip r:embed="rId1"/>
          <a:stretch/>
        </p:blipFill>
        <p:spPr>
          <a:xfrm>
            <a:off x="179280" y="981000"/>
            <a:ext cx="87854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_____6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df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2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СИМПТОМЫ СТРЕС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лная отдача себя работе, проведение все меньшего количества времени с друзьями и семь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еэффективность на рабо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ыполнение рабочих заданий вне работы за счет личного отдых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ильная утомляем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здражи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гулярные физические болезни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f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New Century Schoolbook"/>
              </a:rPr>
              <a:t>ИСТОЧНИКИ СТРЕС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New Century Schoolbook"/>
              </a:rPr>
              <a:t>Режим трудовой деятельности (условия труда, интенсивный режим, нехватка времен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New Century Schoolbook"/>
              </a:rPr>
              <a:t>Роль работника в организации (ролевые конфликты, повышенная ответственность, недостаток полномоч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New Century Schoolbook"/>
              </a:rPr>
              <a:t>Коммуникативные факторы (взаимоотношения с руководством, подчиненными, коллег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New Century Schoolbook"/>
              </a:rPr>
              <a:t>Трудности построения карьеры (неадекватный уровень притязаний, профессиональная неуспешность, медленный или быстрый карьерный рост, страх перед увольнение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New Century Schoolbook"/>
              </a:rPr>
              <a:t>Факторы, связанные с организационной культурой и микроклиматом ( несоответствие установок и ожиданий работника корпоративной культуре организации, интриги, ограничение свободы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New Century Schoolbook"/>
              </a:rPr>
              <a:t>Неорганизационные источники стрессов (проблемы в семейной жизни, неумение разделить профессиональную и семейную ролевую стратегию повед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6:01:26Z</dcterms:created>
  <dc:creator>Татьяна</dc:creator>
  <dc:description/>
  <dc:language>en-US</dc:language>
  <cp:lastModifiedBy>user</cp:lastModifiedBy>
  <dcterms:modified xsi:type="dcterms:W3CDTF">2012-03-21T05:53:03Z</dcterms:modified>
  <cp:revision>105</cp:revision>
  <dc:subject/>
  <dc:title>Психология профессиональной деятель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80000000000010250600207f5200358026400</vt:lpwstr>
  </property>
</Properties>
</file>