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0094-4E7F-4EDC-B101-0B3AD2AA95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8755-F1C4-4EC6-93A6-3B1C9107FB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165-835D-4F38-A687-DDCC692A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898-2998-4C55-86A8-9B6EE16F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5D1-97A1-4380-A8BC-BD5BE14D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F16-19E8-4A7F-A787-12D6D5C6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6230-75A9-4413-B2DC-5F530DEB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6B6E-2FC7-4BC2-A54D-967E5918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536B-0162-469B-8461-506792F1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B8AB-9891-41D2-AF4C-5D066FE1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D0DE-C905-471A-A129-0CEE9C6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716-61A8-4EE0-BE6A-FF5EAA33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D76D-5967-4346-9663-4018C95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C3C-D6EE-44D2-A706-01BA23A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E934-4460-46C2-8754-10F6F228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9A1C-C6CD-437E-BCE5-B58A04F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4EEC-DC24-4406-8801-09C7A50F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43E5-BF19-446D-8330-7B856FBC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B391-A90D-4F81-9C07-15C6FB6C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6560-5481-43BC-86DC-2597EA0B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131C-0D07-4C14-9147-562FD4B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C9C3-F294-4DC3-A01E-EC41760B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A7DB7-81C5-4FDD-9D17-992489E2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23A8-8917-4EE6-9801-D6092BE2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BBD-9678-41F9-A314-11E0062B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1DBE-317D-4AC5-875E-6EC11F5A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BFD98-979E-4E98-9DA7-73A15A2E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5CFE-CF8C-4B6F-9EB7-BE7EB469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B123-F8F5-4250-803F-8909B5F4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10D2-5738-4524-8762-C3F46AE9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063D-F641-40FB-A923-30B9D13A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8245-67CB-44E5-B5C0-E7B66C31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06C-E83C-4BEC-9987-94B04907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FCF-709C-466A-9D86-8F77AF9D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3C7-3D74-41AB-9D20-E6054CEB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DFB-15E4-4571-819D-C145F218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F6F-2C67-4AF5-8BFB-EEA03FD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3CC-0222-4911-8DFB-D8A69BE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7EF2-A710-4F63-840C-A1D8156B5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0FB0-96F8-4E4E-B6B1-00C5D92D0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8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C0AF-9909-48BB-BC8E-6EA6A99EAF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64216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СТРЕСС В ПРОФЕССИОНАЛЬНО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ДЕЯТЕЛЬНОСТИ: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New Century Schoolbook"/>
              </a:rPr>
              <a:t>причины и методы преодол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d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New Century Schoolbook"/>
              </a:rPr>
              <a:t>ФАКТОРЫ, ВЛИЯЮЩИЕ НА РАЗВИТИЕ СТР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480" y="1428480"/>
            <a:ext cx="8715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Генетическая предрасполож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Тип высшей нерв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Ранний детский опы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Родительские сцена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Личностные особенности (характер, уровень самооценки, направленность, установки и ценност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Факторы социальной ср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Когнитивные фа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Когнитивные механизмы эмоциональной реа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248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7"/>
          <p:cNvSpPr/>
          <p:nvPr/>
        </p:nvSpPr>
        <p:spPr>
          <a:xfrm>
            <a:off x="1403280" y="602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есс вызван неприятным инциденто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Когнитивные механизмы эмоциональной реа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632720" cy="41036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826920" y="602136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ресс вызван мыслями о неприятном событи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Факторы, усугубляющие воздействие стр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желание человека изменить собственные предст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атегоричность в восприятии альтернат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личие иррациональных установ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нерция мыш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тремление избежать болезненных эмоциональных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Century Schoolbook"/>
              </a:rPr>
              <a:t>Когнитивные </a:t>
            </a:r>
            <a:r>
              <a:rPr b="1" i="1" lang="ru-RU" sz="4400" spc="-1" strike="noStrike">
                <a:solidFill>
                  <a:srgbClr val="000099"/>
                </a:solidFill>
                <a:latin typeface="Century Schoolbook"/>
              </a:rPr>
              <a:t>механизмы</a:t>
            </a:r>
            <a:br>
              <a:rPr sz="4400"/>
            </a:br>
            <a:r>
              <a:rPr b="1" i="1" lang="ru-RU" sz="4400" spc="-1" strike="noStrike">
                <a:solidFill>
                  <a:srgbClr val="000099"/>
                </a:solidFill>
                <a:latin typeface="Century Schoolbook"/>
              </a:rPr>
              <a:t>эмоциональной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908000" y="20606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entury Schoolbook"/>
              </a:rPr>
              <a:t>А В С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39640" y="2997360"/>
            <a:ext cx="8064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Garamond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 (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activating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) -  активизирующее событие: ситуация, стимул, обусловливающий процесс реагирования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684360" y="4149720"/>
            <a:ext cx="8280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B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beliefs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–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убеждения, ожидания, установки, верования, представления о ситуации, интерпретации и выводы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Box 6"/>
          <p:cNvSpPr/>
          <p:nvPr/>
        </p:nvSpPr>
        <p:spPr>
          <a:xfrm flipH="1">
            <a:off x="611280" y="5300640"/>
            <a:ext cx="81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consequences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) – последствия: эмоции, чувства, поведени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ff66"/>
                </a:solidFill>
                <a:latin typeface="New 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синдром, развивающийся на фоне хронического стресса и ведущий к снижению эмоционально-энергетических и личностных ресурсов работающего человека. Профессиональное выгорание  возникает в результате внутреннего накапливания отрицательных эмоций без соответствующей «разрядки» или «освобождения» от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d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942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Работники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составляющие группу рис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бота связана с интенсивным общени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озникновение внутренних конфликтов, связанных с раб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бота протекает в условиях нестаби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обходимость постоянно демонстрировать высокую эффе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ители крупных г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СИМПТОМЫ ВЫГОР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852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New Century Schoolbook"/>
              </a:rPr>
              <a:t>Психофизическ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New Century Schoolbook"/>
              </a:rPr>
              <a:t>Социально-психологическ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New Century Schoolbook"/>
              </a:rPr>
              <a:t>Поведенческие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8564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ПРИЧИНЫ «ВЫГОР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Постоянные противоречия в стратегическом и тактическом руковод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Чрезмерные, невыполнимые требования к работник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Передача ответственности сотрудникам, не имеющим полномоч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Отсутствие объективных критериев для оценки результатов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Неэффективная система мотивирования и стимулирования персон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11280" y="549360"/>
            <a:ext cx="8208720" cy="107928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етоды нейтрализации стресс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79280" y="2349360"/>
            <a:ext cx="208908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сихолог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411280" y="2349360"/>
            <a:ext cx="223200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з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788000" y="2349360"/>
            <a:ext cx="208908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зиолог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7020000" y="2349360"/>
            <a:ext cx="194472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иохим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395280" y="3573360"/>
            <a:ext cx="170640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утотренинг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едитация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Рациональная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ерап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2700360" y="3573360"/>
            <a:ext cx="170640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ассаж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зически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упражнен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003640" y="3573360"/>
            <a:ext cx="170676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аня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Закаливание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о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цедур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6877080" y="3573360"/>
            <a:ext cx="208764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рмакотерапия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лкоголь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тотерапия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14"/>
          <p:cNvSpPr/>
          <p:nvPr/>
        </p:nvSpPr>
        <p:spPr>
          <a:xfrm flipH="1">
            <a:off x="1258920" y="1628640"/>
            <a:ext cx="3457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15"/>
          <p:cNvSpPr/>
          <p:nvPr/>
        </p:nvSpPr>
        <p:spPr>
          <a:xfrm flipH="1">
            <a:off x="3492000" y="162864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4643280" y="162864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4643280" y="1628640"/>
            <a:ext cx="3313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12589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3492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5867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79567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7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entury Schoolbook"/>
              </a:rPr>
              <a:t>СТРЕСС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– </a:t>
            </a:r>
            <a:r>
              <a:rPr b="1" lang="ru-RU" sz="4000" spc="-1" strike="noStrike">
                <a:solidFill>
                  <a:srgbClr val="333399"/>
                </a:solidFill>
                <a:latin typeface="Century Schoolbook"/>
              </a:rPr>
              <a:t>неспецифическая реакция организма в ответ на разнообразные  повреждающие воздействия (адаптационный синдр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d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Безымянный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b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2"/>
          <p:cNvSpPr/>
          <p:nvPr/>
        </p:nvSpPr>
        <p:spPr>
          <a:xfrm>
            <a:off x="179280" y="1989000"/>
            <a:ext cx="1368360" cy="86364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Стрелка вправо 3"/>
          <p:cNvSpPr/>
          <p:nvPr/>
        </p:nvSpPr>
        <p:spPr>
          <a:xfrm>
            <a:off x="1547640" y="2133720"/>
            <a:ext cx="1729080" cy="647640"/>
          </a:xfrm>
          <a:prstGeom prst="rightArrow">
            <a:avLst>
              <a:gd name="adj1" fmla="val 50000"/>
              <a:gd name="adj2" fmla="val 57216"/>
            </a:avLst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осприят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Скругленный прямоугольник 4"/>
          <p:cNvSpPr/>
          <p:nvPr/>
        </p:nvSpPr>
        <p:spPr>
          <a:xfrm>
            <a:off x="3203640" y="1989000"/>
            <a:ext cx="1224000" cy="935280"/>
          </a:xfrm>
          <a:prstGeom prst="roundRect">
            <a:avLst>
              <a:gd name="adj" fmla="val 16667"/>
            </a:avLst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браз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Стрелка вправо 5"/>
          <p:cNvSpPr/>
          <p:nvPr/>
        </p:nvSpPr>
        <p:spPr>
          <a:xfrm>
            <a:off x="4500720" y="1844640"/>
            <a:ext cx="1942920" cy="136836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Эмоционал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ая оценк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Пятиугольник 6"/>
          <p:cNvSpPr/>
          <p:nvPr/>
        </p:nvSpPr>
        <p:spPr>
          <a:xfrm>
            <a:off x="6443640" y="2205000"/>
            <a:ext cx="1514520" cy="57636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Блок-схема: узел 7"/>
          <p:cNvSpPr/>
          <p:nvPr/>
        </p:nvSpPr>
        <p:spPr>
          <a:xfrm>
            <a:off x="7956720" y="1989000"/>
            <a:ext cx="960120" cy="889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Минус 14"/>
          <p:cNvSpPr/>
          <p:nvPr/>
        </p:nvSpPr>
        <p:spPr>
          <a:xfrm>
            <a:off x="8172360" y="2637000"/>
            <a:ext cx="576360" cy="144360"/>
          </a:xfrm>
          <a:prstGeom prst="pie">
            <a:avLst/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Блок-схема: узел 15"/>
          <p:cNvSpPr/>
          <p:nvPr/>
        </p:nvSpPr>
        <p:spPr>
          <a:xfrm>
            <a:off x="8101080" y="2276640"/>
            <a:ext cx="216000" cy="72720"/>
          </a:xfrm>
          <a:prstGeom prst="flowChartConnector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Блок-схема: узел 17"/>
          <p:cNvSpPr/>
          <p:nvPr/>
        </p:nvSpPr>
        <p:spPr>
          <a:xfrm>
            <a:off x="8532720" y="2276640"/>
            <a:ext cx="216000" cy="72720"/>
          </a:xfrm>
          <a:prstGeom prst="flowChartConnector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9" name="Стрелка вверх 19" descr=""/>
          <p:cNvPicPr/>
          <p:nvPr/>
        </p:nvPicPr>
        <p:blipFill>
          <a:blip r:embed="rId1"/>
          <a:stretch/>
        </p:blipFill>
        <p:spPr>
          <a:xfrm>
            <a:off x="1407960" y="2992320"/>
            <a:ext cx="1401840" cy="3195720"/>
          </a:xfrm>
          <a:prstGeom prst="rect">
            <a:avLst/>
          </a:prstGeom>
          <a:ln w="0">
            <a:noFill/>
          </a:ln>
        </p:spPr>
      </p:pic>
      <p:pic>
        <p:nvPicPr>
          <p:cNvPr id="210" name="Стрелка вверх 20" descr=""/>
          <p:cNvPicPr/>
          <p:nvPr/>
        </p:nvPicPr>
        <p:blipFill>
          <a:blip r:embed="rId2"/>
          <a:stretch/>
        </p:blipFill>
        <p:spPr>
          <a:xfrm>
            <a:off x="3114720" y="2914560"/>
            <a:ext cx="1328760" cy="3187800"/>
          </a:xfrm>
          <a:prstGeom prst="rect">
            <a:avLst/>
          </a:prstGeom>
          <a:ln w="0">
            <a:noFill/>
          </a:ln>
        </p:spPr>
      </p:pic>
      <p:pic>
        <p:nvPicPr>
          <p:cNvPr id="211" name="Стрелка вверх 21" descr=""/>
          <p:cNvPicPr/>
          <p:nvPr/>
        </p:nvPicPr>
        <p:blipFill>
          <a:blip r:embed="rId3"/>
          <a:stretch/>
        </p:blipFill>
        <p:spPr>
          <a:xfrm>
            <a:off x="4552920" y="2914560"/>
            <a:ext cx="1335240" cy="3224160"/>
          </a:xfrm>
          <a:prstGeom prst="rect">
            <a:avLst/>
          </a:prstGeom>
          <a:ln w="0">
            <a:noFill/>
          </a:ln>
        </p:spPr>
      </p:pic>
      <p:pic>
        <p:nvPicPr>
          <p:cNvPr id="212" name="Стрелка вверх 22" descr=""/>
          <p:cNvPicPr/>
          <p:nvPr/>
        </p:nvPicPr>
        <p:blipFill>
          <a:blip r:embed="rId4"/>
          <a:stretch/>
        </p:blipFill>
        <p:spPr>
          <a:xfrm>
            <a:off x="6351480" y="2914560"/>
            <a:ext cx="1335240" cy="3187800"/>
          </a:xfrm>
          <a:prstGeom prst="rect">
            <a:avLst/>
          </a:prstGeom>
          <a:ln w="0">
            <a:noFill/>
          </a:ln>
        </p:spPr>
      </p:pic>
      <p:pic>
        <p:nvPicPr>
          <p:cNvPr id="213" name="Стрелка вверх 23" descr=""/>
          <p:cNvPicPr/>
          <p:nvPr/>
        </p:nvPicPr>
        <p:blipFill>
          <a:blip r:embed="rId5"/>
          <a:stretch/>
        </p:blipFill>
        <p:spPr>
          <a:xfrm>
            <a:off x="7864560" y="2840040"/>
            <a:ext cx="1298520" cy="32688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5"/>
          <p:cNvSpPr/>
          <p:nvPr/>
        </p:nvSpPr>
        <p:spPr>
          <a:xfrm>
            <a:off x="755640" y="6206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ЕТОДЫ УПРАВЛЕНИЯ ЭМОЦИЯМ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New Century Schoolbook"/>
              </a:rPr>
              <a:t>Алгоритм действий при наступлении 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Нейтрализация избытка негативных эмоц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Формирование уверенности в себе (аутотренинг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Определение структуры стрессор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с чем следует примирить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в чем можно найти позитивный момент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что в этой ситуации я должен изменить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4. Поиск ресурс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какие уже есть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какие нужно добыть и как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составление плана на ближайшее врем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5. Приступить к выполнению пла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New Century Schoolbook"/>
              </a:rPr>
              <a:t>Алгоритм действий, если стрессовая ситуация произошла, но стресс еще сохраня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Диссоциирование от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Поиск нужных ресур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Рациональная терапия (поиск позитивных моментов в ситуаци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Моделирование желаемого буду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resours"/>
          <p:cNvPicPr/>
          <p:nvPr/>
        </p:nvPicPr>
        <p:blipFill>
          <a:blip r:embed="rId1"/>
          <a:stretch/>
        </p:blipFill>
        <p:spPr>
          <a:xfrm>
            <a:off x="468360" y="1628640"/>
            <a:ext cx="8424720" cy="4896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1332000" y="333360"/>
            <a:ext cx="72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7136"/>
                </a:solidFill>
                <a:latin typeface="Century Schoolbook"/>
              </a:rPr>
              <a:t>РЕСУРСЫ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7136"/>
                </a:solidFill>
                <a:latin typeface="Century Schoolbook"/>
              </a:rPr>
              <a:t>Что это такое и где их взять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0" y="79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Garamond"/>
              </a:rPr>
              <a:t>АКТУАЛЬНОЕ СОСТОЯНИЕ + РЕСУРС =ЖЕЛАЕМОЕ СОСТОЯНИЕ</a:t>
            </a:r>
            <a:r>
              <a:rPr b="1" lang="ru-RU" sz="2000" spc="-1" strike="noStrike">
                <a:solidFill>
                  <a:srgbClr val="00cc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-2409840" y="1700280"/>
            <a:ext cx="106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ЧТО МОЖЕТ БЫТЬ РЕСУРСОМ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79280" y="2710080"/>
            <a:ext cx="8785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я (спокойствие, уверенность в себе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а (настойчивость, усидчивость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беждения ("Я имею право на ошибку"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и (умение выбирать друзей,   способность  убеждать собеседника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ни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Формы стресс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истресс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«плохой» стр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Эустресс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«хороший» стр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15" descr="XCADYP23BCAFDPAASCABZ4Y1BCA8XAAB0CANNFQHTCA4PKC74CAN0M61MCAD4323SCAV63KHNCALB14Z7CADO120JCA55X7QJCAW3GAAACAYIKED1CAWE8VWLCA2E838NCARTGMPUC"/>
          <p:cNvPicPr/>
          <p:nvPr/>
        </p:nvPicPr>
        <p:blipFill>
          <a:blip r:embed="rId1"/>
          <a:stretch/>
        </p:blipFill>
        <p:spPr>
          <a:xfrm>
            <a:off x="5651640" y="1484280"/>
            <a:ext cx="324144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2"/>
          <a:stretch/>
        </p:blipFill>
        <p:spPr>
          <a:xfrm>
            <a:off x="5580000" y="4437000"/>
            <a:ext cx="3384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stress_01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СТАДИИ 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New Century Schoolbook"/>
              </a:rPr>
              <a:t>Стадия тревоги</a:t>
            </a: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 (опасности) мобилизует организм встретить влияние стрессора: учащается дыхание, увеличивается кровяное давление, напрягаются мыш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New Century Schoolbook"/>
              </a:rPr>
              <a:t>Стадия сопротивления</a:t>
            </a: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 – организм сопротивляется воздействию вредных внешних факторов и адаптиру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New Century Schoolbook"/>
              </a:rPr>
              <a:t>Стадия истощения</a:t>
            </a: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 характеризуется резким снижением энергии сопроти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6612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ИНАМИКА РАЗВИТИЯ 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dinamika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_____6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df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ИМПТОМЫ СТРЕ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лная отдача себя работе, проведение все меньшего количества времени с друзьями и семь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эффективность на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полнение рабочих заданий вне работы за счет личного отды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льная утомля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дражи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гулярные физические болезн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f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ИСТОЧНИКИ СТРЕ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Режим трудовой деятельности (условия труда, интенсивный режим, нехватка време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Роль работника в организации (ролевые конфликты, повышенная ответственность, недостаток полномоч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Коммуникативные факторы (взаимоотношения с руководством, подчиненными, коллег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Трудности построения карьеры (неадекватный уровень притязаний, профессиональная неуспешность, медленный или быстрый карьерный рост, страх перед увольнени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Факторы, связанные с организационной культурой и микроклиматом ( несоответствие установок и ожиданий работника корпоративной культуре организации, интриги, ограничение свободы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Неорганизационные источники стрессов (проблемы в семейной жизни, неумение разделить профессиональную и семейную ролевую стратегию по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01:26Z</dcterms:created>
  <dc:creator>Татьяна</dc:creator>
  <dc:description/>
  <dc:language>en-US</dc:language>
  <cp:lastModifiedBy>user</cp:lastModifiedBy>
  <dcterms:modified xsi:type="dcterms:W3CDTF">2012-03-21T05:53:03Z</dcterms:modified>
  <cp:revision>105</cp:revision>
  <dc:subject/>
  <dc:title>Психология профессиональной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80000000000010250600207f5200358026400</vt:lpwstr>
  </property>
</Properties>
</file>