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0B5-C8FF-46EE-BDD0-58A5592409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25B6-F586-4829-B60A-8614DB734A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744-0ABC-4694-87CB-9440CA34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D16-CCDA-409E-B546-26B7D3C7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7E5-7AE3-482C-A1B7-82045AFC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6ED-0C9A-4A65-BBC3-7385A6D8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6CB6-1389-40FB-AFD6-BB9BBF9E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793-2572-4539-94E3-FF5E7497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0E09-6233-450D-B2C5-878DA596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200E-A505-4A00-A7B8-863B41BB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A7E2-EA4D-45A0-9E3D-E2C97246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E369-A098-4BFB-AC84-03FA2E1B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C1B3-083F-40E7-994E-9745BFE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024-D584-4FB7-ABE8-270CE56D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B6D3-5E43-46E0-80DD-6C12571E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FC49-0A8A-4C1E-9A6A-AE7A708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3B1F-4D64-4A06-9CE3-D02CF1DB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547D-1528-4C69-9D2E-93D5EE9D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A2B-CB32-4207-A6BF-936B0D53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F74F-E709-465C-92C8-3188AA9D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3B12-4AC6-4716-973D-9F82239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8E7A-03D2-490A-810F-4D7F62FA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5525-0793-4CBB-9A22-A8F4CE6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EE7B-C27E-4765-B46E-198DECD0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A4A-1B0D-4574-A460-B2F1192B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43F1-9129-49BB-8CB2-B0145B7D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2A01-66C8-4E43-9D2F-24A05955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ED54-F5CF-45E9-B397-B9A9FC9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9DC1-5383-4DA4-AC93-5E6A5B9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BA256-6BF4-4F15-A232-E2BA5623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3620-C6B5-4AF7-AFC6-1DD6C6A3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2D02-829F-4015-A790-FCC94D44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9E7-3B9F-4C45-9AE5-474F3915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460-34C9-40F6-9BBF-6CEF110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636-5656-4DB3-B6DD-5DEAADA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F4D-7AD1-42CC-9F64-4628D00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C86-A3BB-431C-8AF4-94BE63D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628-1315-43E6-A06D-F7818561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E9D-CC14-43F3-AC7E-011CD1E0F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0D6D-E1F8-4BD7-AB8B-EB1FC464FD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6AA7-F50F-4840-A784-33143C6C55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4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64216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ТРЕСС В ПРОФЕССИОНАЛЬНОЙ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ДЕЯТЕЛЬНОСТИ: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New Century Schoolbook"/>
              </a:rPr>
              <a:t>причины и методы преодо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New Century Schoolbook"/>
              </a:rPr>
              <a:t>ФАКТОРЫ, ВЛИЯЮЩИЕ НА РАЗВИТИЕ СТР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87152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Генетическая предрасположен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Тип высшей нерв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анний детский опы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одительские сцена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Личностные особенности (характер, уровень самооценки, направленность, установки и ценност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Факторы социальной ср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Когнитив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e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Когнитивные механизмы эмоциональной реа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17080" cy="4248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7"/>
          <p:cNvSpPr/>
          <p:nvPr/>
        </p:nvSpPr>
        <p:spPr>
          <a:xfrm>
            <a:off x="1403280" y="602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есс вызван неприятным инцидент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Когнитивные механизмы эмоциональной реа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632720" cy="410364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826920" y="602136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тресс вызван мыслями о неприятном событи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Факторы, усугубляющие воздействие стр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желание человека изменить собственные предст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атегоричность в восприятии альтернат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личие иррациональных установ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нерция мыш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емление избежать болезненных эмоциональных пережи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e4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Когнитивные </a:t>
            </a: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механизмы</a:t>
            </a:r>
            <a:br>
              <a:rPr sz="4400"/>
            </a:br>
            <a:r>
              <a:rPr b="1" i="1" lang="ru-RU" sz="4400" spc="-1" strike="noStrike">
                <a:solidFill>
                  <a:srgbClr val="000099"/>
                </a:solidFill>
                <a:latin typeface="Century Schoolbook"/>
              </a:rPr>
              <a:t>эмоциональной реак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908000" y="2060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Century Schoolbook"/>
              </a:rPr>
              <a:t>А В С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39640" y="2997360"/>
            <a:ext cx="8064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Garamond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 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activating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 -  активизирующее событие: ситуация, стимул, обусловливающий процесс реагирования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684360" y="4149720"/>
            <a:ext cx="8280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B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beliefs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убеждения, ожидания, установки, верования, представления о ситуации, интерпретации и выводы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Box 6"/>
          <p:cNvSpPr/>
          <p:nvPr/>
        </p:nvSpPr>
        <p:spPr>
          <a:xfrm flipH="1">
            <a:off x="611280" y="5300640"/>
            <a:ext cx="81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C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Garamond"/>
              </a:rPr>
              <a:t>consequences</a:t>
            </a:r>
            <a:r>
              <a:rPr b="1" lang="ru-RU" sz="2400" spc="-1" strike="noStrike">
                <a:solidFill>
                  <a:srgbClr val="000099"/>
                </a:solidFill>
                <a:latin typeface="Garamond"/>
              </a:rPr>
              <a:t>) – последствия: эмоции, чувства, поведени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Профессиональное выгорание</a:t>
            </a:r>
            <a:r>
              <a:rPr b="0" lang="ru-RU" sz="4400" spc="-1" strike="noStrike">
                <a:solidFill>
                  <a:srgbClr val="ffff66"/>
                </a:solidFill>
                <a:latin typeface="New 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синдром, развивающийся на фоне хронического стресса и ведущий к снижению эмоционально-энергетических и личностных ресурсов работающего человека. Профессиональное выгорание  возникает в результате внутреннего накапливания отрицательных эмоций без соответствующей «разрядки» или «освобождения» от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42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Работники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составляющие группу рис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та связана с интенсивным общени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озникновение внутренних конфликтов, связанных с раб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абота протекает в условиях нестаби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обходимость постоянно демонстрировать высокую эффектив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ители крупных г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ИМПТОМЫ ВЫГОР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852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Психофизиче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Социально-психологическ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New Century Schoolbook"/>
              </a:rPr>
              <a:t>Поведенческие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8564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ПРИЧИНЫ «ВЫГОРА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Постоянные противоречия в стратегическом и тактическом руковод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Чрезмерные, невыполнимые требования к работник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Передача ответственности сотрудникам, не имеющим полномо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Отсутствие объективных критериев для оценки результатов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Неэффективная система мотивирования и стимулирования персон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11280" y="549360"/>
            <a:ext cx="8208720" cy="107928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етоды нейтрализации стресса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179280" y="2349360"/>
            <a:ext cx="208908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сихолог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411280" y="2349360"/>
            <a:ext cx="223200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788000" y="2349360"/>
            <a:ext cx="208908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олог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020000" y="2349360"/>
            <a:ext cx="1944720" cy="914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иохимическ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395280" y="3573360"/>
            <a:ext cx="170640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утотренинг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едитаци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Рациональная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ерап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700360" y="3573360"/>
            <a:ext cx="170640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Массаж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зически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упражнен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003640" y="3573360"/>
            <a:ext cx="170676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Бан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Закаливание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о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цедуры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877080" y="3573360"/>
            <a:ext cx="2087640" cy="213840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рмакотерапия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лкоголь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итотерапи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14"/>
          <p:cNvSpPr/>
          <p:nvPr/>
        </p:nvSpPr>
        <p:spPr>
          <a:xfrm flipH="1">
            <a:off x="1258920" y="1628640"/>
            <a:ext cx="3457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15"/>
          <p:cNvSpPr/>
          <p:nvPr/>
        </p:nvSpPr>
        <p:spPr>
          <a:xfrm flipH="1">
            <a:off x="3492000" y="162864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4643280" y="162864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4643280" y="1628640"/>
            <a:ext cx="3313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1258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349236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5867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79567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e7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entury Schoolbook"/>
              </a:rPr>
              <a:t>СТРЕСС </a:t>
            </a:r>
            <a:r>
              <a:rPr b="1" lang="ru-RU" sz="2800" spc="-1" strike="noStrike">
                <a:solidFill>
                  <a:srgbClr val="333399"/>
                </a:solidFill>
                <a:latin typeface="Century Schoolbook"/>
              </a:rPr>
              <a:t>– </a:t>
            </a:r>
            <a:r>
              <a:rPr b="1" lang="ru-RU" sz="4000" spc="-1" strike="noStrike">
                <a:solidFill>
                  <a:srgbClr val="333399"/>
                </a:solidFill>
                <a:latin typeface="Century Schoolbook"/>
              </a:rPr>
              <a:t>неспецифическая реакция организма в ответ на разнообразные  повреждающие воздействия (адаптационный синдр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d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Безымянный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b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179280" y="1989000"/>
            <a:ext cx="1368360" cy="863640"/>
          </a:xfrm>
          <a:prstGeom prst="rect">
            <a:avLst/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Стрелка вправо 3"/>
          <p:cNvSpPr/>
          <p:nvPr/>
        </p:nvSpPr>
        <p:spPr>
          <a:xfrm>
            <a:off x="1547640" y="2133720"/>
            <a:ext cx="1729080" cy="647640"/>
          </a:xfrm>
          <a:prstGeom prst="rightArrow">
            <a:avLst>
              <a:gd name="adj1" fmla="val 50000"/>
              <a:gd name="adj2" fmla="val 57216"/>
            </a:avLst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Восприят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Скругленный прямоугольник 4"/>
          <p:cNvSpPr/>
          <p:nvPr/>
        </p:nvSpPr>
        <p:spPr>
          <a:xfrm>
            <a:off x="3203640" y="1989000"/>
            <a:ext cx="1224000" cy="935280"/>
          </a:xfrm>
          <a:prstGeom prst="roundRect">
            <a:avLst>
              <a:gd name="adj" fmla="val 16667"/>
            </a:avLst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Образ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Стрелка вправо 5"/>
          <p:cNvSpPr/>
          <p:nvPr/>
        </p:nvSpPr>
        <p:spPr>
          <a:xfrm>
            <a:off x="4500720" y="1844640"/>
            <a:ext cx="1942920" cy="136836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Эмоциональ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ая оценка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Пятиугольник 6"/>
          <p:cNvSpPr/>
          <p:nvPr/>
        </p:nvSpPr>
        <p:spPr>
          <a:xfrm>
            <a:off x="6443640" y="2205000"/>
            <a:ext cx="1514520" cy="57636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Блок-схема: узел 7"/>
          <p:cNvSpPr/>
          <p:nvPr/>
        </p:nvSpPr>
        <p:spPr>
          <a:xfrm>
            <a:off x="7956720" y="1989000"/>
            <a:ext cx="960120" cy="889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Минус 14"/>
          <p:cNvSpPr/>
          <p:nvPr/>
        </p:nvSpPr>
        <p:spPr>
          <a:xfrm>
            <a:off x="8172360" y="2637000"/>
            <a:ext cx="576360" cy="144360"/>
          </a:xfrm>
          <a:prstGeom prst="pie">
            <a:avLst/>
          </a:prstGeom>
          <a:solidFill>
            <a:srgbClr val="cd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Блок-схема: узел 15"/>
          <p:cNvSpPr/>
          <p:nvPr/>
        </p:nvSpPr>
        <p:spPr>
          <a:xfrm>
            <a:off x="8101080" y="2276640"/>
            <a:ext cx="216000" cy="72720"/>
          </a:xfrm>
          <a:prstGeom prst="flowChartConnector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Блок-схема: узел 17"/>
          <p:cNvSpPr/>
          <p:nvPr/>
        </p:nvSpPr>
        <p:spPr>
          <a:xfrm>
            <a:off x="8532720" y="2276640"/>
            <a:ext cx="216000" cy="72720"/>
          </a:xfrm>
          <a:prstGeom prst="flowChartConnector">
            <a:avLst/>
          </a:prstGeom>
          <a:solidFill>
            <a:srgbClr val="cd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9" name="Стрелка вверх 19" descr=""/>
          <p:cNvPicPr/>
          <p:nvPr/>
        </p:nvPicPr>
        <p:blipFill>
          <a:blip r:embed="rId1"/>
          <a:stretch/>
        </p:blipFill>
        <p:spPr>
          <a:xfrm>
            <a:off x="1407960" y="2992320"/>
            <a:ext cx="1401840" cy="3195720"/>
          </a:xfrm>
          <a:prstGeom prst="rect">
            <a:avLst/>
          </a:prstGeom>
          <a:ln w="0">
            <a:noFill/>
          </a:ln>
        </p:spPr>
      </p:pic>
      <p:pic>
        <p:nvPicPr>
          <p:cNvPr id="210" name="Стрелка вверх 20" descr=""/>
          <p:cNvPicPr/>
          <p:nvPr/>
        </p:nvPicPr>
        <p:blipFill>
          <a:blip r:embed="rId2"/>
          <a:stretch/>
        </p:blipFill>
        <p:spPr>
          <a:xfrm>
            <a:off x="3114720" y="2914560"/>
            <a:ext cx="1328760" cy="3187800"/>
          </a:xfrm>
          <a:prstGeom prst="rect">
            <a:avLst/>
          </a:prstGeom>
          <a:ln w="0">
            <a:noFill/>
          </a:ln>
        </p:spPr>
      </p:pic>
      <p:pic>
        <p:nvPicPr>
          <p:cNvPr id="211" name="Стрелка вверх 21" descr=""/>
          <p:cNvPicPr/>
          <p:nvPr/>
        </p:nvPicPr>
        <p:blipFill>
          <a:blip r:embed="rId3"/>
          <a:stretch/>
        </p:blipFill>
        <p:spPr>
          <a:xfrm>
            <a:off x="4552920" y="2914560"/>
            <a:ext cx="1335240" cy="3224160"/>
          </a:xfrm>
          <a:prstGeom prst="rect">
            <a:avLst/>
          </a:prstGeom>
          <a:ln w="0">
            <a:noFill/>
          </a:ln>
        </p:spPr>
      </p:pic>
      <p:pic>
        <p:nvPicPr>
          <p:cNvPr id="212" name="Стрелка вверх 22" descr=""/>
          <p:cNvPicPr/>
          <p:nvPr/>
        </p:nvPicPr>
        <p:blipFill>
          <a:blip r:embed="rId4"/>
          <a:stretch/>
        </p:blipFill>
        <p:spPr>
          <a:xfrm>
            <a:off x="6351480" y="2914560"/>
            <a:ext cx="1335240" cy="3187800"/>
          </a:xfrm>
          <a:prstGeom prst="rect">
            <a:avLst/>
          </a:prstGeom>
          <a:ln w="0">
            <a:noFill/>
          </a:ln>
        </p:spPr>
      </p:pic>
      <p:pic>
        <p:nvPicPr>
          <p:cNvPr id="213" name="Стрелка вверх 23" descr=""/>
          <p:cNvPicPr/>
          <p:nvPr/>
        </p:nvPicPr>
        <p:blipFill>
          <a:blip r:embed="rId5"/>
          <a:stretch/>
        </p:blipFill>
        <p:spPr>
          <a:xfrm>
            <a:off x="7864560" y="2840040"/>
            <a:ext cx="1298520" cy="32688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5"/>
          <p:cNvSpPr/>
          <p:nvPr/>
        </p:nvSpPr>
        <p:spPr>
          <a:xfrm>
            <a:off x="755640" y="620640"/>
            <a:ext cx="81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МЕТОДЫ УПРАВЛЕНИЯ ЭМОЦИЯМ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New Century Schoolbook"/>
              </a:rPr>
              <a:t>Алгоритм действий при наступлении 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Нейтрализация избытка негативных эмоц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Формирование уверенности в себе (аутотренинг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Определение структуры стрессор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с чем следует примирить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в чем можно найти позитивный момент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что в этой ситуации я должен изменить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4. Поиск рес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какие уже есть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какие нужно добыть и как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составление плана на ближайшее врем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New Century Schoolbook"/>
              </a:rPr>
              <a:t>5. Приступить к выполнению пла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New Century Schoolbook"/>
              </a:rPr>
              <a:t>Алгоритм действий, если стрессовая ситуация произошла, но стресс еще сохран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Диссоциирование от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Поиск нужных рес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Рациональная терапия (поиск позитивных моментов в ситуаци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New 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New Century Schoolbook"/>
              </a:rPr>
              <a:t>Моделирование желаемого буду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resours"/>
          <p:cNvPicPr/>
          <p:nvPr/>
        </p:nvPicPr>
        <p:blipFill>
          <a:blip r:embed="rId1"/>
          <a:stretch/>
        </p:blipFill>
        <p:spPr>
          <a:xfrm>
            <a:off x="468360" y="1628640"/>
            <a:ext cx="8424720" cy="48960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1332000" y="333360"/>
            <a:ext cx="72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7136"/>
                </a:solidFill>
                <a:latin typeface="Century Schoolbook"/>
              </a:rPr>
              <a:t>РЕСУРСЫ.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7136"/>
                </a:solidFill>
                <a:latin typeface="Century Schoolbook"/>
              </a:rPr>
              <a:t>Что это такое и где их взять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0" y="792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Garamond"/>
              </a:rPr>
              <a:t>АКТУАЛЬНОЕ СОСТОЯНИЕ + РЕСУРС =ЖЕЛАЕМОЕ СОСТОЯНИЕ</a:t>
            </a:r>
            <a:r>
              <a:rPr b="1" lang="ru-RU" sz="2000" spc="-1" strike="noStrike">
                <a:solidFill>
                  <a:srgbClr val="00cc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-2409840" y="1700280"/>
            <a:ext cx="106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ЧТО МОЖЕТ БЫТЬ РЕСУРСОМ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179280" y="2710080"/>
            <a:ext cx="87854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я (спокойствие, уверенность в себе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а (настойчивость, усидчивость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беждения ("Я имею право на ошибку"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и (умение выбирать друзей,   способность  убеждать собеседника)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ни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Формы стресс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Дистресс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«плохой» стр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Эустресс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«хороший» стр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15" descr="XCADYP23BCAFDPAASCABZ4Y1BCA8XAAB0CANNFQHTCA4PKC74CAN0M61MCAD4323SCAV63KHNCALB14Z7CADO120JCA55X7QJCAW3GAAACAYIKED1CAWE8VWLCA2E838NCARTGMPUC"/>
          <p:cNvPicPr/>
          <p:nvPr/>
        </p:nvPicPr>
        <p:blipFill>
          <a:blip r:embed="rId1"/>
          <a:stretch/>
        </p:blipFill>
        <p:spPr>
          <a:xfrm>
            <a:off x="5651640" y="1484280"/>
            <a:ext cx="324144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2"/>
          <a:stretch/>
        </p:blipFill>
        <p:spPr>
          <a:xfrm>
            <a:off x="5580000" y="4437000"/>
            <a:ext cx="3384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stress_01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e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New Century Schoolbook"/>
              </a:rPr>
              <a:t>СТАДИИ 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тревоги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(опасности) мобилизует организм встретить влияние стрессора: учащается дыхание, увеличивается кровяное давление, напрягаются мыш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– организм сопротивляется воздействию вредных внешних факторов и адаптируе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New Century Schoolbook"/>
              </a:rPr>
              <a:t>Стадия истощения</a:t>
            </a:r>
            <a:r>
              <a:rPr b="0" lang="ru-RU" sz="2800" spc="-1" strike="noStrike">
                <a:solidFill>
                  <a:srgbClr val="000000"/>
                </a:solidFill>
                <a:latin typeface="New Century Schoolbook"/>
              </a:rPr>
              <a:t> характеризуется резким снижением энергии сопроти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6612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ДИНАМИКА РАЗВИТИЯ 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dinamika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_____6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df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ИМПТОМЫ СТРЕ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лная отдача себя работе, проведение все меньшего количества времени с друзьями и семь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эффективность на рабо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полнение рабочих заданий вне работы за счет личного отды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льная утомля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дражи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гулярные физические болезни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f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New Century Schoolbook"/>
              </a:rPr>
              <a:t>ИСТОЧНИКИ СТРЕС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Режим трудовой деятельности (условия труда, интенсивный режим, нехватка времен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Роль работника в организации (ролевые конфликты, повышенная ответственность, недостаток полномоч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Коммуникативные факторы (взаимоотношения с руководством, подчиненными, коллег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Трудности построения карьеры (неадекватный уровень притязаний, профессиональная неуспешность, медленный или быстрый карьерный рост, страх перед увольнени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Факторы, связанные с организационной культурой и микроклиматом ( несоответствие установок и ожиданий работника корпоративной культуре организации, интриги, ограничение свободы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New 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New Century Schoolbook"/>
              </a:rPr>
              <a:t>Неорганизационные источники стрессов (проблемы в семейной жизни, неумение разделить профессиональную и семейную ролевую стратегию по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01:26Z</dcterms:created>
  <dc:creator>Татьяна</dc:creator>
  <dc:description/>
  <dc:language>en-US</dc:language>
  <cp:lastModifiedBy>user</cp:lastModifiedBy>
  <dcterms:modified xsi:type="dcterms:W3CDTF">2012-03-21T05:53:03Z</dcterms:modified>
  <cp:revision>105</cp:revision>
  <dc:subject/>
  <dc:title>Психология профессиональной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80000000000010250600207f5200358026400</vt:lpwstr>
  </property>
</Properties>
</file>