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3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09B-8342-4691-BC8A-CC019726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2B2-350C-45F8-8C01-B4A68408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3C9-AC9C-4C5A-A880-1EAFA77E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FC7-4542-4075-B379-4BBE3231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58C4-A410-481B-9FB7-BB7E1848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3608-0EB2-48C5-96D3-45861F3B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EBCB-F1B4-42F0-91A2-FE9E7035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CA91-D594-4B9A-8A94-66DA0036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608F-B1D4-43D2-B0A5-1A9BB77D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F4AB-A2AC-46B6-B874-1AED9171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D4FD-8F1B-4FFD-80B9-71BCDFE9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1DD-21F0-4137-9A45-3F2FE525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8BE1-474A-4422-B2FF-43EEDECB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BBBB-5DC5-4689-8D08-E6EB1DB9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A4F1-5DEB-4A4E-9D1A-7051EE94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020F-7777-4C13-ABBF-8B74E30B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B7D7-CFFF-4473-B421-31E20077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8B8-2077-4B74-87D0-03242BEA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AAE-6C58-4E95-AC46-7B06CB9A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DE6-562E-4433-AF44-7F6A767F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69C-94D1-4D82-899C-4F6160E7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9BA-94F4-4DF8-A11C-D81AAAFD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198-334E-4313-BC23-4102D6D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0AE-6257-41E4-BFDB-FFFB0B3E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F53C-5A31-4BC0-8A5C-BCDC9EBF77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D622-CB65-44D6-ACB9-22F0E6BB29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920" y="2130120"/>
            <a:ext cx="63374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лассификация органических соеди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8920" y="4365360"/>
            <a:ext cx="59770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Химия. 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79280" y="57466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азонов В.В., учитель химии МОУ средней общеобразовательной школы д.Васькино Нижнесергинского района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640" y="34092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 какому классу относят соеди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469800" y="5013360"/>
          <a:ext cx="287676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013360"/>
                    <a:ext cx="28767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401760" y="1792440"/>
          <a:ext cx="3657600" cy="46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1792440"/>
                    <a:ext cx="365760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98520" y="3762360"/>
          <a:ext cx="2225520" cy="13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8520" y="3762360"/>
                    <a:ext cx="222552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8"/>
          <p:cNvGraphicFramePr/>
          <p:nvPr/>
        </p:nvGraphicFramePr>
        <p:xfrm>
          <a:off x="395280" y="2538360"/>
          <a:ext cx="2160720" cy="110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2538360"/>
                    <a:ext cx="2160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15"/>
          <p:cNvSpPr/>
          <p:nvPr/>
        </p:nvSpPr>
        <p:spPr>
          <a:xfrm>
            <a:off x="4068720" y="1719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непредельный углеводород (алк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4068720" y="2610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альдег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4068720" y="3924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углевод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4068720" y="530064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ая непредельная карбо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640" y="404640"/>
            <a:ext cx="53276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К какому классу относят соеди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684360" y="3068640"/>
          <a:ext cx="141732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68640"/>
                    <a:ext cx="14173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8"/>
          <p:cNvGraphicFramePr/>
          <p:nvPr/>
        </p:nvGraphicFramePr>
        <p:xfrm>
          <a:off x="539640" y="1585800"/>
          <a:ext cx="2448000" cy="15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585800"/>
                    <a:ext cx="244800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9"/>
          <p:cNvGraphicFramePr/>
          <p:nvPr/>
        </p:nvGraphicFramePr>
        <p:xfrm>
          <a:off x="468360" y="4869000"/>
          <a:ext cx="259092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869000"/>
                    <a:ext cx="259092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Text Box 13"/>
          <p:cNvSpPr/>
          <p:nvPr/>
        </p:nvSpPr>
        <p:spPr>
          <a:xfrm>
            <a:off x="4068720" y="187308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ая предельная сульфо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4068720" y="328464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теро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4068720" y="515772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спирт, карбо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518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Учебник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5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опросы 2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(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устно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)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, 1, 5 (письм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пределения записать в слов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рганическая химия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имия углеводородов и их функциональных произ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692360" y="3645000"/>
            <a:ext cx="5688000" cy="6426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чески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468360" y="4724280"/>
            <a:ext cx="3816360" cy="12258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вод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4859280" y="4724280"/>
            <a:ext cx="3816360" cy="11912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ональные производные углеводо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6"/>
          <p:cNvCxnSpPr>
            <a:stCxn id="86" idx="2"/>
            <a:endCxn id="87" idx="0"/>
          </p:cNvCxnSpPr>
          <p:nvPr/>
        </p:nvCxnSpPr>
        <p:spPr>
          <a:xfrm flipH="1">
            <a:off x="2376000" y="4290840"/>
            <a:ext cx="2160000" cy="434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90" name="Прямая со стрелкой 8"/>
          <p:cNvCxnSpPr>
            <a:stCxn id="86" idx="2"/>
            <a:endCxn id="88" idx="0"/>
          </p:cNvCxnSpPr>
          <p:nvPr/>
        </p:nvCxnSpPr>
        <p:spPr>
          <a:xfrm>
            <a:off x="4535640" y="4290840"/>
            <a:ext cx="2232720" cy="434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91" name="TextBox 9"/>
          <p:cNvSpPr/>
          <p:nvPr/>
        </p:nvSpPr>
        <p:spPr>
          <a:xfrm>
            <a:off x="144360" y="549360"/>
            <a:ext cx="44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спом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0"/>
          <p:cNvSpPr/>
          <p:nvPr/>
        </p:nvSpPr>
        <p:spPr>
          <a:xfrm>
            <a:off x="2916360" y="4290840"/>
            <a:ext cx="1439640" cy="862560"/>
          </a:xfrm>
          <a:prstGeom prst="rect">
            <a:avLst/>
          </a:prstGeom>
          <a:solidFill>
            <a:srgbClr val="baf0ba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к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916360" y="5305320"/>
            <a:ext cx="1439640" cy="862560"/>
          </a:xfrm>
          <a:prstGeom prst="rect">
            <a:avLst/>
          </a:prstGeom>
          <a:solidFill>
            <a:srgbClr val="baf0ba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к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5329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Классификация</a:t>
            </a: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по углеродной цеп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3"/>
          <p:cNvGraphicFramePr/>
          <p:nvPr/>
        </p:nvGraphicFramePr>
        <p:xfrm>
          <a:off x="2987640" y="4724280"/>
          <a:ext cx="1378080" cy="3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4724280"/>
                    <a:ext cx="13780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8"/>
          <p:cNvGraphicFramePr/>
          <p:nvPr/>
        </p:nvGraphicFramePr>
        <p:xfrm>
          <a:off x="2987640" y="5740560"/>
          <a:ext cx="122400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5740560"/>
                    <a:ext cx="12240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3"/>
          <p:cNvGraphicFramePr/>
          <p:nvPr/>
        </p:nvGraphicFramePr>
        <p:xfrm>
          <a:off x="5724360" y="4797360"/>
          <a:ext cx="28764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797360"/>
                    <a:ext cx="28764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5"/>
          <p:cNvGraphicFramePr/>
          <p:nvPr/>
        </p:nvGraphicFramePr>
        <p:xfrm>
          <a:off x="6227640" y="4797360"/>
          <a:ext cx="21600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Object 6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7640" y="479736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2124000" y="1671480"/>
            <a:ext cx="5400720" cy="459720"/>
          </a:xfrm>
          <a:prstGeom prst="rect">
            <a:avLst/>
          </a:prstGeom>
          <a:solidFill>
            <a:srgbClr val="e9a5b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ески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55640" y="2536920"/>
            <a:ext cx="2592360" cy="794880"/>
          </a:xfrm>
          <a:prstGeom prst="rect">
            <a:avLst/>
          </a:prstGeom>
          <a:solidFill>
            <a:srgbClr val="2ecc2e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циклические</a:t>
            </a:r>
            <a:br>
              <a:rPr sz="24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алифатически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867280" y="2527200"/>
            <a:ext cx="2592360" cy="459720"/>
          </a:xfrm>
          <a:prstGeom prst="rect">
            <a:avLst/>
          </a:prstGeom>
          <a:solidFill>
            <a:srgbClr val="879d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8360" y="3660840"/>
            <a:ext cx="1800000" cy="398880"/>
          </a:xfrm>
          <a:prstGeom prst="rect">
            <a:avLst/>
          </a:prstGeom>
          <a:solidFill>
            <a:srgbClr val="8ee68e">
              <a:alpha val="6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556000" y="3660840"/>
            <a:ext cx="2160360" cy="398880"/>
          </a:xfrm>
          <a:prstGeom prst="rect">
            <a:avLst/>
          </a:prstGeom>
          <a:solidFill>
            <a:srgbClr val="8ee68e">
              <a:alpha val="6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ред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11280" y="4343400"/>
            <a:ext cx="1439640" cy="862560"/>
          </a:xfrm>
          <a:prstGeom prst="rect">
            <a:avLst/>
          </a:prstGeom>
          <a:solidFill>
            <a:srgbClr val="baf0ba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к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148360" y="3300480"/>
            <a:ext cx="2593800" cy="398880"/>
          </a:xfrm>
          <a:prstGeom prst="rect">
            <a:avLst/>
          </a:prstGeom>
          <a:solidFill>
            <a:srgbClr val="b0bff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цикл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940360" y="3876840"/>
            <a:ext cx="2808360" cy="398880"/>
          </a:xfrm>
          <a:prstGeom prst="rect">
            <a:avLst/>
          </a:prstGeom>
          <a:solidFill>
            <a:srgbClr val="b0bff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тероцикл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5581800" y="5451480"/>
            <a:ext cx="2303280" cy="703800"/>
          </a:xfrm>
          <a:prstGeom prst="rect">
            <a:avLst/>
          </a:prstGeom>
          <a:solidFill>
            <a:srgbClr val="cad4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оматическ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581800" y="4514760"/>
            <a:ext cx="2303280" cy="703800"/>
          </a:xfrm>
          <a:prstGeom prst="rect">
            <a:avLst/>
          </a:prstGeom>
          <a:solidFill>
            <a:srgbClr val="cad4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ициклическ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8"/>
          <p:cNvGraphicFramePr/>
          <p:nvPr/>
        </p:nvGraphicFramePr>
        <p:xfrm>
          <a:off x="755640" y="4748040"/>
          <a:ext cx="1152360" cy="24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3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748040"/>
                    <a:ext cx="115236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Line 50"/>
          <p:cNvSpPr/>
          <p:nvPr/>
        </p:nvSpPr>
        <p:spPr>
          <a:xfrm flipH="1">
            <a:off x="1979280" y="2133720"/>
            <a:ext cx="20876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1"/>
          <p:cNvSpPr/>
          <p:nvPr/>
        </p:nvSpPr>
        <p:spPr>
          <a:xfrm>
            <a:off x="5867280" y="2131920"/>
            <a:ext cx="1297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2"/>
          <p:cNvSpPr/>
          <p:nvPr/>
        </p:nvSpPr>
        <p:spPr>
          <a:xfrm flipH="1">
            <a:off x="1332000" y="3357720"/>
            <a:ext cx="5760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3"/>
          <p:cNvSpPr/>
          <p:nvPr/>
        </p:nvSpPr>
        <p:spPr>
          <a:xfrm>
            <a:off x="2124000" y="3357720"/>
            <a:ext cx="151128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4"/>
          <p:cNvSpPr/>
          <p:nvPr/>
        </p:nvSpPr>
        <p:spPr>
          <a:xfrm>
            <a:off x="1332000" y="4076640"/>
            <a:ext cx="0" cy="26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5"/>
          <p:cNvSpPr/>
          <p:nvPr/>
        </p:nvSpPr>
        <p:spPr>
          <a:xfrm>
            <a:off x="2627280" y="4076640"/>
            <a:ext cx="0" cy="19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6"/>
          <p:cNvSpPr/>
          <p:nvPr/>
        </p:nvSpPr>
        <p:spPr>
          <a:xfrm>
            <a:off x="2627280" y="60721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7"/>
          <p:cNvSpPr/>
          <p:nvPr/>
        </p:nvSpPr>
        <p:spPr>
          <a:xfrm>
            <a:off x="2627280" y="477504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8"/>
          <p:cNvSpPr/>
          <p:nvPr/>
        </p:nvSpPr>
        <p:spPr>
          <a:xfrm>
            <a:off x="6443640" y="299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9"/>
          <p:cNvSpPr/>
          <p:nvPr/>
        </p:nvSpPr>
        <p:spPr>
          <a:xfrm>
            <a:off x="8028000" y="2997360"/>
            <a:ext cx="0" cy="86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0"/>
          <p:cNvSpPr/>
          <p:nvPr/>
        </p:nvSpPr>
        <p:spPr>
          <a:xfrm>
            <a:off x="5219640" y="3716280"/>
            <a:ext cx="0" cy="20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1"/>
          <p:cNvSpPr/>
          <p:nvPr/>
        </p:nvSpPr>
        <p:spPr>
          <a:xfrm>
            <a:off x="5219640" y="57340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2"/>
          <p:cNvSpPr/>
          <p:nvPr/>
        </p:nvSpPr>
        <p:spPr>
          <a:xfrm>
            <a:off x="5219640" y="4797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67"/>
          <p:cNvGraphicFramePr/>
          <p:nvPr/>
        </p:nvGraphicFramePr>
        <p:xfrm>
          <a:off x="7380360" y="4870440"/>
          <a:ext cx="250920" cy="28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Object 6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80360" y="4870440"/>
                    <a:ext cx="2509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68"/>
          <p:cNvGraphicFramePr/>
          <p:nvPr/>
        </p:nvGraphicFramePr>
        <p:xfrm>
          <a:off x="6804000" y="4870440"/>
          <a:ext cx="289080" cy="276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1" name="Object 6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04000" y="4870440"/>
                    <a:ext cx="2890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72"/>
          <p:cNvGraphicFramePr/>
          <p:nvPr/>
        </p:nvGraphicFramePr>
        <p:xfrm>
          <a:off x="6443640" y="5734080"/>
          <a:ext cx="378000" cy="43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3" name="Object 7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43640" y="5734080"/>
                    <a:ext cx="378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73" descr="writing"/>
          <p:cNvPicPr/>
          <p:nvPr/>
        </p:nvPicPr>
        <p:blipFill>
          <a:blip r:embed="rId17"/>
          <a:stretch/>
        </p:blipFill>
        <p:spPr>
          <a:xfrm>
            <a:off x="395280" y="1484280"/>
            <a:ext cx="1174680" cy="8650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6"/>
          <p:cNvSpPr/>
          <p:nvPr/>
        </p:nvSpPr>
        <p:spPr>
          <a:xfrm>
            <a:off x="6372360" y="4941720"/>
            <a:ext cx="215640" cy="216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Равнобедренный треугольник 47"/>
          <p:cNvSpPr/>
          <p:nvPr/>
        </p:nvSpPr>
        <p:spPr>
          <a:xfrm>
            <a:off x="5821200" y="4869000"/>
            <a:ext cx="335160" cy="288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916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Функциональная группа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атом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или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группа атомов, которые определяют принадлежность соединения к определенному классу и его характерные хим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writing"/>
          <p:cNvPicPr/>
          <p:nvPr/>
        </p:nvPicPr>
        <p:blipFill>
          <a:blip r:embed="rId1"/>
          <a:stretch/>
        </p:blipFill>
        <p:spPr>
          <a:xfrm>
            <a:off x="7524720" y="1052640"/>
            <a:ext cx="1174680" cy="865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5329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Запомните 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Классификация Ф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Organization Chart 6"/>
          <p:cNvGrpSpPr/>
          <p:nvPr/>
        </p:nvGrpSpPr>
        <p:grpSpPr>
          <a:xfrm>
            <a:off x="431640" y="1701720"/>
            <a:ext cx="8208360" cy="4462920"/>
            <a:chOff x="431640" y="1701720"/>
            <a:chExt cx="8208360" cy="4462920"/>
          </a:xfrm>
        </p:grpSpPr>
        <p:cxnSp>
          <p:nvCxnSpPr>
            <p:cNvPr id="142" name="_s2052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5997240" y="3898800"/>
              <a:ext cx="558360" cy="1742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5" name="_s2053"/>
            <p:cNvCxnSpPr>
              <a:stCxn id="146" idx="0"/>
              <a:endCxn id="144" idx="2"/>
            </p:cNvCxnSpPr>
            <p:nvPr/>
          </p:nvCxnSpPr>
          <p:spPr>
            <a:xfrm flipH="1" flipV="1" rot="5400000">
              <a:off x="4256640" y="3899160"/>
              <a:ext cx="558360" cy="17413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7" name="_s2054"/>
            <p:cNvCxnSpPr>
              <a:stCxn id="144" idx="0"/>
              <a:endCxn id="148" idx="2"/>
            </p:cNvCxnSpPr>
            <p:nvPr/>
          </p:nvCxnSpPr>
          <p:spPr>
            <a:xfrm flipV="1" rot="16200000">
              <a:off x="4256280" y="2225160"/>
              <a:ext cx="558360" cy="17413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9" name="_s2055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2515320" y="2224800"/>
              <a:ext cx="558360" cy="1742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48" name="_s2056"/>
            <p:cNvSpPr/>
            <p:nvPr/>
          </p:nvSpPr>
          <p:spPr>
            <a:xfrm>
              <a:off x="2172960" y="1701720"/>
              <a:ext cx="2984760" cy="1115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ункциональные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извод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7"/>
            <p:cNvSpPr/>
            <p:nvPr/>
          </p:nvSpPr>
          <p:spPr>
            <a:xfrm>
              <a:off x="431640" y="3375360"/>
              <a:ext cx="2984760" cy="1115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но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58"/>
            <p:cNvSpPr/>
            <p:nvPr/>
          </p:nvSpPr>
          <p:spPr>
            <a:xfrm>
              <a:off x="3913920" y="3375360"/>
              <a:ext cx="2984760" cy="111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и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9"/>
            <p:cNvSpPr/>
            <p:nvPr/>
          </p:nvSpPr>
          <p:spPr>
            <a:xfrm>
              <a:off x="2172960" y="5049000"/>
              <a:ext cx="2984760" cy="1115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омополи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060"/>
            <p:cNvSpPr/>
            <p:nvPr/>
          </p:nvSpPr>
          <p:spPr>
            <a:xfrm>
              <a:off x="5655240" y="5049000"/>
              <a:ext cx="2984760" cy="1115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етерополи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19" descr="writing"/>
          <p:cNvPicPr/>
          <p:nvPr/>
        </p:nvPicPr>
        <p:blipFill>
          <a:blip r:embed="rId6"/>
          <a:stretch/>
        </p:blipFill>
        <p:spPr>
          <a:xfrm>
            <a:off x="7093080" y="1125360"/>
            <a:ext cx="11746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280" y="333000"/>
            <a:ext cx="543744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лассификация по природе функциональ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50920" y="2204640"/>
            <a:ext cx="21592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кси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325440" y="3716280"/>
          <a:ext cx="150804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3716280"/>
                    <a:ext cx="15080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5"/>
          <p:cNvGraphicFramePr/>
          <p:nvPr/>
        </p:nvGraphicFramePr>
        <p:xfrm>
          <a:off x="4211640" y="5243400"/>
          <a:ext cx="165564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5243400"/>
                    <a:ext cx="16556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4210200" y="4019400"/>
          <a:ext cx="1657080" cy="97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0200" y="4019400"/>
                    <a:ext cx="1657080" cy="9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7"/>
          <p:cNvGraphicFramePr/>
          <p:nvPr/>
        </p:nvGraphicFramePr>
        <p:xfrm>
          <a:off x="395280" y="2241720"/>
          <a:ext cx="1224000" cy="32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2241720"/>
                    <a:ext cx="12240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8"/>
          <p:cNvSpPr/>
          <p:nvPr/>
        </p:nvSpPr>
        <p:spPr>
          <a:xfrm>
            <a:off x="2338560" y="2854440"/>
            <a:ext cx="16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си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4067280" y="220500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067280" y="37306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дег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138560" y="495468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е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2"/>
          <p:cNvGraphicFramePr/>
          <p:nvPr/>
        </p:nvGraphicFramePr>
        <p:xfrm>
          <a:off x="324000" y="2854440"/>
          <a:ext cx="1655640" cy="30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2854440"/>
                    <a:ext cx="16556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3"/>
          <p:cNvSpPr/>
          <p:nvPr/>
        </p:nvSpPr>
        <p:spPr>
          <a:xfrm>
            <a:off x="179280" y="170028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266920" y="17002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4211640" y="170028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7380360" y="170028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179280" y="162864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>
            <a:off x="2050920" y="162864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4138560" y="1628640"/>
            <a:ext cx="180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5938920" y="162864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108000" y="2060640"/>
            <a:ext cx="871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122560" y="3730680"/>
            <a:ext cx="20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ни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4067280" y="28526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6084720" y="170028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>
            <a:off x="7380360" y="162864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6" descr="writing"/>
          <p:cNvPicPr/>
          <p:nvPr/>
        </p:nvPicPr>
        <p:blipFill>
          <a:blip r:embed="rId11"/>
          <a:stretch/>
        </p:blipFill>
        <p:spPr>
          <a:xfrm>
            <a:off x="7524720" y="260280"/>
            <a:ext cx="11746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543564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лассификация по природе функциональ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0920" y="2349000"/>
            <a:ext cx="21592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кси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28"/>
          <p:cNvGraphicFramePr/>
          <p:nvPr/>
        </p:nvGraphicFramePr>
        <p:xfrm>
          <a:off x="250920" y="3213000"/>
          <a:ext cx="158436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13000"/>
                    <a:ext cx="15843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2"/>
          <p:cNvGraphicFramePr/>
          <p:nvPr/>
        </p:nvGraphicFramePr>
        <p:xfrm>
          <a:off x="179280" y="4365720"/>
          <a:ext cx="15829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365720"/>
                    <a:ext cx="15829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3"/>
          <p:cNvSpPr/>
          <p:nvPr/>
        </p:nvSpPr>
        <p:spPr>
          <a:xfrm>
            <a:off x="250920" y="170028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2266920" y="17002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4211640" y="170028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7380360" y="170028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179280" y="162864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2050920" y="1628640"/>
            <a:ext cx="0" cy="489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H="1">
            <a:off x="4138200" y="1628640"/>
            <a:ext cx="1800" cy="489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 flipH="1">
            <a:off x="5938920" y="1628640"/>
            <a:ext cx="1440" cy="496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H="1">
            <a:off x="181080" y="2060640"/>
            <a:ext cx="871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6012000" y="170028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7380360" y="1628640"/>
            <a:ext cx="0" cy="496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27"/>
          <p:cNvGraphicFramePr/>
          <p:nvPr/>
        </p:nvGraphicFramePr>
        <p:xfrm>
          <a:off x="468360" y="2060640"/>
          <a:ext cx="116676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060640"/>
                    <a:ext cx="11667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9"/>
          <p:cNvGraphicFramePr/>
          <p:nvPr/>
        </p:nvGraphicFramePr>
        <p:xfrm>
          <a:off x="395280" y="5805360"/>
          <a:ext cx="151128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5805360"/>
                    <a:ext cx="15112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3"/>
          <p:cNvSpPr/>
          <p:nvPr/>
        </p:nvSpPr>
        <p:spPr>
          <a:xfrm>
            <a:off x="2195640" y="5805360"/>
            <a:ext cx="19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но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4140360" y="234936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новы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4284720" y="350028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6"/>
          <p:cNvSpPr/>
          <p:nvPr/>
        </p:nvSpPr>
        <p:spPr>
          <a:xfrm>
            <a:off x="4211640" y="5805360"/>
            <a:ext cx="16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7"/>
          <p:cNvSpPr/>
          <p:nvPr/>
        </p:nvSpPr>
        <p:spPr>
          <a:xfrm>
            <a:off x="2122560" y="3500280"/>
            <a:ext cx="208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и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286160" y="4653000"/>
            <a:ext cx="151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льф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е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2124000" y="4797360"/>
            <a:ext cx="208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льф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525636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лассификация по природе функциональ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23640" y="2276280"/>
            <a:ext cx="1954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тро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28"/>
          <p:cNvGraphicFramePr/>
          <p:nvPr/>
        </p:nvGraphicFramePr>
        <p:xfrm>
          <a:off x="182520" y="2781360"/>
          <a:ext cx="14335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781360"/>
                    <a:ext cx="14335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5"/>
          <p:cNvSpPr/>
          <p:nvPr/>
        </p:nvSpPr>
        <p:spPr>
          <a:xfrm>
            <a:off x="250920" y="170172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2193840" y="170172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138560" y="1701720"/>
            <a:ext cx="17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7380360" y="170172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179280" y="162864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205092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414036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594036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 flipH="1">
            <a:off x="179280" y="213372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012000" y="170172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738036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7"/>
          <p:cNvGraphicFramePr/>
          <p:nvPr/>
        </p:nvGraphicFramePr>
        <p:xfrm>
          <a:off x="247680" y="2276640"/>
          <a:ext cx="149868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2276640"/>
                    <a:ext cx="14986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18"/>
          <p:cNvSpPr/>
          <p:nvPr/>
        </p:nvSpPr>
        <p:spPr>
          <a:xfrm>
            <a:off x="2556000" y="436572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4140360" y="2276640"/>
            <a:ext cx="180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тросоед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4284720" y="321300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2122560" y="3213000"/>
            <a:ext cx="208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4284720" y="4724280"/>
            <a:ext cx="151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логе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вод- 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37"/>
          <p:cNvGraphicFramePr/>
          <p:nvPr/>
        </p:nvGraphicFramePr>
        <p:xfrm>
          <a:off x="468360" y="4292640"/>
          <a:ext cx="936720" cy="3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292640"/>
                    <a:ext cx="93672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38"/>
          <p:cNvGraphicFramePr/>
          <p:nvPr/>
        </p:nvGraphicFramePr>
        <p:xfrm>
          <a:off x="468360" y="4726080"/>
          <a:ext cx="93672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4726080"/>
                    <a:ext cx="9367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39"/>
          <p:cNvGraphicFramePr/>
          <p:nvPr/>
        </p:nvGraphicFramePr>
        <p:xfrm>
          <a:off x="468360" y="5229360"/>
          <a:ext cx="1008000" cy="2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5229360"/>
                    <a:ext cx="10080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0"/>
          <p:cNvGraphicFramePr/>
          <p:nvPr/>
        </p:nvGraphicFramePr>
        <p:xfrm>
          <a:off x="466560" y="5661000"/>
          <a:ext cx="865440" cy="29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9" name="Object 4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6560" y="5661000"/>
                    <a:ext cx="86544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41"/>
          <p:cNvSpPr/>
          <p:nvPr/>
        </p:nvSpPr>
        <p:spPr>
          <a:xfrm>
            <a:off x="2556000" y="4797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л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2556000" y="52308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2556000" y="56624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178920" y="6093000"/>
            <a:ext cx="871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 какому классу относят соеди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17"/>
          <p:cNvGraphicFramePr/>
          <p:nvPr/>
        </p:nvGraphicFramePr>
        <p:xfrm>
          <a:off x="539640" y="4064040"/>
          <a:ext cx="251964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64040"/>
                    <a:ext cx="251964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4"/>
          <p:cNvGraphicFramePr/>
          <p:nvPr/>
        </p:nvGraphicFramePr>
        <p:xfrm>
          <a:off x="468360" y="2695680"/>
          <a:ext cx="2590920" cy="11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695680"/>
                    <a:ext cx="259092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25"/>
          <p:cNvGraphicFramePr/>
          <p:nvPr/>
        </p:nvGraphicFramePr>
        <p:xfrm>
          <a:off x="539640" y="5346720"/>
          <a:ext cx="34560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346720"/>
                    <a:ext cx="34560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26"/>
          <p:cNvGraphicFramePr/>
          <p:nvPr/>
        </p:nvGraphicFramePr>
        <p:xfrm>
          <a:off x="395280" y="1614600"/>
          <a:ext cx="2305080" cy="93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1614600"/>
                    <a:ext cx="23050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 Box 32"/>
          <p:cNvSpPr/>
          <p:nvPr/>
        </p:nvSpPr>
        <p:spPr>
          <a:xfrm>
            <a:off x="4068720" y="175896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спи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3"/>
          <p:cNvSpPr/>
          <p:nvPr/>
        </p:nvSpPr>
        <p:spPr>
          <a:xfrm>
            <a:off x="4068720" y="28749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углеводород (алк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068720" y="420696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ке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5"/>
          <p:cNvSpPr/>
          <p:nvPr/>
        </p:nvSpPr>
        <p:spPr>
          <a:xfrm>
            <a:off x="4068720" y="5337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непредельный углеводород (ал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7:50:38Z</dcterms:created>
  <dc:creator>Сазонов Василий</dc:creator>
  <dc:description/>
  <dc:language>en-US</dc:language>
  <cp:lastModifiedBy>Сазонов</cp:lastModifiedBy>
  <dcterms:modified xsi:type="dcterms:W3CDTF">2011-09-21T13:51:33Z</dcterms:modified>
  <cp:revision>31</cp:revision>
  <dc:subject/>
  <dc:title>Теория строения органических веществ</dc:title>
</cp:coreProperties>
</file>