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A26-412C-4B78-B31B-0F063F20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103-81E9-4D45-B4B7-ABD8BA1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5AA-78F4-433D-8922-BF2FC80C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146-AA90-41FC-A4F0-A792BF7A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DB0-2C83-418F-9D95-EAC8ED86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83A-261F-4314-8D13-0F6BD5C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842-39DB-4D6F-97E9-AD33D78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F30-E81F-4EDD-A4DA-9E1447A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5D4-6F8D-4E65-A553-4D0FED8B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045-4AE3-4C16-BB92-A11A60A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C4D-ACAC-487F-9F3F-D12306E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77D-3137-4588-9549-4F49E97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155-3B1D-40F2-BC10-968A546B5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урока курса «Основы религиозных культур и светской этики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модулю «Основы  православной культуры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676520" y="609480"/>
            <a:ext cx="701964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а «Основы религиозных культур и светской этики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ду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 светской эти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ь начальных классов МОУ СОШ №3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расе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133720" y="1066680"/>
            <a:ext cx="64008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вод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йшая традиция приношения божествам даров сохранилась в наше время в виде праздничных подарков. Красиво упакованный, подаренный от души подарок говорит о внимании, дружбе и люб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я подарок, надо учитывать характер, увлечения и вкусы человека, которому он предна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Documents and Settings\User\Рабочий стол\Новая папка\день рождения.jpg"/>
          <p:cNvPicPr/>
          <p:nvPr/>
        </p:nvPicPr>
        <p:blipFill>
          <a:blip r:embed="rId1"/>
          <a:stretch/>
        </p:blipFill>
        <p:spPr>
          <a:xfrm>
            <a:off x="7315200" y="1752480"/>
            <a:ext cx="1333440" cy="133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Documents and Settings\User\Рабочий стол\Новая папка\свадьба.jpg"/>
          <p:cNvPicPr/>
          <p:nvPr/>
        </p:nvPicPr>
        <p:blipFill>
          <a:blip r:embed="rId2"/>
          <a:stretch/>
        </p:blipFill>
        <p:spPr>
          <a:xfrm>
            <a:off x="7543800" y="914400"/>
            <a:ext cx="1231920" cy="1650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5562720" y="2743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828800" y="152280"/>
            <a:ext cx="7086600" cy="632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971800" y="380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сударств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297180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D:\Documents and Settings\User\Рабочий стол\Новая папка\Рамка 50.png"/>
          <p:cNvPicPr/>
          <p:nvPr/>
        </p:nvPicPr>
        <p:blipFill>
          <a:blip r:embed="rId4"/>
          <a:stretch/>
        </p:blipFill>
        <p:spPr>
          <a:xfrm>
            <a:off x="7391520" y="1219320"/>
            <a:ext cx="1143000" cy="17017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83" name="Picture 2" descr="D:\Documents and Settings\User\Рабочий стол\Новая папка\pic_2003-02-20_001926.jpg"/>
          <p:cNvPicPr/>
          <p:nvPr/>
        </p:nvPicPr>
        <p:blipFill>
          <a:blip r:embed="rId5"/>
          <a:stretch/>
        </p:blipFill>
        <p:spPr>
          <a:xfrm>
            <a:off x="7238880" y="533520"/>
            <a:ext cx="986040" cy="138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Documents and Settings\User\Рабочий стол\Новая папка\Рамка 59 маленькая.png"/>
          <p:cNvPicPr/>
          <p:nvPr/>
        </p:nvPicPr>
        <p:blipFill>
          <a:blip r:embed="rId6"/>
          <a:stretch/>
        </p:blipFill>
        <p:spPr>
          <a:xfrm>
            <a:off x="7010280" y="2666880"/>
            <a:ext cx="1295640" cy="10922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85" name="Picture 5" descr="D:\Documents and Settings\User\Рабочий стол\Новая папка\день россииё1.jpg"/>
          <p:cNvPicPr/>
          <p:nvPr/>
        </p:nvPicPr>
        <p:blipFill>
          <a:blip r:embed="rId7"/>
          <a:stretch/>
        </p:blipFill>
        <p:spPr>
          <a:xfrm>
            <a:off x="6781680" y="3048120"/>
            <a:ext cx="1371600" cy="914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6" name="Picture 9" descr="D:\Documents and Settings\User\Рабочий стол\Новая папка\день учителя.jpg"/>
          <p:cNvPicPr/>
          <p:nvPr/>
        </p:nvPicPr>
        <p:blipFill>
          <a:blip r:embed="rId8"/>
          <a:stretch/>
        </p:blipFill>
        <p:spPr>
          <a:xfrm>
            <a:off x="6705720" y="1828800"/>
            <a:ext cx="1218960" cy="1249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87" name="TextBox 17"/>
          <p:cNvSpPr/>
          <p:nvPr/>
        </p:nvSpPr>
        <p:spPr>
          <a:xfrm>
            <a:off x="3352680" y="4495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Documents and Settings\User\Рабочий стол\Новая папка\женский день.jpg"/>
          <p:cNvPicPr/>
          <p:nvPr/>
        </p:nvPicPr>
        <p:blipFill>
          <a:blip r:embed="rId9"/>
          <a:stretch/>
        </p:blipFill>
        <p:spPr>
          <a:xfrm>
            <a:off x="8001000" y="2362320"/>
            <a:ext cx="766800" cy="1143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9" name="Picture 4" descr="D:\Documents and Settings\User\Рабочий стол\Новая папка\день победы.jpg"/>
          <p:cNvPicPr/>
          <p:nvPr/>
        </p:nvPicPr>
        <p:blipFill>
          <a:blip r:embed="rId10"/>
          <a:stretch/>
        </p:blipFill>
        <p:spPr>
          <a:xfrm>
            <a:off x="6781680" y="1143000"/>
            <a:ext cx="838440" cy="1177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2"/>
          <p:cNvSpPr/>
          <p:nvPr/>
        </p:nvSpPr>
        <p:spPr>
          <a:xfrm>
            <a:off x="1828800" y="22860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057400" y="609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ую особенность имеют семейные празд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905120" y="44956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можно праздновать в сем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057400" y="22860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напоминания о памятных датах в вашей жизни есть у в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2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Documents and Settings\User\Рабочий стол\Новая папка\подарочки.gif"/>
          <p:cNvPicPr/>
          <p:nvPr/>
        </p:nvPicPr>
        <p:blipFill>
          <a:blip r:embed="rId2"/>
          <a:stretch/>
        </p:blipFill>
        <p:spPr>
          <a:xfrm>
            <a:off x="3200400" y="2514600"/>
            <a:ext cx="3809880" cy="3719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200400" y="6858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формулируйте  три правила удачного семейного праз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:\Documents and Settings\User\Рабочий стол\Новая папка\uvel-steklo-2-2b_thm.jpg"/>
          <p:cNvPicPr/>
          <p:nvPr/>
        </p:nvPicPr>
        <p:blipFill>
          <a:blip r:embed="rId3"/>
          <a:stretch/>
        </p:blipFill>
        <p:spPr>
          <a:xfrm>
            <a:off x="2133720" y="7621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057400" y="762120"/>
            <a:ext cx="6400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крывается фестиваль поздравлени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и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ткры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дарки своими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ocuments and Settings\User\Рабочий стол\Новая папка\5.jpg"/>
          <p:cNvPicPr/>
          <p:nvPr/>
        </p:nvPicPr>
        <p:blipFill>
          <a:blip r:embed="rId5"/>
          <a:stretch/>
        </p:blipFill>
        <p:spPr>
          <a:xfrm>
            <a:off x="6095880" y="4724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Documents and Settings\User\Рабочий стол\Новая папка\Рамка 53.png"/>
          <p:cNvPicPr/>
          <p:nvPr/>
        </p:nvPicPr>
        <p:blipFill>
          <a:blip r:embed="rId6"/>
          <a:stretch/>
        </p:blipFill>
        <p:spPr>
          <a:xfrm>
            <a:off x="4114800" y="4952880"/>
            <a:ext cx="1819440" cy="121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:\Documents and Settings\User\Рабочий стол\Новая папка\день рождения.jpg"/>
          <p:cNvPicPr/>
          <p:nvPr/>
        </p:nvPicPr>
        <p:blipFill>
          <a:blip r:embed="rId7"/>
          <a:stretch/>
        </p:blipFill>
        <p:spPr>
          <a:xfrm>
            <a:off x="2362320" y="47242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2057400" y="838080"/>
            <a:ext cx="632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ель уро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ствовать пониманию важности семейных  праз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очнить понятия «праздник», «ритуал», «пода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реплять умения работать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ть навыки самостоятельной работы с источниками инфор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умение добывать и систематизировать информац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2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1080" y="533520"/>
            <a:ext cx="6705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сть много праздников на св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х любят взрослые и де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исуют открытки, готовят подар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аздники делают жизнь семьи яр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: ученик 4 «А» класса                      Галушкин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14600" y="121932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 праздн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905120" y="762120"/>
            <a:ext cx="70102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 узнае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 как появились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значение имеют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дарок и как его вы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133720" y="342900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ответите на 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особенность семейного праз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3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33720" y="114300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м людям приходилось очень много трудиться. Чтобы облегчить себе труд, они просили себе поддержки, помощи и защиты у разных сил природы. Так возникли праздники, которыми отмечали различные события. Каждый праздник имел свой риту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ый прямоугольник 2"/>
          <p:cNvSpPr/>
          <p:nvPr/>
        </p:nvSpPr>
        <p:spPr>
          <a:xfrm>
            <a:off x="190512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981080" y="16765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каким силам природы обращались древние люд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ни это делал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отмечали праздник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981080" y="4267080"/>
            <a:ext cx="6782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ком современном ритуале сохранилась древнейшая традиция приношения даров божества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м требованиям должен отвечать праздничный подаро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981080" y="30481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праздни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ое значение для людей имеют праздни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ритуа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Documents and Settings\User\Рабочий стол\Новая папка\uvel-steklo-2-2b_thm.jpg"/>
          <p:cNvPicPr/>
          <p:nvPr/>
        </p:nvPicPr>
        <p:blipFill>
          <a:blip r:embed="rId2"/>
          <a:stretch/>
        </p:blipFill>
        <p:spPr>
          <a:xfrm>
            <a:off x="4648320" y="45720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981080" y="762120"/>
            <a:ext cx="67820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блегчить себе труд, люди обращались за помощью к небесным светилам (солнцу, звездам), стихиям (ветру, рекам, океанам), к духам, а позже к б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иносили им дары, пели, танцевали и произносили хвалебные слова. Так возникли праз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ами отмечали всё новое: наступление весны, нового года, рождение новой жизни, свад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2"/>
          <p:cNvSpPr/>
          <p:nvPr/>
        </p:nvSpPr>
        <p:spPr>
          <a:xfrm>
            <a:off x="1828800" y="22860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286000" y="1295280"/>
            <a:ext cx="66294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вод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здни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еселье, торжество, которое устраивается по какому-либо по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 напоминают людям обо всём хорошем, что происходило с ними раньше. В праздниках отражается история жизни каждого человека, народа и государства. Праздники – это историческая память человечества. Каждый праздник имеет свой порядок проведения 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ту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4T19:00:45Z</dcterms:modified>
  <cp:revision>41</cp:revision>
  <dc:subject/>
  <dc:title>Слайд 1</dc:title>
</cp:coreProperties>
</file>