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5B2-DC85-47BE-A385-7B201F77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F1EA-9B29-4B0F-BD75-7A4469A8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98AF-416D-4B36-ABCB-AE05E7BD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A73-9C13-4716-8079-033F28B1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94D-CC87-4C2C-B96B-B9136E36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C95-1469-48F5-B7BB-6994118F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208-E70C-46EC-8B5E-FB08D4BE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698-975A-40D7-917C-BF74A2F6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BFA-6F8F-4AD9-8A53-C8C1561F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7CB-28A2-4256-8B85-CF094147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9EA-C265-42D0-8F2B-07FF69B9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49D-AFB1-47B8-B499-E2A3D0BB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5360-D471-4EF9-81DD-3947BEF77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ект урока курса «Основы религиозных культур и светской этики»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 модулю «Основы  православной культуры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1676520" y="609480"/>
            <a:ext cx="701964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у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а «Основы религиозных культур и светской этики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дул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 светской этик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втор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читель начальных классов МОУ СОШ №3</a:t>
            </a:r>
            <a:br>
              <a:rPr sz="3200"/>
            </a:br>
            <a:r>
              <a:rPr b="1" i="1" lang="ru-RU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расева Н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133720" y="1066680"/>
            <a:ext cx="64008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вод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ейшая традиция приношения божествам даров сохранилась в наше время в виде праздничных подарков. Красиво упакованный, подаренный от души подарок говорит о внимании, дружбе и люб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я подарок, надо учитывать характер, увлечения и вкусы человека, которому он предна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D:\Documents and Settings\User\Рабочий стол\Новая папка\день рождения.jpg"/>
          <p:cNvPicPr/>
          <p:nvPr/>
        </p:nvPicPr>
        <p:blipFill>
          <a:blip r:embed="rId1"/>
          <a:stretch/>
        </p:blipFill>
        <p:spPr>
          <a:xfrm>
            <a:off x="7315200" y="1752480"/>
            <a:ext cx="1333440" cy="1333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Documents and Settings\User\Рабочий стол\Новая папка\свадьба.jpg"/>
          <p:cNvPicPr/>
          <p:nvPr/>
        </p:nvPicPr>
        <p:blipFill>
          <a:blip r:embed="rId2"/>
          <a:stretch/>
        </p:blipFill>
        <p:spPr>
          <a:xfrm>
            <a:off x="7543800" y="914400"/>
            <a:ext cx="1231920" cy="1650960"/>
          </a:xfrm>
          <a:prstGeom prst="rect">
            <a:avLst/>
          </a:prstGeom>
          <a:ln w="0">
            <a:noFill/>
          </a:ln>
        </p:spPr>
      </p:pic>
      <p:sp>
        <p:nvSpPr>
          <p:cNvPr id="77" name="TextBox 14"/>
          <p:cNvSpPr/>
          <p:nvPr/>
        </p:nvSpPr>
        <p:spPr>
          <a:xfrm>
            <a:off x="5562720" y="27432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Скругленный прямоугольник 3"/>
          <p:cNvSpPr/>
          <p:nvPr/>
        </p:nvSpPr>
        <p:spPr>
          <a:xfrm>
            <a:off x="1828800" y="152280"/>
            <a:ext cx="7086600" cy="632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2971800" y="380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сударстве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297180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ро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D:\Documents and Settings\User\Рабочий стол\Новая папка\Рамка 50.png"/>
          <p:cNvPicPr/>
          <p:nvPr/>
        </p:nvPicPr>
        <p:blipFill>
          <a:blip r:embed="rId4"/>
          <a:stretch/>
        </p:blipFill>
        <p:spPr>
          <a:xfrm>
            <a:off x="7391520" y="1219320"/>
            <a:ext cx="1143000" cy="170172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83" name="Picture 2" descr="D:\Documents and Settings\User\Рабочий стол\Новая папка\pic_2003-02-20_001926.jpg"/>
          <p:cNvPicPr/>
          <p:nvPr/>
        </p:nvPicPr>
        <p:blipFill>
          <a:blip r:embed="rId5"/>
          <a:stretch/>
        </p:blipFill>
        <p:spPr>
          <a:xfrm>
            <a:off x="7238880" y="533520"/>
            <a:ext cx="986040" cy="1388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D:\Documents and Settings\User\Рабочий стол\Новая папка\Рамка 59 маленькая.png"/>
          <p:cNvPicPr/>
          <p:nvPr/>
        </p:nvPicPr>
        <p:blipFill>
          <a:blip r:embed="rId6"/>
          <a:stretch/>
        </p:blipFill>
        <p:spPr>
          <a:xfrm>
            <a:off x="7010280" y="2666880"/>
            <a:ext cx="1295640" cy="109224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pic>
        <p:nvPicPr>
          <p:cNvPr id="85" name="Picture 5" descr="D:\Documents and Settings\User\Рабочий стол\Новая папка\день россииё1.jpg"/>
          <p:cNvPicPr/>
          <p:nvPr/>
        </p:nvPicPr>
        <p:blipFill>
          <a:blip r:embed="rId7"/>
          <a:stretch/>
        </p:blipFill>
        <p:spPr>
          <a:xfrm>
            <a:off x="6781680" y="3048120"/>
            <a:ext cx="1371600" cy="9144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86" name="Picture 9" descr="D:\Documents and Settings\User\Рабочий стол\Новая папка\день учителя.jpg"/>
          <p:cNvPicPr/>
          <p:nvPr/>
        </p:nvPicPr>
        <p:blipFill>
          <a:blip r:embed="rId8"/>
          <a:stretch/>
        </p:blipFill>
        <p:spPr>
          <a:xfrm>
            <a:off x="6705720" y="1828800"/>
            <a:ext cx="1218960" cy="12492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87" name="TextBox 17"/>
          <p:cNvSpPr/>
          <p:nvPr/>
        </p:nvSpPr>
        <p:spPr>
          <a:xfrm>
            <a:off x="3352680" y="44956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мей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:\Documents and Settings\User\Рабочий стол\Новая папка\женский день.jpg"/>
          <p:cNvPicPr/>
          <p:nvPr/>
        </p:nvPicPr>
        <p:blipFill>
          <a:blip r:embed="rId9"/>
          <a:stretch/>
        </p:blipFill>
        <p:spPr>
          <a:xfrm>
            <a:off x="8001000" y="2362320"/>
            <a:ext cx="766800" cy="11430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89" name="Picture 4" descr="D:\Documents and Settings\User\Рабочий стол\Новая папка\день победы.jpg"/>
          <p:cNvPicPr/>
          <p:nvPr/>
        </p:nvPicPr>
        <p:blipFill>
          <a:blip r:embed="rId10"/>
          <a:stretch/>
        </p:blipFill>
        <p:spPr>
          <a:xfrm>
            <a:off x="6781680" y="1143000"/>
            <a:ext cx="838440" cy="117792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Скругленный прямоугольник 2"/>
          <p:cNvSpPr/>
          <p:nvPr/>
        </p:nvSpPr>
        <p:spPr>
          <a:xfrm>
            <a:off x="1828800" y="22860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2057400" y="6094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кую особенность имеют семейные праздн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1905120" y="44956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то можно праздновать в семь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057400" y="228600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напоминания о памятных датах в вашей жизни есть у ва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2"/>
          <p:cNvSpPr/>
          <p:nvPr/>
        </p:nvSpPr>
        <p:spPr>
          <a:xfrm>
            <a:off x="1752480" y="304920"/>
            <a:ext cx="716292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D:\Documents and Settings\User\Рабочий стол\Новая папка\подарочки.gif"/>
          <p:cNvPicPr/>
          <p:nvPr/>
        </p:nvPicPr>
        <p:blipFill>
          <a:blip r:embed="rId2"/>
          <a:stretch/>
        </p:blipFill>
        <p:spPr>
          <a:xfrm>
            <a:off x="3200400" y="2514600"/>
            <a:ext cx="3809880" cy="37195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3200400" y="6858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формулируйте  три правила удачного семейного празд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D:\Documents and Settings\User\Рабочий стол\Новая папка\uvel-steklo-2-2b_thm.jpg"/>
          <p:cNvPicPr/>
          <p:nvPr/>
        </p:nvPicPr>
        <p:blipFill>
          <a:blip r:embed="rId3"/>
          <a:stretch/>
        </p:blipFill>
        <p:spPr>
          <a:xfrm>
            <a:off x="2133720" y="7621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057400" y="762120"/>
            <a:ext cx="64008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ткрывается фестиваль поздравлени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тих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ткры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дарки своими ру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D:\Documents and Settings\User\Рабочий стол\Новая папка\5.jpg"/>
          <p:cNvPicPr/>
          <p:nvPr/>
        </p:nvPicPr>
        <p:blipFill>
          <a:blip r:embed="rId5"/>
          <a:stretch/>
        </p:blipFill>
        <p:spPr>
          <a:xfrm>
            <a:off x="6095880" y="47242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Documents and Settings\User\Рабочий стол\Новая папка\Рамка 53.png"/>
          <p:cNvPicPr/>
          <p:nvPr/>
        </p:nvPicPr>
        <p:blipFill>
          <a:blip r:embed="rId6"/>
          <a:stretch/>
        </p:blipFill>
        <p:spPr>
          <a:xfrm>
            <a:off x="4114800" y="4952880"/>
            <a:ext cx="1819440" cy="1211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D:\Documents and Settings\User\Рабочий стол\Новая папка\день рождения.jpg"/>
          <p:cNvPicPr/>
          <p:nvPr/>
        </p:nvPicPr>
        <p:blipFill>
          <a:blip r:embed="rId7"/>
          <a:stretch/>
        </p:blipFill>
        <p:spPr>
          <a:xfrm>
            <a:off x="2362320" y="4724280"/>
            <a:ext cx="13334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2057400" y="838080"/>
            <a:ext cx="6324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Цель урока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собствовать пониманию важности семейных  празд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точнить понятия «праздник», «ритуал», «подар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креплять умения работать в груп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ть навыки самостоятельной работы с источниками информ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умение добывать и систематизировать информац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Скругленный прямоугольник 2"/>
          <p:cNvSpPr/>
          <p:nvPr/>
        </p:nvSpPr>
        <p:spPr>
          <a:xfrm>
            <a:off x="1752480" y="304920"/>
            <a:ext cx="716292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981080" y="533520"/>
            <a:ext cx="6705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Есть много праздников на све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х любят взрослые и де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исуют открытки, готовят подар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аздники делают жизнь семьи ярк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: ученик 4 «А» класса                      Галушкин Анд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514600" y="1219320"/>
            <a:ext cx="5943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мейные праздник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905120" y="762120"/>
            <a:ext cx="701028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 узнает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и как появились праз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значение имеют праз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одарок и как его выби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2133720" y="342900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ответите на вопрос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особенность семейного празд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Скругленный прямоугольник 3"/>
          <p:cNvSpPr/>
          <p:nvPr/>
        </p:nvSpPr>
        <p:spPr>
          <a:xfrm>
            <a:off x="1752480" y="304920"/>
            <a:ext cx="716292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2133720" y="1143000"/>
            <a:ext cx="6705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им людям приходилось очень много трудиться. Чтобы облегчить себе труд, они просили себе поддержки, помощи и защиты у разных сил природы. Так возникли праздники, которыми отмечали различные события. Каждый праздник имел свой риту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Скругленный прямоугольник 2"/>
          <p:cNvSpPr/>
          <p:nvPr/>
        </p:nvSpPr>
        <p:spPr>
          <a:xfrm>
            <a:off x="190512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981080" y="167652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 каким силам природы обращались древние люд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они это делал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отмечали праздникам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981080" y="4267080"/>
            <a:ext cx="6782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 каком современном ритуале сохранилась древнейшая традиция приношения даров божества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аким требованиям должен отвечать праздничный подаро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1981080" y="3048120"/>
            <a:ext cx="67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то такое праздник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акое значение для людей имеют праздник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то такое ритуал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Documents and Settings\User\Рабочий стол\Новая папка\uvel-steklo-2-2b_thm.jpg"/>
          <p:cNvPicPr/>
          <p:nvPr/>
        </p:nvPicPr>
        <p:blipFill>
          <a:blip r:embed="rId2"/>
          <a:stretch/>
        </p:blipFill>
        <p:spPr>
          <a:xfrm>
            <a:off x="4648320" y="45720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2"/>
          <p:cNvSpPr/>
          <p:nvPr/>
        </p:nvSpPr>
        <p:spPr>
          <a:xfrm>
            <a:off x="1828800" y="30492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981080" y="762120"/>
            <a:ext cx="678204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блегчить себе труд, люди обращались за помощью к небесным светилам (солнцу, звездам), стихиям (ветру, рекам, океанам), к духам, а позже к б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приносили им дары, пели, танцевали и произносили хвалебные слова. Так возникли празд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ами отмечали всё новое: наступление весны, нового года, рождение новой жизни, свадь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Скругленный прямоугольник 2"/>
          <p:cNvSpPr/>
          <p:nvPr/>
        </p:nvSpPr>
        <p:spPr>
          <a:xfrm>
            <a:off x="1828800" y="228600"/>
            <a:ext cx="7086600" cy="617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2286000" y="1295280"/>
            <a:ext cx="66294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ывод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здник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еселье, торжество, которое устраивается по какому-либо пов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и напоминают людям обо всём хорошем, что происходило с ними раньше. В праздниках отражается история жизни каждого человека, народа и государства. Праздники – это историческая память человечества. Каждый праздник имеет свой порядок проведения -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иту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3-24T19:00:45Z</dcterms:modified>
  <cp:revision>41</cp:revision>
  <dc:subject/>
  <dc:title>Слайд 1</dc:title>
</cp:coreProperties>
</file>