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478-0DB4-4794-9C06-58DF95C4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7F2-1BE9-4FBA-90EE-E8BEAF5A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14D-F7D1-4528-A7E3-B29FC50D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094-6DEF-4829-B842-D0B7769B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890A-96F1-4AF7-A573-B4F01CD3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B568-D658-4BF0-99AC-5251E5E2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AADE-3AF7-4DB1-A8C5-D5EB9E8A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4D4E-3689-4772-94E6-AAB35450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3782-B869-4C59-B3B2-AA966E6C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5CE4-727B-4B9F-9950-9FDB4EC7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5E0D-FF7D-4FD0-905F-47018DBB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571-DBDE-49B3-8684-0450E637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0F83-8488-4E12-B8C7-617FD1B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C0ED-54EC-41E3-97E6-3B26AED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A4CE-9675-4C0A-ACE3-82DC6D65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8B52-37B3-4245-9DCF-1ADA460C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763A-33BC-44C2-96E5-37ECDD2D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1BB-DF26-485C-95C6-BAB40A40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5FD-6666-43D1-939A-C0D3C78D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F2B-A135-4DB1-94D4-E3B9CCCE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7F7-7922-4917-84BB-C2E52703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7E1-861B-4C3D-B054-53377A47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F54-D28C-4CD4-963B-51F2201F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8D1-1ADB-429C-B97C-851A5C48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7D92-059D-4F04-826E-D2AFBC39DA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FC36-070B-4C10-B353-A08BCD3781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ОУ «Спасская основная общеобразовательная школа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ки Евразии. Янцзы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дготовила: Галузина Полина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еница 7 класса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5" descr="i?id=75227346&amp;tov=8"/>
          <p:cNvPicPr/>
          <p:nvPr/>
        </p:nvPicPr>
        <p:blipFill>
          <a:blip r:embed="rId1"/>
          <a:stretch/>
        </p:blipFill>
        <p:spPr>
          <a:xfrm>
            <a:off x="250920" y="3716280"/>
            <a:ext cx="1800000" cy="129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ЯНЦЗ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НЦЗЫ ( Голубая река, кит. Чанцзян — Длинная река), в Кита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а 5800 км (самая длинная река Китая и Евразии), площадь бассейна 1808,5 тыс. км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а из самых полноводных рек мира. Берет начало в центральной части Тибетского нагор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падает в Восточно-Китайское море двумя основными рукавами, образуя эстуарий (площадь около 80 тыс. км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230px-Yangzi_river_ship_yard_on_river_bank"/>
          <p:cNvPicPr/>
          <p:nvPr/>
        </p:nvPicPr>
        <p:blipFill>
          <a:blip r:embed="rId1"/>
          <a:stretch/>
        </p:blipFill>
        <p:spPr>
          <a:xfrm>
            <a:off x="324000" y="2133720"/>
            <a:ext cx="424800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итание ре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е питание река получает в летний период от муссонных дождей, в верхнем течении — также от таяния горных снегов и ледн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водье и наводнения бывают летом. Крупные наводнения были в 1870, 1896, 1931, 1949, 195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ижнем течении Янцзы испытывает влияние морских приливов, которые распространяются вверх по реке на 750 к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i?id=51291755&amp;tov=8"/>
          <p:cNvPicPr/>
          <p:nvPr/>
        </p:nvPicPr>
        <p:blipFill>
          <a:blip r:embed="rId1"/>
          <a:stretch/>
        </p:blipFill>
        <p:spPr>
          <a:xfrm>
            <a:off x="179280" y="1271520"/>
            <a:ext cx="2305080" cy="163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i?id=22100279&amp;tov=4"/>
          <p:cNvPicPr/>
          <p:nvPr/>
        </p:nvPicPr>
        <p:blipFill>
          <a:blip r:embed="rId2"/>
          <a:stretch/>
        </p:blipFill>
        <p:spPr>
          <a:xfrm>
            <a:off x="2411280" y="2421000"/>
            <a:ext cx="2232000" cy="174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i?id=97848578&amp;tov=2"/>
          <p:cNvPicPr/>
          <p:nvPr/>
        </p:nvPicPr>
        <p:blipFill>
          <a:blip r:embed="rId3"/>
          <a:stretch/>
        </p:blipFill>
        <p:spPr>
          <a:xfrm>
            <a:off x="179280" y="3554280"/>
            <a:ext cx="2292480" cy="172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i?id=35929728&amp;tov=3"/>
          <p:cNvPicPr/>
          <p:nvPr/>
        </p:nvPicPr>
        <p:blipFill>
          <a:blip r:embed="rId4"/>
          <a:stretch/>
        </p:blipFill>
        <p:spPr>
          <a:xfrm>
            <a:off x="2195640" y="4724280"/>
            <a:ext cx="2305080" cy="1879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Голубая р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4390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нцзы выносит к устью много наносов, что вызывает её мутный цвет (название «Голубая река», данное европейцами, не соответствует действительности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чительная часть наносов отлагается в русле, заиливая и повышая русл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большей части течения Янцзы зимой не замерзает, ледостав отмечается только в верховьях, на участках со спокойным теч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230px-Yangtze_at_First_Bridge"/>
          <p:cNvPicPr/>
          <p:nvPr/>
        </p:nvPicPr>
        <p:blipFill>
          <a:blip r:embed="rId1"/>
          <a:stretch/>
        </p:blipFill>
        <p:spPr>
          <a:xfrm>
            <a:off x="4716360" y="1989000"/>
            <a:ext cx="414036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начение ре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ы Янцзы и ее притоков широко используются для оро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роко развит рыбный промысел (карп, толстолобик, белый и черный амур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чительные гидроресурс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оходство. Судоходна на 2850 км. В низовьях Янцзы соединена с Великим кана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водой городов. На Янцзы много городов, но самый большой близ устья — морской порт Шанх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600px-YangtzeWuhanFirstBridge"/>
          <p:cNvPicPr/>
          <p:nvPr/>
        </p:nvPicPr>
        <p:blipFill>
          <a:blip r:embed="rId1"/>
          <a:stretch/>
        </p:blipFill>
        <p:spPr>
          <a:xfrm>
            <a:off x="1979640" y="5084640"/>
            <a:ext cx="5715000" cy="155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?id=14949223&amp;tov=0"/>
          <p:cNvPicPr/>
          <p:nvPr/>
        </p:nvPicPr>
        <p:blipFill>
          <a:blip r:embed="rId2"/>
          <a:stretch/>
        </p:blipFill>
        <p:spPr>
          <a:xfrm>
            <a:off x="324000" y="98280"/>
            <a:ext cx="1616040" cy="120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?id=36753795&amp;tov=8"/>
          <p:cNvPicPr/>
          <p:nvPr/>
        </p:nvPicPr>
        <p:blipFill>
          <a:blip r:embed="rId3"/>
          <a:stretch/>
        </p:blipFill>
        <p:spPr>
          <a:xfrm>
            <a:off x="7093080" y="76320"/>
            <a:ext cx="1655640" cy="1193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8:34:54Z</dcterms:created>
  <dc:creator>ozborn</dc:creator>
  <dc:description/>
  <dc:language>en-US</dc:language>
  <cp:lastModifiedBy>Коля</cp:lastModifiedBy>
  <dcterms:modified xsi:type="dcterms:W3CDTF">2013-06-14T16:17:35Z</dcterms:modified>
  <cp:revision>7</cp:revision>
  <dc:subject/>
  <dc:title>Слайд 1</dc:title>
</cp:coreProperties>
</file>