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1F2-D695-4315-84F4-0D58FCCA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DC72-82FA-4446-A7EB-5490C07A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BA4-2AF9-4A94-A75F-68CBAA6F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F65-045D-4BD8-92E2-BC8F86B6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7A30-6583-4D6D-A36A-5EEA1520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C6B1-05AD-4057-B0ED-0B006152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9177-F5AD-4A95-9E69-D19CA8FA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1FDA-052F-461C-959C-73869E3F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A915-9D07-4F5B-9501-989B0EA7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105F-88B0-4E91-B8AE-ACE133F2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6A13-95A1-4CAA-BB70-EDB373DF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83E-B54B-4C75-ADB1-BF672B14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F280-923F-4243-8556-FE28B9B7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851F-AFF2-4494-9089-B41DEEC2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00E3-88EA-4D5D-9A12-86B42324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C744-5A8F-4FCE-B335-07D78332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B23A-D4FF-4C9A-B3FB-DF7497F3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BD2-A037-48B8-9777-15C38EAF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578-84C9-4E4E-A607-28A0A65A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641-2414-4313-945F-48F2A8B4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990A-27A0-483C-A38F-C241A365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B5C-D088-47F4-B3E2-07783C85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526F-5BFF-464A-882F-2A28CA76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7C1-AE35-4A0D-983E-AFB453D5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BA01-4E8C-4A15-8DF4-998EED3169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9E43-49F9-4F8A-B9C6-61013B0AB56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МОУ «Спасская основная общеобразовательная школа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еки Евразии. Янцзы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одготовила: Галузина Полина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ченица 7 класса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5" descr="i?id=75227346&amp;tov=8"/>
          <p:cNvPicPr/>
          <p:nvPr/>
        </p:nvPicPr>
        <p:blipFill>
          <a:blip r:embed="rId1"/>
          <a:stretch/>
        </p:blipFill>
        <p:spPr>
          <a:xfrm>
            <a:off x="250920" y="3716280"/>
            <a:ext cx="1800000" cy="1290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ЯНЦЗ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НЦЗЫ ( Голубая река, кит. Чанцзян — Длинная река), в Кита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ина 5800 км (самая длинная река Китая и Евразии), площадь бассейна 1808,5 тыс. км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на из самых полноводных рек мира. Берет начало в центральной части Тибетского нагорь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падает в Восточно-Китайское море двумя основными рукавами, образуя эстуарий (площадь около 80 тыс. км2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230px-Yangzi_river_ship_yard_on_river_bank"/>
          <p:cNvPicPr/>
          <p:nvPr/>
        </p:nvPicPr>
        <p:blipFill>
          <a:blip r:embed="rId1"/>
          <a:stretch/>
        </p:blipFill>
        <p:spPr>
          <a:xfrm>
            <a:off x="324000" y="2133720"/>
            <a:ext cx="4248000" cy="3527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итание рек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71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8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ное питание река получает в летний период от муссонных дождей, в верхнем течении — также от таяния горных снегов и ледник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28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оводье и наводнения бывают летом. Крупные наводнения были в 1870, 1896, 1931, 1949, 195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28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ижнем течении Янцзы испытывает влияние морских приливов, которые распространяются вверх по реке на 750 к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6" descr="i?id=51291755&amp;tov=8"/>
          <p:cNvPicPr/>
          <p:nvPr/>
        </p:nvPicPr>
        <p:blipFill>
          <a:blip r:embed="rId1"/>
          <a:stretch/>
        </p:blipFill>
        <p:spPr>
          <a:xfrm>
            <a:off x="179280" y="1271520"/>
            <a:ext cx="2305080" cy="1630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i?id=22100279&amp;tov=4"/>
          <p:cNvPicPr/>
          <p:nvPr/>
        </p:nvPicPr>
        <p:blipFill>
          <a:blip r:embed="rId2"/>
          <a:stretch/>
        </p:blipFill>
        <p:spPr>
          <a:xfrm>
            <a:off x="2411280" y="2421000"/>
            <a:ext cx="2232000" cy="174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i?id=97848578&amp;tov=2"/>
          <p:cNvPicPr/>
          <p:nvPr/>
        </p:nvPicPr>
        <p:blipFill>
          <a:blip r:embed="rId3"/>
          <a:stretch/>
        </p:blipFill>
        <p:spPr>
          <a:xfrm>
            <a:off x="179280" y="3554280"/>
            <a:ext cx="2292480" cy="172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i?id=35929728&amp;tov=3"/>
          <p:cNvPicPr/>
          <p:nvPr/>
        </p:nvPicPr>
        <p:blipFill>
          <a:blip r:embed="rId4"/>
          <a:stretch/>
        </p:blipFill>
        <p:spPr>
          <a:xfrm>
            <a:off x="2195640" y="4724280"/>
            <a:ext cx="2305080" cy="1879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Голубая рек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43909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8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нцзы выносит к устью много наносов, что вызывает её мутный цвет (название «Голубая река», данное европейцами, не соответствует действительности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8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чительная часть наносов отлагается в русле, заиливая и повышая русл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8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большей части течения Янцзы зимой не замерзает, ледостав отмечается только в верховьях, на участках со спокойным течени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9" descr="230px-Yangtze_at_First_Bridge"/>
          <p:cNvPicPr/>
          <p:nvPr/>
        </p:nvPicPr>
        <p:blipFill>
          <a:blip r:embed="rId1"/>
          <a:stretch/>
        </p:blipFill>
        <p:spPr>
          <a:xfrm>
            <a:off x="4716360" y="1989000"/>
            <a:ext cx="4140360" cy="3975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начение рек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ы Янцзы и ее притоков широко используются для орош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ироко развит рыбный промысел (карп, толстолобик, белый и черный амур и др.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чительные гидроресурс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доходство. Судоходна на 2850 км. В низовьях Янцзы соединена с Великим кана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еспечение водой городов. На Янцзы много городов, но самый большой близ устья — морской порт Шанха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600px-YangtzeWuhanFirstBridge"/>
          <p:cNvPicPr/>
          <p:nvPr/>
        </p:nvPicPr>
        <p:blipFill>
          <a:blip r:embed="rId1"/>
          <a:stretch/>
        </p:blipFill>
        <p:spPr>
          <a:xfrm>
            <a:off x="1979640" y="5084640"/>
            <a:ext cx="5715000" cy="1551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i?id=14949223&amp;tov=0"/>
          <p:cNvPicPr/>
          <p:nvPr/>
        </p:nvPicPr>
        <p:blipFill>
          <a:blip r:embed="rId2"/>
          <a:stretch/>
        </p:blipFill>
        <p:spPr>
          <a:xfrm>
            <a:off x="324000" y="98280"/>
            <a:ext cx="1616040" cy="120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i?id=36753795&amp;tov=8"/>
          <p:cNvPicPr/>
          <p:nvPr/>
        </p:nvPicPr>
        <p:blipFill>
          <a:blip r:embed="rId3"/>
          <a:stretch/>
        </p:blipFill>
        <p:spPr>
          <a:xfrm>
            <a:off x="7093080" y="76320"/>
            <a:ext cx="1655640" cy="11937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8:34:54Z</dcterms:created>
  <dc:creator>ozborn</dc:creator>
  <dc:description/>
  <dc:language>en-US</dc:language>
  <cp:lastModifiedBy>Коля</cp:lastModifiedBy>
  <dcterms:modified xsi:type="dcterms:W3CDTF">2013-06-14T16:17:35Z</dcterms:modified>
  <cp:revision>7</cp:revision>
  <dc:subject/>
  <dc:title>Слайд 1</dc:title>
</cp:coreProperties>
</file>