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4C4-F343-422C-A6B4-37C1A4C1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0C3-7210-4604-B3E6-36D88214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1D9-3957-4DF5-8D67-8AE42F07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EF9-970E-49C9-AA65-E47F6C94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9FDC-127F-435E-B8B3-FDBC85D0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2ACB-34D6-42AC-962A-C6EA8ED6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DEBE-A135-41B0-9662-5080B57E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189C-FE8F-43DB-96ED-42B32BA8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A073-4D1B-485C-A36D-4643BBE0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76D9-606E-48B7-8F05-B236D134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2AD-05B2-4D00-8950-B1793672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3E4-E7C2-4A8A-BE58-31CA9FD3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325E-FF4C-46C9-9ADA-7BB48F85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96A6-7D4B-4F67-A225-6040F0BA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3D6F-96C4-4252-A227-8BBD8ED2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E75A-0888-43EA-A0D5-5D700DBE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2BF9-6489-4BD4-9292-809AEB18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501-474B-4CEB-91B8-0CB3B5F2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3A3-0D52-4790-9B48-46F11AB4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543-9C07-4671-9261-A0DA5E57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132-E8BA-406E-B0A3-2816147A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ABB-0411-49E9-8B16-7CE768D0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B44-C354-4664-A347-E107D33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24B-7D4C-4731-B077-C0F411B4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F017-A8DB-4108-9C18-2303FB86B2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F542-67B8-44CD-BE3D-9B77611416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МОУ «Спасская основная общеобразовательная школа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еки Евразии. Янцзы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одготовила: Галузина Полина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ченица 7 класса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5" descr="i?id=75227346&amp;tov=8"/>
          <p:cNvPicPr/>
          <p:nvPr/>
        </p:nvPicPr>
        <p:blipFill>
          <a:blip r:embed="rId1"/>
          <a:stretch/>
        </p:blipFill>
        <p:spPr>
          <a:xfrm>
            <a:off x="250920" y="3716280"/>
            <a:ext cx="1800000" cy="129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ЯНЦЗ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НЦЗЫ ( Голубая река, кит. Чанцзян — Длинная река), в Кита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а 5800 км (самая длинная река Китая и Евразии), площадь бассейна 1808,5 тыс. км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а из самых полноводных рек мира. Берет начало в центральной части Тибетского нагор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падает в Восточно-Китайское море двумя основными рукавами, образуя эстуарий (площадь около 80 тыс. км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230px-Yangzi_river_ship_yard_on_river_bank"/>
          <p:cNvPicPr/>
          <p:nvPr/>
        </p:nvPicPr>
        <p:blipFill>
          <a:blip r:embed="rId1"/>
          <a:stretch/>
        </p:blipFill>
        <p:spPr>
          <a:xfrm>
            <a:off x="324000" y="2133720"/>
            <a:ext cx="4248000" cy="3527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итание ре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ное питание река получает в летний период от муссонных дождей, в верхнем течении — также от таяния горных снегов и ледн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оводье и наводнения бывают летом. Крупные наводнения были в 1870, 1896, 1931, 1949, 195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ижнем течении Янцзы испытывает влияние морских приливов, которые распространяются вверх по реке на 750 к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i?id=51291755&amp;tov=8"/>
          <p:cNvPicPr/>
          <p:nvPr/>
        </p:nvPicPr>
        <p:blipFill>
          <a:blip r:embed="rId1"/>
          <a:stretch/>
        </p:blipFill>
        <p:spPr>
          <a:xfrm>
            <a:off x="179280" y="1271520"/>
            <a:ext cx="2305080" cy="163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i?id=22100279&amp;tov=4"/>
          <p:cNvPicPr/>
          <p:nvPr/>
        </p:nvPicPr>
        <p:blipFill>
          <a:blip r:embed="rId2"/>
          <a:stretch/>
        </p:blipFill>
        <p:spPr>
          <a:xfrm>
            <a:off x="2411280" y="2421000"/>
            <a:ext cx="2232000" cy="174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i?id=97848578&amp;tov=2"/>
          <p:cNvPicPr/>
          <p:nvPr/>
        </p:nvPicPr>
        <p:blipFill>
          <a:blip r:embed="rId3"/>
          <a:stretch/>
        </p:blipFill>
        <p:spPr>
          <a:xfrm>
            <a:off x="179280" y="3554280"/>
            <a:ext cx="2292480" cy="1727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i?id=35929728&amp;tov=3"/>
          <p:cNvPicPr/>
          <p:nvPr/>
        </p:nvPicPr>
        <p:blipFill>
          <a:blip r:embed="rId4"/>
          <a:stretch/>
        </p:blipFill>
        <p:spPr>
          <a:xfrm>
            <a:off x="2195640" y="4724280"/>
            <a:ext cx="2305080" cy="1879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Голубая рек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4390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нцзы выносит к устью много наносов, что вызывает её мутный цвет (название «Голубая река», данное европейцами, не соответствует действительности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чительная часть наносов отлагается в русле, заиливая и повышая русл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8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большей части течения Янцзы зимой не замерзает, ледостав отмечается только в верховьях, на участках со спокойным тече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230px-Yangtze_at_First_Bridge"/>
          <p:cNvPicPr/>
          <p:nvPr/>
        </p:nvPicPr>
        <p:blipFill>
          <a:blip r:embed="rId1"/>
          <a:stretch/>
        </p:blipFill>
        <p:spPr>
          <a:xfrm>
            <a:off x="4716360" y="1989000"/>
            <a:ext cx="414036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начение рек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ы Янцзы и ее притоков широко используются для оро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ироко развит рыбный промысел (карп, толстолобик, белый и черный амур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чительные гидроресурс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оходство. Судоходна на 2850 км. В низовьях Янцзы соединена с Великим кана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водой городов. На Янцзы много городов, но самый большой близ устья — морской порт Шанх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600px-YangtzeWuhanFirstBridge"/>
          <p:cNvPicPr/>
          <p:nvPr/>
        </p:nvPicPr>
        <p:blipFill>
          <a:blip r:embed="rId1"/>
          <a:stretch/>
        </p:blipFill>
        <p:spPr>
          <a:xfrm>
            <a:off x="1979640" y="5084640"/>
            <a:ext cx="5715000" cy="155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?id=14949223&amp;tov=0"/>
          <p:cNvPicPr/>
          <p:nvPr/>
        </p:nvPicPr>
        <p:blipFill>
          <a:blip r:embed="rId2"/>
          <a:stretch/>
        </p:blipFill>
        <p:spPr>
          <a:xfrm>
            <a:off x="324000" y="98280"/>
            <a:ext cx="1616040" cy="120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?id=36753795&amp;tov=8"/>
          <p:cNvPicPr/>
          <p:nvPr/>
        </p:nvPicPr>
        <p:blipFill>
          <a:blip r:embed="rId3"/>
          <a:stretch/>
        </p:blipFill>
        <p:spPr>
          <a:xfrm>
            <a:off x="7093080" y="76320"/>
            <a:ext cx="1655640" cy="11937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8:34:54Z</dcterms:created>
  <dc:creator>ozborn</dc:creator>
  <dc:description/>
  <dc:language>en-US</dc:language>
  <cp:lastModifiedBy>Коля</cp:lastModifiedBy>
  <dcterms:modified xsi:type="dcterms:W3CDTF">2013-06-14T16:17:35Z</dcterms:modified>
  <cp:revision>7</cp:revision>
  <dc:subject/>
  <dc:title>Слайд 1</dc:title>
</cp:coreProperties>
</file>