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947A-0CD2-4437-89C0-F1E88ED31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583B-254A-4EB9-B2A2-683AEFB31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8397-45EE-4022-B975-8BF3F35AC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60C0-D42B-42B2-B36E-272CBF109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9B052-61F9-4A12-A6DA-BCCDF8340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8C7D0-1208-4821-992F-98C5D5F0D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44BF4-C401-4BBF-9B92-7B29B1BD0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93556-EA03-4F23-886C-D7659722E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B1326-AD29-480B-90A9-69AF8C55F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DFFF4-0598-4A84-B7D7-F7B6B2629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C1D0D-E340-4509-8F23-847AF42CA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9741-A569-4860-AD64-A6D75D9E6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CF917-9461-4A6C-84F8-92BEB0DB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83EE9-EC6F-46BD-937D-879C714C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6C168-F438-4D25-A39F-1DA264DBE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6D89D-E819-4F04-8DE1-D74FA2B17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44010-D975-4920-9E0C-098E454F4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1CC523-3CC0-447F-91B7-2324BC6C0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7EE56E-49AD-48CC-AD56-DA61215E3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31DFDD-A754-436D-A99B-128CFA19B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4B43B4-06BA-4A31-A3C4-D819DF811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E07D86-4361-4E1C-95B9-804BB53A5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8C9D-8D4B-4F81-8AA0-049EC648E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E354D8-CA47-420A-A3FD-07E81D344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D7D559-F1AC-421C-9AEF-45D830230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A43051-510E-412E-B51A-44857C456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3709C5-672B-4F6F-8DB0-E69C9D4E3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5CAF50-B713-47A8-A5C2-35724FE3E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B37A2A-AE12-4C49-81A2-E11384C21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391A05-B4B8-416B-A8A5-563775C97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73511-7140-4EC1-987E-9273661A8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7A106-7F3E-4DDC-B9AB-F9C5E4123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39D3B-5A1E-41A1-B382-8991A72F8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FD6B-9854-4E15-9840-45F3254CA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BE6A9-C4F4-4424-B846-E8DC99BA2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55951-A4CC-45E9-8FAE-C258D73DB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B7314-8E14-4CF4-A92D-A6414B3B5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26575-F019-4843-A60E-6D3744768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79E37-6BED-4B55-B19B-BE8F5FCC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9D464-63CF-4BCF-9B72-6E4084B44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20ED2-76BC-4979-A3B6-7C3DA77FA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F9EBD-8A97-4D7B-9056-93C000ADF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29556-84C4-40F6-98BE-13FC43D4C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BA8417-A8FC-4820-B5E0-C08AD0EE1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202A-A785-4769-8218-DE8464E13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47C92D-B5C7-4E45-942F-A6F742CC8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DBA89F-2B12-4FCB-AD81-DEC5D64FE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F111ED-F09F-4997-8816-360187BD5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94F345-6039-40F3-B65F-D66B86CBC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1BF506-9A5F-49C9-84C4-ECB2EF033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CDE649-A746-4A7E-B5AF-03571281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4E1AAF-CD09-461B-A500-25D94F59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5E0E8C-44D2-4F29-ABCC-FEF3A9B7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708895-555C-4D2B-AD35-5E68AEF20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641CBC-DBC5-4A01-B783-58178FBBB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A4D4-101A-4AA9-875B-F8F40052D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C81092-0A01-4FF7-A133-A60BC05CC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9A93A1-3971-4CEB-9961-FF12C82CA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742AD8-FAB3-4005-9EEE-3D5CF73DA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3A8F62-C2D1-4705-B8CA-4D615A07C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068A2D-E8B4-4E73-8957-F35A84E60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C32BD6-9014-43E2-B59F-B8AD97508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2C11FC-F302-4C6B-9792-80F775812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D4A100-415D-44A7-832D-EEBA93B4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B3F94E-5D50-4DA3-B2B7-6482CD98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BDBB26-8436-4D1A-8D0E-71814B04D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501E-3F2C-4350-A369-D60F7D86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4D6AEC-EB9A-42E5-BAFA-FACA2A157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1128D3-7047-4419-8AAA-A2E54BB24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02E176-6869-47BA-BA30-3E36C7050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BCDB76-D985-4F99-A679-1C4993B8C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D6A939-573C-4BD4-B85D-AFC365FD3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AE4FCD-37A6-4822-B082-C99B40126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2826FE-BB9F-4CEC-8A9D-FE4AAF97A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BAF6CD-48A0-4348-AB5D-2F994BD8D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78DE26-800D-4CFA-8B43-98A81D8F6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C3F873-CCF2-431A-9A41-12F94A567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6EE6-A3EB-4A37-AE9D-9E7617EEA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ABDB80-5273-4C03-9E6C-1F25ABF59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984565-ED8A-46E1-AFB9-70FE74A4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8CF1D9-F6E8-40AE-961F-C7AF277D0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94211E-7164-4D67-9042-5280DB97F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7A469A-CD19-4DE6-B380-F9095D1AA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1A0A-EF36-4663-A8E6-E5BCE1257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3C254-9ADE-41C5-A659-0DFAE5E2721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9D5D1-FC3C-4337-9B47-B7B5F929D1A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7F416-A5CE-4BFF-9D0E-91830B0815C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BA6A1-7274-4CD1-9D0B-65A7AA33E71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72232-DB34-49C8-873F-40A84996A04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2FC41-ED13-421C-A39E-B232660F6FF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86468-541F-46B7-914D-E5671F5C513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1143000"/>
            <a:ext cx="6172200" cy="38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575f6d"/>
                </a:solidFill>
                <a:uFillTx/>
                <a:latin typeface="Monotype Corsiva"/>
              </a:rPr>
              <a:t>ТЕМА УРОКА:</a:t>
            </a:r>
            <a:br>
              <a:rPr sz="5400"/>
            </a:br>
            <a:r>
              <a:rPr b="1" lang="en-US" sz="4800" spc="-1" strike="noStrike">
                <a:solidFill>
                  <a:srgbClr val="575f6d"/>
                </a:solidFill>
                <a:latin typeface="Monotype Corsiva"/>
              </a:rPr>
              <a:t>СВОЙСТВА ФУНКЦИЙ НЕПРЕРЫВНЫХ НА ОТРЕЗКЕ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85480" y="274680"/>
            <a:ext cx="835812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ДОКАЖИТЕ, ЧТО СЛЕДУЮЩИЕ УРАВНЕНИЯ ИМЕЮТ  ЕДИНСТВЕННОЕ РЕШЕНИЕ И УКАЖИТЕ РЕШЕНИЕ КАЖДОГО ИЗ УРАВНЕНИЙ: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" name="Object 1"/>
              <p:cNvSpPr txBox="1"/>
              <p:nvPr/>
            </p:nvSpPr>
            <p:spPr>
              <a:xfrm>
                <a:off x="1928880" y="2000160"/>
                <a:ext cx="4846680" cy="400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e>
                      <m:e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  <m:e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</m:e>
                        </m:rad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972560" cy="15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ДОКАЖИТЕ, ЧТО СЛЕДУЮЩИЕ УРАВНЕНИЯ НЕ ИМЕЮТ РЕШЕНИЙ: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Object 1"/>
              <p:cNvSpPr txBox="1"/>
              <p:nvPr/>
            </p:nvSpPr>
            <p:spPr>
              <a:xfrm>
                <a:off x="1857240" y="2428920"/>
                <a:ext cx="5227920" cy="278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</m:e>
                        </m:rad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9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РЕШИМ УРАВНЕНИЕ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500040" y="1643040"/>
            <a:ext cx="821520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28960" indent="-228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Это уравнение определено при х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&gt;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-3.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 Использование определения логарифма в данном случае приводит к трудно разрешимому уравнению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28960" indent="-228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Поступим иначе, введем в рассмотрение функцию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28960" indent="-228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28960" indent="-228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Тогда исходное уравнение примет вид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28960" indent="-228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Функция         монотонно возрастает на (-3;+∞), поэтому уравнение имеет единственный корень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28960" indent="-228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х = 2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9" name="Object 1"/>
              <p:cNvSpPr txBox="1"/>
              <p:nvPr/>
            </p:nvSpPr>
            <p:spPr>
              <a:xfrm>
                <a:off x="4500720" y="1197000"/>
                <a:ext cx="271440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1" name="Object 3"/>
              <p:cNvSpPr txBox="1"/>
              <p:nvPr/>
            </p:nvSpPr>
            <p:spPr>
              <a:xfrm>
                <a:off x="2643120" y="2928960"/>
                <a:ext cx="17859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9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3" name="Object 5"/>
              <p:cNvSpPr txBox="1"/>
              <p:nvPr/>
            </p:nvSpPr>
            <p:spPr>
              <a:xfrm>
                <a:off x="2357280" y="3929040"/>
                <a:ext cx="285768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Object 7"/>
              <p:cNvSpPr txBox="1"/>
              <p:nvPr/>
            </p:nvSpPr>
            <p:spPr>
              <a:xfrm>
                <a:off x="6929280" y="4572000"/>
                <a:ext cx="116388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Object 9"/>
              <p:cNvSpPr txBox="1"/>
              <p:nvPr/>
            </p:nvSpPr>
            <p:spPr>
              <a:xfrm>
                <a:off x="2357280" y="5072040"/>
                <a:ext cx="71460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Monotype Corsiva"/>
              </a:rPr>
              <a:t>ДОМАШНЕЕ ЗАДАНИЕ: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Object 1"/>
              <p:cNvSpPr txBox="1"/>
              <p:nvPr/>
            </p:nvSpPr>
            <p:spPr>
              <a:xfrm>
                <a:off x="1928880" y="1857240"/>
                <a:ext cx="5003640" cy="335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  <m:e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75f6d"/>
                </a:solidFill>
                <a:latin typeface="Monotype Corsiva"/>
              </a:rPr>
              <a:t>ОТВЕТИТЬ НА ВОПРОСЫ: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8040" indent="-2480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Дайте определение монотонно возрастающей (убывающей) функции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Дайте определение функции непрерывной в точке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Дайте определение функции непрерывной на промежутке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формулируйте теорему Больцано-Коши (о промежуточных значениях)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формулируйте теорему о корне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РАССМОТРИМ ФУНКЦИЮ</a:t>
            </a:r>
            <a:br>
              <a:rPr sz="3000"/>
            </a:b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И ОТВЕТИМ НА ВОПРОСЫ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акова область определения этой функции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акова ее область значений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Является ли эта функция монотонной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аков характер ее монотонности (возрастает, убывает)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ожет ли эта функция принимать значение равное 0? 1? 5? 14? Почему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 каком х значение функции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(x)=3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Object 1"/>
              <p:cNvSpPr txBox="1"/>
              <p:nvPr/>
            </p:nvSpPr>
            <p:spPr>
              <a:xfrm>
                <a:off x="5143680" y="428760"/>
                <a:ext cx="2315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75f6d"/>
                </a:solidFill>
                <a:latin typeface="Monotype Corsiva"/>
              </a:rPr>
              <a:t>ТЕОРЕМА БОЛЬЦАНО-КОШИ: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37240" indent="-237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Если функция непрерывна на отрезке и на концах его принимает значения противоположных знаков, то внутри отрезка существует по крайней мере одна точка, в которой функция принимает значение равное нулю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Monotype Corsiva"/>
              </a:rPr>
              <a:t>ЗАДАЧА: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ВЫЧИСЛИТЬ КОРЕНЬ УРАВНЕНИЯ 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НА ОТРЕЗКЕ </a:t>
            </a: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[-1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;</a:t>
            </a: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0]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Object 1"/>
              <p:cNvSpPr txBox="1"/>
              <p:nvPr/>
            </p:nvSpPr>
            <p:spPr>
              <a:xfrm>
                <a:off x="2428920" y="2714760"/>
                <a:ext cx="3429000" cy="75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575f6d"/>
                </a:solidFill>
                <a:uFillTx/>
                <a:latin typeface="Monotype Corsiva"/>
              </a:rPr>
              <a:t>РЕШЕНИЕ: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4071600"/>
            <a:ext cx="746748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В отрезке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[-0,4;-0,3]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будет находиться корень уравнения,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x ≈-0,3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1"/>
              <p:cNvSpPr txBox="1"/>
              <p:nvPr/>
            </p:nvSpPr>
            <p:spPr>
              <a:xfrm>
                <a:off x="428760" y="1428840"/>
                <a:ext cx="4500360" cy="30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0,9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0,8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0,4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64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0,3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73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75f6d"/>
                </a:solidFill>
                <a:latin typeface="Monotype Corsiva"/>
              </a:rPr>
              <a:t>ТЕОРЕМА О КОРНЕ: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Если функция 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f(x)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 определена на множестве 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I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 и монотонно возрастает (убывает) на нем, то уравнение 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f(x)=a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имеет единственное решение, если а принадлежит множеству значений функции 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f(x)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 и не имеет решений, если число а этому множеству не принадлежит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25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Monotype Corsiva"/>
              </a:rPr>
              <a:t>ЗАДАЧА: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РЕШИТЬ УРАВНЕНИЕ 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Object 1"/>
              <p:cNvSpPr txBox="1"/>
              <p:nvPr/>
            </p:nvSpPr>
            <p:spPr>
              <a:xfrm>
                <a:off x="2714760" y="2928960"/>
                <a:ext cx="384012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Monotype Corsiva"/>
              </a:rPr>
              <a:t>РЕШЕНИЕ: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28400" y="1571400"/>
            <a:ext cx="746748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40120" indent="-240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=2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является корнем уравнения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40120" indent="-240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Рассмотрим функцию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40120" indent="-240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Исходное уравнение примет вид: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40120" indent="-240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Функция           определена на множестве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[1;+∞)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и монотонно возрастает на нем (как сумма возрастающих функций). По теореме о корне х =2 является единственным корнем уравнения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5" name="Object 1"/>
              <p:cNvSpPr txBox="1"/>
              <p:nvPr/>
            </p:nvSpPr>
            <p:spPr>
              <a:xfrm>
                <a:off x="4071960" y="2143080"/>
                <a:ext cx="36003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7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Object 3"/>
              <p:cNvSpPr txBox="1"/>
              <p:nvPr/>
            </p:nvSpPr>
            <p:spPr>
              <a:xfrm>
                <a:off x="5572080" y="2786040"/>
                <a:ext cx="10717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Object 5"/>
              <p:cNvSpPr txBox="1"/>
              <p:nvPr/>
            </p:nvSpPr>
            <p:spPr>
              <a:xfrm>
                <a:off x="2143080" y="3357720"/>
                <a:ext cx="69048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3T13:21:26Z</dcterms:created>
  <dc:creator>Маша</dc:creator>
  <dc:description/>
  <dc:language>en-US</dc:language>
  <cp:lastModifiedBy>Маша</cp:lastModifiedBy>
  <dcterms:modified xsi:type="dcterms:W3CDTF">2010-09-14T15:14:01Z</dcterms:modified>
  <cp:revision>10</cp:revision>
  <dc:subject/>
  <dc:title>Тема урока: Свойства функций непрерывных на отрезке</dc:title>
</cp:coreProperties>
</file>