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02F-536E-486C-99AB-6B2D52EC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D49-6E62-44CC-BD3D-3DB33AAD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A2A-EDF9-4E03-8390-E4112BC3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E5A-4600-4A64-AFB9-8AA69103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2924-88DE-4710-9DAC-680BC891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926A-E763-450D-93BE-75F43C94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6826-E69C-4BBD-A9D3-C1732700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C536-429C-49E2-80DE-9D8CEEA8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8D27-E28D-49A5-87B8-AED20829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4C80-B707-4621-B916-81849643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41CC-D97F-4A35-ABA3-1F28E741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53E-2476-435B-AAE3-81CBFBD3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3449-CB09-4D83-982D-CFA737E6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4114-AD19-4751-9E11-CB270762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36FA-9A28-4EC4-B4DD-B1F0AF87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9E3F-8D86-4257-9BAF-64E26765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7C87-5AD2-4206-B06E-1E3D2857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493BE-D59C-49B0-A153-E59BFC97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E1A16-9DAC-4907-A189-7C777A2C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19224-2DD3-48C6-AF5C-3BC3FA3B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67DED-8DD5-4C07-9A0A-E3017922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6039F-CD9B-413F-AC23-F05A8B07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2C6-1AE7-40DA-89C4-E63DC6EB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A3256-EBBE-47BA-BB60-0FF7719D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469D9-75F0-44B0-A55A-A72AC30F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1B1F5-ED8B-4C75-A4A1-BD39B8E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ED5CE-848C-4F19-86EA-BC7F06A5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E8FC2-E140-4CE5-B620-7E019AA8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A2F77-7C2D-42CC-9F7D-602AB596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B544E-383F-490C-AEEB-747A114E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6A53-33D3-4E45-B346-C367A7D8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69908-BA6C-4432-8626-355E5989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1A018-5374-46DA-8807-FEF740E7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3EA-02C9-4653-8E12-A0100C89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7548-72E8-4E27-9B0C-D2DC9041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71D7F-C725-42EE-BC0F-10FAE8BE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0D0D-DC28-4FA1-8499-52A1437D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EF4D8-1F5E-48A9-94DA-3B6D055E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AB52-3019-45C6-917E-B96778D1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E5CB6-0928-4173-A256-C75F58F4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779DD-25E5-4284-933F-B2E698F3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152C-46E2-4BDC-AE5D-579B2311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103F-338B-4F4F-9A11-57A2AC2D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4165C-63F2-4AC0-AF03-50D78705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9B4-2535-411F-AEE1-090E12D0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76348-1C14-44AE-8CF7-6A0B82C4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1DBE2-0CCA-4526-B8F7-CAA409BF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28E5B-DF9D-427A-B4A7-C29E523B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50A2C-FDED-4505-A8C1-5565DDD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07D16-81C4-4D05-82F9-B63CA944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40CA3-DFCA-4310-BE6C-EE715660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D7471-FB67-4F3D-A554-F4DE291B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CD297-F6A6-42A6-817D-EB54807F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F77D0-35D8-40FD-98D9-1D3513ED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60483-E3B5-4FF8-BB29-E447A76F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55B-3A65-471C-90E9-01F888FA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DACAA-6C90-450F-9983-776F1F0D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DF9ED-E8D0-4D17-A178-6EC23016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122BE-A130-4BF3-9486-5C8A07A5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D9020-61F3-4E49-A210-34F94AAA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698CA-3E19-4345-BC08-5ABBF445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186B0-B459-4002-B5A4-B79EDA32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D1965-AFD4-4CEA-8BC5-7755DE0E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6C4F2-CF5C-4806-9B10-6179468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C6FA1-E6B2-4372-B70D-78306F5A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374A6-FE67-43D3-B860-F5C1E7D7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3CC-0483-41E5-BAE2-DC0D3CD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56361-A59F-4056-B031-CC06C662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A5A68-6B29-4B8E-890A-B192E20E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EBB511-ECB2-48DF-9C1E-FF6CC19B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93BCA-E5C0-4659-878E-313E504E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8BC9D-94B2-4142-B033-D05A79B7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6A899-5969-4E8A-87EB-0F1DDE2B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44D5C-49A2-46D9-860F-3F80A896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F61773-9BA0-40F6-B3AE-28E423C9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DA89A-FD1D-42E8-8EF8-49D0D49F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91982-D37B-4D96-914A-EFACA33F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A54-A9A5-4165-BB29-2C3C367F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2AA4A-D894-4696-8F8F-CFE7C99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C38F7-1361-4C9A-9512-16A59300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137AF-7069-4DCB-B284-59523805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50FA4-11F9-40FB-9920-12A5F12D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E3CF4-6753-47A2-ACCE-4F594EEF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889-62D6-420E-9046-86F4C0D2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ACCB-ED76-44C1-89D2-5B02574101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E963-DE02-4B7D-A3B8-B144183076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87D1-35FF-4522-B25E-698F63DC28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A3CE-FC13-440F-BC33-BF921814A5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8A00-E665-4422-AFDA-1F7BBE2617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080E-7D08-4905-A0CC-7F6C8B4CCE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4AD9-E3A9-412C-B8BC-0F45289CCC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6172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575f6d"/>
                </a:solidFill>
                <a:uFillTx/>
                <a:latin typeface="Monotype Corsiva"/>
              </a:rPr>
              <a:t>ТЕМА УРОКА:</a:t>
            </a:r>
            <a:br>
              <a:rPr sz="5400"/>
            </a:br>
            <a:r>
              <a:rPr b="1" lang="en-US" sz="4800" spc="-1" strike="noStrike">
                <a:solidFill>
                  <a:srgbClr val="575f6d"/>
                </a:solidFill>
                <a:latin typeface="Monotype Corsiva"/>
              </a:rPr>
              <a:t>СВОЙСТВА ФУНКЦИЙ НЕПРЕРЫВНЫХ НА ОТРЕЗКЕ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3581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ДОКАЖИТЕ, ЧТО СЛЕДУЮЩИЕ УРАВНЕНИЯ ИМЕЮТ  ЕДИНСТВЕННОЕ РЕШЕНИЕ И УКАЖИТЕ РЕШЕНИЕ КАЖДОГО ИЗ УРАВНЕНИЙ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1"/>
              <p:cNvSpPr txBox="1"/>
              <p:nvPr/>
            </p:nvSpPr>
            <p:spPr>
              <a:xfrm>
                <a:off x="1928880" y="2000160"/>
                <a:ext cx="4846680" cy="400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ДОКАЖИТЕ, ЧТО СЛЕДУЮЩИЕ УРАВНЕНИЯ НЕ ИМЕЮТ РЕШЕНИЙ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"/>
              <p:cNvSpPr txBox="1"/>
              <p:nvPr/>
            </p:nvSpPr>
            <p:spPr>
              <a:xfrm>
                <a:off x="1857240" y="2428920"/>
                <a:ext cx="5227920" cy="27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РЕШИМ УРАВНЕНИЕ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00040" y="1643040"/>
            <a:ext cx="82152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Это уравнение определено при х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-3.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Использование определения логарифма в данном случае приводит к трудно разрешимому уравнению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тупим иначе, введем в рассмотрение функцию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огда исходное уравнение примет вид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Функция         монотонно возрастает на (-3;+∞), поэтому уравнение имеет единственный корень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 = 2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"/>
              <p:cNvSpPr txBox="1"/>
              <p:nvPr/>
            </p:nvSpPr>
            <p:spPr>
              <a:xfrm>
                <a:off x="4500720" y="1197000"/>
                <a:ext cx="2714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2643120" y="2928960"/>
                <a:ext cx="1785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5"/>
              <p:cNvSpPr txBox="1"/>
              <p:nvPr/>
            </p:nvSpPr>
            <p:spPr>
              <a:xfrm>
                <a:off x="2357280" y="3929040"/>
                <a:ext cx="28576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7"/>
              <p:cNvSpPr txBox="1"/>
              <p:nvPr/>
            </p:nvSpPr>
            <p:spPr>
              <a:xfrm>
                <a:off x="6929280" y="4572000"/>
                <a:ext cx="1163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2357280" y="5072040"/>
                <a:ext cx="714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ДОМАШНЕЕ ЗАДАНИЕ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"/>
              <p:cNvSpPr txBox="1"/>
              <p:nvPr/>
            </p:nvSpPr>
            <p:spPr>
              <a:xfrm>
                <a:off x="1928880" y="1857240"/>
                <a:ext cx="5003640" cy="335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Monotype Corsiva"/>
              </a:rPr>
              <a:t>ОТВЕТИТЬ НА ВОПРОСЫ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йте определение монотонно возрастающей (убывающей) функции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йте определение функции непрерывной в точке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йте определение функции непрерывной на промежутке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формулируйте теорему Больцано-Коши (о промежуточных значениях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формулируйте теорему о корн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РАССМОТРИМ ФУНКЦИЮ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И ОТВЕТИМ НА ВОПРОС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ва область определения этой функци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ва ее область значений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вляется ли эта функция монотонной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в характер ее монотонности (возрастает, убывает)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жет ли эта функция принимать значение равное 0? 1? 5? 14? Почем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каком х значение функции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(x)=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1"/>
              <p:cNvSpPr txBox="1"/>
              <p:nvPr/>
            </p:nvSpPr>
            <p:spPr>
              <a:xfrm>
                <a:off x="5143680" y="428760"/>
                <a:ext cx="2315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Monotype Corsiva"/>
              </a:rPr>
              <a:t>ТЕОРЕМА БОЛЬЦАНО-КОШИ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Если функция непрерывна на отрезке и на концах его принимает значения противоположных знаков, то внутри отрезка существует по крайней мере одна точка, в которой функция принимает значение равное нулю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ЗАДАЧА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ЫЧИСЛИТЬ КОРЕНЬ УРАВНЕНИЯ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А ОТРЕЗКЕ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[-1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;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0]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"/>
              <p:cNvSpPr txBox="1"/>
              <p:nvPr/>
            </p:nvSpPr>
            <p:spPr>
              <a:xfrm>
                <a:off x="2428920" y="2714760"/>
                <a:ext cx="3429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575f6d"/>
                </a:solidFill>
                <a:uFillTx/>
                <a:latin typeface="Monotype Corsiva"/>
              </a:rPr>
              <a:t>РЕШЕНИЕ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407160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отрезке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[-0,4;-0,3]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будет находиться корень уравнения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 ≈-0,3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428760" y="1428840"/>
                <a:ext cx="4500360" cy="30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9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,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,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3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Monotype Corsiva"/>
              </a:rPr>
              <a:t>ТЕОРЕМА О КОРНЕ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Если функция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определена на множестве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и монотонно возрастает (убывает) на нем, то уравнение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f(x)=a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меет единственное решение, если а принадлежит множеству значений функции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и не имеет решений, если число а этому множеству не принадлежит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ЗАДАЧА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РЕШИТЬ УРАВНЕНИЕ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1"/>
              <p:cNvSpPr txBox="1"/>
              <p:nvPr/>
            </p:nvSpPr>
            <p:spPr>
              <a:xfrm>
                <a:off x="2714760" y="2928960"/>
                <a:ext cx="38401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РЕШЕНИЕ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28400" y="1571400"/>
            <a:ext cx="74674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=2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вляется корнем уравнения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ссмотрим функцию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сходное уравнение примет вид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ункция           определена на множестве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[1;+∞)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и монотонно возрастает на нем (как сумма возрастающих функций). По теореме о корне х =2 является единственным корнем уравн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"/>
              <p:cNvSpPr txBox="1"/>
              <p:nvPr/>
            </p:nvSpPr>
            <p:spPr>
              <a:xfrm>
                <a:off x="4071960" y="2143080"/>
                <a:ext cx="3600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5572080" y="2786040"/>
                <a:ext cx="1071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2143080" y="3357720"/>
                <a:ext cx="6904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3:21:26Z</dcterms:created>
  <dc:creator>Маша</dc:creator>
  <dc:description/>
  <dc:language>en-US</dc:language>
  <cp:lastModifiedBy>Маша</cp:lastModifiedBy>
  <dcterms:modified xsi:type="dcterms:W3CDTF">2010-09-14T15:14:01Z</dcterms:modified>
  <cp:revision>10</cp:revision>
  <dc:subject/>
  <dc:title>Тема урока: Свойства функций непрерывных на отрезке</dc:title>
</cp:coreProperties>
</file>