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116-44C9-4DE5-89F9-AFC9D5BE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F84E-9628-4F4B-B20C-325ECBA0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920-1ED4-4581-8089-7A903902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4AD-B95E-4334-B5B2-88B02824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6C8-504D-42C3-8509-AB030CB7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B9F-931E-4EEF-B9CF-12BCB2D6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C18D-9929-40ED-82B3-5D2B094F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172-2492-4A63-B5BB-27FE3393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E8CC-D14C-4DA4-A4B3-56871DFC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A6C-ED03-480E-BA08-1C6E104C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C4A-2B51-4275-A356-3DB83292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909D-E81B-4850-9F09-69B531CD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AD7D-8F94-4DD1-87C0-500CE272C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836640"/>
            <a:ext cx="727416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множение и 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лодотворение 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растений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Размножение - </a:t>
            </a:r>
            <a:r>
              <a:rPr b="1" lang="en-US" sz="6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2708280"/>
            <a:ext cx="2376720" cy="91440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беспо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96000" y="2781360"/>
            <a:ext cx="2376360" cy="91440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поло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700360" y="1197000"/>
            <a:ext cx="15112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11640" y="1197000"/>
            <a:ext cx="208908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4508640"/>
            <a:ext cx="914400" cy="144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16720" y="4437000"/>
            <a:ext cx="914400" cy="144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3645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77080" y="37162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Бесполое 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2492280"/>
            <a:ext cx="3024360" cy="914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Вегетатив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раз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2492280"/>
            <a:ext cx="3024360" cy="914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Размно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спо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933720"/>
            <a:ext cx="3024360" cy="2519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Ли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обе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Кор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4005360"/>
            <a:ext cx="3024360" cy="2448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Спорами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059280" y="1268280"/>
            <a:ext cx="12254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1268280"/>
            <a:ext cx="1584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1484280"/>
            <a:ext cx="7777080" cy="91440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Взрослые родительские орган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708280"/>
            <a:ext cx="2881080" cy="105876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яйце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2708280"/>
            <a:ext cx="2952720" cy="105732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Образ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перми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3933720"/>
            <a:ext cx="3240360" cy="91440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плодо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59280" y="5157720"/>
            <a:ext cx="2592360" cy="50328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иг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6093000"/>
            <a:ext cx="3743280" cy="50940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очерний орга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364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2349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3500280"/>
            <a:ext cx="50328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435280" y="3500280"/>
            <a:ext cx="57636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56000" y="48690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84720" y="5661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10814" r="0" b="5407"/>
          <a:stretch/>
        </p:blipFill>
        <p:spPr>
          <a:xfrm>
            <a:off x="1476360" y="0"/>
            <a:ext cx="6120000" cy="6858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Прорастание пыль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465360" cy="38163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43280" y="2637000"/>
            <a:ext cx="4138920" cy="299052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Оплодотворение - </a:t>
            </a:r>
            <a:r>
              <a:rPr b="1" lang="en-US" sz="6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40038" b="0"/>
          <a:stretch/>
        </p:blipFill>
        <p:spPr>
          <a:xfrm>
            <a:off x="250920" y="1341360"/>
            <a:ext cx="4022640" cy="52516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4284720" y="1484280"/>
            <a:ext cx="3457440" cy="914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Центр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кл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84720" y="2781360"/>
            <a:ext cx="3457440" cy="914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пер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мужские гаме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6067440"/>
            <a:ext cx="3457800" cy="79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емязач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4076640"/>
            <a:ext cx="3457440" cy="84132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яйцекл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843280" y="2349000"/>
            <a:ext cx="144144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843280" y="3284640"/>
            <a:ext cx="144144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627280" y="3357360"/>
            <a:ext cx="1657440" cy="50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95640" y="5229360"/>
            <a:ext cx="129672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4149720"/>
            <a:ext cx="180000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84720" y="5013360"/>
            <a:ext cx="3382920" cy="792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ыльце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тру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589720"/>
            <a:ext cx="100800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280" y="549360"/>
            <a:ext cx="2305080" cy="127296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яйцекл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2781360"/>
            <a:ext cx="720720" cy="57636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620640"/>
            <a:ext cx="2016000" cy="107964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спер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836640"/>
            <a:ext cx="720720" cy="57636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549360"/>
            <a:ext cx="2160720" cy="107928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ро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421000"/>
            <a:ext cx="2305080" cy="129708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Центр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кл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2492280"/>
            <a:ext cx="2016000" cy="107964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спер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2781360"/>
            <a:ext cx="720720" cy="57636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907920"/>
            <a:ext cx="647640" cy="57636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27640" y="2421000"/>
            <a:ext cx="2160720" cy="129708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ндоспе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5157720"/>
            <a:ext cx="3240000" cy="127476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с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8360" y="404640"/>
            <a:ext cx="287280" cy="3311640"/>
          </a:xfrm>
          <a:custGeom>
            <a:avLst/>
            <a:gdLst>
              <a:gd name="textAreaLeft" fmla="*/ 0 w 287280"/>
              <a:gd name="textAreaRight" fmla="*/ 103680 w 28728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1" idx="1"/>
            <a:endCxn id="100" idx="0"/>
          </p:cNvCxnSpPr>
          <p:nvPr/>
        </p:nvCxnSpPr>
        <p:spPr>
          <a:xfrm flipH="1">
            <a:off x="4463640" y="2060640"/>
            <a:ext cx="4231440" cy="3083760"/>
          </a:xfrm>
          <a:prstGeom prst="bentConnector4">
            <a:avLst>
              <a:gd name="adj1" fmla="val -4909"/>
              <a:gd name="adj2" fmla="val 7708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3:30:22Z</dcterms:created>
  <dc:creator>татьяна</dc:creator>
  <dc:description/>
  <dc:language>en-US</dc:language>
  <cp:lastModifiedBy>biolog</cp:lastModifiedBy>
  <dcterms:modified xsi:type="dcterms:W3CDTF">2009-12-04T12:26:01Z</dcterms:modified>
  <cp:revision>3</cp:revision>
  <dc:subject/>
  <dc:title>Слайд 1</dc:title>
</cp:coreProperties>
</file>