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2F0-DA9F-448F-9F7B-AFF59148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FD0-7339-4AF4-A19B-18821290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E6D-952B-46C3-9EC5-99DFBFCD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A7E-123E-4A85-B67B-DDFF8FBC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75F-DA93-401A-9AA0-62D38B44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BF0-F705-472B-8D2C-3D837489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97A-8FB1-4622-9764-6B91C15E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EA1-2394-4DDD-BF73-C33CA65B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C7A-E51D-4450-B1AE-97DDDEF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B1D-B589-404B-BF97-767BC6CE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BE9-59B5-4FED-9F8C-7EDA126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7DE-AA77-461B-BDD3-758C27BB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9AA8-7FDE-4FF0-8CB5-E2277AE88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836640"/>
            <a:ext cx="72741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ножение и 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лодотворение 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растений</a:t>
            </a:r>
            <a:endParaRPr b="0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Размножение - </a:t>
            </a:r>
            <a:r>
              <a:rPr b="1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2708280"/>
            <a:ext cx="2376720" cy="914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беспо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96000" y="2781360"/>
            <a:ext cx="2376360" cy="914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поло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700360" y="1197000"/>
            <a:ext cx="151128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11640" y="1197000"/>
            <a:ext cx="208908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4508640"/>
            <a:ext cx="914400" cy="144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16720" y="4437000"/>
            <a:ext cx="914400" cy="144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645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7080" y="3716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Бесполое 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492280"/>
            <a:ext cx="302436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Вегетатив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раз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2492280"/>
            <a:ext cx="302436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Размно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сп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933720"/>
            <a:ext cx="3024360" cy="2519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Ли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обе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Кор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4005360"/>
            <a:ext cx="3024360" cy="2448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Спорами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59280" y="1268280"/>
            <a:ext cx="1225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1268280"/>
            <a:ext cx="1584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1484280"/>
            <a:ext cx="7777080" cy="914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Взрослые родительские орган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2708280"/>
            <a:ext cx="2881080" cy="10587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яйце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708280"/>
            <a:ext cx="2952720" cy="105732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Образ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перми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3933720"/>
            <a:ext cx="3240360" cy="91440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оплодо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5157720"/>
            <a:ext cx="2592360" cy="50328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иг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6093000"/>
            <a:ext cx="3743280" cy="509400"/>
          </a:xfrm>
          <a:prstGeom prst="rect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Дочерний орга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364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2349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3500280"/>
            <a:ext cx="50328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35280" y="3500280"/>
            <a:ext cx="57636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84720" y="5661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10814" r="0" b="5407"/>
          <a:stretch/>
        </p:blipFill>
        <p:spPr>
          <a:xfrm>
            <a:off x="1476360" y="0"/>
            <a:ext cx="6120000" cy="6858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Прорастание пыль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465360" cy="3816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4138920" cy="299052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Оплодотворение - </a:t>
            </a:r>
            <a:r>
              <a:rPr b="1" lang="en-US" sz="60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40038" b="0"/>
          <a:stretch/>
        </p:blipFill>
        <p:spPr>
          <a:xfrm>
            <a:off x="250920" y="1341360"/>
            <a:ext cx="4022640" cy="52516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4284720" y="1484280"/>
            <a:ext cx="345744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Цент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84720" y="2781360"/>
            <a:ext cx="345744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пе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мужские гаме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6067440"/>
            <a:ext cx="3457800" cy="79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емязача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4076640"/>
            <a:ext cx="3457440" cy="84132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яйце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843280" y="2349000"/>
            <a:ext cx="144144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843280" y="3284640"/>
            <a:ext cx="144144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27280" y="3357360"/>
            <a:ext cx="1657440" cy="50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5229360"/>
            <a:ext cx="129672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4149720"/>
            <a:ext cx="180000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5013360"/>
            <a:ext cx="3382920" cy="792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Пыльце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тру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589720"/>
            <a:ext cx="100800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549360"/>
            <a:ext cx="2305080" cy="12729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яйце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2781360"/>
            <a:ext cx="72072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0640"/>
            <a:ext cx="2016000" cy="107964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спер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836640"/>
            <a:ext cx="72072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549360"/>
            <a:ext cx="2160720" cy="10792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ро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421000"/>
            <a:ext cx="2305080" cy="129708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Центр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кл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492280"/>
            <a:ext cx="2016000" cy="107964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спер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2781360"/>
            <a:ext cx="72072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907920"/>
            <a:ext cx="647640" cy="576360"/>
          </a:xfrm>
          <a:prstGeom prst="ellipse">
            <a:avLst/>
          </a:prstGeom>
          <a:solidFill>
            <a:srgbClr val="cc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2421000"/>
            <a:ext cx="2160720" cy="1297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ндоспе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5157720"/>
            <a:ext cx="3240000" cy="127476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8360" y="404640"/>
            <a:ext cx="287280" cy="3311640"/>
          </a:xfrm>
          <a:custGeom>
            <a:avLst/>
            <a:gdLst>
              <a:gd name="textAreaLeft" fmla="*/ 0 w 287280"/>
              <a:gd name="textAreaRight" fmla="*/ 103680 w 28728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1" idx="1"/>
            <a:endCxn id="100" idx="0"/>
          </p:cNvCxnSpPr>
          <p:nvPr/>
        </p:nvCxnSpPr>
        <p:spPr>
          <a:xfrm flipH="1">
            <a:off x="4463640" y="2060640"/>
            <a:ext cx="4231440" cy="3083760"/>
          </a:xfrm>
          <a:prstGeom prst="bentConnector4">
            <a:avLst>
              <a:gd name="adj1" fmla="val -4909"/>
              <a:gd name="adj2" fmla="val 7708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03:30:22Z</dcterms:created>
  <dc:creator>татьяна</dc:creator>
  <dc:description/>
  <dc:language>en-US</dc:language>
  <cp:lastModifiedBy>biolog</cp:lastModifiedBy>
  <dcterms:modified xsi:type="dcterms:W3CDTF">2009-12-04T12:26:01Z</dcterms:modified>
  <cp:revision>3</cp:revision>
  <dc:subject/>
  <dc:title>Слайд 1</dc:title>
</cp:coreProperties>
</file>