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851-6623-4270-9B7E-8C72888A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695-50D4-4B5D-BD99-7BC6B14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A81-073C-42C4-BE2C-DEF86A66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15D-4DA0-4BF3-938C-46196E02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05B-B64B-4E57-B4F7-5E7E97A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10A-EA6D-4D9D-88AA-F64B010E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207-4C14-48E5-8108-DEA0097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2CA-C31A-4ACE-BBD6-9B40F4F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08C-54D8-41E4-9FAE-788C2AB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4DD-3606-46AD-ABF1-31EC1F71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834-EFAD-4BE1-8F90-99E394F9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636-74B9-4C0A-8E88-2CFBCB26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9FF-2912-42BF-9204-EA8787BB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72741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ножение и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лодотворение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растений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змнож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708280"/>
            <a:ext cx="237672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беспо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2781360"/>
            <a:ext cx="237636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пол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700360" y="1197000"/>
            <a:ext cx="1511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1197000"/>
            <a:ext cx="20890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50864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443700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64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37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Беспол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егета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933720"/>
            <a:ext cx="3024360" cy="251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Ли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бе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005360"/>
            <a:ext cx="3024360" cy="244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9280" y="126828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1268280"/>
            <a:ext cx="1584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484280"/>
            <a:ext cx="777708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зрослые родительские 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708280"/>
            <a:ext cx="2881080" cy="10587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2952720" cy="105732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3933720"/>
            <a:ext cx="3240360" cy="91440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плод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5157720"/>
            <a:ext cx="2592360" cy="5032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иг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6093000"/>
            <a:ext cx="3743280" cy="509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черний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349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500280"/>
            <a:ext cx="5032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5280" y="3500280"/>
            <a:ext cx="57636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0814" r="0" b="5407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орастание пы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465360" cy="38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138920" cy="29905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Оплодотвор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0038" b="0"/>
          <a:stretch/>
        </p:blipFill>
        <p:spPr>
          <a:xfrm>
            <a:off x="250920" y="1341360"/>
            <a:ext cx="4022640" cy="5251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284720" y="148428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78136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мужские гаме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6067440"/>
            <a:ext cx="3457800" cy="79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емяза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4076640"/>
            <a:ext cx="3457440" cy="841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43280" y="2349000"/>
            <a:ext cx="14414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43280" y="3284640"/>
            <a:ext cx="14414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27280" y="3357360"/>
            <a:ext cx="165744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12967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149720"/>
            <a:ext cx="1800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5013360"/>
            <a:ext cx="3382920" cy="79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ыльце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тр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589720"/>
            <a:ext cx="1008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549360"/>
            <a:ext cx="2305080" cy="12729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064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83664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549360"/>
            <a:ext cx="2160720" cy="10792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421000"/>
            <a:ext cx="2305080" cy="129708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49228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907920"/>
            <a:ext cx="64764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2421000"/>
            <a:ext cx="2160720" cy="1297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ндо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157720"/>
            <a:ext cx="3240000" cy="12747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404640"/>
            <a:ext cx="287280" cy="3311640"/>
          </a:xfrm>
          <a:custGeom>
            <a:avLst/>
            <a:gdLst>
              <a:gd name="textAreaLeft" fmla="*/ 0 w 287280"/>
              <a:gd name="textAreaRight" fmla="*/ 103680 w 287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1" idx="1"/>
            <a:endCxn id="100" idx="0"/>
          </p:cNvCxnSpPr>
          <p:nvPr/>
        </p:nvCxnSpPr>
        <p:spPr>
          <a:xfrm flipH="1">
            <a:off x="4463640" y="2060640"/>
            <a:ext cx="4231440" cy="3083760"/>
          </a:xfrm>
          <a:prstGeom prst="bentConnector4">
            <a:avLst>
              <a:gd name="adj1" fmla="val -4909"/>
              <a:gd name="adj2" fmla="val 7708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30:22Z</dcterms:created>
  <dc:creator>татьяна</dc:creator>
  <dc:description/>
  <dc:language>en-US</dc:language>
  <cp:lastModifiedBy>biolog</cp:lastModifiedBy>
  <dcterms:modified xsi:type="dcterms:W3CDTF">2009-12-04T12:26:01Z</dcterms:modified>
  <cp:revision>3</cp:revision>
  <dc:subject/>
  <dc:title>Слайд 1</dc:title>
</cp:coreProperties>
</file>