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9F789-CE90-464B-A160-5F971D2E3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500B4-FB31-4F2F-B3E2-44331F60A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DA839-B839-411A-BE2A-14644A4A4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948C5-07C2-41B9-B63E-507BDB14E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54798-DC34-4238-B77A-841FC8245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04C28-DB1A-4251-AD6C-D53C9D83A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4520" cy="37670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11E38-0C39-46EE-87FB-CFEC43F82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E9972-8678-4DC0-B8EC-30EB7FE6B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B0E97-EC3B-49F3-94E1-A54C5DD3D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EA3C2-5543-4132-9134-D1EAB4ADB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69138-A7CB-4D5B-AF78-941102ABE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99586-BE68-4E2D-A99A-044F3D7F8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11779-0D40-41F0-948B-E709E6261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7C9A5-31E5-48DB-8F15-9812E1E78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A3CDF-CD26-4D55-8A0C-51DCCAFCD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423C4-56E9-4DBA-860B-F5538E015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C789C-C488-40E1-AA22-606DD1581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C837A-C67E-4307-A885-548BDCC52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2B388-FA57-4EDA-8237-BAD79584E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2E704-07DC-47D3-848C-9CDDBC4D1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8C815-856E-4CB1-88DE-F27C1B9CB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C41B5-D215-40BE-8515-901B7241F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8FB87-B22D-46B4-9A17-FC24B75F3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82A6F-0A4F-408D-9957-80AA4BD9F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E72B0-7EA9-4942-98F0-E250D2EE7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87FE5-6431-4A9D-9803-E944BDC0D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A3AEE-9D04-4867-88A5-0245DE4D7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A538A-6E74-432D-89E9-7A49FE199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2C195-D975-47CF-BEA5-0A47B117E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D174F-9B96-4044-A230-3FC32BC52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48B8-23C2-4626-AE37-35A2D1CD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1A04-3EE5-4341-8EB2-68F72A16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61A6-889D-4DA2-A73D-7FAD49EB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75B-3F14-4E49-BFB0-F4096258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B1F-4345-4BD6-9479-3A0E2876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6702-C2E4-4FFE-86DC-A8102C9F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4845-0AF8-4F1A-98A2-7B38E3A9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BCD-8900-4362-9197-E2373F01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56B-6A5E-4C7A-8DDB-92511C8F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E13-6399-429F-8C03-66D05CA6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6919-A7B4-4778-B91A-14B8AD30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D82F-55DB-476D-B142-D6C3F502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555F2-2828-4ED0-A503-99C7FDCB4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503280" y="345960"/>
            <a:ext cx="9069480" cy="55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Психологическое изучение культур (II)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Направление "Культура-и-личность"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Когнитивная антрополог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Психоантропологи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17000"/>
            <a:ext cx="9067680" cy="5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Понятия/образы, которые являются результатом когнитивной организации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90676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668880" indent="-6674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роль», «я», «другой», «генерализированный другой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Дж. Мид: высшая стадия социализации личности - формирование социально-рефлексивного "Я", то есть способности индивида понимать и принимать роль «другого»  - "генерализированный другой" - и в соответствии с этим конструировать собственные действ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8880" indent="-6674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образ тела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П. Шилдер: “Образ тела ― это изображение нашего собственного тела, которое мы рисуем у себя в голове, т.е. это то, каким образом тело представляется нам”; “Позиционная модель нашего собственного тела связана с позиционной моделью тел других людей. Позиционные модели людей связаны между собой. Мы чувствуем образы т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а других людей. Опыт, переживание собственного образа тела и опыт, переживание тела других людей тесно переплетаются между собой. Также как наши эмоции и действия неотделимы от образа тела, также и эмоции и действия других неотделимы от их тел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8880" indent="-6674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картина мира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Р. Рэдфилд: картина мира различных народов раскрывается через рефлексируемые образы культурного пространства; для каждого народа характерно собственное (уникальное) видение окружающего мира и своего места в н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8880" indent="-6674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среда поведения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А. Холлуэлл: “Culture not only constitutes our behavioural environment, but also provides us with basic orientations that enable us to act in an intelligible manner in a world so constituted: all these are orientations for the self, and serve to give it its particular structure” (Hallowell 1971: 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6344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гнитивная модель - основание при осуществлении выборов и решений в «пространстве» предполагаемой ак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1604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ждый человек в каждый момент времени располагает определенным интегральным продуктом опыта своих отношений с окружением ― то есть неким образом или когнитивной моделью, которая упорядочивает все его разнокачественные представления о себе и внешнем мир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гнитивная модель представлений человека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о себе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о мир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о себе в мир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ключает три измерени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1) оценочное (цели и ценност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2) дескриптивное (описательное - объект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3) инструментальное  (планы, способы, техника воздействи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иция культурной антропологии:  человеческое мышление -  универсальный язык, с помощью которого люди понимают друг друга; сам процесс общения, коммуникации основывается на единстве принципов мышления челове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39240"/>
            <a:ext cx="906768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imes New Roman"/>
              </a:rPr>
              <a:t>Л</a:t>
            </a:r>
            <a:r>
              <a:rPr b="0" lang="ru-RU" sz="1600" spc="-1" strike="noStrike">
                <a:solidFill>
                  <a:srgbClr val="008000"/>
                </a:solidFill>
                <a:latin typeface="Times New Roman"/>
              </a:rPr>
              <a:t>юсьен</a:t>
            </a:r>
            <a:r>
              <a:rPr b="1" lang="ru-RU" sz="1600" spc="-1" strike="noStrike">
                <a:solidFill>
                  <a:srgbClr val="008000"/>
                </a:solidFill>
                <a:latin typeface="Times New Roman"/>
              </a:rPr>
              <a:t> Л</a:t>
            </a:r>
            <a:r>
              <a:rPr b="0" lang="ru-RU" sz="1600" spc="-1" strike="noStrike">
                <a:solidFill>
                  <a:srgbClr val="008000"/>
                </a:solidFill>
                <a:latin typeface="Times New Roman"/>
              </a:rPr>
              <a:t>еви-</a:t>
            </a:r>
            <a:r>
              <a:rPr b="1" lang="ru-RU" sz="1600" spc="-1" strike="noStrike">
                <a:solidFill>
                  <a:srgbClr val="008000"/>
                </a:solidFill>
                <a:latin typeface="Times New Roman"/>
              </a:rPr>
              <a:t>Б</a:t>
            </a:r>
            <a:r>
              <a:rPr b="0" lang="ru-RU" sz="1600" spc="-1" strike="noStrike">
                <a:solidFill>
                  <a:srgbClr val="008000"/>
                </a:solidFill>
                <a:latin typeface="Times New Roman"/>
              </a:rPr>
              <a:t>рюль (1857-1939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"Функции мышления в низших обществах", "Первобытное мышление" (1922)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"Сверхъестественное в первобытном мышлении" (1931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360" y="111600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Первобытными мы называем такие народности, как австралийцы, фиджийцы, туземцы Андаманских островов и т.д. Когда белые вошли в соприкосновение с этими народностями, те не знали еще металлов, и их цивилизация напоминала общественный строй каменного века. Отсюда и взялось название первобытных народов, которое им было дано. Эта "первобытность", однако, весьма относительна» («Первобытное мышление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зис о несовместимости мышления современного человека и человека доисторического: первобытный образ мышления был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алогичен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нелогичность, парадоксальность), что находит подтверждение в мифологиях различных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положение о том, что разным этапам в развитии общества и культуры соответствуют различные типы 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ышление первобытного человека можно описать через понятие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«коллективные представления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впервые употребил Э. Дюркгейм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деи /верования, моральные понятия/, которые человек получает не из своего индивидуального жизненного опыта, а благодаря воспитанию, общественному мнению, обычая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Коллективные представления» по Леви-Брюлю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"Представления, называемые коллективными &lt;...&gt; могут распознаваться по следующим признакам, присущим всем членам данной социальной группы: они передаются в ней из поколения в поколение, они навязываются в ней отдельным личностям, пробуждая в них сообразно обстоятельствам, чувства уважения, страха, поклонения и т.д. в отношении своих объектов, они не зависят в своем бытии от отдельной личности. Это происходит не потому, что представления предполагают некий коллективный субъект, отличный от индивидов &lt;...&gt; а потому, что они проявляют черты, которые невозможно осмыслить и понять путем одного только рассмотрения индивида как такового. Так, например, язык, хоть он и существует, собственно говоря, лишь в сознании личностей, которые на нем говорят, тем не менее несомненна социальная реальность, базирующаяся на совокупности коллективных представлений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59920" y="685800"/>
            <a:ext cx="8883720" cy="60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&lt;...&gt; реальность, среди которой живут и действуют первобытные люди, сама является мистической. Ни одно существо, ни один предмет, ни одно явление природы не являются в коллективных представлениях первобытных людей тем, чем они кажутся нам. Почти все то, что мы в них видим, ускользает от их внимания или безразлично для них. Зато, однако, они в них видят многое, о чем мы и не догадываемся. Например, для "первобытного" человека, который принадлежит к тотемическому обществу, всякое животное, всякое растение, всякий объект, хотя бы такой, как звезды, солнце и луна, наделен определенным влиянием на членов своего тотема, класса или подкласса, определенными обязательствами в отношении их, определенными мистическими отношениями с другими тотемами и т.д. Так, 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уичолов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тицы, полет которых могуч, например, сокол и орел, видят и слышат все: они обладают мистическими силами, присущими перьям их крыльев и хвоста... эти перья, надетые шаманом, делают его способным видеть и слышать все то, что происходит на земле и под землей, лечить больных &lt;…&gt; низводить солнце с небес и т.д.» (Л. Леви-Брюль «Первобытное мышление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ичолы – индейцы племен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уич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937260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Концепция Леви-Брю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яющим фактором коллективных представлений традиционных культур является вера в сверхъестественные таинственные силы и в общение с ними: «дикарь»  «не ищет объяснений явлений окружающей действительности. Они даются ему не в структурно-аналитической форме в виде отдельных сущностей, частей, элементов окружающей жизни, а в едином (синкретическом) комплексе представлений о тайных силах, магических свойствах окружающего мир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риятие мира в "примитивных" культурах ориентировано не на поиск объективных свойств, а на чувственные, мистические формы освоения, познания окружающего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обытное мышлен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епроницаемо для опыт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чувствительно к нему и не может разуверить архаичного человека в его вере в колдовство, в тотем, фетиш, в мистические с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о-логическ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а-логическ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 мышления: место законов логического мышления занимает в первобытном мышлени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кон сопричас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ловек традиционного общества чувствует себя мистически единым со своим тотемом, со своей «лесной» или «водной» душой и т.д. ("Первобытные люди смотрят теми же глазами, что и мы, но воспринимают не тем же сознанием, что и мы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108000"/>
            <a:ext cx="90676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Пример "решения" вербальной задачи на понимание представителем традиционной («примитивной») культуры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Из книги М. Коула и С. Скрибнер "Культура и мышление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1280" y="1476000"/>
            <a:ext cx="9372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спериментато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Однажды паук пошел на праздничный обед. Ему сказали, что прежде чем приступить к еде, он должен ответить на один вопрос. Вопрос такой: "Паук и черный олень вместе едят. Паук ест. Ест ли олен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ытуем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Они были в лес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спериментато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ытуем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Они вместе е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спериментатор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аук и черный олень всегда вместе едят. Паук ест. Ест ли олен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ытуемый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о меня там не было. Как я могу ответить на такой вопро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спериментато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Не можете ответить? Даже если вас там не было, вы можете ответить на этом вопрос (повторяет вопро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ытуем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Да, да, черный олень е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спериментатор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чему вы говорите, что черный олень ес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ытуем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Потому что черный олень всегда весь день ходит по лесу и ест зеленые листья. Потом он немного отдыхает и снова встает, чтобы пое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95120"/>
            <a:ext cx="906768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Гипотеза Э. Тайлора о специфике первобытного мышления и ее опровержение К. Леви-Строс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960120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Тезис, который я осмеливаюсь поддержать при этом заключается просто в том, что наблюдаемые ныне состояния дикости в известной степени соответствуют раннему состоянию человечества, из которого высшая культура постепенно развивалась или распространялась через процессы, происходящие и теперь, как и в прежнее время. При этом в результате оказывается, что вообще прогресс далеко преобладал над регрессом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Место магии в истории, в кратких словах, следующее. Она — по своему основному принципу - принадлежит к самой низшей из известных ступеней цивилизаций. У примитивных обществ, которые очень мало участвовали в умственном развитии мира, она сохраняется еще во всей своей силе“  (Тайлор «Первобытное мышление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 Леви-Стросс (1908-2009): многообразие типов мышления в качестве модификации некой исходной (инвариантной) модели. Первобытный тип мышления (а в широком смысле  - первобытную культуру) нельзя рассматривать как "детство" человечества. Эти народы прошли такой же длительный путь развития, как и так называемые цивилизованные народы. Вся разница между ними заключается в различных способах адаптации к окружающему миру. Мифологическое мышление  специфично для архаических обществ и противостоит индивидуальному так же, как бессознательное – сознательному. Миф  – инструмент первобытной логики, которая оперирует бинарными оппозициями (высокий / низкий”, “небо / земля”, “правый / левый”, “парный / непарный”, “священный / профанный” и т. д.) («Мифологики», «Первобытное мышление»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676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Жан Пиаже (1896-1980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"Речь и мышление ребенка" (1923); "Психология интеллекта" (194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1599840"/>
            <a:ext cx="906768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ипотеза о том, что интеллектуальный уровень представителей дописьменных культур равен уровню развития одиннадцатилетнего среднеевропейского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культурные различия в мышлении обусловлены  неспособностью человека традиционного общества к абстрактному мыш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шление ― это способность решать задачи в абстрактно-понятийной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льтура есть эволюция в овладении логическими операция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) сенсомоторный интеллек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от рождения до 1,5-2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2) до-понятийное мышление (2-4 год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3) наглядное мышление (4-8 лет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4) конкретные операции (8-11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5) формальное мышление, операции с понятиями (с 12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ллект - "самая совершенная психическая адаптация", "гибкое и одновременно устойчивое равновесие поведения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Психоантропология: </a:t>
            </a: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изучение бессознательного на уровне групп индивидов, существующих в современной культуре </a:t>
            </a:r>
            <a:br>
              <a:rPr sz="2200"/>
            </a:b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(идеи, фантазии, идеологизированные концеп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9067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учение взаимодействия человеческого сознания и культуры, в которой живет индивидуу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VI Международный конгресс антропологических и этнологических наук (Чикаго, 1973 г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Общество психологической антропологии» и журнал "Этос" (197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 сборника конгресса "Психологическая антропология" (1975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"Психологическая антропология изучает судьбу индивидов в специфическом культурном контексте и интерпретирует полученные данные различными психологическими теориями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3020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Times New Roman"/>
              </a:rPr>
              <a:t>Г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</a:rPr>
              <a:t>овард (Howard) </a:t>
            </a:r>
            <a:r>
              <a:rPr b="1" lang="ru-RU" sz="2600" spc="-1" strike="noStrike">
                <a:solidFill>
                  <a:srgbClr val="008000"/>
                </a:solidFill>
                <a:latin typeface="Times New Roman"/>
              </a:rPr>
              <a:t>С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</a:rPr>
              <a:t>тейн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"Психоантропология американской культуры" (198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дача психоантропологии: "изучение взаимоотношений между существующей бессознательной структурой и осознанно проявляющимся содержанием, а также их отношением к реальности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лючевое понятие психоантропологии ― «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фантазия группы»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к совокупность бессознательно разделяемых установок или положений в символической форме, дающих группе чувство реа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ндт (1832-1920) в книге «Фантазия как основа искусства» рассматривал фантазии как объект «психологии народов»: «фантазия является для искусства, а также для религии и мифов тем же, чем выразительные движения для языка. Деятельность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Фантази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есть первоисточник как творчества мифов, так и различных религиозных представлений и чувствований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«Культура-и-личность»: 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проблема взаимодействия культуры и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. Бенедик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Конфигурации культур в Северной Америке" (1932) и "Модели культур" (19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 Клакхон &amp; Г. Мюрр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ред.) "Личность в природе, обществе и культуре" (19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.Г. Херин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ред.) "Индивидуальный характер и культурное окружение" (19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ж. Доллард &amp; Н. Милл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ред.) "Личность и психотерапия" (19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. Уайтинг &amp; И. Чайл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Воспитание детей и личность" (19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. Хонигма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Культура и личность" (195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. Ми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«Культура и мир детства» (1960-е гг.)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17360"/>
            <a:ext cx="906768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йн о “фантазиях групп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911376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рупповые фантаз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человек защищает больше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фантазиям относятся и психологические состояния (состояние аффекта, бред), и идеологические концеп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льтура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"вместилище", в котором "представлены бессознательные фантазии, страхи и защиты против них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редством культуры мы «объективируем наши внутренние страхи» и «надежды на внешний контро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&lt;...&gt; роль реальности в культурных системах становится более проблематичной», «мир в большинстве  своем ― фантастический объект», «восприятие этого мира детерминировано бессознательны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"&lt;...&gt; культура, включая способы отношения к миру, есть сама по себе в большинстве своем вторичный институт, проективно построенный, производный от институтов сознания, определенных ранним опытом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цепция э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тнич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осознание этнической принадлежности) - фантазия, а не реальность.  Стремление познать свои национальные корни - не что иное, как «нарциссические попытки быть постоянно в детств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07440"/>
            <a:ext cx="9067680" cy="15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Жорж Деверё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Georges Devereux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, 1908-1985):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расширение границ методологии изучения культур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"Реальность и сон" (1951), "Терапевтическое образование" (1956), "Этнопсихоанализ" (19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льзя ограничиваться исключительно психоаналитической интерпретацией культу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пех в познании человека кроется во взаимодействии психоанализа, этнологии и социолог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научном знании можно выделить следующие три уровн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1) полевая и клиническая работа (эмпирический уровен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2) эпистемология (от фр.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episteme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― знание, теория познания) и методолог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3) фундаментальная теория высокой общности ― этот уровень должен быть создан на основе взаимодействия психологии и социолог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90676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Уэ</a:t>
            </a: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стон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 Л</a:t>
            </a: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я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 Б</a:t>
            </a: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арр (Raoul Weston La Barre, 1911-1996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атьи "Человеческое животное", "Призрачный танец: Происхождение религии", "Поющая голова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906768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ассически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сихоанали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- совокупность исходных принципов, по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учение психологических механизмов защиты, существующих в человеческом обще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ят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лич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«и наблюдаемое, и ненаблюдаемое повед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чность и культура (в смысле комплекса поведенческих моделей, а не комплекса артефактов) являются двумя аспектами одной системы, а не двумя отдельными взаимодействующими системами: «Я намеревался изучать взаимодействие личности и культуры, как если бы они были концептуально независимыми. Я использовал термин “культура” для обозначения системы артефактов, деятельности, идей, чувствований и мотиваций как принадлежащих обществу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я Барр: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культура 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оформляет биологические побуждения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внедряет в членов общества те или иные мотивы и определяет оттенки чув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Североамериканской субарктической группы индейцев, которые обычно обнаруживают значительную сдержанность, подавление эмоций, стоическое самообладание в межличностных отношениях, и запретительную установку по отношению к сексу, юность дает шквал гетеросексуальной активности. Сексуальное поведение молодых людей, имеющее место поздно вечером, начинается с приставания или хулиганства со стороны юноши. В какой-то момент юная девушка убегает прочь, а мальчик ее преследует. Затем, в уединенном месте девушка может быть схвачена, и сексуальные отношения продолжаются. По-видимому искренность желание девочки не оказаться пойманной может легко одурачить кого-нибудь незнакомого с нормами поведения данного народа и заставить думать, что мальчик пытается ее изнасиловать. Как антрополог, анализирующий этот культурны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ттерн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с латинского </a:t>
            </a:r>
            <a:r>
              <a:rPr b="0" i="1" lang="et-EE" sz="1800" spc="-1" strike="noStrike">
                <a:solidFill>
                  <a:srgbClr val="000000"/>
                </a:solidFill>
                <a:latin typeface="Times New Roman"/>
              </a:rPr>
              <a:t>patronus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дель для подражания, узор, структура, форма), я рассматриваю его как символическое разыгрывание амбивалентности. Индейцы рассматривают сексуальные отношения одновременно как приятные и как угрожающие. Я объяснял досупружеское сексуальное поведение молодых людей как мотивированное желанием преодолеть культурно обусловленный барьер сдержанности и подавленной эмоциональности с целью обеспечить любовь без вступления в слишком интенсивные отношения. Этот краткий пример психологического антропологического мышления &lt;...&gt; я называю личностным подходом” (La Barre 1978: 303-3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Times New Roman"/>
              </a:rPr>
              <a:t>Ля Барр о </a:t>
            </a:r>
            <a:r>
              <a:rPr b="0" i="1" lang="ru-RU" sz="2600" spc="-1" strike="noStrike">
                <a:solidFill>
                  <a:srgbClr val="008000"/>
                </a:solidFill>
                <a:latin typeface="Times New Roman"/>
              </a:rPr>
              <a:t>«кризисных культах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934236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ссовые аффективные, иррациональные движения, ставящие себе целью преодоление трудностей, выход из тупика в условиях, когда решение задачи разумными способами невозможно или же требует от общества таких усилий и самоограничений, на которое оно пойти не гото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астни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ризисных культ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в состоянии избавить людей от раздражающих негативных явлений, но создают иллюзию избав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ризисные куль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етендуют на способность преодоления не только частных трудностей (непосредственных причин, породивших то или иное из подобных движений), но и на решение основных проблем бытия (открытие смысла жизн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я Барр предложил обозначить понятием «кризисные культы» самые разные мессианские движения - от культа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арг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«поклонение грузу»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Меланезии до нац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90676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Эрих Фромм </a:t>
            </a: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(1900-1980): концепция гуманистического психоанализа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"Бегство от свободы" (1941), "Психоанализ и религия"(1951), "Сказки, мифы, сновидения" (1951), "Здоровое общество" (1955),  “Человек для себя”, "Искусство любить» и "Иметь или быть" (197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907640"/>
            <a:ext cx="9067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ловек находится в условиях существования фундаментальных противоречий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зистенциальных дихотомий”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ихотом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― двойное член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ловеку необходимо постоянно разрешать противоречия своего существования, находить более высокие формы единства с природой, с другими людьми и с самим с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Фрейд считал либидо основной силой, движущей человеческими желаниями, то Фромм исходит из того, что наиболее мощные силы, которые определяют поведение человека, берут начало в социокультурных условиях его суще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ловек стремится к стандартной системе культурных образцов, существующих в любом обществе. В разных культурах они могут быть разными. Но их общей основой для всего человеческого рода является необходимость единения, приобщения к деятельности других людей, сопричастности так сказать себе подобным, в том числе с прошлыми и будущими поко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. Фромм: возможные пути разрешения дисгармонии человеческого существова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щение к Богу, к миру, подчинение отдельной личности, социальной группе. Сопричастности человек может достичь и при помощи власти над миром, посредством господства над другими люд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 все равно человек останется неудовлетворенным, тревожным и беспокойным, ибо нет предела для стремлений, и в конечном счете они приводят к крушению его индивидуальности: человек попадает в зависимость от тех, кому подчиняется, или над кем господств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ть только одно решение проблемы: человек должен принять на себя ответственность за самого себя. Полагаясь на собственные силы, человек может придать смысл своей жизни, став самим собой и для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ществует лишь один путь единения человека с миром, который позволит ему сохранить и развить свою индивидуальность, быть самим собой и для себя – это любов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“Любовь – это объединение с кем-либо или чем-либо вне самого себя при условии сохранения обособленности и целостности своего собственного “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Я”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Это переживание причастности и общности, позволяющее человеку полностью развернуть свою внутреннюю активность. Переживание любви делает ненужными иллюзии. Отпадает потребность преувеличивать значение другого человека или свою собственную значимость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33000"/>
            <a:ext cx="90676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2600" spc="-1" strike="noStrike">
                <a:solidFill>
                  <a:srgbClr val="008000"/>
                </a:solidFill>
                <a:latin typeface="Times New Roman"/>
              </a:rPr>
              <a:t>Созидательность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</a:rPr>
              <a:t> и </a:t>
            </a:r>
            <a:r>
              <a:rPr b="0" i="1" lang="ru-RU" sz="2600" spc="-1" strike="noStrike">
                <a:solidFill>
                  <a:srgbClr val="008000"/>
                </a:solidFill>
                <a:latin typeface="Times New Roman"/>
              </a:rPr>
              <a:t>разрушительность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</a:rPr>
              <a:t> как ответ на экзистенциальные дихотом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тремлении преодолеть собственную ограниченность человек всегда оказывается перед дилеммой: либо созидать, либо разруш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структивность человеческого поведения развивается из-за блокировки плодотворной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идание и разрушение, коренящиеся в природе человека, могут проявлять себя по-разному. И характер их взаимодействия обусловлен социокультурными факторами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идание и разрушение, любовь и ненависть не являются инстинктами, существующими независимо друг от друга. И то, и другое служит ответом на одну и ту же потребность – преодолеть ограниченность своего существования. И стремление к разрушению неизбежно. Возникает в тех случаях, когда не удовлетворяется стремление к созиданию. Удовлетворение потребности в созидании ведет к счастью, разрушительность – к страданию, и больше всех страдает сам разрушитель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144000"/>
            <a:ext cx="9067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Три модели возможной организации культуры 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(по Фромму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9372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ый тип,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жизнеутверждающие обществ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этой системе все идеалы, обычаи и нравы направлены на сохранение и развитие жизни во всех сферах общества. Основная идея этого типа общности ― коллектив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торой тип,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агрессивное общество. Здесь нет дружелюбия, характерного для обществ А. Его доминирующей чертой его является индивидуализм. Оно пронизано мужской агрессивностью, однако не отличается чрезмерной враждеб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тий тип,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деструктивные общества. Они агрессивны, жестоки, обладают разрушительными наклонностями как внутри, так и вне этнокультурных общностей. Большую роль в них играют соперничество и частная соб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 современном обществе: в нем существуют различные формы примитивных религий и культов. Среди массовых и могущественных видов идолопоклонства  -  поклонение насилию, успеху и т.д.  Существует множество индивидуализированных форм религии, преимущественно невротической природы, но их можно "обозначить более респектабельными религиозными названиями ― культ предков, тотемизм, фетишизм, ритуализм, культ чистоты расы и т. д." ("Психоанализ и религия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СПАСИБ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252440" y="1828800"/>
            <a:ext cx="76629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4000"/>
            <a:ext cx="90676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Д.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Х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онигман,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М.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М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ид: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работка теоретических и методологических посылок направления “Культура-и-личность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93423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Как действует, мыслит (познает, воспринимает) и чувствует индивид в условиях различного культурного окружения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ва аспекта единого процесса вхождения индивида в культу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циализ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социальное научение, механизмы и практики вхождения человека в социальное пространство, помогающие ему овладеть различными видами социальной деятельности, усвоить нормы и ценности. Процесс становления личности как активного субъекта социальных отношений и созн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нкультур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от англ. 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nculturatio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- "реальный процесс научения, как он происходит в специфической культуре" (Мид). Процесс приобщения человека к культуре, усвоение традиций, обычаев, ценностей, норм и стереотипов поведения (родной) культуры. Процесс придания личности общей культурной компетенции по отношению к установлениям данного общества (семья, дошкольные учреждения, система образов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10800"/>
            <a:ext cx="906768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Феномен детства как феномен культуры: 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(1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иод усвоения культурных стереотипов, традиций того общества, в котором человек рождается и взрослеет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(2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е детства на специфику поведения уже  взрослой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9792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48360" indent="-6469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р, обладающий некоторой автономией и психологической цен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360" indent="-6469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номен, через призму которого можно увидеть мир "взрослой"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360" indent="-6469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ссы, происходящие в детстве, имеют фундаментальное значение дл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оспроизводств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льтуры (направленность деятельности человека на развитие, сохранение, воссоздание культуры, ее символов, смыс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360" indent="-6469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тво ― эт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ультура в культур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фера загадок и непознанных я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360" indent="-6469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мир фантазии и игр, воспринимаемый как ре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360" indent="-6469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как преобразователь окружающей действ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360" indent="-6469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тво — период формирования способности человека к созданию иде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360" indent="-6469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тво - индивидуальный акт рождения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360" indent="-6469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тво  - «своеобразный «культурный взрыв, период бурного роста и овладения культурными навыками, приносящий непосредственную радость маленькому человеку, входящему в безбрежный мир культуры» (А. Крёбе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906768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.С. Выготский: Гипотеза интериоризации (внесения в индивидуальное сознание) культур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371240"/>
            <a:ext cx="9326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лат.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interio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внутренний) - формирование человеческой психики благодаря усвоению разных аспектов внешней социальной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цессы, происходящие в детстве, характеризуются тем, что "врастание нормального ребенка в цивилизацию представляет собой единый сплав с процессами его органического" разви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&lt;...&gt; культурное развитие приобретает совершенно своеобразный характер, поскольку носителем его является растущий, изменяющийся организм ребенка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ультурное развитие ребенка осуществляется «путем врастания речевых форм общения людей во внутренний план индивидуального сознания и превращения их через промежуточную форму "общения с самим собой" в собственно человеческие формы психической деятельности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Выготский 1960: 40-4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282600"/>
            <a:ext cx="906768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. Мид: типология культур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Культура и мир детст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9372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фигуративная культу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в которой дети прежде всего учатся, перенимают опыт у своих предшественников - старшего поколения ("деды, держа в руках новорожденных внуков, не могут представить для них никакого иного будущего, отличного от их собственного прошлого"). Повторяющийся из поколения в поколение круговорот одних и тех же жизненных процессов создает ощущение вневременности - вся система постфигуративной культуры существует «здесь и сейча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фигуративная культу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в которой дети и взрослые учатся не только у старших, но и у своих сверстников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офигур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чинается там, где наступает кризис постфигуративной системы (например, как результат технического прогресса, переселения, смены вероисповедания, революций и т.д.). Люди учатся жить друг у друга, перенимая найденные сверстниками пути к успеху и избегая совершенных ошибок. Те, чей опыт оказывается наиболее удачным, становятся образцами для других представителей своего поко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фигуративная культу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в которой не только дети учатся у родителей, но и родителям приходится учиться у своих детей. Темп развития современного общества становится настолько высоким, что прошлый опыт оказывается не только недостаточным, но и мешающим творческому подходу к новым условиям («Дети стоят сегодня перед лицом будущего, которое настолько неизвестно, что им нельзя управлять так, как мы это пытаемся делать сегодня, осуществляя изменения в одном поколении с помощью кофигурации в рамках устойчивой, контролируемой старшими культуры, несущими в себе много постфигуративных элементов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108000"/>
            <a:ext cx="90676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Д. Хонигман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тство как форма усвоения культурных стереотипов, культурной традиции того общества, в котором ребенок растет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"Культура и личность" (195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, мышление, чувства - связанные с усвоением культуры элемен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Паттерн» 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модель, образец)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"относительно закрепленный способ активности, мышления или чувствования (восприятия)"; поведение, которое является общим для двух или более индивидов; все, что делает человек, приобретается, поскольку он является членом общества и находится под воздействием социокультурных факто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ятельность человека, идея или артефакт являютс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оциальн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тандартизированным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если они связаны с членством в определенной социальной групп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Стандартизация» - это не жесткие предписания, регламентирующие деятельность человека, но универсальная особенность социальной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41280"/>
            <a:ext cx="90676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94006b"/>
                </a:solidFill>
                <a:latin typeface="Times New Roman"/>
              </a:rPr>
              <a:t>Феномены-«паттерны», составляющие культуру (по Хонигман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960120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ятельность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о стандартизированные 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деи - 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циально стандартизированные мысли и чув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ртефакт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оциально стандартизированные артефакты (от лат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ars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искусство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factu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сделанное) - “созданная человеком характеристика окружени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Культура указывает на социально стандартизированные действия, мысли, чувства и артефакты. &lt;Исследователь&gt; обычно имеет дело с этими несколькими классами элементов, так как они содержат в себ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аттер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&lt;...&gt; различные виды деятельности, мысли, чувства и артефакты, характерные для данной группы людей, являются в некоторой степени взаимосвязанными. Как результат, изменение в одной области культуры будет связано с изменением в других сферах. &lt;Но&gt; это не означает, что все связано со всем непосредственно. &lt;...&gt; Большинство областей культуры обладает некоторой степенью автономии по отношению к другим областям. Это означает, что они могут сопротивляться определенным изменениям в других частях системы, прежде чем сами претерпят модификацию. &lt;...&gt; Грамматика, значение правил для формирования слов и выражений являются довольно стабильными в любой культуре и часто остаются относительно неизменяемыми, несмотря на радикальные и революционные изменения в других областях ... жизни. С другой стороны, слова языка (словарь) легко изменяются вместе с другими изменениями в культур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чность "означает культуру, отраженную в индивидуальном поведении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155520"/>
            <a:ext cx="906768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НИТИВНАЯ АНТРОПОЛОГИ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от лат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cogniti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знание, познание)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 мышления и познания в условиях различных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402920"/>
            <a:ext cx="9067680" cy="56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одологическая установка:  мышление как важнейший элемент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ект изучения: система организации элементов культуры, но не сами элементы культуры как та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й для людей является не единая система мотиваций (от греч. m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otif, и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т лат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move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вига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внешнее или внутреннее побуждение), а их способность к переработке информации, выражающаяся в когнитивной функции, обеспечивающей регуляцию отношений индивида с окружением через селективность восприятия, научение, пользование языком и другими формами символической коммуникации, а также за счет их изменения под влиянием интуитивных и креативных импуль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гнитивная организация - упорядочение представлений человека о самом себе и окруж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08:46:44Z</dcterms:created>
  <dc:creator>kasutaja</dc:creator>
  <dc:description/>
  <dc:language>en-US</dc:language>
  <cp:lastModifiedBy>Коля</cp:lastModifiedBy>
  <dcterms:modified xsi:type="dcterms:W3CDTF">2013-03-24T10:41:50Z</dcterms:modified>
  <cp:revision>27</cp:revision>
  <dc:subject/>
  <dc:title>Slide 1</dc:title>
</cp:coreProperties>
</file>