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1.wmf" ContentType="image/x-wmf"/>
  <Override PartName="/ppt/media/projctor.wav" ContentType="audio/x-wav"/>
  <Override PartName="/ppt/media/image8.wmf" ContentType="image/x-wmf"/>
  <Override PartName="/ppt/media/chimes.wav" ContentType="audio/x-wav"/>
  <Override PartName="/ppt/media/image2.wmf" ContentType="image/x-wmf"/>
  <Override PartName="/ppt/media/cashreg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D12-69CF-4394-86DD-67D727A9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27F-70D0-4532-A5E5-DD41D5F5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3D7-B8C1-4952-B8C5-8D77AB95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9B1-81CB-4FFA-A494-9AE27350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8DB2-6695-4FF2-9574-19292C1B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3C77-F4B6-476F-90F2-B9F71A4A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7CA4-ADC8-4BC2-9FBB-CC0B78EC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DC30-C197-4A10-86A5-950115FB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A6BB-1368-4D80-BEE3-D7DCDB09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A41A-E0B8-4EF5-AA30-0F81E9AD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CDC6-CFBE-43D9-913A-45473A4A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C59-1447-46B5-9675-C4048D73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818D-88D3-4134-9112-EEE5242C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F482-72A5-460E-AC38-342A01BD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33A3-C1C1-4380-A504-F1B2EF72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8F9A-3208-4A2C-98C1-00597520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9B70-3C8A-4DB2-B27E-1E649014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618-A3B9-42F6-BE05-9B7D475C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E73-A5DD-4E3A-B6DD-DC444E11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677-DC4C-4AF0-9FDF-98A31FDB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8B3-B2FD-4ACE-A981-476A757B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C9D-FF4A-45D8-98A7-E40FD1C3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7EAE-7D55-4A9C-8CE1-8C7DB376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749-413F-4EC7-9FCE-9DF4E7D9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B7E3-895E-43CA-A5DF-C45B331C5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742C-8ED5-4741-88E3-A9D0C4385B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пастовская средняя  школа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пастовского  района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Республики Татарстан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Урок  по  обществознан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66"/>
                </a:solidFill>
                <a:latin typeface="Tahoma"/>
              </a:rPr>
              <a:t>Налоги  и  бюджет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Учител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Насибуллин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ульнур Хайдаро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Региональные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лог  на  имущество  предприят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есной  нало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бор  с  юридических лиц  на  нужды  образовательных  учрежд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657600" cy="4191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1532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685800"/>
            <a:ext cx="1828800" cy="21337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Элемен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налог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1676520"/>
            <a:ext cx="609480" cy="4572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1066680"/>
            <a:ext cx="3048120" cy="152424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Носитель налога</a:t>
            </a: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лицо, с котор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удерживается нало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3886200"/>
            <a:ext cx="3733920" cy="220968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Источник  налог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доход</a:t>
            </a: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из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котор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уплачива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налог</a:t>
            </a: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1295280"/>
            <a:ext cx="3276360" cy="129564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логоплательщ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886200"/>
            <a:ext cx="3124080" cy="220968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ъект  налог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ход, имущество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ова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7400" y="1862280"/>
            <a:ext cx="2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352680" y="2743200"/>
            <a:ext cx="4572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2819520"/>
            <a:ext cx="533520" cy="106668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638680" y="2133360"/>
            <a:ext cx="228600" cy="7596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5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7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838080"/>
            <a:ext cx="4648320" cy="14479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Налоговые  системы</a:t>
            </a: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47560" y="2286000"/>
            <a:ext cx="99036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2286000"/>
            <a:ext cx="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2286000"/>
            <a:ext cx="838080" cy="1447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886200"/>
            <a:ext cx="1828800" cy="23623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Пропор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циональ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3962520"/>
            <a:ext cx="190512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Прогрес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4038480"/>
            <a:ext cx="182880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Регрес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609480"/>
            <a:ext cx="3581640" cy="16002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ahoma"/>
              </a:rPr>
              <a:t>Бюдже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3200400"/>
            <a:ext cx="266724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Дохо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налоги, сбо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200400"/>
            <a:ext cx="243828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Расхо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социальны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выпла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286000" y="2057400"/>
            <a:ext cx="9144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2057400"/>
            <a:ext cx="1143000" cy="11430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492360" y="2276640"/>
            <a:ext cx="2283120" cy="224784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Автор – Насибуллина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Гульнур Хайдаровна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читель  истории  и  обществознания высшей  квалификационной категории Апастовской  средней школы Апастовского  райо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спублики Татарст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пастово, 2003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7500"/>
                            </p:stCondLst>
                            <p:childTnLst>
                              <p:par>
                                <p:cTn id="47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Налоги  как  источник  доходов государства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ы  можешь  и   не заметить, что  у тебя  всё  идёт хорошо, но  налоговая  служба напомни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ьер  Данино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761000" y="1641600"/>
            <a:ext cx="3584520" cy="445428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Налоговая система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                       – совокупность  налогов, форм  и  методов  их  построения  и  взимания, определяемая  законодательством  государства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904760" y="3505320"/>
            <a:ext cx="16002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3505320"/>
            <a:ext cx="152388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228600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4114800"/>
            <a:ext cx="213372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2242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Налог  как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финансов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систе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61280" y="4495680"/>
            <a:ext cx="167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Элемент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налог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ff00"/>
                </a:solidFill>
                <a:uFillTx/>
                <a:latin typeface="Times New Roman"/>
              </a:rPr>
              <a:t>Экономическая сущность  налога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ь валового  внутреннего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ь   себестоимости 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ь  прибы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ь  личного  дохода  работни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Методы  налогообложения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ям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Косвен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вой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логовая деклара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6019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Функции налогов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иск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егулирующ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нтро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оци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114800" y="304812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5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Console"/>
              </a:rPr>
              <a:t>Прям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латит  сам налогоплательщик  из  своей  прибыли  независимо  от  статуса  его  лица ( юридического  или  физического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Вид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лог  на  прибы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логи  на  имуществ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логи  на  дохо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есурсные  платеж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48520" y="3886200"/>
            <a:ext cx="1888920" cy="187488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SLCourier New Cyr"/>
              </a:rPr>
              <a:t>Косвен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Платит  потребитель  продукции,  выпускаемой  и  продаваемой  на  рынке  товаров,  работ  и  услу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SL Academy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Налог  на  добавленную  стоим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Акциз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Таможенные  пошли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Налог  на  операции с  ценными  бумаг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18400" y="2590920"/>
            <a:ext cx="1944720" cy="236196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00"/>
                </a:solidFill>
                <a:uFillTx/>
                <a:latin typeface="SL Broadway"/>
              </a:rPr>
              <a:t>Виды налогов</a:t>
            </a:r>
            <a:r>
              <a:rPr b="0" lang="en-US" sz="4400" spc="-1" strike="noStrike">
                <a:solidFill>
                  <a:srgbClr val="006600"/>
                </a:solidFill>
                <a:latin typeface="SLCourier New Cyr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Федеральные  налог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Региональные  налог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Местные  налоги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8080" y="1295280"/>
            <a:ext cx="2590920" cy="297180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500"/>
                            </p:stCondLst>
                            <p:childTnLst>
                              <p:par>
                                <p:cTn id="275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Федераль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Налог  на  добавленную стоим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Акцизы  на  отдельные  группы и  виды  товар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Подоходный  нало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Таможенная  пошл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Гербовый  сб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Налог  на  наследуемое  и  даримое  имущество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7696080" y="53341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9:36:13Z</dcterms:created>
  <dc:creator>User</dc:creator>
  <dc:description/>
  <dc:language>en-US</dc:language>
  <cp:lastModifiedBy>User</cp:lastModifiedBy>
  <dcterms:modified xsi:type="dcterms:W3CDTF">2006-02-17T20:09:10Z</dcterms:modified>
  <cp:revision>7</cp:revision>
  <dc:subject/>
  <dc:title>Апастовская средняя  школа.</dc:title>
</cp:coreProperties>
</file>