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744-51AD-4D40-842D-375DA5CE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059-6614-4A6A-9A6E-6A9D4FF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5C6-A71F-4B23-87B6-B6621EE1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3A8-8CE1-4049-975F-B690FA9A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4A63-B8BF-466A-B301-3C356B5F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8E01-E85F-4E59-976E-1FE302F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7BD9-E686-4296-936D-4E269786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FC1C-A12A-46C6-89E4-92F21811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DB8A-8F23-432C-A26F-2D06326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C94B-1D54-4075-9E24-9AB391E5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90AD-77D6-4993-AAE0-0F4878D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095-082A-4086-A3DE-37DDD7F1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A4B1-3E05-4914-A1E8-F18C5EC9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9F3-C333-49F5-AC67-AC2B12E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08DD-D965-4821-BC3D-6D55101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9AE9-39C8-4514-AB4C-76B18360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2A8-372C-4CD9-A672-0C8BD3A8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94C-2E71-485E-AEA4-FF1B10C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97F-7459-4D86-BC93-F4E4991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F96-E8DC-4FED-A56F-8473A1B0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18B-AE7C-45A6-9B22-C08FD2C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438-6C8A-4280-BFBB-E4E6AFD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A00-416F-47BF-ACC9-A921C04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43E-F3C8-414A-9C3C-58D6A7C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844-AA73-481F-AE41-54FF33423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1E86-B756-40E3-B5DC-93847B6EA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спублики Татарст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пастово, 2003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280" y="4495680"/>
            <a:ext cx="16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нало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Экономическая сущность  налог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en-US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User</cp:lastModifiedBy>
  <dcterms:modified xsi:type="dcterms:W3CDTF">2006-02-17T20:09:10Z</dcterms:modified>
  <cp:revision>7</cp:revision>
  <dc:subject/>
  <dc:title>Апастовская средняя  школа.</dc:title>
</cp:coreProperties>
</file>