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2.wmf" ContentType="image/x-wmf"/>
  <Override PartName="/ppt/media/cashreg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777-D277-4EC5-807D-E6FCB0C6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F4C-DCD0-4F54-B2A9-98C2110F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FB1-C1A6-4081-82AE-BB7D58EC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7D9-18C2-4114-B417-6465473A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83A1-B9FD-486B-B3C3-6E32F2FC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C979-88D9-4358-84BC-4BD3F925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52EB-EDAD-42EC-BF77-72D39712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FB99-5AB9-4752-9AB5-63407AE7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F182-7D3A-453A-9159-0556C465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4A0A-9F22-4A15-A067-95EC79C8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6A00-737C-4363-8A29-497CE709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D6E-82A3-4599-B80E-B21BD073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BCF9-4101-44EE-AE10-901ACA2C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93AC-08F0-4894-A2F1-EBC883C7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4DAF-6579-412D-818E-31EBF96F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94B1-0B8F-4ABB-8560-9E6F610F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E4AD-7287-4D5F-B6C8-EC3AA8F7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BDB-C82F-4283-92DF-FF7C5469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57D-26BE-41B2-A454-7DE06BBC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F42-982C-4DD4-B36D-0B15A94A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BDE-28A8-45D4-AC07-8E5E318C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1AF-D276-4259-A4F9-52ED8F00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64C-EA13-40EC-8520-71432A1C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AD8-A700-458A-A196-289EACF9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234B-2EA7-4F7C-8E2F-9D34CEE4EF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CEA6-29A9-4199-A9CB-B29E584B9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пастовская средняя  школ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пастовского  район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Республики Татарста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к  по  обществозна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Насибул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ульнур Хайда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Региональные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лог  на  имущество  предпри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сной  нало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бор  с  юридических лиц  на  нужды  образовательных  учре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191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685800"/>
            <a:ext cx="1828800" cy="2133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Эле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алог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1676520"/>
            <a:ext cx="609480" cy="4572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066680"/>
            <a:ext cx="3048120" cy="152424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Носитель налога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лицо, с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удерживается н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886200"/>
            <a:ext cx="3733920" cy="220968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Источник  налог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доход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и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уплачи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налог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295280"/>
            <a:ext cx="3276360" cy="129564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логоплательщ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86200"/>
            <a:ext cx="3124080" cy="22096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кт  налог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ход, имущество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ова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7400" y="186228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352680" y="2743200"/>
            <a:ext cx="4572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819520"/>
            <a:ext cx="533520" cy="106668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638680" y="2133360"/>
            <a:ext cx="228600" cy="7596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838080"/>
            <a:ext cx="464832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Налоговые  системы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47560" y="2286000"/>
            <a:ext cx="99036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286000"/>
            <a:ext cx="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2286000"/>
            <a:ext cx="83808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1828800" cy="23623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Пропор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циональ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3962520"/>
            <a:ext cx="190512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Прогрес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038480"/>
            <a:ext cx="182880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Регрес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09480"/>
            <a:ext cx="3581640" cy="16002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Бюдж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200400"/>
            <a:ext cx="266724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Дохо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налоги, сбо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200400"/>
            <a:ext cx="243828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Расхо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выпла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286000" y="2057400"/>
            <a:ext cx="9144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2057400"/>
            <a:ext cx="1143000" cy="11430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92360" y="2276640"/>
            <a:ext cx="2283120" cy="224784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Автор – Насибуллина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Гульнур Хайдаровн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спублики Татарст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пастово, 2003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Налоги  как  источник  доходов государств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ы  можешь  и   не заметить, что  у тебя  всё  идёт хорошо, но  налоговая  служба напом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ьер  Данино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61000" y="1641600"/>
            <a:ext cx="3584520" cy="445428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Налоговая система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04760" y="3505320"/>
            <a:ext cx="16002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505320"/>
            <a:ext cx="15238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228600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114800"/>
            <a:ext cx="213372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2242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Налог  как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финансо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систе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1280" y="4495680"/>
            <a:ext cx="16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Элемент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налог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Экономическая сущность  налога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валового  внутреннего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  себестоимости 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 прибы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 личного  дохода  работ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Методы  налогообложения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Косвен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вой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логовая деклар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Функции налогов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иск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гу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тро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ци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Console"/>
              </a:rPr>
              <a:t>Прям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Ви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лог  на  прибы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логи  на  имущ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логи  на  до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сурсные  плат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1888920" cy="187488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Налог  на  добавленную  сто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Акц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Таможенные  пошл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Налог  на  операции с  ценными  бумаг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18400" y="2590920"/>
            <a:ext cx="1944720" cy="236196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en-US" sz="44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Федеральные  нало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Региональные  налог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Местные  налоги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080" y="129528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Федераль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Налог  на  добавленную стоим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Акцизы  на  отдельные  группы и  виды  това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Подоходный  н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Таможенная  пош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Гербовый  с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Налог  на  наследуемое  и  даримое  имущество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696080" y="5334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9:36:13Z</dcterms:created>
  <dc:creator>User</dc:creator>
  <dc:description/>
  <dc:language>en-US</dc:language>
  <cp:lastModifiedBy>User</cp:lastModifiedBy>
  <dcterms:modified xsi:type="dcterms:W3CDTF">2006-02-17T20:09:10Z</dcterms:modified>
  <cp:revision>7</cp:revision>
  <dc:subject/>
  <dc:title>Апастовская средняя  школа.</dc:title>
</cp:coreProperties>
</file>