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51888-E3F5-41FC-8806-FE2F47412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FFAE2-E0A6-45E5-B2B9-327D6F81B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405A7-0066-4EFA-B1AA-1F50940A9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FD8E5-BCC2-42CE-AB50-B56164EEA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3CA38-9F61-4517-98C6-EB828F073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E2224-7E6E-4EE4-811B-2AF7B75DE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425AE-A9C8-4C79-ADAB-AEBCD8996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CFA49-B5AB-4CEF-A047-0489D6A9E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8CD60-F4BC-4C66-937F-A6D7A0473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64C33-083B-44F8-9AAE-6A0F4CC42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C371B-C990-47EB-8695-FE692E733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36732-36C8-4E0A-9838-8E34EBE17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0A9CB-0BFD-40B7-B66A-4A023BB4CF66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4920" y="2214360"/>
            <a:ext cx="7877160" cy="387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000"/>
                </a:solidFill>
                <a:latin typeface="Calibri"/>
              </a:rPr>
              <a:t>Проект </a:t>
            </a:r>
            <a:br>
              <a:rPr sz="4000"/>
            </a:br>
            <a:r>
              <a:rPr b="1" lang="ru-RU" sz="4000" spc="-1" strike="noStrike">
                <a:solidFill>
                  <a:srgbClr val="ffc000"/>
                </a:solidFill>
                <a:latin typeface="Calibri"/>
              </a:rPr>
              <a:t> «Что в имени тебе моём ?»</a:t>
            </a:r>
            <a:br>
              <a:rPr sz="4000"/>
            </a:br>
            <a:br>
              <a:rPr sz="3600"/>
            </a:br>
            <a:r>
              <a:rPr b="1" lang="ru-RU" sz="2400" spc="-1" strike="noStrike">
                <a:solidFill>
                  <a:srgbClr val="ffc000"/>
                </a:solidFill>
                <a:latin typeface="Arial"/>
              </a:rPr>
              <a:t>Разработчики : 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ffc000"/>
                </a:solidFill>
                <a:latin typeface="Arial"/>
              </a:rPr>
              <a:t>Гридчина Марина</a:t>
            </a:r>
            <a:br>
              <a:rPr sz="2400"/>
            </a:br>
            <a:r>
              <a:rPr b="1" lang="ru-RU" sz="2400" spc="-1" strike="noStrike">
                <a:solidFill>
                  <a:srgbClr val="ffc000"/>
                </a:solidFill>
                <a:latin typeface="Arial"/>
              </a:rPr>
              <a:t>Пляшник Оксана</a:t>
            </a:r>
            <a:br>
              <a:rPr sz="2400"/>
            </a:br>
            <a:r>
              <a:rPr b="1" lang="ru-RU" sz="2400" spc="-1" strike="noStrike">
                <a:solidFill>
                  <a:srgbClr val="ffc000"/>
                </a:solidFill>
                <a:latin typeface="Arial"/>
              </a:rPr>
              <a:t>Шамрай Юля</a:t>
            </a:r>
            <a:r>
              <a:rPr b="1" lang="ru-RU" sz="3600" spc="-1" strike="noStrike">
                <a:solidFill>
                  <a:srgbClr val="ffc000"/>
                </a:solidFill>
                <a:latin typeface="Arial"/>
              </a:rPr>
              <a:t>,</a:t>
            </a:r>
            <a:br>
              <a:rPr sz="3600"/>
            </a:br>
            <a:r>
              <a:rPr b="1" lang="ru-RU" sz="36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ffc000"/>
                </a:solidFill>
                <a:latin typeface="Arial"/>
              </a:rPr>
              <a:t>учащиеся 7б класса </a:t>
            </a:r>
            <a:br>
              <a:rPr sz="3600"/>
            </a:br>
            <a:br>
              <a:rPr sz="3600"/>
            </a:b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85920" y="213840"/>
            <a:ext cx="6400800" cy="69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5c1f34"/>
                </a:solidFill>
                <a:latin typeface="Calibri"/>
              </a:rPr>
              <a:t>МБОУ Ордынская средняя общеобразовательная 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5c1f34"/>
                </a:solidFill>
                <a:latin typeface="Calibri"/>
              </a:rPr>
              <a:t>школа № 2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000"/>
                </a:solidFill>
                <a:latin typeface="Calibri"/>
              </a:rPr>
              <a:t>Имя должно не только красиво звучать, но нести смысловое значение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Необходимо знать перевод имени или историю происхождения. Например, имя </a:t>
            </a: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АРДОЛЬОН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звучит красиво, а переводится – неряха, грязнуля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Calibri"/>
              </a:rPr>
              <a:t>Что означают некоторые </a:t>
            </a:r>
            <a:br>
              <a:rPr sz="4400"/>
            </a:br>
            <a:r>
              <a:rPr b="1" lang="ru-RU" sz="4400" spc="-1" strike="noStrike">
                <a:solidFill>
                  <a:srgbClr val="ffc000"/>
                </a:solidFill>
                <a:latin typeface="Calibri"/>
              </a:rPr>
              <a:t>имена</a:t>
            </a:r>
            <a:r>
              <a:rPr b="0" lang="ru-RU" sz="4400" spc="-1" strike="noStrike">
                <a:solidFill>
                  <a:srgbClr val="ffc000"/>
                </a:solidFill>
                <a:latin typeface="Calibri"/>
              </a:rPr>
              <a:t> ?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28760" y="1428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Евгений, Евгения (греч.)-благородный, благородная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Екатерина (греч.) – чистая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Елена (греч.) – светлая, солнечная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Иван (Иоанн) (евр.) – благодать Божия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Ирина (греч.) – мир, мирная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Марина (лат.)- море, морская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В настоящее время существует множество поэтизированных рассказов о различных именах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000"/>
                </a:solidFill>
                <a:latin typeface="Calibri"/>
              </a:rPr>
              <a:t>Заключение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Именины – личный праздник, каждый хочет знать о происхождении своего имени, о людях, носивших это имя, ведь оно не просто слово для окликания. Имя – это и судьба, и характер, и помощник на добрые дела, и защитник небесный. Ваше имя – имя ангела-хранителя вашего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66"/>
                </a:solidFill>
                <a:latin typeface="Arial"/>
              </a:rPr>
              <a:t>Литература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«Предметные недели в школе. Русский язык и литература». Косивцева Л.И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«Мозаика детского отдыха. Внеклассные мероприятия». Загумёнова Л.Л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ловарь русских личных имён. Петровский Н.А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6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Calibri"/>
              </a:rPr>
              <a:t>Цели проекта:</a:t>
            </a:r>
            <a:br>
              <a:rPr sz="2200"/>
            </a:br>
            <a:r>
              <a:rPr b="0" lang="en-US" sz="2200" spc="-1" strike="noStrike">
                <a:solidFill>
                  <a:srgbClr val="5c1f34"/>
                </a:solidFill>
                <a:latin typeface="Calibri"/>
              </a:rPr>
              <a:t>-</a:t>
            </a:r>
            <a:r>
              <a:rPr b="1" lang="en-US" sz="2800" spc="-1" strike="noStrike">
                <a:solidFill>
                  <a:srgbClr val="5c1f34"/>
                </a:solidFill>
                <a:latin typeface="Calibri"/>
              </a:rPr>
              <a:t>познакомиться с историей происхождения  имён;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5c1f34"/>
                </a:solidFill>
                <a:latin typeface="Calibri"/>
              </a:rPr>
              <a:t>-узнать значение некоторых имён.</a:t>
            </a:r>
            <a:br>
              <a:rPr sz="2200"/>
            </a:b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Calibri"/>
              </a:rPr>
              <a:t>Задачи :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buClr>
                <a:srgbClr val="5c1f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c1f34"/>
                </a:solidFill>
                <a:latin typeface="Calibri"/>
              </a:rPr>
              <a:t>Изучить специальную литературу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buClr>
                <a:srgbClr val="5c1f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c1f34"/>
                </a:solidFill>
                <a:latin typeface="Calibri"/>
              </a:rPr>
              <a:t>Провести социальный опрос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000"/>
                </a:solidFill>
                <a:latin typeface="Calibri"/>
              </a:rPr>
              <a:t>Актуальность проекта</a:t>
            </a:r>
            <a:br>
              <a:rPr sz="2700"/>
            </a:br>
            <a:r>
              <a:rPr b="1" lang="en-US" sz="2700" spc="-1" strike="noStrike">
                <a:solidFill>
                  <a:srgbClr val="ffffff"/>
                </a:solidFill>
                <a:latin typeface="Calibri"/>
              </a:rPr>
              <a:t>Каждый год мы отмечаем дни рождения. Когда мы рождаемся, родители дают нам имена. Порой, давая имена, они не знают их значения, не знаем значения своих имён и мы или не все знаем.</a:t>
            </a:r>
            <a:br>
              <a:rPr sz="2700"/>
            </a:br>
            <a:br>
              <a:rPr sz="2700"/>
            </a:b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c1f34"/>
                </a:solidFill>
                <a:latin typeface="Calibri"/>
              </a:rPr>
              <a:t>90 % опрошенных нами людей не знают значения своего имени, а между тем, в древности имя, данное при рождении, держали в тайне или давали двойные имена, одно из которых знали только близкие люди, потому что имя несёт судьбу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44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Calibri"/>
              </a:rPr>
              <a:t>Экскурс в историю</a:t>
            </a:r>
            <a:br>
              <a:rPr sz="2200"/>
            </a:br>
            <a:r>
              <a:rPr b="0" lang="en-US" sz="2200" spc="-1" strike="noStrike">
                <a:solidFill>
                  <a:srgbClr val="5c1f34"/>
                </a:solidFill>
                <a:latin typeface="Calibri"/>
              </a:rPr>
              <a:t>Все личные имена некогда были нарицательными.  В древности существовал обычай : при рождении ребёнка присваивать ему в качестве имени названия различных предметов, явлений, признаков. Отсюда такие древнерусские имена, как </a:t>
            </a:r>
            <a:r>
              <a:rPr b="1" lang="en-US" sz="2200" spc="-1" strike="noStrike">
                <a:solidFill>
                  <a:srgbClr val="c00000"/>
                </a:solidFill>
                <a:latin typeface="Calibri"/>
              </a:rPr>
              <a:t>ДОБРЫНЯ, ДРУЖИНА, КАЛИНА.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2500200"/>
            <a:ext cx="8229600" cy="36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c1f34"/>
                </a:solidFill>
                <a:latin typeface="Calibri"/>
              </a:rPr>
              <a:t>До принятия христианства у русских были имена, которые называли человека по внутреннему или внешнему признаку (</a:t>
            </a:r>
            <a:r>
              <a:rPr b="1" lang="en-US" sz="2400" spc="-1" strike="noStrike">
                <a:solidFill>
                  <a:srgbClr val="c00000"/>
                </a:solidFill>
                <a:latin typeface="Calibri"/>
              </a:rPr>
              <a:t>БОЛЬШОЙ, РЯБОЙ, КОСОЙ, КУДРЯШ</a:t>
            </a:r>
            <a:r>
              <a:rPr b="0" lang="en-US" sz="2400" spc="-1" strike="noStrike">
                <a:solidFill>
                  <a:srgbClr val="5c1f34"/>
                </a:solidFill>
                <a:latin typeface="Calibri"/>
              </a:rPr>
              <a:t>), отражали порядок появления новых членов семьи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Calibri"/>
              </a:rPr>
              <a:t>( ПЕРВУША, МАЛЮТА, ПОЗДНЕЙ)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221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83d68"/>
                </a:solidFill>
                <a:latin typeface="Calibri"/>
              </a:rPr>
              <a:t>Наши предки пользовались и иносказательными именами : </a:t>
            </a: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БАРАН, ВОЛК,БЛОХА, ГНИДА,ВОРОНА, ДУБ</a:t>
            </a:r>
            <a:r>
              <a:rPr b="1" lang="en-US" sz="2400" spc="-1" strike="noStrike">
                <a:solidFill>
                  <a:srgbClr val="c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Иногда в качестве имён брались не реальные, а желаемые признаки : </a:t>
            </a: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СВЕТОЗАР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(светлый, как заря), </a:t>
            </a: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ВЛАДИСЛАВ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(владеющий миром), </a:t>
            </a: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ВСЕМИЛА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( всеми милая)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Смысловые значения некоторых имён забывались. А нарицательные имена превращались в собственные. Имя </a:t>
            </a: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ПРОСКОВЬЯ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осознаётся как имя только потому, что в быту уже едва кто вспомнит о его первоначальном значении – «пятница»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000"/>
                </a:solidFill>
                <a:latin typeface="Calibri"/>
              </a:rPr>
              <a:t>Имена литературных героев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В.А.Жуковский опоэтизировал имена </a:t>
            </a: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СВЕТЛАНА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(светлая), </a:t>
            </a: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ЛЮДМИЛ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А (людям милая)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Д.И.Фонвизин назвал своего героя </a:t>
            </a: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МИТРОФАНОМ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. В буквальном переводе с греческого языка это имя означает «являющий свою мать», т.е. похожий на мать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У Н.В.Гоголя герой «Шинели» - </a:t>
            </a: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АКАКИЙ АКАКИЕВИЧ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(греч.) – «не делающий зла, безропотный, кроткий». Он на самом деле кроткий, тихий, безропотный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000"/>
                </a:solidFill>
                <a:latin typeface="Calibri"/>
              </a:rPr>
              <a:t>Революция и имена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Регистрацию новорождённых стали вести отделы записи актов гражданского состояния(загсы)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Родители могли выбрать любое понравившееся имя или даже придумать своё. Родители иногда давали своим детям нелепые, странные имена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Известно около трёх тысяч новых и заимствованных имён, которые не имели распространение в последующие годы: </a:t>
            </a:r>
            <a:r>
              <a:rPr b="1" lang="en-US" sz="2400" spc="-1" strike="noStrike">
                <a:solidFill>
                  <a:srgbClr val="c00000"/>
                </a:solidFill>
                <a:latin typeface="Calibri"/>
              </a:rPr>
              <a:t>БЕРЁЗА, СИРЕНЬ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. Представлены чуть ли не все элементы химической таблицы Менделеева : </a:t>
            </a:r>
            <a:r>
              <a:rPr b="1" lang="en-US" sz="2400" spc="-1" strike="noStrike">
                <a:solidFill>
                  <a:srgbClr val="c00000"/>
                </a:solidFill>
                <a:latin typeface="Calibri"/>
              </a:rPr>
              <a:t>РАДИЙ,ИРИДИЙ,ВОЛЬФРАМ,РУБИН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Математические термины : </a:t>
            </a:r>
            <a:r>
              <a:rPr b="1" lang="en-US" sz="2400" spc="-1" strike="noStrike">
                <a:solidFill>
                  <a:srgbClr val="c00000"/>
                </a:solidFill>
                <a:latin typeface="Calibri"/>
              </a:rPr>
              <a:t>МЕДИАНА,АЛГЕБРИНА,ГИПОТЕНУЗА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000"/>
                </a:solidFill>
                <a:latin typeface="Calibri"/>
              </a:rPr>
              <a:t>Почему на Руси было распространено имя ИВАН ?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Это имя в полных святцах встречается 170 раз (Святцы или месяцесловы – в русской православной церкви – особые книги. В святцах на каждый день были записаны имена святых, которых в этот день чтит церковь. Священник родителям перед обрядом крещения предлагал на выбор несколько имён, которые значились в святцах)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После революции были модны имена из других языков : </a:t>
            </a:r>
            <a:r>
              <a:rPr b="1" lang="en-US" sz="2400" spc="-1" strike="noStrike">
                <a:solidFill>
                  <a:srgbClr val="c00000"/>
                </a:solidFill>
                <a:latin typeface="Calibri"/>
              </a:rPr>
              <a:t>ИЗОЛЬДА,АРТУР,ЭЛИЗА,РОБЕРТ, ЭДУАРД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Пошли в ход имена древнегреческих и древнеримских богов : </a:t>
            </a: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ВЕНЕРА,ДИАНА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Очень много имён было образовано от революционных лозунгов: </a:t>
            </a: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НОЯБРИНА,СВОБОДА,НИНЕЛ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Ь (справа налево – Ленин),</a:t>
            </a: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ВИЛЕН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А (Владимир Ильич Ленин),</a:t>
            </a: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РОБЛЕН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(родился быть ленинцем)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Уродливые имена : </a:t>
            </a: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ЦАС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(Центральный аптечный склад), </a:t>
            </a: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РАЙТИЯ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(районная типография)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1T13:46:57Z</dcterms:created>
  <dc:creator>SamLab.ws</dc:creator>
  <dc:description/>
  <dc:language>en-US</dc:language>
  <cp:lastModifiedBy>учитель</cp:lastModifiedBy>
  <dcterms:modified xsi:type="dcterms:W3CDTF">2009-05-12T06:46:31Z</dcterms:modified>
  <cp:revision>19</cp:revision>
  <dc:subject/>
  <dc:title>1.Класс объединила одна общая цель деятельности да-4 иногда -7 нет -5 2. Класс представляет единое целое да -4 иногда -7 нет -5 3. Достижение положительных результатов в работе увлекательно для всех иногда -12 всегда 4 </dc:title>
</cp:coreProperties>
</file>