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BFE-3EA3-45FE-B8C3-FF569DE8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796-EF6E-4B4E-972E-69842FD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F32-9CA4-4169-B133-CFD4B515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E37-58C0-4E5F-83CC-C4D88BF2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A20-207F-4208-AB8A-5A6CF336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129-9E08-452B-BB6F-6510A406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677-696E-4347-8CBA-416E1E9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559-86D2-4324-ABB4-694AD64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DB4-BC76-4BAC-85D4-262FDA46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AA3-FD8E-4AC1-A8FF-26215E37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BC5-D0FA-4305-8ADD-AD6051D4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833-9A89-414C-93D1-02D0A033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2658-8484-4216-AF92-26E172D8D3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214360"/>
            <a:ext cx="7877160" cy="387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 «Что в имени тебе моём ?»</a:t>
            </a:r>
            <a:br>
              <a:rPr sz="4000"/>
            </a:br>
            <a:br>
              <a:rPr sz="36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чики 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Гридчина Марина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ляшник Оксана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Шамрай Юля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,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чащиеся 7б класса 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1384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c1f34"/>
                </a:solidFill>
                <a:latin typeface="Calibri"/>
              </a:rPr>
              <a:t>МБОУ Ордынская средняя общеобразовательная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c1f34"/>
                </a:solidFill>
                <a:latin typeface="Calibri"/>
              </a:rPr>
              <a:t>школа № 2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Имя должно не только красиво звучать, но нести смысловое знач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еобходимо знать перевод имени или историю происхождения. Например, имя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АРДОЛЬО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звучит красиво, а переводится – неряха, грязнул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Что означают некоторые </a:t>
            </a:r>
            <a:br>
              <a:rPr sz="4400"/>
            </a:b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имена</a:t>
            </a: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вгений, Евгения (греч.)-благородный, благород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катерина (греч.) – чист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лена (греч.) – светлая, солнеч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ван (Иоанн) (евр.) – благодать Бож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рина (греч.) – мир, мирн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ина (лат.)- море, морска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настоящее время существует множество поэтизированных рассказов о различных имен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менины – личный праздник, каждый хочет знать о происхождении своего имени, о людях, носивших это имя, ведь оно не просто слово для окликания. Имя – это и судьба, и характер, и помощник на добрые дела, и защитник небесный. Ваше имя – имя ангела-хранителя вашег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Arial"/>
              </a:rPr>
              <a:t>Литература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едметные недели в школе. Русский язык и литература». Косивцева Л.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озаика детского отдыха. Внеклассные мероприятия». Загумёнова Л.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арь русских личных имён. Петровский Н.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Цели проекта:</a:t>
            </a:r>
            <a:br>
              <a:rPr sz="2200"/>
            </a:br>
            <a:r>
              <a:rPr b="0" lang="en-US" sz="2200" spc="-1" strike="noStrike">
                <a:solidFill>
                  <a:srgbClr val="5c1f34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познакомиться с историей происхождения  имён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-узнать значение некоторых имён.</a:t>
            </a:r>
            <a:br>
              <a:rPr sz="2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Задачи 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c1f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Calibri"/>
              </a:rPr>
              <a:t>Изучить специальную литератур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buClr>
                <a:srgbClr val="5c1f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1f34"/>
                </a:solidFill>
                <a:latin typeface="Calibri"/>
              </a:rPr>
              <a:t>Провести социальный опро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Актуальность проекта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Каждый год мы отмечаем дни рождения. Когда мы рождаемся, родители дают нам имена. Порой, давая имена, они не знают их значения, не знаем значения своих имён и мы или не все знаем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1f34"/>
                </a:solidFill>
                <a:latin typeface="Calibri"/>
              </a:rPr>
              <a:t>90 % опрошенных нами людей не знают значения своего имени, а между тем, в древности имя, данное при рождении, держали в тайне или давали двойные имена, одно из которых знали только близкие люди, потому что имя несёт судьб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alibri"/>
              </a:rPr>
              <a:t>Экскурс в историю</a:t>
            </a:r>
            <a:br>
              <a:rPr sz="2200"/>
            </a:br>
            <a:r>
              <a:rPr b="0" lang="en-US" sz="2200" spc="-1" strike="noStrike">
                <a:solidFill>
                  <a:srgbClr val="5c1f34"/>
                </a:solidFill>
                <a:latin typeface="Calibri"/>
              </a:rPr>
              <a:t>Все личные имена некогда были нарицательными.  В древности существовал обычай : при рождении ребёнка присваивать ему в качестве имени названия различных предметов, явлений, признаков. Отсюда такие древнерусские имена, как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ДОБРЫНЯ, ДРУЖИНА, КАЛИНА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Calibri"/>
              </a:rPr>
              <a:t>До принятия христианства у русских были имена, которые называли человека по внутреннему или внешнему признаку (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БОЛЬШОЙ, РЯБОЙ, КОСОЙ, КУДРЯШ</a:t>
            </a:r>
            <a:r>
              <a:rPr b="0" lang="en-US" sz="2400" spc="-1" strike="noStrike">
                <a:solidFill>
                  <a:srgbClr val="5c1f34"/>
                </a:solidFill>
                <a:latin typeface="Calibri"/>
              </a:rPr>
              <a:t>), отражали порядок появления новых членов семь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( ПЕРВУША, МАЛЮТА, ПОЗДНЕЙ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83d68"/>
                </a:solidFill>
                <a:latin typeface="Calibri"/>
              </a:rPr>
              <a:t>Наши предки пользовались и иносказательными именами :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БАРАН, ВОЛК,БЛОХА, ГНИДА,ВОРОНА, ДУБ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ногда в качестве имён брались не реальные, а желаемые признаки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СВЕТОЗАР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светлый, как заря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ЛАДИСЛАВ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владеющий миром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СЕМИЛ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 всеми мила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мысловые значения некоторых имён забывались. А нарицательные имена превращались в собственные. Имя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ПРОСКОВЬ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осознаётся как имя только потому, что в быту уже едва кто вспомнит о его первоначальном значении – «пятница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Имена литературных герое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.А.Жуковский опоэтизировал имена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СВЕТЛАН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светлая),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ЛЮДМИЛ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(людям милая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Д.И.Фонвизин назвал своего героя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МИТРОФАНОМ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 В буквальном переводе с греческого языка это имя означает «являющий свою мать», т.е. похожий на м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 Н.В.Гоголя герой «Шинели» 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АКАКИЙ АКАКИЕВИЧ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греч.) – «не делающий зла, безропотный, кроткий». Он на самом деле кроткий, тихий, безропотны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Революция и имен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гистрацию новорождённых стали вести отделы записи актов гражданского состояния(загсы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одители могли выбрать любое понравившееся имя или даже придумать своё. Родители иногда давали своим детям нелепые, странные имен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звестно около трёх тысяч новых и заимствованных имён, которые не имели распространение в последующие годы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БЕРЁЗА, СИРЕНЬ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 Представлены чуть ли не все элементы химической таблицы Менделеева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РАДИЙ,ИРИДИЙ,ВОЛЬФРАМ,РУБИ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Математические термины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МЕДИАНА,АЛГЕБРИНА,ГИПОТЕНУЗ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Почему на Руси было распространено имя ИВАН 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Это имя в полных святцах встречается 170 раз (Святцы или месяцесловы – в русской православной церкви – особые книги. В святцах на каждый день были записаны имена святых, которых в этот день чтит церковь. Священник родителям перед обрядом крещения предлагал на выбор несколько имён, которые значились в святцах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После революции были модны имена из других языков :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ИЗОЛЬДА,АРТУР,ЭЛИЗА,РОБЕРТ, ЭДУАРД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шли в ход имена древнегреческих и древнеримских богов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ЕНЕРА,ДИАН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Очень много имён было образовано от революционных лозунгов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НОЯБРИНА,СВОБОДА,НИНЕЛ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Ь (справа налево – Ленин),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ВИЛЕН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(Владимир Ильич Ленин),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ОБЛЕН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родился быть ленинцем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родливые имена :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ЦАС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Центральный аптечный склад),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РАЙТ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районная типография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46:57Z</dcterms:created>
  <dc:creator>SamLab.ws</dc:creator>
  <dc:description/>
  <dc:language>en-US</dc:language>
  <cp:lastModifiedBy>учитель</cp:lastModifiedBy>
  <dcterms:modified xsi:type="dcterms:W3CDTF">2009-05-12T06:46:31Z</dcterms:modified>
  <cp:revision>19</cp:revision>
  <dc:subject/>
  <dc:title>1.Класс объединила одна общая цель деятельности да-4 иногда -7 нет -5 2. Класс представляет единое целое да -4 иногда -7 нет -5 3. Достижение положительных результатов в работе увлекательно для всех иногда -12 всегда 4 </dc:title>
</cp:coreProperties>
</file>