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5BA-61E2-46D6-B909-416D70A0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508-2138-4BC9-84E5-D6C1C79E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F0D-F401-4230-8507-93395999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019-B9E7-4FF9-BD18-A9C93033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530-A187-4A7D-A3BF-69FD143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CA3-9454-4D46-B7A3-DBB911D6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45D-D572-4EC8-BC38-74FDEE44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667-7FCE-4A2B-A86E-81DB88D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524-ACFB-4470-9D7C-FEFC84A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9CA-EEC9-4705-8D75-FF6C58F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BCF-4490-4B1B-8E1C-5C8138D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76C-B504-4850-8980-05C42169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F5F-4A4F-4400-83AE-0C67CE1FC6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214360"/>
            <a:ext cx="7877160" cy="38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«Что в имени тебе моём ?»</a:t>
            </a:r>
            <a:br>
              <a:rPr sz="4000"/>
            </a:br>
            <a:br>
              <a:rPr sz="36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чики 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Гридчина Мари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ляшник Окса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Шамрай Юля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,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ащиеся 7б класса 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1384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МБОУ Ордынская средняя общеобразовательная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школа № 2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я должно не только красиво звучать, но нести смысловое зна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еобходимо знать перевод имени или историю происхождения. Например,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АРДОЛЬО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звучит красиво, а переводится – неряха, грязну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Что означают некоторые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мена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вгений, Евгения (греч.)-благородный, благород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катерина (греч.) – чист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лена (греч.) – светлая, солнеч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ван (Иоанн) (евр.) – благодать Бож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рина (греч.) – мир, мир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ина (лат.)- море, мор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настоящее время существует множество поэтизированных рассказов о различных имен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нины – личный праздник, каждый хочет знать о происхождении своего имени, о людях, носивших это имя, ведь оно не просто слово для окликания. Имя – это и судьба, и характер, и помощник на добрые дела, и защитник небесный. Ваше имя – имя ангела-хранителя вашег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Arial"/>
              </a:rPr>
              <a:t>Литератур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едметные недели в школе. Русский язык и литература». Косивцева Л.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заика детского отдыха. Внеклассные мероприятия». Загумёнова Л.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арь русских личных имён. Петровский Н.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Цели проекта: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познакомиться с историей происхождения  имён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-узнать значение некоторых имён.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Задачи 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Изучить специальную литератур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Провести социальный опро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Актуальность проекта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Каждый год мы отмечаем дни рождения. Когда мы рождаемся, родители дают нам имена. Порой, давая имена, они не знают их значения, не знаем значения своих имён и мы или не все знаем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90 % опрошенных нами людей не знают значения своего имени, а между тем, в древности имя, данное при рождении, держали в тайне или давали двойные имена, одно из которых знали только близкие люди, потому что имя несёт судьб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Экскурс в историю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Все личные имена некогда были нарицательными.  В древности существовал обычай : при рождении ребёнка присваивать ему в качестве имени названия различных предметов, явлений, признаков. Отсюда такие древнерусские имена, как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ДОБРЫНЯ, ДРУЖИНА, КАЛИН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До принятия христианства у русских были имена, которые называли человека по внутреннему или внешнему признаку (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ОЛЬШОЙ, РЯБОЙ, КОСОЙ, КУДРЯШ</a:t>
            </a: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), отражали порядок появления новых членов семь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( ПЕРВУША, МАЛЮТА, ПОЗДНЕЙ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Наши предки пользовались и иносказательными именами :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БАРАН, ВОЛК,БЛОХА, ГНИДА,ВОРОНА, ДУБ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ногда в качестве имён брались не реальные, а желаемые признаки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СВЕТОЗАР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светлый, как заря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ЛАДИСЛА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владеющий миром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СЕМИЛ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 всеми мила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мысловые значения некоторых имён забывались. А нарицательные имена превращались в собственные.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ПРОСКОВЬ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осознаётся как имя только потому, что в быту уже едва кто вспомнит о его первоначальном значении – «пятница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ена литературных герое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.А.Жуковский опоэтизировал имена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СВЕТЛАН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светлая)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ЛЮДМИЛ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(людям милая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.И.Фонвизин назвал своего героя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ИТРОФАНОМ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В буквальном переводе с греческого языка это имя означает «являющий свою мать», т.е. похожий на м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 Н.В.Гоголя герой «Шинели» 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АКАКИЙ АКАКИЕВИЧ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греч.) – «не делающий зла, безропотный, кроткий». Он на самом деле кроткий, тихий, безропотны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Революция и име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гистрацию новорождённых стали вести отделы записи актов гражданского состояния(загсы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одители могли выбрать любое понравившееся имя или даже придумать своё. Родители иногда давали своим детям нелепые, странные имен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естно около трёх тысяч новых и заимствованных имён, которые не имели распространение в последующие годы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ЕРЁЗА, СИРЕН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Представлены чуть ли не все элементы химической таблицы Менделеева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РАДИЙ,ИРИДИЙ,ВОЛЬФРАМ,РУБИ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тематические термины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ДИАНА,АЛГЕБРИНА,ГИПОТЕНУЗ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Почему на Руси было распространено имя ИВАН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Это имя в полных святцах встречается 170 раз (Святцы или месяцесловы – в русской православной церкви – особые книги. В святцах на каждый день были записаны имена святых, которых в этот день чтит церковь. Священник родителям перед обрядом крещения предлагал на выбор несколько имён, которые значились в святцах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сле революции были модны имена из других языков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ИЗОЛЬДА,АРТУР,ЭЛИЗА,РОБЕРТ, ЭДУАР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шли в ход имена древнегреческих и древнеримских богов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ЕНЕРА,ДИАН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чень много имён было образовано от революционных лозунгов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НОЯБРИНА,СВОБОДА,НИНЕ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Ь (справа налево –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ИЛЕ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(Владимир Ильич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ОБЛЕН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родился быть ленинцем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родливые имена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ЦА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Центральный аптечный склад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АЙ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районная типографи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46:57Z</dcterms:created>
  <dc:creator>SamLab.ws</dc:creator>
  <dc:description/>
  <dc:language>en-US</dc:language>
  <cp:lastModifiedBy>учитель</cp:lastModifiedBy>
  <dcterms:modified xsi:type="dcterms:W3CDTF">2009-05-12T06:46:31Z</dcterms:modified>
  <cp:revision>19</cp:revision>
  <dc:subject/>
  <dc:title>1.Класс объединила одна общая цель деятельности да-4 иногда -7 нет -5 2. Класс представляет единое целое да -4 иногда -7 нет -5 3. Достижение положительных результатов в работе увлекательно для всех иногда -12 всегда 4 </dc:title>
</cp:coreProperties>
</file>