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19E-8008-42B6-9A7E-A22CE7D5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951D-5FE1-4462-B050-A9AE74FF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0A22-4414-44B9-AB96-A2B0FEA7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1BE2-AD51-4E99-A868-8A3DBFBC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299D-3E2F-4421-B8DC-4901476C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35D8-D8A3-4B56-946D-4FC0E7C1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669C-1746-48E1-8250-BD4BA769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A566-7FC4-4DFE-856B-3A4A39D0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1E12-4AF6-4650-A317-3B02C716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3AB4-1434-4AD2-9675-DA2D069E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3922-76D6-4F58-9D05-6AD18BD2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8890-563F-406C-AC67-24DC2415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58B5-4F52-4016-A669-60B9E323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ACB7-DD26-477F-99DA-0979DF71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CCD3-81E3-4FD1-BEDD-477974F9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A316-71C0-45A7-B495-2F5D1AB3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EC96-56A4-4DF1-9966-4FC60BA3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719A8-C94A-438B-BD82-576F3392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1B99B-B3B6-4CF3-87EB-0F14C1DB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F19AB-737E-4817-AB32-C8A0A454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DD275-5EAE-42B3-9383-26096DAE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5E918-C5B1-458A-97A0-911336A1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B1E5-9FE8-460F-B435-878F9752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CEA23-B675-4E75-B222-A9B494E2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A6284-2529-4BF0-A643-5EB717C6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658B2-E12E-45A2-BA88-AA77272E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5D2FC-62A0-40EF-8486-AC1AB814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13792-73B4-4057-BA20-F71345A0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C7C86-568D-420D-A05A-7863DE29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20668-A8B0-4ED0-BF61-F2254332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E81C96-952C-4DDD-9B8B-EAB91127BB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4DAA79-7EF4-49A1-A9EB-3D4AE668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BC30FC-9B95-42DA-B926-E6A04CD4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CCCA-7A84-41C4-A264-333B4213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233A82-61A1-4CC5-9F78-8889EF94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9A5D39-5298-4D00-AA30-277E60D9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91944B-3722-424F-98EE-1BB4E192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D9409E-4BD7-46E9-9E4D-C95878D0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568DB7-2376-4955-B397-C08CE3E3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3D2FED-578C-45D3-BB77-C1840B82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F9AE7A-0125-4C88-8C4A-B9809236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FA4DC7-FF45-4677-9BB9-96B27C4F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D6254C-8379-4949-A91B-C2C78043F2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3F1655-B856-437C-9ACF-024AF1B8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B393-929C-45F6-8F87-9510DB83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373351-6B2E-4438-9FCD-0B2773D4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12D340-2690-40AD-BAC2-D61A1D71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B72700-D747-4072-9B1F-E868CCD5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4DE5E0-1939-4686-9E1D-3BF1E0A8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E23C16-C237-4CBB-94DB-15656F27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1E7A4F-A756-4F7D-A5CD-CBB0CC6E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FAC6D4-BA10-475D-8CC8-5DBEA710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7C7A91-2627-4290-8D99-C4BE422C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EE58B0-CBA6-4273-B38E-D437A0CB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9969E1-EA71-46A5-B6E3-7B3F6690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41EA-F8F7-4B13-BDD2-FDC20E4E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C0A52A-F05C-4541-911A-ECE529E2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A2E182-5A08-4F61-A9E1-3875B032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23F062-3002-47C3-9320-C3B74EDB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C6D99C-ABA4-4843-B7CD-1E915117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D4DFCF-C2F0-4681-9CD0-0389F26F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8493B4-A875-4F98-9E59-44594B1D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B55501-8F91-4DFF-9409-6E5EDDE2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1A3DA2-0998-4F2B-AF84-B968CB9C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E58092-F0F6-4B04-A5BE-5CE1F47C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16D2C0-29EB-4997-BD97-2B7E66B8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68C3-AD96-4BDC-BB77-013EAB8B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F1B0DD-8ED1-41DD-9C94-A18EF000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3EB851-C7D0-48E9-A729-B8062F69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231395-B304-41EA-8260-7C65292A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C13B-2E0A-4EFC-BE0B-E6C02EBE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444-4D08-41F2-B069-F8BBB6F8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76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69676d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3296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B50E-7638-4528-B0E3-706C074E632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8347-FA5D-48EF-93B8-AA32547484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9676d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26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76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1027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1028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69676d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029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Group 1030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1031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032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033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034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" name="Rectangle 1035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3296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D60A-6124-49A3-8593-AB44559935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76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145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69676d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148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3296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0"/>
          </p:nvPr>
        </p:nvSpPr>
        <p:spPr>
          <a:xfrm>
            <a:off x="8675280" y="6524640"/>
            <a:ext cx="468360" cy="3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dt" idx="11"/>
          </p:nvPr>
        </p:nvSpPr>
        <p:spPr>
          <a:xfrm>
            <a:off x="34560" y="668988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ельнова Е.А., Росздравнадзо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4308-7696-4791-A440-2E668FC2EC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31A4-4256-4161-AF7E-308C13DC86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38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Arial"/>
                <a:ea typeface="Arial"/>
              </a:rPr>
              <a:t>Систем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контроля качества лекарственных средств и других товаров аптечного ассортимен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0" y="5084280"/>
            <a:ext cx="32004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  <a:ea typeface="Arial"/>
              </a:rPr>
              <a:t>Лекция №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noname"/>
          <p:cNvPicPr/>
          <p:nvPr/>
        </p:nvPicPr>
        <p:blipFill>
          <a:blip r:embed="rId1"/>
          <a:stretch/>
        </p:blipFill>
        <p:spPr>
          <a:xfrm>
            <a:off x="684360" y="4869000"/>
            <a:ext cx="2666880" cy="178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62040" y="126792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подтверждении соответствия в форме декларирования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екларант самостоятельно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ирает испытательную лабораторию и орган по сертификации, который регистрирует декларации о соответств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жет осуществлять отбор образцов для проведения экспертизы (или может поручить отбор образцов на договорной основе испытательной лаборатории или органу по сертификаци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11280" y="1557360"/>
            <a:ext cx="792144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кларация о соответствии ЛС принимается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амим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одителем или продавцом (юридическим или физическим лицом, зарегистрированным в качестве ИП, либо выполняющим функции иностранного изготовителя на основании договора с ни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принятии декларации производитель (поставщик) декларирует, что продукт, который он выпускает в обращение, соответствует стандартам качества, принятым в РФ. При этом он предъявляет необходимые доказатель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бственные доказательства </a:t>
            </a:r>
            <a:endParaRPr b="0" lang="en-US" sz="36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61680" y="1484280"/>
            <a:ext cx="787068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спорт (протокол анализа) производителя (для отечественных ЛС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ртификат качества фирмы (для зарубежных ЛС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ументы, подтверждающие происхождение Л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околы входного контроля (испытаний) на сырье, полупродукты, субстанции и материалы, используемые в производстве Л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ументы, подтверждающие происхождение сырья, используемого в производстве данного Л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Доказательства с участием третьей стороны</a:t>
            </a:r>
            <a:endParaRPr b="0" lang="en-US" sz="36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61680" y="1628280"/>
            <a:ext cx="78706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9c2d1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 участием аккредитованного испытательного центра (лаборатории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околы испытаний, проведенных по показателям качества и безопасности, установленным в нормативной документации на данное Л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9c2d1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 участием органа по сертифика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ртификаты соответствия, выданные на производство или систему качества (СМК), сертифицированные в Системе сертификации ГОСТ 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662040" y="62064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инятая изготовителем (продавцом) декларация о соответствии  лекарственного средства подлежит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Arial"/>
              </a:rPr>
              <a:t>регистрации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в органе по сертификации, аккредитованном в установленном порядке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егистрация носит заявительный характе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еестр зарегистрированных деклараций о соответствии ведется органом по сертификац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екларация о соответствии может быть направлена на регистрацию только в один орган по сертификации по выбору изготовителя (продавца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57120" y="1125360"/>
            <a:ext cx="839160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кларация о соответствии принимается  в отношении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аждой серии (партии) Л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, выпускаемой в обращ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кларация о соответствии принимается на срок, установленный изготовителем (продавцом) ЛС, но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не более установленного срока годности Л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оставление копий деклараций о соответствии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е предусмотрено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ведения о декларации о соответствии указываются в сопроводительной документации на това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662040" y="907920"/>
            <a:ext cx="823104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настоящее время провести идентификацию сведений о декларации о соответствии можно по базе данных зарегистрированных деклараций, размещенной на сайте ФГУ «Центр экспертизы и контроля качества медицинской продукции» Росздравнадзо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соответствии со ст. 28 ФЗ № 184-ФЗ «О техническом регулировании» установлена обязанность лиц, являющихся заявителями (продавец продукции) предъявлять заинтересованным лицам документы, свидетельствующие о подтверждении соответствия продукции установленным требованиям (декларации о соответствии или их копи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этом,  заинтересованными лицами могут являться центры контроля качества в субъектах РФ, оптовые фармацевтические организации, розничные аптечные организации, а также потребител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Таким образом,</a:t>
            </a:r>
            <a:endParaRPr b="0" lang="en-US" sz="36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61680" y="1268280"/>
            <a:ext cx="787068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ветственность за качество ЛС несут производители ЛС или лица, выполняющие функции иностранного изготовителя (на основании договора с ним в части обеспечения соответствия поставляемой продукции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 каждого участника фармацевтического рынка должна быть внедрена система обеспечения кач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аждый субъект обращения ЛС несет ответственность за качество реализуемых препаратов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аждый на своем участке – производитель, поставщик, апте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производитель выпускает качественные ЛС, а при транспортировке и хранении допущены нарушения, в результате которых качество ЛС пострадало, такие препараты выявляются в результате мониторинга качества и подлежат изъятию из обращ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гистрация и сертификация изделий медицинского назна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2916360" y="260280"/>
            <a:ext cx="597672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гистрация ИМН проводится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осздравнадзоро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 целью их допуска 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зводств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порт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аже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нению на территории Р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2" descr="http://www.unicerts.ru/images/1reg_2010.jpg"/>
          <p:cNvPicPr/>
          <p:nvPr/>
        </p:nvPicPr>
        <p:blipFill>
          <a:blip r:embed="rId1"/>
          <a:stretch/>
        </p:blipFill>
        <p:spPr>
          <a:xfrm>
            <a:off x="0" y="0"/>
            <a:ext cx="2340000" cy="3300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Регистрационное удостоверение Serteks.ru"/>
          <p:cNvPicPr/>
          <p:nvPr/>
        </p:nvPicPr>
        <p:blipFill>
          <a:blip r:embed="rId2"/>
          <a:stretch/>
        </p:blipFill>
        <p:spPr>
          <a:xfrm>
            <a:off x="395280" y="3435480"/>
            <a:ext cx="2376360" cy="3422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http://t0.gstatic.com/images?q=tbn:ANd9GcSJbqFY2KSfzfavrlWeyXUvtKs1ON8f2QnYOx2A1e_r0i57Vj9WOg"/>
          <p:cNvPicPr/>
          <p:nvPr/>
        </p:nvPicPr>
        <p:blipFill>
          <a:blip r:embed="rId1"/>
          <a:stretch/>
        </p:blipFill>
        <p:spPr>
          <a:xfrm>
            <a:off x="6300720" y="3573360"/>
            <a:ext cx="2556000" cy="30942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8360" y="1773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ларирование Л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истрация и сертификация ИМ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ументы, подтверждающие качество ИМН и других товаров аптечного ассорти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662040" y="1700280"/>
            <a:ext cx="801360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истрация ИМН и мед. техник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ся на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сновании результатов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ответствующих испытаний и оценок, подтверждающих качество, эффективность и безопасность издел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971640" y="1125360"/>
            <a:ext cx="7772400" cy="489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стоящее время существует несколько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ипов испытан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которые необходимо пройти для успешной регистрации медицинского издел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Технические испыт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Токсикологические испыт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Медицинские исслед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Экспертиза досье на изделие медицинского назначения (медицинскую технику)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661680" y="1341360"/>
            <a:ext cx="8086680" cy="46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жателем Регистрационного Удостоверения может быть как юридическое лицо, так и индивидуальный предпринимат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Срок действ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егистрационного удостоверения 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не ограниче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истрационные удостоверения заносятся в единый Реест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9640" y="1341360"/>
            <a:ext cx="835344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оме того на территории РФ для ИМН действуе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язательная процедура подтверждения соответствия продукции стандартам качества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докумен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Декларация о соответств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ртификат ГОСТ 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гласно действующему законодательству, контроль качества и безопасности медицинских изделий осуществляет Минздрав России и Ростехрегулирование (Госстандарт) Р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62040" y="1196640"/>
            <a:ext cx="7772400" cy="482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ицинские изделия классифицируются по уровню потенциального риска их использования, в зависимости от которого применяются специальные правила и процедуры сертифик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го выделяется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етыре класса рис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низкий, средний, повышенный и высок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этом учитывается, как долго изделие контактирует с пациентом, каким образом оно проникает в тело человека, какое воздействие оно оказ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684360" y="1267920"/>
            <a:ext cx="7772400" cy="24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язательная сертификация – бланк желтого цв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овольная сертификация – бланк синего цв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4" descr="http://www.sertifikaty.com/images/sert/e3.jpg"/>
          <p:cNvPicPr/>
          <p:nvPr/>
        </p:nvPicPr>
        <p:blipFill>
          <a:blip r:embed="rId1"/>
          <a:stretch/>
        </p:blipFill>
        <p:spPr>
          <a:xfrm>
            <a:off x="5867280" y="3111480"/>
            <a:ext cx="2521080" cy="35481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Сертификат соответствия ГОСТ Р"/>
          <p:cNvPicPr/>
          <p:nvPr/>
        </p:nvPicPr>
        <p:blipFill>
          <a:blip r:embed="rId2"/>
          <a:stretch/>
        </p:blipFill>
        <p:spPr>
          <a:xfrm>
            <a:off x="2050920" y="3102120"/>
            <a:ext cx="2449800" cy="356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Санитарно-эпидемиологическое заключение. Пример"/>
          <p:cNvPicPr/>
          <p:nvPr/>
        </p:nvPicPr>
        <p:blipFill>
          <a:blip r:embed="rId1"/>
          <a:stretch/>
        </p:blipFill>
        <p:spPr>
          <a:xfrm>
            <a:off x="5857920" y="142920"/>
            <a:ext cx="3119400" cy="44114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213840" y="428400"/>
            <a:ext cx="6107400" cy="60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нитарно-эпидемиологическое заключение, оно же «гигиенический сертификат» – документ, подтверждающий, что продукция соответствуют установленным гигиеническим нормам(ГН) и санитарным правилам (СанПиН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нитарно-гигиенический сертификат выдаетс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спотребнадзор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сле проведения экспертизы продукции (условий производства, ТУ) на основании протокола испытаний и предъявленных документов. Срок действия гигиенического сертификата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5 ле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Товары аптечного ассортимента и документы,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одтверждающие их качество.</a:t>
            </a:r>
            <a:endParaRPr b="0" lang="en-US" sz="2800" spc="-1" strike="noStrike">
              <a:solidFill>
                <a:srgbClr val="c9c2d1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285840" y="1214280"/>
          <a:ext cx="8501040" cy="5551560"/>
        </p:xfrm>
        <a:graphic>
          <a:graphicData uri="http://schemas.openxmlformats.org/drawingml/2006/table">
            <a:tbl>
              <a:tblPr/>
              <a:tblGrid>
                <a:gridCol w="4249800"/>
                <a:gridCol w="4251240"/>
              </a:tblGrid>
              <a:tr h="633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карственные сред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кларация о соответств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206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</a:tr>
              <a:tr h="633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мунобиологические препара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3e7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тификат соответствия МИБП (ИБЛП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206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3e7eb"/>
                    </a:solidFill>
                  </a:tcPr>
                </a:tc>
              </a:tr>
              <a:tr h="839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иологически-активные доба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кларация о соответствии (с 01.01.2012)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истрационное удостоверение БАД + протокол исследования на радионукли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206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фюмерно-косметические средства и средства по уходу за полостью р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3e7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тификат соответствия ГОСТ Р с ссылкой на санитарно-эпидемиологическое заключ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206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3e7eb"/>
                    </a:solidFill>
                  </a:tcPr>
                </a:tc>
              </a:tr>
              <a:tr h="633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нзы, оправы, грелки, пузыри для льда, клеенка подклад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кларация о соответств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206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вязочные средства; ИМН; мед. техника; товары, соприкасающиеся с телом челове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3e7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тификат соответствия ГОСТ Р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206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3e7eb"/>
                    </a:solidFill>
                  </a:tcPr>
                </a:tc>
              </a:tr>
              <a:tr h="11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ищевые добавки, мин. вода, товары для детей, гигиенические средства и д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нитарно-эпидемиологическое заключение (документы о качестве производител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пии 2 голографических зна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206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1640" y="3141360"/>
            <a:ext cx="7129440" cy="21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Благодарю за внимание</a:t>
            </a:r>
            <a:endParaRPr b="0" lang="en-US" sz="6600" spc="-1" strike="noStrike">
              <a:solidFill>
                <a:srgbClr val="c9c2d1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кларирование лекарственных сред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тверждение соответствия лекарственных средств требованиям, которые предъявляются к ним действующим законодательством, проводится в обязательном порядке в форм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екларирования лекарственных средст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68360" y="1771560"/>
            <a:ext cx="846144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кларирование лекарственных средств введено с 01.01.2007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казом  Министерства промышленности и энергетики от 26.12.2006 г. №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42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утверждены «Методические рекомендации по принятию и регистрации декларации о соответствии лекарственных средств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http://t1.gstatic.com/images?q=tbn:ANd9GcSpTLfqbQW4pQa1_64aHwmHN_AwGx7RPo7JWH-MHYL927fImCaEIQ"/>
          <p:cNvPicPr/>
          <p:nvPr/>
        </p:nvPicPr>
        <p:blipFill>
          <a:blip r:embed="rId1"/>
          <a:stretch/>
        </p:blipFill>
        <p:spPr>
          <a:xfrm>
            <a:off x="5940360" y="5013360"/>
            <a:ext cx="285768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685800" y="691920"/>
            <a:ext cx="8244000" cy="580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одтверждению соответствия в форме декларирования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подлежат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  Л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арегистрированные в установленном порядк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оящие из смешанных или несмешанных продуктов для использования в терапевтических целях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фасованные в виде дозированных лекарственных форм и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упаковке для розничной продаж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коды 931000-937000 Общероссийского классификатора продукции ОК 005-9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685800" y="691920"/>
            <a:ext cx="8244000" cy="50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Декларированию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не подлежат ЛС: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зготовленные в аптеках по рецептам врачей, требованиям  учреждений здравоохране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нутриаптечная заготовк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бстанци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С, предназначенные для проведения клинических испытаний или для проведения регистрации Л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2" descr="C:\Documents and Settings\Admin\Мои документы\Картинки\MM900295154.GIF"/>
          <p:cNvPicPr/>
          <p:nvPr/>
        </p:nvPicPr>
        <p:blipFill>
          <a:blip r:embed="rId1"/>
          <a:stretch/>
        </p:blipFill>
        <p:spPr>
          <a:xfrm>
            <a:off x="6588000" y="2349360"/>
            <a:ext cx="2357640" cy="1866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http://www.serteks.ru/upload/files/imagemanager/.jpg"/>
          <p:cNvPicPr/>
          <p:nvPr/>
        </p:nvPicPr>
        <p:blipFill>
          <a:blip r:embed="rId1"/>
          <a:stretch/>
        </p:blipFill>
        <p:spPr>
          <a:xfrm>
            <a:off x="5715000" y="1941480"/>
            <a:ext cx="3429000" cy="49165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Декларация о соответств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773360"/>
            <a:ext cx="6778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это документ, удостоверяющий соответствие выпускаемой в обращение продукции требованиям технических регламентов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ФЗ РФ от 27.12.2002г. №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84-Ф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«О техническом регулировании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250560" y="692280"/>
            <a:ext cx="8713800" cy="56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цесс декларирования подразумев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участие в не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а по сертификаци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кредитованной испытательной лаборатор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Декларан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роизводителя (поставщик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сегодняшний день в РФ аккредитовано в установленном порядке 7 органов по сертификации ЛС (4 в Москве, С-Петербурге, Екатеринбурге, Новосибирске), осуществляющих регистрацию декларации о соответствии и около 70 технически компетентных и независимых испытательных лабораторий, аккредитованных на проведение испытаний ЛС для целей декларирования соответ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.А.Ляхова</dc:creator>
  <dc:description/>
  <dc:language>en-US</dc:language>
  <cp:lastModifiedBy>Людмила</cp:lastModifiedBy>
  <dcterms:modified xsi:type="dcterms:W3CDTF">2013-02-05T19:27:57Z</dcterms:modified>
  <cp:revision>147</cp:revision>
  <dc:subject/>
  <dc:title>Система контроля качества лекарственных средств и других товаров аптечного ассортимента </dc:title>
</cp:coreProperties>
</file>