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ED8-77E2-47CB-B55F-6A1F8E9A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7D6-6A53-4149-8135-904BC966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0C2-40D5-4738-9273-8BAB53BF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14A-8D32-4B40-B421-E94ED864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6C54-D65D-444A-BC8C-34F1A9F5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67A4-3D8A-4BF7-82EB-59896040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3D3E-676A-49D4-A5C5-DC60CA80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ED16-6A94-4657-83D0-81E3FA3B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56B6-9319-4C6C-BF6B-E7C6BED2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5CEB-CC7B-4D33-A1F2-3BF86675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A61D-68A6-42E8-8AD0-4388F88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522-1BF7-4933-A090-3AC8CC2F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83B3-0E32-46FA-B2F5-A70C6F88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2AE4-1EF5-4078-ADDE-61A1C470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D5CB-293F-4F1B-BAA7-84F7E2BF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C0FA-96D5-4F63-AE2B-73215A6A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BBE6-6297-4C4C-84C2-0BD2A88F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371E2-57AA-4F94-A37A-6782206D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F8AD-45EA-4FCA-ADA0-3A245098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111DB-3EBF-42F3-BB00-C6469637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699E6-1161-4DE5-BFCF-D94CBC49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866C-B985-403E-B050-B529FB3F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511-DC90-4F1B-9F39-4CBD9668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BFD5-4205-46D0-9DC5-7DFD8E4E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DE80-58D0-4FB2-B8C0-1D23D010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66CA6-2332-4FA4-9892-7DBE790C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DF74-64F5-4316-A4BC-C67C7D7B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7B97-817D-4D89-BAD8-A7BEC70D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DCB47-ABAC-4FDC-8222-528A2334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FEC4-80FE-4F8F-BA0F-0A524401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F7AD2-13EC-449C-B6B1-E4BC77A82F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18FAF-FD88-4C55-8BD7-A9361857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DDDEF6-0121-4266-955F-C7C5226D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66E-4F54-45C3-BAF8-B093AD23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E6B52B-F062-482A-8FA9-5D0AC8D8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B50454-679D-47FA-B530-66087792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4F6E64-DAAD-4C8A-979A-84DCBA32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2F107-1232-463D-8EC7-F632AC1B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5DA2D6-B59C-4833-8D9C-F78036F6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7B2781-1249-4A80-A64B-A2421AB7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28562-A1C1-49D8-95D5-3FE0FE2E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EFB20-509B-468B-A53A-B1E50261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157DD7-7500-4BC3-94AE-EEBB5753AC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C031AF-1DA5-4ABC-BA67-3FE5D3B2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C83-32B9-4B60-B58B-5506E6BD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9F535D-1F2E-4D68-B69B-02B50009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3A7445-339F-4203-8A52-A08F0766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2DC735-C45F-4515-B943-A72922F8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6CDB54-9EDD-4640-ADEF-7FA06EDE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921D78-AB67-4694-ABE1-7AD67EBB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16B604-E198-412E-A73D-AD99C03A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98E406-B6F4-44F3-8865-0F426372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303B4C-CA4A-44C7-96FC-51F59043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39ACAD-0B65-42AD-9F0B-11F79A6C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E09F33-9E43-491F-9F51-474F6EF3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088-D3F9-4EA8-9736-D74A83F8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A8FD2B-D64D-43DA-A4D1-8082A8A4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A58501-5EAD-4967-BC83-A141A588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BB897B-91EE-48FE-93B9-B10573E5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02488F-F5B9-4B65-BDE9-4A14F27E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0CA0FF-A3E8-415D-AD26-3666F764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D69571-8154-4396-BF48-B8A92E0D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2133AB-FB8D-4971-85C5-12336925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0E85A5-F306-4FBF-AA79-E1524E69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716D27-8013-42CA-96B2-92E24108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99A21D-849C-403D-92C6-9CDC4779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9A9-5C60-4199-A314-F45B58B8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AFBA53-EFFB-4332-AEF3-27A8181A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016993-6726-4F6B-88A7-AE02E866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DCFC81-19DB-4CDC-B808-56854D26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268-BBB6-49FD-A519-FB2123DF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CEB-015C-412B-9EF4-1F2521AC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76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3296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38E8-F2F9-4012-AACD-90A288CAF7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4ECF-1C2C-48D2-A1E9-9CCBA8DC5C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9676d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26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76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027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1028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029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1030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1031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032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33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034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Rectangle 1035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3296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B47D-8F92-40CB-ABEA-FF8CA28601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76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45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4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3296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0"/>
          </p:nvPr>
        </p:nvSpPr>
        <p:spPr>
          <a:xfrm>
            <a:off x="8675280" y="6524640"/>
            <a:ext cx="468360" cy="3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dt" idx="11"/>
          </p:nvPr>
        </p:nvSpPr>
        <p:spPr>
          <a:xfrm>
            <a:off x="34560" y="668988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льнова Е.А., Росздравнадзо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16A3-37DF-4C01-82CD-AB533B4304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DE35-4980-45DD-A210-04327C034C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38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  <a:ea typeface="Arial"/>
              </a:rPr>
              <a:t>Систем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контроля качества лекарственных средств и других товаров аптечного ассортимен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0" y="5084280"/>
            <a:ext cx="32004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  <a:ea typeface="Arial"/>
              </a:rPr>
              <a:t>Лекция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noname"/>
          <p:cNvPicPr/>
          <p:nvPr/>
        </p:nvPicPr>
        <p:blipFill>
          <a:blip r:embed="rId1"/>
          <a:stretch/>
        </p:blipFill>
        <p:spPr>
          <a:xfrm>
            <a:off x="684360" y="4869000"/>
            <a:ext cx="2666880" cy="178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62040" y="126792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одтверждении соответствия в форме декларировани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екларант самостоятельно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ирает испытательную лабораторию и орган по сертификации, который регистрирует декларации о соответств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ет осуществлять отбор образцов для проведения экспертизы (или может поручить отбор образцов на договорной основе испытательной лаборатории или органу по сертификац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11280" y="1557360"/>
            <a:ext cx="792144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кларация о соответствии ЛС принимаетс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мим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ем или продавцом (юридическим или физическим лицом, зарегистрированным в качестве ИП, либо выполняющим функции иностранного изготовителя на основании договора с ни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ринятии декларации производитель (поставщик) декларирует, что продукт, который он выпускает в обращение, соответствует стандартам качества, принятым в РФ. При этом он предъявляет необходимые доказатель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ственные доказательства </a:t>
            </a:r>
            <a:endParaRPr b="0" lang="en-US" sz="36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61680" y="1484280"/>
            <a:ext cx="787068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спорт (протокол анализа) производителя (для отечественных ЛС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ртификат качества фирмы (для зарубежных ЛС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ументы, подтверждающие происхождение Л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околы входного контроля (испытаний) на сырье, полупродукты, субстанции и материалы, используемые в производстве Л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ументы, подтверждающие происхождение сырья, используемого в производстве данного Л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Доказательства с участием третьей стороны</a:t>
            </a:r>
            <a:endParaRPr b="0" lang="en-US" sz="36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61680" y="1628280"/>
            <a:ext cx="78706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9c2d1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 участием аккредитованного испытательного центра (лаборатории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околы испытаний, проведенных по показателям качества и безопасности, установленным в нормативной документации на данное Л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9c2d1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 участием органа по сертифика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ртификаты соответствия, выданные на производство или систему качества (СМК), сертифицированные в Системе сертификации ГОСТ 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нятая изготовителем (продавцом) декларация о соответствии  лекарственного средства подлежит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Arial"/>
              </a:rPr>
              <a:t>регистраци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в органе по сертификации, аккредитованном в установленном порядке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егистрация носит заявительный характ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еестр зарегистрированных деклараций о соответствии ведется органом по сертифика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екларация о соответствии может быть направлена на регистрацию только в один орган по сертификации по выбору изготовителя (продавца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57120" y="1125360"/>
            <a:ext cx="839160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кларация о соответствии принимается  в отношени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аждой серии (партии) Л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, выпускаемой в обращ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кларация о соответствии принимается на срок, установленный изготовителем (продавцом) ЛС, но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не более установленного срока годности Л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оставление копий деклараций о соответстви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 предусмотрено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ведения о декларации о соответствии указываются в сопроводительной документации на това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62040" y="907920"/>
            <a:ext cx="823104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настоящее время провести идентификацию сведений о декларации о соответствии можно по базе данных зарегистрированных деклараций, размещенной на сайте ФГУ «Центр экспертизы и контроля качества медицинской продукции» Росздравнадз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соответствии со ст. 28 ФЗ № 184-ФЗ «О техническом регулировании» установлена обязанность лиц, являющихся заявителями (продавец продукции) предъявлять заинтересованным лицам документы, свидетельствующие о подтверждении соответствия продукции установленным требованиям (декларации о соответствии или их копи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этом,  заинтересованными лицами могут являться центры контроля качества в субъектах РФ, оптовые фармацевтические организации, розничные аптечные организации, а также потребител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аким образом,</a:t>
            </a:r>
            <a:endParaRPr b="0" lang="en-US" sz="36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61680" y="1268280"/>
            <a:ext cx="78706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тственность за качество ЛС несут производители ЛС или лица, выполняющие функции иностранного изготовителя (на основании договора с ним в части обеспечения соответствия поставляемой продукции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каждого участника фармацевтического рынка должна быть внедрена система обеспечения ка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ждый субъект обращения ЛС несет ответственность за качество реализуемых препарат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ждый на своем участке – производитель, поставщик, апте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производитель выпускает качественные ЛС, а при транспортировке и хранении допущены нарушения, в результате которых качество ЛС пострадало, такие препараты выявляются в результате мониторинга качества и подлежат изъятию из 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истрация и сертификация изделий медицинского назна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2916360" y="260280"/>
            <a:ext cx="597672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истрация ИМН проводится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осздравнадзор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 целью их допуска 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ств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порт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аже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нению на территории Р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http://www.unicerts.ru/images/1reg_2010.jpg"/>
          <p:cNvPicPr/>
          <p:nvPr/>
        </p:nvPicPr>
        <p:blipFill>
          <a:blip r:embed="rId1"/>
          <a:stretch/>
        </p:blipFill>
        <p:spPr>
          <a:xfrm>
            <a:off x="0" y="0"/>
            <a:ext cx="2340000" cy="3300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Регистрационное удостоверение Serteks.ru"/>
          <p:cNvPicPr/>
          <p:nvPr/>
        </p:nvPicPr>
        <p:blipFill>
          <a:blip r:embed="rId2"/>
          <a:stretch/>
        </p:blipFill>
        <p:spPr>
          <a:xfrm>
            <a:off x="395280" y="3435480"/>
            <a:ext cx="2376360" cy="342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t0.gstatic.com/images?q=tbn:ANd9GcSJbqFY2KSfzfavrlWeyXUvtKs1ON8f2QnYOx2A1e_r0i57Vj9WOg"/>
          <p:cNvPicPr/>
          <p:nvPr/>
        </p:nvPicPr>
        <p:blipFill>
          <a:blip r:embed="rId1"/>
          <a:stretch/>
        </p:blipFill>
        <p:spPr>
          <a:xfrm>
            <a:off x="6300720" y="3573360"/>
            <a:ext cx="2556000" cy="30942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8360" y="177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ларирование Л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истрация и сертификация 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ы, подтверждающие качество ИМН и других товаров аптечного ассорти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62040" y="1700280"/>
            <a:ext cx="801360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я ИМН и мед. техни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ся на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сновании результатов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тветствующих испытаний и оценок, подтверждающих качество, эффективность и безопасность издел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971640" y="1125360"/>
            <a:ext cx="7772400" cy="489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стоящее время существует несколько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ипов испытан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торые необходимо пройти для успешной регистрации медицинского издел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Технические испыт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Токсикологические испыт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Медицинские исслед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Экспертиза досье на изделие медицинского назначения (медицинскую технику)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61680" y="1341360"/>
            <a:ext cx="808668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жателем Регистрационного Удостоверения может быть как юридическое лицо, так и индивидуальный предпринима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Срок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егистрационного удостоверения 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не огранич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онные удостоверения заносятся в единый Реест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9640" y="1341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оме того на территории РФ для ИМН действу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язательная процедура подтверждения соответствия продукции стандартам качества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докумен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екларация о соответств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ртификат ГОСТ 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действующему законодательству, контроль качества и безопасности медицинских изделий осуществляет Минздрав России и Ростехрегулирование (Госстандарт)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6204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е изделия классифицируются по уровню потенциального риска их использования, в зависимости от которого применяются специальные правила и процедуры сертифик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го выделяется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етыре класса рис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низкий, средний, повышенный и высок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этом учитывается, как долго изделие контактирует с пациентом, каким образом оно проникает в тело человека, какое воздействие оно оказ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84360" y="1267920"/>
            <a:ext cx="777240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язательная сертификация – бланк желтого ц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вольная сертификация – бланк синего ц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http://www.sertifikaty.com/images/sert/e3.jpg"/>
          <p:cNvPicPr/>
          <p:nvPr/>
        </p:nvPicPr>
        <p:blipFill>
          <a:blip r:embed="rId1"/>
          <a:stretch/>
        </p:blipFill>
        <p:spPr>
          <a:xfrm>
            <a:off x="5867280" y="3111480"/>
            <a:ext cx="2521080" cy="3548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Сертификат соответствия ГОСТ Р"/>
          <p:cNvPicPr/>
          <p:nvPr/>
        </p:nvPicPr>
        <p:blipFill>
          <a:blip r:embed="rId2"/>
          <a:stretch/>
        </p:blipFill>
        <p:spPr>
          <a:xfrm>
            <a:off x="2050920" y="3102120"/>
            <a:ext cx="2449800" cy="35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Санитарно-эпидемиологическое заключение. Пример"/>
          <p:cNvPicPr/>
          <p:nvPr/>
        </p:nvPicPr>
        <p:blipFill>
          <a:blip r:embed="rId1"/>
          <a:stretch/>
        </p:blipFill>
        <p:spPr>
          <a:xfrm>
            <a:off x="5857920" y="142920"/>
            <a:ext cx="3119400" cy="44114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213840" y="428400"/>
            <a:ext cx="6107400" cy="60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нитарно-эпидемиологическое заключение, оно же «гигиенический сертификат» – документ, подтверждающий, что продукция соответствуют установленным гигиеническим нормам(ГН) и санитарным правилам (СанПиН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нитарно-гигиенический сертификат выдаетс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потребнадзо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сле проведения экспертизы продукции (условий производства, ТУ) на основании протокола испытаний и предъявленных документов. Срок действия гигиенического сертификата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5 л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Товары аптечного ассортимента и документы,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одтверждающие их качество.</a:t>
            </a:r>
            <a:endParaRPr b="0" lang="en-US" sz="2800" spc="-1" strike="noStrike">
              <a:solidFill>
                <a:srgbClr val="c9c2d1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85840" y="1214280"/>
          <a:ext cx="8501040" cy="5551560"/>
        </p:xfrm>
        <a:graphic>
          <a:graphicData uri="http://schemas.openxmlformats.org/drawingml/2006/table">
            <a:tbl>
              <a:tblPr/>
              <a:tblGrid>
                <a:gridCol w="4249800"/>
                <a:gridCol w="4251240"/>
              </a:tblGrid>
              <a:tr h="63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карственные сред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кларация о соответств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</a:tr>
              <a:tr h="633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мунобиологические препар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тификат соответствия МИБП (ИБЛП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</a:tr>
              <a:tr h="83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иологически-актив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кларация о соответствии (с 01.01.2012)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страционное удостоверение БАД + протокол исследования на радионукли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фюмерно-косметические средства и средства по уходу за полостью р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тификат соответствия ГОСТ Р с ссылкой на санитарно-эпидемиологическое заклю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</a:tr>
              <a:tr h="63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нзы, оправы, грелки, пузыри для льда, клеенка подклад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кларация о соответств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вязочные средства; ИМН; мед. техника; товары, соприкасающиеся с телом челов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тификат соответствия ГОСТ 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</a:tr>
              <a:tr h="11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щевые добавки, мин. вода, товары для детей, гигиенические средства и д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нитарно-эпидемиологическое заключение (документы о качестве производ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пии 2 голографических зн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640" y="3141360"/>
            <a:ext cx="7129440" cy="21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Благодарю за внимание</a:t>
            </a:r>
            <a:endParaRPr b="0" lang="en-US" sz="6600" spc="-1" strike="noStrike">
              <a:solidFill>
                <a:srgbClr val="c9c2d1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кларирование лекарственных сред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тверждение соответствия лекарственных средств требованиям, которые предъявляются к ним действующим законодательством, проводится в обязательном порядке в форм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екларирования лекарственных средст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68360" y="1771560"/>
            <a:ext cx="846144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кларирование лекарственных средств введено с 01.01.2007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казом  Министерства промышленности и энергетики от 26.12.2006 г. №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42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утверждены «Методические рекомендации по принятию и регистрации декларации о соответствии лекарственных средст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http://t1.gstatic.com/images?q=tbn:ANd9GcSpTLfqbQW4pQa1_64aHwmHN_AwGx7RPo7JWH-MHYL927fImCaEIQ"/>
          <p:cNvPicPr/>
          <p:nvPr/>
        </p:nvPicPr>
        <p:blipFill>
          <a:blip r:embed="rId1"/>
          <a:stretch/>
        </p:blipFill>
        <p:spPr>
          <a:xfrm>
            <a:off x="5940360" y="501336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685800" y="691920"/>
            <a:ext cx="8244000" cy="58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одтверждению соответствия в форме декларирования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подлежат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 Л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регистрированные в установленном порядк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оящие из смешанных или несмешанных продуктов для использования в терапевтических целя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фасованные в виде дозированных лекарственных форм и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упаковке для розничной продаж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коды 931000-937000 Общероссийского классификатора продукции ОК 005-9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85800" y="691920"/>
            <a:ext cx="824400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Декларированию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не подлежат ЛС: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зготовленные в аптеках по рецептам врачей, требованиям  учреждений здравоохран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нутриаптечная заготов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бстанц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С, предназначенные для проведения клинических испытаний или для проведения регистрации Л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C:\Documents and Settings\Admin\Мои документы\Картинки\MM900295154.GIF"/>
          <p:cNvPicPr/>
          <p:nvPr/>
        </p:nvPicPr>
        <p:blipFill>
          <a:blip r:embed="rId1"/>
          <a:stretch/>
        </p:blipFill>
        <p:spPr>
          <a:xfrm>
            <a:off x="6588000" y="2349360"/>
            <a:ext cx="2357640" cy="186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ttp://www.serteks.ru/upload/files/imagemanager/.jpg"/>
          <p:cNvPicPr/>
          <p:nvPr/>
        </p:nvPicPr>
        <p:blipFill>
          <a:blip r:embed="rId1"/>
          <a:stretch/>
        </p:blipFill>
        <p:spPr>
          <a:xfrm>
            <a:off x="5715000" y="1941480"/>
            <a:ext cx="3429000" cy="49165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екларация о соответств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773360"/>
            <a:ext cx="6778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о документ, удостоверяющий соответствие выпускаемой в обращение продукции требованиям технических регламентов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ФЗ РФ от 27.12.2002г. №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84-Ф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«О техническом регулировании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50560" y="69228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 декларирования подразумев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участие в не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а по сертификац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кредитованной испытательной лаборат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екларан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оизводителя (поставщик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егодняшний день в РФ аккредитовано в установленном порядке 7 органов по сертификации ЛС (4 в Москве, С-Петербурге, Екатеринбурге, Новосибирске), осуществляющих регистрацию декларации о соответствии и около 70 технически компетентных и независимых испытательных лабораторий, аккредитованных на проведение испытаний ЛС для целей декларирования соответ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.А.Ляхова</dc:creator>
  <dc:description/>
  <dc:language>en-US</dc:language>
  <cp:lastModifiedBy>Людмила</cp:lastModifiedBy>
  <dcterms:modified xsi:type="dcterms:W3CDTF">2013-02-05T19:27:57Z</dcterms:modified>
  <cp:revision>147</cp:revision>
  <dc:subject/>
  <dc:title>Система контроля качества лекарственных средств и других товаров аптечного ассортимента </dc:title>
</cp:coreProperties>
</file>