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41D-12EB-4628-9865-AFC5807D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6B6-637A-457B-98E9-C696EC94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B4D-4737-411B-9126-5F271B59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385-F25C-4DDA-BED6-56BE4F13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902B-745C-498E-BD52-58551BE2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8C38-B460-4AC8-B14D-024BD5DD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666A-C9A6-4D26-BBEF-9B773205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5E45-0AD4-4701-839C-A27179FC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A30F-8E4F-4E87-8170-7241D4EF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966D-3ED8-4590-BF2C-C62EBB86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62D2-45ED-4962-9103-D58A42D8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CEE-1827-4D46-90DE-9C334A5B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5DE0-E9F4-4438-A142-9924CC9A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27C9-ED29-4B7B-8D4F-18C1B135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FA32-1620-4AB8-9F1C-D671F4EF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B5D0-F3D8-4A08-8A2D-8C2F4497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4543-3072-45E6-896B-3472042C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678CD-190C-4DF1-996A-37ADC80D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D8954-89D8-4DCA-993B-E5637D0A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0C556-A6E9-46ED-874D-8173FA1F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8291C-BB4E-4400-8F9E-FC4F7BC1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F6A27-527E-4403-9482-20314077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A89-8651-4B6A-B089-444199B7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7178-7ACE-49F5-B98B-3EA26803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44CBB-C7F3-474C-A817-E736F8E8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B955-6F03-47A7-82FE-05F01C94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A2106-21FD-4FDB-852F-D8FB7C72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FE76-2043-4C2C-839E-4A88C014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2D65D-368B-483D-98F9-2DD12B04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866E4-097A-47A0-985F-6840FD00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9A1B71-0423-40DA-B039-C3507C3E06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968C8-FB82-442D-9E37-E7C09B78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CECEE0-4380-42CF-ADB0-0E0A044E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325-160B-4017-B5EC-924D946C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FB0C35-947E-43AF-92F7-C4A6E86D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9E31D0-9D26-4D72-B01C-800B3F78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0B9523-88D7-4A97-8E8B-09908E1E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7AB089-85D2-47BA-B929-030F639E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E70666-F28D-4E2C-B9FD-57A63497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FEE12E-1AFC-4788-A6D4-B9310CAA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F6E306-37C6-4058-8FD5-C6AF2EEB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7675CE-64CB-4F0E-BFC8-F2566047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256DE0-A17B-48D7-B86E-9A5F253E19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90DC4E-842E-4C10-BDA7-153A1410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086-4B7E-4041-99A3-DBBDB52E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FF5F74-3E55-4E8B-A423-7A19DB3C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60C2E7-4898-41F0-9E54-3DDA03AA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6E5C9D-97CC-4126-B193-39A8EC29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30A056-F788-499F-8AF0-481BA662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4588A9-AF7E-4EA8-82FE-FE2B4F20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389D17-195C-4816-8E04-384EF197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1E0A89-E0DB-4E92-B6F0-22702790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C93966-51A5-4961-AF45-A0626D48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218C09-ED54-44DA-A5E1-C7978A81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CE4D21-02A4-41CB-B98E-3D0A8292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6D5-7F52-4C0F-971D-87B6F9FE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838598-1328-446C-AF9E-01CA98F7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0140DE-6984-4210-BD23-2BE56603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E73552-8FB3-4911-8B9F-EC79E13F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C447A1-CED0-4FBA-A454-E6209B66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70239F-DE5F-4DF4-AE0B-A73DF664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D50BAA-D899-4E71-9A5C-98257729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5A5A77-A971-401B-A8E3-CC00E4C4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721C46-BDF3-4DBB-9B89-2D423E5E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61226E-10B0-40B0-BDA9-E476651F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054260-65AF-458F-A364-319DB841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FB9-1260-4D40-A0BD-8A19EE9F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DA3478-6BE0-4908-B7E4-8701A2AE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F49755-9EFA-4AB9-9C89-611D30E1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FD500F-3533-4EB8-A192-F0BAA465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132-1C0C-4D95-9B88-1BF529EC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5CC-D0FB-498A-8B54-BA82E81C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76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3296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9F1E-6E72-4D7F-ACD4-3FBE8076A3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D254-FC8F-41E0-BC43-32001670D2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9676d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26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76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027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1028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029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1030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1031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032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033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034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" name="Rectangle 1035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3296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BEB0-B524-45C8-9759-5CE8873739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9676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45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967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69676d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4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3296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0"/>
          </p:nvPr>
        </p:nvSpPr>
        <p:spPr>
          <a:xfrm>
            <a:off x="8675280" y="6524640"/>
            <a:ext cx="468360" cy="3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dt" idx="11"/>
          </p:nvPr>
        </p:nvSpPr>
        <p:spPr>
          <a:xfrm>
            <a:off x="34560" y="668988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ельнова Е.А., Росздравнадзо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C233-7560-432F-8456-726296C2BF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5C4D-EF66-4692-B223-F405FB2934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38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  <a:ea typeface="Arial"/>
              </a:rPr>
              <a:t>Систем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контроля качества лекарственных средств и других товаров аптечного ассортимен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0" y="5084280"/>
            <a:ext cx="32004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  <a:ea typeface="Arial"/>
              </a:rPr>
              <a:t>Лекция №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noname"/>
          <p:cNvPicPr/>
          <p:nvPr/>
        </p:nvPicPr>
        <p:blipFill>
          <a:blip r:embed="rId1"/>
          <a:stretch/>
        </p:blipFill>
        <p:spPr>
          <a:xfrm>
            <a:off x="684360" y="4869000"/>
            <a:ext cx="2666880" cy="178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62040" y="126792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подтверждении соответствия в форме декларировани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екларант самостоятельно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ирает испытательную лабораторию и орган по сертификации, который регистрирует декларации о соответств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ет осуществлять отбор образцов для проведения экспертизы (или может поручить отбор образцов на договорной основе испытательной лаборатории или органу по сертификац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11280" y="1557360"/>
            <a:ext cx="792144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кларация о соответствии ЛС принимаетс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амим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ителем или продавцом (юридическим или физическим лицом, зарегистрированным в качестве ИП, либо выполняющим функции иностранного изготовителя на основании договора с ни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принятии декларации производитель (поставщик) декларирует, что продукт, который он выпускает в обращение, соответствует стандартам качества, принятым в РФ. При этом он предъявляет необходимые доказатель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ственные доказательства </a:t>
            </a:r>
            <a:endParaRPr b="0" lang="en-US" sz="36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61680" y="1484280"/>
            <a:ext cx="787068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спорт (протокол анализа) производителя (для отечественных ЛС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ртификат качества фирмы (для зарубежных ЛС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ументы, подтверждающие происхождение Л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околы входного контроля (испытаний) на сырье, полупродукты, субстанции и материалы, используемые в производстве Л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кументы, подтверждающие происхождение сырья, используемого в производстве данного Л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Доказательства с участием третьей стороны</a:t>
            </a:r>
            <a:endParaRPr b="0" lang="en-US" sz="36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61680" y="1628280"/>
            <a:ext cx="78706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9c2d1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 участием аккредитованного испытательного центра (лаборатории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околы испытаний, проведенных по показателям качества и безопасности, установленным в нормативной документации на данное Л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9c2d1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 участием органа по сертифика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ртификаты соответствия, выданные на производство или систему качества (СМК), сертифицированные в Системе сертификации ГОСТ 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66204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нятая изготовителем (продавцом) декларация о соответствии  лекарственного средства подлежит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Arial"/>
              </a:rPr>
              <a:t>регистраци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в органе по сертификации, аккредитованном в установленном порядке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егистрация носит заявительный характе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еестр зарегистрированных деклараций о соответствии ведется органом по сертификац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екларация о соответствии может быть направлена на регистрацию только в один орган по сертификации по выбору изготовителя (продавца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57120" y="1125360"/>
            <a:ext cx="839160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кларация о соответствии принимается  в отношени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аждой серии (партии) Л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, выпускаемой в обращ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кларация о соответствии принимается на срок, установленный изготовителем (продавцом) ЛС, но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не более установленного срока годности Л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оставление копий деклараций о соответстви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 предусмотрено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ведения о декларации о соответствии указываются в сопроводительной документации на това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662040" y="907920"/>
            <a:ext cx="823104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настоящее время провести идентификацию сведений о декларации о соответствии можно по базе данных зарегистрированных деклараций, размещенной на сайте ФГУ «Центр экспертизы и контроля качества медицинской продукции» Росздравнадз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соответствии со ст. 28 ФЗ № 184-ФЗ «О техническом регулировании» установлена обязанность лиц, являющихся заявителями (продавец продукции) предъявлять заинтересованным лицам документы, свидетельствующие о подтверждении соответствия продукции установленным требованиям (декларации о соответствии или их копи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этом,  заинтересованными лицами могут являться центры контроля качества в субъектах РФ, оптовые фармацевтические организации, розничные аптечные организации, а также потребител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аким образом,</a:t>
            </a:r>
            <a:endParaRPr b="0" lang="en-US" sz="3600" spc="-1" strike="noStrike">
              <a:solidFill>
                <a:srgbClr val="c9c2d1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61680" y="1268280"/>
            <a:ext cx="78706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ветственность за качество ЛС несут производители ЛС или лица, выполняющие функции иностранного изготовителя (на основании договора с ним в части обеспечения соответствия поставляемой продукции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 каждого участника фармацевтического рынка должна быть внедрена система обеспечения кач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ждый субъект обращения ЛС несет ответственность за качество реализуемых препарат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ждый на своем участке – производитель, поставщик, апте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производитель выпускает качественные ЛС, а при транспортировке и хранении допущены нарушения, в результате которых качество ЛС пострадало, такие препараты выявляются в результате мониторинга качества и подлежат изъятию из обра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истрация и сертификация изделий медицинского назна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2916360" y="260280"/>
            <a:ext cx="5976720" cy="41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гистрация ИМН проводится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осздравнадзор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 целью их допуска 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водств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порт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аже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нению на территории Р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http://www.unicerts.ru/images/1reg_2010.jpg"/>
          <p:cNvPicPr/>
          <p:nvPr/>
        </p:nvPicPr>
        <p:blipFill>
          <a:blip r:embed="rId1"/>
          <a:stretch/>
        </p:blipFill>
        <p:spPr>
          <a:xfrm>
            <a:off x="0" y="0"/>
            <a:ext cx="2340000" cy="3300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Регистрационное удостоверение Serteks.ru"/>
          <p:cNvPicPr/>
          <p:nvPr/>
        </p:nvPicPr>
        <p:blipFill>
          <a:blip r:embed="rId2"/>
          <a:stretch/>
        </p:blipFill>
        <p:spPr>
          <a:xfrm>
            <a:off x="395280" y="3435480"/>
            <a:ext cx="2376360" cy="3422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ttp://t0.gstatic.com/images?q=tbn:ANd9GcSJbqFY2KSfzfavrlWeyXUvtKs1ON8f2QnYOx2A1e_r0i57Vj9WOg"/>
          <p:cNvPicPr/>
          <p:nvPr/>
        </p:nvPicPr>
        <p:blipFill>
          <a:blip r:embed="rId1"/>
          <a:stretch/>
        </p:blipFill>
        <p:spPr>
          <a:xfrm>
            <a:off x="6300720" y="3573360"/>
            <a:ext cx="2556000" cy="30942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8360" y="177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ларирование Л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истрация и сертификация 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ументы, подтверждающие качество ИМН и других товаров аптечного ассорти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662040" y="1700280"/>
            <a:ext cx="801360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я ИМН и мед. техни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ся на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сновании результатов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ответствующих испытаний и оценок, подтверждающих качество, эффективность и безопасность издел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971640" y="1125360"/>
            <a:ext cx="7772400" cy="489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стоящее время существует несколько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ипов испытан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которые необходимо пройти для успешной регистрации медицинского издел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Технические испыт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Токсикологические испыт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Медицинские исслед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Экспертиза досье на изделие медицинского назначения (медицинскую технику)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661680" y="1341360"/>
            <a:ext cx="808668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жателем Регистрационного Удостоверения может быть как юридическое лицо, так и индивидуальный предпринима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Срок дейст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егистрационного удостоверения 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не огранич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онные удостоверения заносятся в единый Реест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9640" y="134136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оме того на территории РФ для ИМН действует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язательная процедура подтверждения соответствия продукции стандартам качества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документ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Декларация о соответств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ртификат ГОСТ 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гласно действующему законодательству, контроль качества и безопасности медицинских изделий осуществляет Минздрав России и Ростехрегулирование (Госстандарт)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62040" y="1196640"/>
            <a:ext cx="7772400" cy="482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цинские изделия классифицируются по уровню потенциального риска их использования, в зависимости от которого применяются специальные правила и процедуры сертифик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го выделяется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етыре класса рис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низкий, средний, повышенный и высок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этом учитывается, как долго изделие контактирует с пациентом, каким образом оно проникает в тело человека, какое воздействие оно оказ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684360" y="1267920"/>
            <a:ext cx="7772400" cy="24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язательная сертификация – бланк желтого ц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вольная сертификация – бланк синего ц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http://www.sertifikaty.com/images/sert/e3.jpg"/>
          <p:cNvPicPr/>
          <p:nvPr/>
        </p:nvPicPr>
        <p:blipFill>
          <a:blip r:embed="rId1"/>
          <a:stretch/>
        </p:blipFill>
        <p:spPr>
          <a:xfrm>
            <a:off x="5867280" y="3111480"/>
            <a:ext cx="2521080" cy="3548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Сертификат соответствия ГОСТ Р"/>
          <p:cNvPicPr/>
          <p:nvPr/>
        </p:nvPicPr>
        <p:blipFill>
          <a:blip r:embed="rId2"/>
          <a:stretch/>
        </p:blipFill>
        <p:spPr>
          <a:xfrm>
            <a:off x="2050920" y="3102120"/>
            <a:ext cx="2449800" cy="356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Санитарно-эпидемиологическое заключение. Пример"/>
          <p:cNvPicPr/>
          <p:nvPr/>
        </p:nvPicPr>
        <p:blipFill>
          <a:blip r:embed="rId1"/>
          <a:stretch/>
        </p:blipFill>
        <p:spPr>
          <a:xfrm>
            <a:off x="5857920" y="142920"/>
            <a:ext cx="3119400" cy="44114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213840" y="428400"/>
            <a:ext cx="6107400" cy="60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нитарно-эпидемиологическое заключение, оно же «гигиенический сертификат» – документ, подтверждающий, что продукция соответствуют установленным гигиеническим нормам(ГН) и санитарным правилам (СанПиН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нитарно-гигиенический сертификат выдаетс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спотребнадзо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сле проведения экспертизы продукции (условий производства, ТУ) на основании протокола испытаний и предъявленных документов. Срок действия гигиенического сертификата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5 ле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Товары аптечного ассортимента и документы,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одтверждающие их качество.</a:t>
            </a:r>
            <a:endParaRPr b="0" lang="en-US" sz="2800" spc="-1" strike="noStrike">
              <a:solidFill>
                <a:srgbClr val="c9c2d1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85840" y="1214280"/>
          <a:ext cx="8501040" cy="5551560"/>
        </p:xfrm>
        <a:graphic>
          <a:graphicData uri="http://schemas.openxmlformats.org/drawingml/2006/table">
            <a:tbl>
              <a:tblPr/>
              <a:tblGrid>
                <a:gridCol w="4249800"/>
                <a:gridCol w="4251240"/>
              </a:tblGrid>
              <a:tr h="633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карственные сред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кларация о соответств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</a:tr>
              <a:tr h="633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ммунобиологические препар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тификат соответствия МИБП (ИБЛП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</a:tr>
              <a:tr h="839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иологически-активные доба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кларация о соответствии (с 01.01.2012)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страционное удостоверение БАД + протокол исследования на радионукли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фюмерно-косметические средства и средства по уходу за полостью р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тификат соответствия ГОСТ Р с ссылкой на санитарно-эпидемиологическое заключ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</a:tr>
              <a:tr h="633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нзы, оправы, грелки, пузыри для льда, клеенка подклад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кларация о соответств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вязочные средства; ИМН; мед. техника; товары, соприкасающиеся с телом челове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тификат соответствия ГОСТ Р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f3e7eb"/>
                    </a:solidFill>
                  </a:tcPr>
                </a:tc>
              </a:tr>
              <a:tr h="11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ищевые добавки, мин. вода, товары для детей, гигиенические средства и д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2060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нитарно-эпидемиологическое заключение (документы о качестве производител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пии 2 голографических зна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206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2060"/>
                      </a:solidFill>
                    </a:lnT>
                    <a:lnB w="13680">
                      <a:solidFill>
                        <a:srgbClr val="002060"/>
                      </a:solidFill>
                    </a:lnB>
                    <a:solidFill>
                      <a:srgbClr val="e5cbd4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640" y="3141360"/>
            <a:ext cx="7129440" cy="21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Благодарю за внимание</a:t>
            </a:r>
            <a:endParaRPr b="0" lang="en-US" sz="6600" spc="-1" strike="noStrike">
              <a:solidFill>
                <a:srgbClr val="c9c2d1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кларирование лекарственных сред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тверждение соответствия лекарственных средств требованиям, которые предъявляются к ним действующим законодательством, проводится в обязательном порядке в форм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екларирования лекарственных средст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68360" y="1771560"/>
            <a:ext cx="846144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кларирование лекарственных средств введено с 01.01.2007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казом  Министерства промышленности и энергетики от 26.12.2006 г. №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42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утверждены «Методические рекомендации по принятию и регистрации декларации о соответствии лекарственных средст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http://t1.gstatic.com/images?q=tbn:ANd9GcSpTLfqbQW4pQa1_64aHwmHN_AwGx7RPo7JWH-MHYL927fImCaEIQ"/>
          <p:cNvPicPr/>
          <p:nvPr/>
        </p:nvPicPr>
        <p:blipFill>
          <a:blip r:embed="rId1"/>
          <a:stretch/>
        </p:blipFill>
        <p:spPr>
          <a:xfrm>
            <a:off x="5940360" y="501336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685800" y="691920"/>
            <a:ext cx="8244000" cy="580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одтверждению соответствия в форме декларирования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подлежат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 Л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регистрированные в установленном порядк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оящие из смешанных или несмешанных продуктов для использования в терапевтических целя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фасованные в виде дозированных лекарственных форм и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упаковке для розничной продаж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коды 931000-937000 Общероссийского классификатора продукции ОК 005-9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85800" y="691920"/>
            <a:ext cx="8244000" cy="50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Декларированию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не подлежат ЛС: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зготовленные в аптеках по рецептам врачей, требованиям  учреждений здравоохран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нутриаптечная заготов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бстанци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С, предназначенные для проведения клинических испытаний или для проведения регистрации Л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C:\Documents and Settings\Admin\Мои документы\Картинки\MM900295154.GIF"/>
          <p:cNvPicPr/>
          <p:nvPr/>
        </p:nvPicPr>
        <p:blipFill>
          <a:blip r:embed="rId1"/>
          <a:stretch/>
        </p:blipFill>
        <p:spPr>
          <a:xfrm>
            <a:off x="6588000" y="2349360"/>
            <a:ext cx="2357640" cy="1866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http://www.serteks.ru/upload/files/imagemanager/.jpg"/>
          <p:cNvPicPr/>
          <p:nvPr/>
        </p:nvPicPr>
        <p:blipFill>
          <a:blip r:embed="rId1"/>
          <a:stretch/>
        </p:blipFill>
        <p:spPr>
          <a:xfrm>
            <a:off x="5715000" y="1941480"/>
            <a:ext cx="3429000" cy="49165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екларация о соответств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773360"/>
            <a:ext cx="6778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о документ, удостоверяющий соответствие выпускаемой в обращение продукции требованиям технических регламентов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ФЗ РФ от 27.12.2002г. №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84-Ф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«О техническом регулировании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50560" y="69228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цесс декларирования подразумев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участие в не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а по сертификаци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кредитованной испытательной лаборатор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9c2d1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екларан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роизводителя (поставщик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егодняшний день в РФ аккредитовано в установленном порядке 7 органов по сертификации ЛС (4 в Москве, С-Петербурге, Екатеринбурге, Новосибирске), осуществляющих регистрацию декларации о соответствии и около 70 технически компетентных и независимых испытательных лабораторий, аккредитованных на проведение испытаний ЛС для целей декларирования соответ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.А.Ляхова</dc:creator>
  <dc:description/>
  <dc:language>en-US</dc:language>
  <cp:lastModifiedBy>Людмила</cp:lastModifiedBy>
  <dcterms:modified xsi:type="dcterms:W3CDTF">2013-02-05T19:27:57Z</dcterms:modified>
  <cp:revision>147</cp:revision>
  <dc:subject/>
  <dc:title>Система контроля качества лекарственных средств и других товаров аптечного ассортимента </dc:title>
</cp:coreProperties>
</file>