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87B-D1CA-4531-A15B-5480AA05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ABC-E912-43F5-9BE5-F12ECCE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125-2075-4709-B7B1-0D610EB2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680-3274-4D09-A9B3-CC617B32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C27-340B-40A4-AD01-F64B16CF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CA5-F925-49C1-8C9E-9E8374CC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310-416E-46FA-A4B7-DBF797E7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BAC-FC6B-4778-B351-DF3A54E7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F01-B59C-4DF1-828E-4CA77FA5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245-F8A3-45B0-ACB2-7CE34ED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B1C-3B5F-4488-8233-9F7AE896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46A-330C-4EE0-92BE-3039321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6720-7B27-4B21-A211-10DBD5A54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1925640"/>
            <a:ext cx="3638520" cy="197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а 89 из 368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4262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Картинка 67 из 1401"/>
          <p:cNvPicPr/>
          <p:nvPr/>
        </p:nvPicPr>
        <p:blipFill>
          <a:blip r:embed="rId4"/>
          <a:stretch/>
        </p:blipFill>
        <p:spPr>
          <a:xfrm rot="21249000">
            <a:off x="5613120" y="2066400"/>
            <a:ext cx="1425600" cy="228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000840"/>
            <a:ext cx="41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лах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 МОУ «СОШ №2 г.Медногор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5"/>
          <a:stretch/>
        </p:blipFill>
        <p:spPr>
          <a:xfrm>
            <a:off x="353880" y="3846600"/>
            <a:ext cx="354168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840" y="29880"/>
            <a:ext cx="40006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1.    </a:t>
            </a: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оя первая програм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000080" y="500040"/>
            <a:ext cx="7358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ервой программой будет программа-приветствие. Она просто выведет текст на экран компьютера и завершит свою работ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также рассмотрим основные правила оформления програм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42920" y="2071800"/>
            <a:ext cx="2857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Firs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,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!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торая строка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857760" y="1714680"/>
            <a:ext cx="52862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рока-заголово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ужебное сл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мя нашей программы, его придумываете сами. В конце строки стоит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При перечислении инструкций Паскаля между ними нужно ставить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929040" y="2643120"/>
            <a:ext cx="471492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 идет тело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сегда начинается со слов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онце строки нет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929040" y="3214800"/>
            <a:ext cx="492912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команда или оператор выводит слово ПРИВЕТ на экран; текст для вывода всегда заключается в апострофы.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2"/>
          <p:cNvSpPr/>
          <p:nvPr/>
        </p:nvSpPr>
        <p:spPr>
          <a:xfrm>
            <a:off x="3929040" y="3786120"/>
            <a:ext cx="49291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ератор выводит на экран слово ДРУЗЬЯ! и переводит курсор на следующую строку. Т.к. символы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в операторе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ают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Соединительная линия уступом 34"/>
          <p:cNvCxnSpPr/>
          <p:nvPr/>
        </p:nvCxnSpPr>
        <p:spPr>
          <a:xfrm>
            <a:off x="1928880" y="3429000"/>
            <a:ext cx="2000880" cy="572400"/>
          </a:xfrm>
          <a:prstGeom prst="bentConnector3">
            <a:avLst>
              <a:gd name="adj1" fmla="val 6399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Соединительная линия уступом 40"/>
          <p:cNvCxnSpPr>
            <a:endCxn id="50" idx="1"/>
          </p:cNvCxnSpPr>
          <p:nvPr/>
        </p:nvCxnSpPr>
        <p:spPr>
          <a:xfrm>
            <a:off x="1000080" y="2714400"/>
            <a:ext cx="2929680" cy="159480"/>
          </a:xfrm>
          <a:prstGeom prst="bentConnector3">
            <a:avLst>
              <a:gd name="adj1" fmla="val 57048"/>
            </a:avLst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Соединительная линия уступом 45"/>
          <p:cNvCxnSpPr>
            <a:endCxn id="51" idx="1"/>
          </p:cNvCxnSpPr>
          <p:nvPr/>
        </p:nvCxnSpPr>
        <p:spPr>
          <a:xfrm>
            <a:off x="1714320" y="3071880"/>
            <a:ext cx="2215080" cy="373680"/>
          </a:xfrm>
          <a:prstGeom prst="bentConnector3">
            <a:avLst>
              <a:gd name="adj1" fmla="val 76040"/>
            </a:avLst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56" name="Соединительная линия уступом 50"/>
          <p:cNvCxnSpPr>
            <a:endCxn id="57" idx="1"/>
          </p:cNvCxnSpPr>
          <p:nvPr/>
        </p:nvCxnSpPr>
        <p:spPr>
          <a:xfrm>
            <a:off x="2857680" y="3857400"/>
            <a:ext cx="1429200" cy="875160"/>
          </a:xfrm>
          <a:prstGeom prst="bentConnector3">
            <a:avLst>
              <a:gd name="adj1" fmla="val 15923"/>
            </a:avLst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57" name="TextBox 56"/>
          <p:cNvSpPr/>
          <p:nvPr/>
        </p:nvSpPr>
        <p:spPr>
          <a:xfrm>
            <a:off x="4286160" y="4500720"/>
            <a:ext cx="42148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онце строки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не обязательна, т.к. это последний оператор  (пере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можно не стави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Соединительная линия уступом 58"/>
          <p:cNvCxnSpPr>
            <a:endCxn id="59" idx="1"/>
          </p:cNvCxnSpPr>
          <p:nvPr/>
        </p:nvCxnSpPr>
        <p:spPr>
          <a:xfrm>
            <a:off x="785880" y="4143240"/>
            <a:ext cx="3643920" cy="123120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59" name="TextBox 59"/>
          <p:cNvSpPr/>
          <p:nvPr/>
        </p:nvSpPr>
        <p:spPr>
          <a:xfrm>
            <a:off x="4429080" y="5143680"/>
            <a:ext cx="28576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канчивает тело программы и в конце обязательно стоит т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0"/>
          <p:cNvSpPr/>
          <p:nvPr/>
        </p:nvSpPr>
        <p:spPr>
          <a:xfrm>
            <a:off x="1643040" y="592920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программы получ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Соединительная линия уступом 62"/>
          <p:cNvCxnSpPr/>
          <p:nvPr/>
        </p:nvCxnSpPr>
        <p:spPr>
          <a:xfrm flipV="1">
            <a:off x="1643040" y="1999800"/>
            <a:ext cx="2215440" cy="357840"/>
          </a:xfrm>
          <a:prstGeom prst="bentConnector3">
            <a:avLst>
              <a:gd name="adj1" fmla="val 49991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3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к заложить программу в компьюте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714240" y="500040"/>
            <a:ext cx="8001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рассмотри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должен пройти пользователь(программист) для того, чтобы увидеть на экране правильные результаты работы програм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512640" y="1359000"/>
            <a:ext cx="817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28800" y="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хема прохождения этапов создания программы на компьют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"/>
          <p:cNvSpPr/>
          <p:nvPr/>
        </p:nvSpPr>
        <p:spPr>
          <a:xfrm>
            <a:off x="3429000" y="357120"/>
            <a:ext cx="1357200" cy="3571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263760" y="857160"/>
            <a:ext cx="17146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d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дак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Ромб 4"/>
          <p:cNvSpPr/>
          <p:nvPr/>
        </p:nvSpPr>
        <p:spPr>
          <a:xfrm>
            <a:off x="3303720" y="1500120"/>
            <a:ext cx="1643040" cy="5716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303720" y="228600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мпи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Ромб 6"/>
          <p:cNvSpPr/>
          <p:nvPr/>
        </p:nvSpPr>
        <p:spPr>
          <a:xfrm>
            <a:off x="3314880" y="300024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314880" y="371484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омб 8"/>
          <p:cNvSpPr/>
          <p:nvPr/>
        </p:nvSpPr>
        <p:spPr>
          <a:xfrm>
            <a:off x="3319560" y="435780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330720" y="498312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полн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Ромб 10"/>
          <p:cNvSpPr/>
          <p:nvPr/>
        </p:nvSpPr>
        <p:spPr>
          <a:xfrm>
            <a:off x="3319560" y="565452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3468600" y="6357960"/>
            <a:ext cx="1357560" cy="3571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Прямая со стрелкой 33"/>
          <p:cNvCxnSpPr>
            <a:stCxn id="66" idx="4"/>
            <a:endCxn id="67" idx="0"/>
          </p:cNvCxnSpPr>
          <p:nvPr/>
        </p:nvCxnSpPr>
        <p:spPr>
          <a:xfrm>
            <a:off x="4106880" y="713880"/>
            <a:ext cx="151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37"/>
          <p:cNvCxnSpPr>
            <a:stCxn id="67" idx="2"/>
            <a:endCxn id="68" idx="0"/>
          </p:cNvCxnSpPr>
          <p:nvPr/>
        </p:nvCxnSpPr>
        <p:spPr>
          <a:xfrm>
            <a:off x="4121280" y="1356840"/>
            <a:ext cx="360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48"/>
          <p:cNvCxnSpPr>
            <a:stCxn id="68" idx="2"/>
            <a:endCxn id="69" idx="0"/>
          </p:cNvCxnSpPr>
          <p:nvPr/>
        </p:nvCxnSpPr>
        <p:spPr>
          <a:xfrm flipH="1">
            <a:off x="4123440" y="207144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50"/>
          <p:cNvCxnSpPr>
            <a:stCxn id="69" idx="2"/>
            <a:endCxn id="70" idx="0"/>
          </p:cNvCxnSpPr>
          <p:nvPr/>
        </p:nvCxnSpPr>
        <p:spPr>
          <a:xfrm>
            <a:off x="4123080" y="2785680"/>
            <a:ext cx="11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52"/>
          <p:cNvCxnSpPr>
            <a:stCxn id="70" idx="2"/>
            <a:endCxn id="71" idx="0"/>
          </p:cNvCxnSpPr>
          <p:nvPr/>
        </p:nvCxnSpPr>
        <p:spPr>
          <a:xfrm flipH="1">
            <a:off x="4134600" y="350172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4"/>
          <p:cNvCxnSpPr>
            <a:stCxn id="71" idx="2"/>
            <a:endCxn id="72" idx="0"/>
          </p:cNvCxnSpPr>
          <p:nvPr/>
        </p:nvCxnSpPr>
        <p:spPr>
          <a:xfrm>
            <a:off x="4135320" y="4214520"/>
            <a:ext cx="720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56"/>
          <p:cNvCxnSpPr>
            <a:stCxn id="72" idx="2"/>
            <a:endCxn id="73" idx="0"/>
          </p:cNvCxnSpPr>
          <p:nvPr/>
        </p:nvCxnSpPr>
        <p:spPr>
          <a:xfrm>
            <a:off x="4140720" y="4857840"/>
            <a:ext cx="11880" cy="12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58"/>
          <p:cNvCxnSpPr>
            <a:stCxn id="74" idx="2"/>
            <a:endCxn id="75" idx="0"/>
          </p:cNvCxnSpPr>
          <p:nvPr/>
        </p:nvCxnSpPr>
        <p:spPr>
          <a:xfrm>
            <a:off x="4141800" y="6154200"/>
            <a:ext cx="7200" cy="204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60"/>
          <p:cNvCxnSpPr>
            <a:stCxn id="73" idx="2"/>
            <a:endCxn id="74" idx="0"/>
          </p:cNvCxnSpPr>
          <p:nvPr/>
        </p:nvCxnSpPr>
        <p:spPr>
          <a:xfrm flipH="1">
            <a:off x="4141080" y="5483160"/>
            <a:ext cx="1188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ая соединительная линия 75"/>
          <p:cNvSpPr/>
          <p:nvPr/>
        </p:nvSpPr>
        <p:spPr>
          <a:xfrm>
            <a:off x="4946760" y="1785960"/>
            <a:ext cx="1697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77"/>
          <p:cNvSpPr/>
          <p:nvPr/>
        </p:nvSpPr>
        <p:spPr>
          <a:xfrm>
            <a:off x="4957920" y="3251160"/>
            <a:ext cx="1685880" cy="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79"/>
          <p:cNvSpPr/>
          <p:nvPr/>
        </p:nvSpPr>
        <p:spPr>
          <a:xfrm>
            <a:off x="4962600" y="4608360"/>
            <a:ext cx="1681200" cy="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82"/>
          <p:cNvCxnSpPr/>
          <p:nvPr/>
        </p:nvCxnSpPr>
        <p:spPr>
          <a:xfrm flipH="1">
            <a:off x="4142880" y="785880"/>
            <a:ext cx="2501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86"/>
          <p:cNvCxnSpPr>
            <a:stCxn id="74" idx="3"/>
          </p:cNvCxnSpPr>
          <p:nvPr/>
        </p:nvCxnSpPr>
        <p:spPr>
          <a:xfrm flipV="1">
            <a:off x="4962600" y="5903640"/>
            <a:ext cx="1753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94"/>
          <p:cNvSpPr/>
          <p:nvPr/>
        </p:nvSpPr>
        <p:spPr>
          <a:xfrm>
            <a:off x="5572080" y="14288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5"/>
          <p:cNvSpPr/>
          <p:nvPr/>
        </p:nvSpPr>
        <p:spPr>
          <a:xfrm>
            <a:off x="5572080" y="28576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96"/>
          <p:cNvSpPr/>
          <p:nvPr/>
        </p:nvSpPr>
        <p:spPr>
          <a:xfrm>
            <a:off x="5572080" y="41432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7"/>
          <p:cNvSpPr/>
          <p:nvPr/>
        </p:nvSpPr>
        <p:spPr>
          <a:xfrm>
            <a:off x="5643720" y="542916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98"/>
          <p:cNvSpPr/>
          <p:nvPr/>
        </p:nvSpPr>
        <p:spPr>
          <a:xfrm>
            <a:off x="3500280" y="19288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9"/>
          <p:cNvSpPr/>
          <p:nvPr/>
        </p:nvSpPr>
        <p:spPr>
          <a:xfrm>
            <a:off x="3357720" y="33577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0"/>
          <p:cNvSpPr/>
          <p:nvPr/>
        </p:nvSpPr>
        <p:spPr>
          <a:xfrm>
            <a:off x="3429000" y="60721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4"/>
          <p:cNvSpPr/>
          <p:nvPr/>
        </p:nvSpPr>
        <p:spPr>
          <a:xfrm>
            <a:off x="3357720" y="47149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36"/>
          <p:cNvSpPr/>
          <p:nvPr/>
        </p:nvSpPr>
        <p:spPr>
          <a:xfrm flipV="1">
            <a:off x="6643800" y="785880"/>
            <a:ext cx="144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47"/>
          <p:cNvSpPr/>
          <p:nvPr/>
        </p:nvSpPr>
        <p:spPr>
          <a:xfrm flipV="1">
            <a:off x="6643800" y="856800"/>
            <a:ext cx="1440" cy="378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51"/>
          <p:cNvSpPr/>
          <p:nvPr/>
        </p:nvSpPr>
        <p:spPr>
          <a:xfrm flipV="1">
            <a:off x="6643800" y="785520"/>
            <a:ext cx="1440" cy="507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55"/>
          <p:cNvSpPr/>
          <p:nvPr/>
        </p:nvSpPr>
        <p:spPr>
          <a:xfrm flipV="1">
            <a:off x="6643800" y="785520"/>
            <a:ext cx="1440" cy="25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42960" y="357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устите программу Паскаль АВС со значка на рабочем ст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rcRect l="11871" t="16894" r="64676" b="15399"/>
          <a:stretch/>
        </p:blipFill>
        <p:spPr>
          <a:xfrm>
            <a:off x="214200" y="1071720"/>
            <a:ext cx="5643720" cy="521496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ая прямоугольная выноска 4"/>
          <p:cNvSpPr/>
          <p:nvPr/>
        </p:nvSpPr>
        <p:spPr>
          <a:xfrm>
            <a:off x="6858000" y="1071720"/>
            <a:ext cx="1928880" cy="571320"/>
          </a:xfrm>
          <a:prstGeom prst="wedgeRoundRectCallout">
            <a:avLst>
              <a:gd name="adj1" fmla="val -249078"/>
              <a:gd name="adj2" fmla="val 12212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мен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ая прямоугольная выноска 5"/>
          <p:cNvSpPr/>
          <p:nvPr/>
        </p:nvSpPr>
        <p:spPr>
          <a:xfrm>
            <a:off x="6357960" y="1857240"/>
            <a:ext cx="2786040" cy="785880"/>
          </a:xfrm>
          <a:prstGeom prst="wedgeRoundRectCallout">
            <a:avLst>
              <a:gd name="adj1" fmla="val -143287"/>
              <a:gd name="adj2" fmla="val 99902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редак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из главног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ю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ая прямоугольная выноска 6"/>
          <p:cNvSpPr/>
          <p:nvPr/>
        </p:nvSpPr>
        <p:spPr>
          <a:xfrm>
            <a:off x="6572160" y="3000240"/>
            <a:ext cx="2357640" cy="785880"/>
          </a:xfrm>
          <a:prstGeom prst="wedgeRoundRectCallout">
            <a:avLst>
              <a:gd name="adj1" fmla="val -165824"/>
              <a:gd name="adj2" fmla="val 30581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выв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на выполнение программы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71680" y="214200"/>
            <a:ext cx="82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ерите в окне редактирования свою первую программу, запустите на выполнение кнопкой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214720" y="857160"/>
            <a:ext cx="2857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Firs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, 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!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торая строка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857160" y="3071880"/>
            <a:ext cx="7429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цессы компиляции и запуска программы на выполнение можно объединить, вызвав команду </a:t>
            </a:r>
            <a:r>
              <a:rPr b="1" i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un</a:t>
            </a: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(</a:t>
            </a:r>
            <a:r>
              <a:rPr b="1" i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F</a:t>
            </a: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9) сразу после набора текста 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428840" y="435780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из программы осуществляется с помощ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еню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143000" y="5000760"/>
            <a:ext cx="6715080" cy="134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е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ишите программу, которая выводит на экран текс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та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riteln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286080" y="635796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4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900"/>
                            </p:stCondLst>
                            <p:childTnLst>
                              <p:par>
                                <p:cTn id="4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42960" y="357120"/>
            <a:ext cx="8072280" cy="13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ишите программу, которая выводит на экран фразу «Всем привет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 раз – в таблице из 5 строк по 4 столб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2000160"/>
            <a:ext cx="7500960" cy="29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дания расстояния между колонками используйте несколько пробелов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начала только один операто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й выведет одну фразу (не забудьте про пробелы). Затем скопируйте его еще 4 раза, чтобы получить целую строку. В конце не забудьте поставить переход на следующую стро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нуж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28600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ря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6:58:23Z</dcterms:created>
  <dc:creator>Дома</dc:creator>
  <dc:description/>
  <dc:language>en-US</dc:language>
  <cp:lastModifiedBy>Дома</cp:lastModifiedBy>
  <dcterms:modified xsi:type="dcterms:W3CDTF">2010-10-31T17:01:34Z</dcterms:modified>
  <cp:revision>1</cp:revision>
  <dc:subject/>
  <dc:title>Слайд 1</dc:title>
</cp:coreProperties>
</file>