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722-5647-41A8-8611-4A152500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5F5-887A-47E5-A751-4CA3B92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7D9-47EB-472A-B3C3-B9605C58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8C5-AAB7-41C6-AE9E-B6FA8188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D52-9473-4E96-854A-1713301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37E-4C1D-472F-BF6C-A61CEEC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3C7-01E2-4580-AE88-88C9CA34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6C5-BD81-4111-97BA-A33B6590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C6E-3E05-4864-8678-39D3CD50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26E-2FDA-4D39-B5B0-E34B774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700-5DE9-42D9-A959-2ACBE4D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644-C200-4953-A1C5-493D666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004-5756-4658-BF74-6FCBA6465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1925640"/>
            <a:ext cx="3638520" cy="197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89 из 368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4262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ртинка 67 из 1401"/>
          <p:cNvPicPr/>
          <p:nvPr/>
        </p:nvPicPr>
        <p:blipFill>
          <a:blip r:embed="rId4"/>
          <a:stretch/>
        </p:blipFill>
        <p:spPr>
          <a:xfrm rot="21249000">
            <a:off x="5613120" y="2066400"/>
            <a:ext cx="1425600" cy="228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000840"/>
            <a:ext cx="41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лах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 МОУ «СОШ №2 г.Медногор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5"/>
          <a:stretch/>
        </p:blipFill>
        <p:spPr>
          <a:xfrm>
            <a:off x="353880" y="3846600"/>
            <a:ext cx="35416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840" y="29880"/>
            <a:ext cx="40006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1.    </a:t>
            </a: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оя первая пр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000080" y="500040"/>
            <a:ext cx="7358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ервой программой будет программа-приветствие. Она просто выведет текст на экран компьютера и завершит свою работ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также рассмотрим основные правила оформления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42920" y="207180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57760" y="1714680"/>
            <a:ext cx="52862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ока-заголово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ужебное сл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я нашей программы, его придумываете сами. В конце строки стои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При перечислении инструкций Паскаля между ними нужно ставить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929040" y="2643120"/>
            <a:ext cx="47149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идет тело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сегда начинается со слов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не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929040" y="3214800"/>
            <a:ext cx="49291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команда или оператор выводит слово ПРИВЕТ на экран; текст для вывода всегда заключается в апострофы.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2"/>
          <p:cNvSpPr/>
          <p:nvPr/>
        </p:nvSpPr>
        <p:spPr>
          <a:xfrm>
            <a:off x="3929040" y="3786120"/>
            <a:ext cx="49291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ератор выводит на экран слово ДРУЗЬЯ! и переводит курсор на следующую строку. Т.к. символы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 оператор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ют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Соединительная линия уступом 34"/>
          <p:cNvCxnSpPr/>
          <p:nvPr/>
        </p:nvCxnSpPr>
        <p:spPr>
          <a:xfrm>
            <a:off x="1928880" y="3429000"/>
            <a:ext cx="2000880" cy="572400"/>
          </a:xfrm>
          <a:prstGeom prst="bentConnector3">
            <a:avLst>
              <a:gd name="adj1" fmla="val 6399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Соединительная линия уступом 40"/>
          <p:cNvCxnSpPr>
            <a:endCxn id="50" idx="1"/>
          </p:cNvCxnSpPr>
          <p:nvPr/>
        </p:nvCxnSpPr>
        <p:spPr>
          <a:xfrm>
            <a:off x="1000080" y="2714400"/>
            <a:ext cx="2929680" cy="159480"/>
          </a:xfrm>
          <a:prstGeom prst="bentConnector3">
            <a:avLst>
              <a:gd name="adj1" fmla="val 57048"/>
            </a:avLst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Соединительная линия уступом 45"/>
          <p:cNvCxnSpPr>
            <a:endCxn id="51" idx="1"/>
          </p:cNvCxnSpPr>
          <p:nvPr/>
        </p:nvCxnSpPr>
        <p:spPr>
          <a:xfrm>
            <a:off x="1714320" y="3071880"/>
            <a:ext cx="2215080" cy="373680"/>
          </a:xfrm>
          <a:prstGeom prst="bentConnector3">
            <a:avLst>
              <a:gd name="adj1" fmla="val 76040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56" name="Соединительная линия уступом 50"/>
          <p:cNvCxnSpPr>
            <a:endCxn id="57" idx="1"/>
          </p:cNvCxnSpPr>
          <p:nvPr/>
        </p:nvCxnSpPr>
        <p:spPr>
          <a:xfrm>
            <a:off x="2857680" y="3857400"/>
            <a:ext cx="1429200" cy="875160"/>
          </a:xfrm>
          <a:prstGeom prst="bentConnector3">
            <a:avLst>
              <a:gd name="adj1" fmla="val 15923"/>
            </a:avLst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57" name="TextBox 56"/>
          <p:cNvSpPr/>
          <p:nvPr/>
        </p:nvSpPr>
        <p:spPr>
          <a:xfrm>
            <a:off x="4286160" y="4500720"/>
            <a:ext cx="42148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не обязательна, т.к. это последний оператор  (пере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можно не стави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Соединительная линия уступом 58"/>
          <p:cNvCxnSpPr>
            <a:endCxn id="59" idx="1"/>
          </p:cNvCxnSpPr>
          <p:nvPr/>
        </p:nvCxnSpPr>
        <p:spPr>
          <a:xfrm>
            <a:off x="785880" y="4143240"/>
            <a:ext cx="3643920" cy="123120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59" name="TextBox 59"/>
          <p:cNvSpPr/>
          <p:nvPr/>
        </p:nvSpPr>
        <p:spPr>
          <a:xfrm>
            <a:off x="4429080" y="5143680"/>
            <a:ext cx="28576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канчивает тело программы и в конце обязательно стоит т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0"/>
          <p:cNvSpPr/>
          <p:nvPr/>
        </p:nvSpPr>
        <p:spPr>
          <a:xfrm>
            <a:off x="1643040" y="592920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программы получ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Соединительная линия уступом 62"/>
          <p:cNvCxnSpPr/>
          <p:nvPr/>
        </p:nvCxnSpPr>
        <p:spPr>
          <a:xfrm flipV="1">
            <a:off x="1643040" y="1999800"/>
            <a:ext cx="2215440" cy="357840"/>
          </a:xfrm>
          <a:prstGeom prst="bentConnector3">
            <a:avLst>
              <a:gd name="adj1" fmla="val 49991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3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к заложить программу в компьюте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714240" y="500040"/>
            <a:ext cx="8001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рассмотри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должен пройти пользователь(программист) для того, чтобы увидеть на экране правильные результаты работы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512640" y="1359000"/>
            <a:ext cx="817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28800" y="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хема прохождения этапов создания программы на компьют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"/>
          <p:cNvSpPr/>
          <p:nvPr/>
        </p:nvSpPr>
        <p:spPr>
          <a:xfrm>
            <a:off x="3429000" y="357120"/>
            <a:ext cx="135720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263760" y="857160"/>
            <a:ext cx="1714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дак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Ромб 4"/>
          <p:cNvSpPr/>
          <p:nvPr/>
        </p:nvSpPr>
        <p:spPr>
          <a:xfrm>
            <a:off x="3303720" y="1500120"/>
            <a:ext cx="1643040" cy="5716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303720" y="228600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мпи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Ромб 6"/>
          <p:cNvSpPr/>
          <p:nvPr/>
        </p:nvSpPr>
        <p:spPr>
          <a:xfrm>
            <a:off x="3314880" y="300024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314880" y="371484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омб 8"/>
          <p:cNvSpPr/>
          <p:nvPr/>
        </p:nvSpPr>
        <p:spPr>
          <a:xfrm>
            <a:off x="3319560" y="435780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330720" y="498312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полн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Ромб 10"/>
          <p:cNvSpPr/>
          <p:nvPr/>
        </p:nvSpPr>
        <p:spPr>
          <a:xfrm>
            <a:off x="3319560" y="565452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3468600" y="6357960"/>
            <a:ext cx="135756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33"/>
          <p:cNvCxnSpPr>
            <a:stCxn id="66" idx="4"/>
            <a:endCxn id="67" idx="0"/>
          </p:cNvCxnSpPr>
          <p:nvPr/>
        </p:nvCxnSpPr>
        <p:spPr>
          <a:xfrm>
            <a:off x="4106880" y="713880"/>
            <a:ext cx="151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37"/>
          <p:cNvCxnSpPr>
            <a:stCxn id="67" idx="2"/>
            <a:endCxn id="68" idx="0"/>
          </p:cNvCxnSpPr>
          <p:nvPr/>
        </p:nvCxnSpPr>
        <p:spPr>
          <a:xfrm>
            <a:off x="4121280" y="1356840"/>
            <a:ext cx="36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48"/>
          <p:cNvCxnSpPr>
            <a:stCxn id="68" idx="2"/>
            <a:endCxn id="69" idx="0"/>
          </p:cNvCxnSpPr>
          <p:nvPr/>
        </p:nvCxnSpPr>
        <p:spPr>
          <a:xfrm flipH="1">
            <a:off x="4123440" y="207144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50"/>
          <p:cNvCxnSpPr>
            <a:stCxn id="69" idx="2"/>
            <a:endCxn id="70" idx="0"/>
          </p:cNvCxnSpPr>
          <p:nvPr/>
        </p:nvCxnSpPr>
        <p:spPr>
          <a:xfrm>
            <a:off x="4123080" y="2785680"/>
            <a:ext cx="11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52"/>
          <p:cNvCxnSpPr>
            <a:stCxn id="70" idx="2"/>
            <a:endCxn id="71" idx="0"/>
          </p:cNvCxnSpPr>
          <p:nvPr/>
        </p:nvCxnSpPr>
        <p:spPr>
          <a:xfrm flipH="1">
            <a:off x="4134600" y="350172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4"/>
          <p:cNvCxnSpPr>
            <a:stCxn id="71" idx="2"/>
            <a:endCxn id="72" idx="0"/>
          </p:cNvCxnSpPr>
          <p:nvPr/>
        </p:nvCxnSpPr>
        <p:spPr>
          <a:xfrm>
            <a:off x="4135320" y="4214520"/>
            <a:ext cx="72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56"/>
          <p:cNvCxnSpPr>
            <a:stCxn id="72" idx="2"/>
            <a:endCxn id="73" idx="0"/>
          </p:cNvCxnSpPr>
          <p:nvPr/>
        </p:nvCxnSpPr>
        <p:spPr>
          <a:xfrm>
            <a:off x="4140720" y="4857840"/>
            <a:ext cx="11880" cy="12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58"/>
          <p:cNvCxnSpPr>
            <a:stCxn id="74" idx="2"/>
            <a:endCxn id="75" idx="0"/>
          </p:cNvCxnSpPr>
          <p:nvPr/>
        </p:nvCxnSpPr>
        <p:spPr>
          <a:xfrm>
            <a:off x="4141800" y="6154200"/>
            <a:ext cx="7200" cy="204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60"/>
          <p:cNvCxnSpPr>
            <a:stCxn id="73" idx="2"/>
            <a:endCxn id="74" idx="0"/>
          </p:cNvCxnSpPr>
          <p:nvPr/>
        </p:nvCxnSpPr>
        <p:spPr>
          <a:xfrm flipH="1">
            <a:off x="4141080" y="5483160"/>
            <a:ext cx="1188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ая соединительная линия 75"/>
          <p:cNvSpPr/>
          <p:nvPr/>
        </p:nvSpPr>
        <p:spPr>
          <a:xfrm>
            <a:off x="4946760" y="1785960"/>
            <a:ext cx="1697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77"/>
          <p:cNvSpPr/>
          <p:nvPr/>
        </p:nvSpPr>
        <p:spPr>
          <a:xfrm>
            <a:off x="4957920" y="3251160"/>
            <a:ext cx="168588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79"/>
          <p:cNvSpPr/>
          <p:nvPr/>
        </p:nvSpPr>
        <p:spPr>
          <a:xfrm>
            <a:off x="4962600" y="4608360"/>
            <a:ext cx="168120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82"/>
          <p:cNvCxnSpPr/>
          <p:nvPr/>
        </p:nvCxnSpPr>
        <p:spPr>
          <a:xfrm flipH="1">
            <a:off x="4142880" y="785880"/>
            <a:ext cx="2501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86"/>
          <p:cNvCxnSpPr>
            <a:stCxn id="74" idx="3"/>
          </p:cNvCxnSpPr>
          <p:nvPr/>
        </p:nvCxnSpPr>
        <p:spPr>
          <a:xfrm flipV="1">
            <a:off x="4962600" y="5903640"/>
            <a:ext cx="1753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94"/>
          <p:cNvSpPr/>
          <p:nvPr/>
        </p:nvSpPr>
        <p:spPr>
          <a:xfrm>
            <a:off x="5572080" y="14288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5"/>
          <p:cNvSpPr/>
          <p:nvPr/>
        </p:nvSpPr>
        <p:spPr>
          <a:xfrm>
            <a:off x="5572080" y="28576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6"/>
          <p:cNvSpPr/>
          <p:nvPr/>
        </p:nvSpPr>
        <p:spPr>
          <a:xfrm>
            <a:off x="5572080" y="41432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7"/>
          <p:cNvSpPr/>
          <p:nvPr/>
        </p:nvSpPr>
        <p:spPr>
          <a:xfrm>
            <a:off x="5643720" y="542916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98"/>
          <p:cNvSpPr/>
          <p:nvPr/>
        </p:nvSpPr>
        <p:spPr>
          <a:xfrm>
            <a:off x="3500280" y="19288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9"/>
          <p:cNvSpPr/>
          <p:nvPr/>
        </p:nvSpPr>
        <p:spPr>
          <a:xfrm>
            <a:off x="3357720" y="33577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0"/>
          <p:cNvSpPr/>
          <p:nvPr/>
        </p:nvSpPr>
        <p:spPr>
          <a:xfrm>
            <a:off x="3429000" y="60721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4"/>
          <p:cNvSpPr/>
          <p:nvPr/>
        </p:nvSpPr>
        <p:spPr>
          <a:xfrm>
            <a:off x="3357720" y="47149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6"/>
          <p:cNvSpPr/>
          <p:nvPr/>
        </p:nvSpPr>
        <p:spPr>
          <a:xfrm flipV="1">
            <a:off x="6643800" y="785880"/>
            <a:ext cx="144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47"/>
          <p:cNvSpPr/>
          <p:nvPr/>
        </p:nvSpPr>
        <p:spPr>
          <a:xfrm flipV="1">
            <a:off x="6643800" y="856800"/>
            <a:ext cx="1440" cy="378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51"/>
          <p:cNvSpPr/>
          <p:nvPr/>
        </p:nvSpPr>
        <p:spPr>
          <a:xfrm flipV="1">
            <a:off x="6643800" y="785520"/>
            <a:ext cx="1440" cy="507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55"/>
          <p:cNvSpPr/>
          <p:nvPr/>
        </p:nvSpPr>
        <p:spPr>
          <a:xfrm flipV="1">
            <a:off x="6643800" y="785520"/>
            <a:ext cx="1440" cy="25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42960" y="357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устите программу Паскаль АВС со значка на рабочем ст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rcRect l="11871" t="16894" r="64676" b="15399"/>
          <a:stretch/>
        </p:blipFill>
        <p:spPr>
          <a:xfrm>
            <a:off x="214200" y="1071720"/>
            <a:ext cx="5643720" cy="521496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ая прямоугольная выноска 4"/>
          <p:cNvSpPr/>
          <p:nvPr/>
        </p:nvSpPr>
        <p:spPr>
          <a:xfrm>
            <a:off x="6858000" y="1071720"/>
            <a:ext cx="1928880" cy="571320"/>
          </a:xfrm>
          <a:prstGeom prst="wedgeRoundRectCallout">
            <a:avLst>
              <a:gd name="adj1" fmla="val -249078"/>
              <a:gd name="adj2" fmla="val 12212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мен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ая прямоугольная выноска 5"/>
          <p:cNvSpPr/>
          <p:nvPr/>
        </p:nvSpPr>
        <p:spPr>
          <a:xfrm>
            <a:off x="6357960" y="1857240"/>
            <a:ext cx="2786040" cy="785880"/>
          </a:xfrm>
          <a:prstGeom prst="wedgeRoundRectCallout">
            <a:avLst>
              <a:gd name="adj1" fmla="val -143287"/>
              <a:gd name="adj2" fmla="val 99902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редак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главног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ю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ая прямоугольная выноска 6"/>
          <p:cNvSpPr/>
          <p:nvPr/>
        </p:nvSpPr>
        <p:spPr>
          <a:xfrm>
            <a:off x="6572160" y="3000240"/>
            <a:ext cx="2357640" cy="785880"/>
          </a:xfrm>
          <a:prstGeom prst="wedgeRoundRectCallout">
            <a:avLst>
              <a:gd name="adj1" fmla="val -165824"/>
              <a:gd name="adj2" fmla="val 30581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выв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на выполнение программы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71680" y="214200"/>
            <a:ext cx="82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ерите в окне редактирования свою первую программу, запустите на выполнение кнопкой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14720" y="85716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 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857160" y="3071880"/>
            <a:ext cx="7429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цессы компиляции и запуска программы на выполнение можно объединить, вызвав команду 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un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(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F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9) сразу после набора текста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428840" y="435780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из программы осуществляется с помощ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ен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143000" y="5000760"/>
            <a:ext cx="6715080" cy="134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е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текс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та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riteln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286080" y="635796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4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900"/>
                            </p:stCondLst>
                            <p:childTnLst>
                              <p:par>
                                <p:cTn id="4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42960" y="357120"/>
            <a:ext cx="8072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фразу «Всем привет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 раз – в таблице из 5 строк по 4 столб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2000160"/>
            <a:ext cx="7500960" cy="29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ния расстояния между колонками используйте несколько пробелов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начала только один операто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й выведет одну фразу (не забудьте про пробелы). Затем скопируйте его еще 4 раза, чтобы получить целую строку. В конце не забудьте поставить переход на следующую стро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нуж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28600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ря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8:23Z</dcterms:created>
  <dc:creator>Дома</dc:creator>
  <dc:description/>
  <dc:language>en-US</dc:language>
  <cp:lastModifiedBy>Дома</cp:lastModifiedBy>
  <dcterms:modified xsi:type="dcterms:W3CDTF">2010-10-31T17:01:34Z</dcterms:modified>
  <cp:revision>1</cp:revision>
  <dc:subject/>
  <dc:title>Слайд 1</dc:title>
</cp:coreProperties>
</file>