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8A7-3605-458C-85FD-0CB84A10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1FF-7AFB-4789-8712-FBDB4762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C67-ED9B-4697-AB22-7C25E870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1A0-A0D6-4B28-98B3-6E475249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D9F1-8C4E-48D2-B950-5A12FAC1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E9B5-8E9F-4E4A-8020-DD614901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6D9B-9FA6-4CA8-A40C-E8F04CFE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4848-0E8F-4666-8435-777537CA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1655-0E7E-4099-9655-2A4DFA09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472A-AE27-4DD3-B75F-08127D9B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FFDB-C7FA-4FA0-B94C-C64DDDA6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336-3086-426B-8071-68D4925A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F942-9F77-4DF3-9937-F69FDF9F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DA2A-E63A-4094-A0A9-1A3686EA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7080-ED37-41F5-824A-4A35C634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1D7C-D488-484A-BF24-D4EA709C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C384-9AF5-4F45-AB4E-FED9B611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93DA-14BB-481B-A32A-4FC7F3C7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CEDBA-57F8-4027-A86D-AEF80E93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9039-D11C-42F4-A6B4-BE89E59E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317C4-8204-40BF-AB6F-13D27CCD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DC28-3A9F-418F-BC96-5247BC6E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864-B575-43EF-B46C-CFBBB2CE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6E63-AFD4-4F2A-B370-B75E98F9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944F-466A-495C-9CB5-3549C98C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1A61-3A08-4169-900B-4FDD5227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9276D-FF25-4015-9FFD-DF2F36AE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FD05-0710-49C7-B273-8CC28C58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15236-8DE4-4D68-AC94-5349301B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6D0B-4F04-462D-AD16-9DE1CAF3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79F-7654-49CA-81A1-58D885B2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8DC-BC21-4DCC-892C-52F44B23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92A-B94B-426A-A631-9281ABF1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1E9-C1AA-4487-B48E-9E9D427A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F2A-A750-4D62-A95E-A5896682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E7D-1008-4D70-8469-9DF067E1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9">
                  <a:alpha val="45098"/>
                </a:srgbClr>
              </a:gs>
              <a:gs pos="100000">
                <a:srgbClr val="efaa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e0006a">
                  <a:alpha val="45098"/>
                </a:srgbClr>
              </a:gs>
              <a:gs pos="100000">
                <a:srgbClr val="c28b00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e0a2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ffc05c"/>
                </a:solidFill>
                <a:latin typeface="Century Schoolbook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cce1f3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cce1f3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cce1f3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0EA059-4CE5-4692-98D4-D1F834A8FA8F}" type="slidenum">
              <a:rPr b="0" lang="ru-RU" sz="1200" spc="-1" strike="noStrike">
                <a:solidFill>
                  <a:srgbClr val="cce1f3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9">
                  <a:alpha val="45098"/>
                </a:srgbClr>
              </a:gs>
              <a:gs pos="100000">
                <a:srgbClr val="efaa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e0006a">
                  <a:alpha val="45098"/>
                </a:srgbClr>
              </a:gs>
              <a:gs pos="100000">
                <a:srgbClr val="c28b00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e0a2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a566a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a566a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a566a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5DC5DA-E4C2-479F-8B0C-048259B3E160}" type="slidenum">
              <a:rPr b="0" lang="ru-RU" sz="1200" spc="-1" strike="noStrike">
                <a:solidFill>
                  <a:srgbClr val="4a566a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9">
                  <a:alpha val="45098"/>
                </a:srgbClr>
              </a:gs>
              <a:gs pos="100000">
                <a:srgbClr val="efaa00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e0006a">
                  <a:alpha val="45098"/>
                </a:srgbClr>
              </a:gs>
              <a:gs pos="100000">
                <a:srgbClr val="c28b00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e0a2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7fd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4e5b6f"/>
                </a:solidFill>
                <a:latin typeface="Century Schoolbook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a566a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a566a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a566a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111358-1644-4EB6-904D-93F83DE7966C}" type="slidenum">
              <a:rPr b="0" lang="ru-RU" sz="1200" spc="-1" strike="noStrike">
                <a:solidFill>
                  <a:srgbClr val="4a566a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z.lib.ru/o/ostrowskij_a_n/text_0278.shtml" TargetMode="External"/><Relationship Id="rId2" Type="http://schemas.openxmlformats.org/officeDocument/2006/relationships/hyperlink" Target="http://az.lib.ru/o/ostrowskij_a_n/text_0276.shtml" TargetMode="External"/><Relationship Id="rId3" Type="http://schemas.openxmlformats.org/officeDocument/2006/relationships/hyperlink" Target="http://az.lib.ru/o/ostrowskij_a_n/text_0270.shtml" TargetMode="External"/><Relationship Id="rId4" Type="http://schemas.openxmlformats.org/officeDocument/2006/relationships/hyperlink" Target="http://az.lib.ru/o/ostrowskij_a_n/text_0272.shtml" TargetMode="External"/><Relationship Id="rId5" Type="http://schemas.openxmlformats.org/officeDocument/2006/relationships/hyperlink" Target="http://az.lib.ru/o/ostrowskij_a_n/text_0274.shtml" TargetMode="External"/><Relationship Id="rId6" Type="http://schemas.openxmlformats.org/officeDocument/2006/relationships/hyperlink" Target="http://az.lib.ru/o/ostrowskij_a_n/text_0470.shtml" TargetMode="External"/><Relationship Id="rId7" Type="http://schemas.openxmlformats.org/officeDocument/2006/relationships/hyperlink" Target="http://az.lib.ru/editors/o/ostrowskij_a_n/text_0001.shtml" TargetMode="External"/><Relationship Id="rId8" Type="http://schemas.openxmlformats.org/officeDocument/2006/relationships/hyperlink" Target="http://az.lib.ru/o/ostrowskij_a_n/text_0262.shtml" TargetMode="External"/><Relationship Id="rId9" Type="http://schemas.openxmlformats.org/officeDocument/2006/relationships/hyperlink" Target="http://az.lib.ru/o/ostrowskij_a_n/text_0264.shtml" TargetMode="External"/><Relationship Id="rId10" Type="http://schemas.openxmlformats.org/officeDocument/2006/relationships/hyperlink" Target="http://az.lib.ru/o/ostrowskij_a_n/text_0210.shtml" TargetMode="External"/><Relationship Id="rId11" Type="http://schemas.openxmlformats.org/officeDocument/2006/relationships/hyperlink" Target="http://az.lib.ru/o/ostrowskij_a_n/text_0214.shtml" TargetMode="External"/><Relationship Id="rId12" Type="http://schemas.openxmlformats.org/officeDocument/2006/relationships/hyperlink" Target="http://az.lib.ru/o/ostrowskij_a_n/text_0220.shtml" TargetMode="External"/><Relationship Id="rId13" Type="http://schemas.openxmlformats.org/officeDocument/2006/relationships/hyperlink" Target="http://az.lib.ru/o/ostrowskij_a_n/text_0222.shtml" TargetMode="External"/><Relationship Id="rId14" Type="http://schemas.openxmlformats.org/officeDocument/2006/relationships/hyperlink" Target="http://az.lib.ru/o/ostrowskij_a_n/text_0224.shtml" TargetMode="External"/><Relationship Id="rId15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z.lib.ru/o/ostrowskij_a_n/text_0070.shtml" TargetMode="External"/><Relationship Id="rId2" Type="http://schemas.openxmlformats.org/officeDocument/2006/relationships/hyperlink" Target="http://az.lib.ru/o/ostrowskij_a_n/text_0080.shtml" TargetMode="External"/><Relationship Id="rId3" Type="http://schemas.openxmlformats.org/officeDocument/2006/relationships/hyperlink" Target="http://az.lib.ru/o/ostrowskij_a_n/text_0090.shtml" TargetMode="External"/><Relationship Id="rId4" Type="http://schemas.openxmlformats.org/officeDocument/2006/relationships/hyperlink" Target="http://az.lib.ru/o/ostrowskij_a_n/text_0092.shtml" TargetMode="External"/><Relationship Id="rId5" Type="http://schemas.openxmlformats.org/officeDocument/2006/relationships/hyperlink" Target="http://az.lib.ru/o/ostrowskij_a_n/text_0094.shtml" TargetMode="External"/><Relationship Id="rId6" Type="http://schemas.openxmlformats.org/officeDocument/2006/relationships/hyperlink" Target="http://az.lib.ru/o/ostrowskij_a_n/text_0100.shtml" TargetMode="External"/><Relationship Id="rId7" Type="http://schemas.openxmlformats.org/officeDocument/2006/relationships/hyperlink" Target="http://az.lib.ru/o/ostrowskij_a_n/text_0130.shtml" TargetMode="External"/><Relationship Id="rId8" Type="http://schemas.openxmlformats.org/officeDocument/2006/relationships/hyperlink" Target="http://az.lib.ru/o/ostrowskij_a_n/text_0104.shtml" TargetMode="External"/><Relationship Id="rId9" Type="http://schemas.openxmlformats.org/officeDocument/2006/relationships/hyperlink" Target="http://az.lib.ru/o/ostrowskij_a_n/text_0142.shtml" TargetMode="External"/><Relationship Id="rId10" Type="http://schemas.openxmlformats.org/officeDocument/2006/relationships/hyperlink" Target="http://az.lib.ru/o/ostrowskij_a_n/text_0150.shtml" TargetMode="External"/><Relationship Id="rId11" Type="http://schemas.openxmlformats.org/officeDocument/2006/relationships/hyperlink" Target="http://az.lib.ru/o/ostrowskij_a_n/text_0160.shtml" TargetMode="External"/><Relationship Id="rId12" Type="http://schemas.openxmlformats.org/officeDocument/2006/relationships/hyperlink" Target="http://az.lib.ru/o/ostrowskij_a_n/text_0170.shtml" TargetMode="External"/><Relationship Id="rId13" Type="http://schemas.openxmlformats.org/officeDocument/2006/relationships/hyperlink" Target="http://az.lib.ru/o/ostrowskij_a_n/text_0180.shtml" TargetMode="External"/><Relationship Id="rId14" Type="http://schemas.openxmlformats.org/officeDocument/2006/relationships/hyperlink" Target="http://az.lib.ru/o/ostrowskij_a_n/text_0190.shtml" TargetMode="External"/><Relationship Id="rId15" Type="http://schemas.openxmlformats.org/officeDocument/2006/relationships/hyperlink" Target="http://az.lib.ru/o/ostrowskij_a_n/text_0192.shtml" TargetMode="External"/><Relationship Id="rId16" Type="http://schemas.openxmlformats.org/officeDocument/2006/relationships/hyperlink" Target="http://az.lib.ru/o/ostrowskij_a_n/text_0200.shtml" TargetMode="External"/><Relationship Id="rId17" Type="http://schemas.openxmlformats.org/officeDocument/2006/relationships/hyperlink" Target="http://az.lib.ru/o/ostrowskij_a_n/text_0032.shtml" TargetMode="External"/><Relationship Id="rId18" Type="http://schemas.openxmlformats.org/officeDocument/2006/relationships/hyperlink" Target="http://az.lib.ru/o/ostrowskij_a_n/text_0040.shtml" TargetMode="External"/><Relationship Id="rId19" Type="http://schemas.openxmlformats.org/officeDocument/2006/relationships/hyperlink" Target="http://az.lib.ru/o/ostrowskij_a_n/text_0061.shtml" TargetMode="External"/><Relationship Id="rId20" Type="http://schemas.openxmlformats.org/officeDocument/2006/relationships/hyperlink" Target="http://az.lib.ru/o/ostrowskij_a_n/text_0063.shtml" TargetMode="External"/><Relationship Id="rId21" Type="http://schemas.openxmlformats.org/officeDocument/2006/relationships/hyperlink" Target="http://az.lib.ru/o/ostrowskij_a_n/text_0064.shtml" TargetMode="External"/><Relationship Id="rId22" Type="http://schemas.openxmlformats.org/officeDocument/2006/relationships/hyperlink" Target="http://az.lib.ru/o/ostrowskij_a_n/text_0064.shtml" TargetMode="External"/><Relationship Id="rId23" Type="http://schemas.openxmlformats.org/officeDocument/2006/relationships/hyperlink" Target="http://az.lib.ru/o/ostrowskij_a_n/text_0066.shtml" TargetMode="External"/><Relationship Id="rId24" Type="http://schemas.openxmlformats.org/officeDocument/2006/relationships/hyperlink" Target="http://az.lib.ru/o/ostrowskij_a_n/text_0066.shtml" TargetMode="External"/><Relationship Id="rId25" Type="http://schemas.openxmlformats.org/officeDocument/2006/relationships/hyperlink" Target="http://az.lib.ru/o/ostrowskij_a_n/text_0066.shtml" TargetMode="External"/><Relationship Id="rId26" Type="http://schemas.openxmlformats.org/officeDocument/2006/relationships/hyperlink" Target="http://az.lib.ru/o/ostrowskij_a_n/text_0066.shtml" TargetMode="External"/><Relationship Id="rId27" Type="http://schemas.openxmlformats.org/officeDocument/2006/relationships/hyperlink" Target="http://az.lib.ru/o/ostrowskij_a_n/text_0140.shtml" TargetMode="External"/><Relationship Id="rId28" Type="http://schemas.openxmlformats.org/officeDocument/2006/relationships/hyperlink" Target="http://az.lib.ru/o/ostrowskij_a_n/text_0110.shtml" TargetMode="External"/><Relationship Id="rId29" Type="http://schemas.openxmlformats.org/officeDocument/2006/relationships/hyperlink" Target="http://az.lib.ru/o/ostrowskij_a_n/text_0114.shtml" TargetMode="External"/><Relationship Id="rId30" Type="http://schemas.openxmlformats.org/officeDocument/2006/relationships/hyperlink" Target="http://az.lib.ru/o/ostrowskij_a_n/text_0174.shtml" TargetMode="External"/><Relationship Id="rId31" Type="http://schemas.openxmlformats.org/officeDocument/2006/relationships/hyperlink" Target="http://az.lib.ru/o/ostrowskij_a_n/text_0132.shtml" TargetMode="External"/><Relationship Id="rId32" Type="http://schemas.openxmlformats.org/officeDocument/2006/relationships/hyperlink" Target="http://az.lib.ru/o/ostrowskij_a_n/text_0134.shtml" TargetMode="External"/><Relationship Id="rId33" Type="http://schemas.openxmlformats.org/officeDocument/2006/relationships/hyperlink" Target="http://az.lib.ru/o/ostrowskij_a_n/text_0136.shtml" TargetMode="External"/><Relationship Id="rId34" Type="http://schemas.openxmlformats.org/officeDocument/2006/relationships/hyperlink" Target="http://az.lib.ru/o/ostrowskij_a_n/text_0102.shtml" TargetMode="External"/><Relationship Id="rId35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214280"/>
            <a:ext cx="7851240" cy="2985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ff095d"/>
                </a:solidFill>
                <a:latin typeface="Century Schoolbook"/>
              </a:rPr>
              <a:t>Островский Александр Николаевич</a:t>
            </a:r>
            <a:endParaRPr b="0" lang="ru-RU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14200" y="5981760"/>
            <a:ext cx="678276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/>
                </a:solidFill>
                <a:latin typeface="Comic Sans MS"/>
              </a:rPr>
              <a:t>Выполнила Шабалина А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21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3,-12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285840"/>
            <a:ext cx="8000640" cy="228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chemeClr val="accent3"/>
                </a:solidFill>
                <a:latin typeface="Century Schoolbook"/>
              </a:rPr>
              <a:t>Произведения       А. Н. Островского:</a:t>
            </a:r>
            <a:endParaRPr b="0" lang="ru-RU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1583640" y="6217200"/>
            <a:ext cx="2535480" cy="456480"/>
          </a:xfrm>
          <a:prstGeom prst="rect">
            <a:avLst/>
          </a:prstGeom>
          <a:solidFill>
            <a:schemeClr val="tx1">
              <a:alpha val="58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"/>
              </a:rPr>
              <a:t>Старое по-нов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208800" y="6072120"/>
            <a:ext cx="1203840" cy="505800"/>
          </a:xfrm>
          <a:prstGeom prst="rect">
            <a:avLst/>
          </a:prstGeom>
          <a:solidFill>
            <a:schemeClr val="tx1">
              <a:alpha val="58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omic Sans MS"/>
                <a:hlinkClick r:id="rId2"/>
              </a:rPr>
              <a:t>Блаж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6072120" y="2224080"/>
            <a:ext cx="3071520" cy="1919520"/>
          </a:xfrm>
          <a:prstGeom prst="rect">
            <a:avLst/>
          </a:prstGeom>
          <a:solidFill>
            <a:schemeClr val="tx1">
              <a:alpha val="57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3"/>
              </a:rPr>
              <a:t>Женитьба Белуг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4"/>
              </a:rPr>
              <a:t>Дика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Arial"/>
                <a:ea typeface="Times New Roman"/>
                <a:hlinkClick r:id="rId5"/>
              </a:rPr>
              <a:t>Светит, да не греет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1920" y="4193280"/>
            <a:ext cx="3038400" cy="2651040"/>
          </a:xfrm>
          <a:prstGeom prst="rect">
            <a:avLst/>
          </a:prstGeom>
          <a:solidFill>
            <a:schemeClr val="tx1">
              <a:alpha val="58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6"/>
              </a:rPr>
              <a:t>Исковое прошение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7"/>
              </a:rPr>
              <a:t>"Семейная картина"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8"/>
              </a:rPr>
              <a:t>Василиса Мелентье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Arial"/>
                <a:ea typeface="Times New Roman"/>
                <a:hlinkClick r:id="rId9"/>
              </a:rPr>
              <a:t>Счастливый день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00040" y="2445480"/>
            <a:ext cx="3571560" cy="3382560"/>
          </a:xfrm>
          <a:prstGeom prst="rect">
            <a:avLst/>
          </a:prstGeom>
          <a:solidFill>
            <a:schemeClr val="tx1">
              <a:alpha val="56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0"/>
              </a:rPr>
              <a:t>Таланты и поклонники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1"/>
              </a:rPr>
              <a:t>Красавец мужч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2"/>
              </a:rPr>
              <a:t> Без вины виноват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3"/>
              </a:rPr>
              <a:t>Не от мира с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Arial"/>
                <a:ea typeface="Times New Roman"/>
                <a:hlinkClick r:id="rId14"/>
              </a:rPr>
              <a:t>Воевода (Сон на Волге)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85880"/>
            <a:ext cx="8519760" cy="563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0000" spc="-1" strike="noStrike">
                <a:solidFill>
                  <a:schemeClr val="accent3"/>
                </a:solidFill>
                <a:latin typeface="Century Schoolbook"/>
              </a:rPr>
              <a:t>Спасибо за внимание!</a:t>
            </a:r>
            <a:br>
              <a:rPr sz="6600"/>
            </a:br>
            <a:r>
              <a:rPr b="1" lang="ru-RU" sz="14900" spc="-1" strike="noStrike">
                <a:solidFill>
                  <a:schemeClr val="accent3"/>
                </a:solidFill>
                <a:latin typeface="Century Schoolbook"/>
              </a:rPr>
              <a:t>☺♫☼</a:t>
            </a:r>
            <a:r>
              <a:rPr b="1" lang="ru-RU" sz="12400" spc="-1" strike="noStrike">
                <a:solidFill>
                  <a:schemeClr val="accent3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chemeClr val="accent3"/>
                </a:solidFill>
                <a:latin typeface="Century Schoolbook"/>
              </a:rPr>
              <a:t>  </a:t>
            </a: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4"/>
          <p:cNvSpPr/>
          <p:nvPr/>
        </p:nvSpPr>
        <p:spPr>
          <a:xfrm>
            <a:off x="0" y="428760"/>
            <a:ext cx="5071680" cy="6673320"/>
          </a:xfrm>
          <a:prstGeom prst="rect">
            <a:avLst/>
          </a:prstGeom>
          <a:solidFill>
            <a:schemeClr val="bg1">
              <a:alpha val="4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omic Sans MS"/>
              </a:rPr>
              <a:t>Островский, Александр Николаевич - знаменитый драматический писатель. Родился 31 марта 1823 г. в Москве, где его отец служил в гражданской палате, а затем занимался частной адвокатурой. Матери Островский лишился еще в детстве и никакого систематического образования не получил. Все его детство и часть юности прошли в самом центре Замоскворечья, бывшего в ту пору, по условиям своей жизни, совершенно особым мир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5" descr="i.jpeg"/>
          <p:cNvPicPr/>
          <p:nvPr/>
        </p:nvPicPr>
        <p:blipFill>
          <a:blip r:embed="rId1"/>
          <a:stretch/>
        </p:blipFill>
        <p:spPr>
          <a:xfrm>
            <a:off x="5238720" y="1571760"/>
            <a:ext cx="3690720" cy="442872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42920" y="214200"/>
            <a:ext cx="5285880" cy="6792840"/>
          </a:xfrm>
          <a:prstGeom prst="rect">
            <a:avLst/>
          </a:prstGeom>
          <a:solidFill>
            <a:schemeClr val="tx1">
              <a:alpha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200" spc="49" strike="noStrike">
                <a:solidFill>
                  <a:schemeClr val="accent2"/>
                </a:solidFill>
                <a:latin typeface="Comic Sans MS"/>
              </a:rPr>
              <a:t>Этот мир населил его воображение теми представлениями и типами, которые он впоследствии воспроизвел в своих комедиях. Благодаря большой библиотеке отца Островский рано ознакомился с русской литературой и почувствовал наклонность к писательству; но отец непременно хотел сделать из него юриста. Окончив гимназический курс, Островский поступил на юридический факультет Московского университета. Окончить курс ему не удалось вследствие какого-то столкновения с одним из профессор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2" descr="63-014.jpg"/>
          <p:cNvPicPr/>
          <p:nvPr/>
        </p:nvPicPr>
        <p:blipFill>
          <a:blip r:embed="rId1"/>
          <a:stretch/>
        </p:blipFill>
        <p:spPr>
          <a:xfrm>
            <a:off x="5500800" y="428760"/>
            <a:ext cx="3357360" cy="468900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142920" y="785880"/>
            <a:ext cx="4357440" cy="6307560"/>
          </a:xfrm>
          <a:prstGeom prst="rect">
            <a:avLst/>
          </a:prstGeom>
          <a:solidFill>
            <a:schemeClr val="tx1">
              <a:alpha val="46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Comic Sans MS"/>
              </a:rPr>
              <a:t>По желанию отца, он поступил на службу писцом, сначала в совестный, потом - в коммерческий суд. Этим и определился характер первых его литературных опытов; в суде он продолжал наблюдения над знакомыми ему с детства своеобразными замоскворецкими типами, напрашивавшимися на литературную обработ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Рисунок 2" descr="бло.jpeg"/>
          <p:cNvPicPr/>
          <p:nvPr/>
        </p:nvPicPr>
        <p:blipFill>
          <a:blip r:embed="rId1"/>
          <a:stretch/>
        </p:blipFill>
        <p:spPr>
          <a:xfrm>
            <a:off x="5500800" y="1000080"/>
            <a:ext cx="2928600" cy="467208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142920" y="285840"/>
            <a:ext cx="4857480" cy="6188040"/>
          </a:xfrm>
          <a:prstGeom prst="rect">
            <a:avLst/>
          </a:prstGeom>
          <a:solidFill>
            <a:schemeClr val="tx1">
              <a:alpha val="4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49" strike="noStrike">
                <a:solidFill>
                  <a:schemeClr val="accent2"/>
                </a:solidFill>
                <a:latin typeface="Comic Sans MS"/>
              </a:rPr>
              <a:t>Начиная с 1853 и на протяжении более чем 30 лет новые пьесы Островского появлялись в московском Малом и петербургском Александринском театрах почти каждый сезон. С 1856 Островский становится постоянным сотрудником журнала "Современник". В 1856, когда по мысли великого князя Константина Николаевича состоялась командировка выдающихся литераторов для изучения и описания различных местностей России в промышленном и бытовом отношениях, Островский взял на себя изучение Волги от верховьев до Нижне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2" descr="олдж..jpeg"/>
          <p:cNvPicPr/>
          <p:nvPr/>
        </p:nvPicPr>
        <p:blipFill>
          <a:blip r:embed="rId1">
            <a:lum contrast="-10000"/>
          </a:blip>
          <a:stretch/>
        </p:blipFill>
        <p:spPr>
          <a:xfrm flipH="1">
            <a:off x="5286600" y="1255320"/>
            <a:ext cx="3357360" cy="407232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0" y="357120"/>
            <a:ext cx="5928840" cy="6673320"/>
          </a:xfrm>
          <a:prstGeom prst="rect">
            <a:avLst/>
          </a:prstGeom>
          <a:solidFill>
            <a:schemeClr val="tx1">
              <a:alpha val="39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1800" spc="49" strike="noStrike">
                <a:solidFill>
                  <a:schemeClr val="accent2"/>
                </a:solidFill>
                <a:latin typeface="Comic Sans MS"/>
              </a:rPr>
              <a:t>В 1859, в издании графа Г.А. Кушелева-Безбородко, были напечатаны два тома сочинений Островского. Это издание и послужило поводом для той блестящей оценки, которую дал Островскому Добролюбов и которая закрепила за ним славу изобразителя "темного царства". В 1860 в печати появилась "Гроза", вызвавшая статью Добролюбова ("Луч света в темном царстве"). В 1863 Островский был награжден Уваровской премией и избран член-корреспондентом Петербургской Академии наук. В 1866 (по другим сведениям - в 1865) в Москве создал Артистический кружок, давший впоследствии московской сцене многих талантливых деятелей. В доме Островского бывали И.А. Гончаров, Д.В. Григорович, И.С. Тургенев, А.Ф. Писемский, Ф.М. Достоевский, И.Е. Турчанинов, П.М. Садовский, Л.П. Косицкая-Никулина, Достоевский, Григорович, М.Е. Салтыков-Щедрин, Л.Н. Толстой, И.С. Тургенев, П.И. Чайковский, Садовский, М.Н. Ермолова, Г.Н. Федот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2" descr="ло.jpeg"/>
          <p:cNvPicPr/>
          <p:nvPr/>
        </p:nvPicPr>
        <p:blipFill>
          <a:blip r:embed="rId1"/>
          <a:stretch/>
        </p:blipFill>
        <p:spPr>
          <a:xfrm>
            <a:off x="6072120" y="1785960"/>
            <a:ext cx="2732760" cy="342864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14200" y="285840"/>
            <a:ext cx="4643280" cy="6797880"/>
          </a:xfrm>
          <a:prstGeom prst="rect">
            <a:avLst/>
          </a:prstGeom>
          <a:solidFill>
            <a:schemeClr val="tx1">
              <a:alpha val="42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49" strike="noStrike">
                <a:solidFill>
                  <a:schemeClr val="accent2"/>
                </a:solidFill>
                <a:latin typeface="Comic Sans MS"/>
              </a:rPr>
              <a:t>С января 1866 был заведующим репертуарной частью московских императорских театров. В 1874 (по другим сведениям - в 1870) было образовано Общество русских драматических писателей и оперных композиторов, бессменным председателем которого Островский оставался до самой смерти. Работая в комиссии "для пересмотра законоположений по всем частям театрального управления", учрежденной в 1881 при дирекции Императорских театров, он добился многих преобразований, значительно улучшивших положение артис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" descr="нг.jpe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643720" y="1500120"/>
            <a:ext cx="2617200" cy="364284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142920" y="428760"/>
            <a:ext cx="4714560" cy="6492960"/>
          </a:xfrm>
          <a:prstGeom prst="rect">
            <a:avLst/>
          </a:prstGeom>
          <a:solidFill>
            <a:schemeClr val="tx1">
              <a:alpha val="41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49" strike="noStrike">
                <a:solidFill>
                  <a:schemeClr val="accent2"/>
                </a:solidFill>
                <a:latin typeface="Comic Sans MS"/>
              </a:rPr>
              <a:t>В 1885 Островский был назначен заведующим репертуарной частью московских театров и начальником театрального училища. Не смотря на то, что его пьесы делали хорошие сборы и что в 1883 император Александр III пожаловал ему ежегодную пенсию в 3 тыс. рублей, денежные проблемы не оставляли Островского до последних дней его жизни. Здоровье не отвечало тем планам, какие он ставил перед собой. Усиленная работа быстро истощила организм; 14 июня (по старому стилю - 2 июня) 1886 Островский скончался в своем костромском имении Щелыко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Рисунок 2" descr="ва.jpe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143680" y="1071720"/>
            <a:ext cx="3214440" cy="450036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glow">
              <a:rot lat="0" lon="0" rev="14100000"/>
            </a:lightRig>
          </a:scene3d>
          <a:sp3d prstMaterial="softEdge">
            <a:bevelT prst="artDeco" w="127000"/>
          </a:sp3d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1571760" y="91440"/>
            <a:ext cx="2642760" cy="6674400"/>
          </a:xfrm>
          <a:prstGeom prst="rect">
            <a:avLst/>
          </a:prstGeom>
          <a:solidFill>
            <a:schemeClr val="tx1">
              <a:alpha val="55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1"/>
              </a:rPr>
              <a:t>Грех да беда на кого не жи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"/>
              </a:rPr>
              <a:t>Тяжелые д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3"/>
              </a:rPr>
              <a:t>Шут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4"/>
              </a:rPr>
              <a:t>Воевода (Сон на Волге)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5"/>
              </a:rPr>
              <a:t>На бойком месте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6"/>
              </a:rPr>
              <a:t>Пуч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7"/>
              </a:rPr>
              <a:t>Л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8"/>
              </a:rPr>
              <a:t>Тушино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9"/>
              </a:rPr>
              <a:t>Снегур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0"/>
              </a:rPr>
              <a:t>Трудовой хлеб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1"/>
              </a:rPr>
              <a:t>Богатые невесты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2"/>
              </a:rPr>
              <a:t>Волки и ов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3"/>
              </a:rPr>
              <a:t>Последняя жер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4"/>
              </a:rPr>
              <a:t>Беспридан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15"/>
              </a:rPr>
              <a:t>Сердце не кам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Arial"/>
                <a:ea typeface="Times New Roman"/>
                <a:hlinkClick r:id="rId16"/>
              </a:rPr>
              <a:t>Невольницы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214880" y="498600"/>
            <a:ext cx="4928760" cy="5860440"/>
          </a:xfrm>
          <a:prstGeom prst="rect">
            <a:avLst/>
          </a:prstGeom>
          <a:solidFill>
            <a:schemeClr val="tx1">
              <a:alpha val="58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omic Sans MS"/>
                <a:hlinkClick r:id="rId17"/>
              </a:rPr>
              <a:t>Неожиданный слу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omic Sans MS"/>
                <a:hlinkClick r:id="rId18"/>
              </a:rPr>
              <a:t>Бедность не по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19"/>
              </a:rPr>
              <a:t>Старый друг лучше новых дву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0"/>
              </a:rPr>
              <a:t>Свои собаки грызутся, чужая не пристав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1"/>
              </a:rPr>
              <a:t>За чем пойдешь, то и найдешь (Женитьба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2"/>
              </a:rPr>
              <a:t>Бальзамин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3"/>
              </a:rPr>
              <a:t>Козьма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4"/>
              </a:rPr>
              <a:t> 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5"/>
              </a:rPr>
              <a:t>Захарьич</a:t>
            </a: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26"/>
              </a:rPr>
              <a:t> Минин, Сухор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ea typeface="Times New Roman"/>
                <a:hlinkClick r:id="rId27"/>
              </a:rPr>
              <a:t>Поздняя любовь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28"/>
              </a:rPr>
              <a:t>На всякого мудреца довольно прост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29"/>
              </a:rPr>
              <a:t>Горячее сердце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Calibri"/>
                <a:ea typeface="Times New Roman"/>
                <a:hlinkClick r:id="rId30"/>
              </a:rPr>
              <a:t>Правда - хорошо, а счастье лучш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31"/>
              </a:rPr>
              <a:t>Не все коту масле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32"/>
              </a:rPr>
              <a:t>Не было ни гроша, да вдруг алтын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eb8803"/>
                </a:solidFill>
                <a:latin typeface="Calibri"/>
                <a:ea typeface="Times New Roman"/>
                <a:hlinkClick r:id="rId33"/>
              </a:rPr>
              <a:t>Комик семнадцатого столетия</a:t>
            </a:r>
            <a:r>
              <a:rPr b="0" lang="ru-RU" sz="2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eb8803"/>
                </a:solidFill>
                <a:uFillTx/>
                <a:latin typeface="Arial"/>
                <a:ea typeface="Times New Roman"/>
                <a:hlinkClick r:id="rId34"/>
              </a:rPr>
              <a:t>Дмитрий Самозванец и Василий Шуйский</a:t>
            </a:r>
            <a:r>
              <a:rPr b="0" lang="ru-RU" sz="1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 rot="16200000">
            <a:off x="-2148120" y="2862720"/>
            <a:ext cx="5500440" cy="1203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3"/>
                </a:solidFill>
                <a:latin typeface="Century Schoolbook"/>
              </a:rPr>
              <a:t>Произведения А. Н. Островского:</a:t>
            </a: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Поток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0</TotalTime>
  <Application>LibreOffice/7.4.7.2$Linux_X86_64 LibreOffice_project/40$Build-2</Application>
  <AppVersion>15.0000</AppVersion>
  <Words>694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ина</dc:creator>
  <dc:description/>
  <dc:language>en-US</dc:language>
  <cp:lastModifiedBy>Shabalina</cp:lastModifiedBy>
  <dcterms:modified xsi:type="dcterms:W3CDTF">2012-09-24T13:38:08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