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C7C-595A-464A-991A-4FCA3988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3A5-580C-4C0B-B3A7-DB768E44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1BE-5040-4F35-B69F-1879214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335-9A9D-48B0-972C-6412EF15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318-E3D4-4AC4-9340-7B34B98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C59-5266-471D-94DC-4CF89C91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4B4-CFFC-4A97-8CC7-F6A7DF7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98B6-2730-42EC-B642-A08223CC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C794-E3CF-46D4-A32B-1231EC2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B38B-68E2-433F-8D43-6CA4609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157-8AAF-47BC-B82E-D8F1ACC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D65-985D-44B8-95F9-D81AAED9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ACB1-868E-4217-8B77-BC3639A3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EE7-09C6-4E7C-A142-F1D7205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A57-04A7-4F92-8612-A5AE245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4F9-86AD-470F-8A39-AB208F4C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F8A-9C32-4B1B-96AC-F617BD2E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B8B2-E5E7-42D4-A735-860DDAC3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F69C-EACB-4047-899B-059894E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C64B-8696-4885-A87C-004EC5B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F668-998D-4A05-95E7-B538CFD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92C1-A54F-42EB-B7B9-B38B6AD0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FC3-5D33-471F-9200-BFD9C1E7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4B84-6E0B-4677-9545-7AC3564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DD18-DBF1-4D36-970D-1D07BAA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015F-A902-4C81-A002-E256174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F3B6-ABC7-459F-A94E-E75B3F2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8C28-53BC-465B-A348-17E825D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F4F7-43B4-46EC-AD78-878E40B1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A410-A4DC-4A0A-B1DA-46972116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34A-0D11-4CB7-B16C-5A217F65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E28-39E1-4F54-B741-096B04F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10C-1E05-490B-957F-33B24D54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C87-889D-44BA-8C5F-3A3C174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A71-1B8B-45AB-AA8A-D522569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CD1-B3B5-4C7B-AD66-B37E869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fc05c"/>
                </a:solidFill>
                <a:latin typeface="Century Schoolbook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037691-ACE6-4C31-9F86-DB46362F4E04}" type="slidenum"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4B2C17-970A-420E-A61E-996BD70C633F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e5b6f"/>
                </a:solidFill>
                <a:latin typeface="Century Schoolbook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AA384-837E-43F3-B7AB-32895225BA3A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278.shtml" TargetMode="External"/><Relationship Id="rId2" Type="http://schemas.openxmlformats.org/officeDocument/2006/relationships/hyperlink" Target="http://az.lib.ru/o/ostrowskij_a_n/text_0276.shtml" TargetMode="External"/><Relationship Id="rId3" Type="http://schemas.openxmlformats.org/officeDocument/2006/relationships/hyperlink" Target="http://az.lib.ru/o/ostrowskij_a_n/text_0270.shtml" TargetMode="External"/><Relationship Id="rId4" Type="http://schemas.openxmlformats.org/officeDocument/2006/relationships/hyperlink" Target="http://az.lib.ru/o/ostrowskij_a_n/text_0272.shtml" TargetMode="External"/><Relationship Id="rId5" Type="http://schemas.openxmlformats.org/officeDocument/2006/relationships/hyperlink" Target="http://az.lib.ru/o/ostrowskij_a_n/text_0274.shtml" TargetMode="External"/><Relationship Id="rId6" Type="http://schemas.openxmlformats.org/officeDocument/2006/relationships/hyperlink" Target="http://az.lib.ru/o/ostrowskij_a_n/text_0470.shtml" TargetMode="External"/><Relationship Id="rId7" Type="http://schemas.openxmlformats.org/officeDocument/2006/relationships/hyperlink" Target="http://az.lib.ru/editors/o/ostrowskij_a_n/text_0001.shtml" TargetMode="External"/><Relationship Id="rId8" Type="http://schemas.openxmlformats.org/officeDocument/2006/relationships/hyperlink" Target="http://az.lib.ru/o/ostrowskij_a_n/text_0262.shtml" TargetMode="External"/><Relationship Id="rId9" Type="http://schemas.openxmlformats.org/officeDocument/2006/relationships/hyperlink" Target="http://az.lib.ru/o/ostrowskij_a_n/text_0264.shtml" TargetMode="External"/><Relationship Id="rId10" Type="http://schemas.openxmlformats.org/officeDocument/2006/relationships/hyperlink" Target="http://az.lib.ru/o/ostrowskij_a_n/text_0210.shtml" TargetMode="External"/><Relationship Id="rId11" Type="http://schemas.openxmlformats.org/officeDocument/2006/relationships/hyperlink" Target="http://az.lib.ru/o/ostrowskij_a_n/text_0214.shtml" TargetMode="External"/><Relationship Id="rId12" Type="http://schemas.openxmlformats.org/officeDocument/2006/relationships/hyperlink" Target="http://az.lib.ru/o/ostrowskij_a_n/text_0220.shtml" TargetMode="External"/><Relationship Id="rId13" Type="http://schemas.openxmlformats.org/officeDocument/2006/relationships/hyperlink" Target="http://az.lib.ru/o/ostrowskij_a_n/text_0222.shtml" TargetMode="External"/><Relationship Id="rId14" Type="http://schemas.openxmlformats.org/officeDocument/2006/relationships/hyperlink" Target="http://az.lib.ru/o/ostrowskij_a_n/text_0224.shtml" TargetMode="External"/><Relationship Id="rId15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070.shtml" TargetMode="External"/><Relationship Id="rId2" Type="http://schemas.openxmlformats.org/officeDocument/2006/relationships/hyperlink" Target="http://az.lib.ru/o/ostrowskij_a_n/text_0080.shtml" TargetMode="External"/><Relationship Id="rId3" Type="http://schemas.openxmlformats.org/officeDocument/2006/relationships/hyperlink" Target="http://az.lib.ru/o/ostrowskij_a_n/text_0090.shtml" TargetMode="External"/><Relationship Id="rId4" Type="http://schemas.openxmlformats.org/officeDocument/2006/relationships/hyperlink" Target="http://az.lib.ru/o/ostrowskij_a_n/text_0092.shtml" TargetMode="External"/><Relationship Id="rId5" Type="http://schemas.openxmlformats.org/officeDocument/2006/relationships/hyperlink" Target="http://az.lib.ru/o/ostrowskij_a_n/text_0094.shtml" TargetMode="External"/><Relationship Id="rId6" Type="http://schemas.openxmlformats.org/officeDocument/2006/relationships/hyperlink" Target="http://az.lib.ru/o/ostrowskij_a_n/text_0100.shtml" TargetMode="External"/><Relationship Id="rId7" Type="http://schemas.openxmlformats.org/officeDocument/2006/relationships/hyperlink" Target="http://az.lib.ru/o/ostrowskij_a_n/text_0130.shtml" TargetMode="External"/><Relationship Id="rId8" Type="http://schemas.openxmlformats.org/officeDocument/2006/relationships/hyperlink" Target="http://az.lib.ru/o/ostrowskij_a_n/text_0104.shtml" TargetMode="External"/><Relationship Id="rId9" Type="http://schemas.openxmlformats.org/officeDocument/2006/relationships/hyperlink" Target="http://az.lib.ru/o/ostrowskij_a_n/text_0142.shtml" TargetMode="External"/><Relationship Id="rId10" Type="http://schemas.openxmlformats.org/officeDocument/2006/relationships/hyperlink" Target="http://az.lib.ru/o/ostrowskij_a_n/text_0150.shtml" TargetMode="External"/><Relationship Id="rId11" Type="http://schemas.openxmlformats.org/officeDocument/2006/relationships/hyperlink" Target="http://az.lib.ru/o/ostrowskij_a_n/text_0160.shtml" TargetMode="External"/><Relationship Id="rId12" Type="http://schemas.openxmlformats.org/officeDocument/2006/relationships/hyperlink" Target="http://az.lib.ru/o/ostrowskij_a_n/text_0170.shtml" TargetMode="External"/><Relationship Id="rId13" Type="http://schemas.openxmlformats.org/officeDocument/2006/relationships/hyperlink" Target="http://az.lib.ru/o/ostrowskij_a_n/text_0180.shtml" TargetMode="External"/><Relationship Id="rId14" Type="http://schemas.openxmlformats.org/officeDocument/2006/relationships/hyperlink" Target="http://az.lib.ru/o/ostrowskij_a_n/text_0190.shtml" TargetMode="External"/><Relationship Id="rId15" Type="http://schemas.openxmlformats.org/officeDocument/2006/relationships/hyperlink" Target="http://az.lib.ru/o/ostrowskij_a_n/text_0192.shtml" TargetMode="External"/><Relationship Id="rId16" Type="http://schemas.openxmlformats.org/officeDocument/2006/relationships/hyperlink" Target="http://az.lib.ru/o/ostrowskij_a_n/text_0200.shtml" TargetMode="External"/><Relationship Id="rId17" Type="http://schemas.openxmlformats.org/officeDocument/2006/relationships/hyperlink" Target="http://az.lib.ru/o/ostrowskij_a_n/text_0032.shtml" TargetMode="External"/><Relationship Id="rId18" Type="http://schemas.openxmlformats.org/officeDocument/2006/relationships/hyperlink" Target="http://az.lib.ru/o/ostrowskij_a_n/text_0040.shtml" TargetMode="External"/><Relationship Id="rId19" Type="http://schemas.openxmlformats.org/officeDocument/2006/relationships/hyperlink" Target="http://az.lib.ru/o/ostrowskij_a_n/text_0061.shtml" TargetMode="External"/><Relationship Id="rId20" Type="http://schemas.openxmlformats.org/officeDocument/2006/relationships/hyperlink" Target="http://az.lib.ru/o/ostrowskij_a_n/text_0063.shtml" TargetMode="External"/><Relationship Id="rId21" Type="http://schemas.openxmlformats.org/officeDocument/2006/relationships/hyperlink" Target="http://az.lib.ru/o/ostrowskij_a_n/text_0064.shtml" TargetMode="External"/><Relationship Id="rId22" Type="http://schemas.openxmlformats.org/officeDocument/2006/relationships/hyperlink" Target="http://az.lib.ru/o/ostrowskij_a_n/text_0064.shtml" TargetMode="External"/><Relationship Id="rId23" Type="http://schemas.openxmlformats.org/officeDocument/2006/relationships/hyperlink" Target="http://az.lib.ru/o/ostrowskij_a_n/text_0066.shtml" TargetMode="External"/><Relationship Id="rId24" Type="http://schemas.openxmlformats.org/officeDocument/2006/relationships/hyperlink" Target="http://az.lib.ru/o/ostrowskij_a_n/text_0066.shtml" TargetMode="External"/><Relationship Id="rId25" Type="http://schemas.openxmlformats.org/officeDocument/2006/relationships/hyperlink" Target="http://az.lib.ru/o/ostrowskij_a_n/text_0066.shtml" TargetMode="External"/><Relationship Id="rId26" Type="http://schemas.openxmlformats.org/officeDocument/2006/relationships/hyperlink" Target="http://az.lib.ru/o/ostrowskij_a_n/text_0066.shtml" TargetMode="External"/><Relationship Id="rId27" Type="http://schemas.openxmlformats.org/officeDocument/2006/relationships/hyperlink" Target="http://az.lib.ru/o/ostrowskij_a_n/text_0140.shtml" TargetMode="External"/><Relationship Id="rId28" Type="http://schemas.openxmlformats.org/officeDocument/2006/relationships/hyperlink" Target="http://az.lib.ru/o/ostrowskij_a_n/text_0110.shtml" TargetMode="External"/><Relationship Id="rId29" Type="http://schemas.openxmlformats.org/officeDocument/2006/relationships/hyperlink" Target="http://az.lib.ru/o/ostrowskij_a_n/text_0114.shtml" TargetMode="External"/><Relationship Id="rId30" Type="http://schemas.openxmlformats.org/officeDocument/2006/relationships/hyperlink" Target="http://az.lib.ru/o/ostrowskij_a_n/text_0174.shtml" TargetMode="External"/><Relationship Id="rId31" Type="http://schemas.openxmlformats.org/officeDocument/2006/relationships/hyperlink" Target="http://az.lib.ru/o/ostrowskij_a_n/text_0132.shtml" TargetMode="External"/><Relationship Id="rId32" Type="http://schemas.openxmlformats.org/officeDocument/2006/relationships/hyperlink" Target="http://az.lib.ru/o/ostrowskij_a_n/text_0134.shtml" TargetMode="External"/><Relationship Id="rId33" Type="http://schemas.openxmlformats.org/officeDocument/2006/relationships/hyperlink" Target="http://az.lib.ru/o/ostrowskij_a_n/text_0136.shtml" TargetMode="External"/><Relationship Id="rId34" Type="http://schemas.openxmlformats.org/officeDocument/2006/relationships/hyperlink" Target="http://az.lib.ru/o/ostrowskij_a_n/text_0102.shtml" TargetMode="External"/><Relationship Id="rId35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7851240" cy="2985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ff095d"/>
                </a:solidFill>
                <a:latin typeface="Century Schoolbook"/>
              </a:rPr>
              <a:t>Островский Александр Николаевич</a:t>
            </a:r>
            <a:endParaRPr b="0" lang="ru-RU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14200" y="5981760"/>
            <a:ext cx="678276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/>
                </a:solidFill>
                <a:latin typeface="Comic Sans MS"/>
              </a:rPr>
              <a:t>Выполнила Шабалина 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80006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Произведения       А. Н. Островского:</a:t>
            </a:r>
            <a:endParaRPr b="0" lang="ru-RU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583640" y="6217200"/>
            <a:ext cx="2535480" cy="45648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"/>
              </a:rPr>
              <a:t>Старое по-нов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08800" y="6072120"/>
            <a:ext cx="1203840" cy="50580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2"/>
              </a:rPr>
              <a:t>Блаж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6072120" y="2224080"/>
            <a:ext cx="3071520" cy="1919520"/>
          </a:xfrm>
          <a:prstGeom prst="rect">
            <a:avLst/>
          </a:prstGeom>
          <a:solidFill>
            <a:schemeClr val="tx1">
              <a:alpha val="57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"/>
              </a:rPr>
              <a:t>Женитьба Белу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4"/>
              </a:rPr>
              <a:t>Дик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5"/>
              </a:rPr>
              <a:t>Светит, да не греет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1920" y="4193280"/>
            <a:ext cx="3038400" cy="26510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6"/>
              </a:rPr>
              <a:t>Исковое прошени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7"/>
              </a:rPr>
              <a:t>"Семейная картина"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8"/>
              </a:rPr>
              <a:t>Василиса Меленть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9"/>
              </a:rPr>
              <a:t>Счастливый ден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040" y="2445480"/>
            <a:ext cx="3571560" cy="3382560"/>
          </a:xfrm>
          <a:prstGeom prst="rect">
            <a:avLst/>
          </a:prstGeom>
          <a:solidFill>
            <a:schemeClr val="tx1">
              <a:alpha val="56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аланты и поклонники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Красавец муж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 Без вины виноват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Не от мира с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519760" cy="563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0000" spc="-1" strike="noStrike">
                <a:solidFill>
                  <a:schemeClr val="accent3"/>
                </a:solidFill>
                <a:latin typeface="Century Schoolbook"/>
              </a:rPr>
              <a:t>Спасибо за внимание!</a:t>
            </a:r>
            <a:br>
              <a:rPr sz="6600"/>
            </a:br>
            <a:r>
              <a:rPr b="1" lang="ru-RU" sz="14900" spc="-1" strike="noStrike">
                <a:solidFill>
                  <a:schemeClr val="accent3"/>
                </a:solidFill>
                <a:latin typeface="Century Schoolbook"/>
              </a:rPr>
              <a:t>☺♫☼</a:t>
            </a:r>
            <a:r>
              <a:rPr b="1" lang="ru-RU" sz="12400" spc="-1" strike="noStrike">
                <a:solidFill>
                  <a:schemeClr val="accent3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chemeClr val="accent3"/>
                </a:solidFill>
                <a:latin typeface="Century Schoolbook"/>
              </a:rPr>
              <a:t>  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0" y="428760"/>
            <a:ext cx="5071680" cy="6673320"/>
          </a:xfrm>
          <a:prstGeom prst="rect">
            <a:avLst/>
          </a:prstGeom>
          <a:solidFill>
            <a:schemeClr val="bg1">
              <a:alpha val="4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Островский, Александр Николаевич - знаменитый драматический писатель. Родился 31 марта 1823 г. в Москве, где его отец служил в гражданской палате, а затем занимался частной адвокатурой. Матери Островский лишился еще в детстве и никакого систематического образования не получил. Все его детство и часть юности прошли в самом центре Замоскворечья, бывшего в ту пору, по условиям своей жизни, совершенно особым ми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5" descr="i.jpeg"/>
          <p:cNvPicPr/>
          <p:nvPr/>
        </p:nvPicPr>
        <p:blipFill>
          <a:blip r:embed="rId1"/>
          <a:stretch/>
        </p:blipFill>
        <p:spPr>
          <a:xfrm>
            <a:off x="5238720" y="1571760"/>
            <a:ext cx="3690720" cy="44287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42920" y="214200"/>
            <a:ext cx="5285880" cy="6792840"/>
          </a:xfrm>
          <a:prstGeom prst="rect">
            <a:avLst/>
          </a:prstGeom>
          <a:solidFill>
            <a:schemeClr val="tx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200" spc="49" strike="noStrike">
                <a:solidFill>
                  <a:schemeClr val="accent2"/>
                </a:solidFill>
                <a:latin typeface="Comic Sans MS"/>
              </a:rPr>
              <a:t>Этот мир населил его воображение теми представлениями и типами, которые он впоследствии воспроизвел в своих комедиях. Благодаря большой библиотеке отца Островский рано ознакомился с русской литературой и почувствовал наклонность к писательству; но отец непременно хотел сделать из него юриста. Окончив гимназический курс, Островский поступил на юридический факультет Московского университета. Окончить курс ему не удалось вследствие какого-то столкновения с одним из профессор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2" descr="63-014.jpg"/>
          <p:cNvPicPr/>
          <p:nvPr/>
        </p:nvPicPr>
        <p:blipFill>
          <a:blip r:embed="rId1"/>
          <a:stretch/>
        </p:blipFill>
        <p:spPr>
          <a:xfrm>
            <a:off x="5500800" y="428760"/>
            <a:ext cx="3357360" cy="468900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42920" y="785880"/>
            <a:ext cx="4357440" cy="6307560"/>
          </a:xfrm>
          <a:prstGeom prst="rect">
            <a:avLst/>
          </a:prstGeom>
          <a:solidFill>
            <a:schemeClr val="tx1">
              <a:alpha val="46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По желанию отца, он поступил на службу писцом, сначала в совестный, потом - в коммерческий суд. Этим и определился характер первых его литературных опытов; в суде он продолжал наблюдения над знакомыми ему с детства своеобразными замоскворецкими типами, напрашивавшимися на литературную обработ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2" descr="бло.jpeg"/>
          <p:cNvPicPr/>
          <p:nvPr/>
        </p:nvPicPr>
        <p:blipFill>
          <a:blip r:embed="rId1"/>
          <a:stretch/>
        </p:blipFill>
        <p:spPr>
          <a:xfrm>
            <a:off x="5500800" y="1000080"/>
            <a:ext cx="2928600" cy="467208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42920" y="285840"/>
            <a:ext cx="4857480" cy="618804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Начиная с 1853 и на протяжении более чем 30 лет новые пьесы Островского появлялись в московском Малом и петербургском Александринском театрах почти каждый сезон. С 1856 Островский становится постоянным сотрудником журнала "Современник". В 1856, когда по мысли великого князя Константина Николаевича состоялась командировка выдающихся литераторов для изучения и описания различных местностей России в промышленном и бытовом отношениях, Островский взял на себя изучение Волги от верховьев до Нижн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" descr="олдж..jpeg"/>
          <p:cNvPicPr/>
          <p:nvPr/>
        </p:nvPicPr>
        <p:blipFill>
          <a:blip r:embed="rId1">
            <a:lum contrast="-10000"/>
          </a:blip>
          <a:stretch/>
        </p:blipFill>
        <p:spPr>
          <a:xfrm flipH="1">
            <a:off x="5286600" y="1255320"/>
            <a:ext cx="3357360" cy="40723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357120"/>
            <a:ext cx="5928840" cy="6673320"/>
          </a:xfrm>
          <a:prstGeom prst="rect">
            <a:avLst/>
          </a:prstGeom>
          <a:solidFill>
            <a:schemeClr val="tx1">
              <a:alpha val="3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1800" spc="49" strike="noStrike">
                <a:solidFill>
                  <a:schemeClr val="accent2"/>
                </a:solidFill>
                <a:latin typeface="Comic Sans MS"/>
              </a:rPr>
              <a:t>В 1859, в издании графа Г.А. Кушелева-Безбородко, были напечатаны два тома сочинений Островского. Это издание и послужило поводом для той блестящей оценки, которую дал Островскому Добролюбов и которая закрепила за ним славу изобразителя "темного царства". В 1860 в печати появилась "Гроза", вызвавшая статью Добролюбова ("Луч света в темном царстве"). В 1863 Островский был награжден Уваровской премией и избран член-корреспондентом Петербургской Академии наук. В 1866 (по другим сведениям - в 1865) в Москве создал Артистический кружок, давший впоследствии московской сцене многих талантливых деятелей. В доме Островского бывали И.А. Гончаров, Д.В. Григорович, И.С. Тургенев, А.Ф. Писемский, Ф.М. Достоевский, И.Е. Турчанинов, П.М. Садовский, Л.П. Косицкая-Никулина, Достоевский, Григорович, М.Е. Салтыков-Щедрин, Л.Н. Толстой, И.С. Тургенев, П.И. Чайковский, Садовский, М.Н. Ермолова, Г.Н. Федот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2" descr="ло.jpeg"/>
          <p:cNvPicPr/>
          <p:nvPr/>
        </p:nvPicPr>
        <p:blipFill>
          <a:blip r:embed="rId1"/>
          <a:stretch/>
        </p:blipFill>
        <p:spPr>
          <a:xfrm>
            <a:off x="6072120" y="1785960"/>
            <a:ext cx="2732760" cy="34286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285840"/>
            <a:ext cx="4643280" cy="6797880"/>
          </a:xfrm>
          <a:prstGeom prst="rect">
            <a:avLst/>
          </a:prstGeom>
          <a:solidFill>
            <a:schemeClr val="tx1">
              <a:alpha val="4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С января 1866 был заведующим репертуарной частью московских императорских театров. В 1874 (по другим сведениям - в 1870) было образовано Общество русских драматических писателей и оперных композиторов, бессменным председателем которого Островский оставался до самой смерти. Работая в комиссии "для пересмотра законоположений по всем частям театрального управления", учрежденной в 1881 при дирекции Императорских театров, он добился многих преобразований, значительно улучшивших положение артис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" descr="нг.jpe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643720" y="1500120"/>
            <a:ext cx="2617200" cy="36428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42920" y="428760"/>
            <a:ext cx="4714560" cy="649296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В 1885 Островский был назначен заведующим репертуарной частью московских театров и начальником театрального училища. Не смотря на то, что его пьесы делали хорошие сборы и что в 1883 император Александр III пожаловал ему ежегодную пенсию в 3 тыс. рублей, денежные проблемы не оставляли Островского до последних дней его жизни. Здоровье не отвечало тем планам, какие он ставил перед собой. Усиленная работа быстро истощила организм; 14 июня (по старому стилю - 2 июня) 1886 Островский скончался в своем костромском имении Щелык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Рисунок 2" descr="ва.jpe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43680" y="1071720"/>
            <a:ext cx="3214440" cy="450036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571760" y="91440"/>
            <a:ext cx="2642760" cy="6674400"/>
          </a:xfrm>
          <a:prstGeom prst="rect">
            <a:avLst/>
          </a:prstGeom>
          <a:solidFill>
            <a:schemeClr val="tx1">
              <a:alpha val="55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"/>
              </a:rPr>
              <a:t>Грех да беда на кого не 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"/>
              </a:rPr>
              <a:t>Тяжелые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"/>
              </a:rPr>
              <a:t>Шу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5"/>
              </a:rPr>
              <a:t>На бойком мест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6"/>
              </a:rPr>
              <a:t>Пу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7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8"/>
              </a:rPr>
              <a:t>Тушино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9"/>
              </a:rPr>
              <a:t>Снегур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рудовой хлеб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Богатые невест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Волки и ов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Последняя жер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4"/>
              </a:rPr>
              <a:t>Беспридан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5"/>
              </a:rPr>
              <a:t>Сердце не ка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6"/>
              </a:rPr>
              <a:t>Невольниц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214880" y="498600"/>
            <a:ext cx="4928760" cy="58604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7"/>
              </a:rPr>
              <a:t>Неожиданны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8"/>
              </a:rPr>
              <a:t>Бедность не по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9"/>
              </a:rPr>
              <a:t>Старый друг лучше новых дв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0"/>
              </a:rPr>
              <a:t>Свои собаки грызутся, чужая не пристав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1"/>
              </a:rPr>
              <a:t>За чем пойдешь, то и найдешь (Женитьба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2"/>
              </a:rPr>
              <a:t>Бальзами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3"/>
              </a:rPr>
              <a:t>Козьма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4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5"/>
              </a:rPr>
              <a:t>Захарьич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6"/>
              </a:rPr>
              <a:t> Минин, Сухор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27"/>
              </a:rPr>
              <a:t>Поздняя любов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8"/>
              </a:rPr>
              <a:t>На всякого мудреца довольно прост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9"/>
              </a:rPr>
              <a:t>Горячее сердц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0"/>
              </a:rPr>
              <a:t>Правда - хорошо, а счастье луч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1"/>
              </a:rPr>
              <a:t>Не все коту масл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2"/>
              </a:rPr>
              <a:t>Не было ни гроша, да вдруг алтын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3"/>
              </a:rPr>
              <a:t>Комик семнадцатого столетия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34"/>
              </a:rPr>
              <a:t>Дмитрий Самозванец и Василий Шуйский</a:t>
            </a:r>
            <a:r>
              <a:rPr b="0" lang="ru-RU" sz="1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 rot="16200000">
            <a:off x="-2148120" y="2862720"/>
            <a:ext cx="5500440" cy="120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3"/>
                </a:solidFill>
                <a:latin typeface="Century Schoolbook"/>
              </a:rPr>
              <a:t>Произведения А. Н. Островского:</a:t>
            </a: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0</TotalTime>
  <Application>LibreOffice/7.4.7.2$Linux_X86_64 LibreOffice_project/40$Build-2</Application>
  <AppVersion>15.0000</AppVersion>
  <Words>694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Shabalina</cp:lastModifiedBy>
  <dcterms:modified xsi:type="dcterms:W3CDTF">2012-09-24T13:38:08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