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253-7236-4759-BA28-DAB2CFBC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BF3-2191-48C3-92EE-2B0DFF5E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3C9-8D6F-4FB6-AD5C-EC21A19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C1B-BF22-431D-A9C4-B2561F58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C6C-3EF6-4AD1-A4A4-7730F570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A06-2875-4F0E-B161-D0E1FD1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9D4-A1AC-4069-88B4-A127416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0F8-3478-432C-A2F0-F128BDC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7FDC-6B6F-478A-AE15-2DC64CD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ECFC-5571-4E04-86BF-AEBE867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E62-8BCE-418F-B6ED-CA0A959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1AD-DE48-4475-B007-2A7FEF4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C94A-6DC8-4B6F-A171-7A5B9BC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476-933E-4C69-86EE-B11C9D0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50D-8F92-4EAA-8A13-49EDC45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FFE7-DA59-4053-9888-82B9AC0B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BE6-CA18-4FD3-B0A3-B800B6A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D2B4-5F57-4476-A6D8-03644F68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FDE1-6D0D-4396-A509-547B684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326A-1AA2-421C-910D-3561DAC6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194B-B0E9-41F5-ACAC-A33FD19C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8F17-A96F-45CC-A7CE-AA6E0B1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C8F-8FC3-4258-8358-330F0CE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BFB8-8CA2-4EC1-9E02-B3E875A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64E5-8DEB-410D-891D-9342189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586A-9630-48AA-B900-D188080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ECE4-78EF-4A7A-A2C9-659FA28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DC17-5AE4-4FDB-967F-A070C0B3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98DE-D058-4A81-8FC8-10DE774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4B69-EBF0-4684-815D-3BEBDCF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947-4738-4110-9EF5-16412AF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5AF-A5BB-46AB-9E62-C7BDB49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0F1-BE5C-4E79-9071-E4C5E3B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F9D-EFB1-414A-972C-F0B2906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286-9223-49CB-9E94-6E9FA38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821-86CD-4CB1-9CB3-B3A1725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fc05c"/>
                </a:solidFill>
                <a:latin typeface="Century Schoolbook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FA4F47-8D01-41FF-A27A-C392346F2D30}" type="slidenum"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5648A-FE5F-4574-A17C-B03241C347B7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e5b6f"/>
                </a:solidFill>
                <a:latin typeface="Century Schoolbook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5DC909-91CA-4255-A7A4-186B4568700C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278.shtml" TargetMode="External"/><Relationship Id="rId2" Type="http://schemas.openxmlformats.org/officeDocument/2006/relationships/hyperlink" Target="http://az.lib.ru/o/ostrowskij_a_n/text_0276.shtml" TargetMode="External"/><Relationship Id="rId3" Type="http://schemas.openxmlformats.org/officeDocument/2006/relationships/hyperlink" Target="http://az.lib.ru/o/ostrowskij_a_n/text_0270.shtml" TargetMode="External"/><Relationship Id="rId4" Type="http://schemas.openxmlformats.org/officeDocument/2006/relationships/hyperlink" Target="http://az.lib.ru/o/ostrowskij_a_n/text_0272.shtml" TargetMode="External"/><Relationship Id="rId5" Type="http://schemas.openxmlformats.org/officeDocument/2006/relationships/hyperlink" Target="http://az.lib.ru/o/ostrowskij_a_n/text_0274.shtml" TargetMode="External"/><Relationship Id="rId6" Type="http://schemas.openxmlformats.org/officeDocument/2006/relationships/hyperlink" Target="http://az.lib.ru/o/ostrowskij_a_n/text_0470.shtml" TargetMode="External"/><Relationship Id="rId7" Type="http://schemas.openxmlformats.org/officeDocument/2006/relationships/hyperlink" Target="http://az.lib.ru/editors/o/ostrowskij_a_n/text_0001.shtml" TargetMode="External"/><Relationship Id="rId8" Type="http://schemas.openxmlformats.org/officeDocument/2006/relationships/hyperlink" Target="http://az.lib.ru/o/ostrowskij_a_n/text_0262.shtml" TargetMode="External"/><Relationship Id="rId9" Type="http://schemas.openxmlformats.org/officeDocument/2006/relationships/hyperlink" Target="http://az.lib.ru/o/ostrowskij_a_n/text_0264.shtml" TargetMode="External"/><Relationship Id="rId10" Type="http://schemas.openxmlformats.org/officeDocument/2006/relationships/hyperlink" Target="http://az.lib.ru/o/ostrowskij_a_n/text_0210.shtml" TargetMode="External"/><Relationship Id="rId11" Type="http://schemas.openxmlformats.org/officeDocument/2006/relationships/hyperlink" Target="http://az.lib.ru/o/ostrowskij_a_n/text_0214.shtml" TargetMode="External"/><Relationship Id="rId12" Type="http://schemas.openxmlformats.org/officeDocument/2006/relationships/hyperlink" Target="http://az.lib.ru/o/ostrowskij_a_n/text_0220.shtml" TargetMode="External"/><Relationship Id="rId13" Type="http://schemas.openxmlformats.org/officeDocument/2006/relationships/hyperlink" Target="http://az.lib.ru/o/ostrowskij_a_n/text_0222.shtml" TargetMode="External"/><Relationship Id="rId14" Type="http://schemas.openxmlformats.org/officeDocument/2006/relationships/hyperlink" Target="http://az.lib.ru/o/ostrowskij_a_n/text_0224.shtml" TargetMode="External"/><Relationship Id="rId15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070.shtml" TargetMode="External"/><Relationship Id="rId2" Type="http://schemas.openxmlformats.org/officeDocument/2006/relationships/hyperlink" Target="http://az.lib.ru/o/ostrowskij_a_n/text_0080.shtml" TargetMode="External"/><Relationship Id="rId3" Type="http://schemas.openxmlformats.org/officeDocument/2006/relationships/hyperlink" Target="http://az.lib.ru/o/ostrowskij_a_n/text_0090.shtml" TargetMode="External"/><Relationship Id="rId4" Type="http://schemas.openxmlformats.org/officeDocument/2006/relationships/hyperlink" Target="http://az.lib.ru/o/ostrowskij_a_n/text_0092.shtml" TargetMode="External"/><Relationship Id="rId5" Type="http://schemas.openxmlformats.org/officeDocument/2006/relationships/hyperlink" Target="http://az.lib.ru/o/ostrowskij_a_n/text_0094.shtml" TargetMode="External"/><Relationship Id="rId6" Type="http://schemas.openxmlformats.org/officeDocument/2006/relationships/hyperlink" Target="http://az.lib.ru/o/ostrowskij_a_n/text_0100.shtml" TargetMode="External"/><Relationship Id="rId7" Type="http://schemas.openxmlformats.org/officeDocument/2006/relationships/hyperlink" Target="http://az.lib.ru/o/ostrowskij_a_n/text_0130.shtml" TargetMode="External"/><Relationship Id="rId8" Type="http://schemas.openxmlformats.org/officeDocument/2006/relationships/hyperlink" Target="http://az.lib.ru/o/ostrowskij_a_n/text_0104.shtml" TargetMode="External"/><Relationship Id="rId9" Type="http://schemas.openxmlformats.org/officeDocument/2006/relationships/hyperlink" Target="http://az.lib.ru/o/ostrowskij_a_n/text_0142.shtml" TargetMode="External"/><Relationship Id="rId10" Type="http://schemas.openxmlformats.org/officeDocument/2006/relationships/hyperlink" Target="http://az.lib.ru/o/ostrowskij_a_n/text_0150.shtml" TargetMode="External"/><Relationship Id="rId11" Type="http://schemas.openxmlformats.org/officeDocument/2006/relationships/hyperlink" Target="http://az.lib.ru/o/ostrowskij_a_n/text_0160.shtml" TargetMode="External"/><Relationship Id="rId12" Type="http://schemas.openxmlformats.org/officeDocument/2006/relationships/hyperlink" Target="http://az.lib.ru/o/ostrowskij_a_n/text_0170.shtml" TargetMode="External"/><Relationship Id="rId13" Type="http://schemas.openxmlformats.org/officeDocument/2006/relationships/hyperlink" Target="http://az.lib.ru/o/ostrowskij_a_n/text_0180.shtml" TargetMode="External"/><Relationship Id="rId14" Type="http://schemas.openxmlformats.org/officeDocument/2006/relationships/hyperlink" Target="http://az.lib.ru/o/ostrowskij_a_n/text_0190.shtml" TargetMode="External"/><Relationship Id="rId15" Type="http://schemas.openxmlformats.org/officeDocument/2006/relationships/hyperlink" Target="http://az.lib.ru/o/ostrowskij_a_n/text_0192.shtml" TargetMode="External"/><Relationship Id="rId16" Type="http://schemas.openxmlformats.org/officeDocument/2006/relationships/hyperlink" Target="http://az.lib.ru/o/ostrowskij_a_n/text_0200.shtml" TargetMode="External"/><Relationship Id="rId17" Type="http://schemas.openxmlformats.org/officeDocument/2006/relationships/hyperlink" Target="http://az.lib.ru/o/ostrowskij_a_n/text_0032.shtml" TargetMode="External"/><Relationship Id="rId18" Type="http://schemas.openxmlformats.org/officeDocument/2006/relationships/hyperlink" Target="http://az.lib.ru/o/ostrowskij_a_n/text_0040.shtml" TargetMode="External"/><Relationship Id="rId19" Type="http://schemas.openxmlformats.org/officeDocument/2006/relationships/hyperlink" Target="http://az.lib.ru/o/ostrowskij_a_n/text_0061.shtml" TargetMode="External"/><Relationship Id="rId20" Type="http://schemas.openxmlformats.org/officeDocument/2006/relationships/hyperlink" Target="http://az.lib.ru/o/ostrowskij_a_n/text_0063.shtml" TargetMode="External"/><Relationship Id="rId21" Type="http://schemas.openxmlformats.org/officeDocument/2006/relationships/hyperlink" Target="http://az.lib.ru/o/ostrowskij_a_n/text_0064.shtml" TargetMode="External"/><Relationship Id="rId22" Type="http://schemas.openxmlformats.org/officeDocument/2006/relationships/hyperlink" Target="http://az.lib.ru/o/ostrowskij_a_n/text_0064.shtml" TargetMode="External"/><Relationship Id="rId23" Type="http://schemas.openxmlformats.org/officeDocument/2006/relationships/hyperlink" Target="http://az.lib.ru/o/ostrowskij_a_n/text_0066.shtml" TargetMode="External"/><Relationship Id="rId24" Type="http://schemas.openxmlformats.org/officeDocument/2006/relationships/hyperlink" Target="http://az.lib.ru/o/ostrowskij_a_n/text_0066.shtml" TargetMode="External"/><Relationship Id="rId25" Type="http://schemas.openxmlformats.org/officeDocument/2006/relationships/hyperlink" Target="http://az.lib.ru/o/ostrowskij_a_n/text_0066.shtml" TargetMode="External"/><Relationship Id="rId26" Type="http://schemas.openxmlformats.org/officeDocument/2006/relationships/hyperlink" Target="http://az.lib.ru/o/ostrowskij_a_n/text_0066.shtml" TargetMode="External"/><Relationship Id="rId27" Type="http://schemas.openxmlformats.org/officeDocument/2006/relationships/hyperlink" Target="http://az.lib.ru/o/ostrowskij_a_n/text_0140.shtml" TargetMode="External"/><Relationship Id="rId28" Type="http://schemas.openxmlformats.org/officeDocument/2006/relationships/hyperlink" Target="http://az.lib.ru/o/ostrowskij_a_n/text_0110.shtml" TargetMode="External"/><Relationship Id="rId29" Type="http://schemas.openxmlformats.org/officeDocument/2006/relationships/hyperlink" Target="http://az.lib.ru/o/ostrowskij_a_n/text_0114.shtml" TargetMode="External"/><Relationship Id="rId30" Type="http://schemas.openxmlformats.org/officeDocument/2006/relationships/hyperlink" Target="http://az.lib.ru/o/ostrowskij_a_n/text_0174.shtml" TargetMode="External"/><Relationship Id="rId31" Type="http://schemas.openxmlformats.org/officeDocument/2006/relationships/hyperlink" Target="http://az.lib.ru/o/ostrowskij_a_n/text_0132.shtml" TargetMode="External"/><Relationship Id="rId32" Type="http://schemas.openxmlformats.org/officeDocument/2006/relationships/hyperlink" Target="http://az.lib.ru/o/ostrowskij_a_n/text_0134.shtml" TargetMode="External"/><Relationship Id="rId33" Type="http://schemas.openxmlformats.org/officeDocument/2006/relationships/hyperlink" Target="http://az.lib.ru/o/ostrowskij_a_n/text_0136.shtml" TargetMode="External"/><Relationship Id="rId34" Type="http://schemas.openxmlformats.org/officeDocument/2006/relationships/hyperlink" Target="http://az.lib.ru/o/ostrowskij_a_n/text_0102.shtml" TargetMode="External"/><Relationship Id="rId35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7851240" cy="2985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ff095d"/>
                </a:solidFill>
                <a:latin typeface="Century Schoolbook"/>
              </a:rPr>
              <a:t>Островский Александр Николаевич</a:t>
            </a:r>
            <a:endParaRPr b="0" lang="ru-RU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14200" y="5981760"/>
            <a:ext cx="678276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/>
                </a:solidFill>
                <a:latin typeface="Comic Sans MS"/>
              </a:rPr>
              <a:t>Выполнила Шабалина 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80006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Произведения       А. Н. Островского:</a:t>
            </a:r>
            <a:endParaRPr b="0" lang="ru-RU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583640" y="6217200"/>
            <a:ext cx="2535480" cy="45648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"/>
              </a:rPr>
              <a:t>Старое по-нов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08800" y="6072120"/>
            <a:ext cx="1203840" cy="50580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2"/>
              </a:rPr>
              <a:t>Блаж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6072120" y="2224080"/>
            <a:ext cx="3071520" cy="1919520"/>
          </a:xfrm>
          <a:prstGeom prst="rect">
            <a:avLst/>
          </a:prstGeom>
          <a:solidFill>
            <a:schemeClr val="tx1">
              <a:alpha val="57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"/>
              </a:rPr>
              <a:t>Женитьба Белу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4"/>
              </a:rPr>
              <a:t>Дик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5"/>
              </a:rPr>
              <a:t>Светит, да не греет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1920" y="4193280"/>
            <a:ext cx="3038400" cy="26510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6"/>
              </a:rPr>
              <a:t>Исковое прошени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7"/>
              </a:rPr>
              <a:t>"Семейная картина"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8"/>
              </a:rPr>
              <a:t>Василиса Меленть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9"/>
              </a:rPr>
              <a:t>Счастливый ден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040" y="2445480"/>
            <a:ext cx="3571560" cy="3382560"/>
          </a:xfrm>
          <a:prstGeom prst="rect">
            <a:avLst/>
          </a:prstGeom>
          <a:solidFill>
            <a:schemeClr val="tx1">
              <a:alpha val="56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аланты и поклонники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Красавец муж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 Без вины виноват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Не от мира с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519760" cy="563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0000" spc="-1" strike="noStrike">
                <a:solidFill>
                  <a:schemeClr val="accent3"/>
                </a:solidFill>
                <a:latin typeface="Century Schoolbook"/>
              </a:rPr>
              <a:t>Спасибо за внимание!</a:t>
            </a:r>
            <a:br>
              <a:rPr sz="6600"/>
            </a:br>
            <a:r>
              <a:rPr b="1" lang="ru-RU" sz="14900" spc="-1" strike="noStrike">
                <a:solidFill>
                  <a:schemeClr val="accent3"/>
                </a:solidFill>
                <a:latin typeface="Century Schoolbook"/>
              </a:rPr>
              <a:t>☺♫☼</a:t>
            </a:r>
            <a:r>
              <a:rPr b="1" lang="ru-RU" sz="12400" spc="-1" strike="noStrike">
                <a:solidFill>
                  <a:schemeClr val="accent3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chemeClr val="accent3"/>
                </a:solidFill>
                <a:latin typeface="Century Schoolbook"/>
              </a:rPr>
              <a:t>  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0" y="428760"/>
            <a:ext cx="5071680" cy="6673320"/>
          </a:xfrm>
          <a:prstGeom prst="rect">
            <a:avLst/>
          </a:prstGeom>
          <a:solidFill>
            <a:schemeClr val="bg1">
              <a:alpha val="4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Островский, Александр Николаевич - знаменитый драматический писатель. Родился 31 марта 1823 г. в Москве, где его отец служил в гражданской палате, а затем занимался частной адвокатурой. Матери Островский лишился еще в детстве и никакого систематического образования не получил. Все его детство и часть юности прошли в самом центре Замоскворечья, бывшего в ту пору, по условиям своей жизни, совершенно особым ми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5" descr="i.jpeg"/>
          <p:cNvPicPr/>
          <p:nvPr/>
        </p:nvPicPr>
        <p:blipFill>
          <a:blip r:embed="rId1"/>
          <a:stretch/>
        </p:blipFill>
        <p:spPr>
          <a:xfrm>
            <a:off x="5238720" y="1571760"/>
            <a:ext cx="3690720" cy="44287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42920" y="214200"/>
            <a:ext cx="5285880" cy="6792840"/>
          </a:xfrm>
          <a:prstGeom prst="rect">
            <a:avLst/>
          </a:prstGeom>
          <a:solidFill>
            <a:schemeClr val="tx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200" spc="49" strike="noStrike">
                <a:solidFill>
                  <a:schemeClr val="accent2"/>
                </a:solidFill>
                <a:latin typeface="Comic Sans MS"/>
              </a:rPr>
              <a:t>Этот мир населил его воображение теми представлениями и типами, которые он впоследствии воспроизвел в своих комедиях. Благодаря большой библиотеке отца Островский рано ознакомился с русской литературой и почувствовал наклонность к писательству; но отец непременно хотел сделать из него юриста. Окончив гимназический курс, Островский поступил на юридический факультет Московского университета. Окончить курс ему не удалось вследствие какого-то столкновения с одним из профессор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2" descr="63-014.jpg"/>
          <p:cNvPicPr/>
          <p:nvPr/>
        </p:nvPicPr>
        <p:blipFill>
          <a:blip r:embed="rId1"/>
          <a:stretch/>
        </p:blipFill>
        <p:spPr>
          <a:xfrm>
            <a:off x="5500800" y="428760"/>
            <a:ext cx="3357360" cy="468900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42920" y="785880"/>
            <a:ext cx="4357440" cy="6307560"/>
          </a:xfrm>
          <a:prstGeom prst="rect">
            <a:avLst/>
          </a:prstGeom>
          <a:solidFill>
            <a:schemeClr val="tx1">
              <a:alpha val="46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По желанию отца, он поступил на службу писцом, сначала в совестный, потом - в коммерческий суд. Этим и определился характер первых его литературных опытов; в суде он продолжал наблюдения над знакомыми ему с детства своеобразными замоскворецкими типами, напрашивавшимися на литературную обработ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2" descr="бло.jpeg"/>
          <p:cNvPicPr/>
          <p:nvPr/>
        </p:nvPicPr>
        <p:blipFill>
          <a:blip r:embed="rId1"/>
          <a:stretch/>
        </p:blipFill>
        <p:spPr>
          <a:xfrm>
            <a:off x="5500800" y="1000080"/>
            <a:ext cx="2928600" cy="467208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42920" y="285840"/>
            <a:ext cx="4857480" cy="618804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Начиная с 1853 и на протяжении более чем 30 лет новые пьесы Островского появлялись в московском Малом и петербургском Александринском театрах почти каждый сезон. С 1856 Островский становится постоянным сотрудником журнала "Современник". В 1856, когда по мысли великого князя Константина Николаевича состоялась командировка выдающихся литераторов для изучения и описания различных местностей России в промышленном и бытовом отношениях, Островский взял на себя изучение Волги от верховьев до Нижн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" descr="олдж..jpeg"/>
          <p:cNvPicPr/>
          <p:nvPr/>
        </p:nvPicPr>
        <p:blipFill>
          <a:blip r:embed="rId1">
            <a:lum contrast="-10000"/>
          </a:blip>
          <a:stretch/>
        </p:blipFill>
        <p:spPr>
          <a:xfrm flipH="1">
            <a:off x="5286600" y="1255320"/>
            <a:ext cx="3357360" cy="40723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357120"/>
            <a:ext cx="5928840" cy="6673320"/>
          </a:xfrm>
          <a:prstGeom prst="rect">
            <a:avLst/>
          </a:prstGeom>
          <a:solidFill>
            <a:schemeClr val="tx1">
              <a:alpha val="3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1800" spc="49" strike="noStrike">
                <a:solidFill>
                  <a:schemeClr val="accent2"/>
                </a:solidFill>
                <a:latin typeface="Comic Sans MS"/>
              </a:rPr>
              <a:t>В 1859, в издании графа Г.А. Кушелева-Безбородко, были напечатаны два тома сочинений Островского. Это издание и послужило поводом для той блестящей оценки, которую дал Островскому Добролюбов и которая закрепила за ним славу изобразителя "темного царства". В 1860 в печати появилась "Гроза", вызвавшая статью Добролюбова ("Луч света в темном царстве"). В 1863 Островский был награжден Уваровской премией и избран член-корреспондентом Петербургской Академии наук. В 1866 (по другим сведениям - в 1865) в Москве создал Артистический кружок, давший впоследствии московской сцене многих талантливых деятелей. В доме Островского бывали И.А. Гончаров, Д.В. Григорович, И.С. Тургенев, А.Ф. Писемский, Ф.М. Достоевский, И.Е. Турчанинов, П.М. Садовский, Л.П. Косицкая-Никулина, Достоевский, Григорович, М.Е. Салтыков-Щедрин, Л.Н. Толстой, И.С. Тургенев, П.И. Чайковский, Садовский, М.Н. Ермолова, Г.Н. Федот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2" descr="ло.jpeg"/>
          <p:cNvPicPr/>
          <p:nvPr/>
        </p:nvPicPr>
        <p:blipFill>
          <a:blip r:embed="rId1"/>
          <a:stretch/>
        </p:blipFill>
        <p:spPr>
          <a:xfrm>
            <a:off x="6072120" y="1785960"/>
            <a:ext cx="2732760" cy="34286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285840"/>
            <a:ext cx="4643280" cy="6797880"/>
          </a:xfrm>
          <a:prstGeom prst="rect">
            <a:avLst/>
          </a:prstGeom>
          <a:solidFill>
            <a:schemeClr val="tx1">
              <a:alpha val="4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С января 1866 был заведующим репертуарной частью московских императорских театров. В 1874 (по другим сведениям - в 1870) было образовано Общество русских драматических писателей и оперных композиторов, бессменным председателем которого Островский оставался до самой смерти. Работая в комиссии "для пересмотра законоположений по всем частям театрального управления", учрежденной в 1881 при дирекции Императорских театров, он добился многих преобразований, значительно улучшивших положение артис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" descr="нг.jpe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643720" y="1500120"/>
            <a:ext cx="2617200" cy="36428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42920" y="428760"/>
            <a:ext cx="4714560" cy="649296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В 1885 Островский был назначен заведующим репертуарной частью московских театров и начальником театрального училища. Не смотря на то, что его пьесы делали хорошие сборы и что в 1883 император Александр III пожаловал ему ежегодную пенсию в 3 тыс. рублей, денежные проблемы не оставляли Островского до последних дней его жизни. Здоровье не отвечало тем планам, какие он ставил перед собой. Усиленная работа быстро истощила организм; 14 июня (по старому стилю - 2 июня) 1886 Островский скончался в своем костромском имении Щелык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Рисунок 2" descr="ва.jpe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43680" y="1071720"/>
            <a:ext cx="3214440" cy="450036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571760" y="91440"/>
            <a:ext cx="2642760" cy="6674400"/>
          </a:xfrm>
          <a:prstGeom prst="rect">
            <a:avLst/>
          </a:prstGeom>
          <a:solidFill>
            <a:schemeClr val="tx1">
              <a:alpha val="55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"/>
              </a:rPr>
              <a:t>Грех да беда на кого не 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"/>
              </a:rPr>
              <a:t>Тяжелые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"/>
              </a:rPr>
              <a:t>Шу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5"/>
              </a:rPr>
              <a:t>На бойком мест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6"/>
              </a:rPr>
              <a:t>Пу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7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8"/>
              </a:rPr>
              <a:t>Тушино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9"/>
              </a:rPr>
              <a:t>Снегур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рудовой хлеб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Богатые невест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Волки и ов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Последняя жер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4"/>
              </a:rPr>
              <a:t>Беспридан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5"/>
              </a:rPr>
              <a:t>Сердце не ка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6"/>
              </a:rPr>
              <a:t>Невольниц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214880" y="498600"/>
            <a:ext cx="4928760" cy="58604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7"/>
              </a:rPr>
              <a:t>Неожиданны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8"/>
              </a:rPr>
              <a:t>Бедность не по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9"/>
              </a:rPr>
              <a:t>Старый друг лучше новых дв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0"/>
              </a:rPr>
              <a:t>Свои собаки грызутся, чужая не пристав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1"/>
              </a:rPr>
              <a:t>За чем пойдешь, то и найдешь (Женитьба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2"/>
              </a:rPr>
              <a:t>Бальзами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3"/>
              </a:rPr>
              <a:t>Козьма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4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5"/>
              </a:rPr>
              <a:t>Захарьич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6"/>
              </a:rPr>
              <a:t> Минин, Сухор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27"/>
              </a:rPr>
              <a:t>Поздняя любов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8"/>
              </a:rPr>
              <a:t>На всякого мудреца довольно прост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9"/>
              </a:rPr>
              <a:t>Горячее сердц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0"/>
              </a:rPr>
              <a:t>Правда - хорошо, а счастье луч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1"/>
              </a:rPr>
              <a:t>Не все коту масл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2"/>
              </a:rPr>
              <a:t>Не было ни гроша, да вдруг алтын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3"/>
              </a:rPr>
              <a:t>Комик семнадцатого столетия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34"/>
              </a:rPr>
              <a:t>Дмитрий Самозванец и Василий Шуйский</a:t>
            </a:r>
            <a:r>
              <a:rPr b="0" lang="ru-RU" sz="1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 rot="16200000">
            <a:off x="-2148120" y="2862720"/>
            <a:ext cx="5500440" cy="120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3"/>
                </a:solidFill>
                <a:latin typeface="Century Schoolbook"/>
              </a:rPr>
              <a:t>Произведения А. Н. Островского:</a:t>
            </a: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0</TotalTime>
  <Application>LibreOffice/7.4.7.2$Linux_X86_64 LibreOffice_project/40$Build-2</Application>
  <AppVersion>15.0000</AppVersion>
  <Words>694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Shabalina</cp:lastModifiedBy>
  <dcterms:modified xsi:type="dcterms:W3CDTF">2012-09-24T13:38:08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