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053-F870-421C-8467-64ECE5BF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DF6-E926-42CA-9CF3-BD577E47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7E2-8927-4412-8051-03F51ED7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60D-BCDB-47F3-BE7E-B4F8D225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40E2-63C8-4DB2-A6DA-23EA7472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A681-93D5-4F77-B935-680CE8E1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B903-A8C7-432B-A0E8-10A69C3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C420-E2E3-46ED-8479-5EA280F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B75A-7842-4CD3-B3EB-828D3B05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291C-AA92-4CA9-A96B-0BA34FD3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C375-2948-43EF-865F-3ED16F2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0B3-C22D-4616-9499-794BC174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D335-3EDF-4AD0-A226-F4D4CDD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EE7B-ED28-41FA-A6D8-7A22511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E3E6-4581-4C0C-A84D-1A58B2A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16EB-5046-4E84-B2EF-4FD56CA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91F8-FA1F-43BB-9EB7-BFC83F46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66B-5130-48C8-92E5-B283A94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6C5-F8F3-4081-8A3C-11D13A9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C94-FF82-4221-AD79-6A763469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A7B-6BB7-4854-94C6-118E90E3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766-DF16-44F6-9A83-ABC1A2C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AF3-10BE-4450-B2DB-6AF4A7B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8A3-918F-4104-9917-ED82380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918-9880-4B32-ABAF-642BAC26F82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66B-63AF-464C-9223-AB442D4A5B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416720" cy="1024200"/>
          </a:xfrm>
          <a:prstGeom prst="rect">
            <a:avLst/>
          </a:prstGeom>
          <a:noFill/>
          <a:ln w="66600">
            <a:solidFill>
              <a:srgbClr val="cc99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МОУ    Гимназия № 1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г.о. Новокуйбышев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520" y="1844280"/>
            <a:ext cx="4038840" cy="3529080"/>
          </a:xfrm>
          <a:prstGeom prst="rect">
            <a:avLst/>
          </a:prstGeom>
          <a:solidFill>
            <a:srgbClr val="ffffff"/>
          </a:solidFill>
          <a:ln w="66600">
            <a:solidFill>
              <a:srgbClr val="cc99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Monotype Corsiva"/>
              </a:rPr>
              <a:t>Полозова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Monotype Corsiva"/>
              </a:rPr>
              <a:t>Ирина   Валентиновна, </a:t>
            </a:r>
            <a:r>
              <a:rPr b="0" lang="en-US" sz="3200" spc="-1" strike="noStrike">
                <a:solidFill>
                  <a:srgbClr val="660033"/>
                </a:solidFill>
                <a:latin typeface="Monotype Corsiva"/>
              </a:rPr>
              <a:t>учитель    начальных    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19051" t="0" r="25399" b="23244"/>
          <a:stretch/>
        </p:blipFill>
        <p:spPr>
          <a:xfrm>
            <a:off x="4724280" y="1828800"/>
            <a:ext cx="3597480" cy="4419720"/>
          </a:xfrm>
          <a:prstGeom prst="rect">
            <a:avLst/>
          </a:prstGeom>
          <a:ln w="1260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 ТРИЗа мы учим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4822920" cy="410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думывать оригинальные, забавные названия обычным предмета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нсценирова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ать изобретательские зада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ботать со свойствами предме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скать ответы на философски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73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294600" cy="1295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373280"/>
          </a:xfrm>
          <a:prstGeom prst="rect">
            <a:avLst/>
          </a:prstGeom>
          <a:ln w="6660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 ВНИМА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6"/>
          <p:cNvSpPr/>
          <p:nvPr/>
        </p:nvSpPr>
        <p:spPr>
          <a:xfrm>
            <a:off x="914400" y="152280"/>
            <a:ext cx="7543800" cy="457200"/>
          </a:xfrm>
          <a:custGeom>
            <a:avLst/>
            <a:gdLst>
              <a:gd name="textAreaLeft" fmla="*/ 1414800 w 7543800"/>
              <a:gd name="textAreaRight" fmla="*/ 6129000 w 7543800"/>
              <a:gd name="textAreaTop" fmla="*/ 98640 h 457200"/>
              <a:gd name="textAreaBottom" fmla="*/ 45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6937"/>
                </a:moveTo>
                <a:arcTo wR="21600" hR="5038" stAng="9480057" swAng="-800589"/>
                <a:lnTo>
                  <a:pt x="4051" y="21348"/>
                </a:lnTo>
                <a:arcTo wR="21600" hR="5038" stAng="8679468" swAng="-6558937"/>
                <a:lnTo>
                  <a:pt x="17549" y="17360"/>
                </a:lnTo>
                <a:arcTo wR="21600" hR="5038" stAng="2120532" swAng="-800589"/>
                <a:lnTo>
                  <a:pt x="18900" y="8776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722756"/>
                <a:lnTo>
                  <a:pt x="14849" y="4574"/>
                </a:lnTo>
                <a:arcTo wR="21600" hR="5038" stAng="3042699" swAng="4714602"/>
                <a:lnTo>
                  <a:pt x="6751" y="586"/>
                </a:lnTo>
                <a:arcTo wR="21600" hR="5038" stAng="7757301" swAng="1722756"/>
                <a:lnTo>
                  <a:pt x="2700" y="8776"/>
                </a:lnTo>
                <a:close/>
              </a:path>
              <a:path fill="none" w="21600" h="21600">
                <a:moveTo>
                  <a:pt x="6751" y="4574"/>
                </a:moveTo>
                <a:arcTo wR="21600" hR="5038" stAng="7757301" swAng="922167"/>
                <a:lnTo>
                  <a:pt x="6751" y="586"/>
                </a:lnTo>
              </a:path>
              <a:path fill="none" w="21600" h="21600">
                <a:moveTo>
                  <a:pt x="14849" y="4574"/>
                </a:moveTo>
                <a:arcTo wR="21600" hR="5038" stAng="3042699" swAng="-922167"/>
                <a:lnTo>
                  <a:pt x="14849" y="586"/>
                </a:lnTo>
              </a:path>
              <a:path fill="none" w="21600" h="21600">
                <a:moveTo>
                  <a:pt x="4051" y="17360"/>
                </a:moveTo>
                <a:lnTo>
                  <a:pt x="4051" y="4411"/>
                </a:lnTo>
              </a:path>
              <a:path fill="none" w="21600" h="21600">
                <a:moveTo>
                  <a:pt x="17549" y="17360"/>
                </a:moveTo>
                <a:lnTo>
                  <a:pt x="17549" y="4411"/>
                </a:lnTo>
              </a:path>
            </a:pathLst>
          </a:cu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5400000"/>
          </a:gradFill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Визитная    кар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798480"/>
          <a:ext cx="8153280" cy="5613480"/>
        </p:xfrm>
        <a:graphic>
          <a:graphicData uri="http://schemas.openxmlformats.org/drawingml/2006/table">
            <a:tbl>
              <a:tblPr/>
              <a:tblGrid>
                <a:gridCol w="3317760"/>
                <a:gridCol w="4835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олозова Ирина Валентин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Дата 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8.05.196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ысшее, Тольяттинский педагогический университет, 2003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МОУ гимназия №1, г.о. Новокуйбышевск  Сама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Общий 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Стаж педагогической 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Стаж работы в должности в данном учрежден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Категория, дата при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ервая категория, декабрь,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Участие в профессиональных конкур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окружной конкурс педагогического мастерства : «Самый классный классный», номинация «Самая классная мама» (дипло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степени)- март, 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Городской конкурс профессионального мастерства в рамках проекта «Образование», номинация «Лучший учитель» - сент., 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Контактные телеф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Раб.: 5-49-45;   Дом.: 2-46-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РАЗВИТИЕ ТВОРЧЕСКОЙ ЛИЧНОСТ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4051080"/>
            <a:ext cx="66261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занятиях теории решения изобретательских зада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326880"/>
            <a:ext cx="7417080" cy="6188760"/>
          </a:xfrm>
          <a:prstGeom prst="rect">
            <a:avLst/>
          </a:prstGeom>
          <a:solidFill>
            <a:srgbClr val="ffccff"/>
          </a:solidFill>
          <a:ln w="82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ловек без воображения не способен делать открытия и находить новые пути решения стоящих перед человечеством задач… В пламени воображения возникают изобретения, открытия, произведения искус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.С.Альтшул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17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вать детскую фантазию, причинно-следственное мышление, языковое чутьё, творческое воображ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вать умения сочинять рассказы и сказ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ешать сложные проблемные зад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145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рмирование любознательност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стремление к познанию нового, неизведанног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рмирование умения мыслить логически, нестандартн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тие речи, логики, мышл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повышение мотивации к самосовершенств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СНОВНЫЕ ПРИНЦИПЫ ТВОРЧЕСКОГО ВОСПИТ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4965840" cy="4289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личный прим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рмирование поисковой актив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е навязывать своё мнение и мнение других, каким бы верным оно ни был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рмировать ответственность за свои решения и поступ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облюдение гуманности во всех проявлениях мысли и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МЕТОДЫ ВОСПИ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72080" cy="3713040"/>
          </a:xfrm>
          <a:prstGeom prst="rect">
            <a:avLst/>
          </a:prstGeom>
          <a:solidFill>
            <a:srgbClr val="ffccff"/>
          </a:solidFill>
          <a:ln w="6660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АКТИВ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игры, самостоятельная деятельность и под руководством взрослог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7640" y="1773360"/>
            <a:ext cx="3593880" cy="3713040"/>
          </a:xfrm>
          <a:prstGeom prst="rect">
            <a:avLst/>
          </a:prstGeom>
          <a:solidFill>
            <a:srgbClr val="ffccff"/>
          </a:solidFill>
          <a:ln w="6660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АССИВ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собственный пример, беседы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95640" y="1052640"/>
            <a:ext cx="19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052640"/>
            <a:ext cx="19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6870960" cy="900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 ТРИЗа мы знакомимс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противоречиями и приёмами их разреш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о структурой составления сказок и загадок по разным принципа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путешествия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играми на развитие вообра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4304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9:27:23Z</dcterms:created>
  <dc:creator>Home</dc:creator>
  <dc:description/>
  <dc:language>en-US</dc:language>
  <cp:lastModifiedBy>Home</cp:lastModifiedBy>
  <dcterms:modified xsi:type="dcterms:W3CDTF">2009-06-13T22:03:26Z</dcterms:modified>
  <cp:revision>3</cp:revision>
  <dc:subject/>
  <dc:title>МОУ    Гимназия № 1   г.о. Новокуйбышевск</dc:title>
</cp:coreProperties>
</file>