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DBB-F12F-4265-A50D-FCA9B740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187-5404-4B2E-B223-CBBA060F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B89-6C9C-4F06-B19E-FD7658C4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6F1-2ECE-429F-9060-1E81B35C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DD60-4560-411B-967A-8EBD8981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1021-C229-4222-A27E-1D52E200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A701-577E-4265-A82E-1C1ECE2D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DA9C-75FD-4646-938E-B9B57CD9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C838-AC53-4DDD-805C-93755515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4C3E-6E29-4268-A32E-18F9614F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6512-C3D4-43DE-BC3D-2DA1DE49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B47-738E-4BD4-BF73-CD8BD9FB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1CA9-CB3C-4106-B0D8-B86DC8A8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4EC5-65CC-4C60-99E3-7AE6B109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8100-F0F9-4B7B-8630-92A32247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0A85-8820-4EB5-9369-979FCD10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5778-9677-4D6E-ACD9-0059D2AF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C30-22CA-4C5F-9E1E-F0D1955E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613-5CEC-4AAA-AB3C-E1E53E52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962-8E88-4BC1-BB45-ED1593C7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D14-64C2-46F5-8D53-BE4F9417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008-0BFD-4D16-8394-8D6D09B4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DFA-98B0-4934-ADF3-B6E986A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3A4-879D-48A0-9448-296DA8F6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EBBE-F9C3-4835-8A54-1C0086813C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3458-B04B-4863-BF3B-E8CBEE913E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416720" cy="1024200"/>
          </a:xfrm>
          <a:prstGeom prst="rect">
            <a:avLst/>
          </a:prstGeom>
          <a:noFill/>
          <a:ln w="66600">
            <a:solidFill>
              <a:srgbClr val="cc99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МОУ    Гимназия № 1  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г.о. Новокуйбышев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520" y="1844280"/>
            <a:ext cx="4038840" cy="3529080"/>
          </a:xfrm>
          <a:prstGeom prst="rect">
            <a:avLst/>
          </a:prstGeom>
          <a:solidFill>
            <a:srgbClr val="ffffff"/>
          </a:solidFill>
          <a:ln w="66600">
            <a:solidFill>
              <a:srgbClr val="cc99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Monotype Corsiva"/>
              </a:rPr>
              <a:t>Полозова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Monotype Corsiva"/>
              </a:rPr>
              <a:t>Ирина   Валентиновна, </a:t>
            </a:r>
            <a:r>
              <a:rPr b="0" lang="en-US" sz="3200" spc="-1" strike="noStrike">
                <a:solidFill>
                  <a:srgbClr val="660033"/>
                </a:solidFill>
                <a:latin typeface="Monotype Corsiva"/>
              </a:rPr>
              <a:t>учитель    начальных     клас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rcRect l="19051" t="0" r="25399" b="23244"/>
          <a:stretch/>
        </p:blipFill>
        <p:spPr>
          <a:xfrm>
            <a:off x="4724280" y="1828800"/>
            <a:ext cx="3597480" cy="4419720"/>
          </a:xfrm>
          <a:prstGeom prst="rect">
            <a:avLst/>
          </a:prstGeom>
          <a:ln w="1260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уроках ТРИЗа мы учимс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4822920" cy="4103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идумывать оригинальные, забавные названия обычным предмета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нсценировать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шать изобретательские задач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аботать со свойствами предмет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скать ответы на философские вопрос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2736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6294600" cy="1295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ВИЗИТНАЯ КАРТОЧ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121440" cy="4373280"/>
          </a:xfrm>
          <a:prstGeom prst="rect">
            <a:avLst/>
          </a:prstGeom>
          <a:ln w="66600">
            <a:solidFill>
              <a:srgbClr val="ff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 ВНИМА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6"/>
          <p:cNvSpPr/>
          <p:nvPr/>
        </p:nvSpPr>
        <p:spPr>
          <a:xfrm>
            <a:off x="914400" y="152280"/>
            <a:ext cx="7543800" cy="457200"/>
          </a:xfrm>
          <a:custGeom>
            <a:avLst/>
            <a:gdLst>
              <a:gd name="textAreaLeft" fmla="*/ 1414800 w 7543800"/>
              <a:gd name="textAreaRight" fmla="*/ 6129000 w 7543800"/>
              <a:gd name="textAreaTop" fmla="*/ 98640 h 457200"/>
              <a:gd name="textAreaBottom" fmla="*/ 45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6937"/>
                </a:moveTo>
                <a:arcTo wR="21600" hR="5038" stAng="9480057" swAng="-800589"/>
                <a:lnTo>
                  <a:pt x="4051" y="21348"/>
                </a:lnTo>
                <a:arcTo wR="21600" hR="5038" stAng="8679468" swAng="-6558937"/>
                <a:lnTo>
                  <a:pt x="17549" y="17360"/>
                </a:lnTo>
                <a:arcTo wR="21600" hR="5038" stAng="2120532" swAng="-800589"/>
                <a:lnTo>
                  <a:pt x="18900" y="8776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722756"/>
                <a:lnTo>
                  <a:pt x="14849" y="4574"/>
                </a:lnTo>
                <a:arcTo wR="21600" hR="5038" stAng="3042699" swAng="4714602"/>
                <a:lnTo>
                  <a:pt x="6751" y="586"/>
                </a:lnTo>
                <a:arcTo wR="21600" hR="5038" stAng="7757301" swAng="1722756"/>
                <a:lnTo>
                  <a:pt x="2700" y="8776"/>
                </a:lnTo>
                <a:close/>
              </a:path>
              <a:path fill="none" w="21600" h="21600">
                <a:moveTo>
                  <a:pt x="6751" y="4574"/>
                </a:moveTo>
                <a:arcTo wR="21600" hR="5038" stAng="7757301" swAng="922167"/>
                <a:lnTo>
                  <a:pt x="6751" y="586"/>
                </a:lnTo>
              </a:path>
              <a:path fill="none" w="21600" h="21600">
                <a:moveTo>
                  <a:pt x="14849" y="4574"/>
                </a:moveTo>
                <a:arcTo wR="21600" hR="5038" stAng="3042699" swAng="-922167"/>
                <a:lnTo>
                  <a:pt x="14849" y="586"/>
                </a:lnTo>
              </a:path>
              <a:path fill="none" w="21600" h="21600">
                <a:moveTo>
                  <a:pt x="4051" y="17360"/>
                </a:moveTo>
                <a:lnTo>
                  <a:pt x="4051" y="4411"/>
                </a:lnTo>
              </a:path>
              <a:path fill="none" w="21600" h="21600">
                <a:moveTo>
                  <a:pt x="17549" y="17360"/>
                </a:moveTo>
                <a:lnTo>
                  <a:pt x="17549" y="4411"/>
                </a:lnTo>
              </a:path>
            </a:pathLst>
          </a:custGeom>
          <a:gradFill rotWithShape="0">
            <a:gsLst>
              <a:gs pos="0">
                <a:srgbClr val="ffef66"/>
              </a:gs>
              <a:gs pos="50000">
                <a:srgbClr val="ffffff"/>
              </a:gs>
              <a:gs pos="100000">
                <a:srgbClr val="ffef66"/>
              </a:gs>
            </a:gsLst>
            <a:lin ang="5400000"/>
          </a:gradFill>
          <a:ln w="1908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man Old Style"/>
              </a:rPr>
              <a:t>Визитная    кар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798480"/>
          <a:ext cx="8153280" cy="5613480"/>
        </p:xfrm>
        <a:graphic>
          <a:graphicData uri="http://schemas.openxmlformats.org/drawingml/2006/table">
            <a:tbl>
              <a:tblPr/>
              <a:tblGrid>
                <a:gridCol w="3317760"/>
                <a:gridCol w="4835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олозова Ирина Валентин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Дата  р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08.05.196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Высшее, Тольяттинский педагогический университет, 2003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Учитель начальных 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Место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МОУ гимназия №1, г.о. Новокуйбышевск  Сама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Общий стаж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Стаж педагогической 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2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Стаж работы в должности в данном учрежден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Категория, дата присв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ервая категория, декабрь, 200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Участие в профессиональных конкурс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окружной конкурс педагогического мастерства : «Самый классный классный», номинация «Самая классная мама» (дипло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II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 степени)- март, 200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Городской конкурс профессионального мастерства в рамках проекта «Образование», номинация «Лучший учитель» - сент., 2008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Bookman Old Style"/>
                          <a:ea typeface="Times New Roman"/>
                        </a:rPr>
                        <a:t>Контактные телеф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Раб.: 5-49-45;   Дом.: 2-46-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ff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РАЗВИТИЕ ТВОРЧЕСКОЙ ЛИЧНОСТИ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58920" y="4051080"/>
            <a:ext cx="66261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занятиях теории решения изобретательских зада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326880"/>
            <a:ext cx="7417080" cy="6188760"/>
          </a:xfrm>
          <a:prstGeom prst="rect">
            <a:avLst/>
          </a:prstGeom>
          <a:solidFill>
            <a:srgbClr val="ffccff"/>
          </a:solidFill>
          <a:ln w="82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ловек без воображения не способен делать открытия и находить новые пути решения стоящих перед человечеством задач… В пламени воображения возникают изобретения, открытия, произведения искус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.С.Альтшул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94560" cy="1044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7558200" cy="4175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развивать детскую фантазию, причинно-следственное мышление, языковое чутьё, творческое воображ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развивать умения сочинять рассказы и сказк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решать сложные проблемные зада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7558200" cy="4145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формирование любознательност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стремление к познанию нового, неизведанног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формирование умения мыслить логически, нестандартн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развитие речи, логики, мышле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повышение мотивации к самосовершенствова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СНОВНЫЕ ПРИНЦИПЫ ТВОРЧЕСКОГО ВОСПИТА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4965840" cy="4289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индивидуальный подход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личный прим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рмирование поисковой актив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не навязывать своё мнение и мнение других, каким бы верным оно ни был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формировать ответственность за свои решения и поступк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соблюдение гуманности во всех проявлениях мысли и деятель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37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МЕТОДЫ ВОСПИТ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772080" cy="3713040"/>
          </a:xfrm>
          <a:prstGeom prst="rect">
            <a:avLst/>
          </a:prstGeom>
          <a:solidFill>
            <a:srgbClr val="ffccff"/>
          </a:solidFill>
          <a:ln w="6660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АКТИВН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игры, самостоятельная деятельность и под руководством взрослог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7640" y="1773360"/>
            <a:ext cx="3593880" cy="3713040"/>
          </a:xfrm>
          <a:prstGeom prst="rect">
            <a:avLst/>
          </a:prstGeom>
          <a:solidFill>
            <a:srgbClr val="ffccff"/>
          </a:solidFill>
          <a:ln w="6660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ПАССИВН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собственный пример, беседы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195640" y="1052640"/>
            <a:ext cx="194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1052640"/>
            <a:ext cx="194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6870960" cy="900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 уроках ТРИЗа мы знакомимс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с противоречиями и приёмами их разрешения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со структурой составления сказок и загадок по разным принципам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с путешествиями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с играми на развитие воображ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43040" y="1828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19:27:23Z</dcterms:created>
  <dc:creator>Home</dc:creator>
  <dc:description/>
  <dc:language>en-US</dc:language>
  <cp:lastModifiedBy>Home</cp:lastModifiedBy>
  <dcterms:modified xsi:type="dcterms:W3CDTF">2009-06-13T22:03:26Z</dcterms:modified>
  <cp:revision>3</cp:revision>
  <dc:subject/>
  <dc:title>МОУ    Гимназия № 1   г.о. Новокуйбышевск</dc:title>
</cp:coreProperties>
</file>