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E0FB-97B1-4155-929E-5FD949A4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409-3A21-4734-8138-430075C0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5E5-8CB8-4D63-B88B-3E61637A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0D81-AC95-41C6-A12B-FBCC58F2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EE9C-9AD8-4F43-9B4B-D4E2F677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F419-0672-41E3-A489-82CEAD68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4B88-DDF1-465F-B223-7D565D8C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B7EE-ACA6-4683-9ACD-A43B0AE4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950D-5747-443A-A29C-632E2CF9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E980-40CC-456E-B26C-F7B98BB6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B70E-CB97-42C2-97AB-0010D70B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5ECD-DF97-4F63-B979-2B2EB1C5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58E5-0AA8-4711-9E5F-3CB0859D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51A8-7745-4C33-92F1-526DA656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48F4-A8E3-4922-B0FA-4955BE3D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09E6-900A-4B94-80CF-3CEF1112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1A5C-6D8D-45D1-9F06-13740170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DB2B-9AA3-4092-918E-6874D577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D8EC-FA53-4CE8-9F6C-0D0435AF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AEF1-EDCA-49B0-8562-AAEABE7C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F21-61B5-4051-8294-D88B42E3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DBB8-19A2-4263-AAB6-77E67F03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C8B4-DC23-497A-872B-F6934575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CEC-3CBB-434D-8686-883D2367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B7FC-12E8-4CA8-9860-E563DDCD968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571B-AA41-452D-80A7-623DA530813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7416720" cy="1024200"/>
          </a:xfrm>
          <a:prstGeom prst="rect">
            <a:avLst/>
          </a:prstGeom>
          <a:noFill/>
          <a:ln w="66600">
            <a:solidFill>
              <a:srgbClr val="cc99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МОУ    Гимназия № 1  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г.о. Новокуйбышевс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80520" y="1844280"/>
            <a:ext cx="4038840" cy="3529080"/>
          </a:xfrm>
          <a:prstGeom prst="rect">
            <a:avLst/>
          </a:prstGeom>
          <a:solidFill>
            <a:srgbClr val="ffffff"/>
          </a:solidFill>
          <a:ln w="66600">
            <a:solidFill>
              <a:srgbClr val="cc99f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Monotype Corsiva"/>
              </a:rPr>
              <a:t>Полозова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Monotype Corsiva"/>
              </a:rPr>
              <a:t>Ирина   Валентиновна, </a:t>
            </a:r>
            <a:r>
              <a:rPr b="0" lang="en-US" sz="3200" spc="-1" strike="noStrike">
                <a:solidFill>
                  <a:srgbClr val="660033"/>
                </a:solidFill>
                <a:latin typeface="Monotype Corsiva"/>
              </a:rPr>
              <a:t>учитель    начальных     класс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rcRect l="19051" t="0" r="25399" b="23244"/>
          <a:stretch/>
        </p:blipFill>
        <p:spPr>
          <a:xfrm>
            <a:off x="4724280" y="1828800"/>
            <a:ext cx="3597480" cy="4419720"/>
          </a:xfrm>
          <a:prstGeom prst="rect">
            <a:avLst/>
          </a:prstGeom>
          <a:ln w="1260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 уроках ТРИЗа мы учимс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4822920" cy="4103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ридумывать оригинальные, забавные названия обычным предмета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нсценироват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ешать изобретательские задач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аботать со свойствами предмет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скать ответы на философские вопрос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796000" y="1916280"/>
            <a:ext cx="2736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6294600" cy="1295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ВИЗИТНАЯ КАРТОЧ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121440" cy="4373280"/>
          </a:xfrm>
          <a:prstGeom prst="rect">
            <a:avLst/>
          </a:prstGeom>
          <a:ln w="66600">
            <a:solidFill>
              <a:srgbClr val="ff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ПАСИБО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 ВНИМАНИЕ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6"/>
          <p:cNvSpPr/>
          <p:nvPr/>
        </p:nvSpPr>
        <p:spPr>
          <a:xfrm>
            <a:off x="914400" y="152280"/>
            <a:ext cx="7543800" cy="457200"/>
          </a:xfrm>
          <a:custGeom>
            <a:avLst/>
            <a:gdLst>
              <a:gd name="textAreaLeft" fmla="*/ 1414800 w 7543800"/>
              <a:gd name="textAreaRight" fmla="*/ 6129000 w 7543800"/>
              <a:gd name="textAreaTop" fmla="*/ 98640 h 457200"/>
              <a:gd name="textAreaBottom" fmla="*/ 45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6937"/>
                </a:moveTo>
                <a:arcTo wR="21600" hR="5038" stAng="9480057" swAng="-800589"/>
                <a:lnTo>
                  <a:pt x="4051" y="21348"/>
                </a:lnTo>
                <a:arcTo wR="21600" hR="5038" stAng="8679468" swAng="-6558937"/>
                <a:lnTo>
                  <a:pt x="17549" y="17360"/>
                </a:lnTo>
                <a:arcTo wR="21600" hR="5038" stAng="2120532" swAng="-800589"/>
                <a:lnTo>
                  <a:pt x="18900" y="8776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722756"/>
                <a:lnTo>
                  <a:pt x="14849" y="4574"/>
                </a:lnTo>
                <a:arcTo wR="21600" hR="5038" stAng="3042699" swAng="4714602"/>
                <a:lnTo>
                  <a:pt x="6751" y="586"/>
                </a:lnTo>
                <a:arcTo wR="21600" hR="5038" stAng="7757301" swAng="1722756"/>
                <a:lnTo>
                  <a:pt x="2700" y="8776"/>
                </a:lnTo>
                <a:close/>
              </a:path>
              <a:path fill="none" w="21600" h="21600">
                <a:moveTo>
                  <a:pt x="6751" y="4574"/>
                </a:moveTo>
                <a:arcTo wR="21600" hR="5038" stAng="7757301" swAng="922167"/>
                <a:lnTo>
                  <a:pt x="6751" y="586"/>
                </a:lnTo>
              </a:path>
              <a:path fill="none" w="21600" h="21600">
                <a:moveTo>
                  <a:pt x="14849" y="4574"/>
                </a:moveTo>
                <a:arcTo wR="21600" hR="5038" stAng="3042699" swAng="-922167"/>
                <a:lnTo>
                  <a:pt x="14849" y="586"/>
                </a:lnTo>
              </a:path>
              <a:path fill="none" w="21600" h="21600">
                <a:moveTo>
                  <a:pt x="4051" y="17360"/>
                </a:moveTo>
                <a:lnTo>
                  <a:pt x="4051" y="4411"/>
                </a:lnTo>
              </a:path>
              <a:path fill="none" w="21600" h="21600">
                <a:moveTo>
                  <a:pt x="17549" y="17360"/>
                </a:moveTo>
                <a:lnTo>
                  <a:pt x="17549" y="4411"/>
                </a:lnTo>
              </a:path>
            </a:pathLst>
          </a:custGeom>
          <a:gradFill rotWithShape="0">
            <a:gsLst>
              <a:gs pos="0">
                <a:srgbClr val="ffef66"/>
              </a:gs>
              <a:gs pos="50000">
                <a:srgbClr val="ffffff"/>
              </a:gs>
              <a:gs pos="100000">
                <a:srgbClr val="ffef66"/>
              </a:gs>
            </a:gsLst>
            <a:lin ang="5400000"/>
          </a:gradFill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man Old Style"/>
              </a:rPr>
              <a:t>Визитная    кар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798480"/>
          <a:ext cx="8153280" cy="5613480"/>
        </p:xfrm>
        <a:graphic>
          <a:graphicData uri="http://schemas.openxmlformats.org/drawingml/2006/table">
            <a:tbl>
              <a:tblPr/>
              <a:tblGrid>
                <a:gridCol w="3317760"/>
                <a:gridCol w="4835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ФИ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Полозова Ирина Валентин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31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Дата  р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08.05.1968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Высшее, Тольяттинский педагогический университет, 2003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Дол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Учитель начальных кла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Место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МОУ гимназия №1, г.о. Новокуйбышевск  Самарск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Общий стаж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2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Стаж педагогической 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2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Стаж работы в должности в данном учреждени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Категория, дата присво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Первая категория, декабрь, 200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Участие в профессиональных конкурс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I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окружной конкурс педагогического мастерства : «Самый классный классный», номинация «Самая классная мама» (дипло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II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 степени)- март, 2008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Городской конкурс профессионального мастерства в рамках проекта «Образование», номинация «Лучший учитель» - сент., 2008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Контактные телефо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Раб.: 5-49-45;   Дом.: 2-46-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РАЗВИТИЕ ТВОРЧЕСКОЙ ЛИЧНОСТ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58920" y="4051080"/>
            <a:ext cx="66261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 занятиях теории решения изобретательских зада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6920" y="326880"/>
            <a:ext cx="7417080" cy="6188760"/>
          </a:xfrm>
          <a:prstGeom prst="rect">
            <a:avLst/>
          </a:prstGeom>
          <a:solidFill>
            <a:srgbClr val="ffccff"/>
          </a:solidFill>
          <a:ln w="82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еловек без воображения не способен делать открытия и находить новые пути решения стоящих перед человечеством задач… В пламени воображения возникают изобретения, открытия, произведения искус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Г.С.Альтшул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694560" cy="1044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7558200" cy="4175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развивать детскую фантазию, причинно-следственное мышление, языковое чутьё, творческое воображен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развивать умения сочинять рассказы и сказк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решать сложные проблемные задани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7558200" cy="4145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формирование любознательност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стремление к познанию нового, неизведанного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формирование умения мыслить логически, нестандартно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развитие речи, логики, мышлен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повышение мотивации к самосовершенствова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ОСНОВНЫЕ ПРИНЦИПЫ ТВОРЧЕСКОГО ВОСПИТА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4965840" cy="4289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индивидуальный подход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личный пример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рмирование поисковой активност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не навязывать своё мнение и мнение других, каким бы верным оно ни было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рмировать ответственность за свои решения и поступк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соблюдение гуманности во всех проявлениях мысли и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37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МЕТОДЫ ВОСПИТ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772080" cy="3713040"/>
          </a:xfrm>
          <a:prstGeom prst="rect">
            <a:avLst/>
          </a:prstGeom>
          <a:solidFill>
            <a:srgbClr val="ffccff"/>
          </a:solidFill>
          <a:ln w="6660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АКТИВНЫ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(игры, самостоятельная деятельность и под руководством взрослого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7640" y="1773360"/>
            <a:ext cx="3593880" cy="3713040"/>
          </a:xfrm>
          <a:prstGeom prst="rect">
            <a:avLst/>
          </a:prstGeom>
          <a:solidFill>
            <a:srgbClr val="ffccff"/>
          </a:solidFill>
          <a:ln w="6660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АССИВНЫ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(собственный пример, беседы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195640" y="1052640"/>
            <a:ext cx="194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1052640"/>
            <a:ext cx="1944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6870960" cy="900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 уроках ТРИЗа мы знакомимся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с противоречиями и приёмами их разреше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со структурой составления сказок и загадок по разным принципам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с путешествиями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с играми на развитие воображ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43040" y="18288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19:27:23Z</dcterms:created>
  <dc:creator>Home</dc:creator>
  <dc:description/>
  <dc:language>en-US</dc:language>
  <cp:lastModifiedBy>Home</cp:lastModifiedBy>
  <dcterms:modified xsi:type="dcterms:W3CDTF">2009-06-13T22:03:26Z</dcterms:modified>
  <cp:revision>3</cp:revision>
  <dc:subject/>
  <dc:title>МОУ    Гимназия № 1   г.о. Новокуйбышевск</dc:title>
</cp:coreProperties>
</file>