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EE9-1607-47CD-9E48-0EFBA91A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9E6-65C7-40C3-8DE9-C44B911A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A40-C517-444E-9D55-792E46FF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2B7-A4F6-48B7-B92E-096D080D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AF4-4D4B-404A-BCB5-3D8E642A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216-0574-4D6E-9AC3-B8067743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3E5-FAA1-407A-95EC-FF55D685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8C0-BCF9-47B2-A1A0-13CD4225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51E-2893-4324-9C88-50781BA7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DC6-0191-4A31-BDD4-80AD3474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0A3-F9F7-4CCE-B99F-EF055D7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61E-238D-4261-8DE4-AA4989D9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2762-EBBF-472A-A89E-EBDAD5A314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strolab.ru/" TargetMode="External"/><Relationship Id="rId2" Type="http://schemas.openxmlformats.org/officeDocument/2006/relationships/hyperlink" Target="http://fargalaxy.al.ru/" TargetMode="External"/><Relationship Id="rId3" Type="http://schemas.openxmlformats.org/officeDocument/2006/relationships/hyperlink" Target="http://space.rin.ru/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352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Ч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то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 та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ко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е ко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ме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т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5636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айты о кометах:                    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astrolab.ru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fargalaxy.al.ru </a:t>
            </a:r>
            <a:br>
              <a:rPr sz="1000"/>
            </a:b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space.rin.ru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est" descr=""/>
          <p:cNvPicPr/>
          <p:nvPr/>
        </p:nvPicPr>
        <p:blipFill>
          <a:blip r:embed="rId4"/>
          <a:stretch/>
        </p:blipFill>
        <p:spPr>
          <a:xfrm>
            <a:off x="4648320" y="228600"/>
            <a:ext cx="4270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91120" y="1600200"/>
            <a:ext cx="472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сравнению с размерами нашей планеты, размеры ядра кометы, как правило, относительно небольшие – обычно несколько километров в диаметр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акого размера обычно бывают коме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312408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вот хвост кометы, когда она совсем близко подлетает к Солнцу, может растянуться на миллионы и даже десятки и сотни миллионов километ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hb3_26_97-50mmreflectlake" descr=""/>
          <p:cNvPicPr/>
          <p:nvPr/>
        </p:nvPicPr>
        <p:blipFill>
          <a:blip r:embed="rId1"/>
          <a:stretch/>
        </p:blipFill>
        <p:spPr>
          <a:xfrm>
            <a:off x="0" y="1130400"/>
            <a:ext cx="38606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4479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ычно их делят на короткопереодические и долгопереодические кометы. Это значит, что некоторые кометы – короткопереодические -  прилетают к Солнцу относительно часто – хотя бы один раз за 200 ле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06002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16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колько всего комет известно людя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7621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трономам известно довольно много ком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876920"/>
            <a:ext cx="876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строномам известно 72 кометы обегающие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лнце за период меньший чем 30 ле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еще известно более 200 комет которые пролетают вокруг Солнца довольно ред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42900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долгопереодические прилетают к Солнцу, по нашим Земным понятиям очень редко. Например комета Хейла-Боппа (это она на этой фотографии) пролетает мимо Земли примерно один раз в 2000 лет. Она пролетала в 1997 году и в следующий раз прилетит только в 4100 году. А есть такие кометы, которые прилетают раз в 7000 лет и даже еще реж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88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на самом деле комет конечно гораздо больше. Ведь люди могут заметить их только тогда, когда они начинают приближаться к Земле. И как знать, вдруг и ты когда-нибудь откроешь какую-нибудь комету. Если будешь внимательно смотреть на небо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62720" y="685800"/>
            <a:ext cx="3581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мая известная – это комета Галлея, прилетающая к Солнцу каждые 76 лет.  Когда эта комета в прошлый раз пролетала мимо Земли   ученые – астрономы направили к ней исследовательские космические аппараты, которые сделали много фотографий кометы, взяли пробы ее веществ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1500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явление этой кометы в 1758 году предсказал Эдмонд Галлей за 53 года до того, как это событие на самом деле произошло. И когда комета на самом деле появилась люди назвали ее в честь Галлея. До Галлея люди и не подозревали, что появляющееся на небе каждые 76 лет небесное тело – не разные кометы, а одна и та ж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9528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ледующий раз комета Галлея будет пролетать мимо Земли в 2061 год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alley1986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3929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038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а комета интересна тем, что ее ядро очень темное – темнее чем каменный уголь. Комета Галлея является одним из самых темных объектов в Солнечной Системе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акая комета самая известна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0007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5105160" cy="3485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ожет ли Земля столкнуться с комет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06668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ая вероятность есть, но она очень и очень мала. Кроме того, для Земли было-бы неприятно столкнуться именно с ядром кометы, а вот через кометные хвосты Земля пролетает регулярно. И в таких случаях с Земли можно увидеть очень захватывающее явление – метеоритный дождь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124080"/>
            <a:ext cx="297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которые ученые предполагают, что гибель динозавров была вызвана столкновением Земли и ядра не слишком большой коме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уть больше 10 лет назад, в 1994 году, одна из комет, (ее называли комета Шумахера-Леви – 9) столкнулась с Юпитером. Точные размеры ее ядра ученым не известны, но предполагают, что он был около 10 км в диаметр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L9%20u%20Juptera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319200" cy="4775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066680"/>
            <a:ext cx="42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этой фотографии видно как комета, разрушившись на несколько кусочков, приближается к Юпитер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L9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292640" cy="404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19720" y="5181480"/>
            <a:ext cx="47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здесь видны следы на Юпитере – это последствия столкновения. Такие пятна на Юпитере были видны еще целый го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324480" y="1752480"/>
            <a:ext cx="2133720" cy="3429000"/>
            <a:chOff x="6324480" y="1752480"/>
            <a:chExt cx="2133720" cy="3429000"/>
          </a:xfrm>
        </p:grpSpPr>
        <p:sp>
          <p:nvSpPr>
            <p:cNvPr id="122" name=""/>
            <p:cNvSpPr/>
            <p:nvPr/>
          </p:nvSpPr>
          <p:spPr>
            <a:xfrm flipV="1">
              <a:off x="6324480" y="3200040"/>
              <a:ext cx="609840" cy="198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324480" y="2361960"/>
              <a:ext cx="1447920" cy="2819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324480" y="1981080"/>
              <a:ext cx="1905120" cy="320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400800" y="1752480"/>
              <a:ext cx="2057400" cy="335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keya-Seki" descr=""/>
          <p:cNvPicPr/>
          <p:nvPr/>
        </p:nvPicPr>
        <p:blipFill>
          <a:blip r:embed="rId1"/>
          <a:stretch/>
        </p:blipFill>
        <p:spPr>
          <a:xfrm>
            <a:off x="0" y="0"/>
            <a:ext cx="45086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495680" y="0"/>
            <a:ext cx="464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комета Икея-Секи. Она пролетала мимо Солнца в 1965 году и запомнилась как очень яркая комета – ее было видно даже днем – если закрыть Солнце ладошко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1337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сиво, не правда 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304920"/>
            <a:ext cx="8991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огда, обычно раз в несколько лет, на ночном небе становится видно новое небесное тело, напоминающее вытянутый комок светящегося тумана. Сначала оно становится все ярче и ярче, а затем начинает бледнеть. Затем, через несколько дней, а иногда и недель, оно исчезает совсем. Так с нашей Земли мы видим коме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6008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7712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met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2968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3962520"/>
            <a:ext cx="3733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еты – это вечные странники. По своей собственной орбите они кружат вокруг Солнца, то приближаясь к нему, то наоборот удаляясь от нег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32767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9880" y="3429000"/>
            <a:ext cx="4952880" cy="3024360"/>
            <a:chOff x="3809880" y="3429000"/>
            <a:chExt cx="4952880" cy="3024360"/>
          </a:xfrm>
        </p:grpSpPr>
        <p:pic>
          <p:nvPicPr>
            <p:cNvPr id="50" name="Comet%20tail" descr=""/>
            <p:cNvPicPr/>
            <p:nvPr/>
          </p:nvPicPr>
          <p:blipFill>
            <a:blip r:embed="rId2"/>
            <a:stretch/>
          </p:blipFill>
          <p:spPr>
            <a:xfrm>
              <a:off x="4057200" y="3962520"/>
              <a:ext cx="462276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81680" y="342900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Орбита Юпите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9880" y="350532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Отбита комет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55840" y="4876920"/>
              <a:ext cx="123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Verdana"/>
                </a:rPr>
                <a:t>Солнц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029360" y="5105520"/>
              <a:ext cx="49500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854480" y="3733920"/>
              <a:ext cx="247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83040" y="3809880"/>
              <a:ext cx="49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343400" y="1522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Что такое комет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5627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ежду прилетами одной и той же кометы к Солнцу иногда могут проходить сотни земных л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9144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еты – это небесные тела, одна из составных частей нашей Солнечной систем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19810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мо слово «комета» можно перевести как «косматая звезда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history_jotto" descr=""/>
          <p:cNvPicPr/>
          <p:nvPr/>
        </p:nvPicPr>
        <p:blipFill>
          <a:blip r:embed="rId1"/>
          <a:stretch/>
        </p:blipFill>
        <p:spPr>
          <a:xfrm>
            <a:off x="0" y="6858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15000" y="914400"/>
            <a:ext cx="3429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мотри на этот гобелен «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Поклонение трёх святых царей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»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флорентийского художника Джотто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(1266/67 -1337)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заднем плане отчетливо видна звезда с хвостом. Искусствоведы и ученые полагают, что это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комет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Галле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 средних веков некоторые богословы считают, что звезда, появившаяся на Востоке в момент рождения Иисуса Христа была именно пролетавшей мимо Земли кометой Галлея. Хотя, это не более, чем одна из верс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62940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С сайта: 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http://encyclopedia.astrologer.ru/cgi-bin/index?V/vifleemskaya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5228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ак люди раньше относились к кометам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28600"/>
            <a:ext cx="838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в целом в средние века люди очень боялись этого явления и думали, что с появлением на небе кометы на землю обрушатся разные неприятности. И возникающие эпидемии страшных болезней, и проливные дожди с градом, которые уничтожали посевы, люди объясняли именно появлением в небе новой коме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06002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9343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6009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57600" y="914400"/>
            <a:ext cx="5486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дали от Солнца комета почти ничем не отличается от обычного астероида – она выглядит просто огромным снежком из замерзшего льда, космической пыли и кусочков различных горных пород (например железа). Надо сказать, что лед из которого состоят кометы не совсем наш, земной лед – ее лед – это замерзшая смесь из разных газов, (метана, аммиака, углекислого газа) и некоторого количества воды. Этот снежок – ядро комет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2860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Что у кометы внутри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Comet%20nucleus" descr=""/>
          <p:cNvPicPr/>
          <p:nvPr/>
        </p:nvPicPr>
        <p:blipFill>
          <a:blip r:embed="rId2"/>
          <a:stretch/>
        </p:blipFill>
        <p:spPr>
          <a:xfrm>
            <a:off x="5587920" y="3263760"/>
            <a:ext cx="3556080" cy="3594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8098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тем, по мере приближения к Солнцу газ начинает испаряться и у кометы появляется как-бы газовое одеяло. Астрономы называют его ком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518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только подлетев к Солнцу еще ближе комета обзаводится своим замечательным хвост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8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очему комета светится, а все остальные астероиды н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876920"/>
            <a:ext cx="464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прочие астероиды состоят в основном из каменистых и железных пород, которые отражают свет гораздо хуже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06007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49800"/>
          </a:xfrm>
          <a:prstGeom prst="rect">
            <a:avLst/>
          </a:prstGeom>
          <a:ln w="0">
            <a:noFill/>
          </a:ln>
        </p:spPr>
      </p:pic>
      <p:pic>
        <p:nvPicPr>
          <p:cNvPr id="76" name="10000" descr=""/>
          <p:cNvPicPr/>
          <p:nvPr/>
        </p:nvPicPr>
        <p:blipFill>
          <a:blip r:embed="rId2"/>
          <a:stretch/>
        </p:blipFill>
        <p:spPr>
          <a:xfrm>
            <a:off x="0" y="3967200"/>
            <a:ext cx="3753000" cy="2890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600200"/>
            <a:ext cx="4800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амом деле сама комета не светится. Она как и остальные небесные тела входящие в Солнечную систему только отражает свет. Но поскольку она состоит в основном из льда, от которого свет отражается почти так же хорошо как от зеркала, то с Земли кажется будто комета свет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met%20tail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647960" cy="2713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15228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Откуда у кометы берется хвост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838080"/>
            <a:ext cx="37339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ы уже знаешь, что ядро кометы состоит из комьев льда, пыли и прочего космического мусора. Пока комета находится далеко о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а, за пределами орбиты Юпитера, она так и выглядит – большой – пребольшой комок ледяной гряз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962520"/>
            <a:ext cx="5410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чем ближе она приближается к Солнцу, тем больш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е ее нагревает. Постепенно лед начинает подтаивать и вместе с пылью и грязью отлетать от кометы - испаряться. Так и образуется у кометы хвост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362320" y="2895120"/>
            <a:ext cx="4038120" cy="762480"/>
            <a:chOff x="2362320" y="2895120"/>
            <a:chExt cx="4038120" cy="762480"/>
          </a:xfrm>
        </p:grpSpPr>
        <p:sp>
          <p:nvSpPr>
            <p:cNvPr id="83" name=""/>
            <p:cNvSpPr/>
            <p:nvPr/>
          </p:nvSpPr>
          <p:spPr>
            <a:xfrm flipH="1" flipV="1">
              <a:off x="2362320" y="2895120"/>
              <a:ext cx="251136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873680" y="3200400"/>
              <a:ext cx="152676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485040" y="4724280"/>
            <a:ext cx="265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ем ближе комета подлетает к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у, тем длиннее становится ее хвос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19920" y="3048120"/>
            <a:ext cx="1066680" cy="1676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7772400" y="2285640"/>
            <a:ext cx="914400" cy="251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09588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Хвост кометы всегда направлен «от Солнца»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и поэтому, когда комета удаляется – получается, что она летит хвостом впере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6094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бита Юпи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8000640" y="838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Heila-Bopa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3830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колько хвостов может быть у коме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дивительно, но иногда у кометы хвост не один, а целых два. Или даже три. Это происходит потому, что ядро кометы состоит из разных частиц и Солнечный ветер по разному сгоняет с него пыль, газ и вкрапления металлов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1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это фотографии комета Хейли-Боппа, пролетавшая мимо Солнца в 1997 году. У нее, как видишь, как раз два хвоста.                                                               Ярко белый – это отлетающая пыль, а синий – газ, испаряющийся с ядра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1:40:36Z</dcterms:created>
  <dc:creator>wl</dc:creator>
  <dc:description/>
  <dc:language>en-US</dc:language>
  <cp:lastModifiedBy>Elena</cp:lastModifiedBy>
  <dcterms:modified xsi:type="dcterms:W3CDTF">2006-04-11T21:39:37Z</dcterms:modified>
  <cp:revision>20</cp:revision>
  <dc:subject/>
  <dc:title>PowerPoint Presentation</dc:title>
</cp:coreProperties>
</file>