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335-869C-451B-8126-81E463AE67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9AF-08BB-4E3B-B466-4133CDFA0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D2BD-018F-4D95-B299-554B6789C9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AE8-5B33-400E-9A17-0D7FF52CE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45A8-B76D-4CE7-8DF5-CEAE54C9CB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A5E2-2771-4A0B-ADC5-08C550DB42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CD4-E903-44AA-B790-7430B4B040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1984-D559-4142-990B-09F40A3BD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794-AB76-4490-A280-900E1FE86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5235-BE91-44FD-BB96-7BAF66353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D03-F7B1-4613-BFDC-E0CF400A5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0D8-B219-41BB-A376-5411CCD331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AB03-5EDF-4627-85BB-4123BCC664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2553-68BA-447C-8259-5463FD5466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A88-8D87-4E07-928D-558BC7F9E7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CCD1-09C7-42C5-B0A5-20CF4E5EFA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D093-59EE-4688-9072-0DF766E3D9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EAB1-2BD1-4347-AB2E-6DE0E76360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0B94-A9D8-4679-883E-22A4B32DFE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91F-5EFC-4179-8424-91AB81E971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08F5-7C1F-4269-BCFD-DC77786837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A0E-8C03-46B8-BE5B-91D1F5738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8C9-3B65-47E0-928C-6CC8570E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D77-F272-4E72-9DC2-A7B1F86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F1A-366C-4B38-A05A-28C2B1F1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66-E5C9-486D-9FE3-E6B21C71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BA5D-EC8F-4BCD-9200-891790E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8AE9-A1F3-4027-98BA-4A49BD7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77A0-5215-42E3-9D4C-C33A0C5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8F00-2983-43C7-B003-4F3FFA0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FD2-7266-4353-986A-A910DF7F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D8FC-BB22-49ED-B97B-731E58B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B23-5FD0-4732-A4A7-0F595ED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BFE-5528-4006-815E-5FD7604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E2BE-ED8D-4443-8787-6639D8E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D8E0-D09B-46CB-B4A2-4D34DE5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08B-28D6-4F2A-9040-E5D946A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9B70-63FB-44B3-8D19-6C1E25A3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D55-EDB4-4943-8B12-8446A9A5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A5D15-2DA8-4385-BBCE-CE140269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96BD1-5ACB-4B07-9028-5996D56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8D459-5960-4F7F-8595-72864BC8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C002E-3A9D-4581-952A-DEE1563F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643A3-7498-4509-A0C2-2493A7E3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7CA-1C3F-49BC-9ADD-A4123FD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ABB5E-2047-4639-8EA6-CCF317F5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E5565-A8C6-43B1-8CC1-F17B8AA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72C31-5528-4A22-B84E-1A20DC4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43DE2-DB28-4EF0-860B-2347CE2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122D7-BFDB-428A-8572-0CEC1F1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ACDA3-025F-408A-8AF0-9BDD4632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6474C-89C2-49AB-B96F-A0AFD78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5131-F400-4F02-900E-4BD7A721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21DF-AE7C-4181-AA9C-6281A9D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FCEE-D191-46AB-816B-DBFD4237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8DA-2B5F-49DC-8F3A-799022A5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7985-6EB3-41A7-81B0-6814EAE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5DFA-C9F7-4985-B3F6-93A6D19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AF3B-1A37-40EB-B029-C570D2A6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4AA09-07EE-420B-902D-90D48FE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7B4A-8FB3-48AB-9200-15E2E98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7629-1B72-425A-845D-5F0D9D4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E6FB-A3C9-4412-8879-8270185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22EA-DAE1-4B42-969B-15213395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C6F7-AA8C-4208-AEF5-DA0C00E7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11D-EB20-4136-ABC3-24D7CC25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61A-F916-45AF-A1C7-7D0943E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E36-8834-42BF-B827-7091D683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6A6-DB4C-4C9A-A16F-99C50D0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C00-8004-4C59-B65F-234E54A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6D2-ECBF-4FF0-9D3E-6F32BCCC6F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7D9-02A8-4C8E-B466-696AB0A218D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306-EEBD-458C-98BC-4D028E04A13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83D-BA73-47DC-9CE6-098F0D35781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000160"/>
            <a:ext cx="8458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утешествие в страну Металлию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Обобщающий урок в 9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по теме «Металлы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Составила Будаева Л.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00200"/>
            <a:ext cx="55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Элемент четвертой групп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еред всеми на вид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тоит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исправить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Будет деспот наяву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E:\рисунки к проектам\школа анимир\earthy_sick_md_wht.gif"/>
          <p:cNvPicPr/>
          <p:nvPr/>
        </p:nvPicPr>
        <p:blipFill>
          <a:blip r:embed="rId1"/>
          <a:stretch/>
        </p:blipFill>
        <p:spPr>
          <a:xfrm>
            <a:off x="5786280" y="2428920"/>
            <a:ext cx="3095640" cy="2816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Picture 2" descr="E:\рисунки к проектам\школа анимир\book_page_flip_md_wht.gif"/>
          <p:cNvPicPr/>
          <p:nvPr/>
        </p:nvPicPr>
        <p:blipFill>
          <a:blip r:embed="rId1"/>
          <a:stretch/>
        </p:blipFill>
        <p:spPr>
          <a:xfrm>
            <a:off x="285840" y="2143080"/>
            <a:ext cx="3000240" cy="2500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499920" y="1600200"/>
            <a:ext cx="56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Два элемента химически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метаграмме я загадал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Х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элемент металлически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у а 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я уже неметалл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160020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Живут два братца в микромире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войства их полезно зна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восьмерка на квартир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квартира сорок пя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2" descr="E:\рисунки к проектам\школа анимир\microscope_focusing_md_wht.gif"/>
          <p:cNvPicPr/>
          <p:nvPr/>
        </p:nvPicPr>
        <p:blipFill>
          <a:blip r:embed="rId1"/>
          <a:stretch/>
        </p:blipFill>
        <p:spPr>
          <a:xfrm>
            <a:off x="6180120" y="928800"/>
            <a:ext cx="254952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14880" y="785880"/>
            <a:ext cx="49291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 Менделеев первым меня предсказал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Французский ученый название д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в нем первую букву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Место в системе мне быстро измениш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L03p8p03"/>
          <p:cNvPicPr/>
          <p:nvPr/>
        </p:nvPicPr>
        <p:blipFill>
          <a:blip r:embed="rId1"/>
          <a:stretch/>
        </p:blipFill>
        <p:spPr>
          <a:xfrm>
            <a:off x="0" y="1428840"/>
            <a:ext cx="4038480" cy="4357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Trebuchet MS"/>
              </a:rPr>
              <a:t>Проверк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Урал – у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мель – мед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титан – ти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хром – бром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 2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«Составь правильно линию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В    стране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Металлия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в    области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«металлургия»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переполох. Перепутались   химические   процессы.  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аша   задача: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правильно составить линию, т.е. сопоставить правую и левую части уравнения, а так же название процесса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ремя работы: 10 минут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3 </a:t>
            </a:r>
            <a:br>
              <a:rPr sz="4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Правильный выбор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Необходимо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: правильно составить код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Перед вами восем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тестов - вопросов о свойствах металлов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Trebuchet MS"/>
              </a:rPr>
              <a:t>Взаимопроверка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8 ответов- «5»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7 ответов- «4»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6, 5 ответов- «3»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4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Внимание! Коррозия металлов!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Что такое коррозия? Какие виды коррозии вы знаете?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При каких условиях коррозия протекает особенно интенсивн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 Как можно замедлить коррозию металлов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-360" y="499680"/>
            <a:ext cx="89298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Очень чистый цинк не растворяется в разбавленной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H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2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a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если прибавить несколько капель С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u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чинает энергично выделятся водород. Объясните это явле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Почему лужённый бак в местах повреждения быстро ржавеет, а оцинкованный при тех же условиях не разрушается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Почему   считают,   что   рядом   со   стальной   коронкой   не рекомендуется ставить золоту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r>
              <a:rPr b="1" lang="ru-RU" sz="54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714680"/>
            <a:ext cx="86439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бобщить знания учащихся по теме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роверить степень усвоения материал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звивать интерес к предмету, смекалку, эрудицию, умение чётко формулировать и высказывать свои мысли, логически рассуждать, применять свои знания на практик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Кроссворд «Семь металлов»</a:t>
            </a:r>
            <a:br>
              <a:rPr sz="3600"/>
            </a:br>
            <a:r>
              <a:rPr b="1" lang="ru-RU" sz="2200" spc="-1" strike="noStrike">
                <a:solidFill>
                  <a:srgbClr val="424456"/>
                </a:solidFill>
                <a:latin typeface="Trebuchet MS"/>
              </a:rPr>
              <a:t>НАЙДИТЕ СЕМЬ МЕТАЛЛОВ, КОТОРЫЕ МОГУТ РАСПОЛОЖИТЬСЯ ПО ГОРИЗОНТАЛИ (5) И ПО ДИАГОНАЛИ (2)</a:t>
            </a:r>
            <a:br>
              <a:rPr sz="36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571840"/>
          <a:ext cx="8229600" cy="3857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5.  Домашнее задание: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2560" y="1999800"/>
            <a:ext cx="87152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россворд «металлы» для группы.   Каждый самостоятельно   составляет    кроссворд   по   теме   «металлы», состоящий из не менее 20 тер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E:\рисунки к проектам\2059762.gif"/>
          <p:cNvPicPr/>
          <p:nvPr/>
        </p:nvPicPr>
        <p:blipFill>
          <a:blip r:embed="rId1"/>
          <a:stretch/>
        </p:blipFill>
        <p:spPr>
          <a:xfrm>
            <a:off x="2857680" y="3475080"/>
            <a:ext cx="3214440" cy="338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928800"/>
            <a:ext cx="571500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емь металлов создал све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о числу семи план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Дал нам космос на добр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Медь, железо, серебро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Злато, олово, свине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ын мой, сера им отец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 спеши, мой сын, узн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Всем им ртуть родная мать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L03p2p01"/>
          <p:cNvPicPr/>
          <p:nvPr/>
        </p:nvPicPr>
        <p:blipFill>
          <a:blip r:embed="rId1"/>
          <a:stretch/>
        </p:blipFill>
        <p:spPr>
          <a:xfrm>
            <a:off x="5357880" y="571680"/>
            <a:ext cx="3500280" cy="5715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14400" y="285840"/>
            <a:ext cx="82296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Цель нашего путешествия-соревнования повторить, систематизировать ваши знания о металлах, их свойствах, способах получения, коррозии металлов и </a:t>
            </a: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способах борьбы с ней.</a:t>
            </a: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L03p1p07"/>
          <p:cNvPicPr/>
          <p:nvPr/>
        </p:nvPicPr>
        <p:blipFill>
          <a:blip r:embed="rId1"/>
          <a:stretch/>
        </p:blipFill>
        <p:spPr>
          <a:xfrm>
            <a:off x="762120" y="2143080"/>
            <a:ext cx="7619760" cy="471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Наше путешествие будет проходить по плану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785960"/>
            <a:ext cx="91440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  Приглашение в путешествии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2.  Разминка.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3.   « Составь правильно линию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4.   «Правильный выбор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5.   « Внимание! Коррозия»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6.  Домашнее задание.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7.  Подведение итогов (4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 1. Разминка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ше первое задание 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метаграмм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 Нужно не только назвать зашифрованные металлы. Но и определить к каким элементам: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, р-, или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элементам они относятся, какова активность этих металлов. На выполнение задания (5 мин.). Побеждает экипаж, который первый разгадает метаграммы и сможет ответить на все вопросы. Члены других экипажей могут дополнять ответы сопер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357120"/>
            <a:ext cx="89298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етаграммы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– это загадки, в которых в которых зашифрованы различные слова, состоящие из одного и того же числа букв. Разгадав одно  из слов метаграммы, нужно заменить в нем одну или несколько букв так, чтобы получилось новое слово по смыслу загад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E:\рисунки к проектам\dmbtest.gif"/>
          <p:cNvPicPr/>
          <p:nvPr/>
        </p:nvPicPr>
        <p:blipFill>
          <a:blip r:embed="rId1"/>
          <a:stretch/>
        </p:blipFill>
        <p:spPr>
          <a:xfrm>
            <a:off x="5357880" y="2857680"/>
            <a:ext cx="2500200" cy="357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:\рисунки к проектам\ландшафт\orange_rock.jpg"/>
          <p:cNvPicPr/>
          <p:nvPr/>
        </p:nvPicPr>
        <p:blipFill>
          <a:blip r:embed="rId1"/>
          <a:stretch/>
        </p:blipFill>
        <p:spPr>
          <a:xfrm>
            <a:off x="0" y="1000080"/>
            <a:ext cx="4495680" cy="4857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0" y="999720"/>
            <a:ext cx="45720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Я - горная область на нашей планет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всюду известны богатства мо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о еже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мне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реди актиноидов меня уж ищ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285560"/>
            <a:ext cx="4857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Корабли меня обходя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Знает лоцман наизу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заменя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То металлом окажусь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E:\рисунки к проектам\побережье\hurricaneship.jpg"/>
          <p:cNvPicPr/>
          <p:nvPr/>
        </p:nvPicPr>
        <p:blipFill>
          <a:blip r:embed="rId1"/>
          <a:stretch/>
        </p:blipFill>
        <p:spPr>
          <a:xfrm>
            <a:off x="5105520" y="135720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05-10T17:24:12Z</dcterms:modified>
  <cp:revision>11</cp:revision>
  <dc:subject/>
  <dc:title>Путешествие в страну Металлию</dc:title>
</cp:coreProperties>
</file>