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026C-7BF7-4F5F-8A9E-D3EAE83591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4B77-EBB3-45D0-A6C7-4A69DC0925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C1A-35E8-44B0-BDB4-6ACFE3DBB9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3865-C375-4454-B37B-52143322AF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DD41-862F-449E-BB5B-5721C266E0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3280-0D00-4DF5-B7F7-14E12E330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7B0F-D6DA-40A3-95EC-DD41425B48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67E-C6B6-4C12-9C14-D9A5CA789A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2544-8882-4B92-830F-364FEA519A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7BC7-F024-4A0A-90F8-F2ABC4667E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ED57-A55C-40C2-9904-0396E32724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6ED-682A-40A6-96BD-6E471E6978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2A6A-B968-407E-99B0-82797C72F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F655-8E03-43DC-ADA7-B9E9CCC5E4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F5F7-D1CB-447E-9490-A5EC3D212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4DF-68C1-409D-8114-2BA1E42AD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7F55-02E0-402F-A38D-794949DB76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B68D-528F-4C67-B340-6704F7B621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42F-AB11-4944-B2DC-A76850AAA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3F9C-DE04-46F2-B0F8-E850784B48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E40-8A77-4D26-B672-FADF588A5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C0BC-E401-4082-A566-08E25B4080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54C-DE70-4238-B691-F16D87D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5FF-64C4-47E2-9DCD-B59F493B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4EF-A3F7-466C-86AB-C3FE6FBF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A43-F256-4991-91A4-FEB9782F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8BB0-ED5E-4249-9AEA-484C5D7B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415-1455-4BED-971D-15F1103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7A79-E891-4805-A8C7-71BF1F5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558B-64C8-4833-93F6-EE08B4B8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E788-DE3D-401D-B588-AB208060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23D1-DFFE-43FC-98C6-803C45D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0F51-186C-4583-9585-3AEA6AE9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ED7-F9B5-4433-A2BF-CF1135E2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7708-AF32-4332-90E7-D80A0CA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9849-C377-4672-8A75-E21D024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E6ED-7C3B-408A-96D3-EFBEFFA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6961-2092-4FEF-A7AA-552940B7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0A41-2F27-4F4B-A233-25F29591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ADBF2-5EED-45BF-BBEA-BC888C1F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A953C-298B-402E-9D87-D1F8A01F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611A7-D276-4421-97FC-6AF6CCF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6EC7A-F2F5-4BFD-9ED1-7DB3276E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EB5E9-DB2E-4C5E-B720-D6D7955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74A-BC21-476E-A6E5-53C98EA9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DD0F6-30A6-4901-A166-B8475C23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F0B94-1756-40D8-8A1D-03DFD8A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0F4D9-FA17-4EC6-AA2E-53A650D6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D2D73-C3FD-4A24-B51F-52E62BE4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EC317-11CC-40A9-A288-46B9A96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34794-E552-45D5-83ED-89678032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39E5E-E975-4D11-A2E8-D3AABF91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AC68-738D-44A3-8E5F-AEBC2FB8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54EC-68E0-4C21-8FDE-660B13C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05EF-6145-4FFE-952F-D09E3047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8CD-B37B-46C2-8319-AE36ED87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39A0-3372-40CA-B96C-A19A84E2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9073-189B-4A74-92AD-1825FEBC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CEDF7-1AD2-4462-95B2-D5DE7AB1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397E8-44F9-463D-88AD-E68ADF3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FCA7-5E9F-48A3-B1F9-6B1A20B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D3EB-CB16-47B3-98D1-F0B8892F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5850-1651-44E9-BA00-D633610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51AD-6658-4F5B-ADF5-824E4064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7B66-1F8A-4AB8-9B8B-026ED15D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79D-DA86-41E8-9D59-12FB5ABA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B33-93AE-4B51-A845-C83BF72C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FC1-8724-4410-B172-C5416C2E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D99-3A8D-49F8-BE42-B44FC3F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5B4-E20D-41DD-9A91-4B141260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9995-FCE5-477B-A58B-16C9B6BD11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ADF7-9EE9-4B02-B62B-60366DDDC6D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7DA6-36B8-4240-A6FC-60FBD0D43F0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2C59-F3C7-43B1-B0C6-2903ED63E7C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000160"/>
            <a:ext cx="84582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Путешествие в страну Металлию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Обобщающий урок в 9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по теме «Металлы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Составила Будаева Л.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600200"/>
            <a:ext cx="55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3. Элемент четвертой групп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еред всеми на вид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тоит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исправить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Будет деспот наяву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E:\рисунки к проектам\школа анимир\earthy_sick_md_wht.gif"/>
          <p:cNvPicPr/>
          <p:nvPr/>
        </p:nvPicPr>
        <p:blipFill>
          <a:blip r:embed="rId1"/>
          <a:stretch/>
        </p:blipFill>
        <p:spPr>
          <a:xfrm>
            <a:off x="5786280" y="2428920"/>
            <a:ext cx="3095640" cy="2816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3" name="Picture 2" descr="E:\рисунки к проектам\школа анимир\book_page_flip_md_wht.gif"/>
          <p:cNvPicPr/>
          <p:nvPr/>
        </p:nvPicPr>
        <p:blipFill>
          <a:blip r:embed="rId1"/>
          <a:stretch/>
        </p:blipFill>
        <p:spPr>
          <a:xfrm>
            <a:off x="285840" y="2143080"/>
            <a:ext cx="3000240" cy="2500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499920" y="1600200"/>
            <a:ext cx="56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4. Два элемента химически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 метаграмме я загадал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Х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 элемент металлически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у а с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В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– я уже неметалл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360" y="160020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5. Живут два братца в микромире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войства их полезно зна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А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– восьмерка на квартир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У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 квартира сорок пя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2" descr="E:\рисунки к проектам\школа анимир\microscope_focusing_md_wht.gif"/>
          <p:cNvPicPr/>
          <p:nvPr/>
        </p:nvPicPr>
        <p:blipFill>
          <a:blip r:embed="rId1"/>
          <a:stretch/>
        </p:blipFill>
        <p:spPr>
          <a:xfrm>
            <a:off x="6180120" y="928800"/>
            <a:ext cx="2549520" cy="3071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14880" y="785880"/>
            <a:ext cx="492912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6.   Менделеев первым меня предсказал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Французский ученый название д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Если в нем первую букву замениш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Место в системе мне быстро измениш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L03p8p03"/>
          <p:cNvPicPr/>
          <p:nvPr/>
        </p:nvPicPr>
        <p:blipFill>
          <a:blip r:embed="rId1"/>
          <a:stretch/>
        </p:blipFill>
        <p:spPr>
          <a:xfrm>
            <a:off x="0" y="1428840"/>
            <a:ext cx="4038480" cy="4357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Trebuchet MS"/>
              </a:rPr>
              <a:t>Проверк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Урал – ура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мель – медь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титан – тира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хром – бром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галлий – талл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 algn="ctr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Georgia"/>
              </a:rPr>
              <a:t>галлий – талл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Задание № 2. 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«Составь правильно линию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В    стране    </a:t>
            </a: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Металлия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  в    области    </a:t>
            </a: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«металлургия»   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переполох. Перепутались   химические   процессы.  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аша   задача: </a:t>
            </a: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  правильно составить линию, т.е. сопоставить правую и левую части уравнения, а так же название процесса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ремя работы: 10 минут.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ние №3 </a:t>
            </a:r>
            <a:br>
              <a:rPr sz="4000"/>
            </a:b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«Правильный выбор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1" lang="ru-RU" sz="4000" spc="-1" strike="noStrike">
                <a:solidFill>
                  <a:srgbClr val="002060"/>
                </a:solidFill>
                <a:latin typeface="Georgia"/>
              </a:rPr>
              <a:t>Необходимо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: правильно составить код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Перед вами восем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тестов - вопросов о свойствах металлов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Trebuchet MS"/>
              </a:rPr>
              <a:t>Взаимопроверка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Georgia"/>
              </a:rPr>
              <a:t>Критерии оценок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8 ответов- «5»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7 ответов- «4»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Georgia"/>
              </a:rPr>
              <a:t>6, 5 ответов- «3»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Задание №4. </a:t>
            </a: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Внимание! Коррозия металлов!»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85724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1. Что такое коррозия? Какие виды коррозии вы знаете?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2. При каких условиях коррозия протекает особенно интенсивн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3.  Как можно замедлить коррозию металлов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50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-360" y="499680"/>
            <a:ext cx="8929800" cy="58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4. Очень чистый цинк не растворяется в разбавленной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H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2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SO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4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, 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a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если прибавить несколько капель С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uSO</a:t>
            </a:r>
            <a:r>
              <a:rPr b="0" lang="ru-RU" sz="3200" spc="-1" strike="noStrike" baseline="-25000">
                <a:solidFill>
                  <a:srgbClr val="002060"/>
                </a:solidFill>
                <a:latin typeface="Georgia"/>
              </a:rPr>
              <a:t>4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чинает энергично выделятся водород. Объясните это явлени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5. Почему лужённый бак в местах повреждения быстро ржавеет, а оцинкованный при тех же условиях не разрушается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6.  Почему   считают,   что   рядом   со   стальной   коронкой   не рекомендуется ставить золотую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r>
              <a:rPr b="1" lang="ru-RU" sz="54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714680"/>
            <a:ext cx="86439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бобщить знания учащихся по теме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роверить степень усвоения материала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азвивать интерес к предмету, смекалку, эрудицию, умение чётко формулировать и высказывать свои мысли, логически рассуждать, применять свои знания на практик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Кроссворд «Семь металлов»</a:t>
            </a:r>
            <a:br>
              <a:rPr sz="3600"/>
            </a:br>
            <a:r>
              <a:rPr b="1" lang="ru-RU" sz="2200" spc="-1" strike="noStrike">
                <a:solidFill>
                  <a:srgbClr val="424456"/>
                </a:solidFill>
                <a:latin typeface="Trebuchet MS"/>
              </a:rPr>
              <a:t>НАЙДИТЕ СЕМЬ МЕТАЛЛОВ, КОТОРЫЕ МОГУТ РАСПОЛОЖИТЬСЯ ПО ГОРИЗОНТАЛИ (5) И ПО ДИАГОНАЛИ (2)</a:t>
            </a:r>
            <a:br>
              <a:rPr sz="36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2571840"/>
          <a:ext cx="8229600" cy="3857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800" spc="-1" strike="noStrike">
                <a:solidFill>
                  <a:srgbClr val="424456"/>
                </a:solidFill>
                <a:latin typeface="Trebuchet MS"/>
              </a:rPr>
              <a:t>5.  Домашнее задание: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42560" y="1999800"/>
            <a:ext cx="87152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россворд «металлы» для группы.   Каждый самостоятельно   составляет    кроссворд   по   теме   «металлы», состоящий из не менее 20 терми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3" descr="E:\рисунки к проектам\2059762.gif"/>
          <p:cNvPicPr/>
          <p:nvPr/>
        </p:nvPicPr>
        <p:blipFill>
          <a:blip r:embed="rId1"/>
          <a:stretch/>
        </p:blipFill>
        <p:spPr>
          <a:xfrm>
            <a:off x="2857680" y="3475080"/>
            <a:ext cx="3214440" cy="338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928800"/>
            <a:ext cx="571500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емь металлов создал све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о числу семи план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Дал нам космос на добро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Медь, железо, серебро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Злато, олово, свинец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Сын мой, сера им отец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И спеши, мой сын, узнать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Всем им ртуть родная мать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L03p2p01"/>
          <p:cNvPicPr/>
          <p:nvPr/>
        </p:nvPicPr>
        <p:blipFill>
          <a:blip r:embed="rId1"/>
          <a:stretch/>
        </p:blipFill>
        <p:spPr>
          <a:xfrm>
            <a:off x="5357880" y="571680"/>
            <a:ext cx="3500280" cy="5715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14400" y="285840"/>
            <a:ext cx="82296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Georgia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Цель нашего путешествия-соревнования повторить, систематизировать ваши знания о металлах, их свойствах, способах получения, коррозии металлов и </a:t>
            </a:r>
            <a:r>
              <a:rPr b="1" i="1" lang="ru-RU" sz="2800" spc="-1" strike="noStrike">
                <a:solidFill>
                  <a:srgbClr val="ffc000"/>
                </a:solidFill>
                <a:latin typeface="Georgia"/>
              </a:rPr>
              <a:t>способах борьбы с ней.</a:t>
            </a:r>
            <a:r>
              <a:rPr b="0" lang="ru-RU" sz="2800" spc="-1" strike="noStrike">
                <a:solidFill>
                  <a:srgbClr val="ffc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2" descr="L03p1p07"/>
          <p:cNvPicPr/>
          <p:nvPr/>
        </p:nvPicPr>
        <p:blipFill>
          <a:blip r:embed="rId1"/>
          <a:stretch/>
        </p:blipFill>
        <p:spPr>
          <a:xfrm>
            <a:off x="762120" y="2143080"/>
            <a:ext cx="7619760" cy="471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Наше путешествие будет проходить по плану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1785960"/>
            <a:ext cx="91440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1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.  Приглашение в путешествии (3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2.  Разминка. (5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3.   « Составь правильно линию» (10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4.   «Правильный выбор» (10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5.   « Внимание! Коррозия» (5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6.  Домашнее задание. (3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7.  Подведение итогов (4 мин.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Задание № 1. Разминка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ше первое задание 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- 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метаграмм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. Нужно не только назвать зашифрованные металлы. Но и определить к каким элементам: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s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-, р-, или </a:t>
            </a: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-элементам они относятся, какова активность этих металлов. На выполнение задания (5 мин.). Побеждает экипаж, который первый разгадает метаграммы и сможет ответить на все вопросы. Члены других экипажей могут дополнять ответы сопер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357120"/>
            <a:ext cx="89298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Метаграммы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– это загадки, в которых в которых зашифрованы различные слова, состоящие из одного и того же числа букв. Разгадав одно  из слов метаграммы, нужно заменить в нем одну или несколько букв так, чтобы получилось новое слово по смыслу загад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E:\рисунки к проектам\dmbtest.gif"/>
          <p:cNvPicPr/>
          <p:nvPr/>
        </p:nvPicPr>
        <p:blipFill>
          <a:blip r:embed="rId1"/>
          <a:stretch/>
        </p:blipFill>
        <p:spPr>
          <a:xfrm>
            <a:off x="5357880" y="2857680"/>
            <a:ext cx="2500200" cy="357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:\рисунки к проектам\ландшафт\orange_rock.jpg"/>
          <p:cNvPicPr/>
          <p:nvPr/>
        </p:nvPicPr>
        <p:blipFill>
          <a:blip r:embed="rId1"/>
          <a:stretch/>
        </p:blipFill>
        <p:spPr>
          <a:xfrm>
            <a:off x="0" y="1000080"/>
            <a:ext cx="4495680" cy="4857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0" y="999720"/>
            <a:ext cx="45720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1. Я - горная область на нашей планете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Повсюду известны богатства мо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о ежели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Л 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Н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мне заменишь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реди актиноидов меня уж ищи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285560"/>
            <a:ext cx="4857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2. Корабли меня обходя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Знает лоцман наизуст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Если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Л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на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 заменя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То металлом окажусь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2" descr="E:\рисунки к проектам\побережье\hurricaneship.jpg"/>
          <p:cNvPicPr/>
          <p:nvPr/>
        </p:nvPicPr>
        <p:blipFill>
          <a:blip r:embed="rId1"/>
          <a:stretch/>
        </p:blipFill>
        <p:spPr>
          <a:xfrm>
            <a:off x="5105520" y="1357200"/>
            <a:ext cx="4038480" cy="4143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0-05-10T17:24:12Z</dcterms:modified>
  <cp:revision>11</cp:revision>
  <dc:subject/>
  <dc:title>Путешествие в страну Металлию</dc:title>
</cp:coreProperties>
</file>