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466E-569C-443E-89D0-569028AA3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9E1-6EC8-44D1-96CD-100755CC1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D64E-E719-48D6-8470-9B459EE2C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A16-29AA-4D22-B5A3-92D5A4730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09A6-1BF9-42D5-8560-802E15F1A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1E9-52B3-4832-B73B-1F54920BCC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9093-425B-419B-9EE0-5FFAAA5C7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441-3C03-4D5E-8893-9A8A68E011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B0B4-83EC-401A-89BF-FBB98D59A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FBC-1CD3-43BB-AFC0-5083ECAF0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A44-260A-41EE-B8B0-46086F28E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CD6-1042-441C-A5F1-CDE26A69E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3119-A5CB-49C6-B2B0-36DF23BBED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BFD-88C1-4FA9-BF94-DFB6AEA6AD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C7E-7042-4884-B8AE-039E3D77F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5B6-83A3-4A30-9CEB-9B1AF113D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1A8-246B-4E2D-94EE-F99B9F820E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7DFA-5BC4-4432-91A9-FC807BBB4E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6AB-4879-4443-844B-3B420955F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E6C-9C6E-4D77-9FDE-B3F59E6BE3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22D-065F-47FE-86BF-A0FAB2123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B564-A695-4662-8394-4EE48A1E8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0D1-A58A-48E3-8D2A-48095593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378-346D-40B9-8BA7-8A6B6E9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9B8-9AC4-4326-9E8D-E48E4658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E00-E9E1-4B90-B40A-A0DE4190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75A-0B4A-40AE-A5F1-D3C016ED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1982-BBC9-4665-BFCA-81BD93B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3C9D-C827-4105-9F8B-A546888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89C4-36FA-436A-8F05-4C6A621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ABB-B395-4594-95F9-7E9D9D4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F706-1547-4F03-9325-8F506B4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7A7F-D1A0-4773-8EC3-37CC138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3AB-7051-4E6C-8AD5-7B80AF60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753C-4CBB-4FE1-86C7-EE0FC09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FA56-4CE4-49CF-8A5C-829C93B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9841-9857-46C8-A91C-E4A9C319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A35-12AF-41A2-AFF8-CFC39EF7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42E1-6625-411A-B89C-DC8B6780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5730F-B3B3-4CBD-916D-23109E4E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E045F-6F25-4839-9CDC-841363B5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17415-0DDF-4F69-B173-AA99CD0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85CF2-C355-4088-B4E9-99BC3F7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26EC-C3F7-45C0-B7F8-E9F61F14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062-7B6C-4229-98AA-4FA9341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9F991-A655-40C8-B738-E76F522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493BE-9C03-41F2-ADB6-503E7AC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46044-ED9D-4D11-A482-76FCE5A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5BB4C-A492-463B-9228-08464B2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ABFB8-7385-49F1-834C-278D5CC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6FB85-C47B-4FB5-91EF-91113479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8B5D7-25B4-4CF5-A073-83D56152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0965-06FE-4295-ACCF-FDED4AA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A587-6CC9-43CE-8654-2F16197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A8AA-50F8-419A-9686-830648ED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11B-E356-4BAB-8459-63C6D44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6E0A-303B-4C0F-9A14-41DA464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31E7-3BE2-42F9-B525-DD514F1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241D-DEC7-46DB-9BD8-5DE87F3A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0029-87DC-4360-88A7-36653C5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81C8-22F4-40A4-ACCE-BB9B64CC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E064-9CC4-4AF6-B297-06277E3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5D9F-84B0-4716-BB44-B2DF6DF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6E53-0550-42D5-B360-82FE7CD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B464-BF48-41D9-87E5-E33B6FC1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B24-ACC0-4CB8-85E5-9E1C1A3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C7E-7765-4654-96C7-59E5CB7D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DE8-72E6-4EB7-B8E2-0E99CC4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4EA-2356-4FEC-A4C5-3E23802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475-18DB-4341-B551-661AF1F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26A-4175-4DF2-BF60-CBB871D0060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60F-F22B-42E2-9DE0-F6E3BE969CA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C2E3-ECFB-4ABA-B1F4-14DC92CB10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E8B-B4EF-4B7A-A89A-03710528E2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000160"/>
            <a:ext cx="8458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утешествие в страну Металлию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Обобщающий урок в 9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по теме «Металлы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Составила Будаева Л.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00200"/>
            <a:ext cx="55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Элемент четвертой групп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еред всеми на вид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тоит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исправить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Будет деспот наяву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E:\рисунки к проектам\школа анимир\earthy_sick_md_wht.gif"/>
          <p:cNvPicPr/>
          <p:nvPr/>
        </p:nvPicPr>
        <p:blipFill>
          <a:blip r:embed="rId1"/>
          <a:stretch/>
        </p:blipFill>
        <p:spPr>
          <a:xfrm>
            <a:off x="5786280" y="2428920"/>
            <a:ext cx="3095640" cy="2816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Picture 2" descr="E:\рисунки к проектам\школа анимир\book_page_flip_md_wht.gif"/>
          <p:cNvPicPr/>
          <p:nvPr/>
        </p:nvPicPr>
        <p:blipFill>
          <a:blip r:embed="rId1"/>
          <a:stretch/>
        </p:blipFill>
        <p:spPr>
          <a:xfrm>
            <a:off x="285840" y="2143080"/>
            <a:ext cx="3000240" cy="2500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499920" y="1600200"/>
            <a:ext cx="56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Два элемента химически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метаграмме я загадал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Х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элемент металлически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у а 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я уже неметалл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160020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Живут два братца в микромире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войства их полезно зна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восьмерка на квартир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квартира сорок пя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2" descr="E:\рисунки к проектам\школа анимир\microscope_focusing_md_wht.gif"/>
          <p:cNvPicPr/>
          <p:nvPr/>
        </p:nvPicPr>
        <p:blipFill>
          <a:blip r:embed="rId1"/>
          <a:stretch/>
        </p:blipFill>
        <p:spPr>
          <a:xfrm>
            <a:off x="6180120" y="928800"/>
            <a:ext cx="254952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14880" y="785880"/>
            <a:ext cx="49291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 Менделеев первым меня предсказал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Французский ученый название д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в нем первую букву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Место в системе мне быстро измениш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L03p8p03"/>
          <p:cNvPicPr/>
          <p:nvPr/>
        </p:nvPicPr>
        <p:blipFill>
          <a:blip r:embed="rId1"/>
          <a:stretch/>
        </p:blipFill>
        <p:spPr>
          <a:xfrm>
            <a:off x="0" y="1428840"/>
            <a:ext cx="4038480" cy="4357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Trebuchet MS"/>
              </a:rPr>
              <a:t>Проверк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Урал – у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мель – мед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титан – ти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хром – бром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 2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«Составь правильно линию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В    стране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Металлия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в    области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«металлургия»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переполох. Перепутались   химические   процессы.  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аша   задача: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правильно составить линию, т.е. сопоставить правую и левую части уравнения, а так же название процесса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ремя работы: 10 минут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3 </a:t>
            </a:r>
            <a:br>
              <a:rPr sz="4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Правильный выбор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Необходимо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: правильно составить код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Перед вами восем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тестов - вопросов о свойствах металлов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Trebuchet MS"/>
              </a:rPr>
              <a:t>Взаимопроверка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8 ответов- «5»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7 ответов- «4»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6, 5 ответов- «3»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4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Внимание! Коррозия металлов!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Что такое коррозия? Какие виды коррозии вы знаете?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При каких условиях коррозия протекает особенно интенсивн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 Как можно замедлить коррозию металлов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-360" y="499680"/>
            <a:ext cx="89298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Очень чистый цинк не растворяется в разбавленной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H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2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a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если прибавить несколько капель С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u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чинает энергично выделятся водород. Объясните это явле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Почему лужённый бак в местах повреждения быстро ржавеет, а оцинкованный при тех же условиях не разрушается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Почему   считают,   что   рядом   со   стальной   коронкой   не рекомендуется ставить золоту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r>
              <a:rPr b="1" lang="ru-RU" sz="54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714680"/>
            <a:ext cx="86439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бобщить знания учащихся по теме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роверить степень усвоения материал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звивать интерес к предмету, смекалку, эрудицию, умение чётко формулировать и высказывать свои мысли, логически рассуждать, применять свои знания на практик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Кроссворд «Семь металлов»</a:t>
            </a:r>
            <a:br>
              <a:rPr sz="3600"/>
            </a:br>
            <a:r>
              <a:rPr b="1" lang="ru-RU" sz="2200" spc="-1" strike="noStrike">
                <a:solidFill>
                  <a:srgbClr val="424456"/>
                </a:solidFill>
                <a:latin typeface="Trebuchet MS"/>
              </a:rPr>
              <a:t>НАЙДИТЕ СЕМЬ МЕТАЛЛОВ, КОТОРЫЕ МОГУТ РАСПОЛОЖИТЬСЯ ПО ГОРИЗОНТАЛИ (5) И ПО ДИАГОНАЛИ (2)</a:t>
            </a:r>
            <a:br>
              <a:rPr sz="36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571840"/>
          <a:ext cx="8229600" cy="3857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5.  Домашнее задание: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2560" y="1999800"/>
            <a:ext cx="87152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россворд «металлы» для группы.   Каждый самостоятельно   составляет    кроссворд   по   теме   «металлы», состоящий из не менее 20 тер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E:\рисунки к проектам\2059762.gif"/>
          <p:cNvPicPr/>
          <p:nvPr/>
        </p:nvPicPr>
        <p:blipFill>
          <a:blip r:embed="rId1"/>
          <a:stretch/>
        </p:blipFill>
        <p:spPr>
          <a:xfrm>
            <a:off x="2857680" y="3475080"/>
            <a:ext cx="3214440" cy="338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928800"/>
            <a:ext cx="571500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емь металлов создал све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о числу семи план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Дал нам космос на добр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Медь, железо, серебро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Злато, олово, свине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ын мой, сера им отец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 спеши, мой сын, узн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Всем им ртуть родная мать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L03p2p01"/>
          <p:cNvPicPr/>
          <p:nvPr/>
        </p:nvPicPr>
        <p:blipFill>
          <a:blip r:embed="rId1"/>
          <a:stretch/>
        </p:blipFill>
        <p:spPr>
          <a:xfrm>
            <a:off x="5357880" y="571680"/>
            <a:ext cx="3500280" cy="5715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14400" y="285840"/>
            <a:ext cx="82296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Цель нашего путешествия-соревнования повторить, систематизировать ваши знания о металлах, их свойствах, способах получения, коррозии металлов и </a:t>
            </a: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способах борьбы с ней.</a:t>
            </a: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L03p1p07"/>
          <p:cNvPicPr/>
          <p:nvPr/>
        </p:nvPicPr>
        <p:blipFill>
          <a:blip r:embed="rId1"/>
          <a:stretch/>
        </p:blipFill>
        <p:spPr>
          <a:xfrm>
            <a:off x="762120" y="2143080"/>
            <a:ext cx="7619760" cy="471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Наше путешествие будет проходить по плану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785960"/>
            <a:ext cx="91440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  Приглашение в путешествии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2.  Разминка.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3.   « Составь правильно линию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4.   «Правильный выбор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5.   « Внимание! Коррозия»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6.  Домашнее задание.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7.  Подведение итогов (4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 1. Разминка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ше первое задание 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метаграмм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 Нужно не только назвать зашифрованные металлы. Но и определить к каким элементам: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, р-, или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элементам они относятся, какова активность этих металлов. На выполнение задания (5 мин.). Побеждает экипаж, который первый разгадает метаграммы и сможет ответить на все вопросы. Члены других экипажей могут дополнять ответы сопер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357120"/>
            <a:ext cx="89298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етаграммы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– это загадки, в которых в которых зашифрованы различные слова, состоящие из одного и того же числа букв. Разгадав одно  из слов метаграммы, нужно заменить в нем одну или несколько букв так, чтобы получилось новое слово по смыслу загад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E:\рисунки к проектам\dmbtest.gif"/>
          <p:cNvPicPr/>
          <p:nvPr/>
        </p:nvPicPr>
        <p:blipFill>
          <a:blip r:embed="rId1"/>
          <a:stretch/>
        </p:blipFill>
        <p:spPr>
          <a:xfrm>
            <a:off x="5357880" y="2857680"/>
            <a:ext cx="2500200" cy="357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:\рисунки к проектам\ландшафт\orange_rock.jpg"/>
          <p:cNvPicPr/>
          <p:nvPr/>
        </p:nvPicPr>
        <p:blipFill>
          <a:blip r:embed="rId1"/>
          <a:stretch/>
        </p:blipFill>
        <p:spPr>
          <a:xfrm>
            <a:off x="0" y="1000080"/>
            <a:ext cx="4495680" cy="4857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0" y="999720"/>
            <a:ext cx="45720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Я - горная область на нашей планет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всюду известны богатства мо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о еже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мне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реди актиноидов меня уж ищ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285560"/>
            <a:ext cx="4857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Корабли меня обходя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Знает лоцман наизу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заменя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То металлом окажусь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E:\рисунки к проектам\побережье\hurricaneship.jpg"/>
          <p:cNvPicPr/>
          <p:nvPr/>
        </p:nvPicPr>
        <p:blipFill>
          <a:blip r:embed="rId1"/>
          <a:stretch/>
        </p:blipFill>
        <p:spPr>
          <a:xfrm>
            <a:off x="5105520" y="135720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05-10T17:24:12Z</dcterms:modified>
  <cp:revision>11</cp:revision>
  <dc:subject/>
  <dc:title>Путешествие в страну Металлию</dc:title>
</cp:coreProperties>
</file>