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suction.wav" ContentType="audio/x-wav"/>
  <Override PartName="/ppt/media/image2.png" ContentType="image/png"/>
  <Override PartName="/ppt/media/push.wav" ContentType="audio/x-wav"/>
  <Override PartName="/ppt/media/image14.png" ContentType="image/png"/>
  <Override PartName="/ppt/media/image13.jpeg" ContentType="image/jpeg"/>
  <Override PartName="/ppt/media/image11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media/image1.png" ContentType="image/png"/>
  <Override PartName="/ppt/media/whoosh.wav" ContentType="audio/x-wav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09CF-A126-4651-BBC2-9660A11A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B5E0-9256-491A-8494-A168167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D8816-AAAB-4B50-B4E3-2347E0D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C8402-83C6-4483-9B33-57AA88AA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2348B-8731-47F4-BD70-6CAB25F1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E3851-EF90-4E6B-B755-8BA4DCF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683BD-AE3F-4BDB-B6A7-78A9D2C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1037D-CF27-45FB-83A8-7793E58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16601-DD39-4121-A697-5363864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BF597-4A65-4C25-B7AF-F67DABDC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1CA8F3-F2E5-490D-922D-ACB261E5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490812-749C-4EFD-B89D-6649195B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0363-F7CD-4AB5-9353-90A44652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C4C009-D7A2-4C80-848F-EF2599D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73147-89B6-49D5-A4E0-2AA6C78E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7100B8-3A0D-4BA9-9ADA-6DF4B8C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FC893-1385-4E56-B3DA-0E7D998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9389D6-E7A8-4E29-977A-DCA893C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76C6B-EFBB-4C2D-97FA-C47F0F1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DE713-F760-4390-B95A-902D964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5E28F-F5EB-4F3A-8811-C71EA5E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12926-4289-4745-8621-0D76C33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2EE48-C659-4D1F-B87C-B608D7A2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EC66-7A57-4954-BB21-3DF3CD84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FA549-B915-48D6-9495-DE221062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CAA3D3-8DCC-4B74-9914-FCC3D436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78710-2018-46A1-B138-1ED7018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64C809-4BEF-4F11-B76A-63FAC512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A980E4-BD83-4CFF-84A9-4A7EDD4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314994-9085-4A3F-BAA4-32A1DAF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CA6609-7891-44D7-A718-59B04640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ADBAC4-1CF6-422A-8FBB-6C35F53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6E66BC-8386-4660-8C82-0B4AB3B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02C178-9A49-4087-A957-8741404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9AF4-78B8-47C8-BF09-F3261A30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CCA13D-31E3-4211-BADD-E6FE1B6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E8965-14EA-4675-A73C-35E2AC71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67CC47-AC31-42E6-A194-C6C5F13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C15B36-222F-4A57-BBF6-D5D19683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FDF94C-449B-4C13-85F2-F7D3A49B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471DF5-9F38-40A7-BCB9-FB4335D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981EE0-3ACB-46A8-B63E-A3B85E0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BC8F10-1227-43D4-B6CF-57884ED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AD803C-D018-4E4B-B57E-C223163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B4961D-725D-4C78-A2FB-B4F35AC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DBB4-C81D-4DB9-883D-3ACBC69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46B994-87C3-4EE2-8495-51AC065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62E19C-5A9C-429B-8242-7D0664F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4324E8-3B92-4B5A-893A-3F01CC33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46B84B-72C4-4FC0-9A9D-D698812E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EFD457-8093-455B-91C8-28CF009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008BF3-4E64-4EB0-B807-0540DDA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D9B9B-4BD0-4031-89D4-8651093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BEA4AC-557E-4554-BD2B-5EE3639A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36719-2A64-47FB-B212-56DBB655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DE0E43-BBBF-464A-BE1C-D476584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623-C75D-45D8-9A72-3286FC0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EE50EE-E388-4330-9A17-F86D7E63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7F33D5-1ED6-4AA9-A38E-1E93E8E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FD78F-CC87-4C76-B872-06D17CC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70E1C2-BA33-4AB7-A6FF-67983B89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83AAF0-62DA-488C-BC7D-4AAA6141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C1B17D-0832-4A0D-A56B-CC4493F2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59ECFA-62BF-4C58-8C94-39F56AAA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5197-4BAF-4CCF-9F8F-E2103C2A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1CA9-43AA-4A56-9410-07764CC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4DC-F01A-4780-9D42-3971F0BC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761C-453D-495A-840D-88606BB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E51A-1480-462F-A810-DACE9E4F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C84-B9E2-4EA8-A458-E6B5443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0097-5312-4279-9C14-83CE3AD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CCA6-4159-40A2-83AA-4721A956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4A7-70F7-4A16-B2DC-B015F490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58B7-9160-4055-92B5-EB05C516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D141F-9D40-4963-AF57-18B968DE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505A7-936B-488F-8229-8FE11DE1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D1C0C-D3FC-4467-AC72-7D5D6C40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D16B5-AB23-44FE-A786-CEFAC50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B2696-1FE1-4DC9-9232-722AF2A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5006-B042-4FE0-9A1F-4A34754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B22FB-DE27-41E2-A9DD-966EEDF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F5529-475B-496D-B04B-D8767AD4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BE755-71A3-47E9-9CDB-CCEC069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10803-DB55-45A5-A188-98E34455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13B2A-0EEE-425F-BD1D-5A22302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2A3D0-D23F-47E6-81B6-16DC7AE4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EE6F4-1780-4504-AE87-CA96369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123B5-A6B8-4598-9A6C-BED91C64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28540-0590-4AF0-BEB8-7CD7F22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F8262-E1C9-451A-B2CE-5DB2FB33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4F31-3FFB-4517-A59F-F8BF5F2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40D27-42F7-4176-9E75-000EB830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D7868-3151-4599-8486-E2B8DE2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A122F-900B-4E39-A0B3-C496760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8DC2E-42B9-4538-BC14-2114817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367AF-8EEB-4DB8-BE80-94AFA97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2F6FF-B126-4432-8370-0A58BEE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932C1-84BE-4F83-A155-31CD225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393F3-8854-4D2E-B0BD-CD231329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DE903-050F-4584-9AB5-82859D64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2592B-A4C4-40D0-96F2-D27D3121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CAF9-DD51-4FB9-9CA3-D762E95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8B7FC-616F-4DF6-B194-A9843A5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F05B0-4F52-4E58-85FE-D8F5794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09448-5BE5-4558-92D9-ACC9CA4D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D05EF-6CCC-4E55-9905-BAC6057A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00960-6BDE-4A14-96FC-8090FB9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4CCA2-58E8-4415-924D-76F3E96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EE5CF-FA67-43D5-A366-B87B6EB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B7394-9D33-4092-BC83-FE94184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9E739-E2B5-4BDF-B45E-B66D0671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94C51-1CC2-499C-BF02-D7583D9C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28AC-C7AC-4A12-B4C2-26631D9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23770-97E9-4C65-B7B7-ABA1647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295E3-8C6A-4978-8581-D052A47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C7AB9-71B8-41D4-B905-FE094932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DF8A5-AF23-4093-A8FE-B262F61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6210C-604A-482B-9D69-2B6E7C6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2D0A0-EBF8-4347-8ECC-8B81EB0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01C55-4ED9-46ED-8EA6-9078580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9DF0A-326C-4A60-82FE-EE5DDA3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7884F-A074-4BCB-ABFA-DF527765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08959-C3EA-4E66-A517-C6E3DED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8FB3-4236-4C8F-B95F-4817643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062C3-A3DA-4C2E-B617-16DD0E5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77E8B-A3D3-4E17-85B4-284B0CAC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A7EA6-3925-4B35-BC89-787C224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721FC-F248-4191-88F0-A59AF97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DA396-E694-45EC-A4BB-ED152D5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333D7-49F5-4917-8889-2C538A4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A5573-2C89-47DB-9B9D-DDD08F37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E9E38-9605-459D-8BB9-19DA121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3ADD9-2A8F-430E-8D5E-77A9766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B8ADD-DDAF-4B45-A55C-D9A9CBE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684F-B631-4E24-9E1F-31769F3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BD7A9-2C1F-4396-B617-5078D59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78BCB-2233-4E55-989E-94B6819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8B9D8-ACFA-40E9-B217-96C16B2F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8CE8A-AC99-472B-B2F5-68FAD72A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3EB67-A177-4C76-BEF8-418B6D7A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36E9D-C1E0-499D-A8B4-CFAB7BBB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48F36-2C1E-4042-82F8-3F5D994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C9C39-FDC1-4097-8015-59A7F29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A35DB-DD05-40CA-A6B6-2062C3A7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63147-2485-4BB3-BA70-CC77B10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2C2A-BAFA-415F-ABC4-7B3B478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7D4D3-ACC1-4F4C-A589-A165AC31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016A9-9588-45FF-AA5D-E13E75E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A0579-0BEA-4253-948A-6982681E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8AF27-FA2A-4392-876C-1EE0DAB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C08298-4E11-416A-B04F-37E00C9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B287E-FCF4-446F-B804-07FDA783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A389D-E82C-463B-B30E-47D8BD60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F1689-0C5D-4341-B4F0-12B32CEB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75469-ACDB-49DB-8A83-019BC7C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15119-A808-42EF-8701-5185DAF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088C-D867-48A3-88BF-28F7F3AAD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70BE-08FD-486F-9A49-077E244BC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146-7CB6-47E4-A450-6590DBC6D0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A10-1A7B-4042-8AC0-7E052FB2A0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8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6704-3B99-45F5-8DDA-3227A6E5D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9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065F-1F63-4F49-A5DE-F784C6632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519E-CA00-48A1-8FDC-FB1A52568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51A-6C7C-41BF-9C42-A55C0F592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CB2A-FCCC-403E-8FDA-CD526CB6FC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AC8D-9426-4D04-A061-9C0C7FC13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2734-3F67-4ED2-829C-AF4EAEE664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B8F-BE2B-4ABC-BA38-331B2A73F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F87-251B-437E-A4F1-CDC280AE8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Рыночная систем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дел 2.Микроэкономик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ма. Теория спроса и предложения. Рыночное равновеси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Спрос, его факторы и зак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едложение, его факторы и зако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Рыночное равновесие. Равновесная це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Эластичность спроса и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0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A8CD-484A-43B4-B23B-77FEB2B66A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592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5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6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7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8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99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0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1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2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3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4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6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7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8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09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0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1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2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3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4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5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5A5-D20C-41A2-BD75-8101E1E02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ит в том, что при прочих равных условиях количество предлагаемого продавцами товара тем выше, чем выше цена этого товара, и наоборот, чем ниже цена, тем ниже величина его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465-08F2-46C9-A559-631F47C7F7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DEB0-66C6-4085-BA57-77C3C1A9F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ривая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A6A5-8073-4284-861E-7133AC3D5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29" name="Объект 6" descr="&amp;Zcy;&amp;acy;&amp;vcy;&amp;icy;&amp;scy;&amp;icy;&amp;mcy;&amp;ocy;&amp;scy;&amp;tcy;&amp;softcy; &amp;pcy;&amp;rcy;&amp;iecy;&amp;dcy;&amp;lcy;&amp;ocy;&amp;zhcy;&amp;iecy;&amp;ncy;&amp;icy;&amp;yacy; &amp;ocy;&amp;tcy; &amp;tscy;&amp;iecy;&amp;ncy;&amp;ycy;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7"/>
          <p:cNvSpPr/>
          <p:nvPr/>
        </p:nvSpPr>
        <p:spPr>
          <a:xfrm>
            <a:off x="685800" y="5486400"/>
            <a:ext cx="73152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Кривая предложения показывает, какое количество товара (Q) производители готовы продать при каждом данном уровне цен в конкретный период времени.     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1" name="Прямоугольник 8"/>
          <p:cNvSpPr/>
          <p:nvPr/>
        </p:nvSpPr>
        <p:spPr>
          <a:xfrm>
            <a:off x="7238880" y="2389320"/>
            <a:ext cx="16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QS = f (P)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ледует различать понятия: величина предложения и изменение предлож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09F-0835-432A-B3C9-4C0CCC00B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35" name="Рисунок 6" descr="http://economics.wideworld.ru/admin52/images/image106.gif"/>
          <p:cNvPicPr/>
          <p:nvPr/>
        </p:nvPicPr>
        <p:blipFill>
          <a:blip r:embed="rId1"/>
          <a:stretch/>
        </p:blipFill>
        <p:spPr>
          <a:xfrm>
            <a:off x="685800" y="18288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зменение предложения-обусловлено неценовыми факторами (детерминантами) движение кривой влево и вправо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зменение величины предложения – обусловлено ценой; движение по кривой вниз и ввер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99E-4F91-467E-BCC8-55C3F316C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9F7E-75BA-4DF2-A951-CEB4DD574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 предложения (детерминанты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) цены на ресурсы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) технология производств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) налоги и дотации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) цены на другие товары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) ожидания изменения цен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6) число продавцов на рынке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ступает тогда когда интересы продавцов и покупателей совпад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весная цена – это результат большого количества сделок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DB74-2DC9-4B5D-94DC-C66D3A082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644" name="Рисунок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609480" y="3886200"/>
            <a:ext cx="464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6CF-E1CC-4A68-9939-01B7ADCA6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Спрос(</a:t>
            </a: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2f2f2"/>
                </a:solidFill>
                <a:latin typeface="Garamond"/>
              </a:rPr>
              <a:t>) — количество товара, которое покупатели готовы приобрести на рынке по определенной цене.</a:t>
            </a:r>
            <a:r>
              <a:rPr b="0" lang="en-US" sz="3200" spc="-1" strike="noStrike">
                <a:solidFill>
                  <a:srgbClr val="f2f2f2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8" name="Схема 1" descr=""/>
          <p:cNvPicPr/>
          <p:nvPr/>
        </p:nvPicPr>
        <p:blipFill>
          <a:blip r:embed="rId1"/>
          <a:stretch/>
        </p:blipFill>
        <p:spPr>
          <a:xfrm>
            <a:off x="1517760" y="3273480"/>
            <a:ext cx="6211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Дата 4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1" name="Номер слайда 5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66C-B34F-42B6-9929-CFB2BC078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2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5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5DC-5332-488C-BC41-03A2BD662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8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90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8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0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1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2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3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4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5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6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7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8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09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0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1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6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7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196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198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205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207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21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216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Номер слайда 5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CCE-9C34-4B16-97F5-631FBC99C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13"/>
              <p:cNvSpPr txBox="1"/>
              <p:nvPr/>
            </p:nvSpPr>
            <p:spPr>
              <a:xfrm>
                <a:off x="762120" y="4267080"/>
                <a:ext cx="76960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25" name="Рисунок 13" descr="http://nashaucheba.ru/docs/33/32342/conv_1/file1_html_353ac508.png"/>
          <p:cNvPicPr/>
          <p:nvPr/>
        </p:nvPicPr>
        <p:blipFill>
          <a:blip r:embed="rId1"/>
          <a:stretch/>
        </p:blipFill>
        <p:spPr>
          <a:xfrm>
            <a:off x="1600200" y="5867280"/>
            <a:ext cx="57150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E04-4CFA-421B-8971-4DB457750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8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9DE5-CAEE-4852-91F0-E023A1A902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F5F-2785-4C90-AB85-3599D30ED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36" name="Рисунок 6" descr="http://nashaucheba.ru/docs/33/32342/conv_1/file1_html_499a52cd.gif"/>
          <p:cNvPicPr/>
          <p:nvPr/>
        </p:nvPicPr>
        <p:blipFill>
          <a:blip r:embed="rId1"/>
          <a:stretch/>
        </p:blipFill>
        <p:spPr>
          <a:xfrm>
            <a:off x="438120" y="974880"/>
            <a:ext cx="79628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F8F0-A599-4666-9613-B9AF6DCF4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39" name="Рисунок 6" descr="http://nashaucheba.ru/docs/33/32342/conv_1/file1_html_499a52cd.gif"/>
          <p:cNvPicPr/>
          <p:nvPr/>
        </p:nvPicPr>
        <p:blipFill>
          <a:blip r:embed="rId1"/>
          <a:stretch/>
        </p:blipFill>
        <p:spPr>
          <a:xfrm>
            <a:off x="438120" y="974880"/>
            <a:ext cx="79628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Если меняется цена, то спрос и предложение не изменяются, а лишь растут или убывают, перемещаясь по кривой в новое положение (рис. 8)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5322-6DE7-4C21-91B7-A1C8EFF63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2" name="Объект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Изменение спроса и предложения </a:t>
            </a:r>
            <a:r>
              <a:rPr b="1" lang="ru-RU" sz="4400" spc="-1" strike="noStrike">
                <a:solidFill>
                  <a:srgbClr val="e5e5ff"/>
                </a:solidFill>
                <a:latin typeface="Times New Roman"/>
              </a:rPr>
              <a:t>совпадают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4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E54-215A-46A9-AD12-DD9051E95A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5" name="Объект 6" descr="Экономика. Конспект лекций"/>
          <p:cNvPicPr/>
          <p:nvPr/>
        </p:nvPicPr>
        <p:blipFill>
          <a:blip r:embed="rId1"/>
          <a:stretch/>
        </p:blipFill>
        <p:spPr>
          <a:xfrm>
            <a:off x="990720" y="1828800"/>
            <a:ext cx="5867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CF8A-F956-4823-9265-58B99D93D7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748" name="Рисунок 6" descr="http://nashaucheba.ru/docs/33/32342/conv_1/file1_html_m1827af29.gif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10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спрос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окупатели желают приобрести за определенный пери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Дата 3"/>
          <p:cNvSpPr/>
          <p:nvPr/>
        </p:nvSpPr>
        <p:spPr>
          <a:xfrm>
            <a:off x="45720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0AA5-03E8-40B5-A580-90C1E0E43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6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086-9CBC-4326-B34D-F571E8204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он спроса: снижение цены (при прочих равных условиях) ведет, как правило, к соответствующему увеличению спроса. И наоборот, рост цены сокращает спро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Qd  =  f  (1/Р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2F87-EDEB-4D08-8FAC-6051D6D71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он спроса объясняется действием 3-х эффектов: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роста выгоды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дохода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ффект замещения»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D88-8CA0-40AA-852E-5D601DB78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e5e5ff"/>
                </a:solidFill>
                <a:uFillTx/>
                <a:latin typeface="Calibri"/>
                <a:ea typeface="Calibri"/>
              </a:rPr>
              <a:t>Следует различать понятие спрос и величина спроса.</a:t>
            </a:r>
            <a:r>
              <a:rPr b="0" lang="ru-RU" sz="3200" spc="-1" strike="noStrike">
                <a:solidFill>
                  <a:srgbClr val="393939"/>
                </a:solidFill>
                <a:latin typeface="Verdana"/>
                <a:ea typeface="Calibri"/>
              </a:rPr>
              <a:t> 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личество товаров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уг, которые покупатели готовы купи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анной цене в определенное время и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ом мес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 algn="just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 спроса зависит от ряд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ую зависимость принято назы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ts val="15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ей спро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da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(Pa, Pb...z, K, L, M, N, T)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й фактор спроса – цена товара, поэтому зависимость можно упростить: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d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Pa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161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B35-2A72-45C0-8747-231A70257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Дата 3"/>
          <p:cNvSpPr/>
          <p:nvPr/>
        </p:nvSpPr>
        <p:spPr>
          <a:xfrm>
            <a:off x="533520" y="6568920"/>
            <a:ext cx="25146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3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2B00-21EC-4940-ACF8-402D4D4D5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575" name="Объект 6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924680" cy="42861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7"/>
          <p:cNvSpPr/>
          <p:nvPr/>
        </p:nvSpPr>
        <p:spPr>
          <a:xfrm>
            <a:off x="685800" y="4724280"/>
            <a:ext cx="7543800" cy="167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Кривая спроса</a:t>
            </a:r>
            <a:r>
              <a:rPr b="0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 – кривая, показывающая, какое количество экономического блага готовы приобрести покупатели по разным ценам в данный момент времени. Кривая имеет отрицательный наклон, что свидетельствует о желании потребителей купить большее количество благ при меньшей цене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0B58-D63D-4E42-A609-495339E8E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(детерминанты)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3098880" y="160020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380880" y="2209680"/>
            <a:ext cx="3200400" cy="703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кусы и предпочтения потребителей.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80880" y="3429000"/>
            <a:ext cx="3200400" cy="703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менение доходов потребителей.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2" name="Прямоугольник 1"/>
          <p:cNvSpPr/>
          <p:nvPr/>
        </p:nvSpPr>
        <p:spPr>
          <a:xfrm>
            <a:off x="380880" y="4419720"/>
            <a:ext cx="3200400" cy="6426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Изменение числа покупателей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3" name="Прямоугольник 2"/>
          <p:cNvSpPr/>
          <p:nvPr/>
        </p:nvSpPr>
        <p:spPr>
          <a:xfrm>
            <a:off x="5105520" y="4419720"/>
            <a:ext cx="3200400" cy="1040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1001"/>
              </a:spcAft>
              <a:buClr>
                <a:srgbClr val="0005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  <a:ea typeface="Calibri"/>
              </a:rPr>
              <a:t>Цены на товары - заменители и товары - дополнители.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4" name="Прямоугольник 3"/>
          <p:cNvSpPr/>
          <p:nvPr/>
        </p:nvSpPr>
        <p:spPr>
          <a:xfrm>
            <a:off x="5105520" y="2209680"/>
            <a:ext cx="312408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Потребительские ожида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585" name="Прямоугольник 4"/>
          <p:cNvSpPr/>
          <p:nvPr/>
        </p:nvSpPr>
        <p:spPr>
          <a:xfrm>
            <a:off x="5105520" y="3416400"/>
            <a:ext cx="312408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Arial"/>
              </a:rPr>
              <a:t>Степень удовлетворения потребностей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Calibri"/>
              </a:rPr>
              <a:t>Изменение спроса под действием неценовых факторов</a:t>
            </a: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Calibri"/>
              </a:rPr>
              <a:t>.</a:t>
            </a:r>
            <a:br>
              <a:rPr sz="36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Номер слайда 4"/>
          <p:cNvSpPr/>
          <p:nvPr/>
        </p:nvSpPr>
        <p:spPr>
          <a:xfrm>
            <a:off x="65530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678-8986-425C-A2A0-6EE40C40F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pic>
        <p:nvPicPr>
          <p:cNvPr id="588" name="Объект 6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>zao</dc:creator>
  <dc:description/>
  <dc:language>en-US</dc:language>
  <cp:lastModifiedBy>Владелец</cp:lastModifiedBy>
  <dcterms:modified xsi:type="dcterms:W3CDTF">2013-02-22T03:52:20Z</dcterms:modified>
  <cp:revision>132</cp:revision>
  <dc:subject/>
  <dc:title>Тема 2. Рыночная система экономики</dc:title>
</cp:coreProperties>
</file>