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suction.wav" ContentType="audio/x-wav"/>
  <Override PartName="/ppt/media/image2.png" ContentType="image/png"/>
  <Override PartName="/ppt/media/push.wav" ContentType="audio/x-wav"/>
  <Override PartName="/ppt/media/image14.png" ContentType="image/png"/>
  <Override PartName="/ppt/media/image13.jpeg" ContentType="image/jpeg"/>
  <Override PartName="/ppt/media/image11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media/image1.png" ContentType="image/png"/>
  <Override PartName="/ppt/media/whoosh.wav" ContentType="audio/x-wav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5B2D-E4AB-47FF-94C5-876A82F4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48CB-BBC5-449F-817A-EA0B7BB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4D2466-B176-4876-90A5-EA6837B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305C4-51FA-4890-ABAB-E3A16E5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D232D-06DD-46CF-A538-B0ABCE0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80937-4BA5-4AF4-A7E2-F7D3D425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FA099-716C-45EA-B259-AE932C6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751D6-FF56-4759-A386-D41E862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7753C6-657F-4E6D-8CD0-52EF262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FF198-507F-46B1-880D-D6463E24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04D06-AC80-412C-88DC-9C0FD50F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2BD298-5576-4B97-865E-9631301A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60E1-4523-4768-955C-477D7E4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2728D7-66FA-4F81-86AE-351B570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570F0-199E-48D4-BDDC-EA3F037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98C34-55F8-4A11-AF36-D5A5D68A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970CAA-5D30-4919-A9BC-5C7A1F0F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DFDE3-3038-472B-AD89-F8D40C8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864F27-3B62-4A87-A30A-90AC3A78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D4FC14-1553-43A1-8F15-584BB04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CE061E-C801-4E7B-B3ED-B3E885C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1D297-3719-49DF-9479-AD73C2E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9FBC00-EBD5-4043-80E9-6FF52852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1B23-CEF2-4587-A05A-A21400CD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93AEC-564F-43EC-A235-BB6A657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0D95C1-7AF7-41A7-B8AE-D4A7FF9D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0FF430-BB91-4E9D-9557-818831AA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F4941D-A530-4663-ACD7-AC6827D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177FE8-2E2C-47D0-9944-DED7BA40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741E6-83B1-4D71-9400-5FED130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E425BC-4702-4764-BFFC-019AA20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358D24-F267-4471-8F32-3CA65B5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03B2E6-2D01-4232-B93D-136FE3F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1EFABF-EDE7-4AF3-B19B-144B3A8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082-8C1B-4923-BDAB-D7A98B6F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AF8CE4-25C3-463D-8785-45555821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E510C0-8019-4248-B3F7-5BA9E651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CE5C1-EEA7-41DE-8587-AE0B00F3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6F864E-D2BC-4718-B142-504436B3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3F074A-D59C-4CE0-A6EF-4586714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BFEE04-6C77-4A5B-BA52-FBBF64F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EC34BB-02C9-42B2-A214-C4BA100E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D574D4-D983-49E5-8E16-4FBE287E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86C557-73CA-460C-8300-490B56F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CD8128-25FD-4045-B277-FF80E20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279A-8DC3-4342-88B9-B812279A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8F84E9-35CA-4295-892B-80279E2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305ED1-CEB9-46D3-872B-27C6C1F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16948E-8474-41B8-99FA-91668F8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6001A4-A22E-4933-AB50-EA33F058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7D471B-4015-4781-9D3B-D3E21DA4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B4891-B4EF-4B60-BB49-0F8B6138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4C504C-F543-4228-926F-14071309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A99617-6297-4AA8-A145-F71522E6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3299B3-A766-48EB-80D3-6E8E701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A78DBC-AE3A-4436-9A87-4C0212E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58B2-36A9-41D6-95CE-D9FBA0E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8BE9C-EE4B-4CAD-A8F4-8FEE3212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584334-5FB7-4A72-813B-6210CF60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1621AF-686C-4D18-9931-31F09B6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68D583-1B55-45B1-B13B-B29F03C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637308-BA3D-4978-909C-A78B01A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BBB760-96AA-4BCE-BB07-0460F7C6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3BA2FC-BF34-4513-8435-03558EC7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FDA-52CF-4139-B291-ABC2F59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71CF-3754-4862-9FE8-569DDFF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27DD-94C2-4B0E-AC81-57EC63D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ED28-2215-4746-96B3-B8DEE9E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5FAB-DA64-4BE7-A73B-DA60C5B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5554-5C5D-4C81-8780-CCF8BB7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3FDF-9125-45BD-B27C-FD163E3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D3C-D7F4-46E0-9E6D-38BCBD3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AB3-AB21-4D62-89FE-593ADE74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5F42-24F9-4080-8700-9B100243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D3E79-413A-4E62-AE42-2475C4E1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00AC4-26D4-4FFA-B840-CF89D85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95FC8-8366-4AA6-A02C-D5AE193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D2CF0-3042-4F9F-9ECF-C71674E4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4E12D-AB6D-47E0-A77F-EC6FDFF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788B-E006-45A0-A0A0-92AF2C0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94479-08D1-4E54-9A9A-8D03FAC3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AF949-B021-4F15-A649-8B65AE8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FBDE8-8FC4-4AF1-A45D-80E538C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0E5E-7D24-4651-B030-1AC3298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34B60-6F1A-4EE6-B14E-B5C2F18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728B2-DB5C-4AF4-A7D3-FC8F197B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1A02D-AD9F-4AD4-9008-63B57926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6B933-409B-4A91-9224-BFA9EACF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72E5C-338A-4970-AEF2-48F6FD0B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B3DDC-924B-4E70-BEC6-22BEC70F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5096-2905-4F7D-8033-BE1F33B8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34871-B950-4F22-8075-57B6B854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218ED-9156-45EC-92B4-77190AB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1E744-4A44-41AE-BCC0-187E143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628CA-4E00-49E3-8074-8C2DB95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9E2C9-2AA5-42D1-AF88-2E919B6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6F15B-4997-4926-8320-68771E0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364F3-0A28-4FF9-A866-5411D357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45855-16B5-4D3F-B61E-0FF8510C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49F5A-33DC-444F-B729-C2C5123E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37241-EA18-4BB2-8EFD-C0F2622F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11FD-B3C8-4BBF-85D5-E6ED19A7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1612C-FB88-4364-98B7-5D7B925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03D54-912C-429E-B02F-513D528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2C61A-8D41-48C1-9395-05CC6862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025F8-CCF0-4D9C-BF0F-25E678EB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2289A-41D2-40CA-93B6-FFF1F89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5EFED-BDE9-4BB4-8077-CA26134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2550A-3C6A-461A-BC04-7AF0AB9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B4BC4-13E0-4AFF-B5B8-ADBD641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5FE55-E3E3-4F40-B38B-6C50F93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2BE11-C402-4889-B1EC-AA64FA3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1392-3ED5-47B8-A63B-9F169D3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18020-B8E6-4FBA-8AD0-AECA698B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C99A5-947B-42F8-943F-31E749AA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1403A-F3D7-4417-BC14-746680E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32E98-768F-45F9-AB43-631BA06E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2BBB3-761E-4BB9-AFF2-D1F17F72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E0ECD-A97B-497F-B19C-D8F18FB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88E24-9A4E-4AA2-9F06-26099D0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C5D9C-ED04-4D73-B56E-C51E9083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62C16-D3CE-4917-9ED8-28D838B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90E39-2AF6-4654-90F6-A5F323F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ED40-93EA-4154-84DF-18FCF8D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165C9-1B1C-4883-893B-A766BC7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61D65-33CB-46BE-BC49-2F2C618B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F9BAE-32FC-4C23-90F2-91334757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D42F7-DAA3-4483-814F-D2CAC840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7BF03-6A1E-4387-A7B4-96EEEC43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69067-F796-4018-B6AE-90CC207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753BD-821A-47E4-8BF1-F99C837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C433B-B16C-4DFA-9152-AA04C71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8CADA-1912-49A3-B8D4-23D86DD0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0E0A6-A4C6-405D-AB00-9828658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65A1-3F41-40F0-9390-5E1F552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CCF2F-EC17-4AD2-978D-5809148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B1283-C056-4311-9D3B-4A50997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E6CC8-2649-4BD2-A007-C4F698B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88C23-06C9-4ECD-B871-DA7EEE5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ECC3D-F368-443E-9563-261FD74A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48286-615B-4DB0-9C2F-A6DFF69B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71539-E6DA-498B-9D79-D3E0CC7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A2178-614C-45EB-8924-F7D5E49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3E39C-52CD-4732-9390-BF0A679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F75D4-2923-471A-82AF-58140CF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F32B-4099-4990-A901-E339166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BEAFC-E4BA-469A-A863-44326BAB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37105-7452-4739-A3EB-23B4B74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41FA7E-6D7E-4D88-8F8C-4C51E0C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49236-67BB-4913-B87D-821221C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8DA7E-9564-4590-898D-1DE067A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BBBD3B-CE26-4887-A572-2A3A6368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F668F-D618-4439-84C6-FE8BDB71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3DCC8-90C1-49FD-8D1F-64D30BA0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BACD8-511E-45B3-92A9-8CB2020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09EFF-F43F-4ED0-998B-81316B1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1E1-2919-44D7-8CCC-011ED21B7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213-5518-4948-8C6B-789EF1A61A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C68-B8F9-4EF9-B0C4-7A74FBEC4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F4D-E77D-4D4C-A7A6-D8856869A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8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C05-F874-4B70-BD44-499C67492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9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59F-5087-4C1E-B5A7-C27F3DC84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859-3159-49DB-8FA6-4C28A9EE5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18E-6E87-4CCA-A5D9-CDE080EA19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DEE-6F97-43E1-8E0E-AAE12919D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CE90-BD69-42A5-8FFC-5F02475A0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140-15DA-4E7F-9BFE-F5921C015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54D8-107D-419D-9DB9-192EB6A1F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98F2-B4FC-4C0A-93F6-A4C8965FB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дел 2.Микроэкономик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ма. Теория спроса и предложения. Рыночное равновеси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Спрос, его факторы и зак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едложение, его факторы и зак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Рыночное равновесие. Равновесная це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Эластичность спроса и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0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043-B757-4E49-89CC-5F6F56D35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592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5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6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7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8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9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0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1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2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3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4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6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7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8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9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0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1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2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3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4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5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A17-7337-434D-9116-B91028B8B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ит в том, что при прочих равных условиях количество предлагаемого продавцами товара тем выше, чем выше цена этого товара, и наоборот, чем ниже цена, тем ниже величина его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BFF-0975-4061-9E8E-488DECAD74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381F-95E4-4699-8169-F19EC3A0D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ривая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529-F576-459F-BDBB-0EA84DFE8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29" name="Объект 6" descr="&amp;Zcy;&amp;acy;&amp;vcy;&amp;icy;&amp;scy;&amp;icy;&amp;mcy;&amp;ocy;&amp;scy;&amp;tcy;&amp;softcy; &amp;pcy;&amp;rcy;&amp;iecy;&amp;dcy;&amp;lcy;&amp;ocy;&amp;zhcy;&amp;iecy;&amp;ncy;&amp;icy;&amp;yacy; &amp;ocy;&amp;tcy; &amp;tscy;&amp;iecy;&amp;ncy;&amp;ycy;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7"/>
          <p:cNvSpPr/>
          <p:nvPr/>
        </p:nvSpPr>
        <p:spPr>
          <a:xfrm>
            <a:off x="685800" y="5486400"/>
            <a:ext cx="73152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Кривая предложения показывает, какое количество товара (Q) производители готовы продать при каждом данном уровне цен в конкретный период времени.     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1" name="Прямоугольник 8"/>
          <p:cNvSpPr/>
          <p:nvPr/>
        </p:nvSpPr>
        <p:spPr>
          <a:xfrm>
            <a:off x="7238880" y="2389320"/>
            <a:ext cx="16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QS = f (P)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ледует различать понятия: величина предложения и изменение предлож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105E-783A-4A28-A52B-A53770D9A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35" name="Рисунок 6" descr="http://economics.wideworld.ru/admin52/images/image106.gif"/>
          <p:cNvPicPr/>
          <p:nvPr/>
        </p:nvPicPr>
        <p:blipFill>
          <a:blip r:embed="rId1"/>
          <a:stretch/>
        </p:blipFill>
        <p:spPr>
          <a:xfrm>
            <a:off x="685800" y="18288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зменение предложения-обусловлено неценовыми факторами (детерминантами) движение кривой влево и вправо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зменение величины предложения – обусловлено ценой; движение по кривой вниз и ввер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A38-3A33-4A54-9D29-E8CBA112E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370-037D-45D3-9C22-A72AD185D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 предложения (детерминанты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) цены на ресурсы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) технология производств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) налоги и дотации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) цены на другие товары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) ожидания изменения цен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6) число продавцов на рынке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ступает тогда когда интересы продавцов и покупателей совпад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весная цена – это результат большого количества сделок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24CC-1642-47E8-8CB0-1EBF1158BB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44" name="Рисунок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609480" y="3886200"/>
            <a:ext cx="464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E58-577E-4B5A-9864-697E985B0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Спрос(</a:t>
            </a: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) — количество товара, которое покупатели готовы приобрести на рынке по определенной цене.</a:t>
            </a:r>
            <a:r>
              <a:rPr b="0" lang="en-US" sz="3200" spc="-1" strike="noStrike">
                <a:solidFill>
                  <a:srgbClr val="f2f2f2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8" name="Схема 1" descr=""/>
          <p:cNvPicPr/>
          <p:nvPr/>
        </p:nvPicPr>
        <p:blipFill>
          <a:blip r:embed="rId1"/>
          <a:stretch/>
        </p:blipFill>
        <p:spPr>
          <a:xfrm>
            <a:off x="1517760" y="3273480"/>
            <a:ext cx="6211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Дата 4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1" name="Номер слайда 5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CA1-51E0-4D28-B833-133E4F899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2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5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2ED2-B307-460D-8433-6079E11FE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8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90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8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1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2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3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4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5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6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7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8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9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0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1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6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7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196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198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205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207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21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216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C3E-80F0-41D6-B6A6-59BF901D5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13"/>
              <p:cNvSpPr txBox="1"/>
              <p:nvPr/>
            </p:nvSpPr>
            <p:spPr>
              <a:xfrm>
                <a:off x="762120" y="4267080"/>
                <a:ext cx="76960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25" name="Рисунок 13" descr="http://nashaucheba.ru/docs/33/32342/conv_1/file1_html_353ac508.png"/>
          <p:cNvPicPr/>
          <p:nvPr/>
        </p:nvPicPr>
        <p:blipFill>
          <a:blip r:embed="rId1"/>
          <a:stretch/>
        </p:blipFill>
        <p:spPr>
          <a:xfrm>
            <a:off x="1600200" y="5867280"/>
            <a:ext cx="57150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DAD-2617-49C9-B101-85C82B212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8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48D4-B7E3-4AE1-B5B9-B12B312DB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1EE0-633F-4358-865C-2864A6B8A4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36" name="Рисунок 6" descr="http://nashaucheba.ru/docs/33/32342/conv_1/file1_html_499a52cd.gif"/>
          <p:cNvPicPr/>
          <p:nvPr/>
        </p:nvPicPr>
        <p:blipFill>
          <a:blip r:embed="rId1"/>
          <a:stretch/>
        </p:blipFill>
        <p:spPr>
          <a:xfrm>
            <a:off x="438120" y="974880"/>
            <a:ext cx="79628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BDA5-F745-4D33-BCCD-A6DA35418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39" name="Рисунок 6" descr="http://nashaucheba.ru/docs/33/32342/conv_1/file1_html_499a52cd.gif"/>
          <p:cNvPicPr/>
          <p:nvPr/>
        </p:nvPicPr>
        <p:blipFill>
          <a:blip r:embed="rId1"/>
          <a:stretch/>
        </p:blipFill>
        <p:spPr>
          <a:xfrm>
            <a:off x="438120" y="974880"/>
            <a:ext cx="79628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Если меняется цена, то спрос и предложение не изменяются, а лишь растут или убывают, перемещаясь по кривой в новое положение (рис. 8)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011-8ABB-4B84-AE95-D5D6F0F58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2" name="Объект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зменение спроса и предложения </a:t>
            </a:r>
            <a:r>
              <a:rPr b="1" lang="ru-RU" sz="4400" spc="-1" strike="noStrike">
                <a:solidFill>
                  <a:srgbClr val="e5e5ff"/>
                </a:solidFill>
                <a:latin typeface="Times New Roman"/>
              </a:rPr>
              <a:t>совпадают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597-CC16-4642-8E8E-1103A89C03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5" name="Объект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990720" y="1828800"/>
            <a:ext cx="5867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EE2-D87D-48DD-BB2D-9665638CD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8" name="Рисунок 6" descr="http://nashaucheba.ru/docs/33/32342/conv_1/file1_html_m1827af29.gif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10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спрос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окупатели желают приобрести за определенный пери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5F8-3CC6-4AD3-B4E0-585C4200D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6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E0E-1054-4B68-AFC0-1372D046C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он спроса: снижение цены (при прочих равных условиях) ведет, как правило, к соответствующему увеличению спроса. И наоборот, рост цены сокращает спро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Qd  =  f  (1/Р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30F-F129-49A8-A063-7AE93A13E0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он спроса объясняется действием 3-х эффектов: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роста выгоды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дохода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замещения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C8CC-5AB2-4034-8AC4-3C2CFDB1F8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e5e5ff"/>
                </a:solidFill>
                <a:uFillTx/>
                <a:latin typeface="Calibri"/>
                <a:ea typeface="Calibri"/>
              </a:rPr>
              <a:t>Следует различать понятие спрос и величина спроса.</a:t>
            </a:r>
            <a:r>
              <a:rPr b="0" lang="ru-RU" sz="3200" spc="-1" strike="noStrike">
                <a:solidFill>
                  <a:srgbClr val="393939"/>
                </a:solidFill>
                <a:latin typeface="Verdana"/>
                <a:ea typeface="Calibri"/>
              </a:rPr>
              <a:t> 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личество товаров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уг, которые покупатели готовы купи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анной цене в определенное время и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ом мес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 спроса зависит от ряд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ую зависимость принято назы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ей спро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da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(Pa, Pb...z, K, L, M, N, T)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й фактор спроса – цена товара, поэтому зависимость можно упростить: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d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Pa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990-924B-41BA-829C-6C04F454E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Дата 3"/>
          <p:cNvSpPr/>
          <p:nvPr/>
        </p:nvSpPr>
        <p:spPr>
          <a:xfrm>
            <a:off x="533520" y="6568920"/>
            <a:ext cx="25146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0B4A-CE2E-4906-911B-8F0A41F96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575" name="Объект 6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924680" cy="42861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7"/>
          <p:cNvSpPr/>
          <p:nvPr/>
        </p:nvSpPr>
        <p:spPr>
          <a:xfrm>
            <a:off x="685800" y="4724280"/>
            <a:ext cx="7543800" cy="167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Кривая спроса</a:t>
            </a:r>
            <a:r>
              <a:rPr b="0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 – кривая, показывающая, какое количество экономического блага готовы приобрести покупатели по разным ценам в данный момент времени. Кривая имеет отрицательный наклон, что свидетельствует о желании потребителей купить большее количество благ при меньшей цене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BF2C-119B-4632-A028-83E1D0C68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(детерминанты)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3098880" y="160020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380880" y="2209680"/>
            <a:ext cx="3200400" cy="703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кусы и предпочтения потребителей.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80880" y="3429000"/>
            <a:ext cx="3200400" cy="703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менение доходов потребителей.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2" name="Прямоугольник 1"/>
          <p:cNvSpPr/>
          <p:nvPr/>
        </p:nvSpPr>
        <p:spPr>
          <a:xfrm>
            <a:off x="380880" y="4419720"/>
            <a:ext cx="3200400" cy="6426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Изменение числа покупателей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3" name="Прямоугольник 2"/>
          <p:cNvSpPr/>
          <p:nvPr/>
        </p:nvSpPr>
        <p:spPr>
          <a:xfrm>
            <a:off x="5105520" y="4419720"/>
            <a:ext cx="3200400" cy="1040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1001"/>
              </a:spcAft>
              <a:buClr>
                <a:srgbClr val="0005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Цены на товары - заменители и товары - дополнители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4" name="Прямоугольник 3"/>
          <p:cNvSpPr/>
          <p:nvPr/>
        </p:nvSpPr>
        <p:spPr>
          <a:xfrm>
            <a:off x="5105520" y="2209680"/>
            <a:ext cx="312408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Потребительские ожида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5" name="Прямоугольник 4"/>
          <p:cNvSpPr/>
          <p:nvPr/>
        </p:nvSpPr>
        <p:spPr>
          <a:xfrm>
            <a:off x="5105520" y="3416400"/>
            <a:ext cx="312408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Степень удовлетворения потребностей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Calibri"/>
              </a:rPr>
              <a:t>Изменение спроса под действием неценовых факторов</a:t>
            </a: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Calibri"/>
              </a:rPr>
              <a:t>.</a:t>
            </a:r>
            <a:br>
              <a:rPr sz="36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F59-3F62-4395-8F96-4D9267268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588" name="Объект 6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>zao</dc:creator>
  <dc:description/>
  <dc:language>en-US</dc:language>
  <cp:lastModifiedBy>Владелец</cp:lastModifiedBy>
  <dcterms:modified xsi:type="dcterms:W3CDTF">2013-02-22T03:52:20Z</dcterms:modified>
  <cp:revision>132</cp:revision>
  <dc:subject/>
  <dc:title>Тема 2. Рыночная система экономики</dc:title>
</cp:coreProperties>
</file>