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7.jpeg" ContentType="image/jpeg"/>
  <Override PartName="/ppt/media/image9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3F6F-C2A3-4308-8E33-37F75F4E91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F81E-5FB0-4897-B10F-610D9624FD1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1AE0-1875-4697-AEE3-3AE2D4CE554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F0E-C769-4A27-B027-23A0441C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8AE-2D35-46F8-84F8-9593775B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23F-78F2-46B5-8D51-1B5ABB69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B53-1097-4098-BDCF-03D0E04E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57AD7-5EEC-47AE-B0AE-B760AF2F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39347-8ED3-4C73-BF3E-47AD4E48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0FB62-3C60-4F9F-8DE7-5030ACFA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7F04C-5F47-4445-889B-7ABDA6B6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0E268-54A3-4BF6-BA77-A2D9F4AE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984AD-E04E-4329-B840-7B5F5459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E51B8-99AA-4BE3-9E15-324C6614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52C-4FCB-4CDA-9D49-9A95CDB4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58669-B21C-4643-95FA-29BC4DFA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BD5FC-C29E-4997-8384-87C68F21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5CE02-0F11-439B-B154-A70B27A4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5EFCD-DAD0-4019-AD53-32C1957A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9A2D7-5A57-4A6B-8A06-C30018F0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9AA30-DF4C-4A45-A376-4E90E980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B8842-8FEE-4BFD-9EDC-E3EA4205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AE562-2B35-4350-A6BB-824F51B1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024A-067C-449A-B0FE-FC55602C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7CFDB-DC2A-4938-B945-88B820DB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687-0CA8-46C9-9EA5-DDB627A9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99664-CEDF-429A-BDE3-2E497ADD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7B42C-94D9-420E-9E9B-59670437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8ED4-30BA-4EEC-AED4-B885A948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04B79-B252-4C4D-B8BE-94AA71D3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BD6F-17A7-47DE-90A7-C056295C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C8E9C-58BE-4573-B8BA-27DE5D19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E2F97-8844-472C-B3E5-F8577EA7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328D9D-47F4-4BFF-945B-BD875E22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1A0647-E175-411E-BADA-912B1681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E37E49-479E-4CA5-BDF5-F1C65575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C20-01D7-4F95-8669-9EEEC3A5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784BC-7CC4-4C5A-A415-D77AF7D8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043BD1-DDD9-47EA-9AE5-7CC3E86D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B8692-EE38-433F-9141-CB783E83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4FB58-8A2B-4E7B-95F8-1103983A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1E3FA8-5A13-4538-9D1A-42B1ACFD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03B8FB-FC39-40B4-B91F-A4B71DFD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E04E6C-00CF-4253-AE55-83450B9C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FDE1DE-6507-49BC-8336-48A657AF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FE6231-933C-4F0C-BB95-25666209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DC88BC-9239-40BA-A01D-9350BA29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B3F-D82A-4770-BC19-D8E1E934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47282-BDDB-40D4-8E8F-50BFD1E5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8BE8C-7D95-44A1-BE62-90355859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E74B1-404E-4C7A-AF02-C914AC3F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8FD5D-98B9-45B3-83F8-CBE079F7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D0A43-4FFE-44F6-89DA-2B986752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8FF08-000D-4B52-BD42-B4470EDB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18892A-A3E8-4AEE-936F-34A6D126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B5560-8B7F-4737-8FC4-BBC346E1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B680FE-328D-422A-896D-15BDBBBE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72C76-275E-418B-A99F-EB6CF44A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9E5-1EEC-41A2-81A2-0ABA8B07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D83E94-9B4B-4905-961F-A32C5F9A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A364E-4C65-4719-B4BB-6442FDB6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3571F-2A0F-4904-A79A-BBFF9705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1335F3-1E2D-492D-A731-2D98471E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7CF3B-9420-4F95-9111-A2BA7817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36A0BC-9316-4340-809B-F36F5EE2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DA8C93-DD41-41A6-AF8C-06CE5FA3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872319-47DC-49C7-8B23-F6D1ED3C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0B696-AD4A-4799-8678-162ADE0B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EA2FFA-6DE7-41D6-AD89-47F3C2AC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80E-9E45-44C3-8635-5E88B55C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626610-94FC-4454-A31D-D693DE27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8E3B09-51D9-460C-985F-B42E6AF0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2BC54-F7F6-4FD9-9FB6-A15D926D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23A6-99E5-412B-B8B5-17539CB1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199-6432-4822-9AC6-6E790E35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ACFB-92BB-4EB4-8911-02906B5A1D2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6C94-C440-4BAC-97B1-DD5A367E172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F5B0-9F25-4FDB-9FFE-8CA90F3593D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2A72-E9B1-4A8F-AC32-5EC606F95A7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8855-779A-4C4D-AD8D-AC18C354A5D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31AB-4779-4014-8018-81B51791BB2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Рисунок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Заголовок 3" descr=""/>
          <p:cNvPicPr/>
          <p:nvPr/>
        </p:nvPicPr>
        <p:blipFill>
          <a:blip r:embed="rId3"/>
          <a:stretch/>
        </p:blipFill>
        <p:spPr>
          <a:xfrm>
            <a:off x="133200" y="4248000"/>
            <a:ext cx="8802720" cy="20606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4"/>
          <p:cNvSpPr/>
          <p:nvPr/>
        </p:nvSpPr>
        <p:spPr>
          <a:xfrm>
            <a:off x="2214720" y="648828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афонова Н.С. Учитель истории Лицей №7, г.Саяногорск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244440" y="23760"/>
            <a:ext cx="8759880" cy="1328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C:\Documents and Settings\Сафонова Наталья\Рабочий стол\Владимирская Богомагерь.jpg"/>
          <p:cNvPicPr/>
          <p:nvPr/>
        </p:nvPicPr>
        <p:blipFill>
          <a:blip r:embed="rId3"/>
          <a:stretch/>
        </p:blipFill>
        <p:spPr>
          <a:xfrm>
            <a:off x="4786200" y="1357200"/>
            <a:ext cx="4000680" cy="516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4" name="Прямоугольник 3"/>
          <p:cNvSpPr/>
          <p:nvPr/>
        </p:nvSpPr>
        <p:spPr>
          <a:xfrm>
            <a:off x="285840" y="949320"/>
            <a:ext cx="4429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613"/>
                </a:solidFill>
                <a:latin typeface="Constantia"/>
              </a:rPr>
              <a:t>По церковному преданию, её написал евангелист Лука на доске стола, за которым ел Иисус с Марией и Иосифом. На Русь икона попала из Византии в начале XII века (ок. 1131 года), как подарок Юрию Долгорукому от константинопольского патриарха Луки Хризоверха. С сентября 1999 года находится в храме-музее Святителя Николая в Толмачах при Государственной Третьяковской галере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Прямоугольник 5"/>
          <p:cNvSpPr/>
          <p:nvPr/>
        </p:nvSpPr>
        <p:spPr>
          <a:xfrm>
            <a:off x="1785960" y="4357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2"/>
          <a:stretch/>
        </p:blipFill>
        <p:spPr>
          <a:xfrm>
            <a:off x="341280" y="139680"/>
            <a:ext cx="8388360" cy="1384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C:\Documents and Settings\Сафонова Наталья\Рабочий стол\429px-Тихвинская_икона_Божией_Матери.jpg"/>
          <p:cNvPicPr/>
          <p:nvPr/>
        </p:nvPicPr>
        <p:blipFill>
          <a:blip r:embed="rId3"/>
          <a:stretch/>
        </p:blipFill>
        <p:spPr>
          <a:xfrm>
            <a:off x="4572000" y="1285920"/>
            <a:ext cx="4071960" cy="535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8" name="Прямоугольник 3"/>
          <p:cNvSpPr/>
          <p:nvPr/>
        </p:nvSpPr>
        <p:spPr>
          <a:xfrm>
            <a:off x="642960" y="1643040"/>
            <a:ext cx="3714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nstantia"/>
              </a:rPr>
              <a:t>Тихвинская икона Божией Матери — икона Богородицы, почитаемая в Русской православной церкви чудотворной. Написана, по преданию, евангелистом Лукой. Находится вТихвинском БогородичномУспенском мужском монастыр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8680" cy="1444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C:\Documents and Settings\Сафонова Наталья\Рабочий стол\Иверская Богоматерь.jpg"/>
          <p:cNvPicPr/>
          <p:nvPr/>
        </p:nvPicPr>
        <p:blipFill>
          <a:blip r:embed="rId3"/>
          <a:stretch/>
        </p:blipFill>
        <p:spPr>
          <a:xfrm>
            <a:off x="4857840" y="1214280"/>
            <a:ext cx="4143240" cy="5214960"/>
          </a:xfrm>
          <a:prstGeom prst="rect">
            <a:avLst/>
          </a:prstGeom>
          <a:ln w="9360">
            <a:solidFill>
              <a:srgbClr val="93540a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1" name="Прямоугольник 3"/>
          <p:cNvSpPr/>
          <p:nvPr/>
        </p:nvSpPr>
        <p:spPr>
          <a:xfrm>
            <a:off x="285840" y="17859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nstantia"/>
              </a:rPr>
              <a:t>Оригинал находится в Иверском монастыре на Афоне, в Греции; согласно православному преданию он написан евангелистом Лукой.В 1669 году копию принесенного с Афона списка Иверской иконы поместили при триумфальных Неглиненских (Воскресенских) воротах Китай-город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2"/>
          <a:stretch/>
        </p:blipFill>
        <p:spPr>
          <a:xfrm>
            <a:off x="353880" y="139680"/>
            <a:ext cx="8425080" cy="1384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C:\Documents and Settings\Сафонова Наталья\Рабочий стол\Смоленская Богоматерь.jpg"/>
          <p:cNvPicPr/>
          <p:nvPr/>
        </p:nvPicPr>
        <p:blipFill>
          <a:blip r:embed="rId3"/>
          <a:stretch/>
        </p:blipFill>
        <p:spPr>
          <a:xfrm>
            <a:off x="5214960" y="1285920"/>
            <a:ext cx="3786120" cy="5214960"/>
          </a:xfrm>
          <a:prstGeom prst="rect">
            <a:avLst/>
          </a:prstGeom>
          <a:ln w="9360">
            <a:solidFill>
              <a:srgbClr val="93540a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4" name="Прямоугольник 3"/>
          <p:cNvSpPr/>
          <p:nvPr/>
        </p:nvSpPr>
        <p:spPr>
          <a:xfrm>
            <a:off x="214200" y="1000080"/>
            <a:ext cx="5143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nstantia"/>
              </a:rPr>
              <a:t>В начале XII века князь Владимир Мономах перенёс икону в Смоленск где заложил храм Успения Богоматери, в котором впоследствии и разместили христианскую святыню. Церковное предание приписывает иконе помощь в спасении города в 1239 году от татарского нашествия. Позже икона была перенесена в Москву и до 1456 года хранилась в Благовещенском соборе (по просьбе Михаила, епископа Смоленского икона была возвращена в Смоленск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2"/>
          <a:stretch/>
        </p:blipFill>
        <p:spPr>
          <a:xfrm>
            <a:off x="450720" y="66600"/>
            <a:ext cx="8248680" cy="1384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Documents and Settings\Сафонова Наталья\Рабочий стол\Казанская Богоматерь.jpg"/>
          <p:cNvPicPr/>
          <p:nvPr/>
        </p:nvPicPr>
        <p:blipFill>
          <a:blip r:embed="rId3"/>
          <a:stretch/>
        </p:blipFill>
        <p:spPr>
          <a:xfrm>
            <a:off x="4857840" y="1143000"/>
            <a:ext cx="4071960" cy="5357880"/>
          </a:xfrm>
          <a:prstGeom prst="rect">
            <a:avLst/>
          </a:prstGeom>
          <a:ln w="9360">
            <a:solidFill>
              <a:srgbClr val="93540a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7" name="Прямоугольник 3"/>
          <p:cNvSpPr/>
          <p:nvPr/>
        </p:nvSpPr>
        <p:spPr>
          <a:xfrm>
            <a:off x="285840" y="1071720"/>
            <a:ext cx="4643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nstantia"/>
              </a:rPr>
              <a:t>После пожара в Казани в 1579, уничтожившего часть города, девятилетней Матроне Онучиной явилась во сне Богородица, велевшая откопать Её икону на пепелище. В указанном месте на глубине около метра действительно была найдена икона. Каза́нский Богоро́дицкий монасты́рь — православный монастырь Казани, место обретения Казанской иконы Божьей Матер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3" descr="C:\Documents and Settings\Сафонова Наталья\Рабочий стол\map.gif"/>
          <p:cNvPicPr/>
          <p:nvPr/>
        </p:nvPicPr>
        <p:blipFill>
          <a:blip r:embed="rId2"/>
          <a:stretch/>
        </p:blipFill>
        <p:spPr>
          <a:xfrm>
            <a:off x="0" y="357120"/>
            <a:ext cx="8804160" cy="6500880"/>
          </a:xfrm>
          <a:prstGeom prst="rect">
            <a:avLst/>
          </a:prstGeom>
          <a:ln w="0">
            <a:noFill/>
          </a:ln>
        </p:spPr>
      </p:pic>
      <p:sp>
        <p:nvSpPr>
          <p:cNvPr id="279" name="Счетверенная стрелка 6"/>
          <p:cNvSpPr/>
          <p:nvPr/>
        </p:nvSpPr>
        <p:spPr>
          <a:xfrm>
            <a:off x="2786040" y="2000160"/>
            <a:ext cx="3571920" cy="2857680"/>
          </a:xfrm>
          <a:prstGeom prst="pie">
            <a:avLst/>
          </a:prstGeom>
          <a:solidFill>
            <a:srgbClr val="fadbb5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Picture 2" descr="C:\Documents and Settings\Сафонова Наталья\Рабочий стол\429px-Тихвинская_икона_Божией_Матери.jpg"/>
          <p:cNvPicPr/>
          <p:nvPr/>
        </p:nvPicPr>
        <p:blipFill>
          <a:blip r:embed="rId3"/>
          <a:stretch/>
        </p:blipFill>
        <p:spPr>
          <a:xfrm>
            <a:off x="3786120" y="142920"/>
            <a:ext cx="1643040" cy="187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1" name="Прямоугольник 9"/>
          <p:cNvSpPr/>
          <p:nvPr/>
        </p:nvSpPr>
        <p:spPr>
          <a:xfrm>
            <a:off x="2500200" y="3571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3540a"/>
                </a:solidFill>
                <a:latin typeface="Constantia"/>
              </a:rPr>
              <a:t>СЕВЕР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Прямоугольник 10"/>
          <p:cNvSpPr/>
          <p:nvPr/>
        </p:nvSpPr>
        <p:spPr>
          <a:xfrm>
            <a:off x="5642280" y="621504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3540a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93540a"/>
                </a:solidFill>
                <a:latin typeface="Constantia"/>
              </a:rPr>
              <a:t>ЮГ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Прямоугольник 11"/>
          <p:cNvSpPr/>
          <p:nvPr/>
        </p:nvSpPr>
        <p:spPr>
          <a:xfrm>
            <a:off x="1419840" y="43578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3540a"/>
                </a:solidFill>
                <a:latin typeface="Constantia"/>
              </a:rPr>
              <a:t>ЗАПАД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Прямоугольник 12"/>
          <p:cNvSpPr/>
          <p:nvPr/>
        </p:nvSpPr>
        <p:spPr>
          <a:xfrm>
            <a:off x="6572160" y="46432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3540a"/>
                </a:solidFill>
                <a:latin typeface="Constantia"/>
              </a:rPr>
              <a:t>ВОСТОК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Picture 2" descr="C:\Documents and Settings\Сафонова Наталья\Рабочий стол\Иверская Богоматерь.jpg"/>
          <p:cNvPicPr/>
          <p:nvPr/>
        </p:nvPicPr>
        <p:blipFill>
          <a:blip r:embed="rId4"/>
          <a:stretch/>
        </p:blipFill>
        <p:spPr>
          <a:xfrm>
            <a:off x="3786120" y="4714920"/>
            <a:ext cx="1714680" cy="20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6" name="Picture 2" descr="C:\Documents and Settings\Сафонова Наталья\Рабочий стол\Смоленская Богоматерь.jpg"/>
          <p:cNvPicPr/>
          <p:nvPr/>
        </p:nvPicPr>
        <p:blipFill>
          <a:blip r:embed="rId5"/>
          <a:stretch/>
        </p:blipFill>
        <p:spPr>
          <a:xfrm>
            <a:off x="1000080" y="2214720"/>
            <a:ext cx="1785960" cy="2093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7" name="Picture 2" descr="C:\Documents and Settings\Сафонова Наталья\Рабочий стол\Казанская Богоматерь.jpg"/>
          <p:cNvPicPr/>
          <p:nvPr/>
        </p:nvPicPr>
        <p:blipFill>
          <a:blip r:embed="rId6"/>
          <a:stretch/>
        </p:blipFill>
        <p:spPr>
          <a:xfrm>
            <a:off x="6429240" y="2214720"/>
            <a:ext cx="1643040" cy="211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8" name="Picture 2" descr="C:\Documents and Settings\Сафонова Наталья\Рабочий стол\Владимирская Богомагерь.jpg"/>
          <p:cNvPicPr/>
          <p:nvPr/>
        </p:nvPicPr>
        <p:blipFill>
          <a:blip r:embed="rId7"/>
          <a:stretch/>
        </p:blipFill>
        <p:spPr>
          <a:xfrm>
            <a:off x="3929040" y="2571840"/>
            <a:ext cx="1285920" cy="166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9:08:19Z</dcterms:created>
  <dc:creator>Сафонова Н.С.</dc:creator>
  <dc:description/>
  <dc:language>en-US</dc:language>
  <cp:lastModifiedBy>Сафонова Н.С.</cp:lastModifiedBy>
  <dcterms:modified xsi:type="dcterms:W3CDTF">2010-10-26T11:09:12Z</dcterms:modified>
  <cp:revision>12</cp:revision>
  <dc:subject/>
  <dc:title>Тихвинский Богородичный Успенский мужской монастырь</dc:title>
</cp:coreProperties>
</file>