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9.png" ContentType="image/png"/>
  <Override PartName="/ppt/media/image16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03C3-52D8-4DF8-B742-ADD175295A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58D6-0726-4ED8-B287-3D5884BEA3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2912-FB9F-4B81-AD97-49B9519BFD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BCD-7F92-4B38-A3D5-15D9EFEB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8B1-4027-4560-B8C1-1498B48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FD5-064B-4AB4-9B5C-5EE3E4E4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F3B-ABA8-438F-AC7E-E95FA8EA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4ABD5-3371-4448-ABE7-A4F9D4BB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C4FE-18B6-4967-B5E5-7C4D7499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64B88-EE85-4A4C-9E9A-A151B8AA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A0661-3E28-431E-8CDA-7DEEEF1A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3B9E-DBAE-4469-B519-CD7C153F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657DD-73BD-400A-93E8-934D975A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A6957-F622-4F27-AA62-AE2CB27A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250-8B0D-4ABF-A04E-AB3AD97E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0B148-5C07-4AA1-A288-5359151B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AF8C7-1E23-4F4C-BB45-5B1EF24C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D3198-CAFC-4593-92EA-D8FBF24E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E5046-F6AE-4309-85A4-B42E5790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0BF1B-D906-4DD0-A156-28D7EA42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DBBD-782D-45B2-B00C-0142F2CE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8C74-A4C0-4D39-9B94-51CBD4E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0A4A-744D-4A53-9B33-0C364868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A131-6F55-4EEF-9A20-68783E25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5528-61F6-4F95-B59D-402A413C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436-3EEC-4D23-9A7A-5AD18731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80A9-FA2D-4567-A48E-8E67EAE9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3A3E-EF44-4343-B68D-51428DBA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E0795-6DFB-4010-B71E-0F6567AC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76CE7-B2F6-4DCC-A2DF-C7CB19B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4E01-CE74-4CF9-B7F3-BF698043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ABF5-9453-4258-A864-2C492A12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AFDB-E8DE-4CB4-B52E-E40AE14D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2D686-8A64-46CE-90F3-DF02A972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4E2D7-34EE-488B-BA3B-C57EC177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5294A-8791-4AB8-AFF8-DF78E5A8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41E-20F3-422B-B9FC-C4E713EB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DB03E-2B8D-42F1-86B1-B6978E1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48935-A130-48A3-BD6A-69C78EB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5AF8D2-150D-4E7C-9B3F-D6FC816E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2A779A-2E0E-4481-8C13-A6B81636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164407-6885-4D1B-9C79-ED0B5AB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B4904-9416-451D-A650-D8A4E92B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087E4-B319-4905-A721-8A14928C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1B4D09-DD5E-4585-BFEE-620F3919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3D229-34CC-45F9-B279-DB90F264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E79A1-2307-4C4C-84E0-2D3FFE3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C4C-D557-4101-97EE-1BDC431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231D5-5CFA-4C6D-8F1C-16E6A88A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98380-00C7-41D9-951E-B383791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CDE76-593F-4A0A-8F76-89B06F06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FF9B3-2FC7-45B4-B934-0FA34614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57CE1-6B76-44A9-B6B2-0F39947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ADB40-2678-496D-B606-176E43D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F1E49-CE2A-47B3-AB29-DC05552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D545E-EAFA-4B17-8551-314BF28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19F27-5532-45E6-91F7-923D347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30B9E-B5CA-4773-9307-9AE2505A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59A-3330-4F43-A3DA-98CBC45E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EFF9F-7688-4565-A213-B6717794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80F39-4CAB-4229-8AD5-219D8E6A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50CED-AE91-4D5A-A44D-52810575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C51E7F-9571-4944-BA82-E778FE9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DCEDF-F95D-4379-8D9C-1C30958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134AE-9141-48F4-B338-16F13067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F3A6F-3AAC-4787-B7DB-1D6242B6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F8CF3-45BC-4263-A463-41EAACBF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1D7E3-84A3-45D9-A6EC-43AD5268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0E8A7-A593-4C2F-9C73-6E568C2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AE3-5D94-4455-9261-D59F3DC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7CB8C4-C852-4CE6-B2D8-2DE47636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15AD4-EEA6-43A5-B745-C21A1F2D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35EBC-2AE7-4809-9243-5058856A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A6D-57FB-4655-8F03-BB6EB09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062-9672-4919-A8BE-B380E76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F6D-C6B2-4441-B476-E6DC9F66C69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53CC-0980-46FF-9E36-8A65142C795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2505-511A-4381-A92F-50BDD3F820E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9E09-341B-42CA-830C-9726AFF3BA6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51C5-1AA4-4845-8394-A4632269D74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AEA-DCB0-4520-86DB-BE2D8D753B6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3" descr=""/>
          <p:cNvPicPr/>
          <p:nvPr/>
        </p:nvPicPr>
        <p:blipFill>
          <a:blip r:embed="rId3"/>
          <a:stretch/>
        </p:blipFill>
        <p:spPr>
          <a:xfrm>
            <a:off x="133200" y="4248000"/>
            <a:ext cx="8802720" cy="20606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2214720" y="648828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фонова Н.С. Учитель истории Лицей №7, г.Саяногорс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244440" y="23760"/>
            <a:ext cx="8759880" cy="1328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Documents and Settings\Сафонова Наталья\Рабочий стол\Владимирская Богомагерь.jpg"/>
          <p:cNvPicPr/>
          <p:nvPr/>
        </p:nvPicPr>
        <p:blipFill>
          <a:blip r:embed="rId3"/>
          <a:stretch/>
        </p:blipFill>
        <p:spPr>
          <a:xfrm>
            <a:off x="4786200" y="1357200"/>
            <a:ext cx="4000680" cy="516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Прямоугольник 3"/>
          <p:cNvSpPr/>
          <p:nvPr/>
        </p:nvSpPr>
        <p:spPr>
          <a:xfrm>
            <a:off x="285840" y="949320"/>
            <a:ext cx="442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613"/>
                </a:solidFill>
                <a:latin typeface="Constantia"/>
              </a:rPr>
              <a:t>По церковному преданию, её написал евангелист Лука на доске стола, за которым ел Иисус с Марией и Иосифом. На Русь икона попала из Византии в начале XII века (ок. 1131 года), как подарок Юрию Долгорукому от константинопольского патриарха Луки Хризоверха. С сентября 1999 года находится в храме-музее Святителя Николая в Толмачах при Государственной Третьяковской галере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1785960" y="435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341280" y="139680"/>
            <a:ext cx="8388360" cy="1384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C:\Documents and Settings\Сафонова Наталья\Рабочий стол\429px-Тихвинская_икона_Божией_Матери.jpg"/>
          <p:cNvPicPr/>
          <p:nvPr/>
        </p:nvPicPr>
        <p:blipFill>
          <a:blip r:embed="rId3"/>
          <a:stretch/>
        </p:blipFill>
        <p:spPr>
          <a:xfrm>
            <a:off x="4572000" y="1285920"/>
            <a:ext cx="4071960" cy="535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8" name="Прямоугольник 3"/>
          <p:cNvSpPr/>
          <p:nvPr/>
        </p:nvSpPr>
        <p:spPr>
          <a:xfrm>
            <a:off x="642960" y="1643040"/>
            <a:ext cx="371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Тихвинская икона Божией Матери — икона Богородицы, почитаемая в Русской православной церкви чудотворной. Написана, по преданию, евангелистом Лукой. Находится вТихвинском БогородичномУспенском мужском монастыр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8680" cy="14446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Сафонова Наталья\Рабочий стол\Иверская Богоматерь.jpg"/>
          <p:cNvPicPr/>
          <p:nvPr/>
        </p:nvPicPr>
        <p:blipFill>
          <a:blip r:embed="rId3"/>
          <a:stretch/>
        </p:blipFill>
        <p:spPr>
          <a:xfrm>
            <a:off x="4857840" y="1214280"/>
            <a:ext cx="4143240" cy="521496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1" name="Прямоугольник 3"/>
          <p:cNvSpPr/>
          <p:nvPr/>
        </p:nvSpPr>
        <p:spPr>
          <a:xfrm>
            <a:off x="285840" y="17859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Оригинал находится в Иверском монастыре на Афоне, в Греции; согласно православному преданию он написан евангелистом Лукой.В 1669 году копию принесенного с Афона списка Иверской иконы поместили при триумфальных Неглиненских (Воскресенских) воротах Китай-город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353880" y="139680"/>
            <a:ext cx="8425080" cy="138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Сафонова Наталья\Рабочий стол\Смоленская Богоматерь.jpg"/>
          <p:cNvPicPr/>
          <p:nvPr/>
        </p:nvPicPr>
        <p:blipFill>
          <a:blip r:embed="rId3"/>
          <a:stretch/>
        </p:blipFill>
        <p:spPr>
          <a:xfrm>
            <a:off x="5214960" y="1285920"/>
            <a:ext cx="3786120" cy="521496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4" name="Прямоугольник 3"/>
          <p:cNvSpPr/>
          <p:nvPr/>
        </p:nvSpPr>
        <p:spPr>
          <a:xfrm>
            <a:off x="214200" y="1000080"/>
            <a:ext cx="5143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В начале XII века князь Владимир Мономах перенёс икону в Смоленск где заложил храм Успения Богоматери, в котором впоследствии и разместили христианскую святыню. Церковное предание приписывает иконе помощь в спасении города в 1239 году от татарского нашествия. Позже икона была перенесена в Москву и до 1456 года хранилась в Благовещенском соборе (по просьбе Михаила, епископа Смоленского икона была возвращена в Смоленск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2"/>
          <a:stretch/>
        </p:blipFill>
        <p:spPr>
          <a:xfrm>
            <a:off x="450720" y="66600"/>
            <a:ext cx="8248680" cy="1384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Сафонова Наталья\Рабочий стол\Казанская Богоматерь.jpg"/>
          <p:cNvPicPr/>
          <p:nvPr/>
        </p:nvPicPr>
        <p:blipFill>
          <a:blip r:embed="rId3"/>
          <a:stretch/>
        </p:blipFill>
        <p:spPr>
          <a:xfrm>
            <a:off x="4857840" y="1143000"/>
            <a:ext cx="4071960" cy="5357880"/>
          </a:xfrm>
          <a:prstGeom prst="rect">
            <a:avLst/>
          </a:prstGeom>
          <a:ln w="9360">
            <a:solidFill>
              <a:srgbClr val="93540a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7" name="Прямоугольник 3"/>
          <p:cNvSpPr/>
          <p:nvPr/>
        </p:nvSpPr>
        <p:spPr>
          <a:xfrm>
            <a:off x="285840" y="1071720"/>
            <a:ext cx="4643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После пожара в Казани в 1579, уничтожившего часть города, девятилетней Матроне Онучиной явилась во сне Богородица, велевшая откопать Её икону на пепелище. В указанном месте на глубине около метра действительно была найдена икона. Каза́нский Богоро́дицкий монасты́рь — православный монастырь Казани, место обретения Казанской иконы Божьей Матер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C:\Documents and Settings\Сафонова Наталья\Рабочий стол\map.gif"/>
          <p:cNvPicPr/>
          <p:nvPr/>
        </p:nvPicPr>
        <p:blipFill>
          <a:blip r:embed="rId2"/>
          <a:stretch/>
        </p:blipFill>
        <p:spPr>
          <a:xfrm>
            <a:off x="0" y="357120"/>
            <a:ext cx="8804160" cy="6500880"/>
          </a:xfrm>
          <a:prstGeom prst="rect">
            <a:avLst/>
          </a:prstGeom>
          <a:ln w="0">
            <a:noFill/>
          </a:ln>
        </p:spPr>
      </p:pic>
      <p:sp>
        <p:nvSpPr>
          <p:cNvPr id="279" name="Счетверенная стрелка 6"/>
          <p:cNvSpPr/>
          <p:nvPr/>
        </p:nvSpPr>
        <p:spPr>
          <a:xfrm>
            <a:off x="2786040" y="2000160"/>
            <a:ext cx="3571920" cy="2857680"/>
          </a:xfrm>
          <a:prstGeom prst="pie">
            <a:avLst/>
          </a:prstGeom>
          <a:solidFill>
            <a:srgbClr val="fadbb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C:\Documents and Settings\Сафонова Наталья\Рабочий стол\429px-Тихвинская_икона_Божией_Матери.jpg"/>
          <p:cNvPicPr/>
          <p:nvPr/>
        </p:nvPicPr>
        <p:blipFill>
          <a:blip r:embed="rId3"/>
          <a:stretch/>
        </p:blipFill>
        <p:spPr>
          <a:xfrm>
            <a:off x="3786120" y="142920"/>
            <a:ext cx="1643040" cy="187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1" name="Прямоугольник 9"/>
          <p:cNvSpPr/>
          <p:nvPr/>
        </p:nvSpPr>
        <p:spPr>
          <a:xfrm>
            <a:off x="2500200" y="357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СЕВЕР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5642280" y="62150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ЮГ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Прямоугольник 11"/>
          <p:cNvSpPr/>
          <p:nvPr/>
        </p:nvSpPr>
        <p:spPr>
          <a:xfrm>
            <a:off x="1419840" y="4357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ЗАПА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6572160" y="4643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3540a"/>
                </a:solidFill>
                <a:latin typeface="Constantia"/>
              </a:rPr>
              <a:t>ВОСТО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C:\Documents and Settings\Сафонова Наталья\Рабочий стол\Иверская Богоматерь.jpg"/>
          <p:cNvPicPr/>
          <p:nvPr/>
        </p:nvPicPr>
        <p:blipFill>
          <a:blip r:embed="rId4"/>
          <a:stretch/>
        </p:blipFill>
        <p:spPr>
          <a:xfrm>
            <a:off x="3786120" y="4714920"/>
            <a:ext cx="1714680" cy="20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2" descr="C:\Documents and Settings\Сафонова Наталья\Рабочий стол\Смоленская Богоматерь.jpg"/>
          <p:cNvPicPr/>
          <p:nvPr/>
        </p:nvPicPr>
        <p:blipFill>
          <a:blip r:embed="rId5"/>
          <a:stretch/>
        </p:blipFill>
        <p:spPr>
          <a:xfrm>
            <a:off x="1000080" y="2214720"/>
            <a:ext cx="1785960" cy="209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7" name="Picture 2" descr="C:\Documents and Settings\Сафонова Наталья\Рабочий стол\Казанская Богоматерь.jpg"/>
          <p:cNvPicPr/>
          <p:nvPr/>
        </p:nvPicPr>
        <p:blipFill>
          <a:blip r:embed="rId6"/>
          <a:stretch/>
        </p:blipFill>
        <p:spPr>
          <a:xfrm>
            <a:off x="6429240" y="2214720"/>
            <a:ext cx="1643040" cy="211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2" descr="C:\Documents and Settings\Сафонова Наталья\Рабочий стол\Владимирская Богомагерь.jpg"/>
          <p:cNvPicPr/>
          <p:nvPr/>
        </p:nvPicPr>
        <p:blipFill>
          <a:blip r:embed="rId7"/>
          <a:stretch/>
        </p:blipFill>
        <p:spPr>
          <a:xfrm>
            <a:off x="3929040" y="2571840"/>
            <a:ext cx="1285920" cy="166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9:08:19Z</dcterms:created>
  <dc:creator>Сафонова Н.С.</dc:creator>
  <dc:description/>
  <dc:language>en-US</dc:language>
  <cp:lastModifiedBy>Сафонова Н.С.</cp:lastModifiedBy>
  <dcterms:modified xsi:type="dcterms:W3CDTF">2010-10-26T11:09:12Z</dcterms:modified>
  <cp:revision>12</cp:revision>
  <dc:subject/>
  <dc:title>Тихвинский Богородичный Успенский мужской монастырь</dc:title>
</cp:coreProperties>
</file>