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9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8424-68D0-430A-BE45-091AED3258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7D0-AA95-4F14-93DB-6377A9B1B1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5ACC-AAC7-4F6B-B099-558AAA6000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7C1-6B2E-47E1-B5D6-89159766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4F0-4CD2-4D4D-AD67-D53E0C83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848-4915-4A7E-B3EB-DA77B37D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24C-A0D2-4F44-A670-AC335272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336C7-1339-4D4E-9DF9-F21386EC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3BC87-C00D-466A-A27F-E3CE46EB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50AFC-3090-4DA7-ABD8-69B964F9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543C1-E27A-4277-AEF3-C247DEAA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DA769-2794-4005-BEF5-7B0A5FD8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005FF-3685-48F4-827A-65550A3E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881DD-AAF4-48FF-9790-814E2339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CBF-AFE6-491F-BE06-95219A39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AD4C0-16A9-4E4D-AD26-6F726793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8C623-4B69-4F16-A759-6A69AEFE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89EAC-3A41-4A55-A93B-DD374F04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966B8-46FF-44AA-BA30-583BA39C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725C1-686F-4B2B-826C-46F03A2C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643A-38AE-4397-ABA5-0B8DEC4E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61248-1C17-486B-BC80-08CB19C8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2079-37AA-464F-AFDA-2C873151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A5E3-01A2-4F75-B17D-A358BBC0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D9FD-3749-4608-A728-FF925653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C30-6FD4-4F72-9178-AB440843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D92A-5654-4B5B-B2DD-FC56790A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3AB8-F5BB-4A4D-87A3-4CA5D14C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B3943-EEEF-4806-BC98-247956E6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19D4-459F-437C-B09E-40FC52BC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2B8EF-A34E-4D28-807F-F9A7F061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C03C-9276-4413-86EF-A5D0665D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5FC70-5D76-4840-8898-626D73D9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9F332-962A-4377-8F8B-6F350788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505FF-248D-433B-A3FD-E048A6D9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E3E15A-814F-4E82-BF41-212186B2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9DB-2E4E-4F90-8866-E3AFF8B0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62CA2-6CDD-4423-A10B-6BEC6E0D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539325-EDCC-45F6-A93E-DCE327DF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BB5F1-7B83-4954-8460-5C5166EF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4D9E9-C4D6-443F-A517-FF67E1E7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F6AB7-5A61-42EA-BA5F-CAE4493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780C0B-8E27-4B4E-9976-B2DD802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5C6B4-5FA8-402E-BCDE-27B47C82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11A7B-18F7-4EF9-B257-E04CFA25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51634-91B1-4B49-8ABC-00168591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8A85D-C3EB-43F1-A013-E12BBB84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406-BAE1-4F48-9D58-172EA8B0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DF8C4-9946-4571-80D0-93504525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34258-BE8C-4706-B5CC-CF301E58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E0EA8-9FE1-42FE-8C6B-267077F0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49714-5B86-4BF2-9877-15803BE5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07CE2-EC43-43A5-8759-A0023735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72C5C-C3FB-4143-A09F-B8025146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F6F5E-F3E9-4418-BC20-6B3C9167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A8099-2896-4212-B5D2-5A2B0DF2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F7391-F545-42F2-943E-251DB0EA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BA2C4-6C09-42EA-9A34-379771A5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5A3-ACD8-475D-A7B7-D6634EF2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84109-20B3-488C-9418-49393B1D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01305-C195-4583-91EE-EA173AE7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94CA2-713F-4FDE-BC74-8CE68001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AA810-15E6-422A-9922-A011C09B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31218-3A13-47A7-8ADB-A6876832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EF678-05FB-495B-85C1-3F1CE4AC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EA1EB-633B-49E7-B640-1F22B3CF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B3A34-C000-4B10-AF16-A182B584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0D591-29E9-479E-96B7-2DBF97EF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EC401-4DAB-450D-9BC1-C8F690F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8C0-2261-46B6-A39E-4B871223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DA03D-2A55-4C84-A5A8-17B12406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92DE4-CABB-4DEF-A5EA-44726196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CB2ACE-98FF-4D59-B6A5-62C62D5E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734-CBE0-447A-B809-2A01B4BA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1B0-42A5-40DC-B357-F45583E8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73B2-5C36-4DBC-AC9B-A6E11364EC8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57EC-CAD3-4E6D-828D-3A089CF3AE6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265C-3FD8-499E-94BB-E3E8FCD0EE9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2C97-DE75-4641-A668-878F55E8892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0EDD-8387-4522-A000-B28EB02DADE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4C90-7CD0-44BF-94C4-1309F823FF4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Рисунок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Заголовок 3" descr=""/>
          <p:cNvPicPr/>
          <p:nvPr/>
        </p:nvPicPr>
        <p:blipFill>
          <a:blip r:embed="rId3"/>
          <a:stretch/>
        </p:blipFill>
        <p:spPr>
          <a:xfrm>
            <a:off x="133200" y="4248000"/>
            <a:ext cx="8802720" cy="20606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4"/>
          <p:cNvSpPr/>
          <p:nvPr/>
        </p:nvSpPr>
        <p:spPr>
          <a:xfrm>
            <a:off x="2214720" y="64882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афонова Н.С. Учитель истории Лицей №7, г.Саяногорс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244440" y="23760"/>
            <a:ext cx="8759880" cy="1328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C:\Documents and Settings\Сафонова Наталья\Рабочий стол\Владимирская Богомагерь.jpg"/>
          <p:cNvPicPr/>
          <p:nvPr/>
        </p:nvPicPr>
        <p:blipFill>
          <a:blip r:embed="rId3"/>
          <a:stretch/>
        </p:blipFill>
        <p:spPr>
          <a:xfrm>
            <a:off x="4786200" y="1357200"/>
            <a:ext cx="4000680" cy="516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4" name="Прямоугольник 3"/>
          <p:cNvSpPr/>
          <p:nvPr/>
        </p:nvSpPr>
        <p:spPr>
          <a:xfrm>
            <a:off x="285840" y="949320"/>
            <a:ext cx="4429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613"/>
                </a:solidFill>
                <a:latin typeface="Constantia"/>
              </a:rPr>
              <a:t>По церковному преданию, её написал евангелист Лука на доске стола, за которым ел Иисус с Марией и Иосифом. На Русь икона попала из Византии в начале XII века (ок. 1131 года), как подарок Юрию Долгорукому от константинопольского патриарха Луки Хризоверха. С сентября 1999 года находится в храме-музее Святителя Николая в Толмачах при Государственной Третьяковской галере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Прямоугольник 5"/>
          <p:cNvSpPr/>
          <p:nvPr/>
        </p:nvSpPr>
        <p:spPr>
          <a:xfrm>
            <a:off x="1785960" y="4357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2"/>
          <a:stretch/>
        </p:blipFill>
        <p:spPr>
          <a:xfrm>
            <a:off x="341280" y="139680"/>
            <a:ext cx="8388360" cy="1384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C:\Documents and Settings\Сафонова Наталья\Рабочий стол\429px-Тихвинская_икона_Божией_Матери.jpg"/>
          <p:cNvPicPr/>
          <p:nvPr/>
        </p:nvPicPr>
        <p:blipFill>
          <a:blip r:embed="rId3"/>
          <a:stretch/>
        </p:blipFill>
        <p:spPr>
          <a:xfrm>
            <a:off x="4572000" y="1285920"/>
            <a:ext cx="4071960" cy="535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8" name="Прямоугольник 3"/>
          <p:cNvSpPr/>
          <p:nvPr/>
        </p:nvSpPr>
        <p:spPr>
          <a:xfrm>
            <a:off x="642960" y="1643040"/>
            <a:ext cx="371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Тихвинская икона Божией Матери — икона Богородицы, почитаемая в Русской православной церкви чудотворной. Написана, по преданию, евангелистом Лукой. Находится вТихвинском БогородичномУспенском мужском монастыр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8680" cy="1444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Documents and Settings\Сафонова Наталья\Рабочий стол\Иверская Богоматерь.jpg"/>
          <p:cNvPicPr/>
          <p:nvPr/>
        </p:nvPicPr>
        <p:blipFill>
          <a:blip r:embed="rId3"/>
          <a:stretch/>
        </p:blipFill>
        <p:spPr>
          <a:xfrm>
            <a:off x="4857840" y="1214280"/>
            <a:ext cx="4143240" cy="5214960"/>
          </a:xfrm>
          <a:prstGeom prst="rect">
            <a:avLst/>
          </a:prstGeom>
          <a:ln w="9360">
            <a:solidFill>
              <a:srgbClr val="93540a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1" name="Прямоугольник 3"/>
          <p:cNvSpPr/>
          <p:nvPr/>
        </p:nvSpPr>
        <p:spPr>
          <a:xfrm>
            <a:off x="285840" y="17859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Оригинал находится в Иверском монастыре на Афоне, в Греции; согласно православному преданию он написан евангелистом Лукой.В 1669 году копию принесенного с Афона списка Иверской иконы поместили при триумфальных Неглиненских (Воскресенских) воротах Китай-город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2"/>
          <a:stretch/>
        </p:blipFill>
        <p:spPr>
          <a:xfrm>
            <a:off x="353880" y="139680"/>
            <a:ext cx="8425080" cy="1384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C:\Documents and Settings\Сафонова Наталья\Рабочий стол\Смоленская Богоматерь.jpg"/>
          <p:cNvPicPr/>
          <p:nvPr/>
        </p:nvPicPr>
        <p:blipFill>
          <a:blip r:embed="rId3"/>
          <a:stretch/>
        </p:blipFill>
        <p:spPr>
          <a:xfrm>
            <a:off x="5214960" y="1285920"/>
            <a:ext cx="3786120" cy="5214960"/>
          </a:xfrm>
          <a:prstGeom prst="rect">
            <a:avLst/>
          </a:prstGeom>
          <a:ln w="9360">
            <a:solidFill>
              <a:srgbClr val="93540a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4" name="Прямоугольник 3"/>
          <p:cNvSpPr/>
          <p:nvPr/>
        </p:nvSpPr>
        <p:spPr>
          <a:xfrm>
            <a:off x="214200" y="1000080"/>
            <a:ext cx="5143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В начале XII века князь Владимир Мономах перенёс икону в Смоленск где заложил храм Успения Богоматери, в котором впоследствии и разместили христианскую святыню. Церковное предание приписывает иконе помощь в спасении города в 1239 году от татарского нашествия. Позже икона была перенесена в Москву и до 1456 года хранилась в Благовещенском соборе (по просьбе Михаила, епископа Смоленского икона была возвращена в Смоленск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2"/>
          <a:stretch/>
        </p:blipFill>
        <p:spPr>
          <a:xfrm>
            <a:off x="450720" y="66600"/>
            <a:ext cx="8248680" cy="1384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Documents and Settings\Сафонова Наталья\Рабочий стол\Казанская Богоматерь.jpg"/>
          <p:cNvPicPr/>
          <p:nvPr/>
        </p:nvPicPr>
        <p:blipFill>
          <a:blip r:embed="rId3"/>
          <a:stretch/>
        </p:blipFill>
        <p:spPr>
          <a:xfrm>
            <a:off x="4857840" y="1143000"/>
            <a:ext cx="4071960" cy="5357880"/>
          </a:xfrm>
          <a:prstGeom prst="rect">
            <a:avLst/>
          </a:prstGeom>
          <a:ln w="9360">
            <a:solidFill>
              <a:srgbClr val="93540a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7" name="Прямоугольник 3"/>
          <p:cNvSpPr/>
          <p:nvPr/>
        </p:nvSpPr>
        <p:spPr>
          <a:xfrm>
            <a:off x="285840" y="1071720"/>
            <a:ext cx="4643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После пожара в Казани в 1579, уничтожившего часть города, девятилетней Матроне Онучиной явилась во сне Богородица, велевшая откопать Её икону на пепелище. В указанном месте на глубине около метра действительно была найдена икона. Каза́нский Богоро́дицкий монасты́рь — православный монастырь Казани, место обретения Казанской иконы Божьей Матер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3" descr="C:\Documents and Settings\Сафонова Наталья\Рабочий стол\map.gif"/>
          <p:cNvPicPr/>
          <p:nvPr/>
        </p:nvPicPr>
        <p:blipFill>
          <a:blip r:embed="rId2"/>
          <a:stretch/>
        </p:blipFill>
        <p:spPr>
          <a:xfrm>
            <a:off x="0" y="357120"/>
            <a:ext cx="8804160" cy="6500880"/>
          </a:xfrm>
          <a:prstGeom prst="rect">
            <a:avLst/>
          </a:prstGeom>
          <a:ln w="0">
            <a:noFill/>
          </a:ln>
        </p:spPr>
      </p:pic>
      <p:sp>
        <p:nvSpPr>
          <p:cNvPr id="279" name="Счетверенная стрелка 6"/>
          <p:cNvSpPr/>
          <p:nvPr/>
        </p:nvSpPr>
        <p:spPr>
          <a:xfrm>
            <a:off x="2786040" y="2000160"/>
            <a:ext cx="3571920" cy="2857680"/>
          </a:xfrm>
          <a:prstGeom prst="pie">
            <a:avLst/>
          </a:prstGeom>
          <a:solidFill>
            <a:srgbClr val="fadbb5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2" descr="C:\Documents and Settings\Сафонова Наталья\Рабочий стол\429px-Тихвинская_икона_Божией_Матери.jpg"/>
          <p:cNvPicPr/>
          <p:nvPr/>
        </p:nvPicPr>
        <p:blipFill>
          <a:blip r:embed="rId3"/>
          <a:stretch/>
        </p:blipFill>
        <p:spPr>
          <a:xfrm>
            <a:off x="3786120" y="142920"/>
            <a:ext cx="1643040" cy="187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1" name="Прямоугольник 9"/>
          <p:cNvSpPr/>
          <p:nvPr/>
        </p:nvSpPr>
        <p:spPr>
          <a:xfrm>
            <a:off x="2500200" y="3571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СЕВЕР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Прямоугольник 10"/>
          <p:cNvSpPr/>
          <p:nvPr/>
        </p:nvSpPr>
        <p:spPr>
          <a:xfrm>
            <a:off x="5642280" y="621504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ЮГ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Прямоугольник 11"/>
          <p:cNvSpPr/>
          <p:nvPr/>
        </p:nvSpPr>
        <p:spPr>
          <a:xfrm>
            <a:off x="1419840" y="43578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ЗАПАД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Прямоугольник 12"/>
          <p:cNvSpPr/>
          <p:nvPr/>
        </p:nvSpPr>
        <p:spPr>
          <a:xfrm>
            <a:off x="6572160" y="4643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ВОСТО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Picture 2" descr="C:\Documents and Settings\Сафонова Наталья\Рабочий стол\Иверская Богоматерь.jpg"/>
          <p:cNvPicPr/>
          <p:nvPr/>
        </p:nvPicPr>
        <p:blipFill>
          <a:blip r:embed="rId4"/>
          <a:stretch/>
        </p:blipFill>
        <p:spPr>
          <a:xfrm>
            <a:off x="3786120" y="4714920"/>
            <a:ext cx="1714680" cy="20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6" name="Picture 2" descr="C:\Documents and Settings\Сафонова Наталья\Рабочий стол\Смоленская Богоматерь.jpg"/>
          <p:cNvPicPr/>
          <p:nvPr/>
        </p:nvPicPr>
        <p:blipFill>
          <a:blip r:embed="rId5"/>
          <a:stretch/>
        </p:blipFill>
        <p:spPr>
          <a:xfrm>
            <a:off x="1000080" y="2214720"/>
            <a:ext cx="1785960" cy="209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7" name="Picture 2" descr="C:\Documents and Settings\Сафонова Наталья\Рабочий стол\Казанская Богоматерь.jpg"/>
          <p:cNvPicPr/>
          <p:nvPr/>
        </p:nvPicPr>
        <p:blipFill>
          <a:blip r:embed="rId6"/>
          <a:stretch/>
        </p:blipFill>
        <p:spPr>
          <a:xfrm>
            <a:off x="6429240" y="2214720"/>
            <a:ext cx="1643040" cy="211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8" name="Picture 2" descr="C:\Documents and Settings\Сафонова Наталья\Рабочий стол\Владимирская Богомагерь.jpg"/>
          <p:cNvPicPr/>
          <p:nvPr/>
        </p:nvPicPr>
        <p:blipFill>
          <a:blip r:embed="rId7"/>
          <a:stretch/>
        </p:blipFill>
        <p:spPr>
          <a:xfrm>
            <a:off x="3929040" y="2571840"/>
            <a:ext cx="1285920" cy="166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9:08:19Z</dcterms:created>
  <dc:creator>Сафонова Н.С.</dc:creator>
  <dc:description/>
  <dc:language>en-US</dc:language>
  <cp:lastModifiedBy>Сафонова Н.С.</cp:lastModifiedBy>
  <dcterms:modified xsi:type="dcterms:W3CDTF">2010-10-26T11:09:12Z</dcterms:modified>
  <cp:revision>12</cp:revision>
  <dc:subject/>
  <dc:title>Тихвинский Богородичный Успенский мужской монастырь</dc:title>
</cp:coreProperties>
</file>