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369-87BB-46EA-9D9C-16275BAF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AB9-B12F-4E3E-B9E3-0D1A69E0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2C9-B04E-44FE-A851-32AB9A21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4F7-4A61-4A97-9072-1BD65130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475E-4EA2-4DA9-9402-7C2D06C8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101E-69FE-4497-B6F5-4A0092A3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C245-A2C9-423D-B490-12BFF41E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6509-54F6-4D12-ABC1-A2306295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ABEF-D215-40BD-8617-1B2BBC3C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E82D-D47F-4A28-B6DD-FE0A1B7E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1EBE-F2FF-40DB-BD8B-7C945DFA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E9B-C53E-4761-8C85-B2E27AE8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D55F-7EC2-463F-A995-79A540E2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4E15-8C37-48A2-9FC3-0A5BE6F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0B46-1020-446C-814B-01B2A26F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194B-7BA0-4881-9C4A-D8D786E0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6284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400" y="198900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5528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6284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400" y="4178520"/>
            <a:ext cx="2578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C7BA-36A2-42A8-85FE-69FBC4A3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BDD-41EE-4786-966D-35F5AEDD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5BE-06EA-48E4-B3B7-B770671D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6ED-E6ED-4C12-821E-06E68CB2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9A6-5488-4A0B-9B10-1C5144C7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F46-EBF2-436D-8F91-F257F019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8560" y="417852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B6F-B122-470B-93AD-53B82B26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58560" y="1989000"/>
            <a:ext cx="390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178520"/>
            <a:ext cx="800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0A5-1C44-4B31-BFAF-0B45237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4C48-F816-4037-9AF3-591798F08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90DD-FE47-4C70-A952-B48F31F6D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то такие насекомые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987640" y="4581360"/>
            <a:ext cx="5216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ьцова Н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ЦОКО и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кры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т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приносит поль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3552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 крыль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з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носит поль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 – это животные с тремя парами лапок и одной или двумя парами крыль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60440" y="2075040"/>
            <a:ext cx="2716200" cy="1847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332000" y="4149720"/>
            <a:ext cx="2735280" cy="2019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356080" y="4160880"/>
            <a:ext cx="288468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66840" y="1989000"/>
            <a:ext cx="2905200" cy="2019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52920" y="198900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2952720" cy="1779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508720" y="4497480"/>
            <a:ext cx="2697120" cy="181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108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3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816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9800" y="42195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9800" y="5948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80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344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4508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10520" y="5084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216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088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5600" y="421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91600" y="508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51960" y="37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284720" y="3787920"/>
            <a:ext cx="431640" cy="433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33559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2924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206064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42195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272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108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78612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3800" y="378612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378936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378936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2720" y="249228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9440" y="249228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9800" y="4221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980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9800" y="5084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9800" y="551664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180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344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508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0520" y="4653000"/>
            <a:ext cx="431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2160" y="4653000"/>
            <a:ext cx="4320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2908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33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8320" y="155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91600" y="465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50160" y="335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35280" y="40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18900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080" y="2421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1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308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6520" y="24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5800" y="1989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5800" y="285264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6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6520" y="3716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5800" y="414972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6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416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25800" y="3716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37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080" y="37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3080" y="371628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852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9440" y="371628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50160" y="41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9440" y="4581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50160" y="501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50160" y="54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53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380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852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8880" y="458136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10880" y="45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1800" y="4581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омоги убрать лишне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7280" y="2349360"/>
            <a:ext cx="6400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Му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Р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4000" y="4723920"/>
            <a:ext cx="84470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йди не насекомо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ляч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ды насеко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лич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ст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бери лишн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5660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шибка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пробуй ещё р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лодцы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Летит кучка поросят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Кто ни тронет – завизжа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солнц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ого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свет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е птичка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А с крылья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НАСЕКОМЫЕ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круг носа вьётся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 в руки не даётся.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1693800"/>
            <a:ext cx="5832720" cy="370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5734080"/>
            <a:ext cx="6697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661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м для птиц и животных, впадает в спяч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ам мал, а больше себя ношу носи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9640" y="2227320"/>
            <a:ext cx="4226040" cy="3136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35520" y="2720520"/>
            <a:ext cx="3927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рм для птиц и животны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пользуется в медицин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274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падает в спя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бщие призна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м для птиц и живот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падают в спяч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3:23:59Z</dcterms:created>
  <dc:creator>bik</dc:creator>
  <dc:description/>
  <dc:language>en-US</dc:language>
  <cp:lastModifiedBy>ольга</cp:lastModifiedBy>
  <dcterms:modified xsi:type="dcterms:W3CDTF">2011-02-27T12:04:30Z</dcterms:modified>
  <cp:revision>21</cp:revision>
  <dc:subject/>
  <dc:title>Кто такие насекомые?</dc:title>
</cp:coreProperties>
</file>