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100-7DCC-49BC-BD00-C2680185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B33-40C8-4020-92A7-5FACD567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A0A-9B72-46E2-BF3E-88AF808D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E20-8D33-4B1C-8DE2-EFD9E753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8E3B-0154-435C-9400-C04A5B40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979F-6C7D-42E6-8C31-D28DE51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CF7-2692-4A3A-A54A-C2FB4B2A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7654-BEB3-4FFA-8FB6-76D29B75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106A-42D5-4C60-95BF-B1196EC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F2EA-BF77-4258-8AEA-BF9D9C52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77FB-8EBF-4DEA-BFA6-A4EFD3C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F5F-231F-40C6-A41A-659A1A4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14A9-36D4-45DC-918E-15972F3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D11F-CE5E-42CE-BCBA-AFE18FF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B61-1AC5-474A-B4A5-F4AFB50F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DCA-85C9-445A-B59A-720D0491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2C69-7077-400D-A957-719439A2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442-D02E-44BB-B1FE-BC26D2BE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69B-53F1-4536-9A7F-76929FCA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756-53E1-48C2-B4E2-2395B5F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2D4-DDCB-42FE-B393-DD2C351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F35-01B7-4ECF-A132-89E1F3E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C31-428F-4FD0-A047-9ED648C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181-0DCF-4DEB-9872-40C0E47B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5099-2CB1-4CC1-A977-FF3775B8F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E4A-90AE-4169-B546-06F542295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ие насекомые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360"/>
            <a:ext cx="5216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ьц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ЦОКО и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кры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иносит поль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3552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 кры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з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осит поль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 – это животные с тремя парами лапок и одной или двумя парами крыл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0440" y="2075040"/>
            <a:ext cx="2716200" cy="184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2735280" cy="2019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56080" y="4160880"/>
            <a:ext cx="28846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66840" y="1989000"/>
            <a:ext cx="290520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952720" cy="177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508720" y="4497480"/>
            <a:ext cx="269712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816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9800" y="5948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344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052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5600" y="42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1600" y="508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196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272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38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7893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7893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9800" y="4221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180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344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508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216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600" y="46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01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242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1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652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5800" y="1989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5800" y="2852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6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6520" y="371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5800" y="4149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6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4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5800" y="3716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3080" y="37162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8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440" y="37162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0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4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0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3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380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8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4581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8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180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моги убрать лишне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М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447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йди не насеком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ды насеко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етит кучка порося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ни тронет – завизж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олн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в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е птичк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 с крылья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НАСЕКОМЫ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круг носа вьётся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 в руки не даётс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693800"/>
            <a:ext cx="583272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5734080"/>
            <a:ext cx="6697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661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м для птиц и животных, впадает в спя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ам мал, а больше себя ношу носи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27320"/>
            <a:ext cx="4226040" cy="313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5520" y="2720520"/>
            <a:ext cx="3927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м для птиц и животны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ется в медици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адает в спя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 для птиц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адают в спя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23:59Z</dcterms:created>
  <dc:creator>bik</dc:creator>
  <dc:description/>
  <dc:language>en-US</dc:language>
  <cp:lastModifiedBy>ольга</cp:lastModifiedBy>
  <dcterms:modified xsi:type="dcterms:W3CDTF">2011-02-27T12:04:30Z</dcterms:modified>
  <cp:revision>21</cp:revision>
  <dc:subject/>
  <dc:title>Кто такие насекомые?</dc:title>
</cp:coreProperties>
</file>