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3A7-5E4E-4606-96AC-BDC26F97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04A-AF4E-4D43-943A-DC585F65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F40-AC67-49E8-8F8D-2DE6FE15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FCC-9AA5-400F-8390-EE2031A6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BBCD-849F-4EF5-A09B-81D70B8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84F-D7E7-4AFA-8491-82DB19A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5DC5-5C9A-4DA4-ADAB-7DCAC5E4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AE4-C209-40FF-BE12-37BD5604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A83-E946-4B5C-9B4E-C500DEE2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276B-CE39-464A-8E5E-4B4FCDC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302-99E4-4311-8551-CBE2F37B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786-B4C6-49D7-8AE0-223F6E5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EFD-1ED0-46E0-99E3-4982386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BF6F-0D0E-4B2D-95C3-BFFE463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B166-7EC2-4DE8-A61B-F397B594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1E5-D817-413F-AB70-69615359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C379-D816-4187-A748-497DCC75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F76-EF97-4A20-81D9-6849006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D08-E6F4-4A36-B85F-F82E1234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CE8-ACAE-49BF-BFC4-5F1DC49E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25D-A54E-43C1-8E6D-3D005E04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9B0-0344-4B2B-8E9F-3FA8FD6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915-B1E8-4B8A-8B9C-384392C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4A8-CB5A-4F5E-A0AF-B8C438A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BD5-73AD-4352-B24D-8352D77EA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426C-09E4-4C82-9D43-CDF057259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ие насекомые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360"/>
            <a:ext cx="5216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ьц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ЦОКО и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кры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риносит поль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3552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 кры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з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осит поль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 – это животные с тремя парами лапок и одной или двумя парами крыл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0440" y="2075040"/>
            <a:ext cx="2716200" cy="1847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2735280" cy="2019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56080" y="4160880"/>
            <a:ext cx="288468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66840" y="1989000"/>
            <a:ext cx="290520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2952720" cy="177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508720" y="4497480"/>
            <a:ext cx="269712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3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816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9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9800" y="5948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344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508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052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088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5600" y="421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1600" y="508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5196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272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108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38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37893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37893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9800" y="4221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180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344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508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05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216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600" y="46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016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2421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1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652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5800" y="1989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5800" y="2852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6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6520" y="3716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5800" y="41497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6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416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5800" y="3716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3080" y="37162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8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9440" y="37162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50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9440" y="4581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0160" y="501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5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3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380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8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4581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088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1800" y="458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моги убрать лишне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7280" y="2349360"/>
            <a:ext cx="64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М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447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йди не насеком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ды насеко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етит кучка поросят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ни тронет – завизж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олнц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в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е птичк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 с крылья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НАСЕКОМЫ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круг носа вьётся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 в руки не даётся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693800"/>
            <a:ext cx="5832720" cy="37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5734080"/>
            <a:ext cx="6697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661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м для птиц и животных, впадает в спя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ам мал, а больше себя ношу носи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227320"/>
            <a:ext cx="4226040" cy="313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35520" y="2720520"/>
            <a:ext cx="3927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м для птиц и животны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уется в медици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адает в спя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 для птиц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адают в спяч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23:59Z</dcterms:created>
  <dc:creator>bik</dc:creator>
  <dc:description/>
  <dc:language>en-US</dc:language>
  <cp:lastModifiedBy>ольга</cp:lastModifiedBy>
  <dcterms:modified xsi:type="dcterms:W3CDTF">2011-02-27T12:04:30Z</dcterms:modified>
  <cp:revision>21</cp:revision>
  <dc:subject/>
  <dc:title>Кто такие насекомые?</dc:title>
</cp:coreProperties>
</file>