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4FD-BD13-495D-BE9C-292D8304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B50-D5CD-4C22-958D-7A9FED11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0E8-5EA7-494D-9BBB-2C99E9D7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001-F595-4395-BF3C-946B474E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55D-21DA-4FCD-B635-826F47F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A6C-7C80-4425-B451-5BAAD3E4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253-EE53-4F83-84B6-D3EB930B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329-C628-497A-95E2-2981E509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BC6-ED56-4996-8CA2-3FFADAB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49E-1111-4F24-ABFC-C995BC2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DA9-0B35-4CCC-991B-DB255D8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F13-E301-4198-ABC5-BF87711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2EF4-8FE6-46F1-8EE2-170B8D3917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ff"/>
                </a:solidFill>
                <a:latin typeface="Times New Roman"/>
              </a:rPr>
              <a:t>Трансляция – биосинтез белка на рибосоме</a:t>
            </a:r>
            <a:endParaRPr b="0" lang="en-US" sz="8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остав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Picture 4" descr="Состав рибосом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уктура рибосом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Picture 4" descr="Структура рибосом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Большая субчастица рибосомы про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3" name="Picture 4" descr="Большая субчастица рибосомы"/>
          <p:cNvPicPr/>
          <p:nvPr/>
        </p:nvPicPr>
        <p:blipFill>
          <a:blip r:embed="rId1"/>
          <a:stretch/>
        </p:blipFill>
        <p:spPr>
          <a:xfrm>
            <a:off x="1187280" y="1700280"/>
            <a:ext cx="691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уктура тРНК и мРНК, связанных с рибосомой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5" name="Picture 4" descr="Стр-ра тРНК в рибосоме"/>
          <p:cNvPicPr/>
          <p:nvPr/>
        </p:nvPicPr>
        <p:blipFill>
          <a:blip r:embed="rId1"/>
          <a:stretch/>
        </p:blipFill>
        <p:spPr>
          <a:xfrm>
            <a:off x="826920" y="2133720"/>
            <a:ext cx="74883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556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ханизм реакции транспептид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7" name="Picture 4" descr="Мех-м реакции транспептидации"/>
          <p:cNvPicPr/>
          <p:nvPr/>
        </p:nvPicPr>
        <p:blipFill>
          <a:blip r:embed="rId1"/>
          <a:stretch/>
        </p:blipFill>
        <p:spPr>
          <a:xfrm>
            <a:off x="468360" y="1828800"/>
            <a:ext cx="8136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06560" y="-171720"/>
            <a:ext cx="395748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Иници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Picture 4" descr="Инициация у прокариот"/>
          <p:cNvPicPr/>
          <p:nvPr/>
        </p:nvPicPr>
        <p:blipFill>
          <a:blip r:embed="rId1"/>
          <a:stretch/>
        </p:blipFill>
        <p:spPr>
          <a:xfrm>
            <a:off x="3862440" y="95400"/>
            <a:ext cx="50324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RBS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РНК прокариот и роль белк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1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 инициа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Picture 4" descr="Модели инициации трансляции E coli (1)"/>
          <p:cNvPicPr/>
          <p:nvPr/>
        </p:nvPicPr>
        <p:blipFill>
          <a:blip r:embed="rId1"/>
          <a:stretch/>
        </p:blipFill>
        <p:spPr>
          <a:xfrm>
            <a:off x="4197240" y="1500120"/>
            <a:ext cx="4119840" cy="511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Типы инициаторных районов прокариотических мРНК"/>
          <p:cNvPicPr/>
          <p:nvPr/>
        </p:nvPicPr>
        <p:blipFill>
          <a:blip r:embed="rId2"/>
          <a:stretch/>
        </p:blipFill>
        <p:spPr>
          <a:xfrm>
            <a:off x="817560" y="1484280"/>
            <a:ext cx="2890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, связанные с малой субчастицей рибосомы (прокариоты)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4" name="Picture 4" descr="Факторы инициации на рибосоме"/>
          <p:cNvPicPr/>
          <p:nvPr/>
        </p:nvPicPr>
        <p:blipFill>
          <a:blip r:embed="rId1"/>
          <a:stretch/>
        </p:blipFill>
        <p:spPr>
          <a:xfrm>
            <a:off x="1187280" y="1773360"/>
            <a:ext cx="69850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а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IF3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6" name="Picture 4" descr="Молекулярная мимикрия фактора IF3"/>
          <p:cNvPicPr/>
          <p:nvPr/>
        </p:nvPicPr>
        <p:blipFill>
          <a:blip r:embed="rId1"/>
          <a:stretch/>
        </p:blipFill>
        <p:spPr>
          <a:xfrm>
            <a:off x="468360" y="2492280"/>
            <a:ext cx="8280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Элонг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8" name="Picture 4" descr="Элонгация у прокариот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хема биосинтеза белка на рибосоме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3" name="Picture 18" descr="1"/>
          <p:cNvPicPr/>
          <p:nvPr/>
        </p:nvPicPr>
        <p:blipFill>
          <a:blip r:embed="rId1"/>
          <a:stretch/>
        </p:blipFill>
        <p:spPr>
          <a:xfrm>
            <a:off x="1206360" y="1197000"/>
            <a:ext cx="676908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Модель гибридных состояний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0" name="Picture 4" descr="Модель гибридных состояний"/>
          <p:cNvPicPr/>
          <p:nvPr/>
        </p:nvPicPr>
        <p:blipFill>
          <a:blip r:embed="rId1"/>
          <a:stretch/>
        </p:blipFill>
        <p:spPr>
          <a:xfrm>
            <a:off x="539640" y="2633760"/>
            <a:ext cx="81378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«Макромолекулярная мимикрия» факторов трансляци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2" name="Picture 4" descr="Молекулярная мимикрия факторов трансляции"/>
          <p:cNvPicPr/>
          <p:nvPr/>
        </p:nvPicPr>
        <p:blipFill>
          <a:blip r:embed="rId1"/>
          <a:stretch/>
        </p:blipFill>
        <p:spPr>
          <a:xfrm>
            <a:off x="1370160" y="1557360"/>
            <a:ext cx="640872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ерминация трансляции у прокариот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4" name="Picture 4" descr="Терминация у прокариот"/>
          <p:cNvPicPr/>
          <p:nvPr/>
        </p:nvPicPr>
        <p:blipFill>
          <a:blip r:embed="rId1"/>
          <a:stretch/>
        </p:blipFill>
        <p:spPr>
          <a:xfrm>
            <a:off x="1042920" y="1282680"/>
            <a:ext cx="712944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Факторы инициации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Picture 4" descr="Эукариотические факторы инициации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Инициирующий комплекс на    40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 субчастиц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8" name="Picture 4" descr="Комплекс на 40S (3)"/>
          <p:cNvPicPr/>
          <p:nvPr/>
        </p:nvPicPr>
        <p:blipFill>
          <a:blip r:embed="rId1"/>
          <a:stretch/>
        </p:blipFill>
        <p:spPr>
          <a:xfrm>
            <a:off x="324000" y="1773360"/>
            <a:ext cx="8424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41022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эп-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RES-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зависимая инициа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Picture 4" descr="IRES-инициация"/>
          <p:cNvPicPr/>
          <p:nvPr/>
        </p:nvPicPr>
        <p:blipFill>
          <a:blip r:embed="rId1"/>
          <a:stretch/>
        </p:blipFill>
        <p:spPr>
          <a:xfrm>
            <a:off x="5076720" y="109440"/>
            <a:ext cx="34354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экспорт мРНК из ядра в цитоплазму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Picture 4" descr="Транспорт мРНК из ядра"/>
          <p:cNvPicPr/>
          <p:nvPr/>
        </p:nvPicPr>
        <p:blipFill>
          <a:blip r:embed="rId1"/>
          <a:stretch/>
        </p:blipFill>
        <p:spPr>
          <a:xfrm>
            <a:off x="1919160" y="1389240"/>
            <a:ext cx="5245200" cy="53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транспорт мРНК в цитоплазме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Picture 4" descr="молекулярные моторы"/>
          <p:cNvPicPr/>
          <p:nvPr/>
        </p:nvPicPr>
        <p:blipFill>
          <a:blip r:embed="rId1"/>
          <a:stretch/>
        </p:blipFill>
        <p:spPr>
          <a:xfrm>
            <a:off x="2427120" y="1484280"/>
            <a:ext cx="42325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: 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ибо-переключатели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6" name="Picture 4" descr="Рибо-переключатели"/>
          <p:cNvPicPr/>
          <p:nvPr/>
        </p:nvPicPr>
        <p:blipFill>
          <a:blip r:embed="rId1"/>
          <a:stretch/>
        </p:blipFill>
        <p:spPr>
          <a:xfrm>
            <a:off x="324000" y="1916280"/>
            <a:ext cx="4392360" cy="31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Рибо-переключатели 2"/>
          <p:cNvPicPr/>
          <p:nvPr/>
        </p:nvPicPr>
        <p:blipFill>
          <a:blip r:embed="rId2"/>
          <a:stretch/>
        </p:blipFill>
        <p:spPr>
          <a:xfrm>
            <a:off x="4572000" y="3500280"/>
            <a:ext cx="41832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60" y="390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трансляции мРНК ферритина (слева) и рецептора трансферрина (справа) ионами железа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Picture 4" descr="ch9f86"/>
          <p:cNvPicPr/>
          <p:nvPr/>
        </p:nvPicPr>
        <p:blipFill>
          <a:blip r:embed="rId1"/>
          <a:stretch/>
        </p:blipFill>
        <p:spPr>
          <a:xfrm>
            <a:off x="1403280" y="1968480"/>
            <a:ext cx="626436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" y="41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Строение мРНК прокариот и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5" name="Picture 4" descr="Строение мРНК"/>
          <p:cNvPicPr/>
          <p:nvPr/>
        </p:nvPicPr>
        <p:blipFill>
          <a:blip r:embed="rId1"/>
          <a:stretch/>
        </p:blipFill>
        <p:spPr>
          <a:xfrm>
            <a:off x="539640" y="1606680"/>
            <a:ext cx="80647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кз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Picture 4" descr="Деградация мРНК 1"/>
          <p:cNvPicPr/>
          <p:nvPr/>
        </p:nvPicPr>
        <p:blipFill>
          <a:blip r:embed="rId1"/>
          <a:stretch/>
        </p:blipFill>
        <p:spPr>
          <a:xfrm>
            <a:off x="250920" y="1413000"/>
            <a:ext cx="39495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Деградация мРНК 2"/>
          <p:cNvPicPr/>
          <p:nvPr/>
        </p:nvPicPr>
        <p:blipFill>
          <a:blip r:embed="rId2"/>
          <a:stretch/>
        </p:blipFill>
        <p:spPr>
          <a:xfrm>
            <a:off x="4970520" y="1413000"/>
            <a:ext cx="3913200" cy="5256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49640" y="907920"/>
            <a:ext cx="69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рожж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пита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Деградация мРНК эндонуклеазам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Picture 4" descr="Деградация мРНК 3"/>
          <p:cNvPicPr/>
          <p:nvPr/>
        </p:nvPicPr>
        <p:blipFill>
          <a:blip r:embed="rId1"/>
          <a:stretch/>
        </p:blipFill>
        <p:spPr>
          <a:xfrm>
            <a:off x="1979640" y="1287360"/>
            <a:ext cx="520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550836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 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уровне трансляции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i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 и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cro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Picture 4" descr="siРНК и miРНК"/>
          <p:cNvPicPr/>
          <p:nvPr/>
        </p:nvPicPr>
        <p:blipFill>
          <a:blip r:embed="rId1"/>
          <a:stretch/>
        </p:blipFill>
        <p:spPr>
          <a:xfrm>
            <a:off x="5456160" y="47520"/>
            <a:ext cx="32925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гуляция разных этапов трансляции у эукариот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Picture 4" descr="Регуляция трансляции на разных этапах у млекопитающих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ттенуация 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Picture 4" descr="Регуляция насцентным пептидом 2"/>
          <p:cNvPicPr/>
          <p:nvPr/>
        </p:nvPicPr>
        <p:blipFill>
          <a:blip r:embed="rId1"/>
          <a:stretch/>
        </p:blipFill>
        <p:spPr>
          <a:xfrm>
            <a:off x="2330280" y="1197000"/>
            <a:ext cx="4329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Запрограммированный сдвиг рамки считывания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Picture 4" descr="Сдвиг ОРС"/>
          <p:cNvPicPr/>
          <p:nvPr/>
        </p:nvPicPr>
        <p:blipFill>
          <a:blip r:embed="rId1"/>
          <a:stretch/>
        </p:blipFill>
        <p:spPr>
          <a:xfrm>
            <a:off x="1498680" y="1484280"/>
            <a:ext cx="6048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720" y="-38520"/>
            <a:ext cx="388620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Транс-трансляция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5" name="Picture 4" descr="Транс-трансляция"/>
          <p:cNvPicPr/>
          <p:nvPr/>
        </p:nvPicPr>
        <p:blipFill>
          <a:blip r:embed="rId1"/>
          <a:stretch/>
        </p:blipFill>
        <p:spPr>
          <a:xfrm>
            <a:off x="3727440" y="115920"/>
            <a:ext cx="4876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Роль транс-трансляции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Picture 4" descr="Роль транс-трансляции"/>
          <p:cNvPicPr/>
          <p:nvPr/>
        </p:nvPicPr>
        <p:blipFill>
          <a:blip r:embed="rId1"/>
          <a:stretch/>
        </p:blipFill>
        <p:spPr>
          <a:xfrm>
            <a:off x="1260360" y="1484280"/>
            <a:ext cx="66247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1144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Строе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Picture 4" descr="Строение тРНК"/>
          <p:cNvPicPr/>
          <p:nvPr/>
        </p:nvPicPr>
        <p:blipFill>
          <a:blip r:embed="rId1"/>
          <a:stretch/>
        </p:blipFill>
        <p:spPr>
          <a:xfrm>
            <a:off x="971640" y="907920"/>
            <a:ext cx="72007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Пространственная структура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Picture 4" descr="Пространственная структура тРНК"/>
          <p:cNvPicPr/>
          <p:nvPr/>
        </p:nvPicPr>
        <p:blipFill>
          <a:blip r:embed="rId1"/>
          <a:stretch/>
        </p:blipFill>
        <p:spPr>
          <a:xfrm>
            <a:off x="684360" y="1628640"/>
            <a:ext cx="777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-тРНК-синтетазы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4" descr="Амино-ацил-тРНК-синтетазы"/>
          <p:cNvPicPr/>
          <p:nvPr/>
        </p:nvPicPr>
        <p:blipFill>
          <a:blip r:embed="rId1"/>
          <a:stretch/>
        </p:blipFill>
        <p:spPr>
          <a:xfrm>
            <a:off x="826920" y="981000"/>
            <a:ext cx="7417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миноацилирование тРНК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Амино-ацилирование тРНК"/>
          <p:cNvPicPr/>
          <p:nvPr/>
        </p:nvPicPr>
        <p:blipFill>
          <a:blip r:embed="rId1"/>
          <a:stretch/>
        </p:blipFill>
        <p:spPr>
          <a:xfrm>
            <a:off x="395280" y="1773360"/>
            <a:ext cx="835344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1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5" name="Picture 4" descr="Вторичная структура 23S рРНК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Вторичная структура рРНК (2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4" descr="Вторичная структура 16S рРНК"/>
          <p:cNvPicPr/>
          <p:nvPr/>
        </p:nvPicPr>
        <p:blipFill>
          <a:blip r:embed="rId1"/>
          <a:stretch/>
        </p:blipFill>
        <p:spPr>
          <a:xfrm>
            <a:off x="1474920" y="1197000"/>
            <a:ext cx="59767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2T09:46:12Z</dcterms:created>
  <dc:creator>tanya</dc:creator>
  <dc:description/>
  <dc:language>en-US</dc:language>
  <cp:lastModifiedBy>Коля</cp:lastModifiedBy>
  <dcterms:modified xsi:type="dcterms:W3CDTF">2013-05-19T10:19:43Z</dcterms:modified>
  <cp:revision>63</cp:revision>
  <dc:subject/>
  <dc:title>Формы ДНК</dc:title>
</cp:coreProperties>
</file>