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3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25.png" ContentType="image/png"/>
  <Override PartName="/ppt/media/image18.jpeg" ContentType="image/jpeg"/>
  <Override PartName="/ppt/media/image17.png" ContentType="image/png"/>
  <Override PartName="/ppt/media/image32.jpeg" ContentType="image/jpeg"/>
  <Override PartName="/ppt/media/image1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34.png" ContentType="image/png"/>
  <Override PartName="/ppt/media/image10.jpeg" ContentType="image/jpeg"/>
  <Override PartName="/ppt/media/image29.jpeg" ContentType="image/jpeg"/>
  <Override PartName="/ppt/media/image11.jpeg" ContentType="image/jpeg"/>
  <Override PartName="/ppt/media/image9.jpeg" ContentType="image/jpeg"/>
  <Override PartName="/ppt/media/image8.jpeg" ContentType="image/jpeg"/>
  <Override PartName="/ppt/media/image38.png" ContentType="image/png"/>
  <Override PartName="/ppt/media/image39.jpeg" ContentType="image/jpeg"/>
  <Override PartName="/ppt/media/image13.jpeg" ContentType="image/jpeg"/>
  <Override PartName="/ppt/media/image31.jpeg" ContentType="image/jpeg"/>
  <Override PartName="/ppt/media/image4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37.jpeg" ContentType="image/jpeg"/>
  <Override PartName="/ppt/media/image30.png" ContentType="image/png"/>
  <Override PartName="/ppt/media/image3.jpeg" ContentType="image/jpeg"/>
  <Override PartName="/ppt/media/image24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7985B-7655-45B8-A96D-56511D118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25833-7235-4A38-9245-DB417F480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7F43E-0916-4BDA-A0EA-859171113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E4CC2-AF5E-4B84-9E45-306685863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39CCC-8267-413F-B77C-7ED7A1156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7626C-C970-4A4C-8A6E-3886444EA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64042-E2E7-4E95-A1B1-44960917B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7738A-6087-441E-BDA2-64A928B0A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B5DA6-8A92-4B62-8F73-06C442D79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F036B-CB12-4353-B0CD-67E9193D7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F3E98-D871-439C-B163-977996BCE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45713-26FA-47CA-9010-3DE50028B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E9020-F45E-428C-B6C8-11DD7CA76A8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26665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0000ff"/>
                </a:solidFill>
                <a:latin typeface="Times New Roman"/>
              </a:rPr>
              <a:t>Трансляция – биосинтез белка на рибосоме</a:t>
            </a:r>
            <a:endParaRPr b="0" lang="en-US" sz="8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Times New Roman"/>
              </a:rPr>
              <a:t>Состав рибосом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59" name="Picture 4" descr="Состав рибосом"/>
          <p:cNvPicPr/>
          <p:nvPr/>
        </p:nvPicPr>
        <p:blipFill>
          <a:blip r:embed="rId1"/>
          <a:stretch/>
        </p:blipFill>
        <p:spPr>
          <a:xfrm>
            <a:off x="539640" y="1197000"/>
            <a:ext cx="8136000" cy="532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Times New Roman"/>
              </a:rPr>
              <a:t>Структура рибосом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61" name="Picture 4" descr="Структура рибосом"/>
          <p:cNvPicPr/>
          <p:nvPr/>
        </p:nvPicPr>
        <p:blipFill>
          <a:blip r:embed="rId1"/>
          <a:stretch/>
        </p:blipFill>
        <p:spPr>
          <a:xfrm>
            <a:off x="539640" y="1341360"/>
            <a:ext cx="8064720" cy="50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9144000" cy="14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Times New Roman"/>
              </a:rPr>
              <a:t>Большая субчастица рибосомы прокариот</a:t>
            </a:r>
            <a:endParaRPr b="0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63" name="Picture 4" descr="Большая субчастица рибосомы"/>
          <p:cNvPicPr/>
          <p:nvPr/>
        </p:nvPicPr>
        <p:blipFill>
          <a:blip r:embed="rId1"/>
          <a:stretch/>
        </p:blipFill>
        <p:spPr>
          <a:xfrm>
            <a:off x="1187280" y="1700280"/>
            <a:ext cx="6913800" cy="49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Times New Roman"/>
              </a:rPr>
              <a:t>Структура тРНК и мРНК, связанных с рибосомой</a:t>
            </a:r>
            <a:endParaRPr b="0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65" name="Picture 4" descr="Стр-ра тРНК в рибосоме"/>
          <p:cNvPicPr/>
          <p:nvPr/>
        </p:nvPicPr>
        <p:blipFill>
          <a:blip r:embed="rId1"/>
          <a:stretch/>
        </p:blipFill>
        <p:spPr>
          <a:xfrm>
            <a:off x="826920" y="2133720"/>
            <a:ext cx="7488360" cy="365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23640" y="556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Times New Roman"/>
              </a:rPr>
              <a:t>Механизм реакции транспептидации</a:t>
            </a:r>
            <a:endParaRPr b="0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67" name="Picture 4" descr="Мех-м реакции транспептидации"/>
          <p:cNvPicPr/>
          <p:nvPr/>
        </p:nvPicPr>
        <p:blipFill>
          <a:blip r:embed="rId1"/>
          <a:stretch/>
        </p:blipFill>
        <p:spPr>
          <a:xfrm>
            <a:off x="468360" y="1828800"/>
            <a:ext cx="8136000" cy="40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106560" y="-171720"/>
            <a:ext cx="3957480" cy="296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Times New Roman"/>
              </a:rPr>
              <a:t>Инициация трансляции у прокариот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69" name="Picture 4" descr="Инициация у прокариот"/>
          <p:cNvPicPr/>
          <p:nvPr/>
        </p:nvPicPr>
        <p:blipFill>
          <a:blip r:embed="rId1"/>
          <a:stretch/>
        </p:blipFill>
        <p:spPr>
          <a:xfrm>
            <a:off x="3862440" y="95400"/>
            <a:ext cx="5032440" cy="67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Times New Roman"/>
              </a:rPr>
              <a:t>Строение </a:t>
            </a:r>
            <a:r>
              <a:rPr b="0" lang="en-US" sz="4000" spc="-1" strike="noStrike">
                <a:solidFill>
                  <a:srgbClr val="0000ff"/>
                </a:solidFill>
                <a:latin typeface="Times New Roman"/>
              </a:rPr>
              <a:t>RBS </a:t>
            </a:r>
            <a:r>
              <a:rPr b="0" lang="ru-RU" sz="4000" spc="-1" strike="noStrike">
                <a:solidFill>
                  <a:srgbClr val="0000ff"/>
                </a:solidFill>
                <a:latin typeface="Times New Roman"/>
              </a:rPr>
              <a:t>мРНК прокариот и роль белка </a:t>
            </a:r>
            <a:r>
              <a:rPr b="0" lang="en-US" sz="4000" spc="-1" strike="noStrike">
                <a:solidFill>
                  <a:srgbClr val="0000ff"/>
                </a:solidFill>
                <a:latin typeface="Times New Roman"/>
              </a:rPr>
              <a:t>S1 </a:t>
            </a:r>
            <a:r>
              <a:rPr b="0" lang="ru-RU" sz="4000" spc="-1" strike="noStrike">
                <a:solidFill>
                  <a:srgbClr val="0000ff"/>
                </a:solidFill>
                <a:latin typeface="Times New Roman"/>
              </a:rPr>
              <a:t>в инициации</a:t>
            </a:r>
            <a:endParaRPr b="0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71" name="Picture 4" descr="Модели инициации трансляции E coli (1)"/>
          <p:cNvPicPr/>
          <p:nvPr/>
        </p:nvPicPr>
        <p:blipFill>
          <a:blip r:embed="rId1"/>
          <a:stretch/>
        </p:blipFill>
        <p:spPr>
          <a:xfrm>
            <a:off x="4197240" y="1500120"/>
            <a:ext cx="4119840" cy="51116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5" descr="Типы инициаторных районов прокариотических мРНК"/>
          <p:cNvPicPr/>
          <p:nvPr/>
        </p:nvPicPr>
        <p:blipFill>
          <a:blip r:embed="rId2"/>
          <a:stretch/>
        </p:blipFill>
        <p:spPr>
          <a:xfrm>
            <a:off x="817560" y="1484280"/>
            <a:ext cx="289080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Times New Roman"/>
              </a:rPr>
              <a:t>Факторы инициации, связанные с малой субчастицей рибосомы (прокариоты)</a:t>
            </a:r>
            <a:endParaRPr b="0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74" name="Picture 4" descr="Факторы инициации на рибосоме"/>
          <p:cNvPicPr/>
          <p:nvPr/>
        </p:nvPicPr>
        <p:blipFill>
          <a:blip r:embed="rId1"/>
          <a:stretch/>
        </p:blipFill>
        <p:spPr>
          <a:xfrm>
            <a:off x="1187280" y="1773360"/>
            <a:ext cx="6985080" cy="48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84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Times New Roman"/>
              </a:rPr>
              <a:t>«Макромолекулярная мимикрия» фактора </a:t>
            </a:r>
            <a:r>
              <a:rPr b="0" lang="en-US" sz="4000" spc="-1" strike="noStrike">
                <a:solidFill>
                  <a:srgbClr val="0000ff"/>
                </a:solidFill>
                <a:latin typeface="Times New Roman"/>
              </a:rPr>
              <a:t>IF3</a:t>
            </a:r>
            <a:endParaRPr b="0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76" name="Picture 4" descr="Молекулярная мимикрия фактора IF3"/>
          <p:cNvPicPr/>
          <p:nvPr/>
        </p:nvPicPr>
        <p:blipFill>
          <a:blip r:embed="rId1"/>
          <a:stretch/>
        </p:blipFill>
        <p:spPr>
          <a:xfrm>
            <a:off x="468360" y="2492280"/>
            <a:ext cx="8280360" cy="31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475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Times New Roman"/>
              </a:rPr>
              <a:t>Элонгация трансляции у прокариот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78" name="Picture 4" descr="Элонгация у прокариот"/>
          <p:cNvPicPr/>
          <p:nvPr/>
        </p:nvPicPr>
        <p:blipFill>
          <a:blip r:embed="rId1"/>
          <a:stretch/>
        </p:blipFill>
        <p:spPr>
          <a:xfrm>
            <a:off x="468360" y="1628640"/>
            <a:ext cx="8280360" cy="487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914400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Times New Roman"/>
              </a:rPr>
              <a:t>Схема биосинтеза белка на рибосоме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43" name="Picture 18" descr="1"/>
          <p:cNvPicPr/>
          <p:nvPr/>
        </p:nvPicPr>
        <p:blipFill>
          <a:blip r:embed="rId1"/>
          <a:stretch/>
        </p:blipFill>
        <p:spPr>
          <a:xfrm>
            <a:off x="1206360" y="1197000"/>
            <a:ext cx="6769080" cy="54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917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Times New Roman"/>
              </a:rPr>
              <a:t>Модель гибридных состояний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80" name="Picture 4" descr="Модель гибридных состояний"/>
          <p:cNvPicPr/>
          <p:nvPr/>
        </p:nvPicPr>
        <p:blipFill>
          <a:blip r:embed="rId1"/>
          <a:stretch/>
        </p:blipFill>
        <p:spPr>
          <a:xfrm>
            <a:off x="539640" y="2633760"/>
            <a:ext cx="8137800" cy="230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Times New Roman"/>
              </a:rPr>
              <a:t>«Макромолекулярная мимикрия» факторов трансляции</a:t>
            </a:r>
            <a:endParaRPr b="0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82" name="Picture 4" descr="Молекулярная мимикрия факторов трансляции"/>
          <p:cNvPicPr/>
          <p:nvPr/>
        </p:nvPicPr>
        <p:blipFill>
          <a:blip r:embed="rId1"/>
          <a:stretch/>
        </p:blipFill>
        <p:spPr>
          <a:xfrm>
            <a:off x="1370160" y="1557360"/>
            <a:ext cx="6408720" cy="497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198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Times New Roman"/>
              </a:rPr>
              <a:t>Терминация трансляции у прокариот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84" name="Picture 4" descr="Терминация у прокариот"/>
          <p:cNvPicPr/>
          <p:nvPr/>
        </p:nvPicPr>
        <p:blipFill>
          <a:blip r:embed="rId1"/>
          <a:stretch/>
        </p:blipFill>
        <p:spPr>
          <a:xfrm>
            <a:off x="1042920" y="1282680"/>
            <a:ext cx="7129440" cy="53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Times New Roman"/>
              </a:rPr>
              <a:t>Факторы инициации трансляции у эукариот</a:t>
            </a:r>
            <a:endParaRPr b="0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86" name="Picture 4" descr="Эукариотические факторы инициации"/>
          <p:cNvPicPr/>
          <p:nvPr/>
        </p:nvPicPr>
        <p:blipFill>
          <a:blip r:embed="rId1"/>
          <a:stretch/>
        </p:blipFill>
        <p:spPr>
          <a:xfrm>
            <a:off x="250920" y="2060640"/>
            <a:ext cx="8642160" cy="38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Times New Roman"/>
              </a:rPr>
              <a:t>Инициирующий комплекс на    40</a:t>
            </a:r>
            <a:r>
              <a:rPr b="0" lang="en-US" sz="4000" spc="-1" strike="noStrike">
                <a:solidFill>
                  <a:srgbClr val="0000ff"/>
                </a:solidFill>
                <a:latin typeface="Times New Roman"/>
              </a:rPr>
              <a:t>S</a:t>
            </a:r>
            <a:r>
              <a:rPr b="0" lang="ru-RU" sz="4000" spc="-1" strike="noStrike">
                <a:solidFill>
                  <a:srgbClr val="0000ff"/>
                </a:solidFill>
                <a:latin typeface="Times New Roman"/>
              </a:rPr>
              <a:t> субчастице</a:t>
            </a:r>
            <a:endParaRPr b="0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88" name="Picture 4" descr="Комплекс на 40S (3)"/>
          <p:cNvPicPr/>
          <p:nvPr/>
        </p:nvPicPr>
        <p:blipFill>
          <a:blip r:embed="rId1"/>
          <a:stretch/>
        </p:blipFill>
        <p:spPr>
          <a:xfrm>
            <a:off x="324000" y="1773360"/>
            <a:ext cx="8424720" cy="45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4102200" cy="260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Times New Roman"/>
              </a:rPr>
              <a:t>Кэп- и </a:t>
            </a: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IRES-</a:t>
            </a:r>
            <a:r>
              <a:rPr b="0" lang="ru-RU" sz="4400" spc="-1" strike="noStrike">
                <a:solidFill>
                  <a:srgbClr val="0000ff"/>
                </a:solidFill>
                <a:latin typeface="Times New Roman"/>
              </a:rPr>
              <a:t>зависимая инициация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90" name="Picture 4" descr="IRES-инициация"/>
          <p:cNvPicPr/>
          <p:nvPr/>
        </p:nvPicPr>
        <p:blipFill>
          <a:blip r:embed="rId1"/>
          <a:stretch/>
        </p:blipFill>
        <p:spPr>
          <a:xfrm>
            <a:off x="5076720" y="109440"/>
            <a:ext cx="343548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Times New Roman"/>
              </a:rPr>
              <a:t>Регуляция трансляции: экспорт мРНК из ядра в цитоплазму</a:t>
            </a:r>
            <a:endParaRPr b="0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92" name="Picture 4" descr="Транспорт мРНК из ядра"/>
          <p:cNvPicPr/>
          <p:nvPr/>
        </p:nvPicPr>
        <p:blipFill>
          <a:blip r:embed="rId1"/>
          <a:stretch/>
        </p:blipFill>
        <p:spPr>
          <a:xfrm>
            <a:off x="1919160" y="1389240"/>
            <a:ext cx="5245200" cy="53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69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Times New Roman"/>
              </a:rPr>
              <a:t>Регуляция трансляции: транспорт мРНК в цитоплазме</a:t>
            </a:r>
            <a:endParaRPr b="0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94" name="Picture 4" descr="молекулярные моторы"/>
          <p:cNvPicPr/>
          <p:nvPr/>
        </p:nvPicPr>
        <p:blipFill>
          <a:blip r:embed="rId1"/>
          <a:stretch/>
        </p:blipFill>
        <p:spPr>
          <a:xfrm>
            <a:off x="2427120" y="1484280"/>
            <a:ext cx="4232520" cy="50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Times New Roman"/>
              </a:rPr>
              <a:t>Регуляция трансляции: </a:t>
            </a:r>
            <a:br>
              <a:rPr sz="4000"/>
            </a:br>
            <a:r>
              <a:rPr b="0" lang="ru-RU" sz="4000" spc="-1" strike="noStrike">
                <a:solidFill>
                  <a:srgbClr val="0000ff"/>
                </a:solidFill>
                <a:latin typeface="Times New Roman"/>
              </a:rPr>
              <a:t>рибо-переключатели</a:t>
            </a:r>
            <a:endParaRPr b="0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96" name="Picture 4" descr="Рибо-переключатели"/>
          <p:cNvPicPr/>
          <p:nvPr/>
        </p:nvPicPr>
        <p:blipFill>
          <a:blip r:embed="rId1"/>
          <a:stretch/>
        </p:blipFill>
        <p:spPr>
          <a:xfrm>
            <a:off x="324000" y="1916280"/>
            <a:ext cx="4392360" cy="31716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Рибо-переключатели 2"/>
          <p:cNvPicPr/>
          <p:nvPr/>
        </p:nvPicPr>
        <p:blipFill>
          <a:blip r:embed="rId2"/>
          <a:stretch/>
        </p:blipFill>
        <p:spPr>
          <a:xfrm>
            <a:off x="4572000" y="3500280"/>
            <a:ext cx="4183200" cy="302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6360" y="390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Times New Roman"/>
              </a:rPr>
              <a:t>Регуляция трансляции мРНК ферритина (слева) и рецептора трансферрина (справа) ионами железа </a:t>
            </a:r>
            <a:endParaRPr b="0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99" name="Picture 4" descr="ch9f86"/>
          <p:cNvPicPr/>
          <p:nvPr/>
        </p:nvPicPr>
        <p:blipFill>
          <a:blip r:embed="rId1"/>
          <a:stretch/>
        </p:blipFill>
        <p:spPr>
          <a:xfrm>
            <a:off x="1403280" y="1968480"/>
            <a:ext cx="6264360" cy="47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920" y="414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Times New Roman"/>
              </a:rPr>
              <a:t>Строение мРНК прокариот и эукариот</a:t>
            </a:r>
            <a:endParaRPr b="0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45" name="Picture 4" descr="Строение мРНК"/>
          <p:cNvPicPr/>
          <p:nvPr/>
        </p:nvPicPr>
        <p:blipFill>
          <a:blip r:embed="rId1"/>
          <a:stretch/>
        </p:blipFill>
        <p:spPr>
          <a:xfrm>
            <a:off x="539640" y="1606680"/>
            <a:ext cx="8064720" cy="42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-27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Times New Roman"/>
              </a:rPr>
              <a:t>Деградация мРНК экзонуклеазами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01" name="Picture 4" descr="Деградация мРНК 1"/>
          <p:cNvPicPr/>
          <p:nvPr/>
        </p:nvPicPr>
        <p:blipFill>
          <a:blip r:embed="rId1"/>
          <a:stretch/>
        </p:blipFill>
        <p:spPr>
          <a:xfrm>
            <a:off x="250920" y="1413000"/>
            <a:ext cx="3949560" cy="53006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Деградация мРНК 2"/>
          <p:cNvPicPr/>
          <p:nvPr/>
        </p:nvPicPr>
        <p:blipFill>
          <a:blip r:embed="rId2"/>
          <a:stretch/>
        </p:blipFill>
        <p:spPr>
          <a:xfrm>
            <a:off x="4970520" y="1413000"/>
            <a:ext cx="3913200" cy="525600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6"/>
          <p:cNvSpPr/>
          <p:nvPr/>
        </p:nvSpPr>
        <p:spPr>
          <a:xfrm>
            <a:off x="449640" y="907920"/>
            <a:ext cx="69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Дрожж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:                                          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Млекопитающи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7640" y="188640"/>
            <a:ext cx="889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Times New Roman"/>
              </a:rPr>
              <a:t>Деградация мРНК эндонуклеазами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05" name="Picture 4" descr="Деградация мРНК 3"/>
          <p:cNvPicPr/>
          <p:nvPr/>
        </p:nvPicPr>
        <p:blipFill>
          <a:blip r:embed="rId1"/>
          <a:stretch/>
        </p:blipFill>
        <p:spPr>
          <a:xfrm>
            <a:off x="1979640" y="1287360"/>
            <a:ext cx="520236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-36720" y="44280"/>
            <a:ext cx="5508360" cy="25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Times New Roman"/>
              </a:rPr>
              <a:t>РНК</a:t>
            </a: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i </a:t>
            </a:r>
            <a:r>
              <a:rPr b="0" lang="ru-RU" sz="4400" spc="-1" strike="noStrike">
                <a:solidFill>
                  <a:srgbClr val="0000ff"/>
                </a:solidFill>
                <a:latin typeface="Times New Roman"/>
              </a:rPr>
              <a:t>на уровне трансляции: </a:t>
            </a: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si</a:t>
            </a:r>
            <a:r>
              <a:rPr b="0" lang="ru-RU" sz="4400" spc="-1" strike="noStrike">
                <a:solidFill>
                  <a:srgbClr val="0000ff"/>
                </a:solidFill>
                <a:latin typeface="Times New Roman"/>
              </a:rPr>
              <a:t>РНК и </a:t>
            </a: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micro</a:t>
            </a:r>
            <a:r>
              <a:rPr b="0" lang="ru-RU" sz="4400" spc="-1" strike="noStrike">
                <a:solidFill>
                  <a:srgbClr val="0000ff"/>
                </a:solidFill>
                <a:latin typeface="Times New Roman"/>
              </a:rPr>
              <a:t>РНК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07" name="Picture 4" descr="siРНК и miРНК"/>
          <p:cNvPicPr/>
          <p:nvPr/>
        </p:nvPicPr>
        <p:blipFill>
          <a:blip r:embed="rId1"/>
          <a:stretch/>
        </p:blipFill>
        <p:spPr>
          <a:xfrm>
            <a:off x="5456160" y="47520"/>
            <a:ext cx="3292560" cy="677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Times New Roman"/>
              </a:rPr>
              <a:t>Регуляция разных этапов трансляции у эукариот</a:t>
            </a:r>
            <a:endParaRPr b="0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09" name="Picture 4" descr="Регуляция трансляции на разных этапах у млекопитающих"/>
          <p:cNvPicPr/>
          <p:nvPr/>
        </p:nvPicPr>
        <p:blipFill>
          <a:blip r:embed="rId1"/>
          <a:stretch/>
        </p:blipFill>
        <p:spPr>
          <a:xfrm>
            <a:off x="1187280" y="1413000"/>
            <a:ext cx="6696360" cy="51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Times New Roman"/>
              </a:rPr>
              <a:t>Аттенуация трансляции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11" name="Picture 4" descr="Регуляция насцентным пептидом 2"/>
          <p:cNvPicPr/>
          <p:nvPr/>
        </p:nvPicPr>
        <p:blipFill>
          <a:blip r:embed="rId1"/>
          <a:stretch/>
        </p:blipFill>
        <p:spPr>
          <a:xfrm>
            <a:off x="2330280" y="1197000"/>
            <a:ext cx="432936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55640" y="198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Times New Roman"/>
              </a:rPr>
              <a:t>Запрограммированный сдвиг рамки считывания</a:t>
            </a:r>
            <a:endParaRPr b="0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13" name="Picture 4" descr="Сдвиг ОРС"/>
          <p:cNvPicPr/>
          <p:nvPr/>
        </p:nvPicPr>
        <p:blipFill>
          <a:blip r:embed="rId1"/>
          <a:stretch/>
        </p:blipFill>
        <p:spPr>
          <a:xfrm>
            <a:off x="1498680" y="1484280"/>
            <a:ext cx="6048360" cy="51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-36720" y="-38520"/>
            <a:ext cx="3886200" cy="202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Times New Roman"/>
              </a:rPr>
              <a:t>Транс-трансляция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15" name="Picture 4" descr="Транс-трансляция"/>
          <p:cNvPicPr/>
          <p:nvPr/>
        </p:nvPicPr>
        <p:blipFill>
          <a:blip r:embed="rId1"/>
          <a:stretch/>
        </p:blipFill>
        <p:spPr>
          <a:xfrm>
            <a:off x="3727440" y="115920"/>
            <a:ext cx="487692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Times New Roman"/>
              </a:rPr>
              <a:t>Роль транс-трансляции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17" name="Picture 4" descr="Роль транс-трансляции"/>
          <p:cNvPicPr/>
          <p:nvPr/>
        </p:nvPicPr>
        <p:blipFill>
          <a:blip r:embed="rId1"/>
          <a:stretch/>
        </p:blipFill>
        <p:spPr>
          <a:xfrm>
            <a:off x="1260360" y="1484280"/>
            <a:ext cx="6624720" cy="466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4360" y="-114480"/>
            <a:ext cx="7772400" cy="114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Times New Roman"/>
              </a:rPr>
              <a:t>Строение тРНК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47" name="Picture 4" descr="Строение тРНК"/>
          <p:cNvPicPr/>
          <p:nvPr/>
        </p:nvPicPr>
        <p:blipFill>
          <a:blip r:embed="rId1"/>
          <a:stretch/>
        </p:blipFill>
        <p:spPr>
          <a:xfrm>
            <a:off x="971640" y="907920"/>
            <a:ext cx="7200720" cy="580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475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Times New Roman"/>
              </a:rPr>
              <a:t>Пространственная структура тРНК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49" name="Picture 4" descr="Пространственная структура тРНК"/>
          <p:cNvPicPr/>
          <p:nvPr/>
        </p:nvPicPr>
        <p:blipFill>
          <a:blip r:embed="rId1"/>
          <a:stretch/>
        </p:blipFill>
        <p:spPr>
          <a:xfrm>
            <a:off x="684360" y="1628640"/>
            <a:ext cx="777708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27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Times New Roman"/>
              </a:rPr>
              <a:t>Аминоацил-тРНК-синтетазы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51" name="Picture 4" descr="Амино-ацил-тРНК-синтетазы"/>
          <p:cNvPicPr/>
          <p:nvPr/>
        </p:nvPicPr>
        <p:blipFill>
          <a:blip r:embed="rId1"/>
          <a:stretch/>
        </p:blipFill>
        <p:spPr>
          <a:xfrm>
            <a:off x="826920" y="981000"/>
            <a:ext cx="7417080" cy="568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Times New Roman"/>
              </a:rPr>
              <a:t>Аминоацилирование тРНК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53" name="Picture 4" descr="Амино-ацилирование тРНК"/>
          <p:cNvPicPr/>
          <p:nvPr/>
        </p:nvPicPr>
        <p:blipFill>
          <a:blip r:embed="rId1"/>
          <a:stretch/>
        </p:blipFill>
        <p:spPr>
          <a:xfrm>
            <a:off x="395280" y="1773360"/>
            <a:ext cx="8353440" cy="39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Times New Roman"/>
              </a:rPr>
              <a:t>Вторичная структура рРНК (1)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55" name="Picture 4" descr="Вторичная структура 23S рРНК"/>
          <p:cNvPicPr/>
          <p:nvPr/>
        </p:nvPicPr>
        <p:blipFill>
          <a:blip r:embed="rId1"/>
          <a:stretch/>
        </p:blipFill>
        <p:spPr>
          <a:xfrm>
            <a:off x="539640" y="1557360"/>
            <a:ext cx="806472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Times New Roman"/>
              </a:rPr>
              <a:t>Вторичная структура рРНК (2)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57" name="Picture 4" descr="Вторичная структура 16S рРНК"/>
          <p:cNvPicPr/>
          <p:nvPr/>
        </p:nvPicPr>
        <p:blipFill>
          <a:blip r:embed="rId1"/>
          <a:stretch/>
        </p:blipFill>
        <p:spPr>
          <a:xfrm>
            <a:off x="1474920" y="1197000"/>
            <a:ext cx="5976720" cy="54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1-02T09:46:12Z</dcterms:created>
  <dc:creator>tanya</dc:creator>
  <dc:description/>
  <dc:language>en-US</dc:language>
  <cp:lastModifiedBy>Коля</cp:lastModifiedBy>
  <dcterms:modified xsi:type="dcterms:W3CDTF">2013-05-19T10:19:43Z</dcterms:modified>
  <cp:revision>63</cp:revision>
  <dc:subject/>
  <dc:title>Формы ДНК</dc:title>
</cp:coreProperties>
</file>