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7CB-4564-4781-B4C3-8B9E86EE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B02-EC7E-4B56-97AA-F78ABDF7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947-DA24-439A-96E8-78FB0EB5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464-9C9C-4F90-B3CD-1CC3822E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6640-7200-459F-86C2-F92CE120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3507-543A-4904-9746-3245229A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CBE-1C43-4131-88F5-EBB49A05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F7E-BE6C-4CA4-8468-3E71472D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F217-8C24-4BA4-8306-830EA3AD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D6A1-AFE8-4A3D-9FBE-1413CC8D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D3B-BB1D-47B4-B761-1F5FB726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5B5-06E8-4B39-A133-4A593B2A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93A6-04F3-407E-BDD5-49C1D1AD13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ff"/>
                </a:solidFill>
                <a:latin typeface="Times New Roman"/>
              </a:rPr>
              <a:t>Трансляция – биосинтез белка на рибосоме</a:t>
            </a:r>
            <a:endParaRPr b="0" lang="en-US" sz="8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остав рибосом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9" name="Picture 4" descr="Состав рибосом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труктура рибосом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1" name="Picture 4" descr="Структура рибосом"/>
          <p:cNvPicPr/>
          <p:nvPr/>
        </p:nvPicPr>
        <p:blipFill>
          <a:blip r:embed="rId1"/>
          <a:stretch/>
        </p:blipFill>
        <p:spPr>
          <a:xfrm>
            <a:off x="539640" y="1341360"/>
            <a:ext cx="806472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Большая субчастица рибосомы прокариот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3" name="Picture 4" descr="Большая субчастица рибосомы"/>
          <p:cNvPicPr/>
          <p:nvPr/>
        </p:nvPicPr>
        <p:blipFill>
          <a:blip r:embed="rId1"/>
          <a:stretch/>
        </p:blipFill>
        <p:spPr>
          <a:xfrm>
            <a:off x="1187280" y="1700280"/>
            <a:ext cx="6913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Структура тРНК и мРНК, связанных с рибосомой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5" name="Picture 4" descr="Стр-ра тРНК в рибосоме"/>
          <p:cNvPicPr/>
          <p:nvPr/>
        </p:nvPicPr>
        <p:blipFill>
          <a:blip r:embed="rId1"/>
          <a:stretch/>
        </p:blipFill>
        <p:spPr>
          <a:xfrm>
            <a:off x="826920" y="2133720"/>
            <a:ext cx="748836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556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Механизм реакции транспептидации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7" name="Picture 4" descr="Мех-м реакции транспептидации"/>
          <p:cNvPicPr/>
          <p:nvPr/>
        </p:nvPicPr>
        <p:blipFill>
          <a:blip r:embed="rId1"/>
          <a:stretch/>
        </p:blipFill>
        <p:spPr>
          <a:xfrm>
            <a:off x="468360" y="1828800"/>
            <a:ext cx="81360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106560" y="-171720"/>
            <a:ext cx="3957480" cy="29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Инициация трансляции у прокариот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9" name="Picture 4" descr="Инициация у прокариот"/>
          <p:cNvPicPr/>
          <p:nvPr/>
        </p:nvPicPr>
        <p:blipFill>
          <a:blip r:embed="rId1"/>
          <a:stretch/>
        </p:blipFill>
        <p:spPr>
          <a:xfrm>
            <a:off x="3862440" y="95400"/>
            <a:ext cx="503244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Строение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RBS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мРНК прокариот и роль белка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S1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в инициации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1" name="Picture 4" descr="Модели инициации трансляции E coli (1)"/>
          <p:cNvPicPr/>
          <p:nvPr/>
        </p:nvPicPr>
        <p:blipFill>
          <a:blip r:embed="rId1"/>
          <a:stretch/>
        </p:blipFill>
        <p:spPr>
          <a:xfrm>
            <a:off x="4197240" y="1500120"/>
            <a:ext cx="4119840" cy="5111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Типы инициаторных районов прокариотических мРНК"/>
          <p:cNvPicPr/>
          <p:nvPr/>
        </p:nvPicPr>
        <p:blipFill>
          <a:blip r:embed="rId2"/>
          <a:stretch/>
        </p:blipFill>
        <p:spPr>
          <a:xfrm>
            <a:off x="817560" y="1484280"/>
            <a:ext cx="2890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Факторы инициации, связанные с малой субчастицей рибосомы (прокариоты)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Picture 4" descr="Факторы инициации на рибосоме"/>
          <p:cNvPicPr/>
          <p:nvPr/>
        </p:nvPicPr>
        <p:blipFill>
          <a:blip r:embed="rId1"/>
          <a:stretch/>
        </p:blipFill>
        <p:spPr>
          <a:xfrm>
            <a:off x="1187280" y="1773360"/>
            <a:ext cx="698508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«Макромолекулярная мимикрия» фактора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IF3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6" name="Picture 4" descr="Молекулярная мимикрия фактора IF3"/>
          <p:cNvPicPr/>
          <p:nvPr/>
        </p:nvPicPr>
        <p:blipFill>
          <a:blip r:embed="rId1"/>
          <a:stretch/>
        </p:blipFill>
        <p:spPr>
          <a:xfrm>
            <a:off x="468360" y="2492280"/>
            <a:ext cx="828036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Элонгация трансляции у прокариот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8" name="Picture 4" descr="Элонгация у прокариот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хема биосинтеза белка на рибосоме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3" name="Picture 18" descr="1"/>
          <p:cNvPicPr/>
          <p:nvPr/>
        </p:nvPicPr>
        <p:blipFill>
          <a:blip r:embed="rId1"/>
          <a:stretch/>
        </p:blipFill>
        <p:spPr>
          <a:xfrm>
            <a:off x="1206360" y="1197000"/>
            <a:ext cx="676908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Модель гибридных состояний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0" name="Picture 4" descr="Модель гибридных состояний"/>
          <p:cNvPicPr/>
          <p:nvPr/>
        </p:nvPicPr>
        <p:blipFill>
          <a:blip r:embed="rId1"/>
          <a:stretch/>
        </p:blipFill>
        <p:spPr>
          <a:xfrm>
            <a:off x="539640" y="2633760"/>
            <a:ext cx="813780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«Макромолекулярная мимикрия» факторов трансляции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2" name="Picture 4" descr="Молекулярная мимикрия факторов трансляции"/>
          <p:cNvPicPr/>
          <p:nvPr/>
        </p:nvPicPr>
        <p:blipFill>
          <a:blip r:embed="rId1"/>
          <a:stretch/>
        </p:blipFill>
        <p:spPr>
          <a:xfrm>
            <a:off x="1370160" y="1557360"/>
            <a:ext cx="640872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Терминация трансляции у прокариот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4" name="Picture 4" descr="Терминация у прокариот"/>
          <p:cNvPicPr/>
          <p:nvPr/>
        </p:nvPicPr>
        <p:blipFill>
          <a:blip r:embed="rId1"/>
          <a:stretch/>
        </p:blipFill>
        <p:spPr>
          <a:xfrm>
            <a:off x="1042920" y="1282680"/>
            <a:ext cx="712944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Факторы инициации трансляции у эукариот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6" name="Picture 4" descr="Эукариотические факторы инициации"/>
          <p:cNvPicPr/>
          <p:nvPr/>
        </p:nvPicPr>
        <p:blipFill>
          <a:blip r:embed="rId1"/>
          <a:stretch/>
        </p:blipFill>
        <p:spPr>
          <a:xfrm>
            <a:off x="250920" y="2060640"/>
            <a:ext cx="86421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Инициирующий комплекс на    40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 субчастице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8" name="Picture 4" descr="Комплекс на 40S (3)"/>
          <p:cNvPicPr/>
          <p:nvPr/>
        </p:nvPicPr>
        <p:blipFill>
          <a:blip r:embed="rId1"/>
          <a:stretch/>
        </p:blipFill>
        <p:spPr>
          <a:xfrm>
            <a:off x="324000" y="1773360"/>
            <a:ext cx="84247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4102200" cy="26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Кэп- и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RES-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зависимая инициация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4" descr="IRES-инициация"/>
          <p:cNvPicPr/>
          <p:nvPr/>
        </p:nvPicPr>
        <p:blipFill>
          <a:blip r:embed="rId1"/>
          <a:stretch/>
        </p:blipFill>
        <p:spPr>
          <a:xfrm>
            <a:off x="5076720" y="109440"/>
            <a:ext cx="34354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егуляция трансляции: экспорт мРНК из ядра в цитоплазму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2" name="Picture 4" descr="Транспорт мРНК из ядра"/>
          <p:cNvPicPr/>
          <p:nvPr/>
        </p:nvPicPr>
        <p:blipFill>
          <a:blip r:embed="rId1"/>
          <a:stretch/>
        </p:blipFill>
        <p:spPr>
          <a:xfrm>
            <a:off x="1919160" y="1389240"/>
            <a:ext cx="5245200" cy="53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егуляция трансляции: транспорт мРНК в цитоплазме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4" name="Picture 4" descr="молекулярные моторы"/>
          <p:cNvPicPr/>
          <p:nvPr/>
        </p:nvPicPr>
        <p:blipFill>
          <a:blip r:embed="rId1"/>
          <a:stretch/>
        </p:blipFill>
        <p:spPr>
          <a:xfrm>
            <a:off x="2427120" y="1484280"/>
            <a:ext cx="42325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егуляция трансляции: 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ибо-переключатели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6" name="Picture 4" descr="Рибо-переключатели"/>
          <p:cNvPicPr/>
          <p:nvPr/>
        </p:nvPicPr>
        <p:blipFill>
          <a:blip r:embed="rId1"/>
          <a:stretch/>
        </p:blipFill>
        <p:spPr>
          <a:xfrm>
            <a:off x="324000" y="1916280"/>
            <a:ext cx="4392360" cy="31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Рибо-переключатели 2"/>
          <p:cNvPicPr/>
          <p:nvPr/>
        </p:nvPicPr>
        <p:blipFill>
          <a:blip r:embed="rId2"/>
          <a:stretch/>
        </p:blipFill>
        <p:spPr>
          <a:xfrm>
            <a:off x="4572000" y="3500280"/>
            <a:ext cx="418320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360" y="390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егуляция трансляции мРНК ферритина (слева) и рецептора трансферрина (справа) ионами железа 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9" name="Picture 4" descr="ch9f86"/>
          <p:cNvPicPr/>
          <p:nvPr/>
        </p:nvPicPr>
        <p:blipFill>
          <a:blip r:embed="rId1"/>
          <a:stretch/>
        </p:blipFill>
        <p:spPr>
          <a:xfrm>
            <a:off x="1403280" y="1968480"/>
            <a:ext cx="626436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920" y="414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Строение мРНК прокариот и эукариот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5" name="Picture 4" descr="Строение мРНК"/>
          <p:cNvPicPr/>
          <p:nvPr/>
        </p:nvPicPr>
        <p:blipFill>
          <a:blip r:embed="rId1"/>
          <a:stretch/>
        </p:blipFill>
        <p:spPr>
          <a:xfrm>
            <a:off x="539640" y="1606680"/>
            <a:ext cx="80647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Деградация мРНК экзонуклеазами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1" name="Picture 4" descr="Деградация мРНК 1"/>
          <p:cNvPicPr/>
          <p:nvPr/>
        </p:nvPicPr>
        <p:blipFill>
          <a:blip r:embed="rId1"/>
          <a:stretch/>
        </p:blipFill>
        <p:spPr>
          <a:xfrm>
            <a:off x="250920" y="1413000"/>
            <a:ext cx="39495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Деградация мРНК 2"/>
          <p:cNvPicPr/>
          <p:nvPr/>
        </p:nvPicPr>
        <p:blipFill>
          <a:blip r:embed="rId2"/>
          <a:stretch/>
        </p:blipFill>
        <p:spPr>
          <a:xfrm>
            <a:off x="4970520" y="1413000"/>
            <a:ext cx="3913200" cy="5256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449640" y="907920"/>
            <a:ext cx="69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рожж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                                   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лекопитающ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Деградация мРНК эндонуклеазами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5" name="Picture 4" descr="Деградация мРНК 3"/>
          <p:cNvPicPr/>
          <p:nvPr/>
        </p:nvPicPr>
        <p:blipFill>
          <a:blip r:embed="rId1"/>
          <a:stretch/>
        </p:blipFill>
        <p:spPr>
          <a:xfrm>
            <a:off x="1979640" y="1287360"/>
            <a:ext cx="520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550836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РНК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 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на уровне трансляции: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i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РНК и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icro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РНК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7" name="Picture 4" descr="siРНК и miРНК"/>
          <p:cNvPicPr/>
          <p:nvPr/>
        </p:nvPicPr>
        <p:blipFill>
          <a:blip r:embed="rId1"/>
          <a:stretch/>
        </p:blipFill>
        <p:spPr>
          <a:xfrm>
            <a:off x="5456160" y="47520"/>
            <a:ext cx="329256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егуляция разных этапов трансляции у эукариот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9" name="Picture 4" descr="Регуляция трансляции на разных этапах у млекопитающих"/>
          <p:cNvPicPr/>
          <p:nvPr/>
        </p:nvPicPr>
        <p:blipFill>
          <a:blip r:embed="rId1"/>
          <a:stretch/>
        </p:blipFill>
        <p:spPr>
          <a:xfrm>
            <a:off x="1187280" y="1413000"/>
            <a:ext cx="6696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Аттенуация трансляции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1" name="Picture 4" descr="Регуляция насцентным пептидом 2"/>
          <p:cNvPicPr/>
          <p:nvPr/>
        </p:nvPicPr>
        <p:blipFill>
          <a:blip r:embed="rId1"/>
          <a:stretch/>
        </p:blipFill>
        <p:spPr>
          <a:xfrm>
            <a:off x="2330280" y="1197000"/>
            <a:ext cx="4329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Запрограммированный сдвиг рамки считывания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3" name="Picture 4" descr="Сдвиг ОРС"/>
          <p:cNvPicPr/>
          <p:nvPr/>
        </p:nvPicPr>
        <p:blipFill>
          <a:blip r:embed="rId1"/>
          <a:stretch/>
        </p:blipFill>
        <p:spPr>
          <a:xfrm>
            <a:off x="1498680" y="1484280"/>
            <a:ext cx="60483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720" y="-38520"/>
            <a:ext cx="388620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Транс-трансляция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Picture 4" descr="Транс-трансляция"/>
          <p:cNvPicPr/>
          <p:nvPr/>
        </p:nvPicPr>
        <p:blipFill>
          <a:blip r:embed="rId1"/>
          <a:stretch/>
        </p:blipFill>
        <p:spPr>
          <a:xfrm>
            <a:off x="3727440" y="115920"/>
            <a:ext cx="48769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Роль транс-трансляции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7" name="Picture 4" descr="Роль транс-трансляции"/>
          <p:cNvPicPr/>
          <p:nvPr/>
        </p:nvPicPr>
        <p:blipFill>
          <a:blip r:embed="rId1"/>
          <a:stretch/>
        </p:blipFill>
        <p:spPr>
          <a:xfrm>
            <a:off x="1260360" y="1484280"/>
            <a:ext cx="662472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-1144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троение тРНК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7" name="Picture 4" descr="Строение тРНК"/>
          <p:cNvPicPr/>
          <p:nvPr/>
        </p:nvPicPr>
        <p:blipFill>
          <a:blip r:embed="rId1"/>
          <a:stretch/>
        </p:blipFill>
        <p:spPr>
          <a:xfrm>
            <a:off x="971640" y="907920"/>
            <a:ext cx="720072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Пространственная структура тРНК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9" name="Picture 4" descr="Пространственная структура тРНК"/>
          <p:cNvPicPr/>
          <p:nvPr/>
        </p:nvPicPr>
        <p:blipFill>
          <a:blip r:embed="rId1"/>
          <a:stretch/>
        </p:blipFill>
        <p:spPr>
          <a:xfrm>
            <a:off x="684360" y="1628640"/>
            <a:ext cx="7777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Аминоацил-тРНК-синтетазы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1" name="Picture 4" descr="Амино-ацил-тРНК-синтетазы"/>
          <p:cNvPicPr/>
          <p:nvPr/>
        </p:nvPicPr>
        <p:blipFill>
          <a:blip r:embed="rId1"/>
          <a:stretch/>
        </p:blipFill>
        <p:spPr>
          <a:xfrm>
            <a:off x="826920" y="981000"/>
            <a:ext cx="741708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Аминоацилирование тРНК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3" name="Picture 4" descr="Амино-ацилирование тРНК"/>
          <p:cNvPicPr/>
          <p:nvPr/>
        </p:nvPicPr>
        <p:blipFill>
          <a:blip r:embed="rId1"/>
          <a:stretch/>
        </p:blipFill>
        <p:spPr>
          <a:xfrm>
            <a:off x="395280" y="1773360"/>
            <a:ext cx="8353440" cy="39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Вторичная структура рРНК (1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Picture 4" descr="Вторичная структура 23S рРНК"/>
          <p:cNvPicPr/>
          <p:nvPr/>
        </p:nvPicPr>
        <p:blipFill>
          <a:blip r:embed="rId1"/>
          <a:stretch/>
        </p:blipFill>
        <p:spPr>
          <a:xfrm>
            <a:off x="539640" y="1557360"/>
            <a:ext cx="8064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Вторичная структура рРНК (2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7" name="Picture 4" descr="Вторичная структура 16S рРНК"/>
          <p:cNvPicPr/>
          <p:nvPr/>
        </p:nvPicPr>
        <p:blipFill>
          <a:blip r:embed="rId1"/>
          <a:stretch/>
        </p:blipFill>
        <p:spPr>
          <a:xfrm>
            <a:off x="1474920" y="1197000"/>
            <a:ext cx="597672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2T09:46:12Z</dcterms:created>
  <dc:creator>tanya</dc:creator>
  <dc:description/>
  <dc:language>en-US</dc:language>
  <cp:lastModifiedBy>Коля</cp:lastModifiedBy>
  <dcterms:modified xsi:type="dcterms:W3CDTF">2013-05-19T10:19:43Z</dcterms:modified>
  <cp:revision>63</cp:revision>
  <dc:subject/>
  <dc:title>Формы ДНК</dc:title>
</cp:coreProperties>
</file>