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28F1-3B49-49F5-BBBE-F7F2C0FC1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ED75-B218-4D72-B3B4-8D9EB7DED6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9E7-DD02-4A1D-BF37-3BB8C627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E59-0DEA-4259-B3C9-C2791FAB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188-E1A8-4F08-9435-994667B4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7AE-1954-4DC4-A5F3-B13E4834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1E14-6BF6-4400-83BA-C0F1B2D2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99A8-2B4D-450D-BF46-22B14D6D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E466-2AF2-46A0-B4DF-C72CF4EB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6480-9069-4160-8B54-1EFC580B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0564-8A16-4143-A12B-D3A69A3F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C965-0924-4F1D-A604-C089238A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416A-1217-42D6-9389-E2AB9C64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779-01FD-4A22-B10C-3AC9E3A1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51C4-CBC0-4244-838F-CDA1710B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707A-2CE0-4C3A-B158-08C97821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1BDA-3249-4122-BBA2-D6EF1DA9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605E-2559-4864-9BFD-9FEAD934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A659-05DB-4572-A2A2-74B547C6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41C-E447-4D4B-B1D6-2FB774AB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6C3-0912-4DDC-B922-5272BB77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5A9-BEEE-4A27-8A71-B478A319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603-BCDC-4FBB-BA78-9750A445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69C-E5FF-4252-8E90-73AEB3F9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7CA-6FA5-41E8-86AB-4D02AE2B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0B1-8883-4802-BC09-41544F51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8778-1786-405B-A425-1DB300A9ED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684A-BB5A-41DE-AACA-65474E9647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art.rin.ru/cgi-bin/index.pl?id=52&amp;art=28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Учитель начальных классов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средней общеобразовательной школы №36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Picture 5" descr="11"/>
          <p:cNvPicPr/>
          <p:nvPr/>
        </p:nvPicPr>
        <p:blipFill>
          <a:blip r:embed="rId1"/>
          <a:stretch/>
        </p:blipFill>
        <p:spPr>
          <a:xfrm>
            <a:off x="108000" y="2708280"/>
            <a:ext cx="5135400" cy="3421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5183280" y="3429000"/>
            <a:ext cx="396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ПАЛК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ДЕЖ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ЛАДИМИ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ИЗКУЛЬМИНУТ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396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олько в лес мы зашли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явились комар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уки вверх – хлопок над головой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уки вниз – хлопок друго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альше по лесу шага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медведя мы встреча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уки за голову мы кладем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вразвалочку ид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нова дальше мы ид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716360" y="1628640"/>
            <a:ext cx="381636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еред нами водо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ыгать мы уже уме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ыгать будем мы смелее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-два, раз-два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зади уже в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ы шагаем, мы шага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уки выше поднима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олову не опуска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ышим ровно, глубоко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садимся мы легк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4560" y="287280"/>
            <a:ext cx="7489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ВОПИСЬ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здание художественных образов с помощью крас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D:\Student114\27февраля\images\Репин.jpg"/>
          <p:cNvPicPr/>
          <p:nvPr/>
        </p:nvPicPr>
        <p:blipFill>
          <a:blip r:embed="rId1"/>
          <a:stretch/>
        </p:blipFill>
        <p:spPr>
          <a:xfrm>
            <a:off x="250920" y="1557360"/>
            <a:ext cx="3433680" cy="4824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1"/>
          <p:cNvSpPr/>
          <p:nvPr/>
        </p:nvSpPr>
        <p:spPr>
          <a:xfrm>
            <a:off x="3708360" y="1628640"/>
            <a:ext cx="48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пин родился 24 июля 1844 г. В г. Чугуеве. Это один из выдающихся художников. Его картины ценят не только в России, но и за рубежом. Одна из самых известных картин Репина «Бурлаки на Волге», которая хранится в Третьяковской галерее как и многие другие его карт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D:\Student114\27февраля\images\картина №3.jpg"/>
          <p:cNvPicPr/>
          <p:nvPr/>
        </p:nvPicPr>
        <p:blipFill>
          <a:blip r:embed="rId1"/>
          <a:stretch/>
        </p:blipFill>
        <p:spPr>
          <a:xfrm>
            <a:off x="324000" y="260280"/>
            <a:ext cx="4176720" cy="23097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4427640" y="439560"/>
            <a:ext cx="47163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.Е. Репин "Бурлаки на Волге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ата создания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1870 г. - 1873 г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Репин И.Е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онахождение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Государственный Русский муз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териал, техника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холст, масло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57320" y="2414160"/>
            <a:ext cx="889308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А! Это бурлаки бечевой тянут барку; браво, какие типы! Вот увидишь, сейчас подойдут   поближе, стоит взглянуть ..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риблизились. О боже, зачем же они такие грязные, оборванные? У одного разорванная  штанина по земле волочится и голое колено сверкает, у других локти повылезли,  некоторые без шапок; рубахи-то, рубахи! Истлевшие - не узнать розового ситца, висящего  на них полосами, и не разобрать даже ни цвета, ни материи, из которой они сделаны. Вот  лохмотья! Влегшие в лямку груди обтерлись докрасна, оголились и побурели от загара ...  Лица угрюмые, иногда только сверкнет тяжелый взгляд из-под пряди сбившихся висячих  волос, лица потные блестят, и рубахи насквозь потемнели ... Вот контраст с этим чистым   ароматным цветником господ!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МУЗЫК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полнение произведений на инструментах, а также само звучание этих произведени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Чайковский"/>
          <p:cNvPicPr/>
          <p:nvPr/>
        </p:nvPicPr>
        <p:blipFill>
          <a:blip r:embed="rId1"/>
          <a:stretch/>
        </p:blipFill>
        <p:spPr>
          <a:xfrm>
            <a:off x="250920" y="1916280"/>
            <a:ext cx="3855960" cy="3960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4500720" y="1845720"/>
            <a:ext cx="41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тр Ильич Чайковский родился 25 апреля 1840 года в Приураль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действительно выдающийся композитор Ро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 Чайковского говорят: «Великий сын своей Родины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известно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ек называют «Золотым веком» в истории Ро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т период ознаменовался расцветом в музыке, литературе, живописи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ек дал России многих великих людей. Творчество русских художников, поэтов, композиторов одушевляла горячая любовь к Родине и к человеку. Они создали эстетически совершенную форму искусства, способную передать все богатство содержания, рожденного жизнью. Вот именно поэтом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ек был назван «Золотым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АКРЕПЛЕНИЕ ТЕМ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6" descr="Новый рисунок"/>
          <p:cNvPicPr/>
          <p:nvPr/>
        </p:nvPicPr>
        <p:blipFill>
          <a:blip r:embed="rId1"/>
          <a:stretch/>
        </p:blipFill>
        <p:spPr>
          <a:xfrm>
            <a:off x="900000" y="1484280"/>
            <a:ext cx="727236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03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По вертика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 Автор баллады «Светлана»? (Жуковски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Автор стихотворения, которое начинается со строк «Белеет парус одинокий…»? (Лермонт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 Чье произведение носит название «Каштанка»? (Чехо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По горизонта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Автор произведения «Генерал Топтыгин»? (Некрасов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Художник, нарисовавший картину «Тройка»? (Перов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Чье произведение начинается со слов «У лукоморья дуб зеленый…» (Пушкин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Известный баснописец, одна из известных басен которого «Стрекоза и муравей» (Крылов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 Известный композитор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ека? (Чайковский)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0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5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5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0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. 99-101 (в учебнике), переска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№47 стр.18, в рабочей тетрад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7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Я хочу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мои ученики бы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ными и трудолюбивы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они испытывали радость познани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ли любознательными и любили учитьс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они были грамотны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льтурными, умели общать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окружающим мир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ричиняя неприят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 ему, ни себ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они были готов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льнейшему образован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не только хотел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и умели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енно поэтому я выбрала из всех ныне используемых программу «Начальная школ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ек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00"/>
            </a:gs>
            <a:gs pos="5000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ОКРУЖАЮЩИЙ МИР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0424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Тема урока:</a:t>
            </a: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скусство России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века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«ЗОЛОТОЙ ВЕК» русской культуры</a:t>
            </a: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 Познакомить детей с искусством России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 в.</a:t>
            </a:r>
            <a:br>
              <a:rPr sz="3200"/>
            </a:br>
            <a:br>
              <a:rPr sz="3200"/>
            </a:br>
            <a:r>
              <a:rPr b="0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Задачи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3573360"/>
            <a:ext cx="8569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крыть понятия «искусство», «Золотой век Росси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знакомить детей с яркими представителями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ве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оспитывать культуру общения,  эстетический вкус, уважение и признание к сокровищнице русской культу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СКУССТ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0" y="2708280"/>
            <a:ext cx="3313080" cy="649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403280" y="4149720"/>
            <a:ext cx="3240000" cy="719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859280" y="4149720"/>
            <a:ext cx="3313080" cy="72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6084720" y="278136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 rot="2574000">
            <a:off x="2430000" y="1096560"/>
            <a:ext cx="206640" cy="1789200"/>
          </a:xfrm>
          <a:prstGeom prst="downArrow">
            <a:avLst>
              <a:gd name="adj1" fmla="val 50657"/>
              <a:gd name="adj2" fmla="val 28384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 rot="18810600">
            <a:off x="6496200" y="1039320"/>
            <a:ext cx="177480" cy="2016360"/>
          </a:xfrm>
          <a:prstGeom prst="downArrow">
            <a:avLst>
              <a:gd name="adj1" fmla="val 50657"/>
              <a:gd name="adj2" fmla="val 37244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9"/>
          <p:cNvSpPr/>
          <p:nvPr/>
        </p:nvSpPr>
        <p:spPr>
          <a:xfrm rot="1309800">
            <a:off x="3633840" y="1345680"/>
            <a:ext cx="216000" cy="2881440"/>
          </a:xfrm>
          <a:prstGeom prst="downArrow">
            <a:avLst>
              <a:gd name="adj1" fmla="val 50657"/>
              <a:gd name="adj2" fmla="val 43731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20270400">
            <a:off x="5432400" y="1307880"/>
            <a:ext cx="217440" cy="2879640"/>
          </a:xfrm>
          <a:prstGeom prst="downArrow">
            <a:avLst>
              <a:gd name="adj1" fmla="val 50657"/>
              <a:gd name="adj2" fmla="val 43415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0" y="2421000"/>
            <a:ext cx="34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АРХИТЕК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724360" y="2708280"/>
            <a:ext cx="32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МУ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1332000" y="3933720"/>
            <a:ext cx="341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788000" y="3933720"/>
            <a:ext cx="341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ЖИВОПИ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2195640" y="260280"/>
            <a:ext cx="4824360" cy="1152720"/>
          </a:xfrm>
          <a:custGeom>
            <a:avLst/>
            <a:gdLst>
              <a:gd name="textAreaLeft" fmla="*/ 706320 w 4824360"/>
              <a:gd name="textAreaRight" fmla="*/ 4118040 w 482436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28" y="10800"/>
                </a:moveTo>
                <a:cubicBezTo>
                  <a:pt x="1228" y="16086"/>
                  <a:pt x="5514" y="20372"/>
                  <a:pt x="10800" y="20372"/>
                </a:cubicBezTo>
                <a:cubicBezTo>
                  <a:pt x="16086" y="20372"/>
                  <a:pt x="20372" y="16086"/>
                  <a:pt x="20372" y="10800"/>
                </a:cubicBezTo>
                <a:cubicBezTo>
                  <a:pt x="20372" y="5514"/>
                  <a:pt x="16086" y="1228"/>
                  <a:pt x="10800" y="1228"/>
                </a:cubicBezTo>
                <a:cubicBezTo>
                  <a:pt x="5514" y="1228"/>
                  <a:pt x="1228" y="5514"/>
                  <a:pt x="1228" y="108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600"/>
                            </p:stCondLst>
                            <p:childTnLst>
                              <p:par>
                                <p:cTn id="1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7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3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8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РХИТЕКТУ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56000" y="1483920"/>
            <a:ext cx="460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РМИТАЖ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о один из музеев крупнейших музеев мира. Его история начинается с1764 года, с 225 полотен западноевропейских мастеров. За один раз осмотреть Эрмитаж невозможно. На это  нужно потратить не один день, не один месяц жизни. И все равно в музее останется многое, чего еще не видел.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img"/>
          <p:cNvPicPr/>
          <p:nvPr/>
        </p:nvPicPr>
        <p:blipFill>
          <a:blip r:embed="rId1"/>
          <a:stretch/>
        </p:blipFill>
        <p:spPr>
          <a:xfrm>
            <a:off x="250920" y="1557360"/>
            <a:ext cx="4537080" cy="148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дворцовая площадь"/>
          <p:cNvPicPr/>
          <p:nvPr/>
        </p:nvPicPr>
        <p:blipFill>
          <a:blip r:embed="rId2"/>
          <a:stretch/>
        </p:blipFill>
        <p:spPr>
          <a:xfrm>
            <a:off x="250920" y="3141720"/>
            <a:ext cx="3816360" cy="18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зимний дворец"/>
          <p:cNvPicPr/>
          <p:nvPr/>
        </p:nvPicPr>
        <p:blipFill>
          <a:blip r:embed="rId3"/>
          <a:stretch/>
        </p:blipFill>
        <p:spPr>
          <a:xfrm>
            <a:off x="250920" y="5084640"/>
            <a:ext cx="3816360" cy="16239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250920" y="692280"/>
            <a:ext cx="446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50920" y="549360"/>
            <a:ext cx="8713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</a:rPr>
              <a:t>Возведение (строительство) красивых, удобных необычных сооружений (зданий, мостов, парков)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6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оверка домашнего задания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лиц-опрос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жите, какие сооружения до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ека были самыми красивыми и величественными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Царские палаты, соборы, храм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то помогал в строительстве прекрасных дворцов?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(Итальянцы, иностранц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кого был построен Зимний Дворец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Для царской семь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то является его основателем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Варфоломей Растрелл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сейчас находится в этом здании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музей Эрмит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ы понимаете слово Эрмитаж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Это где хранятся картины, предметы, вещи, принадлежащие царской семь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ИТЕРАТУ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52360" y="981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изведения письменности, имеющие общественное значение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Пушкин"/>
          <p:cNvPicPr/>
          <p:nvPr/>
        </p:nvPicPr>
        <p:blipFill>
          <a:blip r:embed="rId1"/>
          <a:stretch/>
        </p:blipFill>
        <p:spPr>
          <a:xfrm>
            <a:off x="179280" y="2060640"/>
            <a:ext cx="3630600" cy="4608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4067280" y="2060640"/>
            <a:ext cx="475272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лнце русской поэзии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ександр Сергеевич Пушк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изведения А.С. Пушкина входят в жизнь русского человека с самого раннего детства. В любой семье есть книги великого поэта. Их читают и перечитывают и дети и взрослые. Почему? Потому что каждый находит в них что-то дорогое и близкое для себ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1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ИКТОРИНА «Мир пушкинских героев и произведений»</a:t>
            </a:r>
            <a:br>
              <a:rPr sz="40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- Из каких произведений эти строчки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У лукоморья дуб зеленый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тер по морю гуляет и кораблик подгоняет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тер, ветер! Ты могуч, ты гоняешь стаи туч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от пошел он к синему морю; видит – море слегка разыгралось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Жил-был поп, толоконный лоб. Пошел поп по базару посмотреть кой-какого товару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Кири-ку-ку – царствуй лежа на боку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эма «Руслан и Людмил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царе Салтане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мертвой царевне и о семи богатырях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рыбаке и рыбк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попе и о работнике его Балд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30:29Z</dcterms:created>
  <dc:creator>Nastya</dc:creator>
  <dc:description/>
  <dc:language>en-US</dc:language>
  <cp:lastModifiedBy>Коля</cp:lastModifiedBy>
  <dcterms:modified xsi:type="dcterms:W3CDTF">2013-10-04T06:51:46Z</dcterms:modified>
  <cp:revision>12</cp:revision>
  <dc:subject/>
  <dc:title>ОКРУЖАЮЩИЙ МИР</dc:title>
</cp:coreProperties>
</file>