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8CDA-B57A-48F9-820D-48B9226B2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204D-B077-47EA-B1D9-C48EC574C2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1FE-0F77-44C1-86FE-FFB9D823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214-67C4-4FC7-8593-58D3689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8CC-77B5-4E85-B6B7-19D57AB3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3AC-B551-4374-A9C2-23CA8D88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6EA9-C79F-4388-9EEC-1CD9A4CF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FBD6-6B1C-49EF-A67C-E2B9970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E44-7901-49A8-B0CE-B43A04D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CE14-EC8E-45E7-95E6-E8796901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8B17-F5E4-4E1B-88AC-EEE3F2EA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69A0-82E7-440D-A8F0-9039259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085E-F938-49D7-98DA-0700B5BD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F29-C91A-47B6-BC6D-30EACF77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43BE-F5A6-4F7D-AD99-EBEE648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BB91-F59E-410F-94EE-A28A86C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4D3-AADD-41B7-A358-ACB6095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6033-B5F8-409B-AB35-80E844DA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FBEC-6F86-4AF9-9487-A6413CF6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7DF-4A83-4B27-B0AF-9BC80B6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B03-E551-413D-A151-B33C2B30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45C-1062-4D8D-BC22-BDB11B65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830-B3FD-4805-969B-FB35E065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AE2-8AD7-47C9-B352-F9CEA1F7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37E-DB48-4F2A-9F25-3A361C7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AAC-67A0-4013-83BD-44ED0F4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D671-79F5-4145-8017-CFF3EBF4A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29EB-9233-41FC-850F-CB594B3B9B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rt.rin.ru/cgi-bin/index.pl?id=52&amp;art=28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средней общеобразовательной школы №36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Picture 5" descr="11"/>
          <p:cNvPicPr/>
          <p:nvPr/>
        </p:nvPicPr>
        <p:blipFill>
          <a:blip r:embed="rId1"/>
          <a:stretch/>
        </p:blipFill>
        <p:spPr>
          <a:xfrm>
            <a:off x="108000" y="2708280"/>
            <a:ext cx="5135400" cy="342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5183280" y="3429000"/>
            <a:ext cx="396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ПАЛ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НАДЕЖ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ВЛАДИМИ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КУЛЬМИНУТ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396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лько в лес мы зашли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явились комар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верх – хлопок над головой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низ – хлопок друго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альше по лесу шаг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медведя мы встреч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за голову мы кладем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вразвалочку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нова дальше мы ид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16360" y="1628640"/>
            <a:ext cx="381636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еред нами водо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мы уже уме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ыгать будем мы смелее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-два, раз-два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ади уже в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ы шагаем, мы шаг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уки выше поднимае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олову не опуска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ышим ровно, глубоко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 садимся мы легк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4560" y="287280"/>
            <a:ext cx="74898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ПИСЬ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художественных образов с помощью красо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D:\Student114\27февраля\images\Репин.jpg"/>
          <p:cNvPicPr/>
          <p:nvPr/>
        </p:nvPicPr>
        <p:blipFill>
          <a:blip r:embed="rId1"/>
          <a:stretch/>
        </p:blipFill>
        <p:spPr>
          <a:xfrm>
            <a:off x="250920" y="1557360"/>
            <a:ext cx="3433680" cy="4824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1"/>
          <p:cNvSpPr/>
          <p:nvPr/>
        </p:nvSpPr>
        <p:spPr>
          <a:xfrm>
            <a:off x="3708360" y="1628640"/>
            <a:ext cx="48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пин родился 24 июля 1844 г. В г. Чугуеве. Это один из выдающихся художников. Его картины ценят не только в России, но и за рубежом. Одна из самых известных картин Репина «Бурлаки на Волге», которая хранится в Третьяковской галерее как и многие другие его карт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D:\Student114\27февраля\images\картина №3.jpg"/>
          <p:cNvPicPr/>
          <p:nvPr/>
        </p:nvPicPr>
        <p:blipFill>
          <a:blip r:embed="rId1"/>
          <a:stretch/>
        </p:blipFill>
        <p:spPr>
          <a:xfrm>
            <a:off x="324000" y="260280"/>
            <a:ext cx="4176720" cy="23097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4427640" y="439560"/>
            <a:ext cx="47163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.Е. Репин "Бурлаки на Волге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та создания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1870 г. - 1873 г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Репин И.Е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стонахождение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Государственный Русский музе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, техника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холст, масло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57320" y="2414160"/>
            <a:ext cx="88930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А! Это бурлаки бечевой тянут барку; браво, какие типы! Вот увидишь, сейчас подойдут   поближе, стоит взглянуть 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риблизились. О боже, зачем же они такие грязные, оборванные? У одного разорванная  штанина по земле волочится и голое колено сверкает, у других локти повылезли,  некоторые без шапок; рубахи-то, рубахи! Истлевшие - не узнать розового ситца, висящего  на них полосами, и не разобрать даже ни цвета, ни материи, из которой они сделаны. Вот  лохмотья! Влегшие в лямку груди обтерлись докрасна, оголились и побурели от загара ...  Лица угрюмые, иногда только сверкнет тяжелый взгляд из-под пряди сбившихся висячих  волос, лица потные блестят, и рубахи насквозь потемнели ... Вот контраст с этим чистым   ароматным цветником господ!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УЗЫК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полнение произведений на инструментах, а также само звучание этих произведений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Чайковский"/>
          <p:cNvPicPr/>
          <p:nvPr/>
        </p:nvPicPr>
        <p:blipFill>
          <a:blip r:embed="rId1"/>
          <a:stretch/>
        </p:blipFill>
        <p:spPr>
          <a:xfrm>
            <a:off x="250920" y="1916280"/>
            <a:ext cx="3855960" cy="39607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4500720" y="1845720"/>
            <a:ext cx="417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тр Ильич Чайковский родился 25 апреля 1840 года в Приураль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действительно выдающийся композитор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Чайковского говорят: «Великий сын своей Родины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известно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называют «Золотым веком» в истории Росс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период ознаменовался расцветом в музыке, литературе, живописи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дал России многих великих людей. Творчество русских художников, поэтов, композиторов одушевляла горячая любовь к Родине и к человеку. Они создали эстетически совершенную форму искусства, способную передать все богатство содержания, рожденного жизнью. Вот именно поэтом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ек был назван «Золотым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РЕПЛЕНИЕ 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Новый рисунок"/>
          <p:cNvPicPr/>
          <p:nvPr/>
        </p:nvPicPr>
        <p:blipFill>
          <a:blip r:embed="rId1"/>
          <a:stretch/>
        </p:blipFill>
        <p:spPr>
          <a:xfrm>
            <a:off x="900000" y="1484280"/>
            <a:ext cx="72723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03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 Автор баллады «Светлана»? (Жуков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Автор стихотворения, которое начинается со строк «Белеет парус одинокий…»? (Лермонто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 Чье произведение носит название «Каштанка»? (Чехов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 Автор произведения «Генерал Топтыгин»? (Некрасов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Художник, нарисовавший картину «Тройка»? (Пер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 Чье произведение начинается со слов «У лукоморья дуб зеленый…» (Пушкин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 Известный баснописец, одна из известных басен которого «Стрекоза и муравей» (Крылов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 Известный композитор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ека? (Чайковский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. 99-101 (в учебнике), переск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№47 стр.18, в рабочей тетр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2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79280" y="259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хочу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мои ученики бы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ными и трудолюбив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испытывали радость познани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ли любознательными и любили учить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рамотны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льтурными, умели общат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окружающим мир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 причиняя неприят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 ему, ни себ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бы они были гото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льнейшему образован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не только хотел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и умели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поэтому я выбрала из всех ныне используемых программу «Начальная школ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00"/>
            </a:gs>
            <a:gs pos="50000">
              <a:srgbClr val="009900"/>
            </a:gs>
            <a:gs pos="100000">
              <a:srgbClr val="00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ОКРУЖАЮЩИЙ МИР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042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Тема урока: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скусство России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ека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ЛОТОЙ ВЕК» русской культуры</a:t>
            </a:r>
            <a:r>
              <a:rPr b="1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Познакомить детей с искусством России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br>
              <a:rPr sz="3200"/>
            </a:br>
            <a:br>
              <a:rPr sz="3200"/>
            </a:br>
            <a:r>
              <a:rPr b="0" lang="ru-RU" sz="3200" spc="-1" strike="noStrike" u="sng">
                <a:solidFill>
                  <a:srgbClr val="feec94"/>
                </a:solidFill>
                <a:uFillTx/>
                <a:latin typeface="Times New Roman"/>
              </a:rPr>
              <a:t>Задачи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357336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скрыть понятия «искусство», «Золотой век Росси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знакомить детей с яркими представителями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IX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спитывать культуру общения,  эстетический вкус, уважение и признание к сокровищнице русской куль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СКУС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2708280"/>
            <a:ext cx="3313080" cy="649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03280" y="4149720"/>
            <a:ext cx="3240000" cy="7192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4859280" y="414972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6084720" y="2781360"/>
            <a:ext cx="2519640" cy="720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 rot="2574000">
            <a:off x="2430000" y="1096560"/>
            <a:ext cx="206640" cy="1789200"/>
          </a:xfrm>
          <a:prstGeom prst="downArrow">
            <a:avLst>
              <a:gd name="adj1" fmla="val 50657"/>
              <a:gd name="adj2" fmla="val 28384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 rot="18810600">
            <a:off x="6496200" y="1039320"/>
            <a:ext cx="177480" cy="2016360"/>
          </a:xfrm>
          <a:prstGeom prst="downArrow">
            <a:avLst>
              <a:gd name="adj1" fmla="val 50657"/>
              <a:gd name="adj2" fmla="val 37244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 rot="1309800">
            <a:off x="3633840" y="1345680"/>
            <a:ext cx="216000" cy="2881440"/>
          </a:xfrm>
          <a:prstGeom prst="downArrow">
            <a:avLst>
              <a:gd name="adj1" fmla="val 50657"/>
              <a:gd name="adj2" fmla="val 43731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20270400">
            <a:off x="5432400" y="1307880"/>
            <a:ext cx="217440" cy="2879640"/>
          </a:xfrm>
          <a:prstGeom prst="downArrow">
            <a:avLst>
              <a:gd name="adj1" fmla="val 50657"/>
              <a:gd name="adj2" fmla="val 43415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0" y="2421000"/>
            <a:ext cx="34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724360" y="2708280"/>
            <a:ext cx="32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332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788000" y="3933720"/>
            <a:ext cx="341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ЖИВО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2195640" y="260280"/>
            <a:ext cx="4824360" cy="1152720"/>
          </a:xfrm>
          <a:custGeom>
            <a:avLst/>
            <a:gdLst>
              <a:gd name="textAreaLeft" fmla="*/ 706320 w 4824360"/>
              <a:gd name="textAreaRight" fmla="*/ 4118040 w 482436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28" y="10800"/>
                </a:moveTo>
                <a:cubicBezTo>
                  <a:pt x="1228" y="16086"/>
                  <a:pt x="5514" y="20372"/>
                  <a:pt x="10800" y="20372"/>
                </a:cubicBezTo>
                <a:cubicBezTo>
                  <a:pt x="16086" y="20372"/>
                  <a:pt x="20372" y="16086"/>
                  <a:pt x="20372" y="10800"/>
                </a:cubicBezTo>
                <a:cubicBezTo>
                  <a:pt x="20372" y="5514"/>
                  <a:pt x="16086" y="1228"/>
                  <a:pt x="10800" y="1228"/>
                </a:cubicBezTo>
                <a:cubicBezTo>
                  <a:pt x="5514" y="1228"/>
                  <a:pt x="1228" y="5514"/>
                  <a:pt x="1228" y="108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"/>
                            </p:stCondLst>
                            <p:childTnLst>
                              <p:par>
                                <p:cTn id="1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8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ХИТЕК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60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РМИТАЖ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то один из музеев крупнейших музеев мира. Его история начинается с1764 года, с 225 полотен западноевропейских мастеров. За один раз осмотреть Эрмитаж невозможно. На это  нужно потратить не один день, не один месяц жизни. И все равно в музее останется многое, чего еще не видел.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img"/>
          <p:cNvPicPr/>
          <p:nvPr/>
        </p:nvPicPr>
        <p:blipFill>
          <a:blip r:embed="rId1"/>
          <a:stretch/>
        </p:blipFill>
        <p:spPr>
          <a:xfrm>
            <a:off x="250920" y="1557360"/>
            <a:ext cx="4537080" cy="148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дворцовая площадь"/>
          <p:cNvPicPr/>
          <p:nvPr/>
        </p:nvPicPr>
        <p:blipFill>
          <a:blip r:embed="rId2"/>
          <a:stretch/>
        </p:blipFill>
        <p:spPr>
          <a:xfrm>
            <a:off x="250920" y="3141720"/>
            <a:ext cx="3816360" cy="18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зимний дворец"/>
          <p:cNvPicPr/>
          <p:nvPr/>
        </p:nvPicPr>
        <p:blipFill>
          <a:blip r:embed="rId3"/>
          <a:stretch/>
        </p:blipFill>
        <p:spPr>
          <a:xfrm>
            <a:off x="250920" y="5084640"/>
            <a:ext cx="3816360" cy="16239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250920" y="692280"/>
            <a:ext cx="446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0920" y="549360"/>
            <a:ext cx="8713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Возведение (строительство) красивых, удобных необычных сооружений (зданий, мостов, парков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6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верка домашнего задания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лиц-опро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ажите, какие сооружения до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а были самыми красивыми и величественным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Царские палаты, соборы, храм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помогал в строительстве прекрасных дворцов?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(Итальянцы, иностранц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кого был построен Зимний Дворец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Для царской семь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то является его основателем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Варфоломей Растрелл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сейчас находится в этом здании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музей Эрмит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ы понимаете слово Эрмитаж?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Это где хранятся картины, предметы, вещи, принадлежащие царской семь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52360" y="981000"/>
            <a:ext cx="9648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изведения письменности, имеющие общественное значение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Пушкин"/>
          <p:cNvPicPr/>
          <p:nvPr/>
        </p:nvPicPr>
        <p:blipFill>
          <a:blip r:embed="rId1"/>
          <a:stretch/>
        </p:blipFill>
        <p:spPr>
          <a:xfrm>
            <a:off x="179280" y="2060640"/>
            <a:ext cx="3630600" cy="4608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4067280" y="2060640"/>
            <a:ext cx="475272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лнце русской поэзии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изведения А.С. Пушкина входят в жизнь русского человека с самого раннего детства. В любой семье есть книги великого поэта. Их читают и перечитывают и дети и взрослые. Почему? Потому что каждый находит в них что-то дорогое и близкое для себ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1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ИКТОРИНА «Мир пушкинских героев и произведений»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Из каких произведений эти строчки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У лукоморья дуб зеленый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 по морю гуляет и кораблик подгоняет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етер, ветер! Ты могуч, ты гоняешь стаи туч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от пошел он к синему морю; видит – море слегка разыгралось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Жил-был поп, толоконный лоб. Пошел поп по базару посмотреть кой-какого товару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Кири-ку-ку – царствуй лежа на боку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эма «Руслан и Людмил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царе Салтане…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мертвой царевне и о семи богатыря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рыбаке и рыб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попе и о работнике его Балд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0:29Z</dcterms:created>
  <dc:creator>Nastya</dc:creator>
  <dc:description/>
  <dc:language>en-US</dc:language>
  <cp:lastModifiedBy>Коля</cp:lastModifiedBy>
  <dcterms:modified xsi:type="dcterms:W3CDTF">2013-10-04T06:51:46Z</dcterms:modified>
  <cp:revision>12</cp:revision>
  <dc:subject/>
  <dc:title>ОКРУЖАЮЩИЙ МИР</dc:title>
</cp:coreProperties>
</file>