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750-925E-4EB4-9863-002BAA4E4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5C6-CE36-4741-A5E8-9279129DC8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808-EB75-4ECA-907D-DD3CFBE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819-4666-4F5A-AE26-525EE7BF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6DE-C73E-4B14-A2A1-D5F2B34D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F9-169D-4E8E-9EC7-886BFE2A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6ECB-94AA-48AF-AD98-E654A73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493-6AFC-45B3-9F5C-BBAD5DA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14AA-AB0D-4A93-AA36-AD4DE17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2C0A-1F05-4113-B8D7-47F3FB8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EBA-06FD-4660-A939-94B9C9F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272D-96AF-48A7-8B4F-8EEACDB1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80F4-F694-4F4A-876D-C7C8F9F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57F-A0D5-41CF-9AFF-973DCF6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60F-4957-45E4-A1DA-E6A83AB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4766-2946-414F-BC9B-17406F07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8197-0352-4AF3-B6E0-70AF158A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9D5-06FC-4E74-BBD1-49139150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2784-2918-47ED-92CA-2DABDA3F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026-72CD-495A-AB41-F0C92874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DF7-F3A7-4AA4-8B8A-954C7E0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5DB-BAB2-42C3-A92C-D2ACBDBB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99A-BA02-46E3-A72D-7F6155B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093-31E2-4A15-9983-AD5040C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ADF-A6FB-4B29-B71F-0B04D60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C1E-9301-4A8B-984B-1E81CB7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63C4-A673-4B56-90D8-FF709252A6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DF4-573A-4407-A48C-B1F0E2E035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rt.rin.ru/cgi-bin/index.pl?id=52&amp;art=28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средней общеобразовательной школы №36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11"/>
          <p:cNvPicPr/>
          <p:nvPr/>
        </p:nvPicPr>
        <p:blipFill>
          <a:blip r:embed="rId1"/>
          <a:stretch/>
        </p:blipFill>
        <p:spPr>
          <a:xfrm>
            <a:off x="108000" y="2708280"/>
            <a:ext cx="5135400" cy="342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5183280" y="3429000"/>
            <a:ext cx="396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ПАЛ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ДЕЖ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ЛАДИМИ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КУЛЬМИНУТ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396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лько в лес мы зашли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явились кома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верх – хлопок над головой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низ – хлопок друго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ьше по лесу шаг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медведя мы встреч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за голову мы кладем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вразвалочку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нова дальше мы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16360" y="1628640"/>
            <a:ext cx="381636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еред нами водо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мы уже уме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будем мы смеле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-два, раз-два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ади уже в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ы шагаем, мы шаг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ыше подним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лову не опуск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ышим ровно, глубоко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садимся мы лег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4560" y="287280"/>
            <a:ext cx="7489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ПИСЬ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художественных образов с помощью крас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D:\Student114\27февраля\images\Репин.jpg"/>
          <p:cNvPicPr/>
          <p:nvPr/>
        </p:nvPicPr>
        <p:blipFill>
          <a:blip r:embed="rId1"/>
          <a:stretch/>
        </p:blipFill>
        <p:spPr>
          <a:xfrm>
            <a:off x="250920" y="1557360"/>
            <a:ext cx="3433680" cy="4824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1"/>
          <p:cNvSpPr/>
          <p:nvPr/>
        </p:nvSpPr>
        <p:spPr>
          <a:xfrm>
            <a:off x="3708360" y="162864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ин родился 24 июля 1844 г. В г. Чугуеве. Это один из выдающихся художников. Его картины ценят не только в России, но и за рубежом. Одна из самых известных картин Репина «Бурлаки на Волге», которая хранится в Третьяковской галерее как и многие другие его кар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D:\Student114\27февраля\images\картина №3.jpg"/>
          <p:cNvPicPr/>
          <p:nvPr/>
        </p:nvPicPr>
        <p:blipFill>
          <a:blip r:embed="rId1"/>
          <a:stretch/>
        </p:blipFill>
        <p:spPr>
          <a:xfrm>
            <a:off x="324000" y="260280"/>
            <a:ext cx="4176720" cy="2309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4427640" y="439560"/>
            <a:ext cx="47163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Е. Репин "Бурлаки на Волге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та создания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1870 г. - 1873 г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епин И.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нахожде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осударственный Русский муз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, техник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холст, масло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57320" y="2414160"/>
            <a:ext cx="88930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А! Это бурлаки бечевой тянут барку; браво, какие типы! Вот увидишь, сейчас подойдут   поближе, стоит взглянуть 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риблизились. О боже, зачем же они такие грязные, оборванные? У одного разорванная  штанина по земле волочится и голое колено сверкает, у других локти повылезли,  некоторые без шапок; рубахи-то, рубахи! Истлевшие - не узнать розового ситца, висящего  на них полосами, и не разобрать даже ни цвета, ни материи, из которой они сделаны. Вот  лохмотья! Влегшие в лямку груди обтерлись докрасна, оголились и побурели от загара ...  Лица угрюмые, иногда только сверкнет тяжелый взгляд из-под пряди сбившихся висячих  волос, лица потные блестят, и рубахи насквозь потемнели ... Вот контраст с этим чистым   ароматным цветником господ!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УЗЫ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нение произведений на инструментах, а также само звучание этих произведени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Чайковский"/>
          <p:cNvPicPr/>
          <p:nvPr/>
        </p:nvPicPr>
        <p:blipFill>
          <a:blip r:embed="rId1"/>
          <a:stretch/>
        </p:blipFill>
        <p:spPr>
          <a:xfrm>
            <a:off x="250920" y="1916280"/>
            <a:ext cx="3855960" cy="396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500720" y="184572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р Ильич Чайковский родился 25 апреля 1840 года в Приурал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действительно выдающийся композитор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Чайковского говорят: «Великий сын своей Родины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известно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называют «Золотым веком» в истории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период ознаменовался расцветом в музыке, литературе, живописи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дал России многих великих людей. Творчество русских художников, поэтов, композиторов одушевляла горячая любовь к Родине и к человеку. Они создали эстетически совершенную форму искусства, способную передать все богатство содержания, рожденного жизнью. Вот именно поэто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был назван «Золотым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РЕПЛЕНИЕ 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Новый рисунок"/>
          <p:cNvPicPr/>
          <p:nvPr/>
        </p:nvPicPr>
        <p:blipFill>
          <a:blip r:embed="rId1"/>
          <a:stretch/>
        </p:blipFill>
        <p:spPr>
          <a:xfrm>
            <a:off x="900000" y="1484280"/>
            <a:ext cx="72723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 Автор баллады «Светлана»? (Жуков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Автор стихотворения, которое начинается со строк «Белеет парус одинокий…»? (Лермо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 Чье произведение носит название «Каштанка»? (Чехо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Автор произведения «Генерал Топтыгин»? (Некрасов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Художник, нарисовавший картину «Тройка»? (Пер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Чье произведение начинается со слов «У лукоморья дуб зеленый…» (Пушкин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Известный баснописец, одна из известных басен которого «Стрекоза и муравей» (Крыл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Известный композитор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ека? (Чайковский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. 99-101 (в учебнике), переск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47 стр.18, в рабочей тетр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хочу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мои ученики бы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ыми и трудолюбив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испытывали радость познани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и любознательными и любили учить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рамотн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льтурными, умели общ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окружающим мир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ричиняя неприя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 ему, ни себ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от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льнейшему образов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не только хотел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и умели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поэтому я выбрала из всех ныне используемых программу «Начальная школ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00"/>
            </a:gs>
            <a:gs pos="5000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ОКРУЖАЮЩИЙ МИР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042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Тема урока: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скусство России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ека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ЛОТОЙ ВЕК» русской культуры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Познакомить детей с искусством России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Задачи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3573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крыть понятия «искусство», «Золотой век Росс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знакомить детей с яркими представителями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спитывать культуру общения,  эстетический вкус, уважение и признание к сокровищнице русской куль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КУС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270828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03280" y="4149720"/>
            <a:ext cx="3240000" cy="719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859280" y="414972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6084720" y="278136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 rot="2574000">
            <a:off x="2430000" y="1096560"/>
            <a:ext cx="206640" cy="1789200"/>
          </a:xfrm>
          <a:prstGeom prst="downArrow">
            <a:avLst>
              <a:gd name="adj1" fmla="val 50657"/>
              <a:gd name="adj2" fmla="val 28384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 rot="18810600">
            <a:off x="6496200" y="1039320"/>
            <a:ext cx="177480" cy="2016360"/>
          </a:xfrm>
          <a:prstGeom prst="downArrow">
            <a:avLst>
              <a:gd name="adj1" fmla="val 50657"/>
              <a:gd name="adj2" fmla="val 37244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 rot="1309800">
            <a:off x="3633840" y="1345680"/>
            <a:ext cx="216000" cy="2881440"/>
          </a:xfrm>
          <a:prstGeom prst="downArrow">
            <a:avLst>
              <a:gd name="adj1" fmla="val 50657"/>
              <a:gd name="adj2" fmla="val 4373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20270400">
            <a:off x="5432400" y="1307880"/>
            <a:ext cx="217440" cy="2879640"/>
          </a:xfrm>
          <a:prstGeom prst="downArrow">
            <a:avLst>
              <a:gd name="adj1" fmla="val 50657"/>
              <a:gd name="adj2" fmla="val 4341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2421000"/>
            <a:ext cx="34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724360" y="2708280"/>
            <a:ext cx="32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332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788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2195640" y="260280"/>
            <a:ext cx="4824360" cy="1152720"/>
          </a:xfrm>
          <a:custGeom>
            <a:avLst/>
            <a:gdLst>
              <a:gd name="textAreaLeft" fmla="*/ 706320 w 4824360"/>
              <a:gd name="textAreaRight" fmla="*/ 4118040 w 482436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28" y="10800"/>
                </a:moveTo>
                <a:cubicBezTo>
                  <a:pt x="1228" y="16086"/>
                  <a:pt x="5514" y="20372"/>
                  <a:pt x="10800" y="20372"/>
                </a:cubicBezTo>
                <a:cubicBezTo>
                  <a:pt x="16086" y="20372"/>
                  <a:pt x="20372" y="16086"/>
                  <a:pt x="20372" y="10800"/>
                </a:cubicBezTo>
                <a:cubicBezTo>
                  <a:pt x="20372" y="5514"/>
                  <a:pt x="16086" y="1228"/>
                  <a:pt x="10800" y="1228"/>
                </a:cubicBezTo>
                <a:cubicBezTo>
                  <a:pt x="5514" y="1228"/>
                  <a:pt x="1228" y="5514"/>
                  <a:pt x="1228" y="108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8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ХИТЕК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60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МИТАЖ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один из музеев крупнейших музеев мира. Его история начинается с1764 года, с 225 полотен западноевропейских мастеров. За один раз осмотреть Эрмитаж невозможно. На это  нужно потратить не один день, не один месяц жизни. И все равно в музее останется многое, чего еще не видел.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img"/>
          <p:cNvPicPr/>
          <p:nvPr/>
        </p:nvPicPr>
        <p:blipFill>
          <a:blip r:embed="rId1"/>
          <a:stretch/>
        </p:blipFill>
        <p:spPr>
          <a:xfrm>
            <a:off x="250920" y="1557360"/>
            <a:ext cx="4537080" cy="148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дворцовая площадь"/>
          <p:cNvPicPr/>
          <p:nvPr/>
        </p:nvPicPr>
        <p:blipFill>
          <a:blip r:embed="rId2"/>
          <a:stretch/>
        </p:blipFill>
        <p:spPr>
          <a:xfrm>
            <a:off x="250920" y="3141720"/>
            <a:ext cx="381636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зимний дворец"/>
          <p:cNvPicPr/>
          <p:nvPr/>
        </p:nvPicPr>
        <p:blipFill>
          <a:blip r:embed="rId3"/>
          <a:stretch/>
        </p:blipFill>
        <p:spPr>
          <a:xfrm>
            <a:off x="250920" y="5084640"/>
            <a:ext cx="3816360" cy="1623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250920" y="692280"/>
            <a:ext cx="446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0920" y="549360"/>
            <a:ext cx="8713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Возведение (строительство) красивых, удобных необычных сооружений (зданий, мостов, парков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6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верка домашнего зада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лиц-опро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жите, какие сооружения д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 были самыми красивыми и величественным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Царские палаты, соборы, храм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помогал в строительстве прекрасных дворцов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(Итальянцы, иностранц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кого был построен Зимний Дворец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Для царской семь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является его основателем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Варфоломей Растрелл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сейчас находится в этом здани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музей Эрмит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ы понимаете слово Эрмитаж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Это где хранятся картины, предметы, вещи, принадлежащие царской семь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360" y="981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зведения письменности, имеющие общественное значени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Пушкин"/>
          <p:cNvPicPr/>
          <p:nvPr/>
        </p:nvPicPr>
        <p:blipFill>
          <a:blip r:embed="rId1"/>
          <a:stretch/>
        </p:blipFill>
        <p:spPr>
          <a:xfrm>
            <a:off x="179280" y="2060640"/>
            <a:ext cx="3630600" cy="4608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4067280" y="2060640"/>
            <a:ext cx="47527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лнце русской поэзии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едения А.С. Пушкина входят в жизнь русского человека с самого раннего детства. В любой семье есть книги великого поэта. Их читают и перечитывают и дети и взрослые. Почему? Потому что каждый находит в них что-то дорогое и близкое для себ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1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КТОРИНА «Мир пушкинских героев и произведений»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Из каких произведений эти строчки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У лукоморья дуб зеленый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 по морю гуляет и кораблик подгоняет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, ветер! Ты могуч, ты гоняешь стаи туч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от пошел он к синему морю; видит – море слегка разыгралось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Жил-был поп, толоконный лоб. Пошел поп по базару посмотреть кой-какого товару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ири-ку-ку – царствуй лежа на боку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эма «Руслан и Людмил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царе Салтане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рыбаке и рыб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попе и о работнике его Балд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0:29Z</dcterms:created>
  <dc:creator>Nastya</dc:creator>
  <dc:description/>
  <dc:language>en-US</dc:language>
  <cp:lastModifiedBy>Коля</cp:lastModifiedBy>
  <dcterms:modified xsi:type="dcterms:W3CDTF">2013-10-04T06:51:46Z</dcterms:modified>
  <cp:revision>12</cp:revision>
  <dc:subject/>
  <dc:title>ОКРУЖАЮЩИЙ МИР</dc:title>
</cp:coreProperties>
</file>