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lap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drumroll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B66-2356-40D8-ADD6-2236ACF9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2F9-1AF3-4CDB-863B-85C87681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2DE-E002-4077-8E5E-CD92E21F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298-B4FA-4460-AA95-C6CC0130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F682-D7F7-40F5-92F6-D7B9AFDE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DD14-CA78-453D-8EF1-E864D030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B68B-63B5-4027-AE2A-955377E6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F6DD-5459-497E-9701-6806FA82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F3A2-700B-488F-9724-2B4E0EC8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11F4-683B-404F-9223-8949B592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073E-F03A-4063-9835-98A05F20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FB4-82DE-4B84-8163-EDA1DE83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D0C9-7B53-443B-9243-03663E3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6D28-C863-4ACA-8E20-DC1C7D5D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CF50-6902-48E8-AF4C-13A0730C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0358-3037-4089-84EE-19E25C03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27E2-D3FB-47D3-8BEF-E6164946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A7B4-FBCD-448D-BC9B-CBE80EF4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6743-9A66-470E-9AC1-4567A819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B4816-573B-495F-9222-9C80FDAC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367B1-AA89-4935-BF0B-4F414D37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690D-DCCE-4AF2-A22B-9B8A4379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847-CF20-44B7-A889-6ADCC2F1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00FB-4964-44D6-BE38-C89371F5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85C2-B53A-469E-9EAF-2C8B8927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A1C0-00DD-4C4C-9B99-1573A4A5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E46AE-0A1D-4F6E-9DB0-93D1D401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3847D-2021-4C20-BE8E-0BDAF340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F5D3-CAB3-42ED-95B5-FCC4E587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AFB9-C06E-43C1-B747-D5AD88FB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DD2-DD27-4DF6-B9A9-E2E30671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AED-C305-4A88-BF02-775E5207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18F-AE09-485B-BD41-113FCC8B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CD6-9CF2-4A90-BEF6-E4623469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67B-BB4D-47D8-8836-654CAADA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762-D836-452F-A171-2BAC3941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A08A-B79F-4109-88A5-04BFD07647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ADD9-74E4-41C2-9CAA-36865B8839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3D5-420D-4B2C-9D82-D1176BC8291D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84836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99"/>
                </a:solidFill>
                <a:latin typeface="Verdana"/>
              </a:rPr>
              <a:t>Имя прилагательное. Роль имён прилагательных </a:t>
            </a:r>
            <a:br>
              <a:rPr sz="5200"/>
            </a:br>
            <a:r>
              <a:rPr b="1" lang="ru-RU" sz="5200" spc="-1" strike="noStrike">
                <a:solidFill>
                  <a:srgbClr val="000099"/>
                </a:solidFill>
                <a:latin typeface="Verdana"/>
              </a:rPr>
              <a:t>в речи.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WordArt 15" descr=""/>
          <p:cNvPicPr/>
          <p:nvPr/>
        </p:nvPicPr>
        <p:blipFill>
          <a:blip r:embed="rId1"/>
          <a:stretch/>
        </p:blipFill>
        <p:spPr>
          <a:xfrm>
            <a:off x="4705200" y="3925800"/>
            <a:ext cx="41576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ВЕР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7" name="Picture 2" descr="C:\Documents and Settings\Admin\Рабочий стол\новые картинки\0a2e3f619d2129dcb88ec0920f9978ca.jpeg"/>
          <p:cNvPicPr/>
          <p:nvPr/>
        </p:nvPicPr>
        <p:blipFill>
          <a:blip r:embed="rId1"/>
          <a:stretch/>
        </p:blipFill>
        <p:spPr>
          <a:xfrm>
            <a:off x="1500120" y="1370160"/>
            <a:ext cx="6429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Admin\Рабочий стол\новые картинки\6fc41bd2d0491c4bf4ba9ec3646c7ee1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Admin\Рабочий стол\новые картинки\66249954_1289042878_th_abec6cf0afd30522ba57ee33c5df1206.jpg"/>
          <p:cNvPicPr/>
          <p:nvPr/>
        </p:nvPicPr>
        <p:blipFill>
          <a:blip r:embed="rId1"/>
          <a:stretch/>
        </p:blipFill>
        <p:spPr>
          <a:xfrm>
            <a:off x="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Admin\Рабочий стол\новые картинки\_1135397894.jpg"/>
          <p:cNvPicPr/>
          <p:nvPr/>
        </p:nvPicPr>
        <p:blipFill>
          <a:blip r:embed="rId1"/>
          <a:stretch/>
        </p:blipFill>
        <p:spPr>
          <a:xfrm>
            <a:off x="1928880" y="-71280"/>
            <a:ext cx="523224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66"/>
                </a:solidFill>
                <a:latin typeface="Verdana"/>
              </a:rPr>
              <a:t>-  +  -  -  +  +  +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971640" y="2637000"/>
            <a:ext cx="8532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66"/>
                </a:solidFill>
                <a:latin typeface="Verdana"/>
              </a:rPr>
              <a:t>«5» - </a:t>
            </a:r>
            <a:r>
              <a:rPr b="1" lang="ru-RU" sz="4800" spc="-1" strike="noStrike">
                <a:solidFill>
                  <a:srgbClr val="cc0066"/>
                </a:solidFill>
                <a:latin typeface="Verdana"/>
              </a:rPr>
              <a:t>0 ошибок</a:t>
            </a:r>
            <a:br>
              <a:rPr sz="4800"/>
            </a:br>
            <a:r>
              <a:rPr b="1" lang="ru-RU" sz="6000" spc="-1" strike="noStrike">
                <a:solidFill>
                  <a:srgbClr val="0000ff"/>
                </a:solidFill>
                <a:latin typeface="Verdana"/>
              </a:rPr>
              <a:t>«4» - </a:t>
            </a: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1-2 ошибки</a:t>
            </a:r>
            <a:br>
              <a:rPr sz="4800"/>
            </a:br>
            <a:r>
              <a:rPr b="1" lang="ru-RU" sz="6000" spc="-1" strike="noStrike">
                <a:solidFill>
                  <a:srgbClr val="000099"/>
                </a:solidFill>
                <a:latin typeface="Verdana"/>
              </a:rPr>
              <a:t>«3» - </a:t>
            </a:r>
            <a:r>
              <a:rPr b="1" lang="ru-RU" sz="4800" spc="-1" strike="noStrike">
                <a:solidFill>
                  <a:srgbClr val="000099"/>
                </a:solidFill>
                <a:latin typeface="Verdana"/>
              </a:rPr>
              <a:t>3-4 ошибки</a:t>
            </a:r>
            <a:br>
              <a:rPr sz="4800"/>
            </a:b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427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cc0066"/>
                </a:solidFill>
                <a:latin typeface="Verdana"/>
              </a:rPr>
              <a:t>М</a:t>
            </a:r>
            <a:r>
              <a:rPr b="1" lang="ru-RU" sz="9600" spc="-1" strike="noStrike">
                <a:solidFill>
                  <a:srgbClr val="cc0066"/>
                </a:solidFill>
                <a:latin typeface="Verdana"/>
              </a:rPr>
              <a:t>ОЛОДЦЫ!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1341360"/>
            <a:ext cx="7812000" cy="31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Догадливый, жаркий, речь, сообразительная, день, добро, находчивая, учениц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333300"/>
                </a:solidFill>
                <a:latin typeface="Verdana"/>
              </a:rPr>
              <a:t>сущ.        прил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529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догадлив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жарк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сообразительн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находчив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50920" y="1989000"/>
            <a:ext cx="3457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реч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ден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добро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учениц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3851280" y="3357720"/>
            <a:ext cx="259236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Verdana"/>
              </a:rPr>
              <a:t>сущ. + прил. с вопросо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снег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последн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пар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тёпл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кувшинчик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син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лес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юн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в дым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зелён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гроз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их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тёплых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755640" y="5661000"/>
            <a:ext cx="6121440" cy="0"/>
          </a:xfrm>
          <a:prstGeom prst="line">
            <a:avLst/>
          </a:prstGeom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560" y="404280"/>
            <a:ext cx="856944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400" spc="-1" strike="noStrike">
                <a:solidFill>
                  <a:srgbClr val="000099"/>
                </a:solidFill>
                <a:latin typeface="Verdana"/>
              </a:rPr>
              <a:t>Выхухоль</a:t>
            </a:r>
            <a:endParaRPr b="0" lang="en-US" sz="11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Выхухоль -                     зверёк. Ме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у него очень                  ,                    ,                         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    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цвета.  Тело у выху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холи              ,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          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лапки,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хвост стелется по земле. Голов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зверька                  с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глазками и                    хоботком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оторый все время шевели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771640" y="549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небольш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132000" y="1125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красив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724360" y="112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блестя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0" y="170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коричневог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258920" y="2276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толст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492360" y="2276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коротк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940360" y="2276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перепон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0" y="2852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чаты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276720" y="2852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дли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724360" y="285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чешуйчат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050920" y="4076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больш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076720" y="4076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маленьки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2916360" y="4653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смеш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049056054124052057049054048056[1]"/>
          <p:cNvPicPr/>
          <p:nvPr/>
        </p:nvPicPr>
        <p:blipFill>
          <a:blip r:embed="rId1"/>
          <a:stretch/>
        </p:blipFill>
        <p:spPr>
          <a:xfrm>
            <a:off x="395280" y="549360"/>
            <a:ext cx="820908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360" y="263700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800" spc="-1" strike="noStrike">
                <a:solidFill>
                  <a:srgbClr val="d60093"/>
                </a:solidFill>
                <a:latin typeface="Verdana"/>
              </a:rPr>
              <a:t>?</a:t>
            </a:r>
            <a:endParaRPr b="0" lang="en-US" sz="4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23640" y="476280"/>
            <a:ext cx="83120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.Имя прилагательное – это служебная часть реч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2.Имена прилагательные обозначают признаки предмет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. Имена прилагательные связаны с именами прилагательны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4.Синонимы – это слова противоположного знач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5. Эпитет – это образное, художественное определение, почти то же самое, что и прилагательно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6. В тексте-описании главную роль играют имена прилагатель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7. Прилагательные обогащают речь, украшают, делают её ярче, выразительнее, описывают свойства и качества предмет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23:23Z</dcterms:created>
  <dc:creator>Черников </dc:creator>
  <dc:description/>
  <dc:language>en-US</dc:language>
  <cp:lastModifiedBy>Admin</cp:lastModifiedBy>
  <dcterms:modified xsi:type="dcterms:W3CDTF">2011-11-10T17:42:15Z</dcterms:modified>
  <cp:revision>7</cp:revision>
  <dc:subject/>
  <dc:title>Имя прилагательное. Роль имён прилагательных  в речи.</dc:title>
</cp:coreProperties>
</file>