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lap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drumroll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A0D-B2B1-4AF6-9028-DACB175D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1FC-B856-4E22-B458-393CE14C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A315-8CB1-432B-A05C-0D3A9CE2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CC71-9525-4670-BC7E-BE35A495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0BD3-A79E-4506-BAA2-CD52B760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3BB9-8ACE-4624-BBD7-8ECAC7FA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7B82-0D97-4F99-8CF0-B9A0C22E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6A37-6A51-4E3E-A32B-347BEC51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F1B8-9B28-4F1A-A1AC-828201EF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647A-C1FF-423C-9AE6-09F7D8C9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313E-E6D3-40A9-8054-CECD2BEA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B03-E45B-48A3-B5EF-25CAF5AA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8879-5592-41BE-87E1-B6B4C7AB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7013-44C0-4E82-8AAE-66B7A33E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31FB-7381-49DE-9F7F-29AAAF01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C20A-D8D7-42F6-8995-C092E463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2174-48A3-4016-9478-FFDB9AAC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FBC0-25AD-4911-B142-3EB485E4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66970-5018-4A85-9035-5636B409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1B76C-9DF5-4843-9BC8-A87930A2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6A730-D888-4497-8A41-CEBDF228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60489-9104-40C2-AFBA-F1A77661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0DB-5B05-4A00-82CC-B635BB77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28180-8ABA-420E-8318-2149B527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E2832-E5CA-4A1D-9B5F-E4DDEC5F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7F9EF-A1BC-40B4-9C0F-CD752BE5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44AF5-7E50-4066-9A49-2F37A78A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A06A9-B693-425A-9A15-488435AE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50D7D-C806-418C-9C89-75AF20C2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6DB60-AFBA-4318-B893-86E1DAC7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3C8-4A10-49D7-81CC-34C2BA18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9D0E-F210-4B3F-A4D5-6EDB2D1E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EFA-163D-46AB-A9C2-00DC6588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57E-AE5E-44B9-9197-0982CED8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FF1-1C3E-409F-A9C0-912B3FCC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F72-4B87-433D-85DA-89AAEF7D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4EEC-F03E-4FD3-B4D9-67515D8817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EB81-EA13-4ECD-AD28-D7B6B4FCCC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2942-E797-4575-92EC-AEE7FC24175F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7848360" cy="385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0099"/>
                </a:solidFill>
                <a:latin typeface="Verdana"/>
              </a:rPr>
              <a:t>Имя прилагательное. Роль имён прилагательных </a:t>
            </a:r>
            <a:br>
              <a:rPr sz="5200"/>
            </a:br>
            <a:r>
              <a:rPr b="1" lang="ru-RU" sz="5200" spc="-1" strike="noStrike">
                <a:solidFill>
                  <a:srgbClr val="000099"/>
                </a:solidFill>
                <a:latin typeface="Verdana"/>
              </a:rPr>
              <a:t>в речи.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9" name="WordArt 15" descr=""/>
          <p:cNvPicPr/>
          <p:nvPr/>
        </p:nvPicPr>
        <p:blipFill>
          <a:blip r:embed="rId1"/>
          <a:stretch/>
        </p:blipFill>
        <p:spPr>
          <a:xfrm>
            <a:off x="4705200" y="3925800"/>
            <a:ext cx="41576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ВЕР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7" name="Picture 2" descr="C:\Documents and Settings\Admin\Рабочий стол\новые картинки\0a2e3f619d2129dcb88ec0920f9978ca.jpeg"/>
          <p:cNvPicPr/>
          <p:nvPr/>
        </p:nvPicPr>
        <p:blipFill>
          <a:blip r:embed="rId1"/>
          <a:stretch/>
        </p:blipFill>
        <p:spPr>
          <a:xfrm>
            <a:off x="1500120" y="1370160"/>
            <a:ext cx="64296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C:\Documents and Settings\Admin\Рабочий стол\новые картинки\6fc41bd2d0491c4bf4ba9ec3646c7ee1_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Documents and Settings\Admin\Рабочий стол\новые картинки\66249954_1289042878_th_abec6cf0afd30522ba57ee33c5df1206.jpg"/>
          <p:cNvPicPr/>
          <p:nvPr/>
        </p:nvPicPr>
        <p:blipFill>
          <a:blip r:embed="rId1"/>
          <a:stretch/>
        </p:blipFill>
        <p:spPr>
          <a:xfrm>
            <a:off x="0" y="0"/>
            <a:ext cx="902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Documents and Settings\Admin\Рабочий стол\новые картинки\_1135397894.jpg"/>
          <p:cNvPicPr/>
          <p:nvPr/>
        </p:nvPicPr>
        <p:blipFill>
          <a:blip r:embed="rId1"/>
          <a:stretch/>
        </p:blipFill>
        <p:spPr>
          <a:xfrm>
            <a:off x="1928880" y="-71280"/>
            <a:ext cx="523224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216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66"/>
                </a:solidFill>
                <a:latin typeface="Verdana"/>
              </a:rPr>
              <a:t>-  +  -  -  +  +  +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971640" y="2637000"/>
            <a:ext cx="8532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66"/>
                </a:solidFill>
                <a:latin typeface="Verdana"/>
              </a:rPr>
              <a:t>«5» - </a:t>
            </a:r>
            <a:r>
              <a:rPr b="1" lang="ru-RU" sz="4800" spc="-1" strike="noStrike">
                <a:solidFill>
                  <a:srgbClr val="cc0066"/>
                </a:solidFill>
                <a:latin typeface="Verdana"/>
              </a:rPr>
              <a:t>0 ошибок</a:t>
            </a:r>
            <a:br>
              <a:rPr sz="4800"/>
            </a:br>
            <a:r>
              <a:rPr b="1" lang="ru-RU" sz="6000" spc="-1" strike="noStrike">
                <a:solidFill>
                  <a:srgbClr val="0000ff"/>
                </a:solidFill>
                <a:latin typeface="Verdana"/>
              </a:rPr>
              <a:t>«4» - </a:t>
            </a:r>
            <a:r>
              <a:rPr b="1" lang="ru-RU" sz="4800" spc="-1" strike="noStrike">
                <a:solidFill>
                  <a:srgbClr val="0000ff"/>
                </a:solidFill>
                <a:latin typeface="Verdana"/>
              </a:rPr>
              <a:t>1-2 ошибки</a:t>
            </a:r>
            <a:br>
              <a:rPr sz="4800"/>
            </a:br>
            <a:r>
              <a:rPr b="1" lang="ru-RU" sz="6000" spc="-1" strike="noStrike">
                <a:solidFill>
                  <a:srgbClr val="000099"/>
                </a:solidFill>
                <a:latin typeface="Verdana"/>
              </a:rPr>
              <a:t>«3» - </a:t>
            </a:r>
            <a:r>
              <a:rPr b="1" lang="ru-RU" sz="4800" spc="-1" strike="noStrike">
                <a:solidFill>
                  <a:srgbClr val="000099"/>
                </a:solidFill>
                <a:latin typeface="Verdana"/>
              </a:rPr>
              <a:t>3-4 ошибки</a:t>
            </a:r>
            <a:br>
              <a:rPr sz="4800"/>
            </a:b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427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900" spc="-1" strike="noStrike">
                <a:solidFill>
                  <a:srgbClr val="cc0066"/>
                </a:solidFill>
                <a:latin typeface="Verdana"/>
              </a:rPr>
              <a:t>М</a:t>
            </a:r>
            <a:r>
              <a:rPr b="1" lang="ru-RU" sz="9600" spc="-1" strike="noStrike">
                <a:solidFill>
                  <a:srgbClr val="cc0066"/>
                </a:solidFill>
                <a:latin typeface="Verdana"/>
              </a:rPr>
              <a:t>ОЛОДЦЫ!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1341360"/>
            <a:ext cx="7812000" cy="316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Verdana"/>
              </a:rPr>
              <a:t>Догадливый, жаркий, речь, сообразительная, день, добро, находчивая, ученица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5400" spc="-1" strike="noStrike">
                <a:solidFill>
                  <a:srgbClr val="333300"/>
                </a:solidFill>
                <a:latin typeface="Verdana"/>
              </a:rPr>
              <a:t>сущ.        прил.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51280" y="1989000"/>
            <a:ext cx="5292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догадлива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жарки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сообразительна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находчивая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50920" y="1989000"/>
            <a:ext cx="345744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реч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ден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добро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Verdana"/>
              </a:rPr>
              <a:t>учениц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3851280" y="3357720"/>
            <a:ext cx="259236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Verdana"/>
              </a:rPr>
              <a:t>сущ. + прил. с вопросом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снег </a:t>
            </a:r>
            <a:r>
              <a:rPr b="1" i="1" lang="ru-RU" sz="3600" spc="-1" strike="noStrike">
                <a:solidFill>
                  <a:srgbClr val="009900"/>
                </a:solidFill>
                <a:latin typeface="Verdana"/>
              </a:rPr>
              <a:t>(какой?)</a:t>
            </a: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 последни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пар </a:t>
            </a:r>
            <a:r>
              <a:rPr b="1" i="1" lang="ru-RU" sz="3600" spc="-1" strike="noStrike">
                <a:solidFill>
                  <a:srgbClr val="009900"/>
                </a:solidFill>
                <a:latin typeface="Verdana"/>
              </a:rPr>
              <a:t>(какой?)</a:t>
            </a: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 тёплы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кувшинчик </a:t>
            </a:r>
            <a:r>
              <a:rPr b="1" i="1" lang="ru-RU" sz="3600" spc="-1" strike="noStrike">
                <a:solidFill>
                  <a:srgbClr val="009900"/>
                </a:solidFill>
                <a:latin typeface="Verdana"/>
              </a:rPr>
              <a:t>(какой?)</a:t>
            </a: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 сини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лес </a:t>
            </a:r>
            <a:r>
              <a:rPr b="1" i="1" lang="ru-RU" sz="3600" spc="-1" strike="noStrike">
                <a:solidFill>
                  <a:srgbClr val="009900"/>
                </a:solidFill>
                <a:latin typeface="Verdana"/>
              </a:rPr>
              <a:t>(какой?)</a:t>
            </a: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 юны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в дым </a:t>
            </a:r>
            <a:r>
              <a:rPr b="1" i="1" lang="ru-RU" sz="3600" spc="-1" strike="noStrike">
                <a:solidFill>
                  <a:srgbClr val="009900"/>
                </a:solidFill>
                <a:latin typeface="Verdana"/>
              </a:rPr>
              <a:t>(какой?)</a:t>
            </a: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 зелёны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гроз </a:t>
            </a:r>
            <a:r>
              <a:rPr b="1" i="1" lang="ru-RU" sz="3600" spc="-1" strike="noStrike">
                <a:solidFill>
                  <a:srgbClr val="009900"/>
                </a:solidFill>
                <a:latin typeface="Verdana"/>
              </a:rPr>
              <a:t>(каких?)</a:t>
            </a:r>
            <a:r>
              <a:rPr b="1" lang="ru-RU" sz="3600" spc="-1" strike="noStrike">
                <a:solidFill>
                  <a:srgbClr val="003399"/>
                </a:solidFill>
                <a:latin typeface="Verdana"/>
              </a:rPr>
              <a:t> тёплых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755640" y="5661000"/>
            <a:ext cx="6121440" cy="0"/>
          </a:xfrm>
          <a:prstGeom prst="line">
            <a:avLst/>
          </a:prstGeom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560" y="404280"/>
            <a:ext cx="8569440" cy="358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400" spc="-1" strike="noStrike">
                <a:solidFill>
                  <a:srgbClr val="000099"/>
                </a:solidFill>
                <a:latin typeface="Verdana"/>
              </a:rPr>
              <a:t>Выхухоль</a:t>
            </a:r>
            <a:endParaRPr b="0" lang="en-US" sz="11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Выхухоль -                     зверёк. Ме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у него очень                  ,                    ,                               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                      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цвета.  Тело у выху-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холи              , 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           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лапки,     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хвост стелется по земле. Голов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зверька                  с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глазками и                    хоботком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оторый все время шевелит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771640" y="54936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небольш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132000" y="112536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красив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5724360" y="1125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блестящ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0" y="1700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коричневог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1258920" y="2276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толст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3492360" y="2276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коротк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940360" y="2276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перепон-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0" y="2852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чаты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276720" y="2852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длин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5724360" y="2852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чешуйчат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2050920" y="4076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больша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5076720" y="4076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маленьки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2916360" y="46530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Verdana"/>
              </a:rPr>
              <a:t>смешны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5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049056054124052057049054048056[1]"/>
          <p:cNvPicPr/>
          <p:nvPr/>
        </p:nvPicPr>
        <p:blipFill>
          <a:blip r:embed="rId1"/>
          <a:stretch/>
        </p:blipFill>
        <p:spPr>
          <a:xfrm>
            <a:off x="395280" y="549360"/>
            <a:ext cx="820908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360" y="263700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800" spc="-1" strike="noStrike">
                <a:solidFill>
                  <a:srgbClr val="d60093"/>
                </a:solidFill>
                <a:latin typeface="Verdana"/>
              </a:rPr>
              <a:t>?</a:t>
            </a:r>
            <a:endParaRPr b="0" lang="en-US" sz="44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23640" y="476280"/>
            <a:ext cx="83120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.Имя прилагательное – это служебная часть реч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2.Имена прилагательные обозначают признаки предмет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3. Имена прилагательные связаны с именами прилагательны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4.Синонимы – это слова противоположного знач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5. Эпитет – это образное, художественное определение, почти то же самое, что и прилагательно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6. В тексте-описании главную роль играют имена прилагательны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7. Прилагательные обогащают речь, украшают, делают её ярче, выразительнее, описывают свойства и качества предмет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4:23:23Z</dcterms:created>
  <dc:creator>Черников </dc:creator>
  <dc:description/>
  <dc:language>en-US</dc:language>
  <cp:lastModifiedBy>Admin</cp:lastModifiedBy>
  <dcterms:modified xsi:type="dcterms:W3CDTF">2011-11-10T17:42:15Z</dcterms:modified>
  <cp:revision>7</cp:revision>
  <dc:subject/>
  <dc:title>Имя прилагательное. Роль имён прилагательных  в речи.</dc:title>
</cp:coreProperties>
</file>