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clap.wav" ContentType="audio/x-wav"/>
  <Override PartName="/ppt/media/image4.jpeg" ContentType="image/jpeg"/>
  <Override PartName="/ppt/media/image5.jpeg" ContentType="image/jpeg"/>
  <Override PartName="/ppt/media/image6.jpeg" ContentType="image/jpeg"/>
  <Override PartName="/ppt/media/drumroll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285F-94E0-4E2C-A369-1613BCDE1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9232-233B-4C79-BC21-5A20ED97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D9DD-F02C-41D2-8F02-F9071032B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3E20-9C53-4E73-B01E-C7424AE82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F9A6-7ACE-462D-8E43-63C315B79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BE62-D32D-4FBF-9A49-6E4EFA3D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BCA2-FBE1-4E50-9148-51B2F8ED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27D0-B9D4-4469-BC94-F4CB46C9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64F7E-8EE0-49E4-9107-5DDC80EB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25E3-1F04-4FA2-8D33-5C7B5428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521B-9B25-4EC2-89A4-0F2BBE64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ECEE-BEBE-48CD-BB4B-A764C7EA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74CC-FE6F-49EA-B169-455ECBDE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4CAA-5887-407D-B4CE-00B68F4C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C2AD-6D19-4685-BD3A-A95D72B7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AADF-9BF2-4B84-A395-A975E7644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2843-2C37-4F5D-BA48-026CE4738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AE076-7A71-4372-B52E-A396AFB27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A59C7-F92B-44DA-85EF-63E5DC6A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E94E1-15AA-42C5-9504-C87FBC95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15885-CE9E-4BF2-8BA1-EDB6DB6F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31394-C2F2-46EC-8276-F34976A8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09AB-A66C-423F-A462-53C6E7DD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07FCE-AFE9-45D8-A2D7-F1B0F098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42916-8670-4F9E-B5E9-7CA37E13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735FB-E43B-42E6-9250-024266A7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BA8E5-FFA5-433A-A81D-B3D6E9A4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09AB6-AC65-404D-80E8-81313F26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43F80-BD39-4055-B502-4E8BA264C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B5687-695F-4B50-9E20-281200A5E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AC27-E0B1-4245-B1E5-C246ABAB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59E8-B8FD-4954-97DE-435F5FC3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90EF-E0E1-40CE-86A9-A0974464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0C8C-914F-4EE3-818D-1BB84F63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F682-CC08-4397-95AF-7E9F49E7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E112-BDC1-4E93-ABB9-6577AAD6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CFA7-AE42-418E-ACE3-0415EEFAFB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FF61-CA5F-4664-BFD7-3E4418F97FA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126" name="Group 3"/>
            <p:cNvGrpSpPr/>
            <p:nvPr/>
          </p:nvGrpSpPr>
          <p:grpSpPr>
            <a:xfrm>
              <a:off x="5409360" y="61560"/>
              <a:ext cx="3621240" cy="6130800"/>
              <a:chOff x="5409360" y="61560"/>
              <a:chExt cx="3621240" cy="6130800"/>
            </a:xfrm>
          </p:grpSpPr>
          <p:sp>
            <p:nvSpPr>
              <p:cNvPr id="127" name="Freeform 4"/>
              <p:cNvSpPr/>
              <p:nvPr/>
            </p:nvSpPr>
            <p:spPr>
              <a:xfrm flipV="1" rot="11970000">
                <a:off x="6582600" y="346680"/>
                <a:ext cx="2115000" cy="23576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8" name="Freeform 5"/>
              <p:cNvSpPr/>
              <p:nvPr/>
            </p:nvSpPr>
            <p:spPr>
              <a:xfrm flipV="1" rot="11970000">
                <a:off x="7421760" y="195948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9" name="Freeform 6"/>
              <p:cNvSpPr/>
              <p:nvPr/>
            </p:nvSpPr>
            <p:spPr>
              <a:xfrm flipV="1" rot="11970000">
                <a:off x="6827040" y="25916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 flipV="1" rot="11970000">
                <a:off x="7251840" y="673920"/>
                <a:ext cx="388440" cy="550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 flipV="1" rot="11970000">
                <a:off x="715536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 flipV="1" rot="11970000">
                <a:off x="7140600" y="1241280"/>
                <a:ext cx="19044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34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140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41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2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3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44" name="Group 21"/>
            <p:cNvGrpSpPr/>
            <p:nvPr/>
          </p:nvGrpSpPr>
          <p:grpSpPr>
            <a:xfrm>
              <a:off x="5652360" y="294840"/>
              <a:ext cx="891360" cy="829440"/>
              <a:chOff x="5652360" y="294840"/>
              <a:chExt cx="891360" cy="829440"/>
            </a:xfrm>
          </p:grpSpPr>
          <p:sp>
            <p:nvSpPr>
              <p:cNvPr id="145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6" name="Freeform 23"/>
              <p:cNvSpPr/>
              <p:nvPr/>
            </p:nvSpPr>
            <p:spPr>
              <a:xfrm rot="14908200">
                <a:off x="5712840" y="47376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7" name="Freeform 24"/>
              <p:cNvSpPr/>
              <p:nvPr/>
            </p:nvSpPr>
            <p:spPr>
              <a:xfrm rot="14908200">
                <a:off x="6254280" y="39456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25"/>
            <p:cNvGrpSpPr/>
            <p:nvPr/>
          </p:nvGrpSpPr>
          <p:grpSpPr>
            <a:xfrm>
              <a:off x="968760" y="5261400"/>
              <a:ext cx="1059120" cy="829800"/>
              <a:chOff x="968760" y="5261400"/>
              <a:chExt cx="1059120" cy="829800"/>
            </a:xfrm>
          </p:grpSpPr>
          <p:sp>
            <p:nvSpPr>
              <p:cNvPr id="149" name="Freeform 26"/>
              <p:cNvSpPr/>
              <p:nvPr/>
            </p:nvSpPr>
            <p:spPr>
              <a:xfrm rot="8524800">
                <a:off x="1711080" y="552636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0" name="Freeform 27"/>
              <p:cNvSpPr/>
              <p:nvPr/>
            </p:nvSpPr>
            <p:spPr>
              <a:xfrm rot="8524800">
                <a:off x="1193040" y="573660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1" name="Freeform 28"/>
              <p:cNvSpPr/>
              <p:nvPr/>
            </p:nvSpPr>
            <p:spPr>
              <a:xfrm rot="8524800">
                <a:off x="960120" y="538596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52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153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4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5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56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157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8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9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5593-EE6D-4DA8-84AB-793D717C2597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7848360" cy="385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0099"/>
                </a:solidFill>
                <a:latin typeface="Verdana"/>
              </a:rPr>
              <a:t>Имя прилагательное. Роль имён прилагательных </a:t>
            </a:r>
            <a:br>
              <a:rPr sz="5200"/>
            </a:br>
            <a:r>
              <a:rPr b="1" lang="ru-RU" sz="5200" spc="-1" strike="noStrike">
                <a:solidFill>
                  <a:srgbClr val="000099"/>
                </a:solidFill>
                <a:latin typeface="Verdana"/>
              </a:rPr>
              <a:t>в речи.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9" name="WordArt 15" descr=""/>
          <p:cNvPicPr/>
          <p:nvPr/>
        </p:nvPicPr>
        <p:blipFill>
          <a:blip r:embed="rId1"/>
          <a:stretch/>
        </p:blipFill>
        <p:spPr>
          <a:xfrm>
            <a:off x="4705200" y="3925800"/>
            <a:ext cx="415764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РОВЕРЬ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37" name="Picture 2" descr="C:\Documents and Settings\Admin\Рабочий стол\новые картинки\0a2e3f619d2129dcb88ec0920f9978ca.jpeg"/>
          <p:cNvPicPr/>
          <p:nvPr/>
        </p:nvPicPr>
        <p:blipFill>
          <a:blip r:embed="rId1"/>
          <a:stretch/>
        </p:blipFill>
        <p:spPr>
          <a:xfrm>
            <a:off x="1500120" y="1370160"/>
            <a:ext cx="642960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C:\Documents and Settings\Admin\Рабочий стол\новые картинки\6fc41bd2d0491c4bf4ba9ec3646c7ee1_b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C:\Documents and Settings\Admin\Рабочий стол\новые картинки\66249954_1289042878_th_abec6cf0afd30522ba57ee33c5df1206.jpg"/>
          <p:cNvPicPr/>
          <p:nvPr/>
        </p:nvPicPr>
        <p:blipFill>
          <a:blip r:embed="rId1"/>
          <a:stretch/>
        </p:blipFill>
        <p:spPr>
          <a:xfrm>
            <a:off x="0" y="0"/>
            <a:ext cx="9020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C:\Documents and Settings\Admin\Рабочий стол\новые картинки\_1135397894.jpg"/>
          <p:cNvPicPr/>
          <p:nvPr/>
        </p:nvPicPr>
        <p:blipFill>
          <a:blip r:embed="rId1"/>
          <a:stretch/>
        </p:blipFill>
        <p:spPr>
          <a:xfrm>
            <a:off x="1928880" y="-71280"/>
            <a:ext cx="5232240" cy="69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2160" cy="17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0066"/>
                </a:solidFill>
                <a:latin typeface="Verdana"/>
              </a:rPr>
              <a:t>-  +  -  -  +  +  +</a:t>
            </a:r>
            <a:endParaRPr b="0" lang="en-US" sz="7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971640" y="2637000"/>
            <a:ext cx="853272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66"/>
                </a:solidFill>
                <a:latin typeface="Verdana"/>
              </a:rPr>
              <a:t>«5» - </a:t>
            </a:r>
            <a:r>
              <a:rPr b="1" lang="ru-RU" sz="4800" spc="-1" strike="noStrike">
                <a:solidFill>
                  <a:srgbClr val="cc0066"/>
                </a:solidFill>
                <a:latin typeface="Verdana"/>
              </a:rPr>
              <a:t>0 ошибок</a:t>
            </a:r>
            <a:br>
              <a:rPr sz="4800"/>
            </a:br>
            <a:r>
              <a:rPr b="1" lang="ru-RU" sz="6000" spc="-1" strike="noStrike">
                <a:solidFill>
                  <a:srgbClr val="0000ff"/>
                </a:solidFill>
                <a:latin typeface="Verdana"/>
              </a:rPr>
              <a:t>«4» - </a:t>
            </a:r>
            <a:r>
              <a:rPr b="1" lang="ru-RU" sz="4800" spc="-1" strike="noStrike">
                <a:solidFill>
                  <a:srgbClr val="0000ff"/>
                </a:solidFill>
                <a:latin typeface="Verdana"/>
              </a:rPr>
              <a:t>1-2 ошибки</a:t>
            </a:r>
            <a:br>
              <a:rPr sz="4800"/>
            </a:br>
            <a:r>
              <a:rPr b="1" lang="ru-RU" sz="6000" spc="-1" strike="noStrike">
                <a:solidFill>
                  <a:srgbClr val="000099"/>
                </a:solidFill>
                <a:latin typeface="Verdana"/>
              </a:rPr>
              <a:t>«3» - </a:t>
            </a:r>
            <a:r>
              <a:rPr b="1" lang="ru-RU" sz="4800" spc="-1" strike="noStrike">
                <a:solidFill>
                  <a:srgbClr val="000099"/>
                </a:solidFill>
                <a:latin typeface="Verdana"/>
              </a:rPr>
              <a:t>3-4 ошибки</a:t>
            </a:r>
            <a:br>
              <a:rPr sz="4800"/>
            </a:b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427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900" spc="-1" strike="noStrike">
                <a:solidFill>
                  <a:srgbClr val="cc0066"/>
                </a:solidFill>
                <a:latin typeface="Verdana"/>
              </a:rPr>
              <a:t>М</a:t>
            </a:r>
            <a:r>
              <a:rPr b="1" lang="ru-RU" sz="9600" spc="-1" strike="noStrike">
                <a:solidFill>
                  <a:srgbClr val="cc0066"/>
                </a:solidFill>
                <a:latin typeface="Verdana"/>
              </a:rPr>
              <a:t>ОЛОДЦЫ!</a:t>
            </a:r>
            <a:endParaRPr b="0" lang="en-US" sz="96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32000" y="1341360"/>
            <a:ext cx="7812000" cy="316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33"/>
                </a:solidFill>
                <a:latin typeface="Verdana"/>
              </a:rPr>
              <a:t>Догадливый, жаркий, речь, сообразительная, день, добро, находчивая, ученица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5400" spc="-1" strike="noStrike">
                <a:solidFill>
                  <a:srgbClr val="333300"/>
                </a:solidFill>
                <a:latin typeface="Verdana"/>
              </a:rPr>
              <a:t>сущ.        прил.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51280" y="1989000"/>
            <a:ext cx="52927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Verdana"/>
              </a:rPr>
              <a:t>догадливая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Verdana"/>
              </a:rPr>
              <a:t>жаркий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Verdana"/>
              </a:rPr>
              <a:t>сообразительная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Verdana"/>
              </a:rPr>
              <a:t>находчивая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250920" y="1989000"/>
            <a:ext cx="345744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Verdana"/>
              </a:rPr>
              <a:t>речь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Verdana"/>
              </a:rPr>
              <a:t>день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Verdana"/>
              </a:rPr>
              <a:t>добро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Verdana"/>
              </a:rPr>
              <a:t>ученица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Line 5"/>
          <p:cNvSpPr/>
          <p:nvPr/>
        </p:nvSpPr>
        <p:spPr>
          <a:xfrm>
            <a:off x="3851280" y="3357720"/>
            <a:ext cx="2592360" cy="0"/>
          </a:xfrm>
          <a:prstGeom prst="line">
            <a:avLst/>
          </a:prstGeom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Verdana"/>
              </a:rPr>
              <a:t>сущ. + прил. с вопросом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Verdana"/>
              </a:rPr>
              <a:t>снег </a:t>
            </a:r>
            <a:r>
              <a:rPr b="1" i="1" lang="ru-RU" sz="3600" spc="-1" strike="noStrike">
                <a:solidFill>
                  <a:srgbClr val="009900"/>
                </a:solidFill>
                <a:latin typeface="Verdana"/>
              </a:rPr>
              <a:t>(какой?)</a:t>
            </a:r>
            <a:r>
              <a:rPr b="1" lang="ru-RU" sz="3600" spc="-1" strike="noStrike">
                <a:solidFill>
                  <a:srgbClr val="003399"/>
                </a:solidFill>
                <a:latin typeface="Verdana"/>
              </a:rPr>
              <a:t> последний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Verdana"/>
              </a:rPr>
              <a:t>пар </a:t>
            </a:r>
            <a:r>
              <a:rPr b="1" i="1" lang="ru-RU" sz="3600" spc="-1" strike="noStrike">
                <a:solidFill>
                  <a:srgbClr val="009900"/>
                </a:solidFill>
                <a:latin typeface="Verdana"/>
              </a:rPr>
              <a:t>(какой?)</a:t>
            </a:r>
            <a:r>
              <a:rPr b="1" lang="ru-RU" sz="3600" spc="-1" strike="noStrike">
                <a:solidFill>
                  <a:srgbClr val="003399"/>
                </a:solidFill>
                <a:latin typeface="Verdana"/>
              </a:rPr>
              <a:t> тёплый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Verdana"/>
              </a:rPr>
              <a:t>кувшинчик </a:t>
            </a:r>
            <a:r>
              <a:rPr b="1" i="1" lang="ru-RU" sz="3600" spc="-1" strike="noStrike">
                <a:solidFill>
                  <a:srgbClr val="009900"/>
                </a:solidFill>
                <a:latin typeface="Verdana"/>
              </a:rPr>
              <a:t>(какой?)</a:t>
            </a:r>
            <a:r>
              <a:rPr b="1" lang="ru-RU" sz="3600" spc="-1" strike="noStrike">
                <a:solidFill>
                  <a:srgbClr val="003399"/>
                </a:solidFill>
                <a:latin typeface="Verdana"/>
              </a:rPr>
              <a:t> синий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Verdana"/>
              </a:rPr>
              <a:t>лес </a:t>
            </a:r>
            <a:r>
              <a:rPr b="1" i="1" lang="ru-RU" sz="3600" spc="-1" strike="noStrike">
                <a:solidFill>
                  <a:srgbClr val="009900"/>
                </a:solidFill>
                <a:latin typeface="Verdana"/>
              </a:rPr>
              <a:t>(какой?)</a:t>
            </a:r>
            <a:r>
              <a:rPr b="1" lang="ru-RU" sz="3600" spc="-1" strike="noStrike">
                <a:solidFill>
                  <a:srgbClr val="003399"/>
                </a:solidFill>
                <a:latin typeface="Verdana"/>
              </a:rPr>
              <a:t> юный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Verdana"/>
              </a:rPr>
              <a:t>в дым </a:t>
            </a:r>
            <a:r>
              <a:rPr b="1" i="1" lang="ru-RU" sz="3600" spc="-1" strike="noStrike">
                <a:solidFill>
                  <a:srgbClr val="009900"/>
                </a:solidFill>
                <a:latin typeface="Verdana"/>
              </a:rPr>
              <a:t>(какой?)</a:t>
            </a:r>
            <a:r>
              <a:rPr b="1" lang="ru-RU" sz="3600" spc="-1" strike="noStrike">
                <a:solidFill>
                  <a:srgbClr val="003399"/>
                </a:solidFill>
                <a:latin typeface="Verdana"/>
              </a:rPr>
              <a:t> зелёный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Verdana"/>
              </a:rPr>
              <a:t>гроз </a:t>
            </a:r>
            <a:r>
              <a:rPr b="1" i="1" lang="ru-RU" sz="3600" spc="-1" strike="noStrike">
                <a:solidFill>
                  <a:srgbClr val="009900"/>
                </a:solidFill>
                <a:latin typeface="Verdana"/>
              </a:rPr>
              <a:t>(каких?)</a:t>
            </a:r>
            <a:r>
              <a:rPr b="1" lang="ru-RU" sz="3600" spc="-1" strike="noStrike">
                <a:solidFill>
                  <a:srgbClr val="003399"/>
                </a:solidFill>
                <a:latin typeface="Verdana"/>
              </a:rPr>
              <a:t> тёплых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755640" y="5661000"/>
            <a:ext cx="6121440" cy="0"/>
          </a:xfrm>
          <a:prstGeom prst="line">
            <a:avLst/>
          </a:prstGeom>
          <a:ln w="7632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560" y="404280"/>
            <a:ext cx="8569440" cy="358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400" spc="-1" strike="noStrike">
                <a:solidFill>
                  <a:srgbClr val="000099"/>
                </a:solidFill>
                <a:latin typeface="Verdana"/>
              </a:rPr>
              <a:t>Выхухоль</a:t>
            </a:r>
            <a:endParaRPr b="0" lang="en-US" sz="11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Выхухоль -                     зверёк. Мех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у него очень                  ,                    ,                                              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                      </a:t>
            </a: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цвета.  Тело у выху-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холи              ,                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           </a:t>
            </a: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лапки,                    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хвост стелется по земле. Голова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зверька                  с               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глазками и                    хоботком,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который все время шевелится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2771640" y="549360"/>
            <a:ext cx="28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Verdana"/>
              </a:rPr>
              <a:t>небольшо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3132000" y="1125360"/>
            <a:ext cx="28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Verdana"/>
              </a:rPr>
              <a:t>красив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5724360" y="1125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Verdana"/>
              </a:rPr>
              <a:t>блестящ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0" y="170028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Verdana"/>
              </a:rPr>
              <a:t>коричневого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1258920" y="22766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Verdana"/>
              </a:rPr>
              <a:t>толсто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3492360" y="227664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Verdana"/>
              </a:rPr>
              <a:t>коротки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5940360" y="227664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Verdana"/>
              </a:rPr>
              <a:t>перепон-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0" y="285264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Verdana"/>
              </a:rPr>
              <a:t>чаты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3276720" y="285264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Verdana"/>
              </a:rPr>
              <a:t>длинн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5724360" y="2852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Verdana"/>
              </a:rPr>
              <a:t>чешуйчат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Text Box 15"/>
          <p:cNvSpPr/>
          <p:nvPr/>
        </p:nvSpPr>
        <p:spPr>
          <a:xfrm>
            <a:off x="2050920" y="407664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Verdana"/>
              </a:rPr>
              <a:t>больша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Text Box 16"/>
          <p:cNvSpPr/>
          <p:nvPr/>
        </p:nvSpPr>
        <p:spPr>
          <a:xfrm>
            <a:off x="5076720" y="407664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Verdana"/>
              </a:rPr>
              <a:t>маленьким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Text Box 17"/>
          <p:cNvSpPr/>
          <p:nvPr/>
        </p:nvSpPr>
        <p:spPr>
          <a:xfrm>
            <a:off x="2916360" y="465300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Verdana"/>
              </a:rPr>
              <a:t>смешным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500"/>
                            </p:stCondLst>
                            <p:childTnLst>
                              <p:par>
                                <p:cTn id="1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50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60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049056054124052057049054048056[1]"/>
          <p:cNvPicPr/>
          <p:nvPr/>
        </p:nvPicPr>
        <p:blipFill>
          <a:blip r:embed="rId1"/>
          <a:stretch/>
        </p:blipFill>
        <p:spPr>
          <a:xfrm>
            <a:off x="395280" y="549360"/>
            <a:ext cx="820908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4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4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92360" y="263700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800" spc="-1" strike="noStrike">
                <a:solidFill>
                  <a:srgbClr val="d60093"/>
                </a:solidFill>
                <a:latin typeface="Verdana"/>
              </a:rPr>
              <a:t>?</a:t>
            </a:r>
            <a:endParaRPr b="0" lang="en-US" sz="448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4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4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323640" y="476280"/>
            <a:ext cx="83120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1.Имя прилагательное – это служебная часть реч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2.Имена прилагательные обозначают признаки предметов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3. Имена прилагательные связаны с именами прилагательным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4.Синонимы – это слова противоположного значени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5. Эпитет – это образное, художественное определение, почти то же самое, что и прилагательно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6. В тексте-описании главную роль играют имена прилагательны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7. Прилагательные обогащают речь, украшают, делают её ярче, выразительнее, описывают свойства и качества предмет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14:23:23Z</dcterms:created>
  <dc:creator>Черников </dc:creator>
  <dc:description/>
  <dc:language>en-US</dc:language>
  <cp:lastModifiedBy>Admin</cp:lastModifiedBy>
  <dcterms:modified xsi:type="dcterms:W3CDTF">2011-11-10T17:42:15Z</dcterms:modified>
  <cp:revision>7</cp:revision>
  <dc:subject/>
  <dc:title>Имя прилагательное. Роль имён прилагательных  в речи.</dc:title>
</cp:coreProperties>
</file>