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9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7D-A121-4541-8209-7B609FCF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CB9-25AD-4616-9201-B258749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C87-C4ED-4371-805A-F395AEEB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D14-0CBC-4D0B-BC6A-B8603E5F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BCEF-179C-40DC-AF9F-62B74685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55FF-55F2-4466-8FF5-540F780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82A-746D-471F-9478-1F5FB5D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353E-4541-4607-A522-CAE9136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122D-21B4-430E-8F2F-F707C6F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5E69-16CD-4EBF-A324-5F616B1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3E1-EEC7-4148-8469-1E62080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571-A390-4EA0-AA63-E271AEBD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ABA9-794F-48D1-96F8-E540BB3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367-FBCD-455D-8D99-D7DB85C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4266-392E-4050-9E8F-08C49F2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AF1-CC5E-44A7-B322-B22B000E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17BB-8B6E-4287-9F10-5C59A5F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094-A463-41F0-AB60-6597AE5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1FB-0A37-4ACC-BDE6-4562D8A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A2C-8415-40EC-9E43-2D30330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844-5112-44CB-B432-E6948D5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2C5-7E79-4A4A-8168-E3952B9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242-23A5-4934-A8B8-7582114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94E-55DF-4908-8FF5-47400F4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5C2-258F-4EA3-8B80-7A99AAFF5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39A-75B3-4497-BEE7-179D7C6D46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Турнир  знатоков  русского  язы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Урок-игра в 3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Учитель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остникова Анжел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4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Фонет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 фонетика образовано от греческого слова «фонетикос» - звуковой. «Фон»- зв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 фонетика – это раздел языкознания, изучающий звуковую сторону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колько звуков в названии второго месяца весн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88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количество звуков в ответе на загад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имой и летом одним цвет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033720" cy="345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221440" y="2133720"/>
            <a:ext cx="3349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5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Морфолог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 морфология образовано от греческого «морфе» - форма и… логи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, таким образом морфология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дел грамматики, изучающий слова, как части реч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Задание: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зовите имена частей речи, которые подчёркнуты в стихотворени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АЯ ГРАММА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…………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шко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осыпаетс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………………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есё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школьный день при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а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……………….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ьет …………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ем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ученье, без сомн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ться надо вс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………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уроках дорож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людаем мы привы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сциплину и р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нас ………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 их надо повто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и этом не лен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и часу не теря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школы, как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катаемся в сан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 особенно умест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 по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теплой п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торя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и реч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6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Сообразительны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ние: разгадайте ребус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ы запиш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Резервный  тур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Синтакс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нтаксис – ( греч.) «строй, систем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усском языке обозначает ту часть, которая рассматривает законы сочетания отдельных слов в целые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Comic Sans MS"/>
              </a:rPr>
              <a:t>Определи падеж выделенного имени существительного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91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ыба - шар обитает в водах Индийского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океана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 берегов морей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в заросля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одорослей обитают морские конь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Итак, друзья, пришла пора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И я хочу вам пожелать: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Всегда с охотою учиться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Всегда с  желанием трудиться,.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Никогда не унывать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А  русский  на  «отлично»  знать!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Рисунок 5" descr="290c7de85eafef207e33c3e7613ffd07.gif"/>
          <p:cNvPicPr/>
          <p:nvPr/>
        </p:nvPicPr>
        <p:blipFill>
          <a:blip r:embed="rId1"/>
          <a:stretch/>
        </p:blipFill>
        <p:spPr>
          <a:xfrm>
            <a:off x="1187280" y="3357720"/>
            <a:ext cx="684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манда «Грамоте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евиз коман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отвечаем друж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десь сомнений н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годня будет друж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адычицей поб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дведение итогов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Язык – инструмент,</a:t>
            </a:r>
            <a:br>
              <a:rPr sz="2800"/>
            </a:b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           необходимо хорошо знать его, </a:t>
            </a:r>
            <a:br>
              <a:rPr sz="2800"/>
            </a:b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хорошо им владеть</a:t>
            </a:r>
            <a:r>
              <a:rPr b="1" i="1" lang="en-US" sz="2000" spc="-1" strike="noStrike">
                <a:solidFill>
                  <a:srgbClr val="ffcccc"/>
                </a:solidFill>
                <a:latin typeface="Arial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ffcccc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2000" spc="-1" strike="noStrike">
                <a:solidFill>
                  <a:srgbClr val="ff99ff"/>
                </a:solidFill>
                <a:latin typeface="Arial"/>
              </a:rPr>
              <a:t>А. М. Горьки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 flipH="1">
            <a:off x="324000" y="4581360"/>
            <a:ext cx="2232000" cy="1872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820880" cy="186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анда «Всевед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евиз коман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усть острей кипит бор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ьней соревн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пех решает не суд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только наши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Тур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ино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фограф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кс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не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фо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раз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27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1 тур. 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Разминочный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4176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ются звуки, состоящие только из голо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буква “фэ” в русском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ставится перед союзом 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пл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ратить 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а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слова между корнем и окончание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лавные члены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проверить безударную гласную в корне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 в русском язы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2 тур</a:t>
            </a: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Орфограф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фография - в переводе с греческого «орфо»- правильный,«графо»-пиш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 орфография - это единый свод правил, определяющий написание слов и речевых обор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3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Лекс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екси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переводе с гре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тносящийся к слову», изучает словарный состав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айдите слова противоположные по смыслу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ирокий   –      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ердый   –     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ый    –      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учный   –      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отонный –  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ряшливый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44Z</dcterms:created>
  <dc:creator>Admin</dc:creator>
  <dc:description/>
  <dc:language>en-US</dc:language>
  <cp:lastModifiedBy>Admin</cp:lastModifiedBy>
  <dcterms:modified xsi:type="dcterms:W3CDTF">2003-01-01T08:50:10Z</dcterms:modified>
  <cp:revision>11</cp:revision>
  <dc:subject/>
  <dc:title>Турнир  знатоков  русского  языка</dc:title>
</cp:coreProperties>
</file>