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9.wmf" ContentType="image/x-wm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A8A1-6CBB-4D60-8D71-0F24745C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AD6-FE68-43FF-A5C9-65C866CB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1DC-0364-460D-A016-612029F4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A9D-71C8-4683-AE43-AB5FF250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FAEB-BDBE-4D12-A76F-71ABDC7E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6BF9-66E6-4310-AFB5-3A528E31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3F2B-38B4-4661-82CB-6417F6B3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F617-A075-4D4B-86CD-ADD2CB45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BB8F-65AC-4A39-8993-A87B5B36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6E0E-2277-43F4-A764-7C1E1FA9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9A54-B35A-4ED2-85BF-CA2104B8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313-0248-414D-A81B-318E8659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6280-6810-4880-93B3-3A38CED9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A476-0BD8-4F4C-8694-0D5CEDA9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1E0A-A36C-4D62-94AF-E383BD7F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EE12-D68C-4C80-A0DF-DF6C0D7B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9EE5-8EEF-49F2-A590-913A32F6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C0B-4166-4CFD-AAE0-9DECCCD9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7E6-2CFA-43BF-964C-89E8F616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87E-15F2-4E8E-9DED-604F148C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71A-F38F-4833-9947-ED4A0330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09B-B14F-453D-B50E-4CD78EA0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34B-926E-4176-AAE5-5CA1A36A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EA0-8DD6-4074-B452-E1AF4F49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07B0-9D7B-4460-9772-87E1A9D4F7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D7AE-859F-483B-AF34-45A6C12F5E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Турнир  знатоков  русского  языка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Урок-игра в 3 класс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Учитель начальной шко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Постникова Анжела Александ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cc00"/>
                </a:solidFill>
                <a:latin typeface="Arial"/>
              </a:rPr>
              <a:t>4 тур</a:t>
            </a: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cc00"/>
                </a:solidFill>
                <a:latin typeface="Arial"/>
              </a:rPr>
              <a:t>Фонетическ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о фонетика образовано от греческого слова «фонетикос» - звуковой. «Фон»- зву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им образом фонетика – это раздел языкознания, изучающий звуковую сторону язы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колько звуков в названии второго месяца весны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688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ите количество звуков в ответе на загадк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Зимой и летом одним цветом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033720" cy="3456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221440" y="2133720"/>
            <a:ext cx="3349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cc00"/>
                </a:solidFill>
                <a:latin typeface="Arial"/>
              </a:rPr>
              <a:t>5 тур</a:t>
            </a: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Морфологическ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ово морфология образовано от греческого «морфе» - форма и… логи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ка, таким образом морфология - э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дел грамматики, изучающий слова, как части реч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Задание: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назовите имена частей речи, которые подчёркнуты в стихотворени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СЕЛАЯ ГРАММА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………….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шко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росыпаетс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……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………………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есёл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вый школьный день пришё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тали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м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— ……………….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ьет ……………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сем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 ученье, без сомнень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иматься надо вс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ы ……….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тлич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уроках дорожи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блюдаем мы привыч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сциплину и реж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нас ………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м их надо повтор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при этом не лени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ни часу не теря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 школы, как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ы катаемся в саня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десь особенно умест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………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 по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теплой п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торя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асти реч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99cc00"/>
                </a:solidFill>
                <a:latin typeface="Arial"/>
              </a:rPr>
              <a:t>6 тур</a:t>
            </a: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Сообразительны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дание: разгадайте ребус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веты запиши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cc00"/>
                </a:solidFill>
                <a:latin typeface="Arial"/>
              </a:rPr>
              <a:t>Резервный  тур</a:t>
            </a: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Синтаксическ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нтаксис – ( греч.) «строй, систем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усском языке обозначает ту часть, которая рассматривает законы сочетания отдельных слов в целые предло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Comic Sans MS"/>
              </a:rPr>
              <a:t>Определи падеж выделенного имени существительного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91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ыба - шар обитает в водах Индийского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океана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 берегов морей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в заросля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водорослей обитают морские конь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Итак, друзья, пришла пора,</a:t>
            </a:r>
            <a:br>
              <a:rPr sz="2800"/>
            </a:b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И я хочу вам пожелать:</a:t>
            </a:r>
            <a:br>
              <a:rPr sz="2800"/>
            </a:b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Всегда с охотою учиться,</a:t>
            </a:r>
            <a:br>
              <a:rPr sz="2800"/>
            </a:b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Всегда с  желанием трудиться,.</a:t>
            </a:r>
            <a:br>
              <a:rPr sz="2800"/>
            </a:b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Никогда не унывать,</a:t>
            </a:r>
            <a:br>
              <a:rPr sz="2800"/>
            </a:b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А  русский  на  «отлично»  знать!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Рисунок 5" descr="290c7de85eafef207e33c3e7613ffd07.gif"/>
          <p:cNvPicPr/>
          <p:nvPr/>
        </p:nvPicPr>
        <p:blipFill>
          <a:blip r:embed="rId1"/>
          <a:stretch/>
        </p:blipFill>
        <p:spPr>
          <a:xfrm>
            <a:off x="1187280" y="3357720"/>
            <a:ext cx="6840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манда «Грамоте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Девиз команд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 отвечаем дружн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здесь сомнений н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егодня будет друж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ладычицей побе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дведение итогов.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cccc"/>
                </a:solidFill>
                <a:latin typeface="Arial"/>
              </a:rPr>
              <a:t>Язык – инструмент,</a:t>
            </a:r>
            <a:br>
              <a:rPr sz="2800"/>
            </a:br>
            <a:r>
              <a:rPr b="1" i="1" lang="en-US" sz="2800" spc="-1" strike="noStrike">
                <a:solidFill>
                  <a:srgbClr val="ffcccc"/>
                </a:solidFill>
                <a:latin typeface="Arial"/>
              </a:rPr>
              <a:t>           необходимо хорошо знать его, </a:t>
            </a:r>
            <a:br>
              <a:rPr sz="2800"/>
            </a:br>
            <a:r>
              <a:rPr b="1" i="1" lang="en-US" sz="2800" spc="-1" strike="noStrike">
                <a:solidFill>
                  <a:srgbClr val="ffcccc"/>
                </a:solidFill>
                <a:latin typeface="Arial"/>
              </a:rPr>
              <a:t>хорошо им владеть</a:t>
            </a:r>
            <a:r>
              <a:rPr b="1" i="1" lang="en-US" sz="2000" spc="-1" strike="noStrike">
                <a:solidFill>
                  <a:srgbClr val="ffcccc"/>
                </a:solidFill>
                <a:latin typeface="Arial"/>
              </a:rPr>
              <a:t>.</a:t>
            </a:r>
            <a:br>
              <a:rPr sz="2000"/>
            </a:br>
            <a:r>
              <a:rPr b="1" i="1" lang="en-US" sz="2000" spc="-1" strike="noStrike">
                <a:solidFill>
                  <a:srgbClr val="ffcccc"/>
                </a:solidFill>
                <a:latin typeface="Arial"/>
              </a:rPr>
              <a:t>                                                                         </a:t>
            </a:r>
            <a:r>
              <a:rPr b="1" i="1" lang="en-US" sz="2000" spc="-1" strike="noStrike">
                <a:solidFill>
                  <a:srgbClr val="ff99ff"/>
                </a:solidFill>
                <a:latin typeface="Arial"/>
              </a:rPr>
              <a:t>А. М. Горький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 flipH="1">
            <a:off x="324000" y="4581360"/>
            <a:ext cx="2232000" cy="1872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1820880" cy="1862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6516720" y="4653000"/>
            <a:ext cx="19810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манда «Всевед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Девиз команд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пусть острей кипит борьб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льней соревнов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пех решает не судьб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только наши з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Туры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миноч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фограф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кс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не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рфолог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образи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27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cc00"/>
                </a:solidFill>
                <a:latin typeface="Arial"/>
              </a:rPr>
              <a:t>1 тур. 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99cc00"/>
                </a:solidFill>
                <a:latin typeface="Arial"/>
              </a:rPr>
              <a:t>Разминочный.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788000" y="549360"/>
            <a:ext cx="41767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ются звуки, состоящие только из голос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ли буква “фэ” в русском алфави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ставится перед союзом 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плю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вратить в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апл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ется часть слова между корнем и окончанием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главные члены предло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проверить безударную гласную в корне сло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гласных звуков в русском язык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cc00"/>
                </a:solidFill>
                <a:latin typeface="Arial"/>
              </a:rPr>
              <a:t>2 тур</a:t>
            </a: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cc00"/>
                </a:solidFill>
                <a:latin typeface="Arial"/>
              </a:rPr>
              <a:t>Орфографическ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фография - в переводе с греческого «орфо»- правильный,«графо»-пиш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им образом орфография - это единый свод правил, определяющий написание слов и речевых оборо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cc00"/>
                </a:solidFill>
                <a:latin typeface="Arial"/>
              </a:rPr>
              <a:t>3 тур</a:t>
            </a: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Лексическ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ово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лексик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в переводе с грече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относящийся к слову», изучает словарный состав язы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Найдите слова противоположные по смыслу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ирокий   –      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вердый   –     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ый    –      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учный   –      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отонный –  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ряшливый –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01:44Z</dcterms:created>
  <dc:creator>Admin</dc:creator>
  <dc:description/>
  <dc:language>en-US</dc:language>
  <cp:lastModifiedBy>Admin</cp:lastModifiedBy>
  <dcterms:modified xsi:type="dcterms:W3CDTF">2003-01-01T08:50:10Z</dcterms:modified>
  <cp:revision>11</cp:revision>
  <dc:subject/>
  <dc:title>Турнир  знатоков  русского  языка</dc:title>
</cp:coreProperties>
</file>