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02EE-DC0D-471D-A52A-4CE04C03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E5E1-CA66-49AB-B72C-A98085CC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A822-FE6D-48A3-AC59-C22994D7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5BE8-E8C6-4583-A6A0-39456784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A3D8-7DF0-42F5-845B-424E0689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428F-1CCB-4935-87A7-B6CD3A7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2BCF-C36A-40D6-953B-79D36B1B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85A8-4458-4662-B142-DCD82F33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EB44-D8DC-419C-9402-22894C83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5E50-D59C-4C6F-9920-DBECBED5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F743-F929-4F76-A05A-295B333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823A-3F44-47FA-82A7-49D9F44E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7D12-2007-4877-88F9-317EB146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ED6D-F68D-42D3-AAE6-13505E38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3339-6983-4A6B-8966-C2050770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F75B-63E4-4DE8-B54F-E71DCF2B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8681-2554-4ED5-8E3E-76FDC0A3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90DA-9A6E-4684-A840-C25F5DF0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3146-AD0B-421B-8FE1-D22B4F0A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414D-BC6F-460F-9DF2-61ED8C2B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912A-97E3-4ACB-8BBE-0A806FA3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81DB-C47A-4D7E-8003-E6C3364A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101E-AD74-40F4-B73D-E9C3399E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14AB-3358-4768-A6E2-EBB8EB05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B52-ACE9-45DC-8C73-1A61842003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8D7B-F722-43C7-98E5-7B04B8F86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71280"/>
            <a:ext cx="8640720" cy="6769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57240"/>
            <a:ext cx="8642160" cy="67374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81000"/>
            <a:ext cx="8135640" cy="6777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374760"/>
            <a:ext cx="8317080" cy="648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31680"/>
            <a:ext cx="8137440" cy="6777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9688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7640"/>
            <a:ext cx="8209080" cy="6840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6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38160"/>
            <a:ext cx="8893080" cy="6732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44440"/>
            <a:ext cx="8820000" cy="6613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691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20520"/>
            <a:ext cx="8569080" cy="6931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6:43:26Z</dcterms:created>
  <dc:creator>Admin</dc:creator>
  <dc:description/>
  <dc:language>en-US</dc:language>
  <cp:lastModifiedBy>Admin</cp:lastModifiedBy>
  <dcterms:modified xsi:type="dcterms:W3CDTF">2014-03-11T19:48:31Z</dcterms:modified>
  <cp:revision>2</cp:revision>
  <dc:subject/>
  <dc:title>Слайд 1</dc:title>
</cp:coreProperties>
</file>