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2A3D-E3F8-4D9D-B712-0773583F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86AE-A0FB-4B14-B955-8253768A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295C-193B-4B71-A623-177B2F33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D5D1-066D-4BBD-8D7F-C8520997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D5E0-380B-4966-A9D2-86AC2E87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B5E9-49DD-48C3-9A71-44C157F6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D510-05DE-41D7-BC6F-6BFD85EC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3697-73B1-4ACE-ADF1-33F7925C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3887-9583-47EF-ADA7-CE425B02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103D-0D5A-4A57-B84B-C733DD8E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2560-5E6B-48F7-BB32-A3BA6968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EDA0-5377-459E-AFB6-E4BA13B7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206A-BFBF-4255-821D-6C221F0F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CB3D-0784-4675-A064-1D22626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AA42-1BA6-4945-95D7-D45E922E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FEB3-9568-41FD-AA9D-29469E5D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24A4-B913-421B-9E33-8FD6B906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5CFFB-FA78-4CBB-916D-622E973D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1B71-4D36-4B81-A420-38FFF537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2EE92-7C2A-42F8-952F-C8B7606A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39EF-1E3C-4E25-82A0-B6EF926F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FF6C-D1D8-40C0-9E6D-489B740D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D575-F9F8-45D9-A87A-A9921EB6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ACC0-697D-4669-A681-03002142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F9EA-9640-4AE0-B5A2-390A86F565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8171-6597-4D23-87AC-237E2CAB06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71280"/>
            <a:ext cx="8640720" cy="6769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57240"/>
            <a:ext cx="8642160" cy="67374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81000"/>
            <a:ext cx="8135640" cy="6777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374760"/>
            <a:ext cx="8317080" cy="64832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640" y="31680"/>
            <a:ext cx="8137440" cy="6777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1680"/>
            <a:ext cx="8532720" cy="6826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596880"/>
            <a:ext cx="9144000" cy="5965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17640"/>
            <a:ext cx="8209080" cy="6840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43000"/>
            <a:ext cx="9144000" cy="66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38160"/>
            <a:ext cx="8893080" cy="67323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44440"/>
            <a:ext cx="8820000" cy="661356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6913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20520"/>
            <a:ext cx="8569080" cy="69310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965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6:43:26Z</dcterms:created>
  <dc:creator>Admin</dc:creator>
  <dc:description/>
  <dc:language>en-US</dc:language>
  <cp:lastModifiedBy>Admin</cp:lastModifiedBy>
  <dcterms:modified xsi:type="dcterms:W3CDTF">2014-03-11T19:48:31Z</dcterms:modified>
  <cp:revision>2</cp:revision>
  <dc:subject/>
  <dc:title>Слайд 1</dc:title>
</cp:coreProperties>
</file>