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6FCDA-37B0-472D-8D4B-0F0A26EAD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CA041-AD73-45CD-AA83-5983042B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7964A-6915-464C-9B9B-13BF0C187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A2896-6938-4813-AA9A-D980E25F7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2E92-54B6-4FA8-AF60-0D9D9C809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4314-584D-4A26-8BA8-B0C6175F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6F6C-244F-4B2F-9A12-D7C3BF5B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7FF3-9FFD-408A-92A5-4661C908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ECA9-9B59-45B4-84D3-61EC8247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5CDD-D62A-4115-A414-84918FA0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CDBE-DD4B-4CDF-BA40-9A72D7AF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37E51-3796-47C4-8909-011DCD9C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5C0D-D869-40A1-9284-3A71632C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B38F-EF3F-42EE-B7ED-48607017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D5D0-D305-4C9A-95A8-41764C88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B8E8-E279-4AEB-A057-7ABA7DA79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427D-B5F6-46BD-BF91-DC2878AED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85173-7CC5-434D-88AE-FF6421CA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00842-6357-4092-BE3C-25FBE523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C82C7-3322-4E05-B6FE-B259EC2B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1A9A6-2362-4D37-8E4B-4F6B7040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76176-F024-416F-9B4D-F38CC271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29B83-6BFC-4BF4-93B2-80FEAF53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D16E0-B507-4C45-A859-D9508C29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1EA2-C683-48FB-BA00-7B7F52994F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C85D-5C97-4D33-ACE8-93B1A1F6BE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7452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71280"/>
            <a:ext cx="8640720" cy="676908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57240"/>
            <a:ext cx="8642160" cy="67374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81000"/>
            <a:ext cx="8135640" cy="6777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5280" y="374760"/>
            <a:ext cx="8317080" cy="64832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55640" y="31680"/>
            <a:ext cx="8137440" cy="6777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5280" y="31680"/>
            <a:ext cx="8532720" cy="68263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0"/>
                            </p:stCondLst>
                            <p:childTnLst>
                              <p:par>
                                <p:cTn id="20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596880"/>
            <a:ext cx="9144000" cy="5965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5280" y="17640"/>
            <a:ext cx="8209080" cy="68403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243000"/>
            <a:ext cx="9144000" cy="6615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0"/>
                            </p:stCondLst>
                            <p:childTnLst>
                              <p:par>
                                <p:cTn id="2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0"/>
                            </p:stCondLst>
                            <p:childTnLst>
                              <p:par>
                                <p:cTn id="2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0"/>
                            </p:stCondLst>
                            <p:childTnLst>
                              <p:par>
                                <p:cTn id="2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0920" y="38160"/>
            <a:ext cx="8893080" cy="67323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0"/>
                            </p:stCondLst>
                            <p:childTnLst>
                              <p:par>
                                <p:cTn id="2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244440"/>
            <a:ext cx="8820000" cy="66135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6913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4000" y="20520"/>
            <a:ext cx="8569080" cy="693108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965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0920" y="187200"/>
            <a:ext cx="8893080" cy="66708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16:43:26Z</dcterms:created>
  <dc:creator>Admin</dc:creator>
  <dc:description/>
  <dc:language>en-US</dc:language>
  <cp:lastModifiedBy>Admin</cp:lastModifiedBy>
  <dcterms:modified xsi:type="dcterms:W3CDTF">2014-03-11T19:48:31Z</dcterms:modified>
  <cp:revision>2</cp:revision>
  <dc:subject/>
  <dc:title>Слайд 1</dc:title>
</cp:coreProperties>
</file>