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881-CA20-4B94-9028-1B6FC94D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30C-3114-40F9-824E-8BC44C0D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289-B7CA-4BB8-B939-54BD2687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566-6F15-4904-ADBB-B5195642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A67C-04CE-4C52-9DE6-1EE00D4D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6DC0-8305-4967-BBC5-EEA66975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F292-1E45-4CAD-B53C-527673DD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C141-DFBB-48C1-987A-649DD471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744F-273C-4FEF-ACDB-83560596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E2C8-ECC0-4ACB-B8E8-F7B2B43D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198C-2A43-4477-9603-F996941A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D5E-74E7-4C89-ABAF-9AFB6798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22B1-845B-4360-BA1A-1F3BCA63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9FA6-31AA-4E00-9BB8-395E94D7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6FA3-DC73-49D6-A786-2A53F8F2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A583-1D1F-4FA6-9E3D-A58C21CD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A7A6-6808-435F-99AD-89CB80B6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043-E85D-4C8D-AA03-8FE8A22A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879-6980-419B-88B4-356B4EF2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148-04E0-45C2-9FD6-83ABDE72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04E-8004-496E-9A04-1D1D3D5A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5E3-694D-4C41-8261-008E9428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927-743E-4447-998B-3A3AB9E2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423-8E97-472E-BA18-E883C61B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21F6-882A-48A4-A0AE-81CF5ED7C9CB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C4F1-5C13-41E9-A452-4C721CBE19D3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990720" y="838080"/>
            <a:ext cx="72388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8622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шение задач с помощью </a:t>
            </a:r>
            <a:endParaRPr b="0" lang="en-US" sz="1800" spc="1" strike="noStrike">
              <a:ln w="0">
                <a:noFill/>
              </a:ln>
              <a:solidFill>
                <a:srgbClr val="78622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8622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стем уравнений 2 степени</a:t>
            </a:r>
            <a:endParaRPr b="0" lang="en-US" sz="1800" spc="1" strike="noStrike">
              <a:ln w="0">
                <a:noFill/>
              </a:ln>
              <a:solidFill>
                <a:srgbClr val="78622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0" y="4495680"/>
            <a:ext cx="4143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40417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урока алгебры в 9 классе</a:t>
            </a:r>
            <a:endParaRPr b="0" lang="en-US" sz="1800" spc="1" strike="noStrike">
              <a:ln w="0">
                <a:noFill/>
              </a:ln>
              <a:solidFill>
                <a:srgbClr val="40417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57200" y="762120"/>
            <a:ext cx="8686800" cy="61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268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Сумма двух чисел равна 12, а их произведение равно 35. Найдите эти числа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Пусть 1 число – х, а 2 число – у, известно, что их сумма х+у=12, а произведение х</a:t>
            </a:r>
            <a:r>
              <a:rPr b="0" lang="en-US" sz="2000" spc="-1" strike="noStrike">
                <a:solidFill>
                  <a:srgbClr val="2d2d43"/>
                </a:solidFill>
                <a:latin typeface="Arial"/>
                <a:ea typeface="Arial"/>
              </a:rPr>
              <a:t>·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у=35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Решение: составим систему уравнений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х+у=1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;   х=12-у(выразим х через у)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х</a:t>
            </a:r>
            <a:r>
              <a:rPr b="0" lang="en-US" sz="2000" spc="-1" strike="noStrike">
                <a:solidFill>
                  <a:srgbClr val="2d2d43"/>
                </a:solidFill>
                <a:latin typeface="Arial"/>
              </a:rPr>
              <a:t>·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у=35;   (12-у)у=35 </a:t>
            </a:r>
            <a:r>
              <a:rPr b="0" lang="ru-RU" sz="1600" spc="-1" strike="noStrike">
                <a:solidFill>
                  <a:srgbClr val="2d2d43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2d2d43"/>
                </a:solidFill>
                <a:latin typeface="Arial"/>
              </a:rPr>
              <a:t>подставим во 2 уравнение вместо х выражение (12-у))   (1)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2d2d4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12у-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=35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-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+12у-35=0 </a:t>
            </a:r>
            <a:r>
              <a:rPr b="0" lang="en-US" sz="2000" spc="-1" strike="noStrike">
                <a:solidFill>
                  <a:srgbClr val="2d2d43"/>
                </a:solidFill>
                <a:latin typeface="Arial"/>
                <a:ea typeface="Arial"/>
              </a:rPr>
              <a:t>|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(-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-12у+35=0      Д=144-140=4=2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у</a:t>
            </a:r>
            <a:r>
              <a:rPr b="0" lang="ru-RU" sz="2000" spc="-1" strike="noStrike" baseline="-25000">
                <a:solidFill>
                  <a:srgbClr val="2d2d43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=7,   у</a:t>
            </a:r>
            <a:r>
              <a:rPr b="0" lang="ru-RU" sz="2000" spc="-1" strike="noStrike" baseline="-25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=5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х</a:t>
            </a:r>
            <a:r>
              <a:rPr b="0" lang="ru-RU" sz="2000" spc="-1" strike="noStrike" baseline="-25000">
                <a:solidFill>
                  <a:srgbClr val="2d2d43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=5,   х</a:t>
            </a:r>
            <a:r>
              <a:rPr b="0" lang="ru-RU" sz="2000" spc="-1" strike="noStrike" baseline="-25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=7                                    Ответ: 5 и 7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327672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d2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3880" y="327672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d2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400800" y="1600200"/>
            <a:ext cx="2438280" cy="14479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600200"/>
            <a:ext cx="2438280" cy="144792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609480"/>
            <a:ext cx="5867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270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2d2d43"/>
                </a:solidFill>
                <a:latin typeface="Arial"/>
              </a:rPr>
              <a:t>Диагональ прямоугольника равна 10см, а его периметр равен 28 см. Найдите стороны прямоугольника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86600" y="3200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21337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43800" y="1981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1981080"/>
            <a:ext cx="53341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Что нам неизвестно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Как обозначим эти неизвестные величины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Как найти периметр нашего прямоугольника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Составьте 1 уравнение системы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2(х+у)=28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Как нам связать стороны с диагональю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По теореме Пифагора получаем х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+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=10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это второе уравнение системы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19920" y="4038480"/>
            <a:ext cx="2666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х+у=14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Х</a:t>
            </a:r>
            <a:r>
              <a:rPr b="1" lang="en-US" sz="2000" spc="-1" strike="noStrike" baseline="30000">
                <a:solidFill>
                  <a:srgbClr val="11111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+у</a:t>
            </a:r>
            <a:r>
              <a:rPr b="1" lang="en-US" sz="2000" spc="-1" strike="noStrike" baseline="30000">
                <a:solidFill>
                  <a:srgbClr val="11111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=10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3600" y="41148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2d2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533520" y="685800"/>
            <a:ext cx="7848360" cy="48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х=14-у                          х</a:t>
            </a:r>
            <a:r>
              <a:rPr b="0" lang="ru-RU" sz="2000" spc="-1" strike="noStrike" baseline="-25000">
                <a:solidFill>
                  <a:srgbClr val="11111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=6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(14-у)</a:t>
            </a:r>
            <a:r>
              <a:rPr b="0" lang="ru-RU" sz="2000" spc="-1" strike="noStrike" baseline="30000">
                <a:solidFill>
                  <a:srgbClr val="11111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 + у</a:t>
            </a:r>
            <a:r>
              <a:rPr b="0" lang="ru-RU" sz="2000" spc="-1" strike="noStrike" baseline="30000">
                <a:solidFill>
                  <a:srgbClr val="11111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=100 (1)      у</a:t>
            </a:r>
            <a:r>
              <a:rPr b="0" lang="ru-RU" sz="2000" spc="-1" strike="noStrike" baseline="-25000">
                <a:solidFill>
                  <a:srgbClr val="11111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=8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х</a:t>
            </a:r>
            <a:r>
              <a:rPr b="0" lang="ru-RU" sz="2000" spc="-1" strike="noStrike" baseline="-25000">
                <a:solidFill>
                  <a:srgbClr val="11111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=8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у</a:t>
            </a:r>
            <a:r>
              <a:rPr b="0" lang="ru-RU" sz="2000" spc="-1" strike="noStrike" baseline="-25000">
                <a:solidFill>
                  <a:srgbClr val="11111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=6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11111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196 -28у + у</a:t>
            </a:r>
            <a:r>
              <a:rPr b="0" lang="ru-RU" sz="2000" spc="-1" strike="noStrike" baseline="30000">
                <a:solidFill>
                  <a:srgbClr val="111119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+ у</a:t>
            </a:r>
            <a:r>
              <a:rPr b="0" lang="ru-RU" sz="2000" spc="-1" strike="noStrike" baseline="30000">
                <a:solidFill>
                  <a:srgbClr val="111119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- 100 = 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2у</a:t>
            </a:r>
            <a:r>
              <a:rPr b="0" lang="ru-RU" sz="2000" spc="-1" strike="noStrike" baseline="30000">
                <a:solidFill>
                  <a:srgbClr val="111119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- 28у + 96 = 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у</a:t>
            </a:r>
            <a:r>
              <a:rPr b="0" lang="ru-RU" sz="2000" spc="-1" strike="noStrike" baseline="30000">
                <a:solidFill>
                  <a:srgbClr val="111119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– 14у + 48 = 0        Д</a:t>
            </a:r>
            <a:r>
              <a:rPr b="0" lang="ru-RU" sz="2000" spc="-1" strike="noStrike" baseline="-25000">
                <a:solidFill>
                  <a:srgbClr val="111119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= 49 – 48=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у</a:t>
            </a:r>
            <a:r>
              <a:rPr b="0" lang="ru-RU" sz="2000" spc="-1" strike="noStrike" baseline="-25000">
                <a:solidFill>
                  <a:srgbClr val="11111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=8; у</a:t>
            </a:r>
            <a:r>
              <a:rPr b="0" lang="ru-RU" sz="2000" spc="-1" strike="noStrike" baseline="-25000">
                <a:solidFill>
                  <a:srgbClr val="11111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=6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Ответ: 6 и 8 см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6858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11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2d2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175248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2d2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71800" y="685800"/>
            <a:ext cx="76320" cy="1828800"/>
          </a:xfrm>
          <a:custGeom>
            <a:avLst/>
            <a:gdLst>
              <a:gd name="textAreaLeft" fmla="*/ 22320 w 76320"/>
              <a:gd name="textAreaRight" fmla="*/ 76320 w 76320"/>
              <a:gd name="textAreaTop" fmla="*/ 75960 h 1828800"/>
              <a:gd name="textAreaBottom" fmla="*/ 175284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2d2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553080" y="3048120"/>
            <a:ext cx="1447920" cy="11430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001000" y="3048120"/>
            <a:ext cx="990720" cy="11430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3048120"/>
            <a:ext cx="990360" cy="11430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4191120"/>
            <a:ext cx="1447920" cy="16761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553080" y="1371600"/>
            <a:ext cx="1447920" cy="1676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8660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078760" y="485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72200" y="34797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43178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1752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9"/>
                </a:solidFill>
                <a:latin typeface="Arial"/>
              </a:rPr>
              <a:t>S=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х</a:t>
            </a:r>
            <a:r>
              <a:rPr b="0" lang="ru-RU" sz="2000" spc="-1" strike="noStrike" baseline="30000">
                <a:solidFill>
                  <a:srgbClr val="11111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158680" y="340344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9"/>
                </a:solidFill>
                <a:latin typeface="Arial"/>
              </a:rPr>
              <a:t>S=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у</a:t>
            </a:r>
            <a:r>
              <a:rPr b="0" lang="ru-RU" sz="2000" spc="-1" strike="noStrike" baseline="30000">
                <a:solidFill>
                  <a:srgbClr val="11111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340344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9"/>
                </a:solidFill>
                <a:latin typeface="Arial"/>
              </a:rPr>
              <a:t>S=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ху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838080"/>
            <a:ext cx="60199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276.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На каждой из сторон прямоугольника построен квадрат. Сумма площадей квадратов равна 122 см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Найдите стороны прямоугольника, если его площадь равна 30 см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2(х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+ 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) =122            х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+ 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= 6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ху = 30                         х = 30</a:t>
            </a:r>
            <a:r>
              <a:rPr b="0" lang="en-US" sz="2000" spc="-1" strike="noStrike">
                <a:solidFill>
                  <a:srgbClr val="2d2d43"/>
                </a:solidFill>
                <a:latin typeface="Arial"/>
              </a:rPr>
              <a:t>/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(30</a:t>
            </a:r>
            <a:r>
              <a:rPr b="0" lang="en-US" sz="2000" spc="-1" strike="noStrike">
                <a:solidFill>
                  <a:srgbClr val="2d2d43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у)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+ 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– 61 = 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– 61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+ 900 = 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Замена 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= а, а</a:t>
            </a:r>
            <a:r>
              <a:rPr b="0" lang="en-US" sz="2000" spc="-1" strike="noStrike">
                <a:solidFill>
                  <a:srgbClr val="2d2d43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0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 - 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61а + 900 = 0,  Д =61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-4</a:t>
            </a:r>
            <a:r>
              <a:rPr b="0" lang="en-US" sz="2000" spc="-1" strike="noStrike">
                <a:solidFill>
                  <a:srgbClr val="2d2d43"/>
                </a:solidFill>
                <a:latin typeface="Arial"/>
                <a:ea typeface="Arial"/>
              </a:rPr>
              <a:t>·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900=3721-3600=12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 baseline="-25000">
                <a:solidFill>
                  <a:srgbClr val="2d2d43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= 36,  а</a:t>
            </a:r>
            <a:r>
              <a:rPr b="0" lang="ru-RU" sz="2000" spc="-1" strike="noStrike" baseline="-25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=25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Обратная замена: 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=6, у=6, 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=25, у=5</a:t>
            </a:r>
            <a:r>
              <a:rPr b="0" lang="ru-RU" sz="2000" spc="-1" strike="noStrike" baseline="-25000">
                <a:solidFill>
                  <a:srgbClr val="2d2d4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2d2d43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х=5             х=6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Ответ: 5 и 6 см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2280" y="2286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2d2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66880" y="2286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2d2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819520" y="4572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2510"/>
                </a:solidFill>
                <a:latin typeface="Arial"/>
              </a:rPr>
              <a:t>Самостоятельная работ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43000" y="9907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990720"/>
            <a:ext cx="37339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1111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Разность двух чисел равна 5, а их произведение равно 84. Найдите эти числа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1111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Гипотенуза прямоугольного треугольника равна 13. Найдите его катеты, если известно, что один из них на 7 см больше другог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00600" y="91440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buClr>
                <a:srgbClr val="1111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Сумма двух чисел равна 25,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а их произведение равно  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144. Найдите эти числа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buClr>
                <a:srgbClr val="11111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Гипотенуза прямоугольног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треугольника равна 20.  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Найдите его катеты, если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известно, что один из них на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4 см меньше другог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6172200"/>
            <a:ext cx="2133720" cy="0"/>
          </a:xfrm>
          <a:prstGeom prst="line">
            <a:avLst/>
          </a:prstGeom>
          <a:ln w="572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4648320"/>
            <a:ext cx="2133720" cy="1523880"/>
          </a:xfrm>
          <a:prstGeom prst="line">
            <a:avLst/>
          </a:prstGeom>
          <a:ln w="572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09680" y="5257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43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6172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43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58128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43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956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43"/>
                </a:solidFill>
                <a:latin typeface="Arial"/>
              </a:rPr>
              <a:t>а</a:t>
            </a:r>
            <a:r>
              <a:rPr b="0" lang="en-US" sz="18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2d2d43"/>
                </a:solidFill>
                <a:latin typeface="Arial"/>
              </a:rPr>
              <a:t>+в</a:t>
            </a:r>
            <a:r>
              <a:rPr b="0" lang="en-US" sz="18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2d2d43"/>
                </a:solidFill>
                <a:latin typeface="Arial"/>
              </a:rPr>
              <a:t>=с</a:t>
            </a:r>
            <a:r>
              <a:rPr b="0" lang="en-US" sz="18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1143000" y="838080"/>
            <a:ext cx="7772400" cy="4984560"/>
            <a:chOff x="1143000" y="838080"/>
            <a:chExt cx="7772400" cy="4984560"/>
          </a:xfrm>
        </p:grpSpPr>
        <p:sp>
          <p:nvSpPr>
            <p:cNvPr id="388" name=""/>
            <p:cNvSpPr/>
            <p:nvPr/>
          </p:nvSpPr>
          <p:spPr>
            <a:xfrm>
              <a:off x="1143000" y="838080"/>
              <a:ext cx="7772400" cy="49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2d43"/>
                  </a:solidFill>
                  <a:latin typeface="Arial"/>
                </a:rPr>
                <a:t>№</a:t>
              </a:r>
              <a:r>
                <a:rPr b="0" lang="en-US" sz="1800" spc="-1" strike="noStrike">
                  <a:solidFill>
                    <a:srgbClr val="2d2d43"/>
                  </a:solidFill>
                  <a:latin typeface="Arial"/>
                </a:rPr>
                <a:t>279. Два экскаватора, работая одновременно, выполняют некоторый объем земляных работ за 3 часа 45 минут. Один экскаватор, работая отдельно, может выполнить этот объем работ на 4 часа быстрее, чем другой. Сколько времени требуется каждому экскаватору в отдельности для выполнения того же объема земляных работ?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43"/>
                  </a:solidFill>
                  <a:latin typeface="Arial"/>
                </a:rPr>
                <a:t>Обозначим за </a:t>
              </a:r>
              <a:r>
                <a:rPr b="1" lang="en-US" sz="2000" spc="-1" strike="noStrike">
                  <a:solidFill>
                    <a:srgbClr val="2d2d43"/>
                  </a:solidFill>
                  <a:latin typeface="Arial"/>
                </a:rPr>
                <a:t>х </a:t>
              </a:r>
              <a:r>
                <a:rPr b="1" lang="en-US" sz="1800" spc="-1" strike="noStrike">
                  <a:solidFill>
                    <a:srgbClr val="2d2d43"/>
                  </a:solidFill>
                  <a:latin typeface="Arial"/>
                </a:rPr>
                <a:t>время, которое требуется первому экскаватору для выполнения одного и того же объема работ, за </a:t>
              </a:r>
              <a:r>
                <a:rPr b="1" lang="en-US" sz="2000" spc="-1" strike="noStrike">
                  <a:solidFill>
                    <a:srgbClr val="2d2d43"/>
                  </a:solidFill>
                  <a:latin typeface="Arial"/>
                </a:rPr>
                <a:t>у</a:t>
              </a:r>
              <a:r>
                <a:rPr b="1" lang="en-US" sz="1800" spc="-1" strike="noStrike">
                  <a:solidFill>
                    <a:srgbClr val="2d2d43"/>
                  </a:solidFill>
                  <a:latin typeface="Arial"/>
                </a:rPr>
                <a:t> время, которое требуется второму экскаватору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 ,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2510"/>
                  </a:solidFill>
                  <a:latin typeface="Arial"/>
                </a:rPr>
                <a:t>Составим первое уравнение, зная, что первый экскаватор может выполнить работу на 4 часа быстрее.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2510"/>
                  </a:solidFill>
                  <a:latin typeface="Arial"/>
                </a:rPr>
                <a:t>Составим второе уравнение, зная, что работая вместе они выполнят работу за 3        часа.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09880" y="4952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251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09880" y="5257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251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09880" y="5257800"/>
              <a:ext cx="304920" cy="0"/>
            </a:xfrm>
            <a:prstGeom prst="line">
              <a:avLst/>
            </a:prstGeom>
            <a:ln w="38160">
              <a:solidFill>
                <a:srgbClr val="2d2d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1-13T15:19:5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