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90F-3119-4890-8123-7095DBD3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9C41-0524-4973-9B14-FBD65F4B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ADB-A7D0-4EDA-ACDA-35CE5D54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B54-3817-46E8-A931-966611FF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B282-1633-476E-A930-AB2A591A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61D1-AC69-4E9D-9739-2878BADF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6238-2BA5-4F3B-A5AE-9E2CDC4A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AB1B-E03C-4FAB-A896-5F57B404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A63E-94D3-4228-9977-2E4A0623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03B7-367E-46B7-8EC0-45C805AF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0B6B-34BB-4A9C-A282-E31CE4C9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1CE-4690-4C9C-BDAE-1D971479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46A6-50A3-4D70-8382-A748D55A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4930-420D-463E-B22D-6B7B259B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8B4F-ED12-4295-9065-FDA5960F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CEE1-119C-42E5-B93F-3966F8CF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2D8A-65A2-4797-850C-5F1EDCF3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3590-DA2A-4D1A-BE4D-ABA39C9C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8CC-1734-430C-AF65-3F1B3ED8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942-4BCA-43DA-BB00-F535773C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086-A053-4C33-B7DB-0F27C692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35D-C71A-4B7B-ACE7-FFE983B0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0E8-E234-4D23-A8CA-3A99F939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9DD-6BA1-40E4-938A-CC2671B2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63B1-58C1-467B-86DF-2D5ED4B8EB0B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3E1B-0CAB-4FC3-971F-A919D4C7D13E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990720" y="838080"/>
            <a:ext cx="72388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8622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шение задач с помощью </a:t>
            </a:r>
            <a:endParaRPr b="0" lang="en-US" sz="1800" spc="1" strike="noStrike">
              <a:ln w="0">
                <a:noFill/>
              </a:ln>
              <a:solidFill>
                <a:srgbClr val="78622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8622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стем уравнений 2 степени</a:t>
            </a:r>
            <a:endParaRPr b="0" lang="en-US" sz="1800" spc="1" strike="noStrike">
              <a:ln w="0">
                <a:noFill/>
              </a:ln>
              <a:solidFill>
                <a:srgbClr val="78622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0" y="4495680"/>
            <a:ext cx="4143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40417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я урока алгебры в 9 классе</a:t>
            </a:r>
            <a:endParaRPr b="0" lang="en-US" sz="1800" spc="1" strike="noStrike">
              <a:ln w="0">
                <a:noFill/>
              </a:ln>
              <a:solidFill>
                <a:srgbClr val="40417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457200" y="762120"/>
            <a:ext cx="8686800" cy="61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268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Сумма двух чисел равна 12, а их произведение равно 35. Найдите эти числа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Пусть 1 число – х, а 2 число – у, известно, что их сумма х+у=12, а произведение х</a:t>
            </a:r>
            <a:r>
              <a:rPr b="0" lang="en-US" sz="2000" spc="-1" strike="noStrike">
                <a:solidFill>
                  <a:srgbClr val="2d2d43"/>
                </a:solidFill>
                <a:latin typeface="Arial"/>
                <a:ea typeface="Arial"/>
              </a:rPr>
              <a:t>·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у=35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Решение: составим систему уравнений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х+у=1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;   х=12-у(выразим х через у) 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х</a:t>
            </a:r>
            <a:r>
              <a:rPr b="0" lang="en-US" sz="2000" spc="-1" strike="noStrike">
                <a:solidFill>
                  <a:srgbClr val="2d2d43"/>
                </a:solidFill>
                <a:latin typeface="Arial"/>
              </a:rPr>
              <a:t>·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у=35;   (12-у)у=35 </a:t>
            </a:r>
            <a:r>
              <a:rPr b="0" lang="ru-RU" sz="1600" spc="-1" strike="noStrike">
                <a:solidFill>
                  <a:srgbClr val="2d2d43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2d2d43"/>
                </a:solidFill>
                <a:latin typeface="Arial"/>
              </a:rPr>
              <a:t>подставим во 2 уравнение вместо х выражение (12-у))   (1)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2d2d4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12у-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=35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-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+12у-35=0 </a:t>
            </a:r>
            <a:r>
              <a:rPr b="0" lang="en-US" sz="2000" spc="-1" strike="noStrike">
                <a:solidFill>
                  <a:srgbClr val="2d2d43"/>
                </a:solidFill>
                <a:latin typeface="Arial"/>
                <a:ea typeface="Arial"/>
              </a:rPr>
              <a:t>|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(-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-12у+35=0      Д=144-140=4=2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у</a:t>
            </a:r>
            <a:r>
              <a:rPr b="0" lang="ru-RU" sz="2000" spc="-1" strike="noStrike" baseline="-25000">
                <a:solidFill>
                  <a:srgbClr val="2d2d43"/>
                </a:solidFill>
                <a:latin typeface="Arial"/>
                <a:ea typeface="Arial"/>
              </a:rPr>
              <a:t>1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=7,   у</a:t>
            </a:r>
            <a:r>
              <a:rPr b="0" lang="ru-RU" sz="2000" spc="-1" strike="noStrike" baseline="-25000">
                <a:solidFill>
                  <a:srgbClr val="2d2d43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=5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х</a:t>
            </a:r>
            <a:r>
              <a:rPr b="0" lang="ru-RU" sz="2000" spc="-1" strike="noStrike" baseline="-25000">
                <a:solidFill>
                  <a:srgbClr val="2d2d43"/>
                </a:solidFill>
                <a:latin typeface="Arial"/>
                <a:ea typeface="Arial"/>
              </a:rPr>
              <a:t>1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=5,   х</a:t>
            </a:r>
            <a:r>
              <a:rPr b="0" lang="ru-RU" sz="2000" spc="-1" strike="noStrike" baseline="-25000">
                <a:solidFill>
                  <a:srgbClr val="2d2d43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=7                                    Ответ: 5 и 7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327672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d2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3880" y="327672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d2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400800" y="1600200"/>
            <a:ext cx="2438280" cy="14479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600200"/>
            <a:ext cx="2438280" cy="144792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609480"/>
            <a:ext cx="5867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№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270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2d2d43"/>
                </a:solidFill>
                <a:latin typeface="Arial"/>
              </a:rPr>
              <a:t>Диагональ прямоугольника равна 10см, а его периметр равен 28 см. Найдите стороны прямоугольника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086600" y="3200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21337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43800" y="1981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1981080"/>
            <a:ext cx="53341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Что нам неизвестно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Как обозначим эти неизвестные величины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Как найти периметр нашего прямоугольника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Составьте 1 уравнение системы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2(х+у)=28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Как нам связать стороны с диагональю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По теореме Пифагора получаем х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+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=10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это второе уравнение системы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19920" y="4038480"/>
            <a:ext cx="2666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х+у=14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Х</a:t>
            </a:r>
            <a:r>
              <a:rPr b="1" lang="en-US" sz="2000" spc="-1" strike="noStrike" baseline="30000">
                <a:solidFill>
                  <a:srgbClr val="11111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+у</a:t>
            </a:r>
            <a:r>
              <a:rPr b="1" lang="en-US" sz="2000" spc="-1" strike="noStrike" baseline="30000">
                <a:solidFill>
                  <a:srgbClr val="11111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=10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3600" y="41148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2d2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533520" y="685800"/>
            <a:ext cx="7848360" cy="48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х=14-у                          х</a:t>
            </a:r>
            <a:r>
              <a:rPr b="0" lang="ru-RU" sz="2000" spc="-1" strike="noStrike" baseline="-25000">
                <a:solidFill>
                  <a:srgbClr val="11111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=6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(14-у)</a:t>
            </a:r>
            <a:r>
              <a:rPr b="0" lang="ru-RU" sz="2000" spc="-1" strike="noStrike" baseline="30000">
                <a:solidFill>
                  <a:srgbClr val="11111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 + у</a:t>
            </a:r>
            <a:r>
              <a:rPr b="0" lang="ru-RU" sz="2000" spc="-1" strike="noStrike" baseline="30000">
                <a:solidFill>
                  <a:srgbClr val="11111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=100 (1)      у</a:t>
            </a:r>
            <a:r>
              <a:rPr b="0" lang="ru-RU" sz="2000" spc="-1" strike="noStrike" baseline="-25000">
                <a:solidFill>
                  <a:srgbClr val="11111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=8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х</a:t>
            </a:r>
            <a:r>
              <a:rPr b="0" lang="ru-RU" sz="2000" spc="-1" strike="noStrike" baseline="-25000">
                <a:solidFill>
                  <a:srgbClr val="11111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=8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у</a:t>
            </a:r>
            <a:r>
              <a:rPr b="0" lang="ru-RU" sz="2000" spc="-1" strike="noStrike" baseline="-25000">
                <a:solidFill>
                  <a:srgbClr val="11111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=6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11111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196 -28у + у</a:t>
            </a:r>
            <a:r>
              <a:rPr b="0" lang="ru-RU" sz="2000" spc="-1" strike="noStrike" baseline="30000">
                <a:solidFill>
                  <a:srgbClr val="111119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+ у</a:t>
            </a:r>
            <a:r>
              <a:rPr b="0" lang="ru-RU" sz="2000" spc="-1" strike="noStrike" baseline="30000">
                <a:solidFill>
                  <a:srgbClr val="111119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- 100 = 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2у</a:t>
            </a:r>
            <a:r>
              <a:rPr b="0" lang="ru-RU" sz="2000" spc="-1" strike="noStrike" baseline="30000">
                <a:solidFill>
                  <a:srgbClr val="111119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- 28у + 96 = 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у</a:t>
            </a:r>
            <a:r>
              <a:rPr b="0" lang="ru-RU" sz="2000" spc="-1" strike="noStrike" baseline="30000">
                <a:solidFill>
                  <a:srgbClr val="111119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– 14у + 48 = 0        Д</a:t>
            </a:r>
            <a:r>
              <a:rPr b="0" lang="ru-RU" sz="2000" spc="-1" strike="noStrike" baseline="-25000">
                <a:solidFill>
                  <a:srgbClr val="111119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= 49 – 48=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у</a:t>
            </a:r>
            <a:r>
              <a:rPr b="0" lang="ru-RU" sz="2000" spc="-1" strike="noStrike" baseline="-25000">
                <a:solidFill>
                  <a:srgbClr val="11111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=8; у</a:t>
            </a:r>
            <a:r>
              <a:rPr b="0" lang="ru-RU" sz="2000" spc="-1" strike="noStrike" baseline="-25000">
                <a:solidFill>
                  <a:srgbClr val="11111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=6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Ответ: 6 и 8 см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6858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11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7621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2d2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175248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2d2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971800" y="685800"/>
            <a:ext cx="76320" cy="1828800"/>
          </a:xfrm>
          <a:custGeom>
            <a:avLst/>
            <a:gdLst>
              <a:gd name="textAreaLeft" fmla="*/ 22320 w 76320"/>
              <a:gd name="textAreaRight" fmla="*/ 76320 w 76320"/>
              <a:gd name="textAreaTop" fmla="*/ 75960 h 1828800"/>
              <a:gd name="textAreaBottom" fmla="*/ 175284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2d2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553080" y="3048120"/>
            <a:ext cx="1447920" cy="11430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001000" y="3048120"/>
            <a:ext cx="990720" cy="11430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3048120"/>
            <a:ext cx="990360" cy="11430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4191120"/>
            <a:ext cx="1447920" cy="167616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553080" y="1371600"/>
            <a:ext cx="1447920" cy="1676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8660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078760" y="485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72200" y="34797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867280" y="431784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9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1752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9"/>
                </a:solidFill>
                <a:latin typeface="Arial"/>
              </a:rPr>
              <a:t>S=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х</a:t>
            </a:r>
            <a:r>
              <a:rPr b="0" lang="ru-RU" sz="2000" spc="-1" strike="noStrike" baseline="30000">
                <a:solidFill>
                  <a:srgbClr val="11111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158680" y="340344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9"/>
                </a:solidFill>
                <a:latin typeface="Arial"/>
              </a:rPr>
              <a:t>S=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у</a:t>
            </a:r>
            <a:r>
              <a:rPr b="0" lang="ru-RU" sz="2000" spc="-1" strike="noStrike" baseline="30000">
                <a:solidFill>
                  <a:srgbClr val="11111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340344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9"/>
                </a:solidFill>
                <a:latin typeface="Arial"/>
              </a:rPr>
              <a:t>S=</a:t>
            </a:r>
            <a:r>
              <a:rPr b="0" lang="ru-RU" sz="2000" spc="-1" strike="noStrike">
                <a:solidFill>
                  <a:srgbClr val="111119"/>
                </a:solidFill>
                <a:latin typeface="Arial"/>
              </a:rPr>
              <a:t>ху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" y="838080"/>
            <a:ext cx="601992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276.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На каждой из сторон прямоугольника построен квадрат. Сумма площадей квадратов равна 122 см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Найдите стороны прямоугольника, если его площадь равна 30 см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2(х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+ 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) =122            х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+ 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= 6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ху = 30                         х = 30</a:t>
            </a:r>
            <a:r>
              <a:rPr b="0" lang="en-US" sz="2000" spc="-1" strike="noStrike">
                <a:solidFill>
                  <a:srgbClr val="2d2d43"/>
                </a:solidFill>
                <a:latin typeface="Arial"/>
              </a:rPr>
              <a:t>/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(30</a:t>
            </a:r>
            <a:r>
              <a:rPr b="0" lang="en-US" sz="2000" spc="-1" strike="noStrike">
                <a:solidFill>
                  <a:srgbClr val="2d2d43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у)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+ 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– 61 = 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– 61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+ 900 = 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Замена 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</a:rPr>
              <a:t> = а, а</a:t>
            </a:r>
            <a:r>
              <a:rPr b="0" lang="en-US" sz="2000" spc="-1" strike="noStrike">
                <a:solidFill>
                  <a:srgbClr val="2d2d43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0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 - 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61а + 900 = 0,  Д =61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-4</a:t>
            </a:r>
            <a:r>
              <a:rPr b="0" lang="en-US" sz="2000" spc="-1" strike="noStrike">
                <a:solidFill>
                  <a:srgbClr val="2d2d43"/>
                </a:solidFill>
                <a:latin typeface="Arial"/>
                <a:ea typeface="Arial"/>
              </a:rPr>
              <a:t>·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900=3721-3600=12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 baseline="-25000">
                <a:solidFill>
                  <a:srgbClr val="2d2d43"/>
                </a:solidFill>
                <a:latin typeface="Arial"/>
                <a:ea typeface="Arial"/>
              </a:rPr>
              <a:t>1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= 36,  а</a:t>
            </a:r>
            <a:r>
              <a:rPr b="0" lang="ru-RU" sz="2000" spc="-1" strike="noStrike" baseline="-25000">
                <a:solidFill>
                  <a:srgbClr val="2d2d43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=25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Обратная замена: 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=6, у=6, у</a:t>
            </a:r>
            <a:r>
              <a:rPr b="0" lang="ru-RU" sz="2000" spc="-1" strike="noStrike" baseline="30000">
                <a:solidFill>
                  <a:srgbClr val="2d2d43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=25, у=5</a:t>
            </a:r>
            <a:r>
              <a:rPr b="0" lang="ru-RU" sz="2000" spc="-1" strike="noStrike" baseline="-25000">
                <a:solidFill>
                  <a:srgbClr val="2d2d4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2d2d43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х=5             х=6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43"/>
                </a:solidFill>
                <a:latin typeface="Arial"/>
                <a:ea typeface="Arial"/>
              </a:rPr>
              <a:t>Ответ: 5 и 6 см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2280" y="22860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2d2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66880" y="22860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2d2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819520" y="4572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2510"/>
                </a:solidFill>
                <a:latin typeface="Arial"/>
              </a:rPr>
              <a:t>Самостоятельная работ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43000" y="9907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990720"/>
            <a:ext cx="37339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1 вариант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1111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Разность двух чисел равна 5, а их произведение равно 84. Найдите эти числа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1111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Гипотенуза прямоугольного треугольника равна 13. Найдите его катеты, если известно, что один из них на 7 см больше другог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800600" y="914400"/>
            <a:ext cx="37339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buClr>
                <a:srgbClr val="1111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Сумма двух чисел равна 25,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а их произведение равно  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144. Найдите эти числа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buClr>
                <a:srgbClr val="11111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Гипотенуза прямоугольног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треугольника равна 20.  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Найдите его катеты, если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известно, что один из них на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111119"/>
                </a:solidFill>
                <a:latin typeface="Arial"/>
              </a:rPr>
              <a:t>4 см меньше другог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6172200"/>
            <a:ext cx="2133720" cy="0"/>
          </a:xfrm>
          <a:prstGeom prst="line">
            <a:avLst/>
          </a:prstGeom>
          <a:ln w="572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14600" y="4648320"/>
            <a:ext cx="2133720" cy="1523880"/>
          </a:xfrm>
          <a:prstGeom prst="line">
            <a:avLst/>
          </a:prstGeom>
          <a:ln w="572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09680" y="5257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43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6172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43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58128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43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9568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43"/>
                </a:solidFill>
                <a:latin typeface="Arial"/>
              </a:rPr>
              <a:t>а</a:t>
            </a:r>
            <a:r>
              <a:rPr b="0" lang="en-US" sz="18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2d2d43"/>
                </a:solidFill>
                <a:latin typeface="Arial"/>
              </a:rPr>
              <a:t>+в</a:t>
            </a:r>
            <a:r>
              <a:rPr b="0" lang="en-US" sz="18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2d2d43"/>
                </a:solidFill>
                <a:latin typeface="Arial"/>
              </a:rPr>
              <a:t>=с</a:t>
            </a:r>
            <a:r>
              <a:rPr b="0" lang="en-US" sz="1800" spc="-1" strike="noStrike" baseline="30000">
                <a:solidFill>
                  <a:srgbClr val="2d2d4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1143000" y="838080"/>
            <a:ext cx="7772400" cy="4984560"/>
            <a:chOff x="1143000" y="838080"/>
            <a:chExt cx="7772400" cy="4984560"/>
          </a:xfrm>
        </p:grpSpPr>
        <p:sp>
          <p:nvSpPr>
            <p:cNvPr id="388" name=""/>
            <p:cNvSpPr/>
            <p:nvPr/>
          </p:nvSpPr>
          <p:spPr>
            <a:xfrm>
              <a:off x="1143000" y="838080"/>
              <a:ext cx="7772400" cy="49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2d43"/>
                  </a:solidFill>
                  <a:latin typeface="Arial"/>
                </a:rPr>
                <a:t>№</a:t>
              </a:r>
              <a:r>
                <a:rPr b="0" lang="en-US" sz="1800" spc="-1" strike="noStrike">
                  <a:solidFill>
                    <a:srgbClr val="2d2d43"/>
                  </a:solidFill>
                  <a:latin typeface="Arial"/>
                </a:rPr>
                <a:t>279. Два экскаватора, работая одновременно, выполняют некоторый объем земляных работ за 3 часа 45 минут. Один экскаватор, работая отдельно, может выполнить этот объем работ на 4 часа быстрее, чем другой. Сколько времени требуется каждому экскаватору в отдельности для выполнения того же объема земляных работ?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43"/>
                  </a:solidFill>
                  <a:latin typeface="Arial"/>
                </a:rPr>
                <a:t>Обозначим за </a:t>
              </a:r>
              <a:r>
                <a:rPr b="1" lang="en-US" sz="2000" spc="-1" strike="noStrike">
                  <a:solidFill>
                    <a:srgbClr val="2d2d43"/>
                  </a:solidFill>
                  <a:latin typeface="Arial"/>
                </a:rPr>
                <a:t>х </a:t>
              </a:r>
              <a:r>
                <a:rPr b="1" lang="en-US" sz="1800" spc="-1" strike="noStrike">
                  <a:solidFill>
                    <a:srgbClr val="2d2d43"/>
                  </a:solidFill>
                  <a:latin typeface="Arial"/>
                </a:rPr>
                <a:t>время, которое требуется первому экскаватору для выполнения одного и того же объема работ, за </a:t>
              </a:r>
              <a:r>
                <a:rPr b="1" lang="en-US" sz="2000" spc="-1" strike="noStrike">
                  <a:solidFill>
                    <a:srgbClr val="2d2d43"/>
                  </a:solidFill>
                  <a:latin typeface="Arial"/>
                </a:rPr>
                <a:t>у</a:t>
              </a:r>
              <a:r>
                <a:rPr b="1" lang="en-US" sz="1800" spc="-1" strike="noStrike">
                  <a:solidFill>
                    <a:srgbClr val="2d2d43"/>
                  </a:solidFill>
                  <a:latin typeface="Arial"/>
                </a:rPr>
                <a:t> время, которое требуется второму экскаватору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 ,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2510"/>
                  </a:solidFill>
                  <a:latin typeface="Arial"/>
                </a:rPr>
                <a:t>Составим первое уравнение, зная, что первый экскаватор может выполнить работу на 4 часа быстрее.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2510"/>
                  </a:solidFill>
                  <a:latin typeface="Arial"/>
                </a:rPr>
                <a:t>Составим второе уравнение, зная, что работая вместе они выполнят работу за 3        часа.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09880" y="49528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251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09880" y="5257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251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09880" y="5257800"/>
              <a:ext cx="304920" cy="0"/>
            </a:xfrm>
            <a:prstGeom prst="line">
              <a:avLst/>
            </a:prstGeom>
            <a:ln w="38160">
              <a:solidFill>
                <a:srgbClr val="2d2d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1-13T15:19:5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