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E0C-AC4D-4201-A3D1-30D79DFF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347-3FA5-46AA-90E0-560A4BF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4C9-C604-4417-A362-36FB961D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591-175E-4D6F-A14A-0D5651FE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1969-7FCD-4D0D-A4AC-E3D83ECC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2BD9-DA1B-44BE-9D65-7DDF17B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2F75-4D21-4C63-8251-FDF53809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812F-0AE5-4E59-92B3-9C0CEB36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ED4C-4C10-4255-BDE9-D5C96821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4D64-6E2E-4997-AF9A-4E94E2E1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A8DE-C637-4203-8DBB-F1673B21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079-405F-4D48-8D3B-33542B6D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03E4-E05E-40B4-BF68-8A31D39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7F5D-8C7C-4D7B-B131-889F46E2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103-24CA-43BA-993C-207B8F33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52E6-7CB4-44B3-BEE0-4A633F4C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F614-5CD9-43E0-8A22-14BED115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EF9-79A4-4A44-A827-621EF36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319-F339-4139-B835-46A57DEE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260-5647-4CA5-ABEB-C45CF9C6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4AD-8E3C-4228-8D67-BB124399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8DF-252C-4E4F-A706-7FC368B5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B3F-DED8-4F16-9F13-441F8350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C81-B7D9-4066-B6A3-EA5836C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7557-D548-4ECF-AC64-C08EE9E1FF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3877-0951-40D7-A253-DB1F9F0F18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1332000" y="476280"/>
            <a:ext cx="6769080" cy="35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но - техничес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волюц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5"/>
          <p:cNvSpPr txBox="1"/>
          <p:nvPr/>
        </p:nvSpPr>
        <p:spPr>
          <a:xfrm>
            <a:off x="3780000" y="4869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2" name="WordArt 6"/>
          <p:cNvSpPr txBox="1"/>
          <p:nvPr/>
        </p:nvSpPr>
        <p:spPr>
          <a:xfrm>
            <a:off x="4356000" y="486900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3" name="WordArt 7"/>
          <p:cNvSpPr txBox="1"/>
          <p:nvPr/>
        </p:nvSpPr>
        <p:spPr>
          <a:xfrm>
            <a:off x="5148360" y="4869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Научно – техническая революция представляет собой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Характерные черт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версальность, всеохват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вычайное ускорение научно – технических преобразо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ий уровень квалификации трудовых ресур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енно – техническая револю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Составные части НТР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ика и техн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извод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рав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Результат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0" name="Picture 9" descr="Рисунок8"/>
          <p:cNvPicPr/>
          <p:nvPr/>
        </p:nvPicPr>
        <p:blipFill>
          <a:blip r:embed="rId1"/>
          <a:stretch/>
        </p:blipFill>
        <p:spPr>
          <a:xfrm>
            <a:off x="971640" y="148428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w400_d6ce495724b513a8529a45cf631d716c"/>
          <p:cNvPicPr/>
          <p:nvPr/>
        </p:nvPicPr>
        <p:blipFill>
          <a:blip r:embed="rId2"/>
          <a:stretch/>
        </p:blipFill>
        <p:spPr>
          <a:xfrm>
            <a:off x="4932360" y="1341360"/>
            <a:ext cx="3600360" cy="2843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первый настенный комп"/>
          <p:cNvPicPr/>
          <p:nvPr/>
        </p:nvPicPr>
        <p:blipFill>
          <a:blip r:embed="rId3"/>
          <a:stretch/>
        </p:blipFill>
        <p:spPr>
          <a:xfrm>
            <a:off x="1403280" y="3933720"/>
            <a:ext cx="3816360" cy="259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комп сейчас"/>
          <p:cNvPicPr/>
          <p:nvPr/>
        </p:nvPicPr>
        <p:blipFill>
          <a:blip r:embed="rId4"/>
          <a:stretch/>
        </p:blipFill>
        <p:spPr>
          <a:xfrm>
            <a:off x="5508720" y="335772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c3aa"/>
                </a:solidFill>
                <a:latin typeface="Arial"/>
              </a:rPr>
              <a:t>Наука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Рост наукоемкост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измеряется уровнем (долей) затрат на научные исследования и разработки в общих затратах на производство той или иной продукци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Техника и технолог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волюционный путь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личение мощ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ст грузоподъем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олюционный пут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к текстил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к стал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к автомобил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к микроэлектроник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оизводство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ектрониз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плексная автоматиз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йка энергетического хозяй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изводство новых материал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коренное развитие биотехнолог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смиз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Управление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иберне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формационный взры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терн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С – геоинформационные систем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7:37:09Z</dcterms:created>
  <dc:creator>Customer</dc:creator>
  <dc:description/>
  <dc:language>en-US</dc:language>
  <cp:lastModifiedBy>Коля</cp:lastModifiedBy>
  <dcterms:modified xsi:type="dcterms:W3CDTF">2013-03-24T10:58:15Z</dcterms:modified>
  <cp:revision>4</cp:revision>
  <dc:subject/>
  <dc:title>Слайд 1</dc:title>
</cp:coreProperties>
</file>