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0AD-0190-4CA2-A1F9-B4961F72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A31-76F4-4CAE-8A06-B1001D0D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1A7-BEC3-44A3-B786-D8FEA79A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96D-E567-48D9-A60C-24614BA5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9BC4-6265-4185-910B-80E1D9F4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B8E0-977F-47DC-BA2E-C36B1997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68FF-3F07-4A21-814C-CE02CFCF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7503-576F-490F-B2FE-F507BAB4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D46B-9A75-4EE3-867F-C9EA23E9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6C4F-BE79-4C3B-9356-D6FF8FDA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5FD2-C9BC-4D4E-858C-2DDA550F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A58-AEFF-4F51-9B60-7EA1D2AF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BF9C-0C40-4D55-9E63-B3885086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4722-C174-438C-AF74-55020AEC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A09E-3FF8-4AC4-8AEA-431F68B2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EFC3-BDA1-4ACC-A81A-2FE87E8D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81D9-A14E-4EB1-BDC2-40A5E782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A99-A499-4929-BD18-781564D4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AEE-71BA-4A03-9488-9E90A82F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FD2-B2E1-4467-93D3-490944A0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790-BFEA-4C93-97AE-742507E6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FE4-16DF-4D8C-9E88-AB674E6C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693-667A-4073-B986-995EB175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F78-5A68-486F-B547-B46B8178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B9EB-F467-48DB-A031-93CDC3D199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3553-D04E-451C-A4AC-E7E8AA858C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4"/>
          <p:cNvSpPr txBox="1"/>
          <p:nvPr/>
        </p:nvSpPr>
        <p:spPr>
          <a:xfrm>
            <a:off x="1332000" y="476280"/>
            <a:ext cx="6769080" cy="35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но - техничес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волюц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5"/>
          <p:cNvSpPr txBox="1"/>
          <p:nvPr/>
        </p:nvSpPr>
        <p:spPr>
          <a:xfrm>
            <a:off x="3780000" y="4869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2" name="WordArt 6"/>
          <p:cNvSpPr txBox="1"/>
          <p:nvPr/>
        </p:nvSpPr>
        <p:spPr>
          <a:xfrm>
            <a:off x="4356000" y="486900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3" name="WordArt 7"/>
          <p:cNvSpPr txBox="1"/>
          <p:nvPr/>
        </p:nvSpPr>
        <p:spPr>
          <a:xfrm>
            <a:off x="5148360" y="4869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Научно – техническая революция представляет собой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Характерные черты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версальность, всеохват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вычайное ускорение научно – технических преобразова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ий уровень квалификации трудовых ресур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енно – техническая револю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Составные части НТР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ника и техн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извод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рав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Результаты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0" name="Picture 9" descr="Рисунок8"/>
          <p:cNvPicPr/>
          <p:nvPr/>
        </p:nvPicPr>
        <p:blipFill>
          <a:blip r:embed="rId1"/>
          <a:stretch/>
        </p:blipFill>
        <p:spPr>
          <a:xfrm>
            <a:off x="971640" y="148428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w400_d6ce495724b513a8529a45cf631d716c"/>
          <p:cNvPicPr/>
          <p:nvPr/>
        </p:nvPicPr>
        <p:blipFill>
          <a:blip r:embed="rId2"/>
          <a:stretch/>
        </p:blipFill>
        <p:spPr>
          <a:xfrm>
            <a:off x="4932360" y="1341360"/>
            <a:ext cx="3600360" cy="2843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первый настенный комп"/>
          <p:cNvPicPr/>
          <p:nvPr/>
        </p:nvPicPr>
        <p:blipFill>
          <a:blip r:embed="rId3"/>
          <a:stretch/>
        </p:blipFill>
        <p:spPr>
          <a:xfrm>
            <a:off x="1403280" y="3933720"/>
            <a:ext cx="3816360" cy="259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комп сейчас"/>
          <p:cNvPicPr/>
          <p:nvPr/>
        </p:nvPicPr>
        <p:blipFill>
          <a:blip r:embed="rId4"/>
          <a:stretch/>
        </p:blipFill>
        <p:spPr>
          <a:xfrm>
            <a:off x="5508720" y="335772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c3aa"/>
                </a:solidFill>
                <a:latin typeface="Arial"/>
              </a:rPr>
              <a:t>Наука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Рост наукоемкост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измеряется уровнем (долей) затрат на научные исследования и разработки в общих затратах на производство той или иной продукци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Техника и технолог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волюционный путь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личение мощ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ст грузоподъем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олюционный пут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к текстил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к стал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к автомобил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к микроэлектроник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2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оизводство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ектрониз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плексная автоматиз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йка энергетического хозяй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изводство новых материал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коренное развитие биотехнолог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смиз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Управление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иберне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формационный взры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терн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С – геоинформационные систем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7:37:09Z</dcterms:created>
  <dc:creator>Customer</dc:creator>
  <dc:description/>
  <dc:language>en-US</dc:language>
  <cp:lastModifiedBy>Коля</cp:lastModifiedBy>
  <dcterms:modified xsi:type="dcterms:W3CDTF">2013-03-24T10:58:15Z</dcterms:modified>
  <cp:revision>4</cp:revision>
  <dc:subject/>
  <dc:title>Слайд 1</dc:title>
</cp:coreProperties>
</file>