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B4D-0427-4096-929F-4B364212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511-E753-42AD-9D14-79BF23EE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5B5-651C-4537-9F78-23818955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BC8-F0A8-4DAF-A11D-57CAD046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02C-844B-49B6-9239-9D39AC7C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4E5-B813-48C3-A84C-F48786C8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8A5-6C9D-46C7-B627-E3C84080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BAC-2B19-4E35-B0DB-BC775C13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B82-B2FA-4EFC-89DE-B1786E4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268-43B0-43B3-A828-EF8074B9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F18-FBB0-4A90-9D13-3C90885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081-7643-4871-BFC7-B4A12EA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5376-33AF-4CB0-91D6-9D9CC69CC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рок русского языка в 7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те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равописание союз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МОУ «СОШ №4 г. Соль-Илецка» Андреева Светлана Анатол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581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ируем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Что)бы оценить мастерство художника Ивана Шишкина, нужно обратиться к его пейзажам. При(чем) чаще всего это картины русского леса, полей и лугов.Одна из них- «Лес весной».Теплый свет проникает сквозь робкую зелень деревьев, то(же) тепло вливается в сердца зрителей.Становится понятно, что природа то(же) является выразителем музыки души человеческой.При(чем) передать это смог талантливый пейзажист И. Шиш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31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фический диктант +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836640"/>
          <a:ext cx="8242200" cy="6531120"/>
        </p:xfrm>
        <a:graphic>
          <a:graphicData uri="http://schemas.openxmlformats.org/drawingml/2006/table">
            <a:tbl>
              <a:tblPr/>
              <a:tblGrid>
                <a:gridCol w="8242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(Что )бы ни нарисовал художник  на своих полотнах, наполнено любовью к родному кра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ртине А. Саврасова «Грачи прилетели» изображен пасмурный, (за)то по- весеннему радостный ден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то)бы рассказать людям об удивительном окружающем мире, художник тщательно прописал каждую веточку не только на дереве, но и на снегу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еднем плане (так)же с любовью изображен грач с веточкой в клюве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йзаж прост, за(то) за этой простотой чувствуется душа художника, которому все это дорого и близк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(того) пейзажа веет свежестью и теплот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472000" y="681372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кажите слова, которые пишутся сли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Я не знал, что(бы) такое придум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Что(бы) не заблудиться в лесу, надо знать при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Он так(же) пришёл с небольшим опозд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Я мог бы опоздать так(же), как и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Все говорили то(же), что и председ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кажи слова, которые пишутся сли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Он то(же) взял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Он не пришёл (от)того, что плохо себя чувство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Всё будет зависеть (от)того, как я буду себя чув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Я не пришёл на собрание, потому(что) забол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Он был молод, но (за)то очень опы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77080" y="6859440"/>
            <a:ext cx="22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ка т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– 2,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 – 1, 2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72000" y="681372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дравляю всех с приходом весны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769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Тест по теме «Сою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Четвертый «Лиш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литно или 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Отличай союзы от схожи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Запомни написание сою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Граф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Работа с тек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ди неверное утвер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оюз-служебная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Союз является членом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Союз соединяет однородные члены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союзу нельзя задать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Какие слово(а) не являются союз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.та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2.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3.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5.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6.что-л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7.з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8.сло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чинительными союзами явл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) то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) одна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)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разделительным союзам относя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то 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то ли - то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з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ертый «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) (в) течение ночи,(в) продолжение урока, (в)следствии по делу, благодаря хорошей иг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(во)первых, дважды, сгоряча, перв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зато, не только…но и, да(и),то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чтобы, тоже, то_ же, за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м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то = 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же, также =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бы = для того что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чем = при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того что = потому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личай союзы от омонимичных фор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х частей реч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43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нельзя поставить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не являются членам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ишутся сли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можно заменить другим сою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1197000"/>
            <a:ext cx="374508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имение или 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можно поставить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являются членам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с частицам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едлогами пишутся раз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3:53:44Z</dcterms:created>
  <dc:creator>ученик 04</dc:creator>
  <dc:description/>
  <dc:language>en-US</dc:language>
  <cp:lastModifiedBy>Дом</cp:lastModifiedBy>
  <dcterms:modified xsi:type="dcterms:W3CDTF">2010-02-21T04:28:13Z</dcterms:modified>
  <cp:revision>21</cp:revision>
  <dc:subject/>
  <dc:title>Правописание союзов</dc:title>
</cp:coreProperties>
</file>