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02A-3368-4B92-97AF-5B3A4A74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3D7-738B-4F8C-9FC4-29BD4D11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05D-EBE7-4EF0-A18E-BB4442BB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5A9-983B-4969-94F7-78F892F1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8AD-393E-45EC-A8FA-BDC9D35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A9F-8D2A-458E-A68F-60F0D9C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F86-C561-40D6-9A49-F99A54E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A3F-D06C-4996-957F-9DB56F04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064-A954-425E-8180-CEF6B68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B92-096A-42E5-B0CC-F5C0691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295-55ED-4477-9965-EB98AD6B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B570-D773-44D1-A15E-DF7485A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073-7B73-42C8-9BDD-A9F8A25F6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к русского языка в 7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те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равописание союзо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ОУ «СОШ №4 г. Соль-Илецка» Андреева Светлана Анатолье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5581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ируем тек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Что)бы оценить мастерство художника Ивана Шишкина, нужно обратиться к его пейзажам. При(чем) чаще всего это картины русского леса, полей и лугов.Одна из них- «Лес весной».Теплый свет проникает сквозь робкую зелень деревьев, то(же) тепло вливается в сердца зрителей.Становится понятно, что природа то(же) является выразителем музыки души человеческой.При(чем) передать это смог талантливый пейзажист И. Шишк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31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фический диктант 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836640"/>
          <a:ext cx="8242200" cy="6531120"/>
        </p:xfrm>
        <a:graphic>
          <a:graphicData uri="http://schemas.openxmlformats.org/drawingml/2006/table">
            <a:tbl>
              <a:tblPr/>
              <a:tblGrid>
                <a:gridCol w="8242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Что )бы ни нарисовал художник  на своих полотнах, наполнено любовью к родному кра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артине А. Саврасова «Грачи прилетели» изображен пасмурный, (за)то по- весеннему радостный ден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то)бы рассказать людям об удивительном окружающем мире, художник тщательно прописал каждую веточку не только на дереве, но и на снегу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ереднем плане (так)же с любовью изображен грач с веточкой в клюве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йзаж прост, за(то) за этой простотой чувствуется душа художника, которому все это дорого и близ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(того) пейзажа веет свежестью и теплот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те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Я не знал, что(бы) такое приду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Что(бы) не заблудиться в лесу, надо знать при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Он так(же) пришёл с небольшим опозд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мог бы опоздать так(же), как и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Все говорили то(же), что и председа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кажи слова, которые пишутся сли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Он то(же) взял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Он не пришёл (от)того, что плохо себя чувств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Всё будет зависеть (от)того, как я буду себя чув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не пришёл на собрание, потому(что) забол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Он был молод, но (за)то очень опы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77080" y="6859440"/>
            <a:ext cx="22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ка т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– 2, 3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 – 1, 2,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72000" y="68137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ю всех с приходом весны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асибо за урок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769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 по теме «Сою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Четвертый «Лиш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Слитно ил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Отличай союзы от схожи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Запомни написание сою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Граф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Работа с тек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 неверное утвер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Союз-служебная часть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Союз является членом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Союз соединяет однородные члены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оюзу нельзя задать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Какие слово(а) не являются союз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1.та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2.чт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3.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5.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6.что-ли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7.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8.сло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чинительными союзами я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) то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) одна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) 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разделительным союзам относя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то -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то ли - то 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за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твертый «лишни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) (в) течение ночи,(в) продолжение урока, (в)следствии по делу, благодаря хорошей иг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(во)первых, дважды, сгоряча, пер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зато, не только…но и, да(и),то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чтобы, тоже, то_ же, за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мн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то = 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оже, также =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бы = для того что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чем = при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ттого что = потому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личай союзы от омонимичных форм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х частей реч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43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нельзя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не являются членам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ишутся сли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ожно заменить другим союз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1197000"/>
            <a:ext cx="37450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имение или наре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можно поставить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являются членам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с частицам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предлогами пишутся разд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3:53:44Z</dcterms:created>
  <dc:creator>ученик 04</dc:creator>
  <dc:description/>
  <dc:language>en-US</dc:language>
  <cp:lastModifiedBy>Дом</cp:lastModifiedBy>
  <dcterms:modified xsi:type="dcterms:W3CDTF">2010-02-21T04:28:13Z</dcterms:modified>
  <cp:revision>21</cp:revision>
  <dc:subject/>
  <dc:title>Правописание союзов</dc:title>
</cp:coreProperties>
</file>