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D06-AA72-47B3-8C21-F1B0E16B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50C-B72A-4319-A096-C25B91D3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949-D8C3-4A53-BC6A-FEC02F16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4835-BE75-4111-AF1F-B1853DBB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1BC-DD2A-4FF6-BDB2-C09DBCC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B52-DCF3-4D8A-A385-BC1C466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E42-A397-48BF-832A-B0A7E972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4A0-CC40-4130-A032-022BC98A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2FD-A4CE-449E-AE1B-301A95E9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D62-BE20-4545-A8D9-ED50E98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4CC-278A-4F0C-BB71-C877E784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DA6-225B-4CD0-A725-22C78D0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1556-384F-4AEF-B575-49B50922C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2"/>
          <a:stretch/>
        </p:blipFill>
        <p:spPr>
          <a:xfrm>
            <a:off x="633240" y="1206360"/>
            <a:ext cx="7535880" cy="390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1342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ура человека, который говорит добрые 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9" descr="13_bef1"/>
          <p:cNvPicPr/>
          <p:nvPr/>
        </p:nvPicPr>
        <p:blipFill>
          <a:blip r:embed="rId1"/>
          <a:stretch/>
        </p:blipFill>
        <p:spPr>
          <a:xfrm>
            <a:off x="642960" y="1928880"/>
            <a:ext cx="2124000" cy="42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1" descr="13_bef2"/>
          <p:cNvPicPr/>
          <p:nvPr/>
        </p:nvPicPr>
        <p:blipFill>
          <a:blip r:embed="rId2"/>
          <a:stretch/>
        </p:blipFill>
        <p:spPr>
          <a:xfrm>
            <a:off x="3357720" y="2000160"/>
            <a:ext cx="2160360" cy="41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2" descr="13_aft2"/>
          <p:cNvPicPr/>
          <p:nvPr/>
        </p:nvPicPr>
        <p:blipFill>
          <a:blip r:embed="rId3"/>
          <a:stretch/>
        </p:blipFill>
        <p:spPr>
          <a:xfrm>
            <a:off x="5715000" y="2143080"/>
            <a:ext cx="216684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35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5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35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лияние молитвы на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уру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5_1"/>
          <p:cNvPicPr/>
          <p:nvPr/>
        </p:nvPicPr>
        <p:blipFill>
          <a:blip r:embed="rId1"/>
          <a:stretch/>
        </p:blipFill>
        <p:spPr>
          <a:xfrm>
            <a:off x="684360" y="1125360"/>
            <a:ext cx="2016000" cy="410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5_2"/>
          <p:cNvPicPr/>
          <p:nvPr/>
        </p:nvPicPr>
        <p:blipFill>
          <a:blip r:embed="rId2"/>
          <a:stretch/>
        </p:blipFill>
        <p:spPr>
          <a:xfrm>
            <a:off x="3635280" y="1052640"/>
            <a:ext cx="2016360" cy="41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5_3"/>
          <p:cNvPicPr/>
          <p:nvPr/>
        </p:nvPicPr>
        <p:blipFill>
          <a:blip r:embed="rId3"/>
          <a:stretch/>
        </p:blipFill>
        <p:spPr>
          <a:xfrm>
            <a:off x="6286680" y="1000080"/>
            <a:ext cx="215244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"/>
          <p:cNvSpPr/>
          <p:nvPr/>
        </p:nvSpPr>
        <p:spPr>
          <a:xfrm>
            <a:off x="611280" y="5524560"/>
            <a:ext cx="217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до эксперимента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214800" y="536220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во время ментальной молитвы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 flipV="1" rot="10800000">
            <a:off x="6286680" y="5504040"/>
            <a:ext cx="23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ура во время молитвы о себе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5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850"/>
                            </p:stCondLst>
                            <p:childTnLst>
                              <p:par>
                                <p:cTn id="8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35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350"/>
                            </p:stCondLst>
                            <p:childTnLst>
                              <p:par>
                                <p:cTn id="9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85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850"/>
                            </p:stCondLst>
                            <p:childTnLst>
                              <p:par>
                                <p:cTn id="9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8880" y="307800"/>
            <a:ext cx="76723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ура людей, которые сквернословя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6_6"/>
          <p:cNvPicPr/>
          <p:nvPr/>
        </p:nvPicPr>
        <p:blipFill>
          <a:blip r:embed="rId1"/>
          <a:stretch/>
        </p:blipFill>
        <p:spPr>
          <a:xfrm>
            <a:off x="5000760" y="1571760"/>
            <a:ext cx="345600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6_5"/>
          <p:cNvPicPr/>
          <p:nvPr/>
        </p:nvPicPr>
        <p:blipFill>
          <a:blip r:embed="rId2"/>
          <a:stretch/>
        </p:blipFill>
        <p:spPr>
          <a:xfrm>
            <a:off x="571680" y="1643040"/>
            <a:ext cx="352728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95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–мистический  образ  личност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стасия –Узорешительн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ьга – просветительниц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ргий – победонос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ьте, что  тема  лич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ется  именем,  и  все  остальное – лишь  простая  разработка  этой  темы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вел  Флор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ерковнославянском языке   слова</a:t>
            </a:r>
            <a:br>
              <a:rPr sz="6000"/>
            </a:b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язык и народ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уть одного понятия: </a:t>
            </a: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каков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cc"/>
                </a:solidFill>
                <a:latin typeface="Arial"/>
              </a:rPr>
              <a:t>язык- таков и народ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асилий Ирзабе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Новых  слов  много,   но  какие  это  слова?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ки  (в  значении  деньги),  байк (мотоцикл),  баксы  и  грины,  башлять,  бодипирсинг,  бой-френд,  виповский,  гей-клуб,  дампинг,  имиджмейкер,  китчмен,  клипмейкер,  ксивник,  лейб,  медиа-баинг,  наркодоллары,  ништяк,   пиарить,   плюрализм,  пофигист,  прикид,  рейв-тусовка,  рэпер,  секс-шоп,  секс-идол,  секс-тренинг,  секьюрити,  татуаж,  тетеха,  тинейджер,  транссексуал,  тусоваться,  хавальник,   шейпин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428920"/>
            <a:ext cx="84009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оло  60%  современных  жаргонизмов  образуют  тематическую  группу  «секс»,   а  30%  -  «наркотики  и  способы  их  употребления»  Таковы  ценностные  ориентиры,  навязываемые  современному  обществ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349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 u="sng">
                <a:solidFill>
                  <a:srgbClr val="000000"/>
                </a:solidFill>
                <a:uFillTx/>
                <a:latin typeface="Arial"/>
              </a:rPr>
              <a:t>Мат и сквернословие вызывают мутацию ДН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cf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“…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ДНК реагирует на нашу речь.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…Воздействие брани равносильно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адиационному облучению в 10–40 тысяч рентген: </a:t>
            </a: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вутся цепочки ДНК, распадаются хромосомы”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исследований Института квантовой генетик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Цель  работы</a:t>
            </a: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:  собрать  материал, доказывающий  Божественное  происхождение  и  духовный  смысл  слова; влияние   слова на  жизнь  и  здоровье  человека  и  его потомков, а  также на судьбу  страны,  в  которой  он  живет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Так исследования, проведенные Российской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кадемией наук, позволяют говорить о том, что ДНК способна воспринимать человеческую речь и читаемый текст по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электромагнитным каналам.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 Причем одни тексты оздоравливают гены,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а проклятие и матершина вызывает мутации, ведущие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 к вырождению</a:t>
            </a: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человека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Даже в простейшем слове зашифрована история  рода  и  народа, но мы принимаем его, как божественный дар, в нем таятся нрав и норов, психология, заповедальность, союз земли и неба.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               Владимир Личути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древо пушкина"/>
          <p:cNvPicPr/>
          <p:nvPr/>
        </p:nvPicPr>
        <p:blipFill>
          <a:blip r:embed="rId1"/>
          <a:stretch/>
        </p:blipFill>
        <p:spPr>
          <a:xfrm>
            <a:off x="0" y="260280"/>
            <a:ext cx="4572000" cy="6337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858560" y="3645000"/>
            <a:ext cx="3946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ковник  в  отставк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.А.Черкаш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0 лет  работал  над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шкинской  родослов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сделал  удивительное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крыт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50000">
              <a:srgbClr val="9966ff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Читайте Пушкина и Евангелие!</a:t>
            </a:r>
            <a:br>
              <a:rPr sz="4700"/>
            </a:br>
            <a:r>
              <a:rPr b="1" lang="ru-RU" sz="47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ван Шмеле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Современный русский язык стал одним из полей духовно-нравственного б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Многие современные учёные считают, что от слов, символов и мифов зависит не только судьбы отдельных людей, но и судьба всего народа. Неслучайно кирилловская азбука была дарована русскому народу вместе с православием и книжностью, и до сих пор Русь владеет ценнейшим сокровищем – церковно-славянским языком. Это особый язык, обладающий преимуществом над другими языками планеты, имеющими азбуку: на нём не написано ни одной вредной, бесполезной книги, все они направлены на очищение нравственност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Сквернословие есть яд, умерщвляющий душу”. </a:t>
            </a:r>
            <a:br>
              <a:rPr sz="2400"/>
            </a:b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Святитель Тихон Задонски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4360" y="692280"/>
            <a:ext cx="8229600" cy="56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46940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5364000" y="4869000"/>
            <a:ext cx="335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Равноапостоль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ирилл и Мефод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кон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XIX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ек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292480" cy="2681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786040" y="2887560"/>
            <a:ext cx="63579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ная  речь – Отечеству  Осно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 замути   Божественный  родник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ани  себя:  душа  рождает  слово,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ликий  Святорусский  наш  язы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еромонах  Роман (Матюши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2230560" cy="3560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68360" y="3860640"/>
            <a:ext cx="63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  мы  сохраним  тебя,  русская  речь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еликое  русское  слов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вободным  и  чистым  тебя  пронесем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  внукам  дадим,  и  от  плена  спасе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всегда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. Ахматова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Каждому  из  нас  на  своем  месте  нужно  изыскать  возможность  служения  России  и  ее  святыням,  среди  которых – русский  язы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lackadder ITC"/>
              </a:rPr>
              <a:t>  </a:t>
            </a:r>
            <a:r>
              <a:rPr b="1" i="1" lang="ru-RU" sz="4900" spc="-1" strike="noStrike">
                <a:solidFill>
                  <a:srgbClr val="000099"/>
                </a:solidFill>
                <a:latin typeface="Blackadder ITC"/>
              </a:rPr>
              <a:t>От слов своих оправдаешься  и от слов своих осудишься</a:t>
            </a:r>
            <a:br>
              <a:rPr sz="4900"/>
            </a:br>
            <a:r>
              <a:rPr b="1" i="1" lang="ru-RU" sz="4900" spc="-1" strike="noStrike">
                <a:solidFill>
                  <a:srgbClr val="000099"/>
                </a:solidFill>
                <a:latin typeface="Blackadder ITC"/>
              </a:rPr>
              <a:t>                    </a:t>
            </a:r>
            <a:r>
              <a:rPr b="1" i="1" lang="ru-RU" sz="2800" spc="-1" strike="noStrike">
                <a:solidFill>
                  <a:srgbClr val="000099"/>
                </a:solidFill>
                <a:latin typeface="Blackadder ITC"/>
              </a:rPr>
              <a:t>Евангелие от Мат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90236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одоления множества кризисных явлений сегодняшнего периода русской истории невозможно без духовно – нравственного очищения и подъёма общества, без опоры на классическую и народную, выдержавшую испытание временем русскую культуру и культуру народов России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оссия живет тяжело. В раздорах, чиновничьем произволе, бедности. Но она живет и в Вере, и в Надежде, и жажде созидания. Давайте же созидать её вместе – под знаком русской классической литературы и великого Русского Слова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з резолюции 11  всемирного Русского Народного Соб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Arial"/>
              </a:rPr>
              <a:t>Культура – обработка и уход, возделывание; образование умственное и нравственное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9680" y="5000400"/>
            <a:ext cx="824868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Скверна – мерзость, гадость , пакость, всё гнусное, противное, отвратительное, непотребное, что мерзит плотски и духовно; нечистота, грязь и гниль, тление,</a:t>
            </a:r>
            <a:r>
              <a:rPr b="1" i="1" lang="ru-RU" sz="4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ертвечина, извержения; непотребство разврат, нравственное растление.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. Да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 произнесенные  или воплощенные в событиях слова «запечатлеваются в любой точке вселенной». Слова с положительной энергетикой оздоравливают нас, а слова с отрицательной энергетикой размножаются как вирусы и разрушают наше сознани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адемик Ф. Я. Шипунов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Вначале было Слово, и Слово было у Бога, и Слово было Бог.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ангелие от Иоа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cc0000"/>
                </a:solidFill>
                <a:latin typeface="Arial"/>
              </a:rPr>
              <a:t>Слово – словек – цловек – чловек – человек</a:t>
            </a:r>
            <a:br>
              <a:rPr sz="5900"/>
            </a:br>
            <a:r>
              <a:rPr b="0" lang="ru-RU" sz="59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Министр просвещения,   президент Российской Академии наук, защитник чистоты русского языка, автор книги «Славянорусский корнеслов» Александр Семенович Шиш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ef1f4"/>
              </a:gs>
              <a:gs pos="100000">
                <a:srgbClr val="effaf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Бог – слово – словек – чловек –цловек – человек – образ – икона –лик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Человек, потерявший образ Божий-</a:t>
            </a:r>
            <a:br>
              <a:rPr sz="4000"/>
            </a:br>
            <a:r>
              <a:rPr b="1" i="1" lang="ru-RU" sz="4000" spc="-1" strike="noStrike">
                <a:solidFill>
                  <a:srgbClr val="0d0d0d"/>
                </a:solidFill>
                <a:latin typeface="Arial"/>
              </a:rPr>
              <a:t>без – образ – ны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ллер –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душегуб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МЖ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едолага, горемыка, бездомный, босяк, бродяг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сестра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естра милосерд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дбрат –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брат милосерд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о, а значит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лик (лики святых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вратилось в рыл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запасаются снедью и спиртным не на человека, а на рыло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Василий Ирзаб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ff0000"/>
                </a:solidFill>
                <a:latin typeface="Arial"/>
              </a:rPr>
              <a:t>Невеста, от слова неведать</a:t>
            </a:r>
            <a:r>
              <a:rPr b="0" lang="ru-RU" sz="5200" spc="-1" strike="noStrike">
                <a:solidFill>
                  <a:srgbClr val="000099"/>
                </a:solidFill>
                <a:latin typeface="Arial"/>
              </a:rPr>
              <a:t>, а ведьмы от слова ведать (знать порок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49:21Z</dcterms:created>
  <dc:creator>Валик</dc:creator>
  <dc:description/>
  <dc:language>en-US</dc:language>
  <cp:lastModifiedBy>MAMA</cp:lastModifiedBy>
  <dcterms:modified xsi:type="dcterms:W3CDTF">2008-11-06T21:46:34Z</dcterms:modified>
  <cp:revision>89</cp:revision>
  <dc:subject/>
  <dc:title>Слайд 1</dc:title>
</cp:coreProperties>
</file>