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19.png" ContentType="image/png"/>
  <Override PartName="/ppt/media/image3.jpeg" ContentType="image/jpeg"/>
  <Override PartName="/ppt/media/image18.png" ContentType="image/png"/>
  <Override PartName="/ppt/media/image17.jpeg" ContentType="image/jpeg"/>
  <Override PartName="/ppt/media/image16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5.wmf" ContentType="image/x-wmf"/>
  <Override PartName="/ppt/media/image1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7EFF-8589-488A-8B69-71A9CDD04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DBAB-1E58-464F-8298-D5EC2305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D2AA-8B58-4624-824F-82905D34A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F051-DEFB-430C-A6C2-64F875BF0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60ED-0EF1-40DD-A445-CB8271BA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D349-E7A2-421D-B379-ECE0A8E6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AD32-6171-419A-9B9D-80AB0088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75F8-D780-4592-A5C4-29F80B86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6AB5-D477-4711-9F7D-5446DE4A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4F73-29DF-418E-A619-8F64C67F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855C-0E3F-4FD4-A696-350235AD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41D9-3989-454D-B9FA-70FD4D2D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2788-9CCC-4AC2-AFF9-0763D6016A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5" descr=""/>
          <p:cNvPicPr/>
          <p:nvPr/>
        </p:nvPicPr>
        <p:blipFill>
          <a:blip r:embed="rId2"/>
          <a:stretch/>
        </p:blipFill>
        <p:spPr>
          <a:xfrm>
            <a:off x="633240" y="1206360"/>
            <a:ext cx="7535880" cy="3902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320" y="142920"/>
            <a:ext cx="8134200" cy="116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Аура человека, который говорит добрые  сл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9" descr="13_bef1"/>
          <p:cNvPicPr/>
          <p:nvPr/>
        </p:nvPicPr>
        <p:blipFill>
          <a:blip r:embed="rId1"/>
          <a:stretch/>
        </p:blipFill>
        <p:spPr>
          <a:xfrm>
            <a:off x="642960" y="1928880"/>
            <a:ext cx="2124000" cy="424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1" descr="13_bef2"/>
          <p:cNvPicPr/>
          <p:nvPr/>
        </p:nvPicPr>
        <p:blipFill>
          <a:blip r:embed="rId2"/>
          <a:stretch/>
        </p:blipFill>
        <p:spPr>
          <a:xfrm>
            <a:off x="3357720" y="2000160"/>
            <a:ext cx="2160360" cy="4176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2" descr="13_aft2"/>
          <p:cNvPicPr/>
          <p:nvPr/>
        </p:nvPicPr>
        <p:blipFill>
          <a:blip r:embed="rId3"/>
          <a:stretch/>
        </p:blipFill>
        <p:spPr>
          <a:xfrm>
            <a:off x="5715000" y="2143080"/>
            <a:ext cx="2166840" cy="4105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35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85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35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820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лияние молитвы на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ауру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5_1"/>
          <p:cNvPicPr/>
          <p:nvPr/>
        </p:nvPicPr>
        <p:blipFill>
          <a:blip r:embed="rId1"/>
          <a:stretch/>
        </p:blipFill>
        <p:spPr>
          <a:xfrm>
            <a:off x="684360" y="1125360"/>
            <a:ext cx="2016000" cy="4105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5_2"/>
          <p:cNvPicPr/>
          <p:nvPr/>
        </p:nvPicPr>
        <p:blipFill>
          <a:blip r:embed="rId2"/>
          <a:stretch/>
        </p:blipFill>
        <p:spPr>
          <a:xfrm>
            <a:off x="3635280" y="1052640"/>
            <a:ext cx="2016360" cy="4176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5_3"/>
          <p:cNvPicPr/>
          <p:nvPr/>
        </p:nvPicPr>
        <p:blipFill>
          <a:blip r:embed="rId3"/>
          <a:stretch/>
        </p:blipFill>
        <p:spPr>
          <a:xfrm>
            <a:off x="6286680" y="1000080"/>
            <a:ext cx="2152440" cy="43210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2"/>
          <p:cNvSpPr/>
          <p:nvPr/>
        </p:nvSpPr>
        <p:spPr>
          <a:xfrm>
            <a:off x="611280" y="5524560"/>
            <a:ext cx="217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Аура до эксперимента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3214800" y="5362200"/>
            <a:ext cx="25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Аура во время ментальной молитвы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4"/>
          <p:cNvSpPr/>
          <p:nvPr/>
        </p:nvSpPr>
        <p:spPr>
          <a:xfrm flipV="1" rot="10800000">
            <a:off x="6286680" y="5504040"/>
            <a:ext cx="237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Аура во время молитвы о себе.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850"/>
                            </p:stCondLst>
                            <p:childTnLst>
                              <p:par>
                                <p:cTn id="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850"/>
                            </p:stCondLst>
                            <p:childTnLst>
                              <p:par>
                                <p:cTn id="83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350"/>
                            </p:stCondLst>
                            <p:childTnLst>
                              <p:par>
                                <p:cTn id="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6350"/>
                            </p:stCondLst>
                            <p:childTnLst>
                              <p:par>
                                <p:cTn id="91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850"/>
                            </p:stCondLst>
                            <p:childTnLst>
                              <p:par>
                                <p:cTn id="9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8850"/>
                            </p:stCondLst>
                            <p:childTnLst>
                              <p:par>
                                <p:cTn id="99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8880" y="307800"/>
            <a:ext cx="767232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Аура людей, которые сквернословя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5" descr="6_6"/>
          <p:cNvPicPr/>
          <p:nvPr/>
        </p:nvPicPr>
        <p:blipFill>
          <a:blip r:embed="rId1"/>
          <a:stretch/>
        </p:blipFill>
        <p:spPr>
          <a:xfrm>
            <a:off x="5000760" y="1571760"/>
            <a:ext cx="3456000" cy="4968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6_5"/>
          <p:cNvPicPr/>
          <p:nvPr/>
        </p:nvPicPr>
        <p:blipFill>
          <a:blip r:embed="rId2"/>
          <a:stretch/>
        </p:blipFill>
        <p:spPr>
          <a:xfrm>
            <a:off x="571680" y="1643040"/>
            <a:ext cx="3527280" cy="4824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95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450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мя –мистический  образ  личности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настасия –Узорешительниц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льга – просветительниц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еоргий – победоносец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8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верьте, что  тема  личност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ается  именем,  и  все  остальное – лишь  простая  разработка  этой  темы…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вел  Флорен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35344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церковнославянском языке   слова</a:t>
            </a:r>
            <a:br>
              <a:rPr sz="6000"/>
            </a:br>
            <a:r>
              <a:rPr b="0" i="1" lang="ru-RU" sz="6000" spc="-1" strike="noStrike">
                <a:solidFill>
                  <a:srgbClr val="ff0000"/>
                </a:solidFill>
                <a:latin typeface="Arial"/>
              </a:rPr>
              <a:t>язык и народ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суть одного понятия: </a:t>
            </a:r>
            <a:r>
              <a:rPr b="0" lang="ru-RU" sz="6000" spc="-1" strike="noStrike">
                <a:solidFill>
                  <a:srgbClr val="0000cc"/>
                </a:solidFill>
                <a:latin typeface="Arial"/>
              </a:rPr>
              <a:t>каков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000" spc="-1" strike="noStrike">
                <a:solidFill>
                  <a:srgbClr val="0000cc"/>
                </a:solidFill>
                <a:latin typeface="Arial"/>
              </a:rPr>
              <a:t>язык- таков и народ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асилий Ирзабек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66"/>
                </a:solidFill>
                <a:latin typeface="Arial"/>
              </a:rPr>
              <a:t>Новых  слов  много,   но  какие  это  слова?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бки  (в  значении  деньги),  байк (мотоцикл),  баксы  и  грины,  башлять,  бодипирсинг,  бой-френд,  виповский,  гей-клуб,  дампинг,  имиджмейкер,  китчмен,  клипмейкер,  ксивник,  лейб,  медиа-баинг,  наркодоллары,  ништяк,   пиарить,   плюрализм,  пофигист,  прикид,  рейв-тусовка,  рэпер,  секс-шоп,  секс-идол,  секс-тренинг,  секьюрити,  татуаж,  тетеха,  тинейджер,  транссексуал,  тусоваться,  хавальник,   шейпин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7120" y="2428920"/>
            <a:ext cx="840096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коло  60%  современных  жаргонизмов  образуют  тематическую  группу  «секс»,   а  30%  -  «наркотики  и  способы  их  употребления»  Таковы  ценностные  ориентиры,  навязываемые  современному  обществу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3640" y="234900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 u="sng">
                <a:solidFill>
                  <a:srgbClr val="000000"/>
                </a:solidFill>
                <a:uFillTx/>
                <a:latin typeface="Arial"/>
              </a:rPr>
              <a:t>Мат и сквернословие вызывают мутацию ДНК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cf">
            <a:alpha val="9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680" y="299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“…</a:t>
            </a: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ДНК реагирует на нашу речь. </a:t>
            </a:r>
            <a:br>
              <a:rPr sz="4400"/>
            </a:b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…Воздействие брани равносильно </a:t>
            </a:r>
            <a:br>
              <a:rPr sz="4400"/>
            </a:b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радиационному облучению в 10–40 тысяч рентген: </a:t>
            </a:r>
            <a:br>
              <a:rPr sz="4400"/>
            </a:b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рвутся цепочки ДНК, распадаются хромосомы”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з исследований Института квантовой генетики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Цель  работы</a:t>
            </a: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:  собрать  материал, доказывающий  Божественное  происхождение  и  духовный  смысл  слова; влияние   слова на  жизнь  и  здоровье  человека  и  его потомков, а  также на судьбу  страны,  в  которой  он  живет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Arial"/>
              </a:rPr>
              <a:t>Так исследования, проведенные Российской</a:t>
            </a:r>
            <a:r>
              <a:rPr b="1" i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Академией наук, позволяют говорить о том, что ДНК способна воспринимать человеческую речь и читаемый текст по</a:t>
            </a:r>
            <a:r>
              <a:rPr b="1" i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электромагнитным каналам.</a:t>
            </a:r>
            <a:r>
              <a:rPr b="1" i="1" lang="ru-RU" sz="4400" spc="-1" strike="noStrike">
                <a:solidFill>
                  <a:srgbClr val="ff3300"/>
                </a:solidFill>
                <a:latin typeface="Arial"/>
              </a:rPr>
              <a:t> Причем одни тексты оздоравливают гены,</a:t>
            </a:r>
            <a:r>
              <a:rPr b="1" i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а проклятие и матершина вызывает мутации, ведущие</a:t>
            </a:r>
            <a:br>
              <a:rPr sz="4000"/>
            </a:b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 к вырождению</a:t>
            </a:r>
            <a:r>
              <a:rPr b="1" i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человека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5840" y="299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Даже в простейшем слове зашифрована история  рода  и  народа, но мы принимаем его, как божественный дар, в нем таятся нрав и норов, психология, заповедальность, союз земли и неба.</a:t>
            </a:r>
            <a:br>
              <a:rPr sz="4100"/>
            </a:b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                Владимир Личутин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древо пушкина"/>
          <p:cNvPicPr/>
          <p:nvPr/>
        </p:nvPicPr>
        <p:blipFill>
          <a:blip r:embed="rId1"/>
          <a:stretch/>
        </p:blipFill>
        <p:spPr>
          <a:xfrm>
            <a:off x="0" y="260280"/>
            <a:ext cx="4572000" cy="63374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4858560" y="3645000"/>
            <a:ext cx="3946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лковник  в  отставк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.А.Черкаши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30 лет  работал  над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ушкинской  родословно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  сделал  удивительное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крыти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50000">
              <a:srgbClr val="9966ff"/>
            </a:gs>
            <a:gs pos="100000">
              <a:srgbClr val="cc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584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000000"/>
                </a:solidFill>
                <a:latin typeface="Arial"/>
              </a:rPr>
              <a:t>Читайте Пушкина и Евангелие!</a:t>
            </a:r>
            <a:br>
              <a:rPr sz="4700"/>
            </a:br>
            <a:r>
              <a:rPr b="1" lang="ru-RU" sz="47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Иван Шмелев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cc00"/>
                </a:solidFill>
                <a:latin typeface="Arial"/>
              </a:rPr>
              <a:t>Современный русский язык стал одним из полей духовно-нравственного бо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cc00"/>
                </a:solidFill>
                <a:latin typeface="Arial"/>
              </a:rPr>
              <a:t>Многие современные учёные считают, что от слов, символов и мифов зависит не только судьбы отдельных людей, но и судьба всего народа. Неслучайно кирилловская азбука была дарована русскому народу вместе с православием и книжностью, и до сих пор Русь владеет ценнейшим сокровищем – церковно-славянским языком. Это особый язык, обладающий преимуществом над другими языками планеты, имеющими азбуку: на нём не написано ни одной вредной, бесполезной книги, все они направлены на очищение нравственности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cc00"/>
                </a:solidFill>
                <a:latin typeface="Arial"/>
              </a:rPr>
              <a:t>Сквернословие есть яд, умерщвляющий душу”. </a:t>
            </a:r>
            <a:br>
              <a:rPr sz="2400"/>
            </a:b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Святитель Тихон Задонский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684360" y="692280"/>
            <a:ext cx="8229600" cy="56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468360" y="0"/>
            <a:ext cx="469404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4"/>
          <p:cNvSpPr/>
          <p:nvPr/>
        </p:nvSpPr>
        <p:spPr>
          <a:xfrm>
            <a:off x="5364000" y="4869000"/>
            <a:ext cx="335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Равноапостольны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Кирилл и Мефодий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Икона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XIX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век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2292480" cy="26812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7"/>
          <p:cNvSpPr/>
          <p:nvPr/>
        </p:nvSpPr>
        <p:spPr>
          <a:xfrm>
            <a:off x="2786040" y="2887560"/>
            <a:ext cx="635796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одная  речь – Отечеству  Основ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е  замути   Божественный  родник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Храни  себя:  душа  рождает  слово,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еликий  Святорусский  наш  язы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еромонах  Роман (Матюшин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2230560" cy="35607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2268360" y="3860640"/>
            <a:ext cx="633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  мы  сохраним  тебя,  русская  речь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еликое  русское  слово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вободным  и  чистым  тебя  пронесем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  внукам  дадим,  и  от  плена  спасем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всегда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. Ахматова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Каждому  из  нас  на  своем  месте  нужно  изыскать  возможность  служения  России  и  ее  святыням,  среди  которых – русский  язык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700280"/>
            <a:ext cx="8229600" cy="25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lackadder ITC"/>
              </a:rPr>
              <a:t>  </a:t>
            </a:r>
            <a:r>
              <a:rPr b="1" i="1" lang="ru-RU" sz="4900" spc="-1" strike="noStrike">
                <a:solidFill>
                  <a:srgbClr val="000099"/>
                </a:solidFill>
                <a:latin typeface="Blackadder ITC"/>
              </a:rPr>
              <a:t>От слов своих оправдаешься  и от слов своих осудишься</a:t>
            </a:r>
            <a:br>
              <a:rPr sz="4900"/>
            </a:br>
            <a:r>
              <a:rPr b="1" i="1" lang="ru-RU" sz="4900" spc="-1" strike="noStrike">
                <a:solidFill>
                  <a:srgbClr val="000099"/>
                </a:solidFill>
                <a:latin typeface="Blackadder ITC"/>
              </a:rPr>
              <a:t>                    </a:t>
            </a:r>
            <a:r>
              <a:rPr b="1" i="1" lang="ru-RU" sz="2800" spc="-1" strike="noStrike">
                <a:solidFill>
                  <a:srgbClr val="000099"/>
                </a:solidFill>
                <a:latin typeface="Blackadder ITC"/>
              </a:rPr>
              <a:t>Евангелие от Матф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7902360" cy="638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Преодоления множества кризисных явлений сегодняшнего периода русской истории невозможно без духовно – нравственного очищения и подъёма общества, без опоры на классическую и народную, выдержавшую испытание временем русскую культуру и культуру народов России.</a:t>
            </a:r>
            <a:br>
              <a:rPr sz="3200"/>
            </a:b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Россия живет тяжело. В раздорах, чиновничьем произволе, бедности. Но она живет и в Вере, и в Надежде, и жажде созидания. Давайте же созидать её вместе – под знаком русской классической литературы и великого Русского Слова.</a:t>
            </a:r>
            <a:br>
              <a:rPr sz="3200"/>
            </a:b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Из резолюции 11  всемирного Русского Народного Соб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000000"/>
                </a:solidFill>
                <a:latin typeface="Arial"/>
              </a:rPr>
              <a:t>Культура – обработка и уход, возделывание; образование умственное и нравственное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9680" y="5000400"/>
            <a:ext cx="8248680" cy="29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Скверна – мерзость, гадость , пакость, всё гнусное, противное, отвратительное, непотребное, что мерзит плотски и духовно; нечистота, грязь и гниль, тление,</a:t>
            </a:r>
            <a:r>
              <a:rPr b="1" i="1" lang="ru-RU" sz="43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мертвечина, извержения; непотребство разврат, нравственное растление.</a:t>
            </a:r>
            <a:br>
              <a:rPr sz="4000"/>
            </a:b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В. Да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4200" y="23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з произнесенные  или воплощенные в событиях слова «запечатлеваются в любой точке вселенной». Слова с положительной энергетикой оздоравливают нас, а слова с отрицательной энергетикой размножаются как вирусы и разрушают наше сознание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кадемик Ф. Я. Шипунов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584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Arial"/>
              </a:rPr>
              <a:t>Вначале было Слово, и Слово было у Бога, и Слово было Бог.</a:t>
            </a: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вангелие от Иоан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cc0000"/>
                </a:solidFill>
                <a:latin typeface="Arial"/>
              </a:rPr>
              <a:t>Слово – словек – цловек – чловек – человек</a:t>
            </a:r>
            <a:br>
              <a:rPr sz="5900"/>
            </a:br>
            <a:r>
              <a:rPr b="0" lang="ru-RU" sz="5900" spc="-1" strike="noStrike">
                <a:solidFill>
                  <a:srgbClr val="cc0000"/>
                </a:solidFill>
                <a:latin typeface="Arial"/>
              </a:rPr>
              <a:t>                                                       </a:t>
            </a:r>
            <a:r>
              <a:rPr b="0" lang="ru-RU" sz="2200" spc="-1" strike="noStrike">
                <a:solidFill>
                  <a:srgbClr val="cc0000"/>
                </a:solidFill>
                <a:latin typeface="Arial"/>
              </a:rPr>
              <a:t>Министр просвещения,   президент Российской Академии наук, защитник чистоты русского языка, автор книги «Славянорусский корнеслов» Александр Семенович Шишк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ef1f4"/>
              </a:gs>
              <a:gs pos="100000">
                <a:srgbClr val="effafb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80"/>
                </a:solidFill>
                <a:latin typeface="Arial"/>
              </a:rPr>
              <a:t>Бог – слово – словек – чловек –цловек – человек – образ – икона –лик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800080"/>
                </a:solidFill>
                <a:latin typeface="Arial"/>
              </a:rPr>
              <a:t>Человек, потерявший образ Божий-</a:t>
            </a:r>
            <a:br>
              <a:rPr sz="4000"/>
            </a:br>
            <a:r>
              <a:rPr b="1" i="1" lang="ru-RU" sz="4000" spc="-1" strike="noStrike">
                <a:solidFill>
                  <a:srgbClr val="0d0d0d"/>
                </a:solidFill>
                <a:latin typeface="Arial"/>
              </a:rPr>
              <a:t>без – образ – ный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712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иллер – </a:t>
            </a: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душегуб</a:t>
            </a:r>
            <a:br>
              <a:rPr sz="44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ОМЖ – 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бедолага, горемыка, бездомный, босяк, бродяг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дсестра – 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сестра милосердия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дбрат – 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брат милосердия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ицо, а значит 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лик (лики святых)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вратилось в рыло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запасаются снедью и спиртным не на человека, а на рыло)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Василий Ирзабе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200" spc="-1" strike="noStrike">
                <a:solidFill>
                  <a:srgbClr val="ff0000"/>
                </a:solidFill>
                <a:latin typeface="Arial"/>
              </a:rPr>
              <a:t>Невеста, от слова неведать</a:t>
            </a:r>
            <a:r>
              <a:rPr b="0" lang="ru-RU" sz="5200" spc="-1" strike="noStrike">
                <a:solidFill>
                  <a:srgbClr val="000099"/>
                </a:solidFill>
                <a:latin typeface="Arial"/>
              </a:rPr>
              <a:t>, а ведьмы от слова ведать (знать порок)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6:49:21Z</dcterms:created>
  <dc:creator>Валик</dc:creator>
  <dc:description/>
  <dc:language>en-US</dc:language>
  <cp:lastModifiedBy>MAMA</cp:lastModifiedBy>
  <dcterms:modified xsi:type="dcterms:W3CDTF">2008-11-06T21:46:34Z</dcterms:modified>
  <cp:revision>89</cp:revision>
  <dc:subject/>
  <dc:title>Слайд 1</dc:title>
</cp:coreProperties>
</file>