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348-057F-4194-A683-BD010A36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5BC-A139-4A78-BCF7-FF24B984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6F8-2334-4145-AA40-7EE6E30F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871-6A62-4C17-8D71-4FCDB518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7DA6-4779-4095-8C23-33549227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14E8-17A3-404F-B194-A7B50043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CE57-28F4-44E8-885C-1F75304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F6F1-35BF-49DD-B80B-504A5CF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130A-4CC7-4021-8C64-62686F99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F769-33E0-4338-B1EF-8F991351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9532-AF49-4BBC-B927-15677489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5ED-AC68-4461-B4F4-BBF92716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AA3E-7627-46F9-8BBC-61C0E85E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2552-4B38-4119-B7BD-B072B9F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E482-97A4-4232-97F9-85C9F8F3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8173-095F-4F87-9653-D69963EF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27D6-1906-4A8B-922F-93BCABC9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A42-19B8-4187-942E-8B27DE9B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221-CAE3-4B6D-ACC7-15186E04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D4F-8C08-4704-8CC9-5D1433C7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A31-00F6-42FF-8D17-C835C0CB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505-6295-4255-BE8B-D1599A4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2B2-7674-4409-8D1F-690761B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7C5-0FD3-4F45-B70F-202E2CF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CAE-AF67-437C-B2E4-502552F244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60160"/>
                  <a:ext cx="31464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7560"/>
                  <a:ext cx="25488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3600" y="2246400"/>
                  <a:ext cx="182520" cy="17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788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DDA-EB91-475B-A36C-1D9E122A5A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Химическое действие света. </a:t>
            </a:r>
            <a:br>
              <a:rPr sz="4400"/>
            </a:b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                          Фотография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1" name="Picture 5" descr="1259595803"/>
          <p:cNvPicPr/>
          <p:nvPr/>
        </p:nvPicPr>
        <p:blipFill>
          <a:blip r:embed="rId1"/>
          <a:stretch/>
        </p:blipFill>
        <p:spPr>
          <a:xfrm>
            <a:off x="468360" y="2133720"/>
            <a:ext cx="56880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000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Снимок Таль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35 г. Тальбот тоже зафиксировал солнечный луч. Это был снимок решетчатого окна его дома. Тальбот применил бумагу, пропитанную хлористым серебром. Выдержка длилась в течение час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льбот получил первый в мире негатив. Приложив к нему светочувствительную бумагу, приготовленную тем же способом, он впервые сделал позитивный отпечаток. Свой способ съемки изобретатель назвал калотипией, что означало «красота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к он показал возможность тиражирования снимков и связал будущее фотографии с миром прекрасног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4" descr="ksf - 0009-2"/>
          <p:cNvPicPr/>
          <p:nvPr/>
        </p:nvPicPr>
        <p:blipFill>
          <a:blip r:embed="rId1"/>
          <a:stretch/>
        </p:blipFill>
        <p:spPr>
          <a:xfrm>
            <a:off x="539640" y="404640"/>
            <a:ext cx="28861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Снимок Даге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дновременно с Ньепсом над способом закрепления изображения в камере-обскуре работал известный французский художник Дагер, автор знаменитой парижской диорамы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сле смерти  Ньепса в 1833 г., Дагер настолько усовершенствова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тодику Ньепса, что мог получать изображения значительно большей ярк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н снял довольно сложный натюрморт, составленный из произведений живописи и скульптуры. Этот снимок Дагер передал потом де Кайэ, хранителю музея 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увре. Автор экспонировал серебряную пластинку в камере-обскуре в теч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идцати минут, а затем перенес в темную комнату и держал над парам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гретой ртути. Закрепил изображение с помощью раствора поваренной соли. Н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нимке хорошо проработались детали рисунка как в светах, так и в теня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вой способ получения фотоизображения изобретатель назвал собственны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менем – дагеротипия – и передал его описание секретарю Парижской Академи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ук Доминику-Франсуа Араго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 заседании Академии 7 января 1839 г. Араго торжественно доложи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ченому собранию об удивительном изобретении Дагера, заявив, что «отнын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уч солнца стал послушным рисовальщиком всего окружающего». Учен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добрительно приняли известие, и этот день навсегда вошел в историю ка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нь рождения фотографи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f_05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Снимки Фрицш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оссии первые фотографические изображения получил выдающийся русский химик и ботаник, академик Юлий Федорович Фрицше (1808 – 1871). Это были фотограммы листьев растений, выполненные по способу Тальбота. Одновременно Фрицше предложил внести существенные изменения в этот спосо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клад Фрицше на заседании Петербургской Академии наук в 1839 г. представлял собой первую исследовательскую работу по фотографии в нашей стране и одну из первых исследовательских работ по фотографии в мир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fritzsche_pic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99d5"/>
                </a:solidFill>
                <a:latin typeface="Arial"/>
              </a:rPr>
              <a:t>ИСТОРИЯ СОЗДАНИЯ ФОТОБУМАГ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графия наших дней – это и область науки о ней самой и область техники, это методы исследования и документации, «зеркало памяти» народов,это различные виды прикладной деятельн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уи Бланкар-Эврар (Франция) изобрел и применил непроявляем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льбуминную  фотобумагу еще в 1850 г., она использовалась в качеств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иповой до конца XIX века. Громоздкий фотоувеличитель, названный солнечн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амерой, был изобретен в 1857 г. американцем Д.Вудвордом. С появление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уговых ламп фотопечатание можно было выполнять в темной комнате, н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ставалась нерешенной проблема прочности фотобумаги. В 1874 г. П.Маудслей 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нглии сообщил о создании желатиновой фотобумаги, содержащей бромид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еребра, и в 1879 г. Дж.Сван организовал промышленное производство эт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бумаги. Желатина стала основой всех фотобумаг с проявлением, котор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менили альбуминную фотобумагу, и до сих пор используется в промышленно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изводств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99d5"/>
                </a:solidFill>
                <a:latin typeface="Arial"/>
              </a:rPr>
              <a:t>СТРОЕНИЕ ЧЕРНО-БЕЛЫХ ФОТОМАТЕРИАЛОВ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материалы (пленки, пластинки, бумаги, ткани) состоят из подлож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основы), на которую наносят подслой, светочувствительный эмульсионный 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тивоореольный сло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мульсионный слой содержит микроскопически малые светочувствительн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исталлы – галогенид серебра, - равномерно распределенные в желатине 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здающие оптические плотности – почерн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Желатина – прозрачное клеящее вещество белкового происхождения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торое связывает кристаллы галогенида и крепит их к подложк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дслой в фотопленках и фотопластинках служит для удержа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мульсионного  слоя на подложке, в фотобумагах – для предохране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никновения эмульсии в пористую структуру бумаг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тивоореольный слой предназначен для поглощения лучей, прошедши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через пленку и создающих при отражении от внутренней поверхности подлож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реолы. Краситель противоореольного слоя поглощает лучи тех цветов, 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торым материал наиболее чувствителен. Эмульсионный слой такж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двергается противоореольной прокраске. Противоореольные красител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зрушаются и выводятся при обработке. Они придают фотоматериалам легк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краску различного тон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imgB"/>
          <p:cNvPicPr/>
          <p:nvPr/>
        </p:nvPicPr>
        <p:blipFill>
          <a:blip r:embed="rId1"/>
          <a:stretch/>
        </p:blipFill>
        <p:spPr>
          <a:xfrm>
            <a:off x="755640" y="105264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99d5"/>
                </a:solidFill>
                <a:latin typeface="Arial"/>
              </a:rPr>
              <a:t>СТРОЕНИЕ ЦВЕТНЫХ ФОТОМАТЕРИАЛОВ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8920" y="1535040"/>
            <a:ext cx="3095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Цветные фотоматериалы содержат три основных светочувствительных слоя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Цветная негативная пленка предназначена для получения цветного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негативного изображения. Она состоит из следующих слоев: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ервый слой – синечувствительный – заключает в себе компоненту, дающую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в процессе цветного проявления желтый краситель. Излучения зеленой и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красной зон спектра не воздействуют на этой слой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За первым слоем расположен фильтровый желтый подслой. Он нейтрализует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действие активной синей зоны спектра на нижние светочувствительные слои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Второй слой – зеленочувствительный – содержит компоненту, дающую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урпурный краситель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Третий слой – красночувствительный – содержит компоненту, дающую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голубой краситель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Зеленый противоореольный слой нанесен на обратную сторону подложки. Он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оглощает весь дошедший до нее красный цвет, исключая возможность ореолов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59280" y="1341360"/>
            <a:ext cx="324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еточувствительност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еточувствительность – свойство фотослоя к химическому изменению под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воздействием света с образованием скрытого изображения, которое посл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явления (усиления) превращается в видимо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д критерием светочувствительности понимают величину, обратну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личеству освещения, необходимого для получения почернения фотослоя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евышающего на определенную величину плотность вуал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зучением свойств светочувствительных материалов занимается особа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бласть науки – сенситометрия (фотографическая метрология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6191280" y="1197000"/>
            <a:ext cx="295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Цветочувствительност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Фотографические материалы неодинаково реагируют на лучи различных зо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пектра. По виду цветочувствительности они делятся 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есенсибилизированные, ортохроматические, изопанхроматические 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рахроматически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299d5"/>
                </a:solidFill>
                <a:latin typeface="Arial"/>
              </a:rPr>
              <a:t>ХИМИЧЕСКОЕ ДЕЙСТВИЕ СВЕТА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юбое превращение молекул есть химический процесс. Химические процессы, протекающие под действием видимого света и  ультрафиолетовых лучей,  называются фотохимическими реакциями. Световой энергии достаточно для расщепления многих молекул. В этом проявляется химическое действие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 фотохимическим реакциям относятся:  фотосинтез углеводов в растениях, распад бромистого серебра на светочувствительном слое фотопластинки, взаимодействие хлора с водородом на свету с образованием HCl  и многое другое. Выцветание тканей на солнце и образование загара (потемнение кожи человека под воздействием ультрафиолетовых лучей) – это тоже примеры химического действия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25655001_14335488_5675569_23091422_yarkie840256-web"/>
          <p:cNvPicPr/>
          <p:nvPr/>
        </p:nvPicPr>
        <p:blipFill>
          <a:blip r:embed="rId1"/>
          <a:stretch/>
        </p:blipFill>
        <p:spPr>
          <a:xfrm>
            <a:off x="468360" y="549360"/>
            <a:ext cx="82440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временная фотография находит все большее применение в науке, техник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вседневной жизни. На начальных этапах невозможно было предугадать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коль широки будут возможности использования фотографического метод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лагодаря фотографии человечество получает изображения элементарных частиц,составляющих атом, и изображения земного шара, Луны и других планет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зображения живой клетки и кристаллической решетки минералов; изучае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цессы, протекающие за одну миллионную долю секунды, и процессы, длящиес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сятилет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ряду с повсеместным применением фотографии в науке и техник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иболее давнее и массовое распространение она получила как вид искусств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графия сочетает в себе оптику, точную механику и тонкую химическ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ехнологию, а со стороны технической и художественной – теорию композиции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стетику и теорию восприят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3" name="Picture 4" descr="7664877_vetton_ru_630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3D-фотограф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хнологию создания трёхмерных фотоснимков, над которой работают израильские учёные, специалисты называют не иначе, как революционной. Для мировой фотоиндустрии это такой же по значимости прорыв, как превращение чёрно-белой фотографии в цветну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рёхмерной фотографией называют разные штуки: от "переливных" календариков, голограмм, стереоэффектов, которые видно только в очках, Flash-анимации до того, чем, собственно, 3D-фото и должно быть — правильно, такой же фотографией, как обычная, только трёхмерной. И не в онлайне каком, а в самом настоящем офлайне, чтобы руками трога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т как раз над этим не первый год работает профессор компьютерных наук (Computer Science Professor) Шмуэль Пелег (Shmuel Peleg) из Еврейского университета в Иерусалиме (Hebrew Universit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фессор не ограничивается обучением студентов, а ещё и возглавляет команду учёных в компании HumanEyes Technologies. Эти "Человеческие глаза" и продвигают технологию 3D-фото на мировой рынок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ни успешно продвигают, потому как успело подписать множество контрактов. Одно из крупнейших в мире рекламных агентств Publicis уже начало работать с HumanEyes и намеревается использовать технологию для приблизительно 300 рекламных щитов, которые будут размещены во французском метро летом 2002 год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 технологией HumanEyes уже успела поэкспериментировать и Coca-Cola: трёхмерной рекламой в Чили были украшены торговые автоматы, а продажи в этих машинах существенно увеличились. Но что-то мы не с того начали — вначале надо было объяснить, как это всё работает, а про автоматы с контрактами пот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фессор Пелег объясняет, что его технология основана на стереоскопическом видении. Дело в том, что у нас у всех, вообще-то, трёхмерное видение: наши глаза несколько по-разному воспринимают двухмерные образы, а потом мозг уже комбинирует эти изображения в 3D. Шмуэль Пелег вместе с коллегами разработал программное обеспечение, названное ImpactioTM, которое так же, как мозг, объединяет кадры, сделанные цифровой фото или видеокамер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алее будет не совсем понятно, учёные объясняют, как могут, нам же остаётся в меру сил это понимать. Полученные снимки печатаются на бумаге (написано "printed onto paper") или прозрачном пластике ("or translucent plastic"), и потом хитрым образом кадры объединяются в трёхмерные изображ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ти несколько снимков, которые всё-таки должны обладать какой-то прозрачностью для совмещения, потом заливаются пластмассой. Наверняка прозрачной. Вот, и потом невооружённым глазом (безо всяких очков) все видят не вызывающее сомнений 3D. Наиболее дорогая часть трёхмерной картинки — это та самая пластиковая оболочк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общем, сейчас компания HumanEyes Technologies, которую Шмуэль Пелег, кстати, основал вместе с бизнесменом Гидеоном Бен-Зви (Gideon Ben-Zvi — соучредитель компаний Ligature и Wizcom) и своими студентами, работает весьма интенсивно. От частных инвестором были получены "подъёмные" — миллион долларов, и работа по поиску инвестиций не прекращается. Компания взяла на работу ещё 15 человек, сняла новый офис и открывает филиалы в разных стран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Picture 4" descr="01"/>
          <p:cNvPicPr/>
          <p:nvPr/>
        </p:nvPicPr>
        <p:blipFill>
          <a:blip r:embed="rId1"/>
          <a:stretch/>
        </p:blipFill>
        <p:spPr>
          <a:xfrm>
            <a:off x="1692360" y="2349360"/>
            <a:ext cx="5904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02"/>
          <p:cNvPicPr/>
          <p:nvPr/>
        </p:nvPicPr>
        <p:blipFill>
          <a:blip r:embed="rId1"/>
          <a:stretch/>
        </p:blipFill>
        <p:spPr>
          <a:xfrm>
            <a:off x="4284720" y="189000"/>
            <a:ext cx="4591080" cy="636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03"/>
          <p:cNvPicPr/>
          <p:nvPr/>
        </p:nvPicPr>
        <p:blipFill>
          <a:blip r:embed="rId2"/>
          <a:stretch/>
        </p:blipFill>
        <p:spPr>
          <a:xfrm>
            <a:off x="179280" y="189000"/>
            <a:ext cx="4762440" cy="4200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01"/>
          <p:cNvPicPr/>
          <p:nvPr/>
        </p:nvPicPr>
        <p:blipFill>
          <a:blip r:embed="rId3"/>
          <a:stretch/>
        </p:blipFill>
        <p:spPr>
          <a:xfrm>
            <a:off x="179280" y="3746520"/>
            <a:ext cx="42483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ФОТОГРАФИЯ</a:t>
            </a: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имическое действие света лежит в основе фотографии.  Слово «фотография» происходит от греческого «фото» – свет, «графо» – рисую, пиш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тография – рисование светом, светопись – была открыта не сразу и не одним человеком. В это изобретение вложен труд ученых многих поколений разных стран мира. Люди давно стремились найти способ получения  зображений, который не требовал бы долгого и утомительного труда художника. Некоторые предпосылки для этого существовали уже в отдаленные времен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30386"/>
          <p:cNvPicPr/>
          <p:nvPr/>
        </p:nvPicPr>
        <p:blipFill>
          <a:blip r:embed="rId1"/>
          <a:stretch/>
        </p:blipFill>
        <p:spPr>
          <a:xfrm>
            <a:off x="3780000" y="0"/>
            <a:ext cx="5851440" cy="4435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ecc889a6cdf5"/>
          <p:cNvPicPr/>
          <p:nvPr/>
        </p:nvPicPr>
        <p:blipFill>
          <a:blip r:embed="rId2"/>
          <a:stretch/>
        </p:blipFill>
        <p:spPr>
          <a:xfrm rot="19310400">
            <a:off x="5435280" y="3139560"/>
            <a:ext cx="3594240" cy="359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1502059"/>
          <p:cNvPicPr/>
          <p:nvPr/>
        </p:nvPicPr>
        <p:blipFill>
          <a:blip r:embed="rId3"/>
          <a:stretch/>
        </p:blipFill>
        <p:spPr>
          <a:xfrm rot="19285800">
            <a:off x="3492360" y="3644640"/>
            <a:ext cx="3716640" cy="278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201162"/>
          <p:cNvPicPr/>
          <p:nvPr/>
        </p:nvPicPr>
        <p:blipFill>
          <a:blip r:embed="rId4"/>
          <a:stretch/>
        </p:blipFill>
        <p:spPr>
          <a:xfrm>
            <a:off x="2050920" y="5205240"/>
            <a:ext cx="2482920" cy="1652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2611933"/>
          <p:cNvPicPr/>
          <p:nvPr/>
        </p:nvPicPr>
        <p:blipFill>
          <a:blip r:embed="rId5"/>
          <a:stretch/>
        </p:blipFill>
        <p:spPr>
          <a:xfrm>
            <a:off x="0" y="0"/>
            <a:ext cx="3851280" cy="284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0_cfd3_1b36b87d_XL"/>
          <p:cNvPicPr/>
          <p:nvPr/>
        </p:nvPicPr>
        <p:blipFill>
          <a:blip r:embed="rId6"/>
          <a:stretch/>
        </p:blipFill>
        <p:spPr>
          <a:xfrm rot="19332600">
            <a:off x="2843280" y="2133360"/>
            <a:ext cx="3271680" cy="2454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f8b0f06fd294845c2b54dbe79b4bbacc"/>
          <p:cNvPicPr/>
          <p:nvPr/>
        </p:nvPicPr>
        <p:blipFill>
          <a:blip r:embed="rId7"/>
          <a:stretch/>
        </p:blipFill>
        <p:spPr>
          <a:xfrm>
            <a:off x="2916360" y="0"/>
            <a:ext cx="2233440" cy="1771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iamphoto"/>
          <p:cNvPicPr/>
          <p:nvPr/>
        </p:nvPicPr>
        <p:blipFill>
          <a:blip r:embed="rId8"/>
          <a:stretch/>
        </p:blipFill>
        <p:spPr>
          <a:xfrm>
            <a:off x="0" y="2421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835313"/>
          <p:cNvPicPr/>
          <p:nvPr/>
        </p:nvPicPr>
        <p:blipFill>
          <a:blip r:embed="rId9"/>
          <a:stretch/>
        </p:blipFill>
        <p:spPr>
          <a:xfrm>
            <a:off x="0" y="458964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6" descr="73392217"/>
          <p:cNvPicPr/>
          <p:nvPr/>
        </p:nvPicPr>
        <p:blipFill>
          <a:blip r:embed="rId10"/>
          <a:stretch/>
        </p:blipFill>
        <p:spPr>
          <a:xfrm>
            <a:off x="3059280" y="4365720"/>
            <a:ext cx="1993680" cy="1328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7" descr="f2769de309f3"/>
          <p:cNvPicPr/>
          <p:nvPr/>
        </p:nvPicPr>
        <p:blipFill>
          <a:blip r:embed="rId11"/>
          <a:stretch/>
        </p:blipFill>
        <p:spPr>
          <a:xfrm>
            <a:off x="7736040" y="5418000"/>
            <a:ext cx="1407960" cy="1440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8" descr="8"/>
          <p:cNvPicPr/>
          <p:nvPr/>
        </p:nvPicPr>
        <p:blipFill>
          <a:blip r:embed="rId12"/>
          <a:stretch/>
        </p:blipFill>
        <p:spPr>
          <a:xfrm>
            <a:off x="6808680" y="0"/>
            <a:ext cx="2335320" cy="1590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9" descr="11285139_7769637_7188381_cartoons_0725"/>
          <p:cNvPicPr/>
          <p:nvPr/>
        </p:nvPicPr>
        <p:blipFill>
          <a:blip r:embed="rId13"/>
          <a:stretch/>
        </p:blipFill>
        <p:spPr>
          <a:xfrm>
            <a:off x="5219640" y="5816520"/>
            <a:ext cx="1389240" cy="1041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7_fbcc66"/>
          <p:cNvPicPr/>
          <p:nvPr/>
        </p:nvPicPr>
        <p:blipFill>
          <a:blip r:embed="rId14"/>
          <a:stretch/>
        </p:blipFill>
        <p:spPr>
          <a:xfrm>
            <a:off x="2411280" y="1341360"/>
            <a:ext cx="1657440" cy="1243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1" descr="c0a1e8c6b96c"/>
          <p:cNvPicPr/>
          <p:nvPr/>
        </p:nvPicPr>
        <p:blipFill>
          <a:blip r:embed="rId15"/>
          <a:stretch/>
        </p:blipFill>
        <p:spPr>
          <a:xfrm>
            <a:off x="8317080" y="2492280"/>
            <a:ext cx="1036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299d5"/>
                </a:solidFill>
                <a:latin typeface="Arial"/>
              </a:rPr>
              <a:t>КОЕ-ЧТО ИЗ ИСТОРИИ ФОТОГРАФИИ.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мера-обскур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 незапамятных времен, например, было замечено, что луч солнца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оникая сквозь небольшое отверстие в темное помещение, оставляет 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лоскости световой рисунок предметов внешнего мира. Предметы изображаются 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очных пропорциях и цветах, но в уменьшенных, по сравнению с натурой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азмерах и в перевернутом виде. Это свойство темной комнаты (или камеры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скуры) было известно еще древнегреческому мыслителю Аристотелю, жившему 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IV веке до нашей эры. Принцип работы камеры-обскуры описал в своих трудах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ыдающийся итальянский ученый и художник эпохи Возрождения Леонардо д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инч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ишло время, когда камерой-обскурой стали называть ящик 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вояковыпуклой линзой в передней стенке и полупрозрачной бумагой ил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товым стеклом в задней стенке. Такой прибор надежно служил дл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еханической зарисовки предметов внешнего мира. Перевернутое изображени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остаточно было с помощью зеркала поставить прямо и обвести карандашом 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листе бумаг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середине XVIII века в России, например, имела распространение камера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скура, носившая название «махина для снимания першпектив», сделанная 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иде походной палатки. С ее помощью были  документально запечатлены вид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етербурга, Петергофа, Кронштадта и других русских городов. Это был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«фотография до фотографии». Труд рисовальщика был упрощен. Но люди думал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д тем, чтобы полностью механизировать процесс рисования, научиться н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олько фокусировать «световой рисунок» в камере-обскуре, но и надежн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закреплять его на плоскости химическим путе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днако, если в оптике предпосылки для изобретения светописи сложилис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ного веков назад, то в химии они стали возможными только в XVIII век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гда химия как наука достигла достаточного развития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136_1"/>
          <p:cNvPicPr/>
          <p:nvPr/>
        </p:nvPicPr>
        <p:blipFill>
          <a:blip r:embed="rId1"/>
          <a:stretch/>
        </p:blipFill>
        <p:spPr>
          <a:xfrm>
            <a:off x="684360" y="549360"/>
            <a:ext cx="8137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Основной закон фотохим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анимаясь в 1725 г. составлением жидких лечебных смесей, Бестужев-Рюмин обнаружил, что под воздействием солнечного света растворы солей железа изменяют цвет. Через два года Шульце также представил доказательства чувствительности к свету солей бром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 несомненную связь фотохимического превращения в веществах с поглощением света впервые указал в 1818 г. русский ученый Х.И.Гротгус. Он установил влияние температуры на поглощение и излучение света, причем доказал, что понижение температуры увеличивает поглощение, а повышение температуры увеличивает излучение света. В своих сообщениях Гротгус четко сформулировал мысль о том, что только те лучи могут химически действовать на вещество, которые этим веществом поглощаются. Это положение со временем, уже после открытия фотографии, стало первым, основным законом фотохим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зависимо от Гротгуса ту же особенность установили в 1842г. английский ученый Д.Гершель и в 1843 г. американский профессор химии Д.Дрейпер. Поэтому историки науки основной закон фотохимии называют ныне законом Гротгуса – Гершеля – Дрейпер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ля понимания и удовлетворительного объяснения этого закона важную роль в дальнейшем сыграла теория Планка, согласно которой излучение света происходит прерывисто определенными и неделимыми порциями энергии, называемыми кванта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ПЕРВЫЕ В МИРЕ СНИМК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енаправленную работу по химическому закреплению светового изображения в камере-обскуре ученые и изобретатели разных стран начали только в первой трети прошлого столетия. Наилучших результатов добились известные теперь всему миру французы Жозеф Нисефор Ньепс, Луи-Жак Манде Дагер и англичанин Вильям Фокс Генри Тальбот. Их и принято считать изобретателями фотограф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Снимок Ньепс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ьепс первым в мире закрепил «солнечный рисунок». Он ориентировался н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спользование свойства асфальта, тонкий слой которого на освещенных места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твердевает.  В одном из своих экспериментов Ньепс наносил раств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сфальта в лавандовом масле на полированную оловянную пластинку, котор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ыставлял на солнечный свет под полупрозрачным штриховым рисунком. В места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астинки, находившихся под непрозрачными участками рисунка, асфальтовы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ак практически не подвергался воздействию солнечного света и посл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кспозиции растворялся в лавандовом масле. После дальнейшего травления 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равирования пластинку покрывали краской. Свет задубливал лак в освещенны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стах, а лавандовое масло вымывало незадубившиеся участки лака, 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езультате чего возникало рельефное изображение, которое использовалось ка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лише для получения копий с оригинала. Покрытые лаком пластинки такж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менялись вместе с камерой-обскуры для формирования прочных светописны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зображений.изображени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1826 г. Ньепс с помощью камеры-обскуры получил на металличе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астинке, покрытой тонким слоем асфальта, вид из окна своей мастерск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нимок он так и назвал – гелиография (солнечный рисунок). Экспозиц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лилась восемь часов. Изображение было весьма низкого качества, и местнос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ыла едва различима. Но с этого снимка началась фотограф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9:50:01Z</dcterms:created>
  <dc:creator>Александр</dc:creator>
  <dc:description/>
  <dc:language>en-US</dc:language>
  <cp:lastModifiedBy>ZooM</cp:lastModifiedBy>
  <dcterms:modified xsi:type="dcterms:W3CDTF">2013-11-27T23:20:34Z</dcterms:modified>
  <cp:revision>4</cp:revision>
  <dc:subject/>
  <dc:title>Химическое действие света.                            Фотография.</dc:title>
</cp:coreProperties>
</file>