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85E-BC90-491C-95D5-B2E05F53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5425-5C40-4687-B62F-1FA5AA71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62ED-89B4-4430-AB53-4CECAC0E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787-ECAB-4C85-92CA-A4969843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2C5B-8D52-4CCD-B865-31ECA18A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ED58-9C78-45E2-89D0-094BF2D9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1EE5-18FF-41AF-92BF-4C5EE235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AC54-1A25-42D0-99FD-67BE6052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D544-707A-4F30-A1EE-6EA54DC3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4D1A-9028-4171-8327-00CD514F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A17D-70AC-434C-B0F8-76D623C3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8BF-CDF3-424B-BC77-ED4D48CB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B10D-EF14-4F04-BD65-C315873D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B467-B859-4859-8AB3-3634D1CE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18C7-F043-414D-9E94-E811FF9F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F29D-1E26-464A-9CE8-ECEF9422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E55E-EAFC-4AE3-9BFF-8BF343A4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2FB-10C0-4291-AD1B-3C0DE787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ED8-8860-4AF7-802A-357622A1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5BB4-E2FC-46F8-9AB7-C2973306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47AD-F60D-442C-AFA6-DC456359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4BF-C299-40BC-A8AB-19A33EFD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574-6E01-456F-BEAA-832B8441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EE9F-90DB-4C59-B639-DE6920B5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62AA-8357-47CD-82C4-8C0A8D6830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5810-6288-4304-81DE-235CD18B75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3499920"/>
            <a:ext cx="763272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пробация мультимедийного приложение к учебнику «Природоведение 5 класс»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                           Апробатор: Патракова Ольга Витальевна,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                  учитель биологии МОУ «Аряжская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                          основная общеобразовательная школа»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5" descr="сканирование0011"/>
          <p:cNvPicPr/>
          <p:nvPr/>
        </p:nvPicPr>
        <p:blipFill>
          <a:blip r:embed="rId1"/>
          <a:stretch/>
        </p:blipFill>
        <p:spPr>
          <a:xfrm>
            <a:off x="0" y="-4680"/>
            <a:ext cx="35640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едостатк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яд уроков имеет недостатки технического пл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ОР пригоден к использованию в учебном процессе для расширения кругозора учащихся на уроках, во внеурочной деятельности и в домашних условия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значение ЦОР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ная поддержка курса природоведения, дающая новые возможности для организации усвоения содержания кур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е активные формы и способы овладения материал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исследовательской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ие объема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 ЦО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изация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навыков самоконтро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разнообразной творческой деятельности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дготовке к уро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ведении уро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неурочной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спользование ЦО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держание ЦОР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за данных, включает в себя более 800 информационных объек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товые модели уроков или его ча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информационные объекты  как иллюстративный матери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одные лекции для постановки заданий по выполнению самостоятельных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актор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спользование ЦОР позволя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ить быстрый поиск ИО и их предварительный просмо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рать готовые модели уроков при объяснении нов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рать ИО как иллюстративный материал для разъяснения тем или проблемных ситуаций изучаем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ть вводные лекции для постановки заданий по выполнению самостоятельны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мпоновать отобранные информационные объекты в нужной последова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ть материал для лабораторных и самостоятельных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ь новые объе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хемы использования ЦОР на уроках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учителя + проектор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учителя + принтер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учителя + компьютеры учащихся (компьютерный класс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+ прин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Использование ЦОР значительно  повышает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ость  индивидуальной работы с учени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о разработок и дидактического раздаточного материала для иллюстрирования изучаемой т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ень использования наглядных средств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ень самостоятельной и поисковой деятельности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ложительные сторон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гляд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ь организации смены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интереса к урокам природ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ая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провер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ность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вариат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ет формированию ИКТ- компетенци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аточность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ое количество тестовых и игровых зад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кость в установке и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е требованиям СанП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4:43:25Z</dcterms:created>
  <dc:creator>Пользователь</dc:creator>
  <dc:description/>
  <dc:language>en-US</dc:language>
  <cp:lastModifiedBy>Коля</cp:lastModifiedBy>
  <dcterms:modified xsi:type="dcterms:W3CDTF">2013-03-14T16:01:02Z</dcterms:modified>
  <cp:revision>7</cp:revision>
  <dc:subject/>
  <dc:title>Мультимедийное приложение к учебнику «Природоведение 5 класс» авторы А.А. Плешаков, Н.И. Сонин</dc:title>
</cp:coreProperties>
</file>