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234-94D3-4BAD-9E4A-5998AB0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B63-8E3B-457A-A55A-CE5918F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2E0-1D34-4B0E-9792-90D61076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4A0-4E79-4452-81E9-D7570B7F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571C-6500-434D-8292-B27C0CCA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9C58-FEFB-4FD4-B25F-35E2E24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7A3E-2A29-4882-A431-003BB30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967-0728-442E-818A-5EEADE3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29F1-4C6D-4FCC-8EB0-CF75AD0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CAEF-163B-4852-BA35-F74BB3B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CCA3-5A99-41BE-B28A-3FFB7A9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967-3013-4D32-B032-8328350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BAA-EE40-49FD-B1C5-E917372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E0B-4A79-4722-B014-EB79328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0AB2-AD6F-4DC3-9EC6-24453AC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4A66-12E0-4557-975F-7BD8D8F8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E3BF-DA5C-4AF7-A456-F6FB71F2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D3F-B163-4A34-AC39-2887E90B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79B-BBEB-46B1-869C-E071FC3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90A-BF63-4162-BC06-57B5DF2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4CF-FEC2-49C2-95DF-F9F99AF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5DE-E8AB-4339-AD39-FB08E1A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569-F768-43DC-9826-24BC0AD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6CD-44F1-4810-8C10-6EDB53B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577-ECD6-4D53-B11D-37C141B557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6453-F37A-4AC1-8969-1DB1A519BD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3499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пробация мультимедийного приложение к учебнику «Природоведение 5 класс»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Апробатор: Патракова Ольга Витальевна,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учитель биологии МОУ «Аряжская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основная общеобразовательная школа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сканирование0011"/>
          <p:cNvPicPr/>
          <p:nvPr/>
        </p:nvPicPr>
        <p:blipFill>
          <a:blip r:embed="rId1"/>
          <a:stretch/>
        </p:blipFill>
        <p:spPr>
          <a:xfrm>
            <a:off x="0" y="-4680"/>
            <a:ext cx="356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едостат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уроков имеет недостатки технического пл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Р пригоден к использованию в учебном процессе для расширения кругозора учащихся на уроках, во внеурочной деятельности и в домашних условия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начение ЦО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ая поддержка курса природоведения, дающая новые возможности для организации усвоения содержания кур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активные формы и способы овладения материа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сследовательской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объем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из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навыков самоконтр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знообразной творческ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неуроч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данных, включает в себя более 800 информационных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ые модели уроков или его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информационные объекты  как иллюстратив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ные лекции для постановки заданий по выполнению самостоя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актор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 позволя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быстрый поиск ИО и их предварительный просмо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готовые модели уроков при объяснении нов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ИО как иллюстративный материал для разъяснения тем или проблемных ситуаций изучаем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вводные лекции для постановки заданий по выполнению самостоятель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мпоновать отобранные информационные объекты в нужной последов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материал для лабораторных и самостояте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ь новые объ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хемы использования ЦОР на уроках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оекто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инте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компьютеры учащихся (компьютерный клас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+ при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спользование ЦОР значительно  повышае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 индивидуальной работы с учен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разработок и дидактического раздаточного материала для иллюстрирования изучаемой 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использования наглядных средств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самостоятельной и поисков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ложительные сторон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рганизации смены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урокам природ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провер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ност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вари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 ИКТ- компетен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сть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тестовых и игровы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сть в установке и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Сан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43:25Z</dcterms:created>
  <dc:creator>Пользователь</dc:creator>
  <dc:description/>
  <dc:language>en-US</dc:language>
  <cp:lastModifiedBy>Коля</cp:lastModifiedBy>
  <dcterms:modified xsi:type="dcterms:W3CDTF">2013-03-14T16:01:02Z</dcterms:modified>
  <cp:revision>7</cp:revision>
  <dc:subject/>
  <dc:title>Мультимедийное приложение к учебнику «Природоведение 5 класс» авторы А.А. Плешаков, Н.И. Сонин</dc:title>
</cp:coreProperties>
</file>