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FDC1-DC24-4A4F-B022-4359F9BAC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3215-62A8-4B26-9E6D-20805279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1EFE-752F-4EB1-955F-0F10660C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564C-7955-49BB-BB50-CCC364E8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55EC-135B-4D52-938E-447BD249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0C82-15C5-42CB-B1BF-F3103A09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2323-CC5D-4732-A36B-64F4834F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BBBD-58B4-4B56-B1C4-E22C69FA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0075-6FBA-4EF9-9254-7ACA0B3E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6CAC-8017-413B-BC20-539750E6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E21A-54C7-4F28-80B6-AD74215C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39A9-70A1-4170-A1D7-B45F360E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34AE-43DF-4A2D-9B1C-8DF08737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F82C-3E02-4A0F-90DB-7CF4BDEA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2FD2-8657-40E1-8F77-3704E44D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E0A8-B030-414E-BEF4-C82D7D3C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E1DD-E9F5-4D1D-95FD-F9CC2DC7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C151-3233-4B2F-98B3-9D020EB5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F233-726B-4239-812C-42164A84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3E02-290D-4DAF-8DF8-6DC59B3B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4ED1-66C9-4E0C-8790-B0A949C8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535A-4D0E-4687-AEC8-8E9771D3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991A-FB86-499B-9310-17CC7E2A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191B-962F-4CF1-A451-D56ECADF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1E4A-E6B2-4F93-9C52-87D2CD2298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5666-B9DB-45BB-9390-CFB5F9528D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3499920"/>
            <a:ext cx="763272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Апробация мультимедийного приложение к учебнику «Природоведение 5 класс»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                                      Апробатор: Патракова Ольга Витальевна,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                             учитель биологии МОУ «Аряжская 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                                     основная общеобразовательная школа»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Picture 5" descr="сканирование0011"/>
          <p:cNvPicPr/>
          <p:nvPr/>
        </p:nvPicPr>
        <p:blipFill>
          <a:blip r:embed="rId1"/>
          <a:stretch/>
        </p:blipFill>
        <p:spPr>
          <a:xfrm>
            <a:off x="0" y="-4680"/>
            <a:ext cx="356400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едостатк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яд уроков имеет недостатки технического пла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ОР пригоден к использованию в учебном процессе для расширения кругозора учащихся на уроках, во внеурочной деятельности и в домашних условия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азначение ЦОР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ная поддержка курса природоведения, дающая новые возможности для организации усвоения содержания кур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ые активные формы и способы овладения материал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исследовательской дея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ение объема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и ЦОР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изация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навыков самоконтро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разнообразной творческой деятельности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одготовке к уро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оведении уро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неурочной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спользование ЦОР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одержание ЦОР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за данных, включает в себя более 800 информационных объек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товые модели уроков или его ча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е информационные объекты  как иллюстративный материа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одные лекции для постановки заданий по выполнению самостоятельных раб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актор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спользование ЦОР позволяе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ить быстрый поиск ИО и их предварительный просмот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рать готовые модели уроков при объяснении нового матери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рать ИО как иллюстративный материал для разъяснения тем или проблемных ситуаций изучаемого матери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ть вводные лекции для постановки заданий по выполнению самостоятельных раб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мпоновать отобранные информационные объекты в нужной последова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ть материал для лабораторных и самостоятельных раб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ить новые объек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хемы использования ЦОР на уроках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 учителя + проектор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 учителя + принтер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 учителя + компьютеры учащихся (компьютерный класс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 + прин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Использование ЦОР значительно  повышает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ивность  индивидуальной работы с учени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о разработок и дидактического раздаточного материала для иллюстрирования изучаемой те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вень использования наглядных средств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вень самостоятельной и поисковой деятельности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ложительные сторон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гляд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ь организации смены деятель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интереса к урокам природо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ая раб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провер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ульность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вариатив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ует формированию ИКТ- компетенции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аточность матер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ое количество тестовых и игровых зад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гкость в установке и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ие требованиям СанП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14:43:25Z</dcterms:created>
  <dc:creator>Пользователь</dc:creator>
  <dc:description/>
  <dc:language>en-US</dc:language>
  <cp:lastModifiedBy>Коля</cp:lastModifiedBy>
  <dcterms:modified xsi:type="dcterms:W3CDTF">2013-03-14T16:01:02Z</dcterms:modified>
  <cp:revision>7</cp:revision>
  <dc:subject/>
  <dc:title>Мультимедийное приложение к учебнику «Природоведение 5 класс» авторы А.А. Плешаков, Н.И. Сонин</dc:title>
</cp:coreProperties>
</file>