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E65-3BF3-46BC-AAE1-30FADB38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4D6-B322-4DE6-ACA7-6DB437C5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CC2-F220-4585-9856-A9A665F0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42B-94A3-4B88-992D-17CBD84A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B82-18DF-4EC1-9D79-61D1A793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107-AFEB-42E3-9F93-E6DC772D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45E-8303-4350-9D32-097B4D4B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1E5-C255-421B-94F8-C8EE1A94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CAF-DBC5-4172-B05B-75F6E0BF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E0E-C5E5-4B2E-A117-EC7473A7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CBC-270C-4646-BBA7-050EEB1B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0A7-A86C-49A0-BC23-B074E53B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965A-17EE-41D6-B0BA-916DB5755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00"/>
            </a:gs>
            <a:gs pos="100000">
              <a:srgbClr val="004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Арифметика десятичных дроб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212640"/>
            <a:ext cx="6266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    Умножение и деление   десятичных дробей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, 100, 1000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00"/>
            </a:gs>
            <a:gs pos="100000">
              <a:srgbClr val="007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uzzle3"/>
          <p:cNvSpPr/>
          <p:nvPr/>
        </p:nvSpPr>
        <p:spPr>
          <a:xfrm>
            <a:off x="3276720" y="2781360"/>
            <a:ext cx="1366560" cy="1727280"/>
          </a:xfrm>
          <a:prstGeom prst="pie">
            <a:avLst/>
          </a:prstGeom>
          <a:solidFill>
            <a:srgbClr val="f2f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uzzle3"/>
          <p:cNvSpPr/>
          <p:nvPr/>
        </p:nvSpPr>
        <p:spPr>
          <a:xfrm>
            <a:off x="826920" y="2708280"/>
            <a:ext cx="1347840" cy="18003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uzzle2"/>
          <p:cNvSpPr/>
          <p:nvPr/>
        </p:nvSpPr>
        <p:spPr>
          <a:xfrm>
            <a:off x="1690560" y="3284640"/>
            <a:ext cx="2089440" cy="1224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uzzle5"/>
          <p:cNvSpPr/>
          <p:nvPr/>
        </p:nvSpPr>
        <p:spPr>
          <a:xfrm>
            <a:off x="538200" y="1700280"/>
            <a:ext cx="2016000" cy="159552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uzzle5"/>
          <p:cNvSpPr/>
          <p:nvPr/>
        </p:nvSpPr>
        <p:spPr>
          <a:xfrm>
            <a:off x="2987640" y="1700280"/>
            <a:ext cx="2016000" cy="1596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uzzle4"/>
          <p:cNvSpPr/>
          <p:nvPr/>
        </p:nvSpPr>
        <p:spPr>
          <a:xfrm>
            <a:off x="2124000" y="1557360"/>
            <a:ext cx="1282680" cy="2232000"/>
          </a:xfrm>
          <a:prstGeom prst="pie">
            <a:avLst/>
          </a:prstGeom>
          <a:solidFill>
            <a:srgbClr val="f2f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uzzle3"/>
          <p:cNvSpPr/>
          <p:nvPr/>
        </p:nvSpPr>
        <p:spPr>
          <a:xfrm>
            <a:off x="900000" y="333360"/>
            <a:ext cx="1330560" cy="1832040"/>
          </a:xfrm>
          <a:prstGeom prst="pie">
            <a:avLst/>
          </a:prstGeom>
          <a:solidFill>
            <a:srgbClr val="f2fa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uzzle3"/>
          <p:cNvSpPr/>
          <p:nvPr/>
        </p:nvSpPr>
        <p:spPr>
          <a:xfrm>
            <a:off x="3276720" y="333360"/>
            <a:ext cx="1368360" cy="18302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zzle2"/>
          <p:cNvSpPr/>
          <p:nvPr/>
        </p:nvSpPr>
        <p:spPr>
          <a:xfrm>
            <a:off x="1763640" y="907920"/>
            <a:ext cx="1955880" cy="121608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981000"/>
            <a:ext cx="4392360" cy="32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егодня я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учус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 бояться люб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полнять арифметические(+,-) действия с н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12682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9ff"/>
                </a:solidFill>
                <a:latin typeface="Arial"/>
              </a:rPr>
              <a:t>А так ж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2565360"/>
            <a:ext cx="370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Научу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равни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Анал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Делать 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55897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Работать в коман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6560" y="189000"/>
            <a:ext cx="842652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Задач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Алеша нашел 123 гриба. Из них 45 грибов белые, а остальные лисички. Какую часть всех грибов составляют лиси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6560" y="2565360"/>
            <a:ext cx="3670560" cy="3830760"/>
          </a:xfrm>
          <a:prstGeom prst="rect">
            <a:avLst/>
          </a:prstGeom>
          <a:ln w="127080">
            <a:solidFill>
              <a:srgbClr val="ffff9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93840" y="285120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лые     45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ички    ?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411280" y="2924280"/>
                <a:ext cx="6890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274920" y="3067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3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92360" y="549360"/>
            <a:ext cx="352908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Вычис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,54 + 2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,279 + 1,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,074 – 3,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 – 5,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,68 + 1,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445600">
            <a:off x="108000" y="189000"/>
            <a:ext cx="2158920" cy="154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8000" y="4292640"/>
            <a:ext cx="2735280" cy="2579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348000" y="4292640"/>
            <a:ext cx="2735280" cy="2579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 flipH="1">
            <a:off x="6300360" y="4221000"/>
            <a:ext cx="2809800" cy="2651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19640" y="1268280"/>
            <a:ext cx="33847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,574 +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2,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32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164360" y="981000"/>
                <a:ext cx="7923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24360" y="2060640"/>
                <a:ext cx="863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020000" y="3429000"/>
                <a:ext cx="576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00"/>
            </a:gs>
            <a:gs pos="100000">
              <a:srgbClr val="004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1890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Срав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 rot="21179400">
            <a:off x="12600" y="5022360"/>
            <a:ext cx="1476360" cy="1467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64000" y="260280"/>
            <a:ext cx="505080" cy="554040"/>
          </a:xfrm>
          <a:custGeom>
            <a:avLst/>
            <a:gdLst>
              <a:gd name="textAreaLeft" fmla="*/ 208080 w 505080"/>
              <a:gd name="textAreaRight" fmla="*/ 297000 w 505080"/>
              <a:gd name="textAreaTop" fmla="*/ 228240 h 554040"/>
              <a:gd name="textAreaBottom" fmla="*/ 325800 h 55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48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925600">
            <a:off x="7380360" y="188640"/>
            <a:ext cx="1295280" cy="1366920"/>
          </a:xfrm>
          <a:custGeom>
            <a:avLst/>
            <a:gdLst>
              <a:gd name="textAreaLeft" fmla="*/ 583920 w 1295280"/>
              <a:gd name="textAreaRight" fmla="*/ 711360 w 1295280"/>
              <a:gd name="textAreaTop" fmla="*/ 616320 h 1366920"/>
              <a:gd name="textAreaBottom" fmla="*/ 7506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738" y="9738"/>
                </a:lnTo>
                <a:lnTo>
                  <a:pt x="10800" y="0"/>
                </a:lnTo>
                <a:lnTo>
                  <a:pt x="11862" y="9738"/>
                </a:lnTo>
                <a:lnTo>
                  <a:pt x="21600" y="10800"/>
                </a:lnTo>
                <a:lnTo>
                  <a:pt x="11862" y="11862"/>
                </a:lnTo>
                <a:lnTo>
                  <a:pt x="10800" y="21600"/>
                </a:lnTo>
                <a:lnTo>
                  <a:pt x="9738" y="1186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48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581600">
            <a:off x="0" y="836280"/>
            <a:ext cx="719280" cy="698400"/>
          </a:xfrm>
          <a:custGeom>
            <a:avLst/>
            <a:gdLst>
              <a:gd name="textAreaLeft" fmla="*/ 296280 w 719280"/>
              <a:gd name="textAreaRight" fmla="*/ 423000 w 719280"/>
              <a:gd name="textAreaTop" fmla="*/ 287640 h 698400"/>
              <a:gd name="textAreaBottom" fmla="*/ 410760 h 69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48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8469800">
            <a:off x="8447760" y="230400"/>
            <a:ext cx="431640" cy="566640"/>
          </a:xfrm>
          <a:custGeom>
            <a:avLst/>
            <a:gdLst>
              <a:gd name="textAreaLeft" fmla="*/ 152640 w 431640"/>
              <a:gd name="textAreaRight" fmla="*/ 279000 w 431640"/>
              <a:gd name="textAreaTop" fmla="*/ 200520 h 566640"/>
              <a:gd name="textAreaBottom" fmla="*/ 366120 h 56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40" y="7640"/>
                </a:lnTo>
                <a:lnTo>
                  <a:pt x="10800" y="0"/>
                </a:lnTo>
                <a:lnTo>
                  <a:pt x="13960" y="7640"/>
                </a:lnTo>
                <a:lnTo>
                  <a:pt x="21600" y="10800"/>
                </a:lnTo>
                <a:lnTo>
                  <a:pt x="13960" y="13960"/>
                </a:lnTo>
                <a:lnTo>
                  <a:pt x="10800" y="21600"/>
                </a:lnTo>
                <a:lnTo>
                  <a:pt x="7640" y="1396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48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189000"/>
            <a:ext cx="576000" cy="482400"/>
          </a:xfrm>
          <a:custGeom>
            <a:avLst/>
            <a:gdLst>
              <a:gd name="textAreaLeft" fmla="*/ 216000 w 576000"/>
              <a:gd name="textAreaRight" fmla="*/ 360000 w 576000"/>
              <a:gd name="textAreaTop" fmla="*/ 180720 h 482400"/>
              <a:gd name="textAreaBottom" fmla="*/ 301680 h 482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099" y="8099"/>
                </a:lnTo>
                <a:lnTo>
                  <a:pt x="10800" y="0"/>
                </a:lnTo>
                <a:lnTo>
                  <a:pt x="13501" y="8099"/>
                </a:lnTo>
                <a:lnTo>
                  <a:pt x="21600" y="10800"/>
                </a:lnTo>
                <a:lnTo>
                  <a:pt x="13501" y="13501"/>
                </a:lnTo>
                <a:lnTo>
                  <a:pt x="10800" y="21600"/>
                </a:lnTo>
                <a:lnTo>
                  <a:pt x="8099" y="1350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48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341800">
            <a:off x="250920" y="2636640"/>
            <a:ext cx="718920" cy="698400"/>
          </a:xfrm>
          <a:custGeom>
            <a:avLst/>
            <a:gdLst>
              <a:gd name="textAreaLeft" fmla="*/ 244800 w 718920"/>
              <a:gd name="textAreaRight" fmla="*/ 474120 w 718920"/>
              <a:gd name="textAreaTop" fmla="*/ 237960 h 698400"/>
              <a:gd name="textAreaBottom" fmla="*/ 460440 h 69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61" y="7361"/>
                </a:lnTo>
                <a:lnTo>
                  <a:pt x="10800" y="0"/>
                </a:lnTo>
                <a:lnTo>
                  <a:pt x="14239" y="7361"/>
                </a:lnTo>
                <a:lnTo>
                  <a:pt x="21600" y="10800"/>
                </a:lnTo>
                <a:lnTo>
                  <a:pt x="14239" y="14239"/>
                </a:lnTo>
                <a:lnTo>
                  <a:pt x="10800" y="21600"/>
                </a:lnTo>
                <a:lnTo>
                  <a:pt x="7361" y="1423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489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557360"/>
            <a:ext cx="871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,5 + 9,14  и  9,14 + 2,5;          2) 7,9 – 2,12  и  9,7 – 2,12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)  3,46 + 5,817  и  3,46 + 5,2;      4) 8,04 – 1,56 и 8,04 – 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3213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Вычисл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38200" y="3860640"/>
            <a:ext cx="7705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8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∙ 8,3 + 28 ∙ 1,7;      2) 5,7 ∙ 35 + 4,3 ∙ 3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) 58 ∙ 1000;        4)  256 ∙100;       5) 347 ∙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6) 2500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fb6b"/>
                                      </p:to>
                                    </p:animClr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4fb6b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ff"/>
                                      </p:to>
                                    </p:animClr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7ff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03b"/>
                                      </p:to>
                                    </p:animClr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03b"/>
                                      </p:to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9.24855E-007 C -0.14566 0.04971 -0.29114 0.09942 -0.33646 0.13109 C -0.38177 0.16277 -0.29635 0.20925 -0.27153 0.19029 C -0.2467 0.17133 -0.21701 0.0941 -0.18732 0.01688 E">
                                      <p:cBhvr>
                                        <p:cTn id="14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348000" y="2852640"/>
            <a:ext cx="4896000" cy="2735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3176640" cy="346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Как умножить натуральное число на  10, 100, 1000 и т.д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404640"/>
            <a:ext cx="86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 умножить десятичную дробь на 10, 100, 1000 и т.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1557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оведем исслед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276640"/>
            <a:ext cx="266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,3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,921 ∙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,0593 ∙ 1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rot="786000">
            <a:off x="5585760" y="3858840"/>
            <a:ext cx="4982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488" y="2041"/>
                  <a:pt x="11375" y="5080"/>
                  <a:pt x="11375" y="10800"/>
                </a:cubicBezTo>
                <a:cubicBezTo>
                  <a:pt x="11375" y="16520"/>
                  <a:pt x="16488" y="1955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3790800"/>
            <a:ext cx="792360" cy="719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437000"/>
            <a:ext cx="295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3,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92,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09,0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2720" y="4149720"/>
            <a:ext cx="1513080" cy="576360"/>
          </a:xfrm>
          <a:prstGeom prst="leftArrow">
            <a:avLst>
              <a:gd name="adj1" fmla="val 50000"/>
              <a:gd name="adj2" fmla="val 65631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4149720"/>
            <a:ext cx="1512720" cy="576360"/>
          </a:xfrm>
          <a:prstGeom prst="rightArrow">
            <a:avLst>
              <a:gd name="adj1" fmla="val 50000"/>
              <a:gd name="adj2" fmla="val 65615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9440" y="3359160"/>
            <a:ext cx="287280" cy="287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9440" y="3790800"/>
            <a:ext cx="287280" cy="2876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538600">
            <a:off x="6372000" y="3285720"/>
            <a:ext cx="863640" cy="863640"/>
          </a:xfrm>
          <a:prstGeom prst="plus">
            <a:avLst>
              <a:gd name="adj" fmla="val 39074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2531880" cy="3610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2708280"/>
            <a:ext cx="3110040" cy="388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66920" y="1484280"/>
            <a:ext cx="3800520" cy="3290760"/>
          </a:xfrm>
          <a:prstGeom prst="rect">
            <a:avLst/>
          </a:prstGeom>
          <a:ln w="0">
            <a:noFill/>
          </a:ln>
        </p:spPr>
      </p:pic>
      <p:sp>
        <p:nvSpPr>
          <p:cNvPr id="98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loud"/>
          <p:cNvSpPr/>
          <p:nvPr/>
        </p:nvSpPr>
        <p:spPr>
          <a:xfrm rot="1069200">
            <a:off x="3475080" y="297000"/>
            <a:ext cx="1942920" cy="1301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7032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loud"/>
          <p:cNvSpPr/>
          <p:nvPr/>
        </p:nvSpPr>
        <p:spPr>
          <a:xfrm rot="20638200">
            <a:off x="6516720" y="404640"/>
            <a:ext cx="2232000" cy="1495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906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7:15:32Z</dcterms:created>
  <dc:creator>НАТАЛЬЯ</dc:creator>
  <dc:description/>
  <dc:language>en-US</dc:language>
  <cp:lastModifiedBy>НАТАЛЬЯ</cp:lastModifiedBy>
  <dcterms:modified xsi:type="dcterms:W3CDTF">2008-05-13T14:57:13Z</dcterms:modified>
  <cp:revision>4</cp:revision>
  <dc:subject/>
  <dc:title>Арифметика десятичных дробей</dc:title>
</cp:coreProperties>
</file>