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E35B-1C66-4357-A2C1-E66D2968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1200-2C03-4D05-A2C8-0542B3D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03D1-561C-45DA-BF1E-545D23C9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F3C3-6106-4DDC-9210-086C7EE7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6849-527C-4684-A1DD-10D41C6A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FCCA-872F-45D9-945D-B8C02514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0E9-B00B-4766-AE47-73980FD9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0D7-447C-456E-AE6F-A1E059E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184-16A6-4578-A176-5470F3C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08C-EAC2-4661-A042-B346E43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6AA-5599-4A62-8D36-12D6ADF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0CA5-503C-4516-B5D9-B46AEB35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9FD-5B2D-43D0-81EF-AC32747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0DCF-2126-485A-94AD-BC991EA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D9D3-7EC1-4FB1-A296-58C9244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CE70-18B5-4245-9340-551A6574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AC49-F052-43D5-A8F7-DF6CFC57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A698-0C76-4FF1-9665-31E5969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916F-CE73-4F58-9145-1DDCE28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5857-9B07-4C74-BA2C-40CB11E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3B8C-21EE-40E1-B5B4-B8ED885B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D1C4-CACB-4BCC-B9F5-819DAC0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4EC7-66A7-4251-AFA5-D9F1EA2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EADB-E07C-4ED3-AC8A-A23C8D8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77120"/>
            <a:ext cx="41148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C64-7B68-43F9-AE51-96118F217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3434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8CC4-E02C-409E-97AF-2B694305F4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obe.com/education/digkids/images/contest/ph_famil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Глава 2. Экономика домохозяйст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 Экономические функции домохозяй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6576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потребляемых товар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немедленного использования — продукты питания, топливо, лекарства, т.е. все, что потребляется сразу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длительного пользования — жилье, мебель, автомобили, т.е. то, что потребляется (изнашивается) в течение ряда лет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услуги —здравоохранение, транспорт, развле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0299-2A7C-4B18-A0B9-1E5CE088B1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гоизм и альтруиз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го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go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я) — моральный принцип жизненной ориентации и поведения личности, предполагающий предпочтение собственных интересов интересам других членов общества. Модель поведения человека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 пределам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льтру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t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ругой) — моральный принцип жизненной ориента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поведения личности, основан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способности человека бескорыстно жертвовать личными интересами ради блага других. Модель поведения человека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нутр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D79C-A14F-44B7-A926-D8AE8B06FF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-производит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изводство домохозяйства не требует регистрации в качестве фирмы, т.е. самостоятельного юридического лица, отдельного от его владельце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акторы производства находятся во владении членов домохозяйства, а не их предприят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рмы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мохозяйство как таковое не может вступ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оговорные отношения с другими предприятиями; это могут сделать только отдельные члены домохозяйства, заключив, например, догово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аренду жиль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адельцы домашнего предприятия полностью отвечают по своим обязательствам личным имуществ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DAEC-7FB1-4240-840D-8FF73AAB63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ормы домашнего предприя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ыночные домашние предприят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существляют 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родаж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ерыночные домашние предприят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уществляют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личного конечного потреб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B750-2C2D-4A08-AF3D-125023ABA9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поставщик тру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38480" y="1066320"/>
            <a:ext cx="4267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ческий капитал (human capital) — воплощенный в человеке запас способностей, знаний, навы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мотивац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952880"/>
            <a:ext cx="3352680" cy="133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В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МУХ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Рабочий и колхозница. 1937. Бронза. Гран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7321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43F6-ADC2-4517-8523-DFD17CB2B1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ирование человеческого капи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производства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формирова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использование семейного бюджета, ведение домохозяй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оспроизводство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семьи рождают детей, воспроизводя тем самым людские ресурсы, включают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циальную систему путем воспитания, образования, приобщения к куль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ализация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участие индивидуальных членов домохозяйств в рыночном производстве, ведении домашнего хозяйства, организации семейного бизне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9793-EBD1-4920-90CC-B00E3F956F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Формы обу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получение среднего, специального и высшего образования, получение второго образования, профессиональная подготовка на производстве, различные курсы, об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агистратуре, аспирантуре, докторантуре и пр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Не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самообразование человека путем изучения специальной литерату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информации, участия в профессиональных ассоциациях и клубах, поддержания контакт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коллегами по специальности, например, через Интернет, участи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конкурсах, конференциях, семинарах и т.п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194A-C29B-4481-9BC1-E96DB9DE41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Экономический потенциал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движимость — земельный участок (приусадебный, дачный, под строениями), здания и сооружения (приватизированная квартира, дача, дом, гараж, подсобные помещения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е активы — машины и оборудование чисто производственного назначения (например, личный грузовик, трактор, станок) и рабочий скот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инансовые активы — денежные вклады в банке, ценные бумаги (акции, облигации), наличные деньги, другие активы, которые можно быстро преврат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еньги (драгоценности, произведения искусства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мущество — потребительские товары длительного пользования, которые можно использовать и в целях личного потребления, и в целях производства (например, легковой автомобиль, компьюте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507B-AFE6-4962-97D8-3F4671FB75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е подсобное 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а деятельности домохозяйст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оизводству и переработке сельскохозяйственной продукц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иусадеб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ельскохозяйственное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олевых и приусадебных участках сельских жител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дач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адово-огородная деятельность городских ж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776F-3AAD-4C5D-9745-B30C21BC00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функции домохозяйства заключаются 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лении товаров услуг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изводстве товаров и услуг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производстве человека и 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E654-A990-46F7-8A65-E278922EA7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Домо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ousehol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совокупность физических лиц, проживающих совместн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обеспечивающих себя всем необходимым для жизни, полностью или частично объединяя и расходуя свои средства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AEA0-5CED-4917-92C2-5362422CFA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требители члены домохозяйства используют товары и услуги 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 пределами домохозяйства его члены в основном эгоисты, максимизирующие полезность для себя лич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омохозяйства его чл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сновном альтруисты, бескорыстно заботящиеся о благе ближн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B9C-6E9B-4792-A9E5-F9AA559232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роизводители домашние хозяйства могут производить товары и услу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родажи на рынк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собственного потребл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ставщики труда домохозяйства воспроизводят человеческий капита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460F-016E-482D-8560-678649804C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омохозяйст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Част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категория  домохозяйств, часто совпадающ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нятием «семь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, под которой в экономике понимают членов домохозяйства, связанных родство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нституциональные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ллектив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группа лиц, не связанных родством, которые долгое время живут вместе и не могут самостоятельно принимать решени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 использовании заработанных совместно средст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6A4A-C840-47CF-BFD3-AEECF21DBE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это семь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8920" y="1600200"/>
            <a:ext cx="4378320" cy="441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4648320"/>
            <a:ext cx="373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Микеланджело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47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Святое семейство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04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Дерево, масло. Уффици, Фло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63C6-48AD-44ED-8B6B-4AF813012A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заключенные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тюрь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3840" y="1600200"/>
            <a:ext cx="380844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426708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. Флавицкий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83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8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няжна Таракано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64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, холст, масл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осударственная Третьяковская галерея, Моск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1D9C-CD34-4034-898D-C288170473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монахи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монасты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симметрия симметричный Соловки Соловецкий монастырь Святое озеро отражение золотой закат Белое море Беломорский север заповедник монах отшельник затворник монашество монашеский уединение остров архипелаг вера Архангельская простор вода пространство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478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5943600"/>
            <a:ext cx="830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С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Ладанов, 2004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  <a:ea typeface="Arial"/>
              </a:rPr>
              <a:t>Соловецкий монастырь в лучах заката. Святое озеро. Отражение. Вечер. http://ladanov.nm.ru/index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4AA6-8CFB-4773-ACD1-9F1604BF2D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Экономические функции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реблять товары и услуги, произведенные предприятия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изводить товары и услуги для собственного потребления или продажи на рынк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роизводить и формировать человеческий капитал и поставлять труд на рынок факторов производ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0474-94FC-410A-BDA8-5E2443E027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охозяйство-потребит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лени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использование товаров и услу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ительские това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er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oods)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овары, которые непосредственно удовлетворяют потребности челове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олностью уничтожаются в процессе потреб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BD2A-6144-4716-B237-FCFE5D440C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удовлетворяемых потребност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дукты питания, одежда и обув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лье, вода, электричество, газ и другое топливо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бель, предметы домашней обстанов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утвари, ремонт жиль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анспортные услуги; услуги в сфере здравоохранения, образования, культуры, связи и т.д.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D35E-0C79-471E-A94A-961DCACCA3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5:53:52Z</dcterms:created>
  <dc:creator/>
  <dc:description/>
  <dc:language>en-US</dc:language>
  <cp:lastModifiedBy>akireyev</cp:lastModifiedBy>
  <dcterms:modified xsi:type="dcterms:W3CDTF">2007-06-07T21:36:54Z</dcterms:modified>
  <cp:revision>31</cp:revision>
  <dc:subject/>
  <dc:title>Глава 2. Экономика домохозяйства</dc:title>
</cp:coreProperties>
</file>