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80FA-EB37-4918-A2A4-B5E714F6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7D15-14EE-45BC-9BCB-C9207F35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226D-D926-4D5F-9F66-762AD7F5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D4BB-7B11-4E91-A450-834981E4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0520-78F9-4B45-903E-B60E4B0C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84E0-5CA5-4187-BC94-1E58D9A7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B383-E725-463B-9B1B-DCAC2FB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708-6CFE-484E-AE89-B934345C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9EB-5513-49CF-B9BE-A4D62F2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216-B144-413E-8CEA-7B64E022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6042-214C-4DC8-86E9-7EB045B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11A2-C19E-495A-B6AF-61F380B0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88C5-05A2-4743-88EF-CB4B0DB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1F0C-8E15-4D35-B295-FE393DE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8B0-C5F4-4743-B818-EE4CB77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7943-1F87-421F-BB2B-3761FD0D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017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F9B3-6E95-47C2-ACA6-5B335181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9A4C-F560-4B8A-9B48-837906B7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3A2A-3DBD-4409-921E-0CA1AFE1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B186-6400-410C-9D94-8FD4C36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2DDC-EB61-472F-A06E-832107E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2493-B458-40F4-B5DD-315F4488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017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1BD4-FC72-42E2-9315-1CEF281C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17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C90A-FA52-4BBD-BEBA-14FD30BC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77120"/>
            <a:ext cx="41148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F163-7272-4E21-9FB7-B63093D84C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3434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34A-FBAD-44F5-889E-9CA21BA12B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dobe.com/education/digkids/images/contest/ph_famil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Глава 2. Экономика домохозяйст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440" y="23623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. Экономические функции домохозяй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6576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едметы потреб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 характеру потребляемых товаров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товары немедленного использования — продукты питания, топливо, лекарства, т.е. все, что потребляется сразу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товары длительного пользования — жилье, мебель, автомобили, т.е. то, что потребляется (изнашивается) в течение ряда лет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ительские услуги —здравоохранение, транспорт, развлеч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2983-5BC7-4C27-841E-2A9CD61CD2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гоизм и альтруиз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гоиз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go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я) — моральный принцип жизненной ориентации и поведения личности, предполагающий предпочтение собственных интересов интересам других членов общества. Модель поведения человека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 пределами своего домохозяй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льтруиз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от лат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t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другой) — моральный принцип жизненной ориентаци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поведения личности, основанны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способности человека бескорыстно жертвовать личными интересами ради блага других. Модель поведения человека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нутри своего домохозяй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EAB3-EA6F-4416-B718-ED77096631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-производител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изводство домохозяйства не требует регистрации в качестве фирмы, т.е. самостоятельного юридического лица, отдельного от его владельце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акторы производства находятся во владении членов домохозяйства, а не их предприяти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рмы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мохозяйство как таковое не может вступ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договорные отношения с другими предприятиями; это могут сделать только отдельные члены домохозяйства, заключив, например, договор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аренду жилья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адельцы домашнего предприятия полностью отвечают по своим обязательствам личным имуществ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4180-EB16-4D5E-81FE-12D6926775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ормы домашнего предприя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ыночные домашние предприят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существляют 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продаж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ерыночные домашние предприят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уществляют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личного конечного потребл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24CB-8514-4CB6-8139-7F71E0C3A0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поставщик труд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38480" y="1066320"/>
            <a:ext cx="42674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ловеческий капитал (human capital) — воплощенный в человеке запас способностей, знаний, навы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мотивац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952880"/>
            <a:ext cx="3352680" cy="133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  <a:ea typeface="Arial"/>
              </a:rPr>
              <a:t>В.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МУХ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Рабочий и колхозница. 1937. Бронза. Грани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73212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4299-D97D-43CB-8FAB-6E711C0326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ирование человеческого капитал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производства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формирова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использование семейного бюджета, ведение домохозяйств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оспроизводство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семьи рождают детей, воспроизводя тем самым людские ресурсы, включают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циальную систему путем воспитания, образования, приобщения к куль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ализация человеческого капитал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участие индивидуальных членов домохозяйств в рыночном производстве, ведении домашнего хозяйства, организации семейного бизне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6B1F2-C2F0-41E9-A9AF-E9C94D98DF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Формы обуч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Формальное обуч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это получение среднего, специального и высшего образования, получение второго образования, профессиональная подготовка на производстве, различные курсы, об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агистратуре, аспирантуре, докторантуре и пр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Неформальное обучени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это самообразование человека путем изучения специальной литератур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информации, участия в профессиональных ассоциациях и клубах, поддержания контакт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 коллегами по специальности, например, через Интернет, участи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конкурсах, конференциях, семинарах и т.п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F326-F88D-4981-9891-27BF8502F1C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Экономический потенциал домохозя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движимость — земельный участок (приусадебный, дачный, под строениями), здания и сооружения (приватизированная квартира, дача, дом, гараж, подсобные помещения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е активы — машины и оборудование чисто производственного назначения (например, личный грузовик, трактор, станок) и рабочий скот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инансовые активы — денежные вклады в банке, ценные бумаги (акции, облигации), наличные деньги, другие активы, которые можно быстро преврати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деньги (драгоценности, произведения искусства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мущество — потребительские товары длительного пользования, которые можно использовать и в целях личного потребления, и в целях производства (например, легковой автомобиль, компьюте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F0B4-9531-412C-9C6F-3B396C8D63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ичное подсобное хозяй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а деятельности домохозяйст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оизводству и переработке сельскохозяйственной продукци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иусадебные участк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сельскохозяйственное производст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олевых и приусадебных участках сельских жител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дачные участк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садово-огородная деятельность городских жи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2340-2D10-4FE8-AC05-4B9B162AE7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функции домохозяйства заключаются 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треблении товаров услуг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изводстве товаров и услуг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спроизводстве человека и  тру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C788-3EB0-476B-A6DD-EC03C86846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Домохозяйств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househol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совокупность физических лиц, проживающих совместн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обеспечивающих себя всем необходимым для жизни, полностью или частично объединяя и расходуя свои средства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5AA8-1CFA-4564-A27D-D56812F311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требители члены домохозяйства используют товары и услуги для удовлетворения индивидуальны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коллективных потребносте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 пределами домохозяйства его члены в основном эгоисты, максимизирующие полезность для себя лич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омохозяйства его чл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сновном альтруисты, бескорыстно заботящиеся о благе ближни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268DA-77F4-4FBB-859D-5418DF5043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роизводители домашние хозяйства могут производить товары и услуг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родажи на рынк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собственного потребл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ставщики труда домохозяйства воспроизводят человеческий капита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1D6C-DAA9-42C2-AFFD-89F772FD6C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домохозяйст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Частные домо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категория  домохозяйств, часто совпадающа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нятием «семь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», под которой в экономике понимают членов домохозяйства, связанных родством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нституциональные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оллективные домохозяйства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группа лиц, не связанных родством, которые долгое время живут вместе и не могут самостоятельно принимать решени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 использовании заработанных совместно средст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8038-4E97-4F13-A66F-E0ADD40668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это семь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98920" y="1600200"/>
            <a:ext cx="4378320" cy="441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4648320"/>
            <a:ext cx="373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Микеланджело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(147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5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Святое семейство,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504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Дерево, масло. Уффици, Флоре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03BE-D699-47D8-BB2B-47529862ED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заключенные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тюрьм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03840" y="1600200"/>
            <a:ext cx="3808440" cy="4648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4267080"/>
            <a:ext cx="365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. Флавицкий 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(1830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88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няжна Тараканов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Unicode MS"/>
                <a:ea typeface="Arial"/>
              </a:rPr>
              <a:t>1864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, холст, масло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Государственная Третьяковская галерея, Москва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E3C3-EE39-4170-9581-55C248678F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охозяйство — монахи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монасты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симметрия симметричный Соловки Соловецкий монастырь Святое озеро отражение золотой закат Белое море Беломорский север заповедник монах отшельник затворник монашество монашеский уединение остров архипелаг вера Архангельская простор вода пространство"/>
          <p:cNvPicPr/>
          <p:nvPr/>
        </p:nvPicPr>
        <p:blipFill>
          <a:blip r:embed="rId1"/>
          <a:stretch/>
        </p:blipFill>
        <p:spPr>
          <a:xfrm>
            <a:off x="1295280" y="1143000"/>
            <a:ext cx="6400800" cy="478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5943600"/>
            <a:ext cx="830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С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Ладанов, 2004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  <a:ea typeface="Arial"/>
              </a:rPr>
              <a:t>Соловецкий монастырь в лучах заката. Святое озеро. Отражение. Вечер. http://ladanov.nm.ru/index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C477-9E77-4FD1-A1B2-E18E52F618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Экономические функции домохозяй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реблять товары и услуги, произведенные предприятия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изводить товары и услуги для собственного потребления или продажи на рынк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спроизводить и формировать человеческий капитал и поставлять труд на рынок факторов производст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36C9-0A22-40B3-B1D9-111395F694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охозяйство-потребите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треблени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um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использование товаров и услуг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удовлетворения индивидуальных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коллективны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требительские това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umer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oods)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товары, которые непосредственно удовлетворяют потребности человек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полностью уничтожаются в процессе потреб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42EB-4799-4B15-9A7F-AA3304AA1B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едметы потребл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о характеру удовлетворяемых потребносте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дукты питания, одежда и обувь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илье, вода, электричество, газ и другое топливо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бель, предметы домашней обстанов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утвари, ремонт жиль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анспортные услуги; услуги в сфере здравоохранения, образования, культуры, связи и т.д.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8. Экономические функции домохозяйств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CD72-D41E-499E-8D7D-29CDF1F9B9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Глава 2. Экономика домохозяйств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05:53:52Z</dcterms:created>
  <dc:creator/>
  <dc:description/>
  <dc:language>en-US</dc:language>
  <cp:lastModifiedBy>akireyev</cp:lastModifiedBy>
  <dcterms:modified xsi:type="dcterms:W3CDTF">2007-06-07T21:36:54Z</dcterms:modified>
  <cp:revision>31</cp:revision>
  <dc:subject/>
  <dc:title>Глава 2. Экономика домохозяйства</dc:title>
</cp:coreProperties>
</file>