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6DA2-F34A-42BF-B536-1E6A5DB8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017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277B5-C926-43F1-B7ED-FC5083C4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DB1F-1D8C-4766-9B53-94394306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DBF9-8E0E-457A-B6FF-54BB6D89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D317-146B-41AB-A2BD-EF9809A1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8B7B-A596-442A-88AD-3471DEFC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1FE0-326A-4EF9-9EDA-55AC0C8F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96E3-117C-4E3D-993A-BEAFEB0D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4AF2-2B19-4102-95C2-06F3700C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66F3-CD37-45D3-8459-2E219770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DB61-08C7-473D-8039-FC56B545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7D37B-641B-4D0C-9AFD-A6FE9824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FF95-0C01-4D67-BC20-6D9E5574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0294-8358-4E30-BBDB-01ACC38C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017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EDA6-6A9E-415B-BB31-E660AFB4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8AA6-FF06-4AF4-8372-8F461B94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4565-9188-4C5C-A455-3D295545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974B-E8B4-48F2-9687-05AD1A99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CA59D-1F2E-4194-A935-CD82197E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02FE6-3465-412E-94B4-6A482855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B7B3-9E29-4D68-A572-D3628568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4AD4-51B5-4C4A-B822-BE230B2A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913D-CB35-4F6C-960E-493F32C4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F394-4045-4E59-85C0-2649BCF8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77120"/>
            <a:ext cx="41148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9302-8915-4AE6-871D-3B77AC56BC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477120"/>
            <a:ext cx="43434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4B57-33DD-435A-9A08-0E12EDD862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dobe.com/education/digkids/images/contest/ph_famil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Глава 2. Экономика домохозяйств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440" y="23623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8. Экономические функции домохозяй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6576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редметы потребл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о характеру потребляемых товаро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требительские товары немедленного использования — продукты питания, топливо, лекарства, т.е. все, что потребляется сразу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требительские товары длительного пользования — жилье, мебель, автомобили, т.е. то, что потребляется (изнашивается) в течение ряда лет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требительские услуги —здравоохранение, транспорт, развлеч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1CCF-E63D-48E2-9E9C-5D166E15E4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гоизм и альтруиз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Эгоизм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от лат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go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я) — моральный принцип жизненной ориентации и поведения личности, предполагающий предпочтение собственных интересов интересам других членов общества. Модель поведения человека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за пределами своего домохозяйс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Альтруизм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от лат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t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другой) — моральный принцип жизненной ориента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поведения личности, основанны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способности человека бескорыстно жертвовать личными интересами ради блага других. Модель поведения человека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нутри своего домохозяйс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DE31F-AD64-4E1B-9A6C-34EEFF3FEB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охозяйство-производитель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изводство домохозяйства не требует регистрации в качестве фирмы, т.е. самостоятельного юридического лица, отдельного от его владельце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акторы производства находятся во владении членов домохозяйства, а не их предприят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ли фирмы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омохозяйство как таковое не может вступит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договорные отношения с другими предприятиями; это могут сделать только отдельные члены домохозяйства, заключив, например, договор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аренду жилья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адельцы домашнего предприятия полностью отвечают по своим обязательствам личным имуществ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0D06-F34D-4A51-B295-DBDB7341E1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ормы домашнего предприят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Рыночные домашние предприят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существляют  производст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продажи на рын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Нерыночные домашние предприятия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уществляют производст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личного конечного потреблен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3B672-4A21-4271-BE54-A473713A89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1240" y="-36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охозяйство — поставщик труд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38480" y="1066320"/>
            <a:ext cx="42674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ловеческий капитал (human capital) — воплощенный в человеке запас способностей, знаний, навы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мотивац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952880"/>
            <a:ext cx="3352680" cy="133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В.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МУХ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Рабочий и колхозница. 1937. Бронза. Грани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73212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F36D-961C-45F6-AA60-8883107BCB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ормирование человеческого капитал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оздание условий для производства человеческого капитал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формировани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использование семейного бюджета, ведение домохозяйств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оспроизводство человеческого капитал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семьи рождают детей, воспроизводя тем самым людские ресурсы, включают их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оциальную систему путем воспитания, образования, приобщения к культу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еализация человеческого капитал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участие индивидуальных членов домохозяйств в рыночном производстве, ведении домашнего хозяйства, организации семейного бизнес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6B60A-A541-4F1D-A6B6-A6E69793B7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Формы обуч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Формальное обучени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это получение среднего, специального и высшего образования, получение второго образования, профессиональная подготовка на производстве, различные курсы, обуче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магистратуре, аспирантуре, докторантуре и пр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Неформальное обучени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это самообразование человека путем изучения специальной литератур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информации, участия в профессиональных ассоциациях и клубах, поддержания контакт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коллегами по специальности, например, через Интернет, участи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 конкурсах, конференциях, семинарах и т.п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71E4-E0FC-4F24-903E-DD9BBB80E6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Экономический потенциал домохозяйст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движимость — земельный участок (приусадебный, дачный, под строениями), здания и сооружения (приватизированная квартира, дача, дом, гараж, подсобные помещения)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питальные активы — машины и оборудование чисто производственного назначения (например, личный грузовик, трактор, станок) и рабочий скот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инансовые активы — денежные вклады в банке, ценные бумаги (акции, облигации), наличные деньги, другие активы, которые можно быстро превратит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деньги (драгоценности, произведения искусства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мущество — потребительские товары длительного пользования, которые можно использовать и в целях личного потребления, и в целях производства (например, легковой автомобиль, компьюте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B7A42-9103-4A46-A37D-8DE379F347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ичное подсобное хозяйств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а деятельности домохозяйст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производству и переработке сельскохозяйственной продукци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риусадебные участки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сельскохозяйственное производст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полевых и приусадебных участках сельских жителе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дачные участки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садово-огородная деятельность городских жит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1A52-2BC1-4A84-9414-082A8AAB3B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функции домохозяйства заключаются в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треблении товаров услуг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оизводстве товаров и услуг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производстве человека и  тру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059E9-94D4-4330-A2AF-16C9E143A2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Домохозяйств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househol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совокупность физических лиц, проживающих совместно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обеспечивающих себя всем необходимым для жизни, полностью или частично объединяя и расходуя свои средства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3C4D2-FDC7-4EC6-BDFC-3B91F224DF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потребители члены домохозяйства используют товары и услуги для удовлетворения индивидуальных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коллективных потребносте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 пределами домохозяйства его члены в основном эгоисты, максимизирующие полезность для себя личн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рамках домохозяйства его чл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основном альтруисты, бескорыстно заботящиеся о благе ближни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7692C-5F88-4935-B9EB-7E6E256FBF1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(3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производители домашние хозяйства могут производить товары и услуг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родажи на рынке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собственного потребл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поставщики труда домохозяйства воспроизводят человеческий капита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A002-18B3-4488-8DAB-BD08E1817F3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домохозяйст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Частные домохозяйств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категория  домохозяйств, часто совпадающа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понятием «семь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», под которой в экономике понимают членов домохозяйства, связанных родством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Институциональные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оллективные домохозяйств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группа лиц, не связанных родством, которые долгое время живут вместе и не могут самостоятельно принимать решени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об использовании заработанных совместно средст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9E9F-BEC7-44F9-9A97-C83001C1E2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охозяйство — это семь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98920" y="1600200"/>
            <a:ext cx="4378320" cy="4419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4648320"/>
            <a:ext cx="3733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Микеланджело 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(1475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15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Святое семейство,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1504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 Дерево, масло. Уффици, Флоре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80EF-D137-43AA-8213-9725A2A362C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охозяйство — заключенные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тюрьм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03840" y="1600200"/>
            <a:ext cx="3808440" cy="4648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2120" y="4267080"/>
            <a:ext cx="3657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К. Флавицкий 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(1830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188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Княжна Тараканов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1864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, холст, масло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Государственная Третьяковская галерея, Москв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6818-205E-4FE2-AFBF-5BAEC5BFB5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охозяйство — монахи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монасты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симметрия симметричный Соловки Соловецкий монастырь Святое озеро отражение золотой закат Белое море Беломорский север заповедник монах отшельник затворник монашество монашеский уединение остров архипелаг вера Архангельская простор вода пространство"/>
          <p:cNvPicPr/>
          <p:nvPr/>
        </p:nvPicPr>
        <p:blipFill>
          <a:blip r:embed="rId1"/>
          <a:stretch/>
        </p:blipFill>
        <p:spPr>
          <a:xfrm>
            <a:off x="1295280" y="1143000"/>
            <a:ext cx="6400800" cy="478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5943600"/>
            <a:ext cx="830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  <a:ea typeface="Arial"/>
              </a:rPr>
              <a:t>С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  <a:ea typeface="Arial"/>
              </a:rPr>
              <a:t>Ладанов, 2004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  <a:ea typeface="Arial"/>
              </a:rPr>
              <a:t>Соловецкий монастырь в лучах заката. Святое озеро. Отражение. Вечер. http://ladanov.nm.ru/index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D5BDD-CC96-4086-8D16-F68F4C1B44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Экономические функции домохозяйст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треблять товары и услуги, произведенные предприятиям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изводить товары и услуги для собственного потребления или продажи на рынке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спроизводить и формировать человеческий капитал и поставлять труд на рынок факторов производ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6992-0D2C-4BA4-AA20-3E4B2ADBAF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охозяйство-потребите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отребление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sumption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использование товаров и услуг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удовлетворения индивидуальных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коллективных потре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отребительские товар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sumer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oods)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товары, которые непосредственно удовлетворяют потребности человек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полностью уничтожаются в процессе потребл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DE74A-5B68-4C41-BE85-437A25D835C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редметы потребл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о характеру удовлетворяемых потребносте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дукты питания, одежда и обувь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илье, вода, электричество, газ и другое топливо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бель, предметы домашней обстановк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утвари, ремонт жилья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анспортные услуги; услуги в сфере здравоохранения, образования, культуры, связи и т.д.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EC48B-3204-43B0-8D0E-31A877BC42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05:53:52Z</dcterms:created>
  <dc:creator/>
  <dc:description/>
  <dc:language>en-US</dc:language>
  <cp:lastModifiedBy>akireyev</cp:lastModifiedBy>
  <dcterms:modified xsi:type="dcterms:W3CDTF">2007-06-07T21:36:54Z</dcterms:modified>
  <cp:revision>31</cp:revision>
  <dc:subject/>
  <dc:title>Глава 2. Экономика домохозяйства</dc:title>
</cp:coreProperties>
</file>