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2.jpeg" ContentType="image/jpeg"/>
  <Override PartName="/ppt/media/image40.png" ContentType="image/png"/>
  <Override PartName="/ppt/media/image42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2BDF-E403-4D14-A8E7-F80F055E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8D06-0008-4482-8181-783BB81B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A677-8D1B-4C10-8906-8E5EE3D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0A51-5F04-41CA-8F9A-C6342E5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074DB-A409-445D-BFA7-1AC6A35C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DCF82-D57C-4D7C-B9BA-20720E4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1178-2F83-46E9-AEE9-BDE24C2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30DC1-1AD4-461F-A921-33F10916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D7C0A-EBD7-4CEA-A9CA-538831C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C808F-5E53-497C-8AA1-9A664287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45753-761B-4466-A8EE-E3A5CF1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755B-2306-413F-878F-494AB09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6C463-85A3-4877-9CA5-A7A07C7C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90A66-B397-42C3-9FD7-3A304C1B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24E7-656F-4873-91BA-AA9181A3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47FA6-025D-4349-9F5A-8F8C935B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EB2A-EFAE-45D2-9F20-C87D553F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4406A2-C4C7-495D-A71D-07A11EEC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654F1-AB71-4CDC-BE46-347912D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97350-B606-4B6E-A48B-5760ACE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F4D13-9158-4809-8402-1BE04A0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B2831-D405-41FE-8BFD-C2B51B2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FFCE-62FC-4B7F-9C85-F3685293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0E2AA-D72B-43F0-B621-8FD05132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ECA85-6826-4417-B9FF-D69C181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C6B54-BEE0-4318-AC97-9C7661B8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6863C-B03E-4A71-9D3E-6C63C8C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AD731-CAAD-4F2A-9F8D-5B2B7345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33B07-4293-4BD6-AB1A-41F34F38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941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930760" y="45684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16941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2930760" y="3441960"/>
            <a:ext cx="1177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4D20B-F094-47AA-9135-5BD0CC2A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8777-4BF3-4C5E-AAF5-38B1899C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452F-EF02-4BA6-B4C3-83A54A2B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876560" y="6845040"/>
            <a:ext cx="28191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5E82-B479-4FCE-861E-77E1B940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00DA-0E5C-402A-848B-E75F7C1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31720" y="344196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8D3B-3DA7-4E60-BFD4-223E9A3B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331720" y="456840"/>
            <a:ext cx="1784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41960"/>
            <a:ext cx="3657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36B6-AEFF-4BA8-8C42-62FB97C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92A-2943-41F8-9896-E930CEF4EDC6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87656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487512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sphere2.png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sphere1.png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5827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415200" y="640044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A4EA-00AC-47C2-965F-5566C71F5DD5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5812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sphere1.png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9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7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6000"/>
          </a:bodyPr>
          <a:p>
            <a:pPr marL="15696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352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048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66744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824400" indent="-15696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824400" indent="-156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9520" y="6426360"/>
            <a:ext cx="2819160" cy="1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8"/>
          </p:nvPr>
        </p:nvSpPr>
        <p:spPr>
          <a:xfrm>
            <a:off x="411624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5CFE-44EA-4623-9E5C-94ABE4B45A6C}" type="slidenum">
              <a:rPr b="0" lang="ru-RU" sz="10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9"/>
          </p:nvPr>
        </p:nvSpPr>
        <p:spPr>
          <a:xfrm>
            <a:off x="838080" y="6295680"/>
            <a:ext cx="2820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66974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Bookman Old Style"/>
              </a:rPr>
              <a:t>Препараты, улучшающие мозговое кровообращ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844640"/>
            <a:ext cx="84362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600" spc="-1" strike="noStrike">
                <a:solidFill>
                  <a:srgbClr val="660066"/>
                </a:solidFill>
                <a:latin typeface="Bookman Old Style"/>
              </a:rPr>
              <a:t>Нимото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аблетки по 0.03 (по 2-3 раза в день); фл. 0.02%-50 м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Нимодипин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Bookman Old Style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Bookman Old Style"/>
              </a:rPr>
              <a:t>Nimodipine</a:t>
            </a:r>
            <a:r>
              <a:rPr b="0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025" descr=""/>
          <p:cNvPicPr/>
          <p:nvPr/>
        </p:nvPicPr>
        <p:blipFill>
          <a:blip r:embed="rId1"/>
          <a:stretch/>
        </p:blipFill>
        <p:spPr>
          <a:xfrm>
            <a:off x="6156360" y="5276880"/>
            <a:ext cx="2303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2133360"/>
            <a:ext cx="8642160" cy="35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Синонимы: </a:t>
            </a:r>
            <a:r>
              <a:rPr b="1" lang="ru-RU" sz="3000" spc="-1" strike="noStrike">
                <a:solidFill>
                  <a:srgbClr val="660066"/>
                </a:solidFill>
                <a:latin typeface="Bookman Old Style"/>
              </a:rPr>
              <a:t>Стугеро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таблетки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2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табл. 3 раза, после еды); капсулы по </a:t>
            </a: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0.075</a:t>
            </a:r>
            <a:r>
              <a:rPr b="0" lang="ru-RU" sz="3000" spc="-1" strike="noStrike">
                <a:solidFill>
                  <a:srgbClr val="000000"/>
                </a:solidFill>
                <a:latin typeface="Bookman Old Style"/>
              </a:rPr>
              <a:t> (по 1 капсуле 1 ра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Bookman Old Style"/>
              </a:rPr>
              <a:t>Комб. препарат: Фезам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0a0"/>
                </a:solidFill>
                <a:latin typeface="Bookman Old Style"/>
              </a:rPr>
              <a:t>уменьшает психическую заторможенность, депрессию, ипохондрию, эмоциональную лабильност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Bookman Old Style"/>
              </a:rPr>
              <a:t>Циннаризин</a:t>
            </a:r>
            <a:br>
              <a:rPr sz="5400"/>
            </a:br>
            <a:r>
              <a:rPr b="1" i="1" lang="en-US" sz="5400" spc="-1" strike="noStrike">
                <a:solidFill>
                  <a:srgbClr val="002060"/>
                </a:solidFill>
                <a:latin typeface="Bookman Old Style"/>
              </a:rPr>
              <a:t>Cinnarizinum</a:t>
            </a:r>
            <a:r>
              <a:rPr b="0" lang="ru-RU" sz="40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024" descr="Циннаризин, тбл 25мг №50"/>
          <p:cNvPicPr/>
          <p:nvPr/>
        </p:nvPicPr>
        <p:blipFill>
          <a:blip r:embed="rId1"/>
          <a:stretch/>
        </p:blipFill>
        <p:spPr>
          <a:xfrm>
            <a:off x="7148520" y="692280"/>
            <a:ext cx="153036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28" descr="Стугерон, тбл 25мг №50"/>
          <p:cNvPicPr/>
          <p:nvPr/>
        </p:nvPicPr>
        <p:blipFill>
          <a:blip r:embed="rId2"/>
          <a:stretch/>
        </p:blipFill>
        <p:spPr>
          <a:xfrm>
            <a:off x="108000" y="5661000"/>
            <a:ext cx="160956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3"/>
          <a:stretch/>
        </p:blipFill>
        <p:spPr>
          <a:xfrm>
            <a:off x="7020000" y="393372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835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производное алкалоида ЛРС барви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Синонимы: Винпоцетин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орма выпуска: 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таблетки по </a:t>
            </a:r>
            <a:r>
              <a:rPr b="0" lang="en-US" sz="3200" spc="-1" strike="noStrike">
                <a:solidFill>
                  <a:srgbClr val="0070c0"/>
                </a:solidFill>
                <a:latin typeface="Bookman Old Style"/>
              </a:rPr>
              <a:t>0.005</a:t>
            </a:r>
            <a:r>
              <a:rPr b="0" lang="ru-RU" sz="3200" spc="-1" strike="noStrike">
                <a:solidFill>
                  <a:srgbClr val="0070c0"/>
                </a:solidFill>
                <a:latin typeface="Bookman Old Style"/>
              </a:rPr>
              <a:t> (по 1 табл. 3 раза в день, после еды); амп. 0.5%-2 мл (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Комб.преп: Винпотропил (+пирацет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410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Кавинтон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Bookman Old Style"/>
              </a:rPr>
              <a:t>Cavintonum</a:t>
            </a: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4" descr="Кавинтон, тбл 5мг №50"/>
          <p:cNvPicPr/>
          <p:nvPr/>
        </p:nvPicPr>
        <p:blipFill>
          <a:blip r:embed="rId1"/>
          <a:stretch/>
        </p:blipFill>
        <p:spPr>
          <a:xfrm>
            <a:off x="6227640" y="4832280"/>
            <a:ext cx="2157480" cy="170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25" descr="Кавинтон, р-р д/инъ 10мг 2мл №10"/>
          <p:cNvPicPr/>
          <p:nvPr/>
        </p:nvPicPr>
        <p:blipFill>
          <a:blip r:embed="rId2"/>
          <a:stretch/>
        </p:blipFill>
        <p:spPr>
          <a:xfrm>
            <a:off x="3203640" y="5011560"/>
            <a:ext cx="2233440" cy="155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26" descr="Винпоцетин, тбл 5мг №50"/>
          <p:cNvPicPr/>
          <p:nvPr/>
        </p:nvPicPr>
        <p:blipFill>
          <a:blip r:embed="rId3"/>
          <a:stretch/>
        </p:blipFill>
        <p:spPr>
          <a:xfrm>
            <a:off x="179280" y="5145120"/>
            <a:ext cx="165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000" y="549360"/>
            <a:ext cx="74883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Ноотропные препар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Bookman Old Style"/>
              </a:rPr>
              <a:t>препараты, избирательно стимулирующие функции головного мозга и повышающие энергетический потенциал организм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7650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75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Bookman Old Style"/>
              </a:rPr>
              <a:t>Эффекты действия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скоряют процессы обуче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улучшают память и умственную деятельнос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вышают устойчивость мозга к воздействию гипоксии, травмы, интоксикации и т. д.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легчают процессы межполушарной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457200"/>
            <a:ext cx="807552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у здоровых людей ноотропный эффект выражен слабо, почти не проявляет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ри хроническом утомлении, астении, у детей с проблемами обучения или дефектами развития, а также у пожилых пациентов отчетливо улучшается интеллектуальн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могут назначать с профилактической целью здоровым людям, находящимся в неблагоприятных условиях (недостаток кислорода, высокие температуры и другие) для защиты мозга и поддержания умственной работоспособ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628280"/>
            <a:ext cx="8883720" cy="36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Bookman Old Style"/>
              </a:rPr>
              <a:t>Синоним: ноотропил, луц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. выпуска: ампулы 200 мг. - 5 мл. № 10 (в/м, в/в); таблетки 200 мг. № 60, капсулы 400 мг., 800 мг № 30, 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826480" cy="227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234324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3"/>
          <a:stretch/>
        </p:blipFill>
        <p:spPr>
          <a:xfrm>
            <a:off x="6673680" y="836640"/>
            <a:ext cx="160992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4"/>
          <a:stretch/>
        </p:blipFill>
        <p:spPr>
          <a:xfrm>
            <a:off x="1476360" y="4797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57200"/>
            <a:ext cx="7786800" cy="58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иками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Picamilonum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МНН: Никотиноил гамма-аминомасляная кисло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Форма выпуск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таблетки 10; 20; 50 мг № 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раствор для инъекций 10 % - 2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cc"/>
                </a:solidFill>
                <a:latin typeface="Bookman Old Style"/>
              </a:rPr>
              <a:t>Показания к применению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стения; депрессия; алкоголизм (период абстиненции), острая интоксикация алкоголем; ЧМ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164360" y="2852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722304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457200"/>
            <a:ext cx="7931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876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00000"/>
                </a:solidFill>
                <a:latin typeface="Bookman Old Style"/>
              </a:rPr>
              <a:t>Кортексин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Ф. в.: Лиофилизат для приготовления раствора 10 мг. № 10 (в/м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Bookman Old Style"/>
              </a:rPr>
              <a:t>комплекс полипептидных фракций, выделенных из коры головного мозга крупного рогатого скота или свиней не старше 12-месяч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эпилеп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задержка психомоторного и речевого развития у дет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зличные формы ДЦ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54440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457200"/>
            <a:ext cx="814716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Энцефабо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Действующее вещество: Пиритин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Форма выпуска: таблетки 100 мг. № 50, суспензия/внутрь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Bookman Old Style"/>
              </a:rPr>
              <a:t>Первичная дегенеративная деменция, сосудистая деменция и смешанные формы. Задержка психического развития, цереброастенический синдром у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580000" y="5157720"/>
            <a:ext cx="2448000" cy="1428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213000"/>
            <a:ext cx="8523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1. Классификация препаратов, улучшающие мозговое кровообращ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2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Bookman Old Style"/>
              </a:rPr>
              <a:t>План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735600" y="2852640"/>
            <a:ext cx="2036880" cy="1135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6840" y="476280"/>
            <a:ext cx="8147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антог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иноним: Гопантеновая кислота, Пантокаль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Форма выпуска: таблетки 250 мг. № 50, сироп 10% - 100 м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Bookman Old Style"/>
              </a:rPr>
              <a:t>Курс лечения 1- 6 мес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эпилепсии (в комбинации с противосудорожными средствами) При тиках детя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Bookman Old Style"/>
              </a:rPr>
              <a:t>При нарушениях мочеиспуск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308720" y="76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6840" y="549000"/>
            <a:ext cx="793116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Мексидол (Mexidolu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Bookman Old Style"/>
              </a:rPr>
              <a:t>Форма выпус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аствор для инъекций 5% - 2, 5 мл № 5, 10 в ампу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таблетки 125 мг. № 30, 5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Bookman Old Style"/>
              </a:rPr>
              <a:t>Обладает антиоксидантным действ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4932360" y="5084640"/>
            <a:ext cx="2295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7413480" y="836640"/>
            <a:ext cx="1505160" cy="14288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6840" y="476280"/>
            <a:ext cx="7931160" cy="569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Церебролизин (</a:t>
            </a:r>
            <a:r>
              <a:rPr b="1" lang="en-US" sz="3600" spc="-1" strike="noStrike">
                <a:solidFill>
                  <a:srgbClr val="c00000"/>
                </a:solidFill>
                <a:latin typeface="Bookman Old Style"/>
              </a:rPr>
              <a:t>Cerebrolysin</a:t>
            </a: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Синоним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Форма выпуска: раствор для инъекций в ампулах по 1, 5 и 10 мл, № 5, 1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чищенный гидролизат гол. мозга свинь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лечение дем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ускоряет рост нервных клеток, активирует обмен веществ в головном мозге, стимулирует образование новых кровеносных сосудов и восстановление сосудов в ишемизированных тканях, улучшает настро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7229520" y="2708280"/>
            <a:ext cx="1487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c00000"/>
                </a:solidFill>
                <a:latin typeface="Bookman Old Style"/>
              </a:rPr>
              <a:t>Семакс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Ф.в.: Капли назальные 0.1%, 1% - 3 м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влияет на процессы, связанные с формированием памяти и обучение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7030a0"/>
                </a:solidFill>
                <a:latin typeface="Bookman Old Style"/>
              </a:rPr>
              <a:t>улучшает адаптацию организма к гипоксии, церебральной ишемии, наркозу и другим повреждающим воздействия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применяют интраназально, 2-3 капли в каждый носовой ход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ежедневно в течение 3-5 дней, при необходимости продлевают до 14 дн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236000" y="12081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6840" y="549000"/>
            <a:ext cx="8002440" cy="56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Фенотропи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орма выпуска: таблетки 100 мг. № 1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епрессия легкой и средней степени тяже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судорожные состояния; ожир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для повышения умственной и физической работоспосо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хронический алкоголиз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Курс лечения: 2 нед. до 3 м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Для повышения работоспособности — 100–200 мг однократно утром сразу после еды, в течение 2 нед. (для спортсменов — 3 дня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Не рекомендуется принимать Фенотропил позднее 15 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280" y="404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Танака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двулопастного листьев экстра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Ф. в.: Раствор для приема внутрь 30 мл, таблетки 40 мг № 30,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еремежающаяся хромота при хронических облитерирующих артериопатиях нижних конеч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зрения сосудистого генез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рушения слуха, звон в ушах, головокружение и расстройства координации преимущественно сосудистого гене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Способ применения: внутрь, во время еды. По 1 табл. или 1 мл раствора 3 раза в день. Раствор растворить в 1/2 стакана во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451640" y="27147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42920"/>
            <a:ext cx="8820000" cy="602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епараты, содержащ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ГИНКГО БИЛОБ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ОС (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GINOS)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аблетки п/о 40 мг № 30, 9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БИЛОБИЛ</a:t>
            </a:r>
            <a:r>
              <a:rPr b="1" lang="en-US" sz="2400" spc="-1" strike="noStrike">
                <a:solidFill>
                  <a:srgbClr val="00b0f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Bookman Old Style"/>
              </a:rPr>
              <a:t>капсулы 40 мг №  20, 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00cc"/>
                </a:solidFill>
                <a:latin typeface="Bookman Old Style"/>
              </a:rPr>
              <a:t>БИЛОБИЛ ФОРТЕ капсулы 80 мг № 2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МЕМОПЛАНТ таблетки п/о 40, 80, 120 мг. № 20, 30, 40, 50, 60,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ГИНКГО БИЛОБА таблетки п/о  40 мг. № 20, 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ГИНКОУМ капсулы 40 мг. № 30, 6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ВИТРУМ МЕМОРИ таблетки п/о 60 мг. № 60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http://go4.imgsmail.ru/imgpreview?key=http%3A//pharm-market.ru/Storage/Resized/w%5F170/2550.jpg&amp;mb=imgdb_preview_108"/>
          <p:cNvPicPr/>
          <p:nvPr/>
        </p:nvPicPr>
        <p:blipFill>
          <a:blip r:embed="rId1"/>
          <a:stretch/>
        </p:blipFill>
        <p:spPr>
          <a:xfrm>
            <a:off x="5643720" y="5238720"/>
            <a:ext cx="1618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08000" y="2708280"/>
            <a:ext cx="874080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комбинированный препара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драже и таблетки № 60 (по 1 табл. 3 раза в день); амп.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ронародилатирующее, аналептическое, стимулирующее метаболизм мозга и миокар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8826480" cy="23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24" descr="ИНСТЕНОН (INSTENON) |  ВИДАЛЬ. Лекарственные препараты в России"/>
          <p:cNvPicPr/>
          <p:nvPr/>
        </p:nvPicPr>
        <p:blipFill>
          <a:blip r:embed="rId2"/>
          <a:stretch/>
        </p:blipFill>
        <p:spPr>
          <a:xfrm>
            <a:off x="7020000" y="5599080"/>
            <a:ext cx="172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4920" y="1916280"/>
            <a:ext cx="8435880" cy="39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45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384120" y="328680"/>
            <a:ext cx="8040600" cy="555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329580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457200"/>
            <a:ext cx="8329680" cy="57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00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Бетасер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иноним: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Бетагистин, Вестибо, Бетавер, Бетацет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орма выпуска: таблетки 8, 16, 24 мг.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http://go2.imgsmail.ru/imgpreview?key=http%3A//betaserc.ru/img/betaserc.jpg&amp;mb=imgdb_preview_126"/>
          <p:cNvPicPr/>
          <p:nvPr/>
        </p:nvPicPr>
        <p:blipFill>
          <a:blip r:embed="rId1"/>
          <a:stretch/>
        </p:blipFill>
        <p:spPr>
          <a:xfrm>
            <a:off x="5786280" y="4500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go3.imgsmail.ru/imgpreview?key=http%3A//aloe39.ru/sites/aloe39.ru/files/files/betaserk%5F24mg%5Fno60zh.jpg&amp;mb=imgdb_preview_74"/>
          <p:cNvPicPr/>
          <p:nvPr/>
        </p:nvPicPr>
        <p:blipFill>
          <a:blip r:embed="rId2"/>
          <a:stretch/>
        </p:blipFill>
        <p:spPr>
          <a:xfrm>
            <a:off x="428760" y="642960"/>
            <a:ext cx="20858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71520" y="765000"/>
            <a:ext cx="874080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Цереброваскулярные препараты –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репараты, избирательно влияющие на сосуды головного мозга, расширяют их, улучшают снабжение мозга кислород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принимают длительными курсами, до 3-4 месяц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Bookman Old Style"/>
              </a:rPr>
              <a:t>обычно проводят 2-3 курса в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6840" y="457200"/>
            <a:ext cx="8186760" cy="61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13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Bookman Old Style"/>
              </a:rPr>
              <a:t>Когиту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Ф.в.: ампулы 10 м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Для взрослых: 3 ампулы в сут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етям с 7 лет </a:t>
            </a: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- 1 ампула в су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http://go2.imgsmail.ru/imgpreview?key=http%3A//i2.otzovik.com/product/2011/02/22121.png&amp;mb=imgdb_preview_113"/>
          <p:cNvPicPr/>
          <p:nvPr/>
        </p:nvPicPr>
        <p:blipFill>
          <a:blip r:embed="rId1"/>
          <a:stretch/>
        </p:blipFill>
        <p:spPr>
          <a:xfrm>
            <a:off x="5286240" y="40464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457200"/>
            <a:ext cx="804384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Bookman Old Style"/>
              </a:rPr>
              <a:t>Актовеги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олучают из крови теля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Ф.в.: драже 0,2 № 30,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Bookman Old Style"/>
              </a:rPr>
              <a:t>Ампулы 2, 5, 10 мл (в/м, в/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Антигипоксический эффект – 30 м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Calibri"/>
              </a:rPr>
              <a:t>Улучшают мозговое, переферическое кровообращ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http://go4.imgsmail.ru/imgpreview?key=http%3A//ladiessecrets.ru/uploads/posts/2011-06/1308942067%5Factovegin%5Fpregnancy.jpg&amp;mb=imgdb_preview_56"/>
          <p:cNvPicPr/>
          <p:nvPr/>
        </p:nvPicPr>
        <p:blipFill>
          <a:blip r:embed="rId1"/>
          <a:stretch/>
        </p:blipFill>
        <p:spPr>
          <a:xfrm>
            <a:off x="6281640" y="285840"/>
            <a:ext cx="23004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915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Bookman Old Style"/>
              </a:rPr>
              <a:t>Никотиновая кислота и ее производны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50920" y="1773000"/>
            <a:ext cx="87408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80000"/>
              </a:lnSpc>
              <a:spcBef>
                <a:spcPts val="901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Форма выпуска: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таблетки 0,15 (по 1 табл. 3 раза, после еды); амп. 15% по 2 мл (в/в, в/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Bookman Old Style"/>
              </a:rPr>
              <a:t>артериальные тромбозы, ретинопатия, трофические язвы нижних конечностей, атеросклеротические нарушения мозгового кровообращения, мигрени, синдром Меньера, дерматозы, острый тромбофлебит поверхностных и глубоких в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171360" y="450720"/>
            <a:ext cx="7656480" cy="212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173480" y="5084640"/>
            <a:ext cx="2062080" cy="1625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971640" y="5145120"/>
            <a:ext cx="2232000" cy="16383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5" descr=""/>
          <p:cNvPicPr/>
          <p:nvPr/>
        </p:nvPicPr>
        <p:blipFill>
          <a:blip r:embed="rId4"/>
          <a:stretch/>
        </p:blipFill>
        <p:spPr>
          <a:xfrm>
            <a:off x="6588000" y="5013360"/>
            <a:ext cx="20894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6840" y="457200"/>
            <a:ext cx="8147160" cy="60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Bookman Old Style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 учебником стр. 524-56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Работа со справочной литературой, интернет ресурс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Подготовка реферативных работ по теме: 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Атеросклероз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«Причины и профилактика развития атеросклероз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692280"/>
            <a:ext cx="7786800" cy="547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Эффекты действ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проникновения глюкозы в нервные кле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я мозгового кровот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лучшение памяти и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Ускорение восстановления после инсульта, травм или других поражений головного моз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Восстанавливают метаболические процессы в ткани мозг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280" y="476280"/>
            <a:ext cx="7488360" cy="607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Показания к применению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О. нарушения МКО (инсуль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Черепно-мозговая травма и ее последств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Хр. нарушение кровообращения в головном мозге (атеросклероз сосудов гол. мозг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Дисциркуляторная энцефалопатия — (медленно прогрессирующая недостаточность кровоснабжения мозга, приводящая к структурным изменениям с нарушением мозговых функций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Артериальная гипертенз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Вегето-сосудистая дистония, мигрен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Bookman Old Style"/>
              </a:rPr>
              <a:t>Переутом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0920" y="1341360"/>
            <a:ext cx="838044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. антагонисты ионов каль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2. психостимуляторы (кофе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3. ноотропны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4. никотиновая кислота и ее препар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5. спазмолитики миотропного 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6. антиагрегационные сре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7. альфа-адреноблока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7408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man Old Style"/>
              </a:rPr>
              <a:t>КЛАССИФИКАЦИЯ цереброваскулярных ПРЕПАРА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4" descr=""/>
          <p:cNvPicPr/>
          <p:nvPr/>
        </p:nvPicPr>
        <p:blipFill>
          <a:blip r:embed="rId1"/>
          <a:stretch/>
        </p:blipFill>
        <p:spPr>
          <a:xfrm>
            <a:off x="317520" y="987480"/>
            <a:ext cx="8667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72356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208080" y="450720"/>
            <a:ext cx="7497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01:14Z</dcterms:created>
  <dc:creator>Аптека</dc:creator>
  <dc:description/>
  <dc:language>en-US</dc:language>
  <cp:lastModifiedBy>Admin3</cp:lastModifiedBy>
  <dcterms:modified xsi:type="dcterms:W3CDTF">2013-01-31T12:18:03Z</dcterms:modified>
  <cp:revision>102</cp:revision>
  <dc:subject/>
  <dc:title>Лекция 19. </dc:title>
</cp:coreProperties>
</file>