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8.jpeg" ContentType="image/jpeg"/>
  <Override PartName="/ppt/media/image5.png" ContentType="image/png"/>
  <Override PartName="/ppt/media/image35.jpeg" ContentType="image/jpeg"/>
  <Override PartName="/ppt/media/image13.png" ContentType="image/png"/>
  <Override PartName="/ppt/media/image37.jpeg" ContentType="image/jpeg"/>
  <Override PartName="/ppt/media/image30.jpeg" ContentType="image/jpeg"/>
  <Override PartName="/ppt/media/image32.jpeg" ContentType="image/jpeg"/>
  <Override PartName="/ppt/media/image40.png" ContentType="image/png"/>
  <Override PartName="/ppt/media/image42.png" ContentType="image/png"/>
  <Override PartName="/ppt/media/image38.jpeg" ContentType="image/jpeg"/>
  <Override PartName="/ppt/media/image28.png" ContentType="image/png"/>
  <Override PartName="/ppt/media/image7.jpeg" ContentType="image/jpeg"/>
  <Override PartName="/ppt/media/image18.png" ContentType="image/png"/>
  <Override PartName="/ppt/media/image36.jpeg" ContentType="image/jpeg"/>
  <Override PartName="/ppt/media/image20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7579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DFBCB-DC9E-4464-A092-811BA3ED2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3E20E-F54E-4BCE-B31A-4A29BF7D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64ACF-3214-44F5-9925-0AB67C357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6941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9307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6941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29307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653F1-CF08-4765-B984-2E93620D0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E663D-44D0-4855-A188-E841B7E4F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B233E6-4292-460F-8358-53A1CFA7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06443-1FE7-43E4-A2C1-C6E0AF8E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A30BA-F6C3-4A59-B515-C22DEA13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AEDCF-C4D0-4246-83F9-D9051C6B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876560" y="6845040"/>
            <a:ext cx="28191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C27C6-7DCD-4DBA-B859-74A1E442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A1F275-7699-4384-A2B4-FFB305ED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49780-1240-46AD-B960-DC108A78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DE188-3F4B-4F2E-9AEC-EB27CFAD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D1EFAE-3ECB-44BC-B4DF-8478AEC0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A8331-5E8B-4E9C-A0D6-5EAD666F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D496DE-C7B2-440C-811C-9F2A05BE9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6941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9307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16941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29307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F86518-9956-4D1B-88BE-2CE6C18EC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B6AC46-607F-4CB6-877B-09D5511FB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CAA752-0424-47EB-A36C-CED73AA9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960B22-6EAB-4578-9702-7A57C4F2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509A78-99C2-4A33-96D1-73BE3A3D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6B09CA-4FDA-4461-95FA-D2BF5564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877D0-5BC6-439A-B0FD-20791576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876560" y="6845040"/>
            <a:ext cx="28191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FD3830-DB58-4B3B-9800-793E3760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A508D1-A717-4D75-A8AD-8BFAD476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216770-C104-4CC3-820D-EC90D58C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F12D7B-DB73-49A4-A97E-8398ADB6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120B6D-CD88-4701-BD48-47342618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1A2A8B-3665-4048-A3F8-7CB2D7982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6941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29307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16941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29307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B9AAC5-A838-415D-8F98-0FCE25805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56B20-F25F-4C67-92E7-50F5F67F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3666F-A9DC-4DAD-A425-C4CEB4E5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876560" y="6845040"/>
            <a:ext cx="28191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DCB3C-4D13-4C3F-877D-CA3DA38F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8AB1F-B033-40C4-BE93-E55DAAD7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7F6D4-F95F-4731-A5FD-F37BF9F2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143EA-D8B2-4D5A-947A-C7672EC6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sphere2.png"/>
          <p:cNvPicPr/>
          <p:nvPr/>
        </p:nvPicPr>
        <p:blipFill>
          <a:blip r:embed="rId2"/>
          <a:stretch/>
        </p:blipFill>
        <p:spPr>
          <a:xfrm>
            <a:off x="8823240" y="0"/>
            <a:ext cx="3207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6000"/>
          </a:bodyPr>
          <a:p>
            <a:pPr marL="156960" indent="-15696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53520" indent="-15696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0480" indent="-15696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667440" indent="-15696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824400" indent="-15696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824400" indent="-156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824400" indent="-156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772400" y="6400440"/>
            <a:ext cx="5335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E173-AC16-4A93-B443-3872C7098FD9}" type="slidenum">
              <a:rPr b="0" lang="ru-RU" sz="10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4876560" y="6426360"/>
            <a:ext cx="2819160" cy="1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4875120" y="6295680"/>
            <a:ext cx="28209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1" descr="sphere2.png"/>
          <p:cNvPicPr/>
          <p:nvPr/>
        </p:nvPicPr>
        <p:blipFill>
          <a:blip r:embed="rId2"/>
          <a:stretch/>
        </p:blipFill>
        <p:spPr>
          <a:xfrm>
            <a:off x="8823240" y="0"/>
            <a:ext cx="32076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sphere1.png"/>
          <p:cNvPicPr/>
          <p:nvPr/>
        </p:nvPicPr>
        <p:blipFill>
          <a:blip r:embed="rId3"/>
          <a:stretch/>
        </p:blipFill>
        <p:spPr>
          <a:xfrm>
            <a:off x="685008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6000"/>
          </a:bodyPr>
          <a:p>
            <a:pPr marL="156960" indent="-15696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53520" indent="-15696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0480" indent="-15696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667440" indent="-15696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824400" indent="-15696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824400" indent="-156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824400" indent="-156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582720" y="6426360"/>
            <a:ext cx="2819160" cy="1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415200" y="6400440"/>
            <a:ext cx="4572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4804-D1E7-4D16-93F8-3567026FB74F}" type="slidenum">
              <a:rPr b="0" lang="ru-RU" sz="10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3581280" y="6295680"/>
            <a:ext cx="28209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sphere1.png"/>
          <p:cNvPicPr/>
          <p:nvPr/>
        </p:nvPicPr>
        <p:blipFill>
          <a:blip r:embed="rId2"/>
          <a:stretch/>
        </p:blipFill>
        <p:spPr>
          <a:xfrm>
            <a:off x="685800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6000"/>
          </a:bodyPr>
          <a:p>
            <a:pPr marL="156960" indent="-15696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53520" indent="-15696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0480" indent="-15696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667440" indent="-15696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824400" indent="-15696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824400" indent="-156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824400" indent="-156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839520" y="6426360"/>
            <a:ext cx="2819160" cy="1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8"/>
          </p:nvPr>
        </p:nvSpPr>
        <p:spPr>
          <a:xfrm>
            <a:off x="4116240" y="6400440"/>
            <a:ext cx="5335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F7E5-0118-4BAA-BAA1-78ED3F849EF5}" type="slidenum">
              <a:rPr b="0" lang="ru-RU" sz="10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9"/>
          </p:nvPr>
        </p:nvSpPr>
        <p:spPr>
          <a:xfrm>
            <a:off x="838080" y="6295680"/>
            <a:ext cx="28209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920" y="2204640"/>
            <a:ext cx="669744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Bookman Old Style"/>
              </a:rPr>
              <a:t>Препараты, улучшающие мозговое кровообращ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79280" y="1844640"/>
            <a:ext cx="8436240" cy="44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Синонимы: </a:t>
            </a:r>
            <a:r>
              <a:rPr b="1" lang="ru-RU" sz="3600" spc="-1" strike="noStrike">
                <a:solidFill>
                  <a:srgbClr val="660066"/>
                </a:solidFill>
                <a:latin typeface="Bookman Old Style"/>
              </a:rPr>
              <a:t>Нимото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901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Форма выпуска: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аблетки по 0.03 (по 2-3 раза в день); фл. 0.02%-50 мл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Bookman Old Style"/>
              </a:rPr>
              <a:t>Нимодипин</a:t>
            </a:r>
            <a:r>
              <a:rPr b="1" lang="ru-RU" sz="4000" spc="-1" strike="noStrike" u="sng">
                <a:solidFill>
                  <a:srgbClr val="c00000"/>
                </a:solidFill>
                <a:uFillTx/>
                <a:latin typeface="Bookman Old Style"/>
              </a:rPr>
              <a:t> </a:t>
            </a:r>
            <a:br>
              <a:rPr sz="4000"/>
            </a:br>
            <a:r>
              <a:rPr b="1" i="1" lang="en-US" sz="4000" spc="-1" strike="noStrike">
                <a:solidFill>
                  <a:srgbClr val="c00000"/>
                </a:solidFill>
                <a:latin typeface="Bookman Old Style"/>
              </a:rPr>
              <a:t>Nimodipine</a:t>
            </a:r>
            <a:r>
              <a:rPr b="0" lang="ru-RU" sz="4000" spc="-1" strike="noStrike">
                <a:solidFill>
                  <a:srgbClr val="c00000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1025" descr=""/>
          <p:cNvPicPr/>
          <p:nvPr/>
        </p:nvPicPr>
        <p:blipFill>
          <a:blip r:embed="rId1"/>
          <a:stretch/>
        </p:blipFill>
        <p:spPr>
          <a:xfrm>
            <a:off x="6156360" y="5276880"/>
            <a:ext cx="230328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250920" y="2133360"/>
            <a:ext cx="8642160" cy="35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70000"/>
              </a:lnSpc>
              <a:spcBef>
                <a:spcPts val="751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Bookman Old Style"/>
              </a:rPr>
              <a:t>Синонимы: </a:t>
            </a:r>
            <a:r>
              <a:rPr b="1" lang="ru-RU" sz="3000" spc="-1" strike="noStrike">
                <a:solidFill>
                  <a:srgbClr val="660066"/>
                </a:solidFill>
                <a:latin typeface="Bookman Old Style"/>
              </a:rPr>
              <a:t>Стугеро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70000"/>
              </a:lnSpc>
              <a:spcBef>
                <a:spcPts val="751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Bookman Old Style"/>
              </a:rPr>
              <a:t>Форма выпуска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Bookman Old Style"/>
              </a:rPr>
              <a:t>таблетки по </a:t>
            </a: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0.025</a:t>
            </a:r>
            <a:r>
              <a:rPr b="0" lang="ru-RU" sz="3000" spc="-1" strike="noStrike">
                <a:solidFill>
                  <a:srgbClr val="000000"/>
                </a:solidFill>
                <a:latin typeface="Bookman Old Style"/>
              </a:rPr>
              <a:t> (по 1 табл. 3 раза, после еды); капсулы по </a:t>
            </a: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0.075</a:t>
            </a:r>
            <a:r>
              <a:rPr b="0" lang="ru-RU" sz="3000" spc="-1" strike="noStrike">
                <a:solidFill>
                  <a:srgbClr val="000000"/>
                </a:solidFill>
                <a:latin typeface="Bookman Old Style"/>
              </a:rPr>
              <a:t> (по 1 капсуле 1 раз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Bookman Old Style"/>
              </a:rPr>
              <a:t>Комб. препарат: Фезам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030a0"/>
                </a:solidFill>
                <a:latin typeface="Bookman Old Style"/>
              </a:rPr>
              <a:t>уменьшает психическую заторможенность, депрессию, ипохондрию, эмоциональную лабильность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Bookman Old Style"/>
              </a:rPr>
              <a:t>Циннаризин</a:t>
            </a:r>
            <a:br>
              <a:rPr sz="5400"/>
            </a:br>
            <a:r>
              <a:rPr b="1" i="1" lang="en-US" sz="5400" spc="-1" strike="noStrike">
                <a:solidFill>
                  <a:srgbClr val="002060"/>
                </a:solidFill>
                <a:latin typeface="Bookman Old Style"/>
              </a:rPr>
              <a:t>Cinnarizinum</a:t>
            </a:r>
            <a:r>
              <a:rPr b="0" lang="ru-RU" sz="4000" spc="-1" strike="noStrike">
                <a:solidFill>
                  <a:srgbClr val="002060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1024" descr="Циннаризин, тбл 25мг №50"/>
          <p:cNvPicPr/>
          <p:nvPr/>
        </p:nvPicPr>
        <p:blipFill>
          <a:blip r:embed="rId1"/>
          <a:stretch/>
        </p:blipFill>
        <p:spPr>
          <a:xfrm>
            <a:off x="7148520" y="692280"/>
            <a:ext cx="1530360" cy="990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28" descr="Стугерон, тбл 25мг №50"/>
          <p:cNvPicPr/>
          <p:nvPr/>
        </p:nvPicPr>
        <p:blipFill>
          <a:blip r:embed="rId2"/>
          <a:stretch/>
        </p:blipFill>
        <p:spPr>
          <a:xfrm>
            <a:off x="108000" y="5661000"/>
            <a:ext cx="1609560" cy="1000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3"/>
          <a:stretch/>
        </p:blipFill>
        <p:spPr>
          <a:xfrm>
            <a:off x="7020000" y="3933720"/>
            <a:ext cx="17143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94920" y="1835280"/>
            <a:ext cx="8435880" cy="39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Bookman Old Style"/>
              </a:rPr>
              <a:t>производное алкалоида ЛРС барвин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99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Синонимы: Винпоцетин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Форма выпуска: </a:t>
            </a:r>
            <a:r>
              <a:rPr b="0" lang="ru-RU" sz="3200" spc="-1" strike="noStrike">
                <a:solidFill>
                  <a:srgbClr val="0070c0"/>
                </a:solidFill>
                <a:latin typeface="Bookman Old Style"/>
              </a:rPr>
              <a:t>таблетки по </a:t>
            </a:r>
            <a:r>
              <a:rPr b="0" lang="en-US" sz="3200" spc="-1" strike="noStrike">
                <a:solidFill>
                  <a:srgbClr val="0070c0"/>
                </a:solidFill>
                <a:latin typeface="Bookman Old Style"/>
              </a:rPr>
              <a:t>0.005</a:t>
            </a:r>
            <a:r>
              <a:rPr b="0" lang="ru-RU" sz="3200" spc="-1" strike="noStrike">
                <a:solidFill>
                  <a:srgbClr val="0070c0"/>
                </a:solidFill>
                <a:latin typeface="Bookman Old Style"/>
              </a:rPr>
              <a:t> (по 1 табл. 3 раза в день, после еды); амп. 0.5%-2 мл (в/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Bookman Old Style"/>
              </a:rPr>
              <a:t>Комб.преп: Винпотропил (+пирацетам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451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64101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Bookman Old Style"/>
              </a:rPr>
              <a:t>Кавинтон</a:t>
            </a:r>
            <a:br>
              <a:rPr sz="4000"/>
            </a:br>
            <a:r>
              <a:rPr b="1" lang="en-US" sz="4000" spc="-1" strike="noStrike">
                <a:solidFill>
                  <a:srgbClr val="c00000"/>
                </a:solidFill>
                <a:latin typeface="Bookman Old Style"/>
              </a:rPr>
              <a:t>Cavintonum</a:t>
            </a:r>
            <a:r>
              <a:rPr b="1" lang="ru-RU" sz="4000" spc="-1" strike="noStrike">
                <a:solidFill>
                  <a:srgbClr val="c00000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1024" descr="Кавинтон, тбл 5мг №50"/>
          <p:cNvPicPr/>
          <p:nvPr/>
        </p:nvPicPr>
        <p:blipFill>
          <a:blip r:embed="rId1"/>
          <a:stretch/>
        </p:blipFill>
        <p:spPr>
          <a:xfrm>
            <a:off x="6227640" y="4832280"/>
            <a:ext cx="2157480" cy="1706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25" descr="Кавинтон, р-р д/инъ 10мг 2мл №10"/>
          <p:cNvPicPr/>
          <p:nvPr/>
        </p:nvPicPr>
        <p:blipFill>
          <a:blip r:embed="rId2"/>
          <a:stretch/>
        </p:blipFill>
        <p:spPr>
          <a:xfrm>
            <a:off x="3203640" y="5011560"/>
            <a:ext cx="2233440" cy="1555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26" descr="Винпоцетин, тбл 5мг №50"/>
          <p:cNvPicPr/>
          <p:nvPr/>
        </p:nvPicPr>
        <p:blipFill>
          <a:blip r:embed="rId3"/>
          <a:stretch/>
        </p:blipFill>
        <p:spPr>
          <a:xfrm>
            <a:off x="179280" y="5145120"/>
            <a:ext cx="165600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68000" y="549360"/>
            <a:ext cx="7488360" cy="52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Bookman Old Style"/>
              </a:rPr>
              <a:t>Ноотропные препар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Bookman Old Style"/>
              </a:rPr>
              <a:t>препараты, избирательно стимулирующие функции головного мозга и повышающие энергетический потенциал организма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57200" y="765000"/>
            <a:ext cx="829152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975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00000"/>
                </a:solidFill>
                <a:latin typeface="Bookman Old Style"/>
              </a:rPr>
              <a:t>Эффекты действия: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ускоряют процессы обучени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улучшают память и умственную деятельност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повышают устойчивость мозга к воздействию гипоксии, травмы, интоксикации и т. д.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облегчают процессы межполушарной передачи информ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457200"/>
            <a:ext cx="8075520" cy="578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у здоровых людей ноотропный эффект выражен слабо, почти не проявляетс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man Old Style"/>
              </a:rPr>
              <a:t>при хроническом утомлении, астении, у детей с проблемами обучения или дефектами развития, а также у пожилых пациентов отчетливо улучшается интеллектуальная деятельн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могут назначать с профилактической целью здоровым людям, находящимся в неблагоприятных условиях (недостаток кислорода, высокие температуры и другие) для защиты мозга и поддержания умственной работоспособ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07640" y="1628280"/>
            <a:ext cx="8883720" cy="366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Bookman Old Style"/>
              </a:rPr>
              <a:t>Синоним: ноотропил, луцета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99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Bookman Old Style"/>
              </a:rPr>
              <a:t>Ф. выпуска: ампулы 200 мг. - 5 мл. № 10 (в/м, в/в); таблетки 200 мг. № 60, капсулы 400 мг., 800 мг № 30, 6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Rectangle 2" descr=""/>
          <p:cNvPicPr/>
          <p:nvPr/>
        </p:nvPicPr>
        <p:blipFill>
          <a:blip r:embed="rId1"/>
          <a:stretch/>
        </p:blipFill>
        <p:spPr>
          <a:xfrm>
            <a:off x="171360" y="244440"/>
            <a:ext cx="8826480" cy="2273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5940360" y="4581360"/>
            <a:ext cx="2343240" cy="1428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3"/>
          <a:stretch/>
        </p:blipFill>
        <p:spPr>
          <a:xfrm>
            <a:off x="6673680" y="836640"/>
            <a:ext cx="1609920" cy="1428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4"/>
          <a:stretch/>
        </p:blipFill>
        <p:spPr>
          <a:xfrm>
            <a:off x="1476360" y="479736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457200"/>
            <a:ext cx="7786800" cy="58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Bookman Old Style"/>
              </a:rPr>
              <a:t>Пикамило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Bookman Old Style"/>
              </a:rPr>
              <a:t>Picamilonum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Bookman Old Style"/>
              </a:rPr>
              <a:t>МНН: Никотиноил гамма-аминомасляная кисло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00cc"/>
                </a:solidFill>
                <a:latin typeface="Bookman Old Style"/>
              </a:rPr>
              <a:t>Форма выпуска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Bookman Old Style"/>
              </a:rPr>
              <a:t>таблетки 10; 20; 50 мг № 3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Bookman Old Style"/>
              </a:rPr>
              <a:t>раствор для инъекций 10 % - 2 м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00cc"/>
                </a:solidFill>
                <a:latin typeface="Bookman Old Style"/>
              </a:rPr>
              <a:t>Показания к применению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Bookman Old Style"/>
              </a:rPr>
              <a:t>астения; депрессия; алкоголизм (период абстиненции), острая интоксикация алкоголем; ЧМТ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Bookman Old Style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7164360" y="28526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tretch/>
        </p:blipFill>
        <p:spPr>
          <a:xfrm>
            <a:off x="7223040" y="542916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56840" y="457200"/>
            <a:ext cx="7931160" cy="578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 algn="ctr">
              <a:lnSpc>
                <a:spcPct val="90000"/>
              </a:lnSpc>
              <a:spcBef>
                <a:spcPts val="876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c00000"/>
                </a:solidFill>
                <a:latin typeface="Bookman Old Style"/>
              </a:rPr>
              <a:t>Кортексин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Bookman Old Style"/>
              </a:rPr>
              <a:t>Ф. в.: Лиофилизат для приготовления раствора 10 мг. № 10 (в/м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Bookman Old Style"/>
              </a:rPr>
              <a:t>комплекс полипептидных фракций, выделенных из коры головного мозга крупного рогатого скота или свиней не старше 12-месячного возрас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man Old Style"/>
              </a:rPr>
              <a:t>Показания к применению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эпилепс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задержка психомоторного и речевого развития у дете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различные формы ДЦП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6732720" y="4941720"/>
            <a:ext cx="154440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6840" y="457200"/>
            <a:ext cx="8147160" cy="578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Bookman Old Style"/>
              </a:rPr>
              <a:t>Энцефабо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Bookman Old Style"/>
              </a:rPr>
              <a:t>Действующее вещество: Пиритино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Форма выпуска: таблетки 100 мг. № 50, суспензия/внутрь 100 м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Bookman Old Style"/>
              </a:rPr>
              <a:t>Первичная дегенеративная деменция, сосудистая деменция и смешанные формы. Задержка психического развития, цереброастенический синдром у де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5580000" y="5157720"/>
            <a:ext cx="2448000" cy="1428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"/>
          <p:cNvPicPr/>
          <p:nvPr/>
        </p:nvPicPr>
        <p:blipFill>
          <a:blip r:embed="rId2"/>
          <a:stretch/>
        </p:blipFill>
        <p:spPr>
          <a:xfrm>
            <a:off x="7020000" y="33336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68360" y="3213000"/>
            <a:ext cx="8523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40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1. Классификация препаратов, улучшающие мозговое кровообращ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2. Антагонисты ионов кальц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3. Ноотропные препар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4. Никотиновая кислота и ее препар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c00000"/>
                </a:solidFill>
                <a:latin typeface="Bookman Old Style"/>
              </a:rPr>
              <a:t>План: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6735600" y="2852640"/>
            <a:ext cx="2036880" cy="11350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456840" y="476280"/>
            <a:ext cx="8147160" cy="569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Bookman Old Style"/>
              </a:rPr>
              <a:t>Пантога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Синоним: Гопантеновая кислота, Пантокальц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Bookman Old Style"/>
              </a:rPr>
              <a:t>Форма выпуска: таблетки 250 мг. № 50, сироп 10% - 100 м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Bookman Old Style"/>
              </a:rPr>
              <a:t>Курс лечения 1- 6 мес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Bookman Old Style"/>
              </a:rPr>
              <a:t>При эпилепсии (в комбинации с противосудорожными средствами) При тиках детям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Bookman Old Style"/>
              </a:rPr>
              <a:t>При нарушениях мочеиспуск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2"/>
          <a:stretch/>
        </p:blipFill>
        <p:spPr>
          <a:xfrm>
            <a:off x="7308720" y="7650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6840" y="549000"/>
            <a:ext cx="7931160" cy="562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Bookman Old Style"/>
              </a:rPr>
              <a:t>Мексидол (Mexidolum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Bookman Old Style"/>
              </a:rPr>
              <a:t>Форма выпус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раствор для инъекций 5% - 2, 5 мл № 5, 10 в ампу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таблетки 125 мг. № 30, 50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f0"/>
                </a:solidFill>
                <a:latin typeface="Bookman Old Style"/>
              </a:rPr>
              <a:t>Обладает антиоксидантным действи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4932360" y="5084640"/>
            <a:ext cx="22953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7413480" y="836640"/>
            <a:ext cx="1505160" cy="14288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456840" y="476280"/>
            <a:ext cx="7931160" cy="569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100000"/>
              </a:lnSpc>
              <a:spcBef>
                <a:spcPts val="9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Bookman Old Style"/>
              </a:rPr>
              <a:t>Церебролизин (</a:t>
            </a:r>
            <a:r>
              <a:rPr b="1" lang="en-US" sz="3600" spc="-1" strike="noStrike">
                <a:solidFill>
                  <a:srgbClr val="c00000"/>
                </a:solidFill>
                <a:latin typeface="Bookman Old Style"/>
              </a:rPr>
              <a:t>Cerebrolysin</a:t>
            </a:r>
            <a:r>
              <a:rPr b="1" lang="ru-RU" sz="3600" spc="-1" strike="noStrike">
                <a:solidFill>
                  <a:srgbClr val="c00000"/>
                </a:solidFill>
                <a:latin typeface="Bookman Old Style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man Old Style"/>
              </a:rPr>
              <a:t>Синоним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man Old Style"/>
              </a:rPr>
              <a:t>Форма выпуска: раствор для инъекций в ампулах по 1, 5 и 10 мл, № 5, 1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man Old Style"/>
              </a:rPr>
              <a:t>очищенный гидролизат гол. мозга свинь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Bookman Old Style"/>
              </a:rPr>
              <a:t>лечение деменц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Bookman Old Style"/>
              </a:rPr>
              <a:t>ускоряет рост нервных клеток, активирует обмен веществ в головном мозге, стимулирует образование новых кровеносных сосудов и восстановление сосудов в ишемизированных тканях, улучшает настро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2"/>
          <a:stretch/>
        </p:blipFill>
        <p:spPr>
          <a:xfrm>
            <a:off x="7451640" y="537372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7229520" y="2708280"/>
            <a:ext cx="1487520" cy="13683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456840" y="549000"/>
            <a:ext cx="8002440" cy="562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c00000"/>
                </a:solidFill>
                <a:latin typeface="Bookman Old Style"/>
              </a:rPr>
              <a:t>Семакс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Bookman Old Style"/>
              </a:rPr>
              <a:t>Ф.в.: Капли назальные 0.1%, 1% - 3 м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7030a0"/>
                </a:solidFill>
                <a:latin typeface="Bookman Old Style"/>
              </a:rPr>
              <a:t>влияет на процессы, связанные с формированием памяти и обучением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7030a0"/>
                </a:solidFill>
                <a:latin typeface="Bookman Old Style"/>
              </a:rPr>
              <a:t>улучшает адаптацию организма к гипоксии, церебральной ишемии, наркозу и другим повреждающим воздействиям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Bookman Old Style"/>
              </a:rPr>
              <a:t>применяют интраназально, 2-3 капли в каждый носовой ход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Bookman Old Style"/>
              </a:rPr>
              <a:t>ежедневно в течение 3-5 дней, при необходимости продлевают до 14 дне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7236000" y="1208160"/>
            <a:ext cx="1428480" cy="14288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456840" y="549000"/>
            <a:ext cx="8002440" cy="562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 algn="ctr">
              <a:lnSpc>
                <a:spcPct val="90000"/>
              </a:lnSpc>
              <a:spcBef>
                <a:spcPts val="9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Bookman Old Style"/>
              </a:rPr>
              <a:t>Фенотропи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Bookman Old Style"/>
              </a:rPr>
              <a:t>Форма выпуска: таблетки 100 мг. № 10, 3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Bookman Old Style"/>
              </a:rPr>
              <a:t>депрессия легкой и средней степени тяже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Bookman Old Style"/>
              </a:rPr>
              <a:t>судорожные состояния; ожире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Bookman Old Style"/>
              </a:rPr>
              <a:t>для повышения умственной и физической работоспособ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Bookman Old Style"/>
              </a:rPr>
              <a:t>хронический алкоголиз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man Old Style"/>
              </a:rPr>
              <a:t>Курс лечения: 2 нед. до 3 ме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man Old Style"/>
              </a:rPr>
              <a:t>Для повышения работоспособности — 100–200 мг однократно утром сразу после еды, в течение 2 нед. (для спортсменов — 3 дня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Bookman Old Style"/>
              </a:rPr>
              <a:t>Не рекомендуется принимать Фенотропил позднее 15 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539280" y="404280"/>
            <a:ext cx="820908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 algn="ctr">
              <a:lnSpc>
                <a:spcPct val="90000"/>
              </a:lnSpc>
              <a:spcBef>
                <a:spcPts val="9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Bookman Old Style"/>
              </a:rPr>
              <a:t>Танака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Гинкго двулопастного листьев экстрак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Bookman Old Style"/>
              </a:rPr>
              <a:t>Ф. в.: Раствор для приема внутрь 30 мл, таблетки 40 мг № 30,9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перемежающаяся хромота при хронических облитерирующих артериопатиях нижних конечност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нарушения зрения сосудистого генез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нарушения слуха, звон в ушах, головокружение и расстройства координации преимущественно сосудистого генез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Bookman Old Style"/>
              </a:rPr>
              <a:t>Способ применения: внутрь, во время еды. По 1 табл. или 1 мл раствора 3 раза в день. Раствор растворить в 1/2 стакана вод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7451640" y="2714760"/>
            <a:ext cx="14288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0" y="142920"/>
            <a:ext cx="8820000" cy="602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Bookman Old Style"/>
              </a:rPr>
              <a:t>Препараты, содержащ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Bookman Old Style"/>
              </a:rPr>
              <a:t>ГИНКГО БИЛОБ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ГИНОС (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GINOS)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таблетки п/о 40 мг № 30, 9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Bookman Old Style"/>
              </a:rPr>
              <a:t>БИЛОБИЛ</a:t>
            </a:r>
            <a:r>
              <a:rPr b="1" lang="en-US" sz="2400" spc="-1" strike="noStrike">
                <a:solidFill>
                  <a:srgbClr val="00b0f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Bookman Old Style"/>
              </a:rPr>
              <a:t>капсулы 40 мг №  20, 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cc00cc"/>
                </a:solidFill>
                <a:latin typeface="Bookman Old Style"/>
              </a:rPr>
              <a:t>БИЛОБИЛ ФОРТЕ капсулы 80 мг № 20, 6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Bookman Old Style"/>
              </a:rPr>
              <a:t>МЕМОПЛАНТ таблетки п/о 40, 80, 120 мг. № 20, 30, 40, 50, 60, 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ГИНКГО БИЛОБА таблетки п/о  40 мг. № 20, 3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Bookman Old Style"/>
              </a:rPr>
              <a:t>ГИНКОУМ капсулы 40 мг. № 30, 6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Bookman Old Style"/>
              </a:rPr>
              <a:t>ВИТРУМ МЕМОРИ таблетки п/о 60 мг. № 60 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6" descr="http://go4.imgsmail.ru/imgpreview?key=http%3A//pharm-market.ru/Storage/Resized/w%5F170/2550.jpg&amp;mb=imgdb_preview_108"/>
          <p:cNvPicPr/>
          <p:nvPr/>
        </p:nvPicPr>
        <p:blipFill>
          <a:blip r:embed="rId1"/>
          <a:stretch/>
        </p:blipFill>
        <p:spPr>
          <a:xfrm>
            <a:off x="5643720" y="5238720"/>
            <a:ext cx="16189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08000" y="2708280"/>
            <a:ext cx="8740800" cy="352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комбинированный препара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Форма выпуска: 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драже и таблетки № 60 (по 1 табл. 3 раза в день); амп. по 2 мл (в/в, в/м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коронародилатирующее, аналептическое, стимулирующее метаболизм мозга и миокар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Rectangle 2" descr=""/>
          <p:cNvPicPr/>
          <p:nvPr/>
        </p:nvPicPr>
        <p:blipFill>
          <a:blip r:embed="rId1"/>
          <a:stretch/>
        </p:blipFill>
        <p:spPr>
          <a:xfrm>
            <a:off x="171360" y="212760"/>
            <a:ext cx="8826480" cy="2305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24" descr="ИНСТЕНОН (INSTENON) |  ВИДАЛЬ. Лекарственные препараты в России"/>
          <p:cNvPicPr/>
          <p:nvPr/>
        </p:nvPicPr>
        <p:blipFill>
          <a:blip r:embed="rId2"/>
          <a:stretch/>
        </p:blipFill>
        <p:spPr>
          <a:xfrm>
            <a:off x="7020000" y="5599080"/>
            <a:ext cx="1728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94920" y="1916280"/>
            <a:ext cx="8435880" cy="39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451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Rectangle 2" descr=""/>
          <p:cNvPicPr/>
          <p:nvPr/>
        </p:nvPicPr>
        <p:blipFill>
          <a:blip r:embed="rId1"/>
          <a:stretch/>
        </p:blipFill>
        <p:spPr>
          <a:xfrm>
            <a:off x="384120" y="328680"/>
            <a:ext cx="8040600" cy="5554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3851280" y="4005360"/>
            <a:ext cx="329580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57200" y="457200"/>
            <a:ext cx="8329680" cy="575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 algn="ctr">
              <a:lnSpc>
                <a:spcPct val="100000"/>
              </a:lnSpc>
              <a:spcBef>
                <a:spcPts val="10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Бетасер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Синоним: </a:t>
            </a: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Бетагистин, Вестибо, Бетавер, Бетацетр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Форма выпуска: таблетки 8, 16, 24 мг. № 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4" descr="http://go2.imgsmail.ru/imgpreview?key=http%3A//betaserc.ru/img/betaserc.jpg&amp;mb=imgdb_preview_126"/>
          <p:cNvPicPr/>
          <p:nvPr/>
        </p:nvPicPr>
        <p:blipFill>
          <a:blip r:embed="rId1"/>
          <a:stretch/>
        </p:blipFill>
        <p:spPr>
          <a:xfrm>
            <a:off x="5786280" y="45007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http://go3.imgsmail.ru/imgpreview?key=http%3A//aloe39.ru/sites/aloe39.ru/files/files/betaserk%5F24mg%5Fno60zh.jpg&amp;mb=imgdb_preview_74"/>
          <p:cNvPicPr/>
          <p:nvPr/>
        </p:nvPicPr>
        <p:blipFill>
          <a:blip r:embed="rId2"/>
          <a:stretch/>
        </p:blipFill>
        <p:spPr>
          <a:xfrm>
            <a:off x="428760" y="642960"/>
            <a:ext cx="208584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71520" y="765000"/>
            <a:ext cx="8740800" cy="51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Bookman Old Style"/>
              </a:rPr>
              <a:t>Цереброваскулярные препараты –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препараты, избирательно влияющие на сосуды головного мозга, расширяют их, улучшают снабжение мозга кислородо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Bookman Old Style"/>
              </a:rPr>
              <a:t>принимают длительными курсами, до 3-4 месяце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Bookman Old Style"/>
              </a:rPr>
              <a:t>обычно проводят 2-3 курса в год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6840" y="457200"/>
            <a:ext cx="8186760" cy="611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100000"/>
              </a:lnSpc>
              <a:spcBef>
                <a:spcPts val="134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Bookman Old Style"/>
              </a:rPr>
              <a:t>Когитум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Ф.в.: ампулы 10 м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Для взрослых: 3 ампулы в сутк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Детям с 7 лет </a:t>
            </a: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- 1 ампула в сутк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4" descr="http://go2.imgsmail.ru/imgpreview?key=http%3A//i2.otzovik.com/product/2011/02/22121.png&amp;mb=imgdb_preview_113"/>
          <p:cNvPicPr/>
          <p:nvPr/>
        </p:nvPicPr>
        <p:blipFill>
          <a:blip r:embed="rId1"/>
          <a:stretch/>
        </p:blipFill>
        <p:spPr>
          <a:xfrm>
            <a:off x="5286240" y="404640"/>
            <a:ext cx="31435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457200"/>
            <a:ext cx="8043840" cy="604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Bookman Old Style"/>
              </a:rPr>
              <a:t>Актовеги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Получают из крови теля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Ф.в.: драже 0,2 № 30, 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Ампулы 2, 5, 10 мл (в/м, в/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Bookman Old Style"/>
              </a:rPr>
              <a:t>Антигипоксический эффект – 30 ми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cc"/>
                </a:solidFill>
                <a:latin typeface="Calibri"/>
              </a:rPr>
              <a:t>Улучшают мозговое, переферическое кровообращ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4" descr="http://go4.imgsmail.ru/imgpreview?key=http%3A//ladiessecrets.ru/uploads/posts/2011-06/1308942067%5Factovegin%5Fpregnancy.jpg&amp;mb=imgdb_preview_56"/>
          <p:cNvPicPr/>
          <p:nvPr/>
        </p:nvPicPr>
        <p:blipFill>
          <a:blip r:embed="rId1"/>
          <a:stretch/>
        </p:blipFill>
        <p:spPr>
          <a:xfrm>
            <a:off x="6281640" y="285840"/>
            <a:ext cx="230040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29152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Bookman Old Style"/>
              </a:rPr>
              <a:t>Никотиновая кислота и ее производные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50920" y="1773000"/>
            <a:ext cx="8740800" cy="29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80000"/>
              </a:lnSpc>
              <a:spcBef>
                <a:spcPts val="901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Форма выпуска: 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таблетки 0,15 (по 1 табл. 3 раза, после еды); амп. 15% по 2 мл (в/в, в/м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Bookman Old Style"/>
              </a:rPr>
              <a:t>артериальные тромбозы, ретинопатия, трофические язвы нижних конечностей, атеросклеротические нарушения мозгового кровообращения, мигрени, синдром Меньера, дерматозы, острый тромбофлебит поверхностных и глубоких ве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Rectangle 2" descr=""/>
          <p:cNvPicPr/>
          <p:nvPr/>
        </p:nvPicPr>
        <p:blipFill>
          <a:blip r:embed="rId1"/>
          <a:stretch/>
        </p:blipFill>
        <p:spPr>
          <a:xfrm>
            <a:off x="171360" y="450720"/>
            <a:ext cx="7656480" cy="21211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"/>
          <p:cNvPicPr/>
          <p:nvPr/>
        </p:nvPicPr>
        <p:blipFill>
          <a:blip r:embed="rId2"/>
          <a:stretch/>
        </p:blipFill>
        <p:spPr>
          <a:xfrm>
            <a:off x="4173480" y="5084640"/>
            <a:ext cx="2062080" cy="16257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"/>
          <p:cNvPicPr/>
          <p:nvPr/>
        </p:nvPicPr>
        <p:blipFill>
          <a:blip r:embed="rId3"/>
          <a:stretch/>
        </p:blipFill>
        <p:spPr>
          <a:xfrm>
            <a:off x="971640" y="5145120"/>
            <a:ext cx="2232000" cy="163836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5" descr=""/>
          <p:cNvPicPr/>
          <p:nvPr/>
        </p:nvPicPr>
        <p:blipFill>
          <a:blip r:embed="rId4"/>
          <a:stretch/>
        </p:blipFill>
        <p:spPr>
          <a:xfrm>
            <a:off x="6588000" y="5013360"/>
            <a:ext cx="208944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6840" y="457200"/>
            <a:ext cx="8147160" cy="60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Bookman Old Style"/>
              </a:rPr>
              <a:t>Домашнее задани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Работа с учебником стр. 524-56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Работа со справочной литературой, интернет ресурс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Подготовка реферативных работ по теме:  </a:t>
            </a:r>
            <a:r>
              <a:rPr b="1" lang="ru-RU" sz="2800" spc="-1" strike="noStrike">
                <a:solidFill>
                  <a:srgbClr val="c00000"/>
                </a:solidFill>
                <a:latin typeface="Bookman Old Style"/>
              </a:rPr>
              <a:t>«Атеросклероз»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Bookman Old Style"/>
              </a:rPr>
              <a:t>«Причины и профилактика развития атеросклероз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692280"/>
            <a:ext cx="7786800" cy="547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Bookman Old Style"/>
              </a:rPr>
              <a:t>Эффекты действ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Bookman Old Style"/>
              </a:rPr>
              <a:t>Ускорение проникновения глюкозы в нервные клет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Bookman Old Style"/>
              </a:rPr>
              <a:t>Улучшения мозгового кровото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Bookman Old Style"/>
              </a:rPr>
              <a:t>Улучшение памяти и вним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Bookman Old Style"/>
              </a:rPr>
              <a:t>Ускорение восстановления после инсульта, травм или других поражений головного моз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Bookman Old Style"/>
              </a:rPr>
              <a:t>Восстанавливают метаболические процессы в ткани мозг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539280" y="476280"/>
            <a:ext cx="7488360" cy="607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Bookman Old Style"/>
              </a:rPr>
              <a:t>Показания к применению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Bookman Old Style"/>
              </a:rPr>
              <a:t>О. нарушения МКО (инсульт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Bookman Old Style"/>
              </a:rPr>
              <a:t>Черепно-мозговая травма и ее последств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Bookman Old Style"/>
              </a:rPr>
              <a:t>Хр. нарушение кровообращения в головном мозге (атеросклероз сосудов гол. мозга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Bookman Old Style"/>
              </a:rPr>
              <a:t>Дисциркуляторная энцефалопатия — (медленно прогрессирующая недостаточность кровоснабжения мозга, приводящая к структурным изменениям с нарушением мозговых функций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Bookman Old Style"/>
              </a:rPr>
              <a:t>Артериальная гипертенз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Bookman Old Style"/>
              </a:rPr>
              <a:t>Вегето-сосудистая дистония, мигрень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Bookman Old Style"/>
              </a:rPr>
              <a:t>Переутомлен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610920" y="1341360"/>
            <a:ext cx="8380440" cy="51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man Old Style"/>
              </a:rPr>
              <a:t>1</a:t>
            </a: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. антагонисты ионов кальц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2. психостимуляторы (кофеи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3. ноотропные препар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4. никотиновая кислота и ее препар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5. спазмолитики миотропного действ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6. антиагрегационные средст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7. альфа-адреноблокато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7408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Bookman Old Style"/>
              </a:rPr>
              <a:t>КЛАССИФИКАЦИЯ цереброваскулярных ПРЕПАРАТ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Rectangle 4" descr=""/>
          <p:cNvPicPr/>
          <p:nvPr/>
        </p:nvPicPr>
        <p:blipFill>
          <a:blip r:embed="rId1"/>
          <a:stretch/>
        </p:blipFill>
        <p:spPr>
          <a:xfrm>
            <a:off x="317520" y="987480"/>
            <a:ext cx="866772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1" descr=""/>
          <p:cNvPicPr/>
          <p:nvPr/>
        </p:nvPicPr>
        <p:blipFill>
          <a:blip r:embed="rId1"/>
          <a:stretch/>
        </p:blipFill>
        <p:spPr>
          <a:xfrm>
            <a:off x="463680" y="182520"/>
            <a:ext cx="7235640" cy="59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Заголовок 1" descr=""/>
          <p:cNvPicPr/>
          <p:nvPr/>
        </p:nvPicPr>
        <p:blipFill>
          <a:blip r:embed="rId1"/>
          <a:stretch/>
        </p:blipFill>
        <p:spPr>
          <a:xfrm>
            <a:off x="208080" y="450720"/>
            <a:ext cx="749772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0T11:01:14Z</dcterms:created>
  <dc:creator>Аптека</dc:creator>
  <dc:description/>
  <dc:language>en-US</dc:language>
  <cp:lastModifiedBy>Admin3</cp:lastModifiedBy>
  <dcterms:modified xsi:type="dcterms:W3CDTF">2013-01-31T12:18:03Z</dcterms:modified>
  <cp:revision>102</cp:revision>
  <dc:subject/>
  <dc:title>Лекция 19. </dc:title>
</cp:coreProperties>
</file>