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2.jpeg" ContentType="image/jpeg"/>
  <Override PartName="/ppt/media/image40.png" ContentType="image/png"/>
  <Override PartName="/ppt/media/image42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8982-A6D3-4482-99B4-B0D61D54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7F0B-14DD-4199-B634-4AAF87CB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8C82-0561-48E4-934F-5B382C38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B609-A238-416D-9252-9E4891A2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9B713-894D-4F94-B8C9-D2D1E645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70B92-CCAD-4325-A7E1-F90C9A54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8468F-D10A-45B0-8339-B0EE75D7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3029F-1D83-4A01-9885-32782813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ECE53-6448-473E-B069-166CE049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046F2-414C-428F-A581-BB6C6E2B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765B0-6BFE-43DF-8AB4-32829497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55A0-CBC4-4D42-9E54-00243850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82E0D-84FB-46F0-BC32-EE751A7F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85410-4318-4E7C-9DFD-DA32FB33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58616-216F-4C91-9461-67170C1E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5C67B-26F7-4FCC-8E22-4F66C026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C872C-F707-4E7B-B2BC-1C52A0DD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E2402-3108-49F9-8174-C264B8CF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7D024-F898-4866-B982-07BB40D0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640FB-CAF3-4CBC-B4CB-CD992E07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100F0-0407-41BA-A577-8162C0A3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A4176-0A2E-45F2-A346-B5E36C2B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D871-93FC-4897-98B4-BD169A48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A521C-3BD2-4311-9C42-18C29301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6E192-3624-40F5-A6DF-9B5DA560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865AD-8D18-4701-AF54-AE7C45B4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6B01B-B582-4E86-B5F6-04F3EF2E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77689-40A6-404C-9058-5F34CFEF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CDC62-A60F-46C1-A009-0F682354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3CAB7-C75A-4BCE-A6C3-32A28A1D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71AD-7F6F-4771-ACA7-20C99DB8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B04A-770B-4D44-92FA-B0C1D310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AC52-4E2F-4742-81DF-25F48A3F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4760-B0CE-40EF-8D68-6AE25B11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8781-96DE-4049-BAEB-A089640F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D31D-3BB4-407E-AE51-A9876EAF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 marL="15696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352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048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6744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2440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E380-EA7C-4C8D-A4E6-691B47C7EC5A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 marL="15696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352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048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6744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2440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0289-DA68-443A-9C46-8A1842B79960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 marL="15696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352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048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6744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2440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4730-CA41-4192-B179-441F81B2B7F1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669744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Bookman Old Style"/>
              </a:rPr>
              <a:t>Препараты, улучшающие мозговое кровообращ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79280" y="1844640"/>
            <a:ext cx="84362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Синонимы: </a:t>
            </a:r>
            <a:r>
              <a:rPr b="1" lang="ru-RU" sz="3600" spc="-1" strike="noStrike">
                <a:solidFill>
                  <a:srgbClr val="660066"/>
                </a:solidFill>
                <a:latin typeface="Bookman Old Style"/>
              </a:rPr>
              <a:t>Нимото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Форма выпуска: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аблетки по 0.03 (по 2-3 раза в день); фл. 0.02%-50 м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Нимодипин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Bookman Old Style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c00000"/>
                </a:solidFill>
                <a:latin typeface="Bookman Old Style"/>
              </a:rPr>
              <a:t>Nimodipine</a:t>
            </a:r>
            <a:r>
              <a:rPr b="0" lang="ru-RU" sz="40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025" descr=""/>
          <p:cNvPicPr/>
          <p:nvPr/>
        </p:nvPicPr>
        <p:blipFill>
          <a:blip r:embed="rId1"/>
          <a:stretch/>
        </p:blipFill>
        <p:spPr>
          <a:xfrm>
            <a:off x="6156360" y="5276880"/>
            <a:ext cx="23032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920" y="2133360"/>
            <a:ext cx="864216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70000"/>
              </a:lnSpc>
              <a:spcBef>
                <a:spcPts val="7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Синонимы: </a:t>
            </a:r>
            <a:r>
              <a:rPr b="1" lang="ru-RU" sz="3000" spc="-1" strike="noStrike">
                <a:solidFill>
                  <a:srgbClr val="660066"/>
                </a:solidFill>
                <a:latin typeface="Bookman Old Style"/>
              </a:rPr>
              <a:t>Стугеро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Форма выпуска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таблетки по 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0.025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 (по 1 табл. 3 раза, после еды); капсулы по 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0.075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 (по 1 капсуле 1 раз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Bookman Old Style"/>
              </a:rPr>
              <a:t>Комб. препарат: Фезам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Bookman Old Style"/>
              </a:rPr>
              <a:t>уменьшает психическую заторможенность, депрессию, ипохондрию, эмоциональную лабильност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Bookman Old Style"/>
              </a:rPr>
              <a:t>Циннаризин</a:t>
            </a:r>
            <a:br>
              <a:rPr sz="5400"/>
            </a:br>
            <a:r>
              <a:rPr b="1" i="1" lang="en-US" sz="5400" spc="-1" strike="noStrike">
                <a:solidFill>
                  <a:srgbClr val="002060"/>
                </a:solidFill>
                <a:latin typeface="Bookman Old Style"/>
              </a:rPr>
              <a:t>Cinnarizinum</a:t>
            </a: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1024" descr="Циннаризин, тбл 25мг №50"/>
          <p:cNvPicPr/>
          <p:nvPr/>
        </p:nvPicPr>
        <p:blipFill>
          <a:blip r:embed="rId1"/>
          <a:stretch/>
        </p:blipFill>
        <p:spPr>
          <a:xfrm>
            <a:off x="7148520" y="692280"/>
            <a:ext cx="1530360" cy="99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28" descr="Стугерон, тбл 25мг №50"/>
          <p:cNvPicPr/>
          <p:nvPr/>
        </p:nvPicPr>
        <p:blipFill>
          <a:blip r:embed="rId2"/>
          <a:stretch/>
        </p:blipFill>
        <p:spPr>
          <a:xfrm>
            <a:off x="108000" y="5661000"/>
            <a:ext cx="1609560" cy="10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7020000" y="393372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835280"/>
            <a:ext cx="8435880" cy="39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производное алкалоида ЛРС барви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Синонимы: Винпоцетин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Форма выпуска: </a:t>
            </a:r>
            <a:r>
              <a:rPr b="0" lang="ru-RU" sz="3200" spc="-1" strike="noStrike">
                <a:solidFill>
                  <a:srgbClr val="0070c0"/>
                </a:solidFill>
                <a:latin typeface="Bookman Old Style"/>
              </a:rPr>
              <a:t>таблетки по </a:t>
            </a:r>
            <a:r>
              <a:rPr b="0" lang="en-US" sz="3200" spc="-1" strike="noStrike">
                <a:solidFill>
                  <a:srgbClr val="0070c0"/>
                </a:solidFill>
                <a:latin typeface="Bookman Old Style"/>
              </a:rPr>
              <a:t>0.005</a:t>
            </a:r>
            <a:r>
              <a:rPr b="0" lang="ru-RU" sz="3200" spc="-1" strike="noStrike">
                <a:solidFill>
                  <a:srgbClr val="0070c0"/>
                </a:solidFill>
                <a:latin typeface="Bookman Old Style"/>
              </a:rPr>
              <a:t> (по 1 табл. 3 раза в день, после еды); амп. 0.5%-2 мл (в/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Комб.преп: Винпотропил (+пирацета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64101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Кавинтон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Bookman Old Style"/>
              </a:rPr>
              <a:t>Cavintonum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4" descr="Кавинтон, тбл 5мг №50"/>
          <p:cNvPicPr/>
          <p:nvPr/>
        </p:nvPicPr>
        <p:blipFill>
          <a:blip r:embed="rId1"/>
          <a:stretch/>
        </p:blipFill>
        <p:spPr>
          <a:xfrm>
            <a:off x="6227640" y="4832280"/>
            <a:ext cx="2157480" cy="1706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25" descr="Кавинтон, р-р д/инъ 10мг 2мл №10"/>
          <p:cNvPicPr/>
          <p:nvPr/>
        </p:nvPicPr>
        <p:blipFill>
          <a:blip r:embed="rId2"/>
          <a:stretch/>
        </p:blipFill>
        <p:spPr>
          <a:xfrm>
            <a:off x="3203640" y="5011560"/>
            <a:ext cx="2233440" cy="155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26" descr="Винпоцетин, тбл 5мг №50"/>
          <p:cNvPicPr/>
          <p:nvPr/>
        </p:nvPicPr>
        <p:blipFill>
          <a:blip r:embed="rId3"/>
          <a:stretch/>
        </p:blipFill>
        <p:spPr>
          <a:xfrm>
            <a:off x="179280" y="5145120"/>
            <a:ext cx="1656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000" y="549360"/>
            <a:ext cx="748836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Ноотропные препа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Bookman Old Style"/>
              </a:rPr>
              <a:t>препараты, избирательно стимулирующие функции головного мозга и повышающие энергетический потенциал организм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765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975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Bookman Old Style"/>
              </a:rPr>
              <a:t>Эффекты действия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ускоряют процессы обуче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улучшают память и умственную деятельнос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овышают устойчивость мозга к воздействию гипоксии, травмы, интоксикации и т. д.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облегчают процессы межполушарной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457200"/>
            <a:ext cx="807552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у здоровых людей ноотропный эффект выражен слабо, почти не проявляе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при хроническом утомлении, астении, у детей с проблемами обучения или дефектами развития, а также у пожилых пациентов отчетливо улучшается интеллектуальная дея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могут назначать с профилактической целью здоровым людям, находящимся в неблагоприятных условиях (недостаток кислорода, высокие температуры и другие) для защиты мозга и поддержания умственной работоспособ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628280"/>
            <a:ext cx="8883720" cy="36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Синоним: ноотропил, луцет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ookman Old Style"/>
              </a:rPr>
              <a:t>Ф. выпуска: ампулы 200 мг. - 5 мл. № 10 (в/м, в/в); таблетки 200 мг. № 60, капсулы 400 мг., 800 мг № 30,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171360" y="244440"/>
            <a:ext cx="8826480" cy="227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234324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6673680" y="836640"/>
            <a:ext cx="160992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4"/>
          <a:stretch/>
        </p:blipFill>
        <p:spPr>
          <a:xfrm>
            <a:off x="1476360" y="4797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57200"/>
            <a:ext cx="7786800" cy="58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икамил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Picamilonum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МНН: Никотиноил гамма-аминомасляная кисл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cc"/>
                </a:solidFill>
                <a:latin typeface="Bookman Old Style"/>
              </a:rPr>
              <a:t>Форма выпуск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таблетки 10; 20; 50 мг № 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раствор для инъекций 10 % - 2 м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cc"/>
                </a:solidFill>
                <a:latin typeface="Bookman Old Style"/>
              </a:rPr>
              <a:t>Показания к применению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астения; депрессия; алкоголизм (период абстиненции), острая интоксикация алкоголем; ЧМ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164360" y="2852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7223040" y="5429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6840" y="457200"/>
            <a:ext cx="793116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90000"/>
              </a:lnSpc>
              <a:spcBef>
                <a:spcPts val="876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Bookman Old Style"/>
              </a:rPr>
              <a:t>Кортексин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Bookman Old Style"/>
              </a:rPr>
              <a:t>Ф. в.: Лиофилизат для приготовления раствора 10 мг. № 10 (в/м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Bookman Old Style"/>
              </a:rPr>
              <a:t>комплекс полипептидных фракций, выделенных из коры головного мозга крупного рогатого скота или свиней не старше 12-месячного возра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Показания к применени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эпилеп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задержка психомоторного и речевого развития у де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различные формы ДЦ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732720" y="4941720"/>
            <a:ext cx="15444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6840" y="457200"/>
            <a:ext cx="814716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Энцефабо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Действующее вещество: Пиритин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Форма выпуска: таблетки 100 мг. № 50, суспензия/внутрь 100 м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Bookman Old Style"/>
              </a:rPr>
              <a:t>Первичная дегенеративная деменция, сосудистая деменция и смешанные формы. Задержка психического развития, цереброастенический синдром у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580000" y="5157720"/>
            <a:ext cx="2448000" cy="142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68360" y="3213000"/>
            <a:ext cx="8523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1. Классификация препаратов, улучшающие мозговое кровообращ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2. Антагонисты ионов каль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3. Ноотропные препа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4. Никотиновая кислота и ее препа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00000"/>
                </a:solidFill>
                <a:latin typeface="Bookman Old Style"/>
              </a:rPr>
              <a:t>План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6735600" y="2852640"/>
            <a:ext cx="2036880" cy="113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6840" y="476280"/>
            <a:ext cx="8147160" cy="569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антог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иноним: Гопантеновая кислота, Пантокальц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Форма выпуска: таблетки 250 мг. № 50, сироп 10% - 100 м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Курс лечения 1- 6 мес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man Old Style"/>
              </a:rPr>
              <a:t>При эпилепсии (в комбинации с противосудорожными средствами) При тиках детям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man Old Style"/>
              </a:rPr>
              <a:t>При нарушениях мочеиспуск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7308720" y="765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6840" y="549000"/>
            <a:ext cx="7931160" cy="56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Мексидол (Mexidolu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ookman Old Style"/>
              </a:rPr>
              <a:t>Форма выпус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раствор для инъекций 5% - 2, 5 мл № 5, 10 в ампу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таблетки 125 мг. № 30, 5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Bookman Old Style"/>
              </a:rPr>
              <a:t>Обладает антиоксидантным действ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932360" y="5084640"/>
            <a:ext cx="2295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7413480" y="836640"/>
            <a:ext cx="1505160" cy="1428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6840" y="476280"/>
            <a:ext cx="7931160" cy="569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Церебролизин (</a:t>
            </a: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Cerebrolysin</a:t>
            </a: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Синони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Форма выпуска: раствор для инъекций в ампулах по 1, 5 и 10 мл, № 5, 1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очищенный гидролизат гол. мозга свинь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лечение дем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ускоряет рост нервных клеток, активирует обмен веществ в головном мозге, стимулирует образование новых кровеносных сосудов и восстановление сосудов в ишемизированных тканях, улучшает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7451640" y="53737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7229520" y="2708280"/>
            <a:ext cx="1487520" cy="1368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6840" y="549000"/>
            <a:ext cx="8002440" cy="56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00000"/>
                </a:solidFill>
                <a:latin typeface="Bookman Old Style"/>
              </a:rPr>
              <a:t>Семакс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Ф.в.: Капли назальные 0.1%, 1% - 3 м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Bookman Old Style"/>
              </a:rPr>
              <a:t>влияет на процессы, связанные с формированием памяти и обучение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Bookman Old Style"/>
              </a:rPr>
              <a:t>улучшает адаптацию организма к гипоксии, церебральной ишемии, наркозу и другим повреждающим воздействия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применяют интраназально, 2-3 капли в каждый носовой ход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ежедневно в течение 3-5 дней, при необходимости продлевают до 14 дн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7236000" y="12081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56840" y="549000"/>
            <a:ext cx="8002440" cy="56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Фенотропи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Форма выпуска: таблетки 100 мг. № 10, 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депрессия легкой и средней степени тяже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судорожные состояния; ожир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для повышения умственной и физической работоспособ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хронический алкоголиз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Курс лечения: 2 нед. до 3 ме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Для повышения работоспособности — 100–200 мг однократно утром сразу после еды, в течение 2 нед. (для спортсменов — 3 дня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Bookman Old Style"/>
              </a:rPr>
              <a:t>Не рекомендуется принимать Фенотропил позднее 15 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280" y="404280"/>
            <a:ext cx="820908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Танак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инкго двулопастного листьев экстр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Ф. в.: Раствор для приема внутрь 30 мл, таблетки 40 мг № 30,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еремежающаяся хромота при хронических облитерирующих артериопатиях нижних конеч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рушения зрения сосудистого генез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рушения слуха, звон в ушах, головокружение и расстройства координации преимущественно сосудистого гене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Bookman Old Style"/>
              </a:rPr>
              <a:t>Способ применения: внутрь, во время еды. По 1 табл. или 1 мл раствора 3 раза в день. Раствор растворить в 1/2 стакана во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451640" y="27147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0" y="142920"/>
            <a:ext cx="8820000" cy="60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Препараты, содержащ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ГИНКГО БИЛОБ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ИНОС (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GINOS)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аблетки п/о 40 мг № 30, 9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Bookman Old Style"/>
              </a:rPr>
              <a:t>БИЛОБИЛ</a:t>
            </a:r>
            <a:r>
              <a:rPr b="1" lang="en-US" sz="2400" spc="-1" strike="noStrike">
                <a:solidFill>
                  <a:srgbClr val="00b0f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Bookman Old Style"/>
              </a:rPr>
              <a:t>капсулы 40 мг №  20, 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00cc"/>
                </a:solidFill>
                <a:latin typeface="Bookman Old Style"/>
              </a:rPr>
              <a:t>БИЛОБИЛ ФОРТЕ капсулы 80 мг № 20, 6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МЕМОПЛАНТ таблетки п/о 40, 80, 120 мг. № 20, 30, 40, 50, 60,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ИНКГО БИЛОБА таблетки п/о  40 мг. № 20, 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ГИНКОУМ капсулы 40 мг. № 30, 6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ВИТРУМ МЕМОРИ таблетки п/о 60 мг. № 60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http://go4.imgsmail.ru/imgpreview?key=http%3A//pharm-market.ru/Storage/Resized/w%5F170/2550.jpg&amp;mb=imgdb_preview_108"/>
          <p:cNvPicPr/>
          <p:nvPr/>
        </p:nvPicPr>
        <p:blipFill>
          <a:blip r:embed="rId1"/>
          <a:stretch/>
        </p:blipFill>
        <p:spPr>
          <a:xfrm>
            <a:off x="5643720" y="5238720"/>
            <a:ext cx="161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8000" y="2708280"/>
            <a:ext cx="874080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комбинированный препара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Форма выпуска: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драже и таблетки № 60 (по 1 табл. 3 раза в день); амп. по 2 мл (в/в, в/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ронародилатирующее, аналептическое, стимулирующее метаболизм мозга и миокар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171360" y="212760"/>
            <a:ext cx="8826480" cy="23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24" descr="ИНСТЕНОН (INSTENON) |  ВИДАЛЬ. Лекарственные препараты в России"/>
          <p:cNvPicPr/>
          <p:nvPr/>
        </p:nvPicPr>
        <p:blipFill>
          <a:blip r:embed="rId2"/>
          <a:stretch/>
        </p:blipFill>
        <p:spPr>
          <a:xfrm>
            <a:off x="7020000" y="5599080"/>
            <a:ext cx="1728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4920" y="1916280"/>
            <a:ext cx="8435880" cy="39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384120" y="328680"/>
            <a:ext cx="8040600" cy="555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32958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457200"/>
            <a:ext cx="8329680" cy="57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100000"/>
              </a:lnSpc>
              <a:spcBef>
                <a:spcPts val="10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Бетасер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иноним: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Бетагистин, Вестибо, Бетавер, Бетацет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орма выпуска: таблетки 8, 16, 24 мг.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http://go2.imgsmail.ru/imgpreview?key=http%3A//betaserc.ru/img/betaserc.jpg&amp;mb=imgdb_preview_126"/>
          <p:cNvPicPr/>
          <p:nvPr/>
        </p:nvPicPr>
        <p:blipFill>
          <a:blip r:embed="rId1"/>
          <a:stretch/>
        </p:blipFill>
        <p:spPr>
          <a:xfrm>
            <a:off x="5786280" y="4500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http://go3.imgsmail.ru/imgpreview?key=http%3A//aloe39.ru/sites/aloe39.ru/files/files/betaserk%5F24mg%5Fno60zh.jpg&amp;mb=imgdb_preview_74"/>
          <p:cNvPicPr/>
          <p:nvPr/>
        </p:nvPicPr>
        <p:blipFill>
          <a:blip r:embed="rId2"/>
          <a:stretch/>
        </p:blipFill>
        <p:spPr>
          <a:xfrm>
            <a:off x="428760" y="642960"/>
            <a:ext cx="20858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71520" y="765000"/>
            <a:ext cx="8740800" cy="51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man Old Style"/>
              </a:rPr>
              <a:t>Цереброваскулярные препараты 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репараты, избирательно влияющие на сосуды головного мозга, расширяют их, улучшают снабжение мозга кислород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Bookman Old Style"/>
              </a:rPr>
              <a:t>принимают длительными курсами, до 3-4 месяц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Bookman Old Style"/>
              </a:rPr>
              <a:t>обычно проводят 2-3 курса в г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6840" y="457200"/>
            <a:ext cx="8186760" cy="61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100000"/>
              </a:lnSpc>
              <a:spcBef>
                <a:spcPts val="13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Когиту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.в.: ампулы 10 м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Для взрослых: 3 ампулы в сут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етям с 7 лет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 1 ампула в сут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http://go2.imgsmail.ru/imgpreview?key=http%3A//i2.otzovik.com/product/2011/02/22121.png&amp;mb=imgdb_preview_113"/>
          <p:cNvPicPr/>
          <p:nvPr/>
        </p:nvPicPr>
        <p:blipFill>
          <a:blip r:embed="rId1"/>
          <a:stretch/>
        </p:blipFill>
        <p:spPr>
          <a:xfrm>
            <a:off x="5286240" y="404640"/>
            <a:ext cx="3143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457200"/>
            <a:ext cx="8043840" cy="60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Bookman Old Style"/>
              </a:rPr>
              <a:t>Актовег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олучают из крови теля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Ф.в.: драже 0,2 № 30, 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Ампулы 2, 5, 10 мл (в/м, в/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Антигипоксический эффект – 30 м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Calibri"/>
              </a:rPr>
              <a:t>Улучшают мозговое, переферическое кровообра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http://go4.imgsmail.ru/imgpreview?key=http%3A//ladiessecrets.ru/uploads/posts/2011-06/1308942067%5Factovegin%5Fpregnancy.jpg&amp;mb=imgdb_preview_56"/>
          <p:cNvPicPr/>
          <p:nvPr/>
        </p:nvPicPr>
        <p:blipFill>
          <a:blip r:embed="rId1"/>
          <a:stretch/>
        </p:blipFill>
        <p:spPr>
          <a:xfrm>
            <a:off x="6281640" y="285840"/>
            <a:ext cx="23004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Bookman Old Style"/>
              </a:rPr>
              <a:t>Никотиновая кислота и ее производны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50920" y="1773000"/>
            <a:ext cx="874080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8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Форма выпуска: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таблетки 0,15 (по 1 табл. 3 раза, после еды); амп. 15% по 2 мл (в/в, в/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Bookman Old Style"/>
              </a:rPr>
              <a:t>артериальные тромбозы, ретинопатия, трофические язвы нижних конечностей, атеросклеротические нарушения мозгового кровообращения, мигрени, синдром Меньера, дерматозы, острый тромбофлебит поверхностных и глубоких в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171360" y="450720"/>
            <a:ext cx="7656480" cy="2121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173480" y="5084640"/>
            <a:ext cx="2062080" cy="1625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971640" y="5145120"/>
            <a:ext cx="2232000" cy="16383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5" descr=""/>
          <p:cNvPicPr/>
          <p:nvPr/>
        </p:nvPicPr>
        <p:blipFill>
          <a:blip r:embed="rId4"/>
          <a:stretch/>
        </p:blipFill>
        <p:spPr>
          <a:xfrm>
            <a:off x="6588000" y="5013360"/>
            <a:ext cx="20894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6840" y="457200"/>
            <a:ext cx="8147160" cy="60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Работа с учебником стр. 524-56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Работа со справочной литературой, интернет ресурс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Подготовка реферативных работ по теме:  </a:t>
            </a: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«Атеросклероз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«Причины и профилактика развития атеросклероз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692280"/>
            <a:ext cx="7786800" cy="547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Эффекты действ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Ускорение проникновения глюкозы в нервные кле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Улучшения мозгового кровот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Улучшение памяти и вни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Ускорение восстановления после инсульта, травм или других поражений головного моз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Восстанавливают метаболические процессы в ткани мозг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39280" y="476280"/>
            <a:ext cx="7488360" cy="607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оказания к применению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О. нарушения МКО (инсуль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Черепно-мозговая травма и ее последств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Хр. нарушение кровообращения в головном мозге (атеросклероз сосудов гол. мозг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Дисциркуляторная энцефалопатия — (медленно прогрессирующая недостаточность кровоснабжения мозга, приводящая к структурным изменениям с нарушением мозговых функций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Артериальная гипертенз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Вегето-сосудистая дистония, мигрен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Переутомл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0920" y="1341360"/>
            <a:ext cx="8380440" cy="51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. антагонисты ионов каль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2. психостимуляторы (кофе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3. ноотропные препа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4. никотиновая кислота и ее препа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. спазмолитики миотропного действ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6. антиагрегационные сре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7. альфа-адреноблока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740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man Old Style"/>
              </a:rPr>
              <a:t>КЛАССИФИКАЦИЯ цереброваскулярных ПРЕПАРА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4" descr=""/>
          <p:cNvPicPr/>
          <p:nvPr/>
        </p:nvPicPr>
        <p:blipFill>
          <a:blip r:embed="rId1"/>
          <a:stretch/>
        </p:blipFill>
        <p:spPr>
          <a:xfrm>
            <a:off x="317520" y="987480"/>
            <a:ext cx="8667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723564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208080" y="450720"/>
            <a:ext cx="7497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1:01:14Z</dcterms:created>
  <dc:creator>Аптека</dc:creator>
  <dc:description/>
  <dc:language>en-US</dc:language>
  <cp:lastModifiedBy>Admin3</cp:lastModifiedBy>
  <dcterms:modified xsi:type="dcterms:W3CDTF">2013-01-31T12:18:03Z</dcterms:modified>
  <cp:revision>102</cp:revision>
  <dc:subject/>
  <dc:title>Лекция 19. </dc:title>
</cp:coreProperties>
</file>