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855D-4ED0-44F5-A5D9-21FDC99F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239D-D3F2-4B9B-BA8E-F731BDEC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13D4-D97A-468F-A669-41053EC2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3291-5306-4172-A3B7-2CAA2CC6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4115-5518-4FD4-A565-37F40FA9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6B50-30BF-4AC4-9FAE-57CA2113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B2FA-C6E3-4FBF-95DD-571861D4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1082-D855-4888-9E22-A5219710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2B83-3F27-4227-B21D-7D8CD7B1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1943-69F7-43BA-97F5-6D9CB2C9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ACB2-0487-4BE6-AB92-BABABA8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D17B-D5F1-40C8-8F04-96B4CCEC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3633-AC1F-4374-A4C9-7441452E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2E8-471F-4B85-B74E-47F32E2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2336-CEE2-4F62-B341-8799FA2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3740-BAB9-4DF1-87F7-DB727BB9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511A-74B4-464E-935D-8A20AFD7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FDB0-232D-4F30-8EC2-D2A1F3A9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82C3-A88D-4477-A1A1-CEE9CBA5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483E-3BFB-4443-8657-3073AD21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376AD-E1EE-4958-B5C5-E36E15AD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E32E-2EED-43F8-986F-8814682C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B5F3-52BD-47D4-BB99-9BBFDE49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CFD7-8405-4606-B767-163804C5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2C167-39F3-4A95-8709-8EBEC59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99B2-86CA-412A-9F3F-AA25F80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26E3-966C-4EEE-842A-51DDBCD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BE74-10F4-4A6B-A526-00283866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97856-9906-48DF-B73C-34F6A4C0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1AD2-38BE-438F-93F1-4310C5AA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B01FB-C1DA-488A-AFBB-43587E61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B7BF0-795B-4811-8CAB-C09BE323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41FD0-1FE9-4D4A-815D-25BA409F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84DC-6161-4FBF-B4F3-18B6930B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8A172-925A-443A-91AD-5D368FE9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25DFC-7F0E-44C2-9940-20AA8514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721C8-138B-435A-9A69-DE877F7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C6C30-0FA8-41E0-8ECA-75377B5A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779DD-DE7E-4C21-8D2E-22A9664C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051AA-5F9A-4634-A663-3A8C45E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D71EA-7982-4D78-A713-CC43A240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65D8B-A5C5-4BEE-B539-5A46E4DA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4FA2C-C09A-4F95-91ED-B0D490B1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94963-3D61-4A20-B23B-B5F31251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A056-250E-4B80-B4C6-23FBE171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00C84-3003-49C8-AB77-26F97056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4B43D-B5D6-4A6C-A957-EA047221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B4E5C-E7A3-4EA4-B726-4DF1FF9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4C8AD-C9BC-49FC-AF72-D5F8E84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9E1BB-6A34-473E-8D6B-145A170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83890-7764-43A9-AE01-17119D0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BF642-C0B5-4113-B146-78558A6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2A84F-9979-4F77-BE64-F2FDCA6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09FCC-6485-4F3B-9C2A-C90AABB7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A15BE-D880-4435-847B-D48D2704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3653-388A-4F79-AFF0-4256ED85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BA9EF-0705-4E82-95D6-16ECAF5B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A8607-476A-4DEA-8E71-A271C029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8C749-37FF-4196-A6C9-CB8631ED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B29E5-C374-459B-AD39-87722CC5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6717C-117D-4221-9F35-3DCC5284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4C006-C237-43DA-998A-E6E05EB7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45E8E-4548-4035-991F-CCC8CE77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05675-C03C-4E2B-B19A-FB068E37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316C4-3785-40E2-9DD8-185FA910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E930E-B31A-45E3-922F-DC19286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34F7-0B40-4679-B2B2-D066194A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20666-B04B-4BAA-8720-A5DC7728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D3C0F-21CE-4BDA-9FF5-DDB7135E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952AA-C363-41B0-B632-65B532B7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74EDD-4890-4775-ABD3-2152FAEC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D0B22-895B-41AE-B241-F68F9C09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AAB79-EF92-4EF6-8CA5-A7C42D90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924FD-2BED-4272-8480-B0C66AA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79CDF-BEED-40A8-ACD6-DAAB7C02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B4233-FB4A-413D-8516-E41575F1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8ECDB-4E58-489D-8709-233FFDF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03DF-288E-4283-B6F1-00FA2DCD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12F0A-5EB8-4223-8D0C-C13762C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FEE29-C132-4337-AC26-27B2D87F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700A2-1F59-4274-9CBB-AA6729F2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A8AD5-65BB-4354-9D53-97C859D5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D661F-C162-46EC-9A1A-6BA6FF11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1B95-89C0-4F59-81A9-9405AF33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5C9847-F6AD-4669-8CD7-03EA90043B2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508DBD-0644-434E-9592-3EF954C6FD1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58FC013-F2DE-4DBA-97A1-A13D595AC0F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924320" cy="13712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685800" y="4959000"/>
            <a:ext cx="7924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97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91" name="Прямая соединительная линия 6"/>
          <p:cNvCxnSpPr/>
          <p:nvPr/>
        </p:nvCxnSpPr>
        <p:spPr>
          <a:xfrm>
            <a:off x="685800" y="4916880"/>
            <a:ext cx="7925040" cy="4680"/>
          </a:xfrm>
          <a:prstGeom prst="straightConnector1">
            <a:avLst/>
          </a:prstGeom>
          <a:ln w="9525">
            <a:solidFill>
              <a:srgbClr val="e9e9e8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Num" idx="1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4419FB-916E-40B5-8349-4675D411F2A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457200" y="1399680"/>
            <a:ext cx="4039920" cy="76176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2201760"/>
            <a:ext cx="403812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body"/>
          </p:nvPr>
        </p:nvSpPr>
        <p:spPr>
          <a:xfrm>
            <a:off x="4649760" y="2201760"/>
            <a:ext cx="403812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8"/>
          <p:cNvSpPr>
            <a:spLocks noGrp="1"/>
          </p:cNvSpPr>
          <p:nvPr>
            <p:ph type="body"/>
          </p:nvPr>
        </p:nvSpPr>
        <p:spPr>
          <a:xfrm>
            <a:off x="4648320" y="1399680"/>
            <a:ext cx="4039920" cy="76176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36" name="Прямая соединительная линия 9"/>
          <p:cNvCxnSpPr/>
          <p:nvPr/>
        </p:nvCxnSpPr>
        <p:spPr>
          <a:xfrm>
            <a:off x="562680" y="2180160"/>
            <a:ext cx="3749400" cy="1800"/>
          </a:xfrm>
          <a:prstGeom prst="straightConnector1">
            <a:avLst/>
          </a:prstGeom>
          <a:ln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137" name="Прямая соединительная линия 16"/>
          <p:cNvCxnSpPr/>
          <p:nvPr/>
        </p:nvCxnSpPr>
        <p:spPr>
          <a:xfrm>
            <a:off x="4754880" y="2180160"/>
            <a:ext cx="3749400" cy="1800"/>
          </a:xfrm>
          <a:prstGeom prst="straightConnector1">
            <a:avLst/>
          </a:prstGeom>
          <a:ln>
            <a:solidFill>
              <a:srgbClr val="444d26">
                <a:tint val="20000"/>
              </a:srgbClr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4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C441B81-0CA3-4ABA-9F90-1CF9680DD12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E7741F-7361-4C21-B82C-57DBD4863E5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solidFill>
            <a:srgbClr val="fefdeb"/>
          </a:solidFill>
          <a:ln w="0">
            <a:noFill/>
          </a:ln>
          <a:effectLst>
            <a:outerShdw dist="0" dir="0" blurRad="88920" rotWithShape="0">
              <a:srgbClr val="000000">
                <a:alpha val="32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тавка рисунка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6629400" y="1600200"/>
            <a:ext cx="2057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19053FD-3399-495D-80D0-088365366F1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ftr" idx="2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00" strike="noStrike">
                <a:solidFill>
                  <a:srgbClr val="ff0000"/>
                </a:solidFill>
                <a:latin typeface="Constantia"/>
              </a:rPr>
              <a:t>ЖИТИЯ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000000"/>
                </a:solidFill>
                <a:latin typeface="Constantia"/>
              </a:rPr>
              <a:t>Житие Сергия Радонежского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2" name="Picture 2" descr="G:\Зинаида\Зинаида\Литература\8 класс\Жития\Сергий Р2.jpg"/>
          <p:cNvPicPr/>
          <p:nvPr/>
        </p:nvPicPr>
        <p:blipFill>
          <a:blip r:embed="rId1"/>
          <a:stretch/>
        </p:blipFill>
        <p:spPr>
          <a:xfrm>
            <a:off x="759240" y="1357200"/>
            <a:ext cx="3390840" cy="5143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G:\Зинаида\Зинаида\Литература\8 класс\Жития\Сергий Р4.jpg"/>
          <p:cNvPicPr/>
          <p:nvPr/>
        </p:nvPicPr>
        <p:blipFill>
          <a:blip r:embed="rId2"/>
          <a:stretch/>
        </p:blipFill>
        <p:spPr>
          <a:xfrm>
            <a:off x="5000760" y="1285920"/>
            <a:ext cx="3419280" cy="51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429160" y="2214720"/>
            <a:ext cx="3033360" cy="40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Constantia"/>
              </a:rPr>
              <a:t>Свято-Троицкая Сергиева Лавра города Сергиев Посад Московской области, на реке Кончуре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500800" y="214200"/>
            <a:ext cx="3214440" cy="185688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52" strike="noStrike">
                <a:solidFill>
                  <a:srgbClr val="ffffff"/>
                </a:solidFill>
                <a:latin typeface="Constantia"/>
              </a:rPr>
              <a:t>Место захоронения прп   Сергия Радонежского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6" name="Picture 3" descr="G:\Зинаида\Зинаида\Литература\8 класс\Жития\Сергий Р6.jpg"/>
          <p:cNvPicPr/>
          <p:nvPr/>
        </p:nvPicPr>
        <p:blipFill>
          <a:blip r:embed="rId1"/>
          <a:stretch/>
        </p:blipFill>
        <p:spPr>
          <a:xfrm>
            <a:off x="642960" y="571320"/>
            <a:ext cx="421740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ЖИТИЯ НОВЫХ МУРОMCKИX СВЯТЫХ ЧУДОТВОРЦЕВ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8" name="Picture 2" descr="G:\Зинаида\Зинаида\Литература\8 класс\Жития\Петр и Февронья1.jpg"/>
          <p:cNvPicPr/>
          <p:nvPr/>
        </p:nvPicPr>
        <p:blipFill>
          <a:blip r:embed="rId1"/>
          <a:stretch/>
        </p:blipFill>
        <p:spPr>
          <a:xfrm>
            <a:off x="357120" y="1357200"/>
            <a:ext cx="4021560" cy="5214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G:\Зинаида\Зинаида\Литература\8 класс\Жития\Петр и Февронья.jpg"/>
          <p:cNvPicPr/>
          <p:nvPr/>
        </p:nvPicPr>
        <p:blipFill>
          <a:blip r:embed="rId2"/>
          <a:stretch/>
        </p:blipFill>
        <p:spPr>
          <a:xfrm>
            <a:off x="4643280" y="1357200"/>
            <a:ext cx="4113000" cy="50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G:\Зинаида\Зинаида\Литература\8 класс\Жития\Петр и Февронья2.jpg"/>
          <p:cNvPicPr/>
          <p:nvPr/>
        </p:nvPicPr>
        <p:blipFill>
          <a:blip r:embed="rId1"/>
          <a:stretch/>
        </p:blipFill>
        <p:spPr>
          <a:xfrm>
            <a:off x="285840" y="285840"/>
            <a:ext cx="4785840" cy="63813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5286240" y="3214800"/>
            <a:ext cx="347940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8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Святые Петр и Феврония, благодаря их неординарному житию, воспевающему "союз любви, мудрый брак", известны всему миру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286240" y="214200"/>
            <a:ext cx="3476160" cy="292860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52" strike="noStrike">
                <a:solidFill>
                  <a:srgbClr val="ffff00"/>
                </a:solidFill>
                <a:latin typeface="Constantia"/>
              </a:rPr>
              <a:t>8 июля- День памяти </a:t>
            </a:r>
            <a:r>
              <a:rPr b="1" i="1" lang="ru-RU" sz="2800" spc="-52" strike="noStrike">
                <a:solidFill>
                  <a:srgbClr val="ffff00"/>
                </a:solidFill>
                <a:latin typeface="Constantia"/>
              </a:rPr>
              <a:t>угодников Божиих Муромских чудотворцев Петра и Февронии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572080" y="500040"/>
            <a:ext cx="328572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onstantia"/>
              </a:rPr>
              <a:t>Муромский Свято-Троицкий женский монастырь, в котором хранятся мощи Благоверных Петра и Февронии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4" name="Рисунок 33" descr="Муромский Свято-Троицкий женский монастырь"/>
          <p:cNvPicPr/>
          <p:nvPr/>
        </p:nvPicPr>
        <p:blipFill>
          <a:blip r:embed="rId1"/>
          <a:srcRect l="0" t="14586" r="0" b="14586"/>
          <a:stretch/>
        </p:blipFill>
        <p:spPr>
          <a:xfrm>
            <a:off x="214200" y="928800"/>
            <a:ext cx="5334480" cy="4928760"/>
          </a:xfrm>
          <a:prstGeom prst="rect">
            <a:avLst/>
          </a:prstGeom>
          <a:ln w="9525">
            <a:noFill/>
          </a:ln>
          <a:effectLst>
            <a:outerShdw algn="ctr" blurRad="88920" rotWithShape="0" sx="103000" sy="103000">
              <a:srgbClr val="000000">
                <a:alpha val="32000"/>
              </a:srgbClr>
            </a:outerShdw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cf059"/>
                </a:solidFill>
                <a:latin typeface="Constantia"/>
              </a:rPr>
              <a:t>Святой  Благоверный Великий Князь Александр Невский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2" descr="G:\Зинаида\Зинаида\Литература\8 класс\Жития\i.jpg"/>
          <p:cNvPicPr/>
          <p:nvPr/>
        </p:nvPicPr>
        <p:blipFill>
          <a:blip r:embed="rId1"/>
          <a:stretch/>
        </p:blipFill>
        <p:spPr>
          <a:xfrm>
            <a:off x="4786200" y="1500120"/>
            <a:ext cx="3928680" cy="482184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11" descr="http://upload.wikimedia.org/wikipedia/commons/4/40/Alexander_Newski.jpg"/>
          <p:cNvPicPr/>
          <p:nvPr/>
        </p:nvPicPr>
        <p:blipFill>
          <a:blip r:embed="rId2"/>
          <a:stretch/>
        </p:blipFill>
        <p:spPr>
          <a:xfrm>
            <a:off x="642960" y="1500120"/>
            <a:ext cx="316764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924320" cy="13712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58000"/>
          </a:bodyPr>
          <a:p>
            <a:pPr indent="0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14240" y="35712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97" strike="noStrike">
                <a:solidFill>
                  <a:srgbClr val="000000"/>
                </a:solidFill>
                <a:latin typeface="Constantia"/>
              </a:rPr>
              <a:t>Портрет Александра Невского кисти Павла Корина.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4" descr="G:\Зинаида\Зинаида\Литература\8 класс\Жития\Невский.jpg"/>
          <p:cNvPicPr/>
          <p:nvPr/>
        </p:nvPicPr>
        <p:blipFill>
          <a:blip r:embed="rId1"/>
          <a:stretch/>
        </p:blipFill>
        <p:spPr>
          <a:xfrm>
            <a:off x="857160" y="1571760"/>
            <a:ext cx="2356920" cy="4959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G:\Зинаида\Зинаида\Литература\8 класс\Жития\Невский1.jpg"/>
          <p:cNvPicPr/>
          <p:nvPr/>
        </p:nvPicPr>
        <p:blipFill>
          <a:blip r:embed="rId2"/>
          <a:stretch/>
        </p:blipFill>
        <p:spPr>
          <a:xfrm>
            <a:off x="3786120" y="2357280"/>
            <a:ext cx="4357440" cy="29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240" cy="1928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r>
              <a:rPr b="0" lang="ru-RU" sz="5400" spc="-100" strike="noStrike">
                <a:solidFill>
                  <a:srgbClr val="c00000"/>
                </a:solidFill>
                <a:latin typeface="Constantia"/>
              </a:rPr>
              <a:t>СВЯТЫЕ БОРИС И ГЛЕБ</a:t>
            </a:r>
            <a:br>
              <a:rPr sz="4800"/>
            </a:b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3" descr="G:\Зинаида\Зинаида\Литература\8 класс\Жития\Борис и Глеб.jpg"/>
          <p:cNvPicPr/>
          <p:nvPr/>
        </p:nvPicPr>
        <p:blipFill>
          <a:blip r:embed="rId1"/>
          <a:stretch/>
        </p:blipFill>
        <p:spPr>
          <a:xfrm>
            <a:off x="571320" y="1285920"/>
            <a:ext cx="3646800" cy="4857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G:\Зинаида\Зинаида\Литература\8 класс\Жития\Борис и Глеб1.jpg"/>
          <p:cNvPicPr/>
          <p:nvPr/>
        </p:nvPicPr>
        <p:blipFill>
          <a:blip r:embed="rId2"/>
          <a:stretch/>
        </p:blipFill>
        <p:spPr>
          <a:xfrm>
            <a:off x="4572000" y="1143000"/>
            <a:ext cx="4190760" cy="50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1" name="Picture 2" descr="G:\Зинаида\Зинаида\Литература\8 класс\Жития\Борис и Глеб2.jpg"/>
          <p:cNvPicPr/>
          <p:nvPr/>
        </p:nvPicPr>
        <p:blipFill>
          <a:blip r:embed="rId1"/>
          <a:stretch/>
        </p:blipFill>
        <p:spPr>
          <a:xfrm>
            <a:off x="500040" y="1785960"/>
            <a:ext cx="82540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G:\Зинаида\Зинаида\Литература\8 класс\Жития\Борис и Глеб3.jpg"/>
          <p:cNvPicPr/>
          <p:nvPr/>
        </p:nvPicPr>
        <p:blipFill>
          <a:blip r:embed="rId1"/>
          <a:stretch/>
        </p:blipFill>
        <p:spPr>
          <a:xfrm>
            <a:off x="1714320" y="357120"/>
            <a:ext cx="5299200" cy="60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br>
              <a:rPr sz="4200"/>
            </a:b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М.Нестеров. «Видение отроку Варфоломею»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4" name="Picture 2" descr="G:\Зинаида\Зинаида\Литература\8 класс\Жития\779px-Mikhail_Nesterov_001.jpg"/>
          <p:cNvPicPr/>
          <p:nvPr/>
        </p:nvPicPr>
        <p:blipFill>
          <a:blip r:embed="rId1"/>
          <a:stretch/>
        </p:blipFill>
        <p:spPr>
          <a:xfrm>
            <a:off x="1357200" y="1357200"/>
            <a:ext cx="6810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28760" y="214200"/>
            <a:ext cx="4039920" cy="13039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.М. Васнец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ергий Радонежский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6" name="Picture 2" descr="G:\Зинаида\Зинаида\Литература\8 класс\Жития\Сергий Р3.jpg"/>
          <p:cNvPicPr/>
          <p:nvPr/>
        </p:nvPicPr>
        <p:blipFill>
          <a:blip r:embed="rId1"/>
          <a:stretch/>
        </p:blipFill>
        <p:spPr>
          <a:xfrm>
            <a:off x="928800" y="1214280"/>
            <a:ext cx="2857320" cy="5271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0" y="0"/>
            <a:ext cx="4039920" cy="104724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. Рерих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ергий Радонежский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8" name="Picture 3" descr="G:\Зинаида\Зинаида\Литература\8 класс\Жития\Сергий Р5.jpg"/>
          <p:cNvPicPr/>
          <p:nvPr/>
        </p:nvPicPr>
        <p:blipFill>
          <a:blip r:embed="rId2"/>
          <a:stretch/>
        </p:blipFill>
        <p:spPr>
          <a:xfrm>
            <a:off x="4643280" y="1214280"/>
            <a:ext cx="393732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G:\Зинаида\Зинаида\Литература\8 класс\Жития\Сергий Р7.jpg"/>
          <p:cNvPicPr/>
          <p:nvPr/>
        </p:nvPicPr>
        <p:blipFill>
          <a:blip r:embed="rId1"/>
          <a:stretch/>
        </p:blipFill>
        <p:spPr>
          <a:xfrm>
            <a:off x="1857240" y="1428840"/>
            <a:ext cx="5466960" cy="5065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Нестеров</a:t>
            </a: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М. В. </a:t>
            </a:r>
            <a:br>
              <a:rPr sz="4200"/>
            </a:b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"Труды Сергия Радонежского 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  <Words>101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9-24T19:01:51Z</dcterms:modified>
  <cp:revision>12</cp:revision>
  <dc:subject/>
  <dc:title>Ж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