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3E4B-30FA-422D-AFB4-DA3032F0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E2BF-6EF2-42C8-BCD1-C5F87A1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D6D6-E435-428C-84C6-6B7E849A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A1A9-F8DA-4AF8-AFF1-DB75604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0BB-FE6E-40AA-A3F1-9B4E244F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F506-EF53-4485-8EC5-7AB8E191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F20F-2CCA-4E9D-B389-B1F01F3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FCB-A943-4818-8957-6856330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BCB2-47F3-42B6-9BAD-4223CCE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DEB2-BDA7-4C9F-9D63-E7216FE8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4708-DF3B-4586-A5AC-500C73E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51FE-A924-4B47-B813-AC81BE3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3AD2-EAED-4392-BFB8-96C60A2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DE87-9C31-46F0-9D24-0C93B41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609-1640-4EDB-B0B3-FAA860E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159-70D2-4251-97F2-A9ACFA85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FF1C-F760-4C41-B66E-9C7203EE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9393-5E4E-41EE-86FC-507D21D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C5E2-1DA3-49A4-9319-25E8C74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C784-B31B-4BF6-AD7E-045256B1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C08E-F16A-469B-B2D9-A94FDA6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875B-0608-4689-BFA9-B4A89AB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9C6E-35DB-48B1-8148-593B756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7048-E723-441A-98A5-B013FEE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1780-665A-40CA-9272-CF791FC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19E3-54EC-45B5-B163-72A8E9B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4E2F-1D83-467B-A559-8850196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1BE5-9F3A-4BEE-A79C-8AFDC42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5399-6091-4470-A630-CE34951B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45E2-B0BF-4A47-A992-E694D5E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4A44E-56A0-4CD5-9882-8E0CEA77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5EED0-348F-4FDA-9081-E207699E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827D4-2AB7-4BB1-829B-FE52FC4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1FAD-5480-4C79-BAEB-AA9CE9A2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70342-7AD0-489A-851B-9B178F1C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58B01-48A6-492B-8497-522F15E2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51333-EB44-4134-A333-0ED3C24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76A54-ED08-470D-A84F-963F120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79DAA-B9C0-4982-9651-3A000B9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A54F4-29A4-4B25-8988-014EAEA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A8365-BB19-4DCE-BAA5-789F178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6AB0E-B540-4FD5-8B47-31DFA28F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752D1-9A61-4EC9-BFBC-5399C9E3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4CC32-FCD5-40BD-98BA-C393BB4F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0B9E-ED0B-4668-9C94-C938A503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EE362-DD15-43B5-A489-FB9306F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029F0-5202-422E-BC08-E0C1E409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354DA-F2CA-4404-BE8C-10B8348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041C2-0704-4242-9BA5-1431127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B4C90-DCEF-4BBE-80BE-DEB026A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01F96-072E-4926-9153-DB8A7C7E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49B1A-F8CB-4D1F-AAEA-1EA15C7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1D51A-5662-42E4-A419-9031F4A6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C8367-1FF2-401F-9874-3F39554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F0528-B565-4C27-B078-21972874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CB1A-A7EC-4661-A69C-1EC75C6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AA255-4A77-4053-A3E4-98A1444F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01D5E-4870-4E36-BD94-F16FE1FE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3A554-6598-4E28-A5D5-F6F8D26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2658F-253C-4548-B1D3-64822B4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7793F-3395-4654-9EF8-DBB27FD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25006-76AA-495E-973F-CE9E569E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49811-61E9-46D8-825E-0C33EF19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BD2BF-B415-45E5-ADD6-E5EE524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2A0CF-FB4C-4B9F-B17F-4639E90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44477-EC58-4B31-AD0D-2C9A785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56CF-6C4A-44F3-8EC1-8D02145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DB6A9-B522-4375-9B4F-F4483C3B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D26F5-26B6-4CFC-8880-F1461CB1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6BD09-A832-4935-A3AB-4941D3DD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5C63D-C2F0-42BA-8D9F-C2405AE2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D5803-E1FC-4B76-BE23-789509C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6A50E-BBA6-4089-AC91-CBE27DF3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CAD53-DBB0-44B9-ADB2-E9B2BD0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39D62-3BF2-4F18-A3B6-B7F2C79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EB618-DF89-466D-96A0-B109447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58752-BC25-43E1-AA73-87A044D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E0F3-695A-4874-A446-70CCC8B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B8B24-2834-4725-8432-4BB89A33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77E06-7B46-43D5-B5B5-6FF16F9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BFBF8-7DC8-4D99-BAA1-F91764D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6B740-CA08-4167-8C36-5A3A2E9D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C34E1-2FD2-4674-9ADA-A6FB145A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4A68-E8FA-4855-B1B0-F571E0F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6E48A6-2BCD-4F4C-9654-C508615AE21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1BA171-F753-4562-87D8-28FD5967AC1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92D515E-DC17-423E-9ED3-B1BFECEC692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685800" y="4959000"/>
            <a:ext cx="7924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97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91" name="Прямая соединительная линия 6"/>
          <p:cNvCxnSpPr/>
          <p:nvPr/>
        </p:nvCxnSpPr>
        <p:spPr>
          <a:xfrm>
            <a:off x="685800" y="4916880"/>
            <a:ext cx="7925040" cy="4680"/>
          </a:xfrm>
          <a:prstGeom prst="straightConnector1">
            <a:avLst/>
          </a:prstGeom>
          <a:ln w="9525">
            <a:solidFill>
              <a:srgbClr val="e9e9e8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2BAA4D-4D8F-48D6-BB08-20A96026C00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45720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body"/>
          </p:nvPr>
        </p:nvSpPr>
        <p:spPr>
          <a:xfrm>
            <a:off x="464976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8"/>
          <p:cNvSpPr>
            <a:spLocks noGrp="1"/>
          </p:cNvSpPr>
          <p:nvPr>
            <p:ph type="body"/>
          </p:nvPr>
        </p:nvSpPr>
        <p:spPr>
          <a:xfrm>
            <a:off x="464832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36" name="Прямая соединительная линия 9"/>
          <p:cNvCxnSpPr/>
          <p:nvPr/>
        </p:nvCxnSpPr>
        <p:spPr>
          <a:xfrm>
            <a:off x="5626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137" name="Прямая соединительная линия 16"/>
          <p:cNvCxnSpPr/>
          <p:nvPr/>
        </p:nvCxnSpPr>
        <p:spPr>
          <a:xfrm>
            <a:off x="47548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4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A8E22C-FD53-4324-B5E6-6B67811CCA7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D1D0F5C-FE6C-4C84-A8C8-6FB957EE811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solidFill>
            <a:srgbClr val="fefdeb"/>
          </a:solidFill>
          <a:ln w="0">
            <a:noFill/>
          </a:ln>
          <a:effectLst>
            <a:outerShdw dist="0" dir="0" blurRad="88920" rotWithShape="0">
              <a:srgbClr val="000000">
                <a:alpha val="32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629400" y="1600200"/>
            <a:ext cx="2057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88A005-EBE8-4DCB-90AE-735AFA0E31E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00" strike="noStrike">
                <a:solidFill>
                  <a:srgbClr val="ff0000"/>
                </a:solidFill>
                <a:latin typeface="Constantia"/>
              </a:rPr>
              <a:t>ЖИТИЯ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000000"/>
                </a:solidFill>
                <a:latin typeface="Constantia"/>
              </a:rPr>
              <a:t>Житие Сергия Радонежского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2" name="Picture 2" descr="G:\Зинаида\Зинаида\Литература\8 класс\Жития\Сергий Р2.jpg"/>
          <p:cNvPicPr/>
          <p:nvPr/>
        </p:nvPicPr>
        <p:blipFill>
          <a:blip r:embed="rId1"/>
          <a:stretch/>
        </p:blipFill>
        <p:spPr>
          <a:xfrm>
            <a:off x="759240" y="1357200"/>
            <a:ext cx="3390840" cy="5143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G:\Зинаида\Зинаида\Литература\8 класс\Жития\Сергий Р4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19280" cy="51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429160" y="2214720"/>
            <a:ext cx="3033360" cy="40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Constantia"/>
              </a:rPr>
              <a:t>Свято-Троицкая Сергиева Лавра города Сергиев Посад Московской области, на реке Кончуре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500800" y="214200"/>
            <a:ext cx="3214440" cy="185688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52" strike="noStrike">
                <a:solidFill>
                  <a:srgbClr val="ffffff"/>
                </a:solidFill>
                <a:latin typeface="Constantia"/>
              </a:rPr>
              <a:t>Место захоронения прп   Сергия Радонежского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6" name="Picture 3" descr="G:\Зинаида\Зинаида\Литература\8 класс\Жития\Сергий Р6.jpg"/>
          <p:cNvPicPr/>
          <p:nvPr/>
        </p:nvPicPr>
        <p:blipFill>
          <a:blip r:embed="rId1"/>
          <a:stretch/>
        </p:blipFill>
        <p:spPr>
          <a:xfrm>
            <a:off x="642960" y="571320"/>
            <a:ext cx="421740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ЖИТИЯ НОВЫХ МУРОMCKИX СВЯТЫХ ЧУДОТВОРЦЕВ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8" name="Picture 2" descr="G:\Зинаида\Зинаида\Литература\8 класс\Жития\Петр и Февронья1.jpg"/>
          <p:cNvPicPr/>
          <p:nvPr/>
        </p:nvPicPr>
        <p:blipFill>
          <a:blip r:embed="rId1"/>
          <a:stretch/>
        </p:blipFill>
        <p:spPr>
          <a:xfrm>
            <a:off x="357120" y="1357200"/>
            <a:ext cx="4021560" cy="521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G:\Зинаида\Зинаида\Литература\8 класс\Жития\Петр и Февронья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13000" cy="50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Зинаида\Зинаида\Литература\8 класс\Жития\Петр и Февронья2.jpg"/>
          <p:cNvPicPr/>
          <p:nvPr/>
        </p:nvPicPr>
        <p:blipFill>
          <a:blip r:embed="rId1"/>
          <a:stretch/>
        </p:blipFill>
        <p:spPr>
          <a:xfrm>
            <a:off x="285840" y="285840"/>
            <a:ext cx="4785840" cy="6381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5286240" y="3214800"/>
            <a:ext cx="347940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8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Святые Петр и Феврония, благодаря их неординарному житию, воспевающему "союз любви, мудрый брак", известны всему миру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286240" y="214200"/>
            <a:ext cx="3476160" cy="292860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52" strike="noStrike">
                <a:solidFill>
                  <a:srgbClr val="ffff00"/>
                </a:solidFill>
                <a:latin typeface="Constantia"/>
              </a:rPr>
              <a:t>8 июля- День памяти </a:t>
            </a:r>
            <a:r>
              <a:rPr b="1" i="1" lang="ru-RU" sz="2800" spc="-52" strike="noStrike">
                <a:solidFill>
                  <a:srgbClr val="ffff00"/>
                </a:solidFill>
                <a:latin typeface="Constantia"/>
              </a:rPr>
              <a:t>угодников Божиих Муромских чудотворцев Петра и Февронии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572080" y="500040"/>
            <a:ext cx="328572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onstantia"/>
              </a:rPr>
              <a:t>Муромский Свято-Троицкий женский монастырь, в котором хранятся мощи Благоверных Петра и Феврони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4" name="Рисунок 33" descr="Муромский Свято-Троицкий женский монастырь"/>
          <p:cNvPicPr/>
          <p:nvPr/>
        </p:nvPicPr>
        <p:blipFill>
          <a:blip r:embed="rId1"/>
          <a:srcRect l="0" t="14586" r="0" b="14586"/>
          <a:stretch/>
        </p:blipFill>
        <p:spPr>
          <a:xfrm>
            <a:off x="214200" y="928800"/>
            <a:ext cx="5334480" cy="4928760"/>
          </a:xfrm>
          <a:prstGeom prst="rect">
            <a:avLst/>
          </a:prstGeom>
          <a:ln w="9525">
            <a:noFill/>
          </a:ln>
          <a:effectLst>
            <a:outerShdw algn="ctr" blurRad="88920" rotWithShape="0" sx="103000" sy="103000">
              <a:srgbClr val="000000">
                <a:alpha val="32000"/>
              </a:srgbClr>
            </a:outerShdw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cf059"/>
                </a:solidFill>
                <a:latin typeface="Constantia"/>
              </a:rPr>
              <a:t>Святой  Благоверный Великий Князь Александр Невский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2" descr="G:\Зинаида\Зинаида\Литература\8 класс\Жития\i.jpg"/>
          <p:cNvPicPr/>
          <p:nvPr/>
        </p:nvPicPr>
        <p:blipFill>
          <a:blip r:embed="rId1"/>
          <a:stretch/>
        </p:blipFill>
        <p:spPr>
          <a:xfrm>
            <a:off x="4786200" y="1500120"/>
            <a:ext cx="3928680" cy="48218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1" descr="http://upload.wikimedia.org/wikipedia/commons/4/40/Alexander_Newski.jpg"/>
          <p:cNvPicPr/>
          <p:nvPr/>
        </p:nvPicPr>
        <p:blipFill>
          <a:blip r:embed="rId2"/>
          <a:stretch/>
        </p:blipFill>
        <p:spPr>
          <a:xfrm>
            <a:off x="642960" y="1500120"/>
            <a:ext cx="316764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14240" y="35712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97" strike="noStrike">
                <a:solidFill>
                  <a:srgbClr val="000000"/>
                </a:solidFill>
                <a:latin typeface="Constantia"/>
              </a:rPr>
              <a:t>Портрет Александра Невского кисти Павла Корина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4" descr="G:\Зинаида\Зинаида\Литература\8 класс\Жития\Невский.jpg"/>
          <p:cNvPicPr/>
          <p:nvPr/>
        </p:nvPicPr>
        <p:blipFill>
          <a:blip r:embed="rId1"/>
          <a:stretch/>
        </p:blipFill>
        <p:spPr>
          <a:xfrm>
            <a:off x="857160" y="1571760"/>
            <a:ext cx="2356920" cy="4959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G:\Зинаида\Зинаида\Литература\8 класс\Жития\Невский1.jpg"/>
          <p:cNvPicPr/>
          <p:nvPr/>
        </p:nvPicPr>
        <p:blipFill>
          <a:blip r:embed="rId2"/>
          <a:stretch/>
        </p:blipFill>
        <p:spPr>
          <a:xfrm>
            <a:off x="3786120" y="2357280"/>
            <a:ext cx="4357440" cy="29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928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r>
              <a:rPr b="0" lang="ru-RU" sz="5400" spc="-100" strike="noStrike">
                <a:solidFill>
                  <a:srgbClr val="c00000"/>
                </a:solidFill>
                <a:latin typeface="Constantia"/>
              </a:rPr>
              <a:t>СВЯТЫЕ БОРИС И ГЛЕБ</a:t>
            </a:r>
            <a:br>
              <a:rPr sz="4800"/>
            </a:b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3" descr="G:\Зинаида\Зинаида\Литература\8 класс\Жития\Борис и Глеб.jpg"/>
          <p:cNvPicPr/>
          <p:nvPr/>
        </p:nvPicPr>
        <p:blipFill>
          <a:blip r:embed="rId1"/>
          <a:stretch/>
        </p:blipFill>
        <p:spPr>
          <a:xfrm>
            <a:off x="571320" y="1285920"/>
            <a:ext cx="3646800" cy="4857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G:\Зинаида\Зинаида\Литература\8 класс\Жития\Борис и Глеб1.jpg"/>
          <p:cNvPicPr/>
          <p:nvPr/>
        </p:nvPicPr>
        <p:blipFill>
          <a:blip r:embed="rId2"/>
          <a:stretch/>
        </p:blipFill>
        <p:spPr>
          <a:xfrm>
            <a:off x="4572000" y="1143000"/>
            <a:ext cx="4190760" cy="50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1" name="Picture 2" descr="G:\Зинаида\Зинаида\Литература\8 класс\Жития\Борис и Глеб2.jpg"/>
          <p:cNvPicPr/>
          <p:nvPr/>
        </p:nvPicPr>
        <p:blipFill>
          <a:blip r:embed="rId1"/>
          <a:stretch/>
        </p:blipFill>
        <p:spPr>
          <a:xfrm>
            <a:off x="500040" y="1785960"/>
            <a:ext cx="82540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G:\Зинаида\Зинаида\Литература\8 класс\Жития\Борис и Глеб3.jpg"/>
          <p:cNvPicPr/>
          <p:nvPr/>
        </p:nvPicPr>
        <p:blipFill>
          <a:blip r:embed="rId1"/>
          <a:stretch/>
        </p:blipFill>
        <p:spPr>
          <a:xfrm>
            <a:off x="1714320" y="357120"/>
            <a:ext cx="5299200" cy="60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br>
              <a:rPr sz="4200"/>
            </a:b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М.Нестеров. «Видение отроку Варфоломею»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Picture 2" descr="G:\Зинаида\Зинаида\Литература\8 класс\Жития\779px-Mikhail_Nesterov_001.jpg"/>
          <p:cNvPicPr/>
          <p:nvPr/>
        </p:nvPicPr>
        <p:blipFill>
          <a:blip r:embed="rId1"/>
          <a:stretch/>
        </p:blipFill>
        <p:spPr>
          <a:xfrm>
            <a:off x="1357200" y="1357200"/>
            <a:ext cx="6810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28760" y="214200"/>
            <a:ext cx="4039920" cy="13039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.М. Васнец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6" name="Picture 2" descr="G:\Зинаида\Зинаида\Литература\8 класс\Жития\Сергий Р3.jpg"/>
          <p:cNvPicPr/>
          <p:nvPr/>
        </p:nvPicPr>
        <p:blipFill>
          <a:blip r:embed="rId1"/>
          <a:stretch/>
        </p:blipFill>
        <p:spPr>
          <a:xfrm>
            <a:off x="928800" y="1214280"/>
            <a:ext cx="2857320" cy="5271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039920" cy="104724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. Рерих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8" name="Picture 3" descr="G:\Зинаида\Зинаида\Литература\8 класс\Жития\Сергий Р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9373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G:\Зинаида\Зинаида\Литература\8 класс\Жития\Сергий Р7.jpg"/>
          <p:cNvPicPr/>
          <p:nvPr/>
        </p:nvPicPr>
        <p:blipFill>
          <a:blip r:embed="rId1"/>
          <a:stretch/>
        </p:blipFill>
        <p:spPr>
          <a:xfrm>
            <a:off x="1857240" y="1428840"/>
            <a:ext cx="5466960" cy="5065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Нестеров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М. В. </a:t>
            </a:r>
            <a:br>
              <a:rPr sz="4200"/>
            </a:b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"Труды Сергия Радонежского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101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24T19:01:51Z</dcterms:modified>
  <cp:revision>12</cp:revision>
  <dc:subject/>
  <dc:title>Ж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