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6184-1419-440B-B2D6-0A106A26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8C33-86D6-42C3-9F7D-4FCC895B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F8E82-6276-47D4-B219-DA52D57F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0F9DA-8782-47BE-9240-704FE612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D89D-2CD7-4B3B-9937-452ED77C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1040-B587-4E9E-BA53-1030FF8E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B686-0E39-472A-91A5-A2A22F8E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7189-BF84-4EAA-B0EA-A02AF87D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F743-D3C6-4FC1-8267-6BD50AEF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DC14-EE18-4C60-AFC2-FBF76020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AB2F-CD23-4920-BF22-5C0BBF44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9465-3E39-4262-B7E2-A479ABF5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2C9A-7A5E-4425-8831-33B99216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A754-F340-432D-8E45-6642A981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055B-762C-4F2B-8DAF-1AAE5A39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EF75-C86C-4833-B184-67DAD065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2BD7-FED0-4644-8871-F6755FFF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0A142-5CD7-48E8-9407-69334148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26CF2-66BD-4921-9B2B-4E2E68F0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5D8B4-9D06-4E8E-A097-79D286B5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269A-5167-46D6-8D6B-FEFE4740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A645E-1833-4C19-A459-6B2CC63E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EBEE9-A942-498D-8F3D-541DD61F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01A6B-7F73-48A5-B4B1-CAFC9B8B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C26E1-76AB-4B95-A19C-6E668A60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234D4-8920-4977-AF14-381068BF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BA3D7-8CD4-41D0-8D14-F5D5E7D5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6D446-5D4A-4027-AB5F-00A44389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B51A-3B42-41D6-8970-F00BAE51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B62D6-7AE8-4431-A09C-03727E60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59F3B6-A0AD-4CE2-8401-A06E2428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0445E2-8538-4B66-9E1B-821B740C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A8E70B-85A2-4FD0-933D-3A2C8763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C188F-9AF5-43AE-9F6D-0E270AFA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873271-3157-4F9B-897D-DC1860F5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7A642B-D1F2-4040-A497-763542ED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CD709E-A9F9-4E6D-A423-F5571615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9DBC9D-FBE7-47A9-8300-798EE9B8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E10E2-8BFE-4494-B201-4D8611DB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AB0207-F2FB-4FB1-BE4B-0F1111A9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747D28-A2AD-43E7-B303-EAA0A253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EBE33-E377-4D10-A648-2C7E38DC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3484D2-FA41-4E29-B0D1-2E578054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C4769A-1FC7-4833-9281-E8FB71DC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1A8E-FD95-40AF-B207-19C76C6A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F1217-FCB9-40D4-9004-0C54DDF7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35479-3AB7-4C7A-AEAC-49479A88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92DF1-74A6-467E-8DB4-94D296E0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9816F6-158F-43C6-B42C-A121D3BA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1B107-6165-49EC-83E6-1533B5A0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C5869-C020-4240-85E6-541AE643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B2980-B970-4B59-AA6C-9F11A932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AE3C2-8683-4D97-B829-00C54E56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D7321-91E2-45D2-B03E-62471069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2DB6C-17EE-4E86-8472-BB7C2C92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747CD-FCE4-4A3B-84E7-00E4BE85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2BB67-AB9B-4B8A-99D2-75013D6C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4C9F5-3D91-42C1-8A5D-FC7D9734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E94EFB-A3E7-4F5F-AB42-793FEE5C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759E4-BCC5-422B-A437-E409B17B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ED7E89-FD5E-42A1-A28D-03C163BF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76991A-8CD1-4EBA-A35D-2785D9BC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541CB-A23B-49CC-9B44-E821FF90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CC7A6F-50C2-44D4-A8CA-D59299FD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B2DFB-A8B6-405B-8E1F-58620550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C1272E-40BA-42E7-B829-6B31D682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65CA-27A7-4557-9DD1-B05BBAD6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7CE1F4-9E67-490B-AAA1-4BAD4637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5E6A6B-250C-4992-9D1E-34127959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7BC299-7982-40AE-889D-A1D97B44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7DA19-8BEC-447F-90FA-51AA7FDA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F20221-62F2-4408-8D5D-75FBF070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E5CA39-A4C5-4AC5-B16E-FCB46EEC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5B33F3-EDE8-4A4C-A202-DFE7FE68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187957-5C31-4A6D-9162-75D5B02C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629400" y="457200"/>
            <a:ext cx="2057040" cy="49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94C38-0DB1-46FC-9176-373C38BF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1DCAA0-11DD-4D2F-8D8E-56BB18CD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1347-F1D3-41CD-968E-DF8A877C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96BD5B-BD86-46FC-A8DA-B68A6CEA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4E582-682D-4EA5-B5A2-C04CB9CF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DF96B2-9CFD-4F8E-8942-A813F408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541680" y="336276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567A05-1D39-4619-9A2B-9C1B372E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49228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27360" y="45720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49228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4527360" y="3362760"/>
            <a:ext cx="19378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5D577-E4CE-44E2-9825-0FC0B3E2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41680" y="457200"/>
            <a:ext cx="293724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362760"/>
            <a:ext cx="601956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0BFC2-4530-4F77-BEB3-45E58C95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2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 w="9525">
            <a:solidFill>
              <a:srgbClr val="444d26">
                <a:tint val="20000"/>
              </a:srgbClr>
            </a:solidFill>
            <a:round/>
          </a:ln>
        </p:spPr>
      </p:cxnSp>
      <p:sp>
        <p:nvSpPr>
          <p:cNvPr id="3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f3a447"/>
          </a:solidFill>
          <a:ln>
            <a:solidFill>
              <a:srgbClr val="f3a447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95F3A53-5C72-4FCB-B8D7-74AE9843037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CD33AD1-96AD-4A00-A314-9784CDCDD3A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FA8CE5F-A011-43B8-921A-291E80015A4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924320" cy="13712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685800" y="4959000"/>
            <a:ext cx="79243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97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91" name="Прямая соединительная линия 6"/>
          <p:cNvCxnSpPr/>
          <p:nvPr/>
        </p:nvCxnSpPr>
        <p:spPr>
          <a:xfrm>
            <a:off x="685800" y="4916880"/>
            <a:ext cx="7925040" cy="4680"/>
          </a:xfrm>
          <a:prstGeom prst="straightConnector1">
            <a:avLst/>
          </a:prstGeom>
          <a:ln w="9525">
            <a:solidFill>
              <a:srgbClr val="e9e9e8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Num" idx="10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B11FB19-663F-440B-A7DB-6150FC91641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457200" y="1399680"/>
            <a:ext cx="4039920" cy="76176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2201760"/>
            <a:ext cx="403812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body"/>
          </p:nvPr>
        </p:nvSpPr>
        <p:spPr>
          <a:xfrm>
            <a:off x="4649760" y="2201760"/>
            <a:ext cx="403812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240" cy="11426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8"/>
          <p:cNvSpPr>
            <a:spLocks noGrp="1"/>
          </p:cNvSpPr>
          <p:nvPr>
            <p:ph type="body"/>
          </p:nvPr>
        </p:nvSpPr>
        <p:spPr>
          <a:xfrm>
            <a:off x="4648320" y="1399680"/>
            <a:ext cx="4039920" cy="76176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136" name="Прямая соединительная линия 9"/>
          <p:cNvCxnSpPr/>
          <p:nvPr/>
        </p:nvCxnSpPr>
        <p:spPr>
          <a:xfrm>
            <a:off x="562680" y="2180160"/>
            <a:ext cx="3749400" cy="1800"/>
          </a:xfrm>
          <a:prstGeom prst="straightConnector1">
            <a:avLst/>
          </a:prstGeom>
          <a:ln>
            <a:solidFill>
              <a:srgbClr val="444d26">
                <a:tint val="20000"/>
              </a:srgbClr>
            </a:solidFill>
            <a:round/>
          </a:ln>
        </p:spPr>
      </p:cxnSp>
      <p:cxnSp>
        <p:nvCxnSpPr>
          <p:cNvPr id="137" name="Прямая соединительная линия 16"/>
          <p:cNvCxnSpPr/>
          <p:nvPr/>
        </p:nvCxnSpPr>
        <p:spPr>
          <a:xfrm>
            <a:off x="4754880" y="2180160"/>
            <a:ext cx="3749400" cy="1800"/>
          </a:xfrm>
          <a:prstGeom prst="straightConnector1">
            <a:avLst/>
          </a:prstGeom>
          <a:ln>
            <a:solidFill>
              <a:srgbClr val="444d26">
                <a:tint val="20000"/>
              </a:srgbClr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4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97A6389-18B3-4F8D-B5B1-7BF6CD4C6F3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457200"/>
            <a:ext cx="624816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1680" y="1600200"/>
            <a:ext cx="19839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title"/>
          </p:nvPr>
        </p:nvSpPr>
        <p:spPr>
          <a:xfrm>
            <a:off x="6781680" y="457200"/>
            <a:ext cx="1980720" cy="106632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52" strike="noStrike">
                <a:solidFill>
                  <a:srgbClr val="fefac9"/>
                </a:solidFill>
                <a:latin typeface="Constantia"/>
              </a:rPr>
              <a:t>Образец заголовка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7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4C40DD0-4784-48AC-B4A8-3928D2D9138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629400" y="457200"/>
            <a:ext cx="2057040" cy="106632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52" strike="noStrike">
                <a:solidFill>
                  <a:srgbClr val="fefac9"/>
                </a:solidFill>
                <a:latin typeface="Constantia"/>
              </a:rPr>
              <a:t>Образец заголовка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457200"/>
            <a:ext cx="6019560" cy="5562360"/>
          </a:xfrm>
          <a:prstGeom prst="rect">
            <a:avLst/>
          </a:prstGeom>
          <a:solidFill>
            <a:srgbClr val="fefdeb"/>
          </a:solidFill>
          <a:ln w="0">
            <a:noFill/>
          </a:ln>
          <a:effectLst>
            <a:outerShdw dist="0" dir="0" blurRad="88920" rotWithShape="0">
              <a:srgbClr val="000000">
                <a:alpha val="32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ставка рисунка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body"/>
          </p:nvPr>
        </p:nvSpPr>
        <p:spPr>
          <a:xfrm>
            <a:off x="6629400" y="1600200"/>
            <a:ext cx="2057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Образец текста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0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8B6CB7C-4BA8-4BB7-AFDA-E599B3FDA4A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ftr" idx="2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00" strike="noStrike">
                <a:solidFill>
                  <a:srgbClr val="ff0000"/>
                </a:solidFill>
                <a:latin typeface="Constantia"/>
              </a:rPr>
              <a:t>ЖИТИЯ</a:t>
            </a: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000000"/>
                </a:solidFill>
                <a:latin typeface="Constantia"/>
              </a:rPr>
              <a:t>Житие Сергия Радонежского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2" name="Picture 2" descr="G:\Зинаида\Зинаида\Литература\8 класс\Жития\Сергий Р2.jpg"/>
          <p:cNvPicPr/>
          <p:nvPr/>
        </p:nvPicPr>
        <p:blipFill>
          <a:blip r:embed="rId1"/>
          <a:stretch/>
        </p:blipFill>
        <p:spPr>
          <a:xfrm>
            <a:off x="759240" y="1357200"/>
            <a:ext cx="3390840" cy="5143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G:\Зинаида\Зинаида\Литература\8 класс\Жития\Сергий Р4.jpg"/>
          <p:cNvPicPr/>
          <p:nvPr/>
        </p:nvPicPr>
        <p:blipFill>
          <a:blip r:embed="rId2"/>
          <a:stretch/>
        </p:blipFill>
        <p:spPr>
          <a:xfrm>
            <a:off x="5000760" y="1285920"/>
            <a:ext cx="3419280" cy="515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429160" y="2214720"/>
            <a:ext cx="3033360" cy="40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efac9"/>
                </a:solidFill>
                <a:latin typeface="Constantia"/>
              </a:rPr>
              <a:t>Свято-Троицкая Сергиева Лавра города Сергиев Посад Московской области, на реке Кончуре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5500800" y="214200"/>
            <a:ext cx="3214440" cy="185688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52" strike="noStrike">
                <a:solidFill>
                  <a:srgbClr val="ffffff"/>
                </a:solidFill>
                <a:latin typeface="Constantia"/>
              </a:rPr>
              <a:t>Место захоронения прп   Сергия Радонежского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6" name="Picture 3" descr="G:\Зинаида\Зинаида\Литература\8 класс\Жития\Сергий Р6.jpg"/>
          <p:cNvPicPr/>
          <p:nvPr/>
        </p:nvPicPr>
        <p:blipFill>
          <a:blip r:embed="rId1"/>
          <a:stretch/>
        </p:blipFill>
        <p:spPr>
          <a:xfrm>
            <a:off x="642960" y="571320"/>
            <a:ext cx="4217400" cy="58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000000"/>
                </a:solidFill>
                <a:latin typeface="Constantia"/>
              </a:rPr>
              <a:t>ЖИТИЯ НОВЫХ МУРОMCKИX СВЯТЫХ ЧУДОТВОРЦЕВ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8" name="Picture 2" descr="G:\Зинаида\Зинаида\Литература\8 класс\Жития\Петр и Февронья1.jpg"/>
          <p:cNvPicPr/>
          <p:nvPr/>
        </p:nvPicPr>
        <p:blipFill>
          <a:blip r:embed="rId1"/>
          <a:stretch/>
        </p:blipFill>
        <p:spPr>
          <a:xfrm>
            <a:off x="357120" y="1357200"/>
            <a:ext cx="4021560" cy="5214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G:\Зинаида\Зинаида\Литература\8 класс\Жития\Петр и Февронья.jpg"/>
          <p:cNvPicPr/>
          <p:nvPr/>
        </p:nvPicPr>
        <p:blipFill>
          <a:blip r:embed="rId2"/>
          <a:stretch/>
        </p:blipFill>
        <p:spPr>
          <a:xfrm>
            <a:off x="4643280" y="1357200"/>
            <a:ext cx="4113000" cy="509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G:\Зинаида\Зинаида\Литература\8 класс\Жития\Петр и Февронья2.jpg"/>
          <p:cNvPicPr/>
          <p:nvPr/>
        </p:nvPicPr>
        <p:blipFill>
          <a:blip r:embed="rId1"/>
          <a:stretch/>
        </p:blipFill>
        <p:spPr>
          <a:xfrm>
            <a:off x="285840" y="285840"/>
            <a:ext cx="4785840" cy="63813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5286240" y="3214800"/>
            <a:ext cx="347940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87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nstantia"/>
              </a:rPr>
              <a:t>Святые Петр и Феврония, благодаря их неординарному житию, воспевающему "союз любви, мудрый брак", известны всему миру. 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5286240" y="214200"/>
            <a:ext cx="3476160" cy="2928600"/>
          </a:xfrm>
          <a:prstGeom prst="rect">
            <a:avLst/>
          </a:prstGeom>
          <a:noFill/>
          <a:ln w="6480">
            <a:noFill/>
          </a:ln>
        </p:spPr>
        <p:txBody>
          <a:bodyPr rIns="90000" tIns="91440" bIns="45000" anchor="b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52" strike="noStrike">
                <a:solidFill>
                  <a:srgbClr val="ffff00"/>
                </a:solidFill>
                <a:latin typeface="Constantia"/>
              </a:rPr>
              <a:t>8 июля- День памяти </a:t>
            </a:r>
            <a:r>
              <a:rPr b="1" i="1" lang="ru-RU" sz="2800" spc="-52" strike="noStrike">
                <a:solidFill>
                  <a:srgbClr val="ffff00"/>
                </a:solidFill>
                <a:latin typeface="Constantia"/>
              </a:rPr>
              <a:t>угодников Божиих Муромских чудотворцев Петра и Февронии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572080" y="500040"/>
            <a:ext cx="328572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fcf059"/>
                </a:solidFill>
                <a:latin typeface="Constantia"/>
              </a:rPr>
              <a:t>Муромский Свято-Троицкий женский монастырь, в котором хранятся мощи Благоверных Петра и Февронии.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4" name="Рисунок 33" descr="Муромский Свято-Троицкий женский монастырь"/>
          <p:cNvPicPr/>
          <p:nvPr/>
        </p:nvPicPr>
        <p:blipFill>
          <a:blip r:embed="rId1"/>
          <a:srcRect l="0" t="14586" r="0" b="14586"/>
          <a:stretch/>
        </p:blipFill>
        <p:spPr>
          <a:xfrm>
            <a:off x="214200" y="928800"/>
            <a:ext cx="5334480" cy="4928760"/>
          </a:xfrm>
          <a:prstGeom prst="rect">
            <a:avLst/>
          </a:prstGeom>
          <a:ln w="9525">
            <a:noFill/>
          </a:ln>
          <a:effectLst>
            <a:outerShdw algn="ctr" blurRad="88920" rotWithShape="0" sx="103000" sy="103000">
              <a:srgbClr val="000000">
                <a:alpha val="32000"/>
              </a:srgbClr>
            </a:outerShdw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cf059"/>
                </a:solidFill>
                <a:latin typeface="Constantia"/>
              </a:rPr>
              <a:t>Святой  Благоверный Великий Князь Александр Невский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1" name="Picture 2" descr="G:\Зинаида\Зинаида\Литература\8 класс\Жития\i.jpg"/>
          <p:cNvPicPr/>
          <p:nvPr/>
        </p:nvPicPr>
        <p:blipFill>
          <a:blip r:embed="rId1"/>
          <a:stretch/>
        </p:blipFill>
        <p:spPr>
          <a:xfrm>
            <a:off x="4786200" y="1500120"/>
            <a:ext cx="3928680" cy="482184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11" descr="http://upload.wikimedia.org/wikipedia/commons/4/40/Alexander_Newski.jpg"/>
          <p:cNvPicPr/>
          <p:nvPr/>
        </p:nvPicPr>
        <p:blipFill>
          <a:blip r:embed="rId2"/>
          <a:stretch/>
        </p:blipFill>
        <p:spPr>
          <a:xfrm>
            <a:off x="642960" y="1500120"/>
            <a:ext cx="3167640" cy="4857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924320" cy="137124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58000"/>
          </a:bodyPr>
          <a:p>
            <a:pPr indent="0">
              <a:lnSpc>
                <a:spcPct val="100000"/>
              </a:lnSpc>
              <a:buNone/>
            </a:pPr>
            <a:br>
              <a:rPr sz="4800"/>
            </a:br>
            <a:br>
              <a:rPr sz="4800"/>
            </a:b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14240" y="35712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600" spc="97" strike="noStrike">
                <a:solidFill>
                  <a:srgbClr val="000000"/>
                </a:solidFill>
                <a:latin typeface="Constantia"/>
              </a:rPr>
              <a:t>Портрет Александра Невского кисти Павла Корина.</a:t>
            </a:r>
            <a:endParaRPr b="0" lang="ru-RU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Picture 4" descr="G:\Зинаида\Зинаида\Литература\8 класс\Жития\Невский.jpg"/>
          <p:cNvPicPr/>
          <p:nvPr/>
        </p:nvPicPr>
        <p:blipFill>
          <a:blip r:embed="rId1"/>
          <a:stretch/>
        </p:blipFill>
        <p:spPr>
          <a:xfrm>
            <a:off x="857160" y="1571760"/>
            <a:ext cx="2356920" cy="4959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G:\Зинаида\Зинаида\Литература\8 класс\Жития\Невский1.jpg"/>
          <p:cNvPicPr/>
          <p:nvPr/>
        </p:nvPicPr>
        <p:blipFill>
          <a:blip r:embed="rId2"/>
          <a:stretch/>
        </p:blipFill>
        <p:spPr>
          <a:xfrm>
            <a:off x="3786120" y="2357280"/>
            <a:ext cx="4357440" cy="29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0040" y="-214200"/>
            <a:ext cx="8229240" cy="19285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800"/>
            </a:br>
            <a:br>
              <a:rPr sz="4800"/>
            </a:br>
            <a:r>
              <a:rPr b="0" lang="ru-RU" sz="5400" spc="-100" strike="noStrike">
                <a:solidFill>
                  <a:srgbClr val="c00000"/>
                </a:solidFill>
                <a:latin typeface="Constantia"/>
              </a:rPr>
              <a:t>СВЯТЫЕ БОРИС И ГЛЕБ</a:t>
            </a:r>
            <a:br>
              <a:rPr sz="4800"/>
            </a:br>
            <a:endParaRPr b="0" lang="ru-RU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8" name="Picture 3" descr="G:\Зинаида\Зинаида\Литература\8 класс\Жития\Борис и Глеб.jpg"/>
          <p:cNvPicPr/>
          <p:nvPr/>
        </p:nvPicPr>
        <p:blipFill>
          <a:blip r:embed="rId1"/>
          <a:stretch/>
        </p:blipFill>
        <p:spPr>
          <a:xfrm>
            <a:off x="571320" y="1285920"/>
            <a:ext cx="3646800" cy="4857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G:\Зинаида\Зинаида\Литература\8 класс\Жития\Борис и Глеб1.jpg"/>
          <p:cNvPicPr/>
          <p:nvPr/>
        </p:nvPicPr>
        <p:blipFill>
          <a:blip r:embed="rId2"/>
          <a:stretch/>
        </p:blipFill>
        <p:spPr>
          <a:xfrm>
            <a:off x="4572000" y="1143000"/>
            <a:ext cx="4190760" cy="50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311" name="Picture 2" descr="G:\Зинаида\Зинаида\Литература\8 класс\Жития\Борис и Глеб2.jpg"/>
          <p:cNvPicPr/>
          <p:nvPr/>
        </p:nvPicPr>
        <p:blipFill>
          <a:blip r:embed="rId1"/>
          <a:stretch/>
        </p:blipFill>
        <p:spPr>
          <a:xfrm>
            <a:off x="500040" y="1785960"/>
            <a:ext cx="825408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G:\Зинаида\Зинаида\Литература\8 класс\Жития\Борис и Глеб3.jpg"/>
          <p:cNvPicPr/>
          <p:nvPr/>
        </p:nvPicPr>
        <p:blipFill>
          <a:blip r:embed="rId1"/>
          <a:stretch/>
        </p:blipFill>
        <p:spPr>
          <a:xfrm>
            <a:off x="1714320" y="357120"/>
            <a:ext cx="5299200" cy="60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br>
              <a:rPr sz="4200"/>
            </a:br>
            <a:r>
              <a:rPr b="0" lang="ru-RU" sz="4200" spc="-100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200" spc="-100" strike="noStrike">
                <a:solidFill>
                  <a:srgbClr val="000000"/>
                </a:solidFill>
                <a:latin typeface="Constantia"/>
              </a:rPr>
              <a:t>М.Нестеров. «Видение отроку Варфоломею»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4" name="Picture 2" descr="G:\Зинаида\Зинаида\Литература\8 класс\Жития\779px-Mikhail_Nesterov_001.jpg"/>
          <p:cNvPicPr/>
          <p:nvPr/>
        </p:nvPicPr>
        <p:blipFill>
          <a:blip r:embed="rId1"/>
          <a:stretch/>
        </p:blipFill>
        <p:spPr>
          <a:xfrm>
            <a:off x="1357200" y="1357200"/>
            <a:ext cx="68101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28760" y="214200"/>
            <a:ext cx="4039920" cy="130392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В.М. Васнецов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Сергий Радонежский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6" name="Picture 2" descr="G:\Зинаида\Зинаида\Литература\8 класс\Жития\Сергий Р3.jpg"/>
          <p:cNvPicPr/>
          <p:nvPr/>
        </p:nvPicPr>
        <p:blipFill>
          <a:blip r:embed="rId1"/>
          <a:stretch/>
        </p:blipFill>
        <p:spPr>
          <a:xfrm>
            <a:off x="928800" y="1214280"/>
            <a:ext cx="2857320" cy="527184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0" y="0"/>
            <a:ext cx="4039920" cy="1047240"/>
          </a:xfrm>
          <a:prstGeom prst="rect">
            <a:avLst/>
          </a:prstGeom>
          <a:noFill/>
          <a:ln w="2556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. Рерих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Сергий Радонежский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8" name="Picture 3" descr="G:\Зинаида\Зинаида\Литература\8 класс\Жития\Сергий Р5.jpg"/>
          <p:cNvPicPr/>
          <p:nvPr/>
        </p:nvPicPr>
        <p:blipFill>
          <a:blip r:embed="rId2"/>
          <a:stretch/>
        </p:blipFill>
        <p:spPr>
          <a:xfrm>
            <a:off x="4643280" y="1214280"/>
            <a:ext cx="3937320" cy="52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G:\Зинаида\Зинаида\Литература\8 класс\Жития\Сергий Р7.jpg"/>
          <p:cNvPicPr/>
          <p:nvPr/>
        </p:nvPicPr>
        <p:blipFill>
          <a:blip r:embed="rId1"/>
          <a:stretch/>
        </p:blipFill>
        <p:spPr>
          <a:xfrm>
            <a:off x="1857240" y="1428840"/>
            <a:ext cx="5466960" cy="5065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200" spc="-100" strike="noStrike">
                <a:solidFill>
                  <a:srgbClr val="000000"/>
                </a:solidFill>
                <a:latin typeface="Constantia"/>
              </a:rPr>
              <a:t>Нестеров</a:t>
            </a:r>
            <a:r>
              <a:rPr b="0" lang="ru-RU" sz="4200" spc="-100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200" spc="-100" strike="noStrike">
                <a:solidFill>
                  <a:srgbClr val="000000"/>
                </a:solidFill>
                <a:latin typeface="Constantia"/>
              </a:rPr>
              <a:t>М. В. </a:t>
            </a:r>
            <a:br>
              <a:rPr sz="4200"/>
            </a:br>
            <a:r>
              <a:rPr b="1" lang="ru-RU" sz="4200" spc="-100" strike="noStrike">
                <a:solidFill>
                  <a:srgbClr val="000000"/>
                </a:solidFill>
                <a:latin typeface="Constantia"/>
              </a:rPr>
              <a:t>"Труды Сергия Радонежского 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  <Words>101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9-24T19:01:51Z</dcterms:modified>
  <cp:revision>12</cp:revision>
  <dc:subject/>
  <dc:title>ЖИТ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