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whoosh.wav" ContentType="audio/x-wav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ADF-CFB7-4069-A962-042AFDF5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19B-2525-4950-A3FC-9F9505CD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65A-B933-47B8-ACC0-84188A3C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CEA-42E5-4C98-A413-A30FC308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DAE4-4C56-4417-9EE6-2A10497E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06E3-3E2C-4E81-B96E-515E9985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7C39-E250-419E-8928-F82EB437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66E3-E58A-4E50-BB86-F8E90D46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5C28-C585-4656-835D-3894A0B2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8B5A-186E-482A-B126-D5D8B654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9C1A-4598-403A-98A3-89AF6431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E67-BB8E-4CD0-A7CA-92E01749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03A6-4C00-4190-AB5E-28F85AE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2CC-49BB-4F20-B48C-CB1BA30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8685-D1CD-4BEE-B4EE-772EBD21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F5CF-8BD4-4E7E-8D7C-B265F702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F55F-2FF0-44C7-95F2-16954B6C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FDB-5D13-4BF5-8A65-2A882237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7D1-F0D3-4002-BE98-E441B72B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CFD-B1C9-485C-916C-2037C7A8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D3F-F7A1-4843-86D1-9C76BA38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E14-A87A-4BDF-8AA7-8E4BB22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142-1CAB-4485-914C-29D000A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307-7468-4593-A8B8-91049504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11DE-F894-4461-99F7-CA40FEA14B1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9610-141D-4B37-895A-AB2EC9637020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47640" y="1422360"/>
            <a:ext cx="7696440" cy="3526920"/>
          </a:xfrm>
          <a:prstGeom prst="rect">
            <a:avLst/>
          </a:prstGeom>
          <a:solidFill>
            <a:srgbClr val="ddf35b"/>
          </a:solidFill>
          <a:ln w="19080">
            <a:solidFill>
              <a:srgbClr val="dce2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КОМПЕТЕНТНОСТНО-ОРИЕНТИРОВАННЫЙ ПОДХОД В ФОРМИРОВАНИИ СОДЕРЖАНИЯ  ОБРАЗОВАНИЯ ДЕТЕЙ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СНОВНЫЕ ФОРМЫ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омпетентностно-ориентированного образования в учреждениях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85800" y="1981080"/>
          <a:ext cx="7772400" cy="4133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Общеобразовательные учрежде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Учреждения дополнительного образования дет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56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Основное звено (форма) образова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урок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няти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тностно-ориентированные формы образова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Проект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ТД или проект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 rot="5400000">
            <a:off x="2285640" y="28195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6476760" y="28195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2285640" y="365760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2285640" y="449568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2285640" y="53341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5400000">
            <a:off x="6552720" y="37339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6552720" y="449568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5400000">
            <a:off x="6629040" y="5334120"/>
            <a:ext cx="228600" cy="228600"/>
          </a:xfrm>
          <a:custGeom>
            <a:avLst/>
            <a:gdLst>
              <a:gd name="textAreaLeft" fmla="*/ 28440 w 228600"/>
              <a:gd name="textAreaRight" fmla="*/ 200160 w 228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7dc72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ФОРМИРОВАНИЕ ЗАКАЗА НА КОМПЕТЕНТНОСТНО-ОРИЕНТИРОВАННОЕ ОБРАЗОВАНИЕ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19040" y="2133720"/>
          <a:ext cx="8153640" cy="4232160"/>
        </p:xfrm>
        <a:graphic>
          <a:graphicData uri="http://schemas.openxmlformats.org/drawingml/2006/table">
            <a:tbl>
              <a:tblPr/>
              <a:tblGrid>
                <a:gridCol w="1638360"/>
                <a:gridCol w="380880"/>
                <a:gridCol w="1779840"/>
                <a:gridCol w="353880"/>
                <a:gridCol w="1752480"/>
                <a:gridCol w="381240"/>
                <a:gridCol w="186696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от дет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от родител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общеобразовательных учреждени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заказ учредител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5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формирование заказа на компетентностно-ориентированное образовани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внедрение результатов образования в производство, в социальную практику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азвитие личностных качеств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383ad"/>
                      </a:solidFill>
                    </a:lnL>
                    <a:lnR w="93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solidFill>
                      <a:srgbClr val="e7ea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6" name=""/>
          <p:cNvSpPr/>
          <p:nvPr/>
        </p:nvSpPr>
        <p:spPr>
          <a:xfrm>
            <a:off x="990720" y="34290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0400" y="34290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34290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34290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0524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19810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383ad"/>
                </a:solidFill>
                <a:latin typeface="Arial"/>
              </a:rPr>
              <a:t>Постановление Правительства Самарской области №24 от 19.05.2004г.</a:t>
            </a:r>
            <a:endParaRPr b="0" lang="en-US" sz="3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383ad"/>
                </a:solidFill>
                <a:latin typeface="Arial"/>
              </a:rPr>
              <a:t>Инструктивное письмо департамента образования и науки администрации Самарской области №887 от 01.04.2003г. «Методические рекомендации по введению метода проектов в практику образовательных учреждений»</a:t>
            </a:r>
            <a:endParaRPr b="0" lang="en-US" sz="3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Нормативное обеспечение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омпетентностно - ориентированного образован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04920" y="990720"/>
            <a:ext cx="41907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89716"/>
                </a:solidFill>
                <a:latin typeface="Arial"/>
              </a:rPr>
              <a:t>АКАДЕМИЧЕСКОЕ ОБРАЗОВАНИЕ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383ad"/>
                </a:solidFill>
                <a:latin typeface="Arial"/>
              </a:rPr>
              <a:t>Основные составляющие образования: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914400"/>
            <a:ext cx="43434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89716"/>
                </a:solidFill>
                <a:latin typeface="Arial"/>
              </a:rPr>
              <a:t>КОМПЕТЕНТНОСТНОЕ ОБРАЗОВАНИЕ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383ad"/>
                </a:solidFill>
                <a:latin typeface="Arial"/>
              </a:rPr>
              <a:t>Основные составляющие ключевых компетентностей:</a:t>
            </a:r>
            <a:endParaRPr b="0" lang="en-US" sz="21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2590920"/>
            <a:ext cx="3353040" cy="28954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3048120"/>
            <a:ext cx="220968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ЗУНы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041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з н а н и я;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041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у м е н и 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40417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н а в ы к и.</a:t>
            </a:r>
            <a:r>
              <a:rPr b="0" lang="ru-RU" sz="16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76920" y="2590920"/>
            <a:ext cx="3809880" cy="289548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2819520"/>
            <a:ext cx="342900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интегральный опыт  для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решения проблемы, включая: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- з н а н и 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- у м е н и 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- н а в ы к и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ответственность  за  принятые  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решения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психологические качества;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8383a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ценности и др.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1680" y="1219320"/>
            <a:ext cx="784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9716"/>
                </a:solidFill>
                <a:latin typeface="Arial"/>
              </a:rPr>
              <a:t>СИСТЕМА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9716"/>
                </a:solidFill>
                <a:latin typeface="Arial"/>
              </a:rPr>
              <a:t>ДОПОЛНИТЕЛЬНОГО ОБРАЗОВАНИЯ ДЕТЕЙ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886200"/>
            <a:ext cx="838080" cy="33732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ПДО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313848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83ad"/>
                </a:solidFill>
                <a:latin typeface="Arial"/>
              </a:rPr>
              <a:t>Преобразование образовательных программ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2514600"/>
            <a:ext cx="4800600" cy="253368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383ad"/>
                </a:solidFill>
                <a:uFillTx/>
                <a:latin typeface="Arial"/>
              </a:rPr>
              <a:t>Переосмысление и внесение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383ad"/>
                </a:solidFill>
                <a:uFillTx/>
                <a:latin typeface="Arial"/>
              </a:rPr>
              <a:t>изменений в разделы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383ad"/>
                </a:solidFill>
                <a:uFillTx/>
                <a:latin typeface="Arial"/>
              </a:rPr>
              <a:t>образовательных программ</a:t>
            </a: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.  результативность программы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2.  содержание программы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.  технологии програм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3886200"/>
            <a:ext cx="2362320" cy="38088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ce26c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304920" y="685800"/>
          <a:ext cx="8381880" cy="5821200"/>
        </p:xfrm>
        <a:graphic>
          <a:graphicData uri="http://schemas.openxmlformats.org/drawingml/2006/table">
            <a:tbl>
              <a:tblPr/>
              <a:tblGrid>
                <a:gridCol w="4117680"/>
                <a:gridCol w="42642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Словарь иностранных слов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- М.:Русский язык, 2004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Постановление Правительства Самарской области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№</a:t>
                      </a:r>
                      <a:r>
                        <a:rPr b="1" lang="ru-RU" sz="2000" spc="-1" strike="noStrike" u="sng">
                          <a:solidFill>
                            <a:srgbClr val="8383ad"/>
                          </a:solidFill>
                          <a:uFillTx/>
                          <a:latin typeface="Arial"/>
                        </a:rPr>
                        <a:t>24 от 19.05.2004г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93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23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тность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– обладание компетенци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тность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– результат образования, выражающийся в овладении субъектом определенным набором способов деятельности по отношению к определенному предмету (объекту) воздейств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93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24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ция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(лат. </a:t>
                      </a: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competentia – 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принадлежность по праву</a:t>
                      </a:r>
                      <a:r>
                        <a:rPr b="0" lang="en-US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8383ad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руг полномочий;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8383ad"/>
                        </a:buClr>
                        <a:buSzPct val="80000"/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руг вопросов, в котором данное лицо обладает познанием, опытом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петенция</a:t>
                      </a:r>
                      <a:r>
                        <a:rPr b="0" lang="ru-RU" sz="20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– результат образования, готовность субъекта эффективно самоорганизовать внутренние и внешние ресурсы для постановки и достижения целей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ОМПЕТЕНТНОСТИ, СФОРМИРОВАННЫЕ В ДОКУМЕНТАХ РАЗЛИЧНЫХ ТЕРРИТОРИЙ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85800" y="1981080"/>
          <a:ext cx="7772400" cy="411444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2971800"/>
              </a:tblGrid>
              <a:tr h="369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Совет Европы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Самарская область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89716"/>
                          </a:solidFill>
                          <a:latin typeface="Arial"/>
                        </a:rPr>
                        <a:t>Образовательные учреждени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политические и социальны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абота с числом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ешение проблем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асающиеся жизни в поликультурном обществ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муникация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технологическая компетентност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вязанные с письменной и устной коммуникацией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информация, технология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амообразовани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обусловленные возникновением информации общества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амообучение, самопрезентация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информационная компетентност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пособность учиться всю жизн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абота в групп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социальное взаимодействие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решение проблем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SzPct val="100000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8383ad"/>
                          </a:solidFill>
                          <a:latin typeface="Arial"/>
                        </a:rPr>
                        <a:t>коммуникационная компетентность</a:t>
                      </a:r>
                      <a:endParaRPr b="0" lang="en-US" sz="1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КЛЮЧЕВЫЕ КОМПЕТЕНТНОСТИ образовательного учреждения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Самарской области</a:t>
            </a:r>
            <a:br>
              <a:rPr sz="2800"/>
            </a:br>
            <a:r>
              <a:rPr b="1" lang="ru-RU" sz="1600" spc="-1" strike="noStrike">
                <a:solidFill>
                  <a:srgbClr val="404176"/>
                </a:solidFill>
                <a:latin typeface="Arial"/>
              </a:rPr>
              <a:t>(Постановление Правительства Самарской области № 24 от19.05.2004г.)</a:t>
            </a: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разрешению проблем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технологическая компетентность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самообразованию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использованию информационных ресурсов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готовность к социальному взаимодействию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12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383ad"/>
                </a:solidFill>
                <a:latin typeface="Arial"/>
              </a:rPr>
              <a:t>коммуникативная компетентность</a:t>
            </a:r>
            <a:endParaRPr b="0" lang="en-US" sz="2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СНОВНЫЕ ЗВЕНЬЯ 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организации КТД и проект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2603520"/>
            <a:ext cx="2286000" cy="91692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. РИД 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разведка интересных (полезных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де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38520" y="2209680"/>
            <a:ext cx="1714680" cy="146556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Анализ ситуации в коллективе, обсуждение (дебаты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24480" y="2603520"/>
            <a:ext cx="1981440" cy="91692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Постановка и формулирование проблемы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4343400"/>
            <a:ext cx="1981080" cy="173988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Создание плана (программы) деятельности, его обосновани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33920" y="4648320"/>
            <a:ext cx="2057400" cy="119124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Дело (организация и осуществление задуманного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4724280"/>
            <a:ext cx="2057400" cy="916920"/>
          </a:xfrm>
          <a:prstGeom prst="rect">
            <a:avLst/>
          </a:prstGeom>
          <a:solidFill>
            <a:srgbClr val="d7dc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9716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Анализ дела (рефлексия выполненного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305920" y="3429000"/>
            <a:ext cx="533160" cy="914400"/>
          </a:xfrm>
          <a:custGeom>
            <a:avLst/>
            <a:gdLst>
              <a:gd name="textAreaLeft" fmla="*/ 71280 w 533160"/>
              <a:gd name="textAreaRight" fmla="*/ 461880 w 5331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7dc7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3962520"/>
            <a:ext cx="533160" cy="761760"/>
          </a:xfrm>
          <a:custGeom>
            <a:avLst/>
            <a:gdLst>
              <a:gd name="textAreaLeft" fmla="*/ 71280 w 533160"/>
              <a:gd name="textAreaRight" fmla="*/ 461880 w 53316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7dc72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705040" y="3886200"/>
            <a:ext cx="3581640" cy="304920"/>
          </a:xfrm>
          <a:prstGeom prst="leftArrow">
            <a:avLst>
              <a:gd name="adj1" fmla="val 50000"/>
              <a:gd name="adj2" fmla="val 293654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895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2819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4952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51055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d7dc72"/>
          </a:solidFill>
          <a:ln w="9360">
            <a:solidFill>
              <a:srgbClr val="8383ad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0880" y="609480"/>
            <a:ext cx="7772400" cy="1600200"/>
          </a:xfrm>
          <a:prstGeom prst="rect">
            <a:avLst/>
          </a:prstGeom>
          <a:solidFill>
            <a:srgbClr val="dce26c"/>
          </a:soli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ФОРМЫ РАБОТЫ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Arial"/>
              </a:rPr>
              <a:t>педагога дополнительного образования в рамках компетентностно-ориентированного образовани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25146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КТД (коллективно-творческое дело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создание и реализация долгосрочных социальных проектов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через детские и молодежные органы самоуправления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8383ad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через общественные объединения детских и молодежных организаций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создание образовательных проектов и внедрение их в производство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остросюжетные ролевые игры на местности с социально значимой деятельностью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предметно-ориентированные занятия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коммунарские сборы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и другие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7:16:31Z</dcterms:created>
  <dc:creator>Казакова Татьяна Александровна</dc:creator>
  <dc:description/>
  <dc:language>en-US</dc:language>
  <cp:lastModifiedBy>Директор</cp:lastModifiedBy>
  <dcterms:modified xsi:type="dcterms:W3CDTF">2005-10-03T03:28:50Z</dcterms:modified>
  <cp:revision>60</cp:revision>
  <dc:subject/>
  <dc:title>Презентация PowerPoint</dc:title>
</cp:coreProperties>
</file>