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whoosh.wav" ContentType="audio/x-wav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6C8-0DC8-4456-8AA8-7CE37AE6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82E6-B71A-40FB-9259-66850824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5039-2A1F-486E-9754-8B7BC327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C845-AB1B-441C-96D3-DD3E4B39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6812-E10F-4E0C-AD02-5BCF88E5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858E-E3CC-442B-B74D-C1053EF8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5DF1-513B-4807-910A-9FC851A2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A46D-EB1D-4D0E-8F57-DF69C645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B257-055E-4EF8-8FCE-3C24442C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5D99-816B-42C4-9BB1-3A45D448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6F8A-DE4F-47C2-9CE7-75AC4535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A1B-702E-48B1-9F20-517C4EB4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9896-2B3F-42FC-8938-5310662B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50B7-D775-4EA2-A005-4E256FC9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BFC1-BDBA-4875-8BF5-AE0AF9E5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7473-F88E-456A-8B9D-65F62DFA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C5D5-BCE2-4793-AC2D-5D1D57EE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175E-D94B-4D51-8A96-2210109E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0E0-37CD-46DF-B0E0-1CFF72EB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BB0F-4406-48FB-9BF3-45A7EFA6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7D1-D62D-448F-B10E-F80D45A7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63F9-4042-4BD5-B7F1-D0A8E956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5D3-EC4F-4A73-BE35-417DC247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E6E1-8566-45E6-8619-2891EACE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52F7-D5F9-4159-8ED7-E9376BA6C082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A2FB-549C-4B1B-B52C-F7F6E2758A4F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47640" y="1422360"/>
            <a:ext cx="7696440" cy="3526920"/>
          </a:xfrm>
          <a:prstGeom prst="rect">
            <a:avLst/>
          </a:prstGeom>
          <a:solidFill>
            <a:srgbClr val="ddf35b"/>
          </a:solidFill>
          <a:ln w="19080">
            <a:solidFill>
              <a:srgbClr val="dce2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КОМПЕТЕНТНОСТНО-ОРИЕНТИРОВАННЫЙ ПОДХОД В ФОРМИРОВАНИИ СОДЕРЖАНИЯ  ОБРАЗОВАНИЯ ДЕТЕЙ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ОСНОВНЫЕ ФОРМЫ 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компетентностно-ориентированного образования в учреждениях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685800" y="1981080"/>
          <a:ext cx="7772400" cy="4133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Общеобразовательные учреждения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Учреждения дополнительного образования дете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56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Основное звено (форма) образования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урок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занятие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омпетентностно-ориентированные формы образования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Проект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ТД или проект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 rot="5400000">
            <a:off x="2285640" y="281952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5400000">
            <a:off x="6476760" y="281952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5400000">
            <a:off x="2285640" y="365760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2285640" y="449568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5400000">
            <a:off x="2285640" y="533412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5400000">
            <a:off x="6552720" y="373392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5400000">
            <a:off x="6552720" y="449568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5400000">
            <a:off x="6629040" y="533412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d7dc72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ФОРМИРОВАНИЕ ЗАКАЗА НА КОМПЕТЕНТНОСТНО-ОРИЕНТИРОВАННОЕ ОБРАЗОВАНИЕ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419040" y="2133720"/>
          <a:ext cx="8153640" cy="4232160"/>
        </p:xfrm>
        <a:graphic>
          <a:graphicData uri="http://schemas.openxmlformats.org/drawingml/2006/table">
            <a:tbl>
              <a:tblPr/>
              <a:tblGrid>
                <a:gridCol w="1638360"/>
                <a:gridCol w="380880"/>
                <a:gridCol w="1779840"/>
                <a:gridCol w="353880"/>
                <a:gridCol w="1752480"/>
                <a:gridCol w="381240"/>
                <a:gridCol w="1866960"/>
              </a:tblGrid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заказ от дете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solidFill>
                      <a:srgbClr val="e7eaa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заказ от родителе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solidFill>
                      <a:srgbClr val="e7eaa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заказ общеобразовательных учреждени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solidFill>
                      <a:srgbClr val="e7eaa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заказ учредителе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solidFill>
                      <a:srgbClr val="e7eaaa"/>
                    </a:solidFill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53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формирование заказа на компетентностно-ориентированное образование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solidFill>
                      <a:srgbClr val="e7ea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20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внедрение результатов образования в производство, в социальную практику.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развитие личностных качеств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solidFill>
                      <a:srgbClr val="e7ea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6" name=""/>
          <p:cNvSpPr/>
          <p:nvPr/>
        </p:nvSpPr>
        <p:spPr>
          <a:xfrm>
            <a:off x="990720" y="34290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00400" y="34290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81480" y="342900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67480" y="342900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305240" y="48769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85800" y="19810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383ad"/>
                </a:solidFill>
                <a:latin typeface="Arial"/>
              </a:rPr>
              <a:t>Постановление Правительства Самарской области №24 от 19.05.2004г.</a:t>
            </a:r>
            <a:endParaRPr b="0" lang="en-US" sz="3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383ad"/>
                </a:solidFill>
                <a:latin typeface="Arial"/>
              </a:rPr>
              <a:t>Инструктивное письмо департамента образования и науки администрации Самарской области №887 от 01.04.2003г. «Методические рекомендации по введению метода проектов в практику образовательных учреждений»</a:t>
            </a:r>
            <a:endParaRPr b="0" lang="en-US" sz="3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Нормативное обеспечение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компетентностно - ориентированного образовани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04920" y="990720"/>
            <a:ext cx="41907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89716"/>
                </a:solidFill>
                <a:latin typeface="Arial"/>
              </a:rPr>
              <a:t>АКАДЕМИЧЕСКОЕ ОБРАЗОВАНИЕ</a:t>
            </a:r>
            <a:endParaRPr b="0" lang="en-US" sz="21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383ad"/>
                </a:solidFill>
                <a:latin typeface="Arial"/>
              </a:rPr>
              <a:t>Основные составляющие образования:</a:t>
            </a:r>
            <a:endParaRPr b="0" lang="en-US" sz="21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914400"/>
            <a:ext cx="43434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89716"/>
                </a:solidFill>
                <a:latin typeface="Arial"/>
              </a:rPr>
              <a:t>КОМПЕТЕНТНОСТНОЕ ОБРАЗОВАНИЕ</a:t>
            </a:r>
            <a:endParaRPr b="0" lang="en-US" sz="21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383ad"/>
                </a:solidFill>
                <a:latin typeface="Arial"/>
              </a:rPr>
              <a:t>Основные составляющие ключевых компетентностей:</a:t>
            </a:r>
            <a:endParaRPr b="0" lang="en-US" sz="21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2590920"/>
            <a:ext cx="3353040" cy="289548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3048120"/>
            <a:ext cx="220968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176"/>
                </a:solidFill>
                <a:latin typeface="Arial"/>
              </a:rPr>
              <a:t>ЗУНы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0417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з н а н и я;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0417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у м е н и я;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0417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н а в ы к и.</a:t>
            </a:r>
            <a:r>
              <a:rPr b="0" lang="ru-RU" sz="1600" spc="-1" strike="noStrike">
                <a:solidFill>
                  <a:srgbClr val="40417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876920" y="2590920"/>
            <a:ext cx="3809880" cy="289548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05520" y="2819520"/>
            <a:ext cx="342900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buClr>
                <a:srgbClr val="8383a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интегральный опыт  для 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решения проблемы, включая: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- з н а н и я;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- у м е н и я;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- н а в ы к и;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8383a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ответственность  за  принятые 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решения;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8383a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психологические качества;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8383a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ценности и др.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71680" y="1219320"/>
            <a:ext cx="784836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9716"/>
                </a:solidFill>
                <a:latin typeface="Arial"/>
              </a:rPr>
              <a:t>СИСТЕМА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9716"/>
                </a:solidFill>
                <a:latin typeface="Arial"/>
              </a:rPr>
              <a:t>ДОПОЛНИТЕЛЬНОГО ОБРАЗОВАНИЯ ДЕТЕЙ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3520" y="3886200"/>
            <a:ext cx="838080" cy="33732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ПДО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3138480"/>
            <a:ext cx="350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Преобразование образовательных программ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2514600"/>
            <a:ext cx="4800600" cy="253368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383ad"/>
                </a:solidFill>
                <a:uFillTx/>
                <a:latin typeface="Arial"/>
              </a:rPr>
              <a:t>Переосмысление и внесение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383ad"/>
                </a:solidFill>
                <a:uFillTx/>
                <a:latin typeface="Arial"/>
              </a:rPr>
              <a:t>изменений в разделы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383ad"/>
                </a:solidFill>
                <a:uFillTx/>
                <a:latin typeface="Arial"/>
              </a:rPr>
              <a:t>образовательных программ</a:t>
            </a: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1.  результативность программы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2.  содержание программы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3.  технологии програм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3886200"/>
            <a:ext cx="2362320" cy="38088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ce26c"/>
          </a:solidFill>
          <a:ln w="9360">
            <a:solidFill>
              <a:srgbClr val="8383ad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304920" y="685800"/>
          <a:ext cx="8381880" cy="5821200"/>
        </p:xfrm>
        <a:graphic>
          <a:graphicData uri="http://schemas.openxmlformats.org/drawingml/2006/table">
            <a:tbl>
              <a:tblPr/>
              <a:tblGrid>
                <a:gridCol w="4117680"/>
                <a:gridCol w="426420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8383ad"/>
                          </a:solidFill>
                          <a:uFillTx/>
                          <a:latin typeface="Arial"/>
                        </a:rPr>
                        <a:t>Словарь иностранных слов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8383ad"/>
                          </a:solidFill>
                          <a:uFillTx/>
                          <a:latin typeface="Arial"/>
                        </a:rPr>
                        <a:t>- М.:Русский язык, 2004.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8383ad"/>
                          </a:solidFill>
                          <a:uFillTx/>
                          <a:latin typeface="Arial"/>
                        </a:rPr>
                        <a:t>Постановление Правительства Самарской области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8383ad"/>
                          </a:solidFill>
                          <a:uFillTx/>
                          <a:latin typeface="Arial"/>
                        </a:rPr>
                        <a:t>№</a:t>
                      </a:r>
                      <a:r>
                        <a:rPr b="1" lang="ru-RU" sz="2000" spc="-1" strike="noStrike" u="sng">
                          <a:solidFill>
                            <a:srgbClr val="8383ad"/>
                          </a:solidFill>
                          <a:uFillTx/>
                          <a:latin typeface="Arial"/>
                        </a:rPr>
                        <a:t>24 от 19.05.2004г.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23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омпетентность</a:t>
                      </a: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– обладание компетенцие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омпетентность</a:t>
                      </a: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– результат образования, выражающийся в овладении субъектом определенным набором способов деятельности по отношению к определенному предмету (объекту) воздействия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243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омпетенция</a:t>
                      </a: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(лат. </a:t>
                      </a: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competentia – </a:t>
                      </a: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принадлежность по праву</a:t>
                      </a: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8383ad"/>
                        </a:buClr>
                        <a:buSzPct val="80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руг полномочий;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8383ad"/>
                        </a:buClr>
                        <a:buSzPct val="80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руг вопросов, в котором данное лицо обладает познанием, опытом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омпетенция</a:t>
                      </a: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– результат образования, готовность субъекта эффективно самоорганизовать внутренние и внешние ресурсы для постановки и достижения целе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КОМПЕТЕНТНОСТИ, СФОРМИРОВАННЫЕ В ДОКУМЕНТАХ РАЗЛИЧНЫХ ТЕРРИТОРИЙ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685800" y="1981080"/>
          <a:ext cx="7772400" cy="4114440"/>
        </p:xfrm>
        <a:graphic>
          <a:graphicData uri="http://schemas.openxmlformats.org/drawingml/2006/table">
            <a:tbl>
              <a:tblPr/>
              <a:tblGrid>
                <a:gridCol w="2286000"/>
                <a:gridCol w="2514600"/>
                <a:gridCol w="2971800"/>
              </a:tblGrid>
              <a:tr h="369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89716"/>
                          </a:solidFill>
                          <a:latin typeface="Arial"/>
                        </a:rPr>
                        <a:t>Совет Европы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89716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89716"/>
                          </a:solidFill>
                          <a:latin typeface="Arial"/>
                        </a:rPr>
                        <a:t>Самарская область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89716"/>
                          </a:solidFill>
                          <a:latin typeface="Arial"/>
                        </a:rPr>
                        <a:t>Образовательные учреждения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политические и социальные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работа с числом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решение проблем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асающиеся жизни в поликультурном обществе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оммуникация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технологическая компетентность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связанные с письменной и устной коммуникацией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информация, технология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самообразование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обусловленные возникновением информации общества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самообучение, самопрезентация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информационная компетентность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способность учиться всю жизнь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работа в группе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социальное взаимодействие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решение проблем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оммуникационная компетентность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КЛЮЧЕВЫЕ КОМПЕТЕНТНОСТИ образовательного учреждения 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Самарской области</a:t>
            </a:r>
            <a:br>
              <a:rPr sz="2800"/>
            </a:b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(Постановление Правительства Самарской области № 24 от19.05.2004г.)</a:t>
            </a: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12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383ad"/>
                </a:solidFill>
                <a:latin typeface="Arial"/>
              </a:rPr>
              <a:t>готовность к разрешению проблем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12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383ad"/>
                </a:solidFill>
                <a:latin typeface="Arial"/>
              </a:rPr>
              <a:t>технологическая компетентность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12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383ad"/>
                </a:solidFill>
                <a:latin typeface="Arial"/>
              </a:rPr>
              <a:t>готовность к самообразованию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12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383ad"/>
                </a:solidFill>
                <a:latin typeface="Arial"/>
              </a:rPr>
              <a:t>готовность к использованию информационных ресурсов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12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383ad"/>
                </a:solidFill>
                <a:latin typeface="Arial"/>
              </a:rPr>
              <a:t>готовность к социальному взаимодействию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12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383ad"/>
                </a:solidFill>
                <a:latin typeface="Arial"/>
              </a:rPr>
              <a:t>коммуникативная компетентность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ОСНОВНЫЕ ЗВЕНЬЯ 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организации КТД и проект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0880" y="2603520"/>
            <a:ext cx="2286000" cy="916920"/>
          </a:xfrm>
          <a:prstGeom prst="rect">
            <a:avLst/>
          </a:prstGeom>
          <a:solidFill>
            <a:srgbClr val="d7d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9716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. РИД </a:t>
            </a: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разведка интересных (полезных</a:t>
            </a: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 дел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38520" y="2209680"/>
            <a:ext cx="1714680" cy="1465560"/>
          </a:xfrm>
          <a:prstGeom prst="rect">
            <a:avLst/>
          </a:prstGeom>
          <a:solidFill>
            <a:srgbClr val="d7d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9716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 Анализ ситуации в коллективе, обсуждение (дебаты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324480" y="2603520"/>
            <a:ext cx="1981440" cy="916920"/>
          </a:xfrm>
          <a:prstGeom prst="rect">
            <a:avLst/>
          </a:prstGeom>
          <a:solidFill>
            <a:srgbClr val="d7d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9716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 Постановка и формулирование проблемы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4343400"/>
            <a:ext cx="1981080" cy="1739880"/>
          </a:xfrm>
          <a:prstGeom prst="rect">
            <a:avLst/>
          </a:prstGeom>
          <a:solidFill>
            <a:srgbClr val="d7d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9716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 Создание плана (программы) деятельности, его обосновани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733920" y="4648320"/>
            <a:ext cx="2057400" cy="1191240"/>
          </a:xfrm>
          <a:prstGeom prst="rect">
            <a:avLst/>
          </a:prstGeom>
          <a:solidFill>
            <a:srgbClr val="d7d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9716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 Дело (организация и осуществление задуманного</a:t>
            </a: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53080" y="4724280"/>
            <a:ext cx="2057400" cy="916920"/>
          </a:xfrm>
          <a:prstGeom prst="rect">
            <a:avLst/>
          </a:prstGeom>
          <a:solidFill>
            <a:srgbClr val="d7d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9716"/>
                </a:solidFill>
                <a:latin typeface="Arial"/>
              </a:rPr>
              <a:t>6.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 Анализ дела (рефлексия выполненного</a:t>
            </a: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305920" y="3429000"/>
            <a:ext cx="533160" cy="914400"/>
          </a:xfrm>
          <a:custGeom>
            <a:avLst/>
            <a:gdLst>
              <a:gd name="textAreaLeft" fmla="*/ 71280 w 533160"/>
              <a:gd name="textAreaRight" fmla="*/ 461880 w 53316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7dc72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3962520"/>
            <a:ext cx="533160" cy="761760"/>
          </a:xfrm>
          <a:custGeom>
            <a:avLst/>
            <a:gdLst>
              <a:gd name="textAreaLeft" fmla="*/ 71280 w 533160"/>
              <a:gd name="textAreaRight" fmla="*/ 461880 w 53316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7dc72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705040" y="3886200"/>
            <a:ext cx="3581640" cy="304920"/>
          </a:xfrm>
          <a:prstGeom prst="leftArrow">
            <a:avLst>
              <a:gd name="adj1" fmla="val 50000"/>
              <a:gd name="adj2" fmla="val 293654"/>
            </a:avLst>
          </a:prstGeom>
          <a:solidFill>
            <a:srgbClr val="d7dc72"/>
          </a:solidFill>
          <a:ln w="9360">
            <a:solidFill>
              <a:srgbClr val="8383ad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2895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d7dc72"/>
          </a:solidFill>
          <a:ln w="9360">
            <a:solidFill>
              <a:srgbClr val="8383ad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2819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d7dc72"/>
          </a:solidFill>
          <a:ln w="9360">
            <a:solidFill>
              <a:srgbClr val="8383ad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3200" y="49528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d7dc72"/>
          </a:solidFill>
          <a:ln w="9360">
            <a:solidFill>
              <a:srgbClr val="8383ad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638680" y="5105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d7dc72"/>
          </a:solidFill>
          <a:ln w="9360">
            <a:solidFill>
              <a:srgbClr val="8383ad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0880" y="609480"/>
            <a:ext cx="7772400" cy="160020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ФОРМЫ РАБОТЫ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педагога дополнительного образования в рамках компетентностно-ориентированного образовани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25146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КТД (коллективно-творческое дело</a:t>
            </a: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создание и реализация долгосрочных социальных проектов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через детские и молодежные органы самоуправления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через общественные объединения детских и молодежных организаций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создание образовательных проектов и внедрение их в производство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остросюжетные ролевые игры на местности с социально значимой деятельностью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предметно-ориентированные занятия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коммунарские сборы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и другие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07:16:31Z</dcterms:created>
  <dc:creator>Казакова Татьяна Александровна</dc:creator>
  <dc:description/>
  <dc:language>en-US</dc:language>
  <cp:lastModifiedBy>Директор</cp:lastModifiedBy>
  <dcterms:modified xsi:type="dcterms:W3CDTF">2005-10-03T03:28:50Z</dcterms:modified>
  <cp:revision>60</cp:revision>
  <dc:subject/>
  <dc:title>Презентация PowerPoint</dc:title>
</cp:coreProperties>
</file>