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whoosh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683-A95D-45C1-A34B-3DEB1984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040-D8E5-4D2D-8D51-7348408C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9B0-DE8B-403E-B915-3DD29EBF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EF9-CF1C-4F70-9025-168A101C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282-4EC8-4994-A9AA-AE69A72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DE0-21A8-49C8-84AA-4D639146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4411-664B-4CE9-92A3-C782764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195-9D4C-43DD-886E-26812730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51DC-62A9-402E-964B-803A0B7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F406-09B3-4B02-A5EC-B7EAFFA1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D994-2CE8-42D5-8AF8-E3F1A1A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6E2-92D0-4DB1-B7A6-367CF6F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B63-EC42-47C5-B1F3-C1769E3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2F9-B839-4BDB-AF16-634FBCC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3630-A722-4D7F-BD50-00281FAE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A330-E875-496E-AA9C-7B7BCBA5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A7A3-8D4B-4370-93FA-843929C0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4FB-9AD9-4A4F-8910-808C01D1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C46-1C53-4123-A0D5-8D30EC8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D98-9CF1-49EE-9A27-8E994D0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D4B-4050-4544-AA9D-152000C8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B3A-3DEC-4673-91E7-20BF043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C40-DA47-4FFA-A190-54B41E8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622-F4F6-471B-A85B-1D5D97D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FED-BFA8-4D7F-B23D-5E06809BCF8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CEE-9F17-4AA8-9018-CD5B014A1E8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47640" y="1422360"/>
            <a:ext cx="7696440" cy="3526920"/>
          </a:xfrm>
          <a:prstGeom prst="rect">
            <a:avLst/>
          </a:prstGeom>
          <a:solidFill>
            <a:srgbClr val="ddf35b"/>
          </a:solidFill>
          <a:ln w="19080">
            <a:solidFill>
              <a:srgbClr val="dce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ЫЙ ПОДХОД В ФОРМИРОВАНИИ СОДЕРЖАНИЯ  ОБРАЗОВАНИЯ ДЕТ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ФОРМЫ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ого образования в учреждениях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85800" y="1981080"/>
          <a:ext cx="7772400" cy="4133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щеобразовательные учрежде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чреждения дополнительного образования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сновное звено (форма)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ро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нят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но-ориентированные формы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ТД или 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rot="5400000">
            <a:off x="228564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647676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285640" y="365760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228564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22856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6552720" y="37339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655272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66290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7dc72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ИРОВАНИЕ ЗАКАЗА НА КОМПЕТЕНТНОСТНО-ОРИЕНТИРОВАННОЕ ОБРАЗОВАНИЕ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19040" y="2133720"/>
          <a:ext cx="8153640" cy="4232160"/>
        </p:xfrm>
        <a:graphic>
          <a:graphicData uri="http://schemas.openxmlformats.org/drawingml/2006/table">
            <a:tbl>
              <a:tblPr/>
              <a:tblGrid>
                <a:gridCol w="1638360"/>
                <a:gridCol w="380880"/>
                <a:gridCol w="1779840"/>
                <a:gridCol w="353880"/>
                <a:gridCol w="1752480"/>
                <a:gridCol w="381240"/>
                <a:gridCol w="18669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ро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бщеобразовательных учреждени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учре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5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формирование заказа на компетентностно-ориентированное образован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внедрение результатов образования в производство, в социальную практику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звитие личностных качеств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99072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0524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Постановление Правительства Самарской области №24 от 19.05.2004г.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Инструктивное письмо департамента образования и науки администрации Самарской области №887 от 01.04.2003г. «Методические рекомендации по введению метода проектов в практику образовательных учреждений»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Нормативное обеспечение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 - 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990720"/>
            <a:ext cx="41907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АКАДЕМИЧЕСК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образования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914400"/>
            <a:ext cx="43434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КОМПЕТЕНТНОСТН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ключевых компетентностей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590920"/>
            <a:ext cx="335304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048120"/>
            <a:ext cx="22096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ЗУН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з н а н и я;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н а в ы к и.</a:t>
            </a: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76920" y="2590920"/>
            <a:ext cx="380988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2819520"/>
            <a:ext cx="342900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интегральный опыт  для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 проблемы, включая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з н а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н а в ы к и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ответственность  за  принятые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сихологические качества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ценности и др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1680" y="121932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ДОПОЛНИТЕЛЬНОГО ОБРАЗОВАНИЯ ДЕТЕ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886200"/>
            <a:ext cx="838080" cy="33732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ДО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313848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реобразование образовательных программ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14600"/>
            <a:ext cx="4800600" cy="253368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Переосмысление и внесени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изменений в разделы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образовательных программ</a:t>
            </a: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.  результативность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2.  содержание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.  технологии програм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2362320" cy="38088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ce26c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685800"/>
          <a:ext cx="8381880" cy="5821200"/>
        </p:xfrm>
        <a:graphic>
          <a:graphicData uri="http://schemas.openxmlformats.org/drawingml/2006/table">
            <a:tbl>
              <a:tblPr/>
              <a:tblGrid>
                <a:gridCol w="4117680"/>
                <a:gridCol w="42642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Словарь иностранных слов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- М.:Русский язык, 2004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Постановление Правительства Самарской области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№</a:t>
                      </a: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24 от 19.05.2004г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обладание компетенци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выражающийся в овладении субъектом определенным набором способов деятельности по отношению к определенному предмету (объекту) воздейств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(лат. 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competentia – 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инадлежность по праву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полномочий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вопросов, в котором данное лицо обладает познанием, опытом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готовность субъекта эффективно самоорганизовать внутренние и внешние ресурсы для постановки и достижения ц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И, СФОРМИРОВАННЫЕ В ДОКУМЕНТАХ РАЗЛИЧНЫХ ТЕРРИТОРИЙ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971800"/>
              </a:tblGrid>
              <a:tr h="369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овет Европ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Образовательные учрежд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олитические и социальны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с число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асающиеся жизни в поликультурном обществ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технологическ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вязанные с письменной и устной коммуникацией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я, технолог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условленные возникновением информации общества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учение, самопрезент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пособность учиться всю жизн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в групп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оциальное взаимодейств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ЛЮЧЕВЫЕ КОМПЕТЕНТНОСТИ образовательного учреждени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Самарской области</a:t>
            </a:r>
            <a:br>
              <a:rPr sz="2800"/>
            </a:b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(Постановление Правительства Самарской области № 24 от19.05.2004г.)</a:t>
            </a: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разрешению проблем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технологическ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амообразован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использованию информационных ресурсов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оциальному взаимодейств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коммуникативн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ЗВЕНЬ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рганизации КТД и проект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2603520"/>
            <a:ext cx="22860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. РИД 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разведка интересных (полезных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38520" y="2209680"/>
            <a:ext cx="1714680" cy="146556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ситуации в коллективе, обсуждение (дебаты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24480" y="2603520"/>
            <a:ext cx="198144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Постановка и формулирование проблемы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4343400"/>
            <a:ext cx="1981080" cy="173988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Создание плана (программы) деятельности, его обоснова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4648320"/>
            <a:ext cx="2057400" cy="119124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о (организация и осуществление задума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4724280"/>
            <a:ext cx="20574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дела (рефлексия выполне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05920" y="3429000"/>
            <a:ext cx="533160" cy="914400"/>
          </a:xfrm>
          <a:custGeom>
            <a:avLst/>
            <a:gdLst>
              <a:gd name="textAreaLeft" fmla="*/ 71280 w 533160"/>
              <a:gd name="textAreaRight" fmla="*/ 461880 w 5331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962520"/>
            <a:ext cx="533160" cy="76176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05040" y="3886200"/>
            <a:ext cx="3581640" cy="304920"/>
          </a:xfrm>
          <a:prstGeom prst="leftArrow">
            <a:avLst>
              <a:gd name="adj1" fmla="val 50000"/>
              <a:gd name="adj2" fmla="val 29365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4952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609480"/>
            <a:ext cx="7772400" cy="16002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Ы РАБОТЫ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едагога дополнительного образования в рамках компетентностно-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25146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ТД (коллективно-творческое дел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и реализация долгосрочных социальных проектов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детские и молодежные органы самоуправлен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общественные объединения детских и молодежных организаций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образовательных проектов и внедрение их в производство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остросюжетные ролевые игры на местности с социально значимой деятельностью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предметно-ориентированные занят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оммунарские сборы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и други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7:16:31Z</dcterms:created>
  <dc:creator>Казакова Татьяна Александровна</dc:creator>
  <dc:description/>
  <dc:language>en-US</dc:language>
  <cp:lastModifiedBy>Директор</cp:lastModifiedBy>
  <dcterms:modified xsi:type="dcterms:W3CDTF">2005-10-03T03:28:50Z</dcterms:modified>
  <cp:revision>60</cp:revision>
  <dc:subject/>
  <dc:title>Презентация PowerPoint</dc:title>
</cp:coreProperties>
</file>