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3FF7-08AE-4E42-A3BB-EC650F38F5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сентября 2006 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439-7F5F-46E3-9895-4F2D219F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BFA-F817-4AED-99FD-842BA13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FAD-6410-442F-B5B5-C5E0D1E2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FEC-B017-4A2A-9308-E33B4A0A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330-9C87-4FDD-A9C6-C15595A4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E113-3C7A-468F-8878-69C7FA2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0639-6503-443E-919B-E5A92138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97FB-36E0-46B2-B0B5-616269C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F3F8-5B03-4B0F-87C2-B431572F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EEEA-29BD-47B9-94EE-11BB2D4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3E7F-73EE-4554-980A-78295255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F3F-72FA-43F8-A270-00D6E3D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9AE0-468D-4FAE-8BE8-140DC80E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7FE6-84DA-4EAC-8512-CEF6694F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3C5E-66D6-457C-953E-CF3AA53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95AA-A934-4F11-B7C8-4E45F6CE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2E40-11F3-44E3-818E-69A5FBB2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BE1-2E8B-42FF-97D6-DB97CC54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630-22F3-4DAA-841E-06EA6534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605-9D69-466A-A25D-4E0B883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ADE-BBD7-4ADF-8918-DD174436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E40-0620-4BFA-86BA-017A4D2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A2D-AF83-4785-B0AD-05F1006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794-1896-49E7-AC9F-4F99648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553-2E7C-4FA8-86F3-3D2DCE0A89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1F9C-8512-4672-81A3-8F603567F3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ед вами 2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СОЛНЫШ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виз: Стремиться ввысь, не падать вниз, быть впереди и точ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ы любим природ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737080" cy="374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780000" y="2565360"/>
            <a:ext cx="50893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отко о класс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шем классе 17 учащихся, 10 мальчиков и 7 девочек. Президент класса Ялакова Ольга, помощник президента Теплов Николай. Все ученики класса успевают в учёбе. Мы любим петь и танцевать. Также дружим со спортом, зимой часто ходим с классом кататься на горку, после занятий в школе вместе собираемся играть в разные игры. Рядом с нами наш классный руководитель Тимофеева Людмила Геннадьевна и наши родители. Мы живём все вместе друж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аш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рвый раз в первый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4764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сентябрь 2006 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5151240" cy="306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21964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исок клас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.Андреев Александр Юрьевич                         04.04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.Васильева Анастасия Олеговна                   30.11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.Васильева Екатерина Александровна        03.07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4.Гордеев Алексей Юрьевич                            23.12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5.Григорьев Дмитрий Валерьевич                  04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.Молькова Кристина Валерьевна                  20.06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7.Никитин Никита Александрович                   04.03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8.Николаев Василий Анатольевич                  07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9.Петров Денис Олегович                                  22.12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.Петров Евгений Станиславович                  10.05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1.Петрова Вероника Анатольевна                  07.04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2.Семёнов Дмитрий Владимирович               25.02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3.Семёнова Виктория Александровна           21.03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4.Сергеева Виктория Сергеевна                     14.04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5.Теплов Николай Валерьевич                       03.10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6.Тимофеев Роман Валерьевич                      28.01.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7.Ялакова Ольга Владимировна                     09.11.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списание класс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   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недельник                    вторник                              сре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1.русский язык            1.русский язык              1. ч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2.родной язык(гр)      2.математика                 2. математи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3.изо                            3.английский язык        3.родной язык(г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4.английский язык    4.ознак.с окруж.м.        4.родной язык(ч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                                            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5.физкульт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четверг                               пятница                           суббо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1.русский язык              1.русский язык           1.чт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2.математика                2. математика              2. родной язык(ч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3.родной язык               3.музыка                     3.физкульту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4.ознак.с окр.м.             4.родной язык(гр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5.технолог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 в учёбе,  и в спорт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па, мама, я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ортивная сем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3933720"/>
            <a:ext cx="6228000" cy="250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43099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309840" indent="0" algn="ct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 гостях в доме    ветеран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357800" cy="2318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6796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Утренник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«мы вас любим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87640" y="3809880"/>
            <a:ext cx="585792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4972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8:15:29Z</dcterms:created>
  <dc:creator>ара</dc:creator>
  <dc:description/>
  <dc:language>en-US</dc:language>
  <cp:lastModifiedBy>СОШ</cp:lastModifiedBy>
  <dcterms:modified xsi:type="dcterms:W3CDTF">2007-12-04T12:17:11Z</dcterms:modified>
  <cp:revision>7</cp:revision>
  <dc:subject/>
  <dc:title>2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