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B0D-B66C-41BD-8CDC-3A2C80283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ентября 2006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3DF-4F6A-4277-9F81-8F300CAA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787-E391-43FA-8516-3B4D915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7B7-E85B-4C99-938D-5899E0A9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F2C-49DB-40B0-A9C4-E82F9B6C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A66A-09F8-4434-9304-A566C026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D4A1-FE78-4F84-8210-B005F3B9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AFF-B70B-41D4-B607-C131B8D8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97A-90F3-4B9C-B81A-98346EA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A8B-4DF8-45F8-9875-CF73F6C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50F-7249-4937-8562-FC62BD2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29D-77F0-4D95-84DA-F666490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241-89FB-4C50-88B2-E6C2AC11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59A-9AFA-4355-8FF4-8D477B2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EC3-41D3-474C-81F3-194E6452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1FB0-0684-4149-B935-8DC2DA2A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8696-BD75-4F68-AF2A-E01ECD03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590-0DA1-431A-9EC6-05F2AF3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193-BB21-4EB5-AB77-77BB572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4AE-DF02-460E-A941-ABDC76DC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F92-7290-404B-A4B7-94E7AEC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10B-DBE1-47C9-91E7-2BA3F7D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A49-0C5B-4658-84C7-76B0CEF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568-D452-4A52-B54E-DDA9FBD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4D0-44A6-4FDB-AF3D-895DE69A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C7BE-F9C0-4283-B885-0B25B51290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0FE-A0B3-455C-84FC-55863B8BF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ед вами 2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ЛНЫШ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виз: Стремиться ввысь, не падать вниз, быть впереди и то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ы любим природ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37080" cy="374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80000" y="2565360"/>
            <a:ext cx="50893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отко о класс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шем классе 17 учащихся, 10 мальчиков и 7 девочек. Президент класса Ялакова Ольга, помощник президента Теплов Николай. Все ученики класса успевают в учёбе. Мы любим петь и танцевать. Также дружим со спортом, зимой часто ходим с классом кататься на горку, после занятий в школе вместе собираемся играть в разные игры. Рядом с нами наш классный руководитель Тимофеева Людмила Геннадьевна и наши родители. Мы живём все вместе друж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ш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ый раз в первый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764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ентябрь 2006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5151240" cy="306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2196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исок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Андреев Александр Юрьевич                         04.04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Васильева Анастасия Олеговна                   30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Васильева Екатерина Александровна        03.07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Гордеев Алексей Юрьевич                            23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.Григорьев Дмитрий Валерьевич                  04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.Молькова Кристина Валерьевна                  20.06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7.Никитин Никита Александрович                   04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.Николаев Василий Анатольевич                  07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9.Петров Денис Олегович                                  22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.Петров Евгений Станиславович                  10.05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1.Петрова Вероника Анатольевна                  07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2.Семёнов Дмитрий Владимирович               25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3.Семёнова Виктория Александровна           21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4.Сергеева Виктория Сергеевна                     14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5.Теплов Николай Валерьевич                       03.10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6.Тимофеев Роман Валерьевич                      28.01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7.Ялакова Ольга Владимировна                     09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писание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недельник                    вторник                              ср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1.русский язык              1. 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родной язык(гр)      2.математика                 2. математ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изо                            3.английский язык        3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английский язык    4.ознак.с окруж.м.        4.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                                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етверг                               пятница                           субб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  1.русский язык           1.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математика                2. математика              2. 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родной язык               3.музыка                     3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ознак.с окр.м.             4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техн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 в учёбе,  и в спор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па, мама, я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ртивная сем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622800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4309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09840" indent="0" algn="ct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 гостях в доме    ветеран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357800" cy="2318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6796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тренник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мы вас любим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87640" y="3809880"/>
            <a:ext cx="585792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4972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15:29Z</dcterms:created>
  <dc:creator>ара</dc:creator>
  <dc:description/>
  <dc:language>en-US</dc:language>
  <cp:lastModifiedBy>СОШ</cp:lastModifiedBy>
  <dcterms:modified xsi:type="dcterms:W3CDTF">2007-12-04T12:17:11Z</dcterms:modified>
  <cp:revision>7</cp:revision>
  <dc:subject/>
  <dc:title>2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