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852A-A6B4-46FB-B47C-E5CAEB3FB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ентября 2006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05E-B0BB-4B92-B072-CE0D43D9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11A-7ACE-456A-B1CF-F073F40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8E1-FF83-4565-9E08-743C28A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302-0BB2-4793-9A6E-46E76E65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865-DBE7-425F-9E8E-3F89E039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D419-C4BB-47FA-A5F3-793A1E1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493-884D-41D1-8190-1783D5C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82EE-1620-4A58-8749-9742FD70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811-4569-45AF-8D7E-BE2D0F37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E153-74C5-43B6-ADC1-E71545A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CB35-B7E3-40DB-8208-BB04BB8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CA3-1EFC-4651-A658-499FF68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2D70-EB53-41C1-BB5A-89677C0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B455-43E6-478A-938A-E8C371D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7204-4BC6-4C8B-B6B8-DA438C0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81E9-FE5E-4B0C-82CE-A59DA949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A80B-02CD-4C4B-803B-85F629D1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6C3-E640-4D55-8272-5ABEFFA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D42-E875-4705-BC2D-7BFC98A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AE7-EAAF-483F-8BCA-CD624DA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14E-EF99-4B2D-BBF9-EA272433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471-31E8-4F23-8BC0-5C23B72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F37-F75D-4D2D-8F32-13DF261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955-8674-462B-900F-F49320F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3B50-9D30-4D98-86FB-465AB9570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AFC-383A-4B87-BB54-DA8F4231A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ед вами 2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ЛНЫШ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виз: Стремиться ввысь, не падать вниз, быть впереди и то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ы любим природ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37080" cy="374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80000" y="2565360"/>
            <a:ext cx="50893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отко о класс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шем классе 17 учащихся, 10 мальчиков и 7 девочек. Президент класса Ялакова Ольга, помощник президента Теплов Николай. Все ученики класса успевают в учёбе. Мы любим петь и танцевать. Также дружим со спортом, зимой часто ходим с классом кататься на горку, после занятий в школе вместе собираемся играть в разные игры. Рядом с нами наш классный руководитель Тимофеева Людмила Геннадьевна и наши родители. Мы живём все вместе друж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ш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ый раз в первый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764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ентябрь 2006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5151240" cy="306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2196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исок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Андреев Александр Юрьевич                         04.04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Васильева Анастасия Олеговна                   30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Васильева Екатерина Александровна        03.07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Гордеев Алексей Юрьевич                            23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.Григорьев Дмитрий Валерьевич                  04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.Молькова Кристина Валерьевна                  20.06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7.Никитин Никита Александрович                   04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.Николаев Василий Анатольевич                  07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9.Петров Денис Олегович                                  22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.Петров Евгений Станиславович                  10.05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1.Петрова Вероника Анатольевна                  07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2.Семёнов Дмитрий Владимирович               25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3.Семёнова Виктория Александровна           21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4.Сергеева Виктория Сергеевна                     14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5.Теплов Николай Валерьевич                       03.10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6.Тимофеев Роман Валерьевич                      28.01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7.Ялакова Ольга Владимировна                     09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писание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недельник                    вторник                              ср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1.русский язык              1. 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родной язык(гр)      2.математика                 2. математ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изо                            3.английский язык        3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английский язык    4.ознак.с окруж.м.        4.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                                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етверг                               пятница                           субб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  1.русский язык           1.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математика                2. математика              2. 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родной язык               3.музыка                     3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ознак.с окр.м.             4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техн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 в учёбе,  и в спор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па, мама, я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ртивная сем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622800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4309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09840" indent="0" algn="ct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 гостях в доме    ветеран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357800" cy="2318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6796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тренник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мы вас любим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87640" y="3809880"/>
            <a:ext cx="585792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4972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15:29Z</dcterms:created>
  <dc:creator>ара</dc:creator>
  <dc:description/>
  <dc:language>en-US</dc:language>
  <cp:lastModifiedBy>СОШ</cp:lastModifiedBy>
  <dcterms:modified xsi:type="dcterms:W3CDTF">2007-12-04T12:17:11Z</dcterms:modified>
  <cp:revision>7</cp:revision>
  <dc:subject/>
  <dc:title>2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