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0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888-103D-497A-8ACF-61FF29A4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BE0-AAB0-46FB-95F5-584D1CB2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38D-D018-4A0A-94E5-554558EE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D96-59BA-4EC2-A787-E7AF0DED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AD2-2B8B-468E-A932-32005938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91E-94CE-4337-996D-0E2BEB37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B1F-0FA0-46AB-B1E5-B4F5F864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CDF-589C-49AD-BEC7-A2F78AD7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309-AC40-4D98-9F91-2AC62747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A10-A192-446E-91E9-CDD3C56F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B0D-DC12-465A-BCE1-9C49538B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9E3-C120-4B5B-8D7C-D2430518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340E-1A05-42A3-84D7-2A68ACA34DFF}" type="slidenum">
              <a:rPr b="0" lang="ru-RU" sz="14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Bookman Old Style"/>
              </a:rPr>
              <a:t>Кем стать?</a:t>
            </a:r>
            <a:endParaRPr b="0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" name="Picture 6" descr="kadr"/>
          <p:cNvPicPr/>
          <p:nvPr/>
        </p:nvPicPr>
        <p:blipFill>
          <a:blip r:embed="rId1"/>
          <a:stretch/>
        </p:blipFill>
        <p:spPr>
          <a:xfrm>
            <a:off x="1508040" y="1771560"/>
            <a:ext cx="630396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Наиболее востребованные профессии </a:t>
            </a:r>
            <a:br>
              <a:rPr sz="4000"/>
            </a:b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Менеджер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Секретарь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Бухгалтер, экономист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Оператор ПК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Инженер- технолог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Квалифицированный рабочий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родавец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man Old Style"/>
              </a:rPr>
              <a:t>Работа – это …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Деньги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Карьера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Творчество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780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" name="Picture 5" descr="bd07032_"/>
          <p:cNvPicPr/>
          <p:nvPr/>
        </p:nvPicPr>
        <p:blipFill>
          <a:blip r:embed="rId1"/>
          <a:stretch/>
        </p:blipFill>
        <p:spPr>
          <a:xfrm>
            <a:off x="5364000" y="1484280"/>
            <a:ext cx="1692360" cy="183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j0195384"/>
          <p:cNvPicPr/>
          <p:nvPr/>
        </p:nvPicPr>
        <p:blipFill>
          <a:blip r:embed="rId2"/>
          <a:stretch/>
        </p:blipFill>
        <p:spPr>
          <a:xfrm>
            <a:off x="7020000" y="278136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345312"/>
          <p:cNvPicPr/>
          <p:nvPr/>
        </p:nvPicPr>
        <p:blipFill>
          <a:blip r:embed="rId3"/>
          <a:stretch/>
        </p:blipFill>
        <p:spPr>
          <a:xfrm>
            <a:off x="5003640" y="4221000"/>
            <a:ext cx="1895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Результативное обучение в школе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Изучение самого себя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ыбор направления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ыбор ВУЗА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Подготовка к поступлению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971640" y="333360"/>
            <a:ext cx="7129440" cy="15829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то делать?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              </a:t>
            </a: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Как быть?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4259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ookman Old Style"/>
              </a:rPr>
              <a:t>Поздравляя друг друга с праздником, чаще всего мы желаем успехов в работе. Именно с работой и карьерой мы связываем успешность и благополучие в жизни</a:t>
            </a:r>
            <a:r>
              <a:rPr b="0" i="1" lang="ru-RU" sz="2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5" name="Picture 7" descr="j0230785"/>
          <p:cNvPicPr/>
          <p:nvPr/>
        </p:nvPicPr>
        <p:blipFill>
          <a:blip r:embed="rId1"/>
          <a:stretch/>
        </p:blipFill>
        <p:spPr>
          <a:xfrm>
            <a:off x="5160960" y="1413000"/>
            <a:ext cx="322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Кем стать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О выборе профессии наши дети начали задумываться уже сейчас.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" name="Picture 6" descr="j0344939"/>
          <p:cNvPicPr/>
          <p:nvPr/>
        </p:nvPicPr>
        <p:blipFill>
          <a:blip r:embed="rId1"/>
          <a:stretch/>
        </p:blipFill>
        <p:spPr>
          <a:xfrm>
            <a:off x="5003640" y="2852640"/>
            <a:ext cx="2311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826920" y="404640"/>
            <a:ext cx="7345440" cy="1584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Bookman Old Style"/>
              </a:rPr>
              <a:t>Типология профессий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(по Климову Е.А.)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684360" y="2492280"/>
            <a:ext cx="230328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человек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3419640" y="249228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техник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6012000" y="2492280"/>
            <a:ext cx="216036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знак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1547640" y="407664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искусство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4859280" y="4005360"/>
            <a:ext cx="2449440" cy="9363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природ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Медицина: врач, медсестра, санитар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бучение и воспитание: учитель, тренер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Бытовое обслуживание: продавец, проводник, официант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826920" y="476280"/>
            <a:ext cx="7417080" cy="9367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человек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" name="Picture 14" descr="j0301222"/>
          <p:cNvPicPr/>
          <p:nvPr/>
        </p:nvPicPr>
        <p:blipFill>
          <a:blip r:embed="rId1"/>
          <a:stretch/>
        </p:blipFill>
        <p:spPr>
          <a:xfrm>
            <a:off x="4643280" y="1628640"/>
            <a:ext cx="1636920" cy="165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bd07213_"/>
          <p:cNvPicPr/>
          <p:nvPr/>
        </p:nvPicPr>
        <p:blipFill>
          <a:blip r:embed="rId2"/>
          <a:stretch/>
        </p:blipFill>
        <p:spPr>
          <a:xfrm>
            <a:off x="6588000" y="2781360"/>
            <a:ext cx="1563840" cy="19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j0196234"/>
          <p:cNvPicPr/>
          <p:nvPr/>
        </p:nvPicPr>
        <p:blipFill>
          <a:blip r:embed="rId3"/>
          <a:stretch/>
        </p:blipFill>
        <p:spPr>
          <a:xfrm>
            <a:off x="4140360" y="4581360"/>
            <a:ext cx="1800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8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техника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Эксплуатация технических средств: водитель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вея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79640" y="4149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емонт техники: механик, электромонт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нтаж, наладка технических устройств: сварщик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инжен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6" name="Picture 11" descr="j0296062"/>
          <p:cNvPicPr/>
          <p:nvPr/>
        </p:nvPicPr>
        <p:blipFill>
          <a:blip r:embed="rId1"/>
          <a:stretch/>
        </p:blipFill>
        <p:spPr>
          <a:xfrm>
            <a:off x="5003640" y="4221000"/>
            <a:ext cx="1729080" cy="149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j0234315"/>
          <p:cNvPicPr/>
          <p:nvPr/>
        </p:nvPicPr>
        <p:blipFill>
          <a:blip r:embed="rId2"/>
          <a:stretch/>
        </p:blipFill>
        <p:spPr>
          <a:xfrm>
            <a:off x="6443640" y="2421000"/>
            <a:ext cx="2160720" cy="158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j0310264"/>
          <p:cNvPicPr/>
          <p:nvPr/>
        </p:nvPicPr>
        <p:blipFill>
          <a:blip r:embed="rId3"/>
          <a:stretch/>
        </p:blipFill>
        <p:spPr>
          <a:xfrm>
            <a:off x="2124000" y="2421000"/>
            <a:ext cx="1943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8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– знак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Тексты: корректор, машинистка, библиотекарь, переводчик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Цифры, формулы, таблицы: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бухгалте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экономист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42206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Чертежи, карты, схемы: чертежник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ан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2920" y="414936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Звуковые сигналы: телефонист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адист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4" name="Picture 9" descr="j0303469"/>
          <p:cNvPicPr/>
          <p:nvPr/>
        </p:nvPicPr>
        <p:blipFill>
          <a:blip r:embed="rId1"/>
          <a:stretch/>
        </p:blipFill>
        <p:spPr>
          <a:xfrm>
            <a:off x="2987640" y="2205000"/>
            <a:ext cx="1800360" cy="1434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j0195300"/>
          <p:cNvPicPr/>
          <p:nvPr/>
        </p:nvPicPr>
        <p:blipFill>
          <a:blip r:embed="rId2"/>
          <a:stretch/>
        </p:blipFill>
        <p:spPr>
          <a:xfrm>
            <a:off x="2700360" y="4724280"/>
            <a:ext cx="1308240" cy="1670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j0343491"/>
          <p:cNvPicPr/>
          <p:nvPr/>
        </p:nvPicPr>
        <p:blipFill>
          <a:blip r:embed="rId3"/>
          <a:stretch/>
        </p:blipFill>
        <p:spPr>
          <a:xfrm>
            <a:off x="7020000" y="2205000"/>
            <a:ext cx="1779480" cy="153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j0230752"/>
          <p:cNvPicPr/>
          <p:nvPr/>
        </p:nvPicPr>
        <p:blipFill>
          <a:blip r:embed="rId4"/>
          <a:stretch/>
        </p:blipFill>
        <p:spPr>
          <a:xfrm>
            <a:off x="6757920" y="4581360"/>
            <a:ext cx="17398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язанные с созданием, проектированием, моделированием произведений искусства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композитор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удожн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язанные с воспроизведением и изготовлением произведений искусств: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ювели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кте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цветовод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декоратор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900000" y="333360"/>
            <a:ext cx="7344000" cy="1079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искусство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2" name="Picture 8" descr="j0240481"/>
          <p:cNvPicPr/>
          <p:nvPr/>
        </p:nvPicPr>
        <p:blipFill>
          <a:blip r:embed="rId1"/>
          <a:stretch/>
        </p:blipFill>
        <p:spPr>
          <a:xfrm>
            <a:off x="2411280" y="3789360"/>
            <a:ext cx="2016360" cy="19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j0324708"/>
          <p:cNvPicPr/>
          <p:nvPr/>
        </p:nvPicPr>
        <p:blipFill>
          <a:blip r:embed="rId2"/>
          <a:stretch/>
        </p:blipFill>
        <p:spPr>
          <a:xfrm>
            <a:off x="6588000" y="3429000"/>
            <a:ext cx="2260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Изучение живой и неживой природы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икробиолог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грохим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4920" y="4149360"/>
            <a:ext cx="5699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Уход за растениями, животными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есовод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вощевод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зоотехн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рофилактика и лечение заболеваний растений и животных: ветеринар, селекцион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403280" y="333360"/>
            <a:ext cx="6840720" cy="1079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природа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9" name="Picture 9" descr="j0295888"/>
          <p:cNvPicPr/>
          <p:nvPr/>
        </p:nvPicPr>
        <p:blipFill>
          <a:blip r:embed="rId1"/>
          <a:stretch/>
        </p:blipFill>
        <p:spPr>
          <a:xfrm>
            <a:off x="2771640" y="2492280"/>
            <a:ext cx="1327320" cy="164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j0160614"/>
          <p:cNvPicPr/>
          <p:nvPr/>
        </p:nvPicPr>
        <p:blipFill>
          <a:blip r:embed="rId2"/>
          <a:stretch/>
        </p:blipFill>
        <p:spPr>
          <a:xfrm>
            <a:off x="2700360" y="4797360"/>
            <a:ext cx="2305080" cy="140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j0216724"/>
          <p:cNvPicPr/>
          <p:nvPr/>
        </p:nvPicPr>
        <p:blipFill>
          <a:blip r:embed="rId3"/>
          <a:stretch/>
        </p:blipFill>
        <p:spPr>
          <a:xfrm>
            <a:off x="6443640" y="3716280"/>
            <a:ext cx="1947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11:38Z</dcterms:created>
  <dc:creator>PC</dc:creator>
  <dc:description/>
  <dc:language>en-US</dc:language>
  <cp:lastModifiedBy>ZooM</cp:lastModifiedBy>
  <dcterms:modified xsi:type="dcterms:W3CDTF">2013-11-07T18:49:58Z</dcterms:modified>
  <cp:revision>8</cp:revision>
  <dc:subject/>
  <dc:title>Кем стать?</dc:title>
</cp:coreProperties>
</file>