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0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DE6-1760-454A-945B-6C7C79F0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432-4AFA-43DE-9BFE-FBD5BB2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235A-FA8D-4EED-87F6-E66B716D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BE7-C097-4A82-BF39-2EC301D7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98B-57E7-4CAF-A1B6-438EB374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8FE-B3F1-4B2B-8794-904B7263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C52-CC05-4DB9-82A8-07D26C5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C92-3744-477E-AD5F-84052BC2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A65-767C-40D0-9871-FE9E041D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002-A324-4E5A-9E1C-FD7C82A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5C0-B49B-4564-92CF-8DFC3BE1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795-8528-4535-B2CF-19322D9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7387-B77F-487A-A7A6-5000E954DF1B}" type="slidenum">
              <a:rPr b="0" lang="ru-RU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endParaRPr b="0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" name="Picture 6" descr="kadr"/>
          <p:cNvPicPr/>
          <p:nvPr/>
        </p:nvPicPr>
        <p:blipFill>
          <a:blip r:embed="rId1"/>
          <a:stretch/>
        </p:blipFill>
        <p:spPr>
          <a:xfrm>
            <a:off x="1508040" y="1771560"/>
            <a:ext cx="6303960" cy="41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Наиболее востребованные профессии </a:t>
            </a: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Менеджер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екретарь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Бухгалтер, экономист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Оператор ПК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нженер- технолог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Квалифицированный рабочий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Продавец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man Old Style"/>
              </a:rPr>
              <a:t>Работа – это …</a:t>
            </a:r>
            <a:endParaRPr b="0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Деньги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Карьера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ворчество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Picture 5" descr="bd07032_"/>
          <p:cNvPicPr/>
          <p:nvPr/>
        </p:nvPicPr>
        <p:blipFill>
          <a:blip r:embed="rId1"/>
          <a:stretch/>
        </p:blipFill>
        <p:spPr>
          <a:xfrm>
            <a:off x="5364000" y="1484280"/>
            <a:ext cx="1692360" cy="183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j0195384"/>
          <p:cNvPicPr/>
          <p:nvPr/>
        </p:nvPicPr>
        <p:blipFill>
          <a:blip r:embed="rId2"/>
          <a:stretch/>
        </p:blipFill>
        <p:spPr>
          <a:xfrm>
            <a:off x="7020000" y="2781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345312"/>
          <p:cNvPicPr/>
          <p:nvPr/>
        </p:nvPicPr>
        <p:blipFill>
          <a:blip r:embed="rId3"/>
          <a:stretch/>
        </p:blipFill>
        <p:spPr>
          <a:xfrm>
            <a:off x="5003640" y="4221000"/>
            <a:ext cx="18957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езультативное обучение в школе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Изучение самого себ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направления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ыбор ВУЗА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дготовка к поступлению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971640" y="333360"/>
            <a:ext cx="7129440" cy="15829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то делать?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              </a:t>
            </a: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Как быть?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4259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Bookman Old Style"/>
              </a:rPr>
              <a:t>Поздравляя друг друга с праздником, чаще всего мы желаем успехов в работе. Именно с работой и карьерой мы связываем успешность и благополучие в жизни</a:t>
            </a:r>
            <a:r>
              <a:rPr b="0" i="1" lang="ru-RU" sz="2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5" name="Picture 7" descr="j0230785"/>
          <p:cNvPicPr/>
          <p:nvPr/>
        </p:nvPicPr>
        <p:blipFill>
          <a:blip r:embed="rId1"/>
          <a:stretch/>
        </p:blipFill>
        <p:spPr>
          <a:xfrm>
            <a:off x="5160960" y="1413000"/>
            <a:ext cx="322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             </a:t>
            </a: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Кем стать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О выборе профессии наши дети начали задумываться уже сейчас.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7" name="Picture 6" descr="j0344939"/>
          <p:cNvPicPr/>
          <p:nvPr/>
        </p:nvPicPr>
        <p:blipFill>
          <a:blip r:embed="rId1"/>
          <a:stretch/>
        </p:blipFill>
        <p:spPr>
          <a:xfrm>
            <a:off x="5003640" y="2852640"/>
            <a:ext cx="2311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826920" y="404640"/>
            <a:ext cx="7345440" cy="1584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Bookman Old Style"/>
              </a:rPr>
              <a:t>Типология профессий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(по Климову Е.А.)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684360" y="2492280"/>
            <a:ext cx="230328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челове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>
            <a:off x="3419640" y="249228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техник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6012000" y="2492280"/>
            <a:ext cx="2160360" cy="8654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знак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547640" y="407664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искусство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859280" y="4005360"/>
            <a:ext cx="2449440" cy="93636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еловек - природа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едицина: врач, медсестра, санита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Обучение и воспитание: учитель, тренер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ытовое обслуживание: продавец, проводник, официант…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826920" y="476280"/>
            <a:ext cx="7417080" cy="93672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человек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8" name="Picture 14" descr="j0301222"/>
          <p:cNvPicPr/>
          <p:nvPr/>
        </p:nvPicPr>
        <p:blipFill>
          <a:blip r:embed="rId1"/>
          <a:stretch/>
        </p:blipFill>
        <p:spPr>
          <a:xfrm>
            <a:off x="4643280" y="1628640"/>
            <a:ext cx="1636920" cy="165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d07213_"/>
          <p:cNvPicPr/>
          <p:nvPr/>
        </p:nvPicPr>
        <p:blipFill>
          <a:blip r:embed="rId2"/>
          <a:stretch/>
        </p:blipFill>
        <p:spPr>
          <a:xfrm>
            <a:off x="6588000" y="2781360"/>
            <a:ext cx="1563840" cy="19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j0196234"/>
          <p:cNvPicPr/>
          <p:nvPr/>
        </p:nvPicPr>
        <p:blipFill>
          <a:blip r:embed="rId3"/>
          <a:stretch/>
        </p:blipFill>
        <p:spPr>
          <a:xfrm>
            <a:off x="4140360" y="4581360"/>
            <a:ext cx="180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техника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сплуатация технических средств: водитель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вея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4149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емонт техники: механик, электромонт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нтаж, наладка технических устройств: сварщик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нже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6" name="Picture 11" descr="j0296062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149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j0234315"/>
          <p:cNvPicPr/>
          <p:nvPr/>
        </p:nvPicPr>
        <p:blipFill>
          <a:blip r:embed="rId2"/>
          <a:stretch/>
        </p:blipFill>
        <p:spPr>
          <a:xfrm>
            <a:off x="6443640" y="2421000"/>
            <a:ext cx="2160720" cy="158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j0310264"/>
          <p:cNvPicPr/>
          <p:nvPr/>
        </p:nvPicPr>
        <p:blipFill>
          <a:blip r:embed="rId3"/>
          <a:stretch/>
        </p:blipFill>
        <p:spPr>
          <a:xfrm>
            <a:off x="2124000" y="2421000"/>
            <a:ext cx="194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fff7"/>
          </a:solidFill>
          <a:ln w="9360">
            <a:solidFill>
              <a:srgbClr val="008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– знак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Тексты: корректор, машинистка, библиотекарь, переводчик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ифры, формулы, таблицы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бухгал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эконом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42206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Чертежи, карты, схемы: чертежник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ан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2920" y="414936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вуковые сигналы: телефонист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радист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4" name="Picture 9" descr="j0303469"/>
          <p:cNvPicPr/>
          <p:nvPr/>
        </p:nvPicPr>
        <p:blipFill>
          <a:blip r:embed="rId1"/>
          <a:stretch/>
        </p:blipFill>
        <p:spPr>
          <a:xfrm>
            <a:off x="2987640" y="220500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j0195300"/>
          <p:cNvPicPr/>
          <p:nvPr/>
        </p:nvPicPr>
        <p:blipFill>
          <a:blip r:embed="rId2"/>
          <a:stretch/>
        </p:blipFill>
        <p:spPr>
          <a:xfrm>
            <a:off x="2700360" y="4724280"/>
            <a:ext cx="1308240" cy="1670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j0343491"/>
          <p:cNvPicPr/>
          <p:nvPr/>
        </p:nvPicPr>
        <p:blipFill>
          <a:blip r:embed="rId3"/>
          <a:stretch/>
        </p:blipFill>
        <p:spPr>
          <a:xfrm>
            <a:off x="7020000" y="2205000"/>
            <a:ext cx="1779480" cy="153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j0230752"/>
          <p:cNvPicPr/>
          <p:nvPr/>
        </p:nvPicPr>
        <p:blipFill>
          <a:blip r:embed="rId4"/>
          <a:stretch/>
        </p:blipFill>
        <p:spPr>
          <a:xfrm>
            <a:off x="6757920" y="4581360"/>
            <a:ext cx="173988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созданием, проектированием, моделированием произведений искусства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композитор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удож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язанные с воспроизведением и изготовлением произведений искусств: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ювели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ктер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цветовод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екоратор 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900000" y="333360"/>
            <a:ext cx="734400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искусство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2" name="Picture 8" descr="j0240481"/>
          <p:cNvPicPr/>
          <p:nvPr/>
        </p:nvPicPr>
        <p:blipFill>
          <a:blip r:embed="rId1"/>
          <a:stretch/>
        </p:blipFill>
        <p:spPr>
          <a:xfrm>
            <a:off x="2411280" y="3789360"/>
            <a:ext cx="2016360" cy="19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j0324708"/>
          <p:cNvPicPr/>
          <p:nvPr/>
        </p:nvPicPr>
        <p:blipFill>
          <a:blip r:embed="rId2"/>
          <a:stretch/>
        </p:blipFill>
        <p:spPr>
          <a:xfrm>
            <a:off x="6588000" y="3429000"/>
            <a:ext cx="2260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Изучение живой и неживой природы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икробиолог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грохим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920" y="4149360"/>
            <a:ext cx="5699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ход за растениями, животными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есовод,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вощевод,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зоотехник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рофилактика и лечение заболеваний растений и животных: ветеринар, селекционер…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403280" y="333360"/>
            <a:ext cx="6840720" cy="1079640"/>
          </a:xfrm>
          <a:prstGeom prst="roundRect">
            <a:avLst>
              <a:gd name="adj" fmla="val 16667"/>
            </a:avLst>
          </a:prstGeom>
          <a:solidFill>
            <a:srgbClr val="fffff7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Bookman Old Style"/>
              </a:rPr>
              <a:t>Человек - природа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9" name="Picture 9" descr="j0295888"/>
          <p:cNvPicPr/>
          <p:nvPr/>
        </p:nvPicPr>
        <p:blipFill>
          <a:blip r:embed="rId1"/>
          <a:stretch/>
        </p:blipFill>
        <p:spPr>
          <a:xfrm>
            <a:off x="2771640" y="2492280"/>
            <a:ext cx="1327320" cy="164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j0160614"/>
          <p:cNvPicPr/>
          <p:nvPr/>
        </p:nvPicPr>
        <p:blipFill>
          <a:blip r:embed="rId2"/>
          <a:stretch/>
        </p:blipFill>
        <p:spPr>
          <a:xfrm>
            <a:off x="2700360" y="4797360"/>
            <a:ext cx="2305080" cy="140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j0216724"/>
          <p:cNvPicPr/>
          <p:nvPr/>
        </p:nvPicPr>
        <p:blipFill>
          <a:blip r:embed="rId3"/>
          <a:stretch/>
        </p:blipFill>
        <p:spPr>
          <a:xfrm>
            <a:off x="6443640" y="3716280"/>
            <a:ext cx="1947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3:11:38Z</dcterms:created>
  <dc:creator>PC</dc:creator>
  <dc:description/>
  <dc:language>en-US</dc:language>
  <cp:lastModifiedBy>ZooM</cp:lastModifiedBy>
  <dcterms:modified xsi:type="dcterms:W3CDTF">2013-11-07T18:49:58Z</dcterms:modified>
  <cp:revision>8</cp:revision>
  <dc:subject/>
  <dc:title>Кем стать?</dc:title>
</cp:coreProperties>
</file>