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0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052-14CA-4824-AB1D-950774E7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1B7-899B-4F13-B528-3BCF39AD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7F0-F318-49A0-B624-1071D342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FBD-9EC4-4E8C-95FA-05DE9B16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D45-2DFC-4BC5-B02A-FB42645A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F53-E68F-4E0B-BE7D-0604692C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7E9-4642-4A32-BC7D-F1C5D764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D9A-D4CA-4BF7-9E82-8E73AC27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A19-4FF7-444A-ADD3-4D8B367B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EB6-EE08-4052-B99B-67C9F777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656-E417-4633-8A7E-3D6262B8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52F-F16A-4206-9C70-41C0C92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71C5-7501-41F2-B762-061956583386}" type="slidenum">
              <a:rPr b="0" lang="ru-RU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endParaRPr b="0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" name="Picture 6" descr="kadr"/>
          <p:cNvPicPr/>
          <p:nvPr/>
        </p:nvPicPr>
        <p:blipFill>
          <a:blip r:embed="rId1"/>
          <a:stretch/>
        </p:blipFill>
        <p:spPr>
          <a:xfrm>
            <a:off x="1508040" y="1771560"/>
            <a:ext cx="630396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Наиболее востребованные профессии </a:t>
            </a: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Менеджер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екретарь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Бухгалтер, экономист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Оператор ПК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нженер- технолог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Квалифицированный рабочий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одавец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man Old Style"/>
              </a:rPr>
              <a:t>Работа – это …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Деньги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Карьера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ворчество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0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Picture 5" descr="bd07032_"/>
          <p:cNvPicPr/>
          <p:nvPr/>
        </p:nvPicPr>
        <p:blipFill>
          <a:blip r:embed="rId1"/>
          <a:stretch/>
        </p:blipFill>
        <p:spPr>
          <a:xfrm>
            <a:off x="5364000" y="1484280"/>
            <a:ext cx="1692360" cy="183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195384"/>
          <p:cNvPicPr/>
          <p:nvPr/>
        </p:nvPicPr>
        <p:blipFill>
          <a:blip r:embed="rId2"/>
          <a:stretch/>
        </p:blipFill>
        <p:spPr>
          <a:xfrm>
            <a:off x="7020000" y="278136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345312"/>
          <p:cNvPicPr/>
          <p:nvPr/>
        </p:nvPicPr>
        <p:blipFill>
          <a:blip r:embed="rId3"/>
          <a:stretch/>
        </p:blipFill>
        <p:spPr>
          <a:xfrm>
            <a:off x="5003640" y="4221000"/>
            <a:ext cx="189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езультативное обучение в школе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Изучение самого себ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направлени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ВУЗА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Подготовка к поступлению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971640" y="333360"/>
            <a:ext cx="7129440" cy="15829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то делать?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              </a:t>
            </a: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Как быть?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259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ookman Old Style"/>
              </a:rPr>
              <a:t>Поздравляя друг друга с праздником, чаще всего мы желаем успехов в работе. Именно с работой и карьерой мы связываем успешность и благополучие в жизни</a:t>
            </a:r>
            <a:r>
              <a:rPr b="0" i="1" lang="ru-RU" sz="2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" name="Picture 7" descr="j0230785"/>
          <p:cNvPicPr/>
          <p:nvPr/>
        </p:nvPicPr>
        <p:blipFill>
          <a:blip r:embed="rId1"/>
          <a:stretch/>
        </p:blipFill>
        <p:spPr>
          <a:xfrm>
            <a:off x="5160960" y="1413000"/>
            <a:ext cx="322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О выборе профессии наши дети начали задумываться уже сейчас.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" name="Picture 6" descr="j0344939"/>
          <p:cNvPicPr/>
          <p:nvPr/>
        </p:nvPicPr>
        <p:blipFill>
          <a:blip r:embed="rId1"/>
          <a:stretch/>
        </p:blipFill>
        <p:spPr>
          <a:xfrm>
            <a:off x="5003640" y="2852640"/>
            <a:ext cx="2311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826920" y="404640"/>
            <a:ext cx="7345440" cy="1584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Bookman Old Style"/>
              </a:rPr>
              <a:t>Типология профессий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(по Климову Е.А.)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684360" y="2492280"/>
            <a:ext cx="230328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челове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3419640" y="249228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техник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6012000" y="2492280"/>
            <a:ext cx="216036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зна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547640" y="407664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искусство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859280" y="4005360"/>
            <a:ext cx="2449440" cy="9363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природ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едицина: врач, медсестра, санита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бучение и воспитание: учитель, трене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ытовое обслуживание: продавец, проводник, официант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26920" y="47628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человек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" name="Picture 14" descr="j0301222"/>
          <p:cNvPicPr/>
          <p:nvPr/>
        </p:nvPicPr>
        <p:blipFill>
          <a:blip r:embed="rId1"/>
          <a:stretch/>
        </p:blipFill>
        <p:spPr>
          <a:xfrm>
            <a:off x="4643280" y="1628640"/>
            <a:ext cx="163692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d07213_"/>
          <p:cNvPicPr/>
          <p:nvPr/>
        </p:nvPicPr>
        <p:blipFill>
          <a:blip r:embed="rId2"/>
          <a:stretch/>
        </p:blipFill>
        <p:spPr>
          <a:xfrm>
            <a:off x="6588000" y="2781360"/>
            <a:ext cx="1563840" cy="19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j0196234"/>
          <p:cNvPicPr/>
          <p:nvPr/>
        </p:nvPicPr>
        <p:blipFill>
          <a:blip r:embed="rId3"/>
          <a:stretch/>
        </p:blipFill>
        <p:spPr>
          <a:xfrm>
            <a:off x="4140360" y="4581360"/>
            <a:ext cx="1800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техника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сплуатация технических средств: водитель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вея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4149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емонт техники: механик, электромонт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нтаж, наладка технических устройств: сварщик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нже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6" name="Picture 11" descr="j0296062"/>
          <p:cNvPicPr/>
          <p:nvPr/>
        </p:nvPicPr>
        <p:blipFill>
          <a:blip r:embed="rId1"/>
          <a:stretch/>
        </p:blipFill>
        <p:spPr>
          <a:xfrm>
            <a:off x="5003640" y="4221000"/>
            <a:ext cx="1729080" cy="149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j0234315"/>
          <p:cNvPicPr/>
          <p:nvPr/>
        </p:nvPicPr>
        <p:blipFill>
          <a:blip r:embed="rId2"/>
          <a:stretch/>
        </p:blipFill>
        <p:spPr>
          <a:xfrm>
            <a:off x="6443640" y="2421000"/>
            <a:ext cx="2160720" cy="158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j0310264"/>
          <p:cNvPicPr/>
          <p:nvPr/>
        </p:nvPicPr>
        <p:blipFill>
          <a:blip r:embed="rId3"/>
          <a:stretch/>
        </p:blipFill>
        <p:spPr>
          <a:xfrm>
            <a:off x="2124000" y="2421000"/>
            <a:ext cx="1943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– знак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ексты: корректор, машинистка, библиотекарь, переводчик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ифры, формулы, таблицы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ухгал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оном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4220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Чертежи, карты, схемы: чертежник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ан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2920" y="4149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вуковые сигналы: телефонист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ад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4" name="Picture 9" descr="j0303469"/>
          <p:cNvPicPr/>
          <p:nvPr/>
        </p:nvPicPr>
        <p:blipFill>
          <a:blip r:embed="rId1"/>
          <a:stretch/>
        </p:blipFill>
        <p:spPr>
          <a:xfrm>
            <a:off x="2987640" y="2205000"/>
            <a:ext cx="1800360" cy="143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j0195300"/>
          <p:cNvPicPr/>
          <p:nvPr/>
        </p:nvPicPr>
        <p:blipFill>
          <a:blip r:embed="rId2"/>
          <a:stretch/>
        </p:blipFill>
        <p:spPr>
          <a:xfrm>
            <a:off x="2700360" y="4724280"/>
            <a:ext cx="1308240" cy="167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j0343491"/>
          <p:cNvPicPr/>
          <p:nvPr/>
        </p:nvPicPr>
        <p:blipFill>
          <a:blip r:embed="rId3"/>
          <a:stretch/>
        </p:blipFill>
        <p:spPr>
          <a:xfrm>
            <a:off x="7020000" y="2205000"/>
            <a:ext cx="1779480" cy="153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j0230752"/>
          <p:cNvPicPr/>
          <p:nvPr/>
        </p:nvPicPr>
        <p:blipFill>
          <a:blip r:embed="rId4"/>
          <a:stretch/>
        </p:blipFill>
        <p:spPr>
          <a:xfrm>
            <a:off x="6757920" y="4581360"/>
            <a:ext cx="17398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созданием, проектированием, моделированием произведений искусства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омпозитор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удож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воспроизведением и изготовлением произведений искусств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ювели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к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ветовод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екоратор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900000" y="333360"/>
            <a:ext cx="734400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искусство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2" name="Picture 8" descr="j0240481"/>
          <p:cNvPicPr/>
          <p:nvPr/>
        </p:nvPicPr>
        <p:blipFill>
          <a:blip r:embed="rId1"/>
          <a:stretch/>
        </p:blipFill>
        <p:spPr>
          <a:xfrm>
            <a:off x="2411280" y="3789360"/>
            <a:ext cx="2016360" cy="19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j0324708"/>
          <p:cNvPicPr/>
          <p:nvPr/>
        </p:nvPicPr>
        <p:blipFill>
          <a:blip r:embed="rId2"/>
          <a:stretch/>
        </p:blipFill>
        <p:spPr>
          <a:xfrm>
            <a:off x="6588000" y="3429000"/>
            <a:ext cx="2260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зучение живой и неживой природы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икробиолог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грохим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920" y="4149360"/>
            <a:ext cx="5699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ход за растениями, животными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есовод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вощевод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оотех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рофилактика и лечение заболеваний растений и животных: ветеринар, селекцио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403280" y="333360"/>
            <a:ext cx="684072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природа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9" name="Picture 9" descr="j0295888"/>
          <p:cNvPicPr/>
          <p:nvPr/>
        </p:nvPicPr>
        <p:blipFill>
          <a:blip r:embed="rId1"/>
          <a:stretch/>
        </p:blipFill>
        <p:spPr>
          <a:xfrm>
            <a:off x="2771640" y="2492280"/>
            <a:ext cx="1327320" cy="164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j0160614"/>
          <p:cNvPicPr/>
          <p:nvPr/>
        </p:nvPicPr>
        <p:blipFill>
          <a:blip r:embed="rId2"/>
          <a:stretch/>
        </p:blipFill>
        <p:spPr>
          <a:xfrm>
            <a:off x="2700360" y="4797360"/>
            <a:ext cx="2305080" cy="140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j0216724"/>
          <p:cNvPicPr/>
          <p:nvPr/>
        </p:nvPicPr>
        <p:blipFill>
          <a:blip r:embed="rId3"/>
          <a:stretch/>
        </p:blipFill>
        <p:spPr>
          <a:xfrm>
            <a:off x="6443640" y="3716280"/>
            <a:ext cx="1947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11:38Z</dcterms:created>
  <dc:creator>PC</dc:creator>
  <dc:description/>
  <dc:language>en-US</dc:language>
  <cp:lastModifiedBy>ZooM</cp:lastModifiedBy>
  <dcterms:modified xsi:type="dcterms:W3CDTF">2013-11-07T18:49:58Z</dcterms:modified>
  <cp:revision>8</cp:revision>
  <dc:subject/>
  <dc:title>Кем стать?</dc:title>
</cp:coreProperties>
</file>