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D15-FF75-4777-8A5C-E8806AEB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23A-630E-4D85-8495-BE1415C7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615-B177-40B2-8B58-DAC9798B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E4B-AAFF-4068-BB8A-327DD696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DD53-CA99-4B8C-9874-9C86010A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2556-AA37-4082-82B6-A304E7F9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D891-4809-4270-8638-5E52CD81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3359-988A-4380-801E-9A07FB96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99D4-6464-484B-8D06-8FDDBB0C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67A6-93F6-4812-93B5-33B1044D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B263-DC38-4000-A6FA-E630F2D6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DD5-A18F-493D-A124-40774F20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79FE-C4A8-435E-9ECE-1FC99BC9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87B9-F3E8-45D9-BF3E-0C47E612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F52F-4073-46D2-AD17-4F563610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E2C2-B5D3-418F-AAA3-FC40051E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0AE9-A5D5-4CF6-B9D3-84C95FFA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C41F-7A9B-40B8-B3E2-F17C4683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6B68C-157D-4A60-AAC5-83E96566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A87D-18F4-489A-B492-1CE1C5EA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3CB46-91FF-45FB-AFFD-9B6A3D14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AED3-4A09-43CC-A622-B28DD7FB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38C-98B5-4B9E-B136-1EA57A12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3313-840C-4A8E-BD74-55F6C19E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61D12-4F6B-43FE-8EC8-FC16EC69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97225-36AA-4B7F-A7EA-89BF2B80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02352-D824-4296-86B5-D72A33B5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93400-E0CD-43F3-B958-FF98E89E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94CF-7A4A-4E94-820E-1AADF9A2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C189-9103-49E2-B907-0CD6C301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2DCB3-C20B-411E-985B-51EE0EE5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36246-38FC-4A76-A050-07000DA4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CF978-6A0B-4D5B-B989-0EAFC6D6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E2D3-29BF-4038-9134-9C79376D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6CBAE-CDAD-40F0-921B-104F5453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93C17-8E01-4CD2-A2A2-908534E9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D9FF1-9481-499B-84E4-D35F7E0B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7671B-A7DD-4167-A59E-9C16F456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2D0EA-8363-4B94-92AF-27A8FE97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6B87F-993D-41C8-AAAB-C9CAF0BF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C3739-38DC-483C-B125-D4E2385C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454DE-1912-4E20-B764-020141B7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01C8C-D18A-4A9B-9614-E2724D7D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16918-E625-4DC3-AD81-049A48C6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0BD-7EE1-47FB-9498-6AB8899A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B007A-1322-47B0-B9CD-550C755F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D803B-2864-40E7-9827-4827F96B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44DD8-94C2-4AF3-AFB6-F17BE77A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DA38C-9EE9-4C5D-9B80-A855F957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44899-8ADB-4F2B-BF19-94A5D004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EA9BD-7199-4552-8081-14E2776F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F2587-3E88-41A6-9296-54B8F559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0B908-1515-414B-B63C-25F5B000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A1260-7D64-4F7F-A75E-9BB4E0BF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F922B-FCC8-4C14-B5B5-CE21A78B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C5E-23CD-45D9-B94F-84EE1EB0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FC934-A151-4DC6-A664-463BA27C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7A149-FD72-482D-8431-8526EA6B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037E3-B51D-4430-93CA-0E998B53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CADAB-8B73-4036-99B5-6D46CB1B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C2661-E4C8-4602-96BE-B4AC960C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F2C06-27AF-428F-AF9B-7037644C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93623-C61A-46FD-A8CD-B22C4A77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42A1E-FCEB-45DD-A34F-506D64A7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20E8D-5568-461F-8EFC-D7F8A575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D5484-1C4F-4A97-AFE8-8146C154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BA3-13A0-4C16-B5D1-BDA43883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2D01F-624B-4B50-9162-A01D5295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AFD19-8E03-48A2-BDFC-364FF41A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6BD9F-9E0B-45E8-AAFD-42A6ABF5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CB1AF-A5F7-4CC7-A60F-3F1EAAF3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CFB2E-55DF-45BC-BED9-1227252C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1A8A1-158D-4B01-AF5E-9F3B76FB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CF050-059C-49BB-B94D-DBB0FB8D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5D87E-588C-43C2-B3A4-1061BC64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BEF17-253E-4299-98E2-89CB1B8B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E0AD1-A712-4343-9D4B-0EE323D2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9D7-BF78-411A-AABB-2BDD0195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85EFC-8BD1-41D9-8DE1-4B997874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7C587-A92A-48AF-9AEF-651768F5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13F88-383E-4D16-8705-490FF83A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B6EB4-C189-4E9B-8DDD-B14BFF5E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60BA0-AB1C-485E-934B-B66BD610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8A641-38F4-4538-96E1-F4BFBA8F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EF653-C3D2-4D36-8946-97F7C921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80494-EE24-4F16-8712-0A2BE2DF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C0109-5592-46BD-8521-9589575A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3093C-23C7-49AE-B55E-845A2A7E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3FC-310B-4564-8525-5880F99F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BD93B-A43A-48B3-BB68-E6276E9C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183EB-DCE2-461E-9C5B-DEAEB617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94184-7749-455F-B969-6AB6ABCD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1FC57-987C-4452-8D43-E7546130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AA119-81D6-4764-BA20-53DFBA58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E98D8-787E-484E-B30D-234D97E8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461DB-60FD-4F36-A024-8B2B604E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D63D-2134-4311-A7E5-8CC4FE62773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9DB3-483C-4D38-80D6-4BE19E8D52E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8991-E7C3-4E82-B7B4-FFCABB23297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D6C4-5B70-483A-B36B-C9A60DD30B0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CE45-6C49-4F84-B357-EDC8B353C60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0024-AAA9-4A30-AF2A-6809AEC5AAA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03E8-E194-4459-A96D-D49197C36C8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E65D-C840-4ACB-BB80-592BF9D07A3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26960" y="1390680"/>
            <a:ext cx="8472600" cy="2529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асибо за урок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6" descr="Богатыри"/>
          <p:cNvPicPr/>
          <p:nvPr/>
        </p:nvPicPr>
        <p:blipFill>
          <a:blip r:embed="rId1"/>
          <a:stretch/>
        </p:blipFill>
        <p:spPr>
          <a:xfrm>
            <a:off x="1554120" y="148104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373" name="Заголовок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6" descr="Витязь на распутье"/>
          <p:cNvPicPr/>
          <p:nvPr/>
        </p:nvPicPr>
        <p:blipFill>
          <a:blip r:embed="rId1"/>
          <a:stretch/>
        </p:blipFill>
        <p:spPr>
          <a:xfrm>
            <a:off x="1138320" y="1481040"/>
            <a:ext cx="6867360" cy="4525920"/>
          </a:xfrm>
          <a:prstGeom prst="rect">
            <a:avLst/>
          </a:prstGeom>
          <a:ln w="0">
            <a:noFill/>
          </a:ln>
        </p:spPr>
      </p:pic>
      <p:pic>
        <p:nvPicPr>
          <p:cNvPr id="375" name="Заголовок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Содержимое 3" descr="http://education.simcat.ru/school65/img/1347949130_74849533_large_1624064.jpg"/>
          <p:cNvPicPr/>
          <p:nvPr/>
        </p:nvPicPr>
        <p:blipFill>
          <a:blip r:embed="rId1"/>
          <a:stretch/>
        </p:blipFill>
        <p:spPr>
          <a:xfrm>
            <a:off x="1476360" y="2058840"/>
            <a:ext cx="6191280" cy="337212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После побоища Игоря Светославича с половцами"/>
          <p:cNvPicPr/>
          <p:nvPr/>
        </p:nvPicPr>
        <p:blipFill>
          <a:blip r:embed="rId1"/>
          <a:stretch/>
        </p:blipFill>
        <p:spPr>
          <a:xfrm>
            <a:off x="1011240" y="1481040"/>
            <a:ext cx="7121520" cy="4525920"/>
          </a:xfrm>
          <a:prstGeom prst="rect">
            <a:avLst/>
          </a:prstGeom>
          <a:ln w="0">
            <a:noFill/>
          </a:ln>
        </p:spPr>
      </p:pic>
      <p:pic>
        <p:nvPicPr>
          <p:cNvPr id="379" name="Заголовок 1" descr=""/>
          <p:cNvPicPr/>
          <p:nvPr/>
        </p:nvPicPr>
        <p:blipFill>
          <a:blip r:embed="rId2"/>
          <a:stretch/>
        </p:blipFill>
        <p:spPr>
          <a:xfrm>
            <a:off x="231840" y="-152280"/>
            <a:ext cx="845496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Содержимое 3" descr="http://www.surwiki.ru/wiki/images/7/7d/%D0%9A%D0%BD%D1%8F%D0%B7%D1%8C2.jpg"/>
          <p:cNvPicPr/>
          <p:nvPr/>
        </p:nvPicPr>
        <p:blipFill>
          <a:blip r:embed="rId1"/>
          <a:stretch/>
        </p:blipFill>
        <p:spPr>
          <a:xfrm>
            <a:off x="3260880" y="1481040"/>
            <a:ext cx="2622240" cy="4525920"/>
          </a:xfrm>
          <a:prstGeom prst="rect">
            <a:avLst/>
          </a:prstGeom>
          <a:ln w="0">
            <a:noFill/>
          </a:ln>
        </p:spPr>
      </p:pic>
      <p:pic>
        <p:nvPicPr>
          <p:cNvPr id="381" name="Заголовок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Содержимое 3" descr="http://static.ngs.ru/news/preview/737577af611ea55c6ea46b606f44764b0e746ec7_500.jpg"/>
          <p:cNvPicPr/>
          <p:nvPr/>
        </p:nvPicPr>
        <p:blipFill>
          <a:blip r:embed="rId1"/>
          <a:stretch/>
        </p:blipFill>
        <p:spPr>
          <a:xfrm>
            <a:off x="2309760" y="1481040"/>
            <a:ext cx="4524480" cy="4525920"/>
          </a:xfrm>
          <a:prstGeom prst="rect">
            <a:avLst/>
          </a:prstGeom>
          <a:ln w="0">
            <a:noFill/>
          </a:ln>
        </p:spPr>
      </p:pic>
      <p:pic>
        <p:nvPicPr>
          <p:cNvPr id="383" name="Заголовок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атриотическая песн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  <p:pic>
        <p:nvPicPr>
          <p:cNvPr id="386" name="Mihail-Glinka-Patrioticheskaya-pesnya-Gosudarstvennyy-gimn-Rossiyskoy-Federacii-19912000(muzofon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236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Я думаю, в процессе урока у каждого из вас сложился свой образ русского богатыря, воина защитни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жно ли в наши дни встретить «богатыря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рисуйте образ богатыря, таким, каким вы себе его представляет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20:02:17Z</dcterms:created>
  <dc:creator>Admin</dc:creator>
  <dc:description/>
  <dc:language>en-US</dc:language>
  <cp:lastModifiedBy>Пользователь</cp:lastModifiedBy>
  <dcterms:modified xsi:type="dcterms:W3CDTF">2014-01-27T16:22:25Z</dcterms:modified>
  <cp:revision>6</cp:revision>
  <dc:subject/>
  <dc:title>Героическое прошлое нашей Родины в изобразительном искусстве</dc:title>
</cp:coreProperties>
</file>