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AED-51B0-497C-ACF6-3CA21525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5E2-1A57-49A8-A176-45B14A9C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9D5-FA89-4B97-B453-15484F76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88A-5310-47F7-9FD4-22656605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A981-BA99-4E4D-A44E-9BE1EA10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12F5-FA80-494D-BE6B-36370FC7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A6CA-830A-44AB-A0BB-A675E407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889-6FA7-493E-B011-75692BE1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5AE-E98C-4A34-9C2B-35EB4A69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1978-DA44-4F93-98CA-77FBF625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AC74-AE17-43C3-B824-90274B6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167-C3F0-4DDC-8B8A-CC3A3EB5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54E5-7050-4F5C-82F8-A68FB144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D6B7-8B80-4A8F-B558-80AD4464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8624-55A3-4B79-A9FE-DD12D86C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3FE7-35B2-4381-9705-EF90BA19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E8A1-B592-4F28-A6CD-B18B02EE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9B66-0B86-40D0-B1CA-D59CA654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AF38-ACFC-4457-92A8-7BF4BAF4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2187-1F96-409E-A9E4-872A7624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D075-1A29-4DE1-8E97-9F036C6D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8C3E-463B-48E4-A36C-50518A73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96F-2724-499F-8BF5-69BF288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9F054-6F0D-4DA2-B588-E00BFCC2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3FAB-B524-4B7C-890F-65D55CE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A253-756C-4C3C-A830-C5BE4D2B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E6F6-CDA6-4A35-AD6C-35819B4A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9A8A-1CF9-4D58-9A42-FDE20ED0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92B2-8871-4642-AF4B-585E5F0A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3C51-62FC-4D4B-A2E4-A43B4F91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BF56-0133-4CED-84A4-02125048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E2875-3B97-4C64-A56F-4DA583F4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364A-4609-4963-BFBB-90BF698D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875-203C-47F1-8228-BB265A7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D0603-0A2B-4A66-A620-5D0757C9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CA0D-1A73-4BBF-AFB8-0FB4197A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B4E76-9D33-47A0-9729-CA9ECFD6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76B9-E967-463C-9BB3-3F1F1524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1AF8-EAA8-4759-B68F-6669330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41D1-DBF7-4EC8-98C7-C879CE52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B5515-4920-481D-8706-8DA5E67F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AE03-5997-4C80-9E42-13704616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40170-7382-4980-94A9-38DE3828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803E3-D23C-45E7-8912-0BE386AD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D6C-D89E-44C5-BA92-87F613C8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A239-00B2-4B39-959B-4AE9DDA4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42AAC-99AC-491A-95D1-EE875152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5181C-8D94-4D2C-A039-F981C2F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28CEC-1847-4132-9200-8A2D19D0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9B4B-E459-4A00-8976-D7FD47FF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C39D4-F16C-4156-97AB-71479E6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C8572-71AC-4CCA-9989-A762B2D3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970D-CBED-4F69-8CF0-80B7F64D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4E8D4-F39F-495A-95F4-F08BFBBE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63800-547B-4CE2-B65E-17EAC21F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7EF9-1C54-4923-A5DA-793DC7E3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E250B-B5E6-4059-9DCD-05407B71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BF2E6-AFB9-464A-80A1-991337E3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E75E0-D493-43E8-A417-6F595581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D60C-619D-4EE0-9196-B1DA7AB1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834C9-F85D-49C2-AE1C-8739565C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E85B5-E1DB-4CC8-A94E-BDE69C0F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01BC9-AF71-49B6-872A-F248DB7D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370B5-7D52-4303-8201-CCDA363B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1D67D-F41D-43EF-9927-3F713181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B5AA5-1978-4254-A7FA-CCC5FCB1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9D9-3C4D-4841-B329-376ABF16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52CF-E5B1-4E9D-A8FF-0E0F66A3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F5F93-C04E-4741-9281-36F2E4D2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DD05-9C7D-465F-88BA-D4C1DEA7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EF7C7-1534-427D-8282-EA93A6B5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9B393-65BC-4608-8CFD-97D10F75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6AAB6-DADD-4E49-889E-52D957ED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491AD-94F3-47A5-9DB9-737F1A08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76A3C-705F-47B3-9011-56F5D43A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8C29-9CDE-4AC8-811D-9C55235A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0F30A-3AAE-4CA4-960A-18D6367B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105-DF94-4B53-801A-E0C27B8B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D64F0-1420-41D7-8B0C-47956743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02930-F7E9-4F56-B3AF-C750ADD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05C84-C114-4B99-AE65-DE883C34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D7190-99F6-4CA9-9A27-35F8DAAC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2A25F-0663-4EEA-AD18-3FDE0153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8010F-82D6-426C-917A-E099B520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DD045-14AD-434F-8452-F7192873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8BBAB-25E4-4B53-AA20-E762ACA6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D61E-6C5C-4458-B13E-91EE12B0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145FF-C319-4DD7-B087-F8F107AF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E00-1F72-409F-8D2E-D837ECAA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4C902-03A2-4773-AC6B-5307099E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D4D1D-451A-4FCE-A308-6DE28788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9A2F8-A8B9-45E3-B715-D4ACC7A7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AD4AF-D639-448A-A3BC-84B93DCD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89346-BC51-4FE3-8278-08CF7662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934C0-EBF9-4800-B8F3-9B14043B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5829E-4C63-4AB4-A134-C182AA88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5C18-17DB-4B89-A42C-3FD28427106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5614-0B70-44E2-871A-766D808D958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A6F1-6161-425F-BEF1-E925EB4DECE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EB79-C19E-4401-B494-119DAF1E8C6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18FC-E973-4FC4-A5D8-8EE9D100721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0FE2-C11D-4928-897C-2A330ECAD2A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423D-8221-4CA5-B0FA-E4F459BE7E5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F859-A617-4CBA-A7C4-F97538F0F84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26960" y="1390680"/>
            <a:ext cx="8472600" cy="2529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асибо за урок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6" descr="Богатыри"/>
          <p:cNvPicPr/>
          <p:nvPr/>
        </p:nvPicPr>
        <p:blipFill>
          <a:blip r:embed="rId1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373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6" descr="Витязь на распутье"/>
          <p:cNvPicPr/>
          <p:nvPr/>
        </p:nvPicPr>
        <p:blipFill>
          <a:blip r:embed="rId1"/>
          <a:stretch/>
        </p:blipFill>
        <p:spPr>
          <a:xfrm>
            <a:off x="1138320" y="1481040"/>
            <a:ext cx="6867360" cy="4525920"/>
          </a:xfrm>
          <a:prstGeom prst="rect">
            <a:avLst/>
          </a:prstGeom>
          <a:ln w="0">
            <a:noFill/>
          </a:ln>
        </p:spPr>
      </p:pic>
      <p:pic>
        <p:nvPicPr>
          <p:cNvPr id="375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Содержимое 3" descr="http://education.simcat.ru/school65/img/1347949130_74849533_large_1624064.jpg"/>
          <p:cNvPicPr/>
          <p:nvPr/>
        </p:nvPicPr>
        <p:blipFill>
          <a:blip r:embed="rId1"/>
          <a:stretch/>
        </p:blipFill>
        <p:spPr>
          <a:xfrm>
            <a:off x="1476360" y="2058840"/>
            <a:ext cx="6191280" cy="3372120"/>
          </a:xfrm>
          <a:prstGeom prst="rect">
            <a:avLst/>
          </a:prstGeom>
          <a:ln w="0">
            <a:noFill/>
          </a:ln>
        </p:spPr>
      </p:pic>
      <p:pic>
        <p:nvPicPr>
          <p:cNvPr id="377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После побоища Игоря Светославича с половцами"/>
          <p:cNvPicPr/>
          <p:nvPr/>
        </p:nvPicPr>
        <p:blipFill>
          <a:blip r:embed="rId1"/>
          <a:stretch/>
        </p:blipFill>
        <p:spPr>
          <a:xfrm>
            <a:off x="1011240" y="1481040"/>
            <a:ext cx="712152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Заголовок 1" descr=""/>
          <p:cNvPicPr/>
          <p:nvPr/>
        </p:nvPicPr>
        <p:blipFill>
          <a:blip r:embed="rId2"/>
          <a:stretch/>
        </p:blipFill>
        <p:spPr>
          <a:xfrm>
            <a:off x="231840" y="-152280"/>
            <a:ext cx="845496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http://www.surwiki.ru/wiki/images/7/7d/%D0%9A%D0%BD%D1%8F%D0%B7%D1%8C2.jpg"/>
          <p:cNvPicPr/>
          <p:nvPr/>
        </p:nvPicPr>
        <p:blipFill>
          <a:blip r:embed="rId1"/>
          <a:stretch/>
        </p:blipFill>
        <p:spPr>
          <a:xfrm>
            <a:off x="3260880" y="1481040"/>
            <a:ext cx="262224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3" descr="http://static.ngs.ru/news/preview/737577af611ea55c6ea46b606f44764b0e746ec7_500.jpg"/>
          <p:cNvPicPr/>
          <p:nvPr/>
        </p:nvPicPr>
        <p:blipFill>
          <a:blip r:embed="rId1"/>
          <a:stretch/>
        </p:blipFill>
        <p:spPr>
          <a:xfrm>
            <a:off x="2309760" y="1481040"/>
            <a:ext cx="4524480" cy="452592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1" descr=""/>
          <p:cNvPicPr/>
          <p:nvPr/>
        </p:nvPicPr>
        <p:blipFill>
          <a:blip r:embed="rId2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атриотическая песн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292400"/>
          </a:xfrm>
          <a:prstGeom prst="rect">
            <a:avLst/>
          </a:prstGeom>
          <a:ln w="0">
            <a:noFill/>
          </a:ln>
        </p:spPr>
      </p:pic>
      <p:pic>
        <p:nvPicPr>
          <p:cNvPr id="386" name="Mihail-Glinka-Patrioticheskaya-pesnya-Gosudarstvennyy-gimn-Rossiyskoy-Federacii-19912000(muzofon.com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236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 думаю, в процессе урока у каждого из вас сложился свой образ русского богатыря, воина защитни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жно ли в наши дни встретить «богатыря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рисуйте образ богатыря, таким, каким вы себе его представляет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20:02:17Z</dcterms:created>
  <dc:creator>Admin</dc:creator>
  <dc:description/>
  <dc:language>en-US</dc:language>
  <cp:lastModifiedBy>Пользователь</cp:lastModifiedBy>
  <dcterms:modified xsi:type="dcterms:W3CDTF">2014-01-27T16:22:25Z</dcterms:modified>
  <cp:revision>6</cp:revision>
  <dc:subject/>
  <dc:title>Героическое прошлое нашей Родины в изобразительном искусстве</dc:title>
</cp:coreProperties>
</file>