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297-167D-409B-A58E-5B4FBC99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4FE-A4F1-46C9-80B6-21C50610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CC6-DDAF-475B-8C53-8C559B48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4CD-8043-4F0D-AE53-6722D093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670E-6B47-48AB-BD16-A14E8BC3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F5B2-53B4-45BA-AEA8-83697EB5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E90A-8B29-46C3-8C12-7A58B8E8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889E-0CD8-4E9A-A848-42252F92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F34-624B-43E2-B393-09CEBCDC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54A8-84C7-4F2B-80E3-FF369F53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8D0E-12AA-4095-9CCB-4031FD8D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1B5-E049-4939-98AF-2E5077B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4A1C-7673-4AE9-A2F2-607EA96A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BD1-F225-4E9E-B3C7-70AFEC45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6FA6-B0F9-446F-8095-BAACC11C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27F5-C8D0-431F-85E0-86A93DA5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36E-621A-4F45-A378-1298F18D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1F11-05AA-4EC4-9605-CCC17A3B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59DB-656C-479A-B8D9-2AAACFDE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4DF4-8A0F-42DB-8D88-345D2F43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CB27-5988-42B2-A861-67176F4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6402-B09A-49FB-830A-84BF82E4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949-934D-4B8F-931C-38BC5EFD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8F10-C172-4682-85E1-C2DBA85D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9939-5646-4E31-ACDD-E11689CF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4E6B-CB05-4D44-BDEC-E72C505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0A06-2152-478F-AF25-7F4A741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7C95-DDBE-471D-A34D-EB9D08BF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756E-EC85-4B7D-97B1-654B8ABA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A985-7D30-4D4D-AE53-006F9AFB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9B52-84A3-4A29-B4C3-20D40FF0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5062-0FA4-4A96-826F-C5747630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072C-A977-4DF0-9D63-CAEE0EB3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121-4BED-4323-B0BF-B9EB5222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5619-62C1-4016-9EFA-80CFF33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CE06-F497-4288-9531-4C6CA462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805E-3EFC-47A1-B22D-6E5E27B3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EE999-137C-4B49-928B-6C0D1C7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38E8-6774-4F50-A16E-8320C3E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2E91-4558-4F5E-8F9D-F195296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B556-1449-4C38-85BC-2FB31772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42C3F-A706-4024-A709-6ACB916D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B9D55-05CF-40F4-BA16-73981392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B27C-B711-49C0-9612-05E6C754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849-2FB4-4208-A8EE-D53B48E3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D965-6F6B-4356-BB5B-38C3DE09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5FD37-534A-4AA8-A21A-3A61E882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659E4-165C-4B12-B87F-69E8E2AC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3E2D-78C7-4911-ADA4-D9BDA9FC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801C9-713F-4E52-A497-6055BC4A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8A15-16D7-4225-A645-510DCA6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2555-3539-4EFF-82EE-65F26E6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8F260-7C37-4D89-A9E6-D5E6EB1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33AB-9F81-450D-87AF-99ED5FAD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CB38-B8D1-4A3A-8002-B1389620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729-E88F-4089-8332-2CA8710C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05BD-D5DA-4F3F-AFCC-AD129FA9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2009E-531C-43B5-BF7F-BDC9D6E4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8E54-F5FC-4475-8538-7F1FE158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E27A-5934-4119-BBB7-D9C9567E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CA93F-F6C9-4B27-BC09-2CCECABE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74A4-1A51-4682-B844-C7CF484A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1E36A-CE9E-48C4-80E3-B9AB3EF3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C3FF8-E046-498E-9667-2DD02B0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1345-F94F-4EED-8D63-69B692F7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2DC63-22C6-4283-84DB-1641A38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37F-3AEC-4D63-B5EF-9FC277C4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228E-7646-4E4E-B948-CF24838B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8A80-6EBB-4662-9A84-311309E2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0569B-9A0E-439F-982B-1B878036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156D1-C3F2-454B-AB88-D472D1CF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9062C-05ED-42B2-BE48-428912C2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C7554-1DB8-43F1-AF6A-B7E6A8C0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3A32E-B2FD-41C4-8EF7-62DBDF35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8BAF-2FA0-4E82-B539-BE950B59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8D9B8-5FB7-45EF-9C43-AC8C3489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819D-7D67-4D4D-89FB-9658F9F4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288-4BE9-4DC3-A9E1-2F3B414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1A6BA-EF1B-4FCC-8AE1-F25816F2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2166C-66F4-42F9-B13D-04E2ADE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4BBCA-21AF-44DB-B90A-EC8F42E5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10D4A-A34E-4A14-B02B-DD7A8330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1A8F9-F1B8-4EF8-B938-1A448448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E4D1F-2F69-499F-B0D7-41073376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3A5F7-1049-4ABE-B8D9-02C86027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EA0AA-CFCE-4564-AFED-E098AD2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FB9C9-0535-4082-AD16-6BA56202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80EBC-B911-41E3-9D4C-361E3738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379-DC80-4CC5-8E30-6AAA634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7E582-B0C9-4813-AB66-D1FB273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5D510-DED1-47EA-B1A6-B4326D3B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0918F-18AE-4BA7-9138-43FF6C8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96637-D6C1-48B9-9249-F34A57E2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6D6BF-8DE9-4C09-968D-E1DC521D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8D1F-4638-4ED2-9916-8B8D32A9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601AB-5523-41BA-924B-76180556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8048-FAEB-41EF-833C-A533BED4FC6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ED03-341B-4214-A085-812106D19B0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C55B-069F-401F-BF4C-C1701EE78F4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3248-E092-42C0-B341-E5C42118DA1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2832-965F-4134-AEEA-8A693A36CA5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A3EB-672E-4557-B2EC-031453213F6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6371-F793-49D9-AE1A-FE240397C92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78BD-9606-423B-929F-8AA7F2DA80F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26960" y="1390680"/>
            <a:ext cx="8472600" cy="2529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асибо за урок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6" descr="Богатыри"/>
          <p:cNvPicPr/>
          <p:nvPr/>
        </p:nvPicPr>
        <p:blipFill>
          <a:blip r:embed="rId1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373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6" descr="Витязь на распутье"/>
          <p:cNvPicPr/>
          <p:nvPr/>
        </p:nvPicPr>
        <p:blipFill>
          <a:blip r:embed="rId1"/>
          <a:stretch/>
        </p:blipFill>
        <p:spPr>
          <a:xfrm>
            <a:off x="1138320" y="1481040"/>
            <a:ext cx="6867360" cy="4525920"/>
          </a:xfrm>
          <a:prstGeom prst="rect">
            <a:avLst/>
          </a:prstGeom>
          <a:ln w="0">
            <a:noFill/>
          </a:ln>
        </p:spPr>
      </p:pic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3" descr="http://education.simcat.ru/school65/img/1347949130_74849533_large_1624064.jpg"/>
          <p:cNvPicPr/>
          <p:nvPr/>
        </p:nvPicPr>
        <p:blipFill>
          <a:blip r:embed="rId1"/>
          <a:stretch/>
        </p:blipFill>
        <p:spPr>
          <a:xfrm>
            <a:off x="1476360" y="2058840"/>
            <a:ext cx="6191280" cy="33721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После побоища Игоря Светославича с половцами"/>
          <p:cNvPicPr/>
          <p:nvPr/>
        </p:nvPicPr>
        <p:blipFill>
          <a:blip r:embed="rId1"/>
          <a:stretch/>
        </p:blipFill>
        <p:spPr>
          <a:xfrm>
            <a:off x="1011240" y="1481040"/>
            <a:ext cx="712152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Заголовок 1" descr=""/>
          <p:cNvPicPr/>
          <p:nvPr/>
        </p:nvPicPr>
        <p:blipFill>
          <a:blip r:embed="rId2"/>
          <a:stretch/>
        </p:blipFill>
        <p:spPr>
          <a:xfrm>
            <a:off x="231840" y="-152280"/>
            <a:ext cx="845496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http://www.surwiki.ru/wiki/images/7/7d/%D0%9A%D0%BD%D1%8F%D0%B7%D1%8C2.jpg"/>
          <p:cNvPicPr/>
          <p:nvPr/>
        </p:nvPicPr>
        <p:blipFill>
          <a:blip r:embed="rId1"/>
          <a:stretch/>
        </p:blipFill>
        <p:spPr>
          <a:xfrm>
            <a:off x="3260880" y="1481040"/>
            <a:ext cx="262224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3" descr="http://static.ngs.ru/news/preview/737577af611ea55c6ea46b606f44764b0e746ec7_500.jpg"/>
          <p:cNvPicPr/>
          <p:nvPr/>
        </p:nvPicPr>
        <p:blipFill>
          <a:blip r:embed="rId1"/>
          <a:stretch/>
        </p:blipFill>
        <p:spPr>
          <a:xfrm>
            <a:off x="2309760" y="1481040"/>
            <a:ext cx="4524480" cy="452592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триотическая песн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pic>
        <p:nvPicPr>
          <p:cNvPr id="386" name="Mihail-Glinka-Patrioticheskaya-pesnya-Gosudarstvennyy-gimn-Rossiyskoy-Federacii-19912000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236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думаю, в процессе урока у каждого из вас сложился свой образ русского богатыря, воина защитни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но ли в наши дни встретить «богатыря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рисуйте образ богатыря, таким, каким вы себе его представляе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20:02:17Z</dcterms:created>
  <dc:creator>Admin</dc:creator>
  <dc:description/>
  <dc:language>en-US</dc:language>
  <cp:lastModifiedBy>Пользователь</cp:lastModifiedBy>
  <dcterms:modified xsi:type="dcterms:W3CDTF">2014-01-27T16:22:25Z</dcterms:modified>
  <cp:revision>6</cp:revision>
  <dc:subject/>
  <dc:title>Героическое прошлое нашей Родины в изобразительном искусстве</dc:title>
</cp:coreProperties>
</file>