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6C0-5FC4-4D99-BDBF-26AD8569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C6D-2251-4B16-868C-BBE06E7B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256-74C3-4430-89DB-76655347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094-20AB-4AA0-A763-30A64714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134-BDD2-493C-94E5-C30BD04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6E4-5B34-46AC-882A-9EB8D20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E6F-F0E6-49B7-B00D-C86A135E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DB3-D3BA-4538-811C-00DC7F41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D6-EC35-4A91-B686-EDC7FEB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6CB-3937-4E06-A10B-D879653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079-419E-49AA-9D1E-B2080BE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FEA-7A56-4CD7-A7BF-E789F04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1BD-0A23-4196-AAA6-DFE979BD3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31T13:46:39Z</dcterms:modified>
  <cp:revision>7</cp:revision>
  <dc:subject/>
  <dc:title>PowerPoint Presentation</dc:title>
</cp:coreProperties>
</file>