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FCD-EDDE-43FC-9E92-6AFF2FE0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663-5C1E-4AC3-95B3-EB1E280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816-0AF3-44C8-AFDF-1070E019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83C-8FDF-4BA9-8382-EB756A6E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7E8-CC88-467A-AAF4-BEA5CDB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97E-C0B8-42EF-BFA2-5A81E110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A50-848F-49C5-8935-81B72DA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D26-A9B7-4B92-890D-6FDCD07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074-EE67-4921-8DF3-0E9919CE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6FE-B62B-4E43-B1D0-F5C3A82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E0C-3777-4DF5-8340-6B0138F9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17F-94A7-4990-AE45-F24D7CC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1A8-079E-4753-AAD1-15CC2B46D3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31T13:46:39Z</dcterms:modified>
  <cp:revision>7</cp:revision>
  <dc:subject/>
  <dc:title>PowerPoint Presentation</dc:title>
</cp:coreProperties>
</file>