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AE9D-A98F-44C6-9516-5ADAA533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48D-3E31-442E-AD95-65C62776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0601-8791-44B8-94A7-1CDFB635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EBF5-9DE9-4F62-BC94-3A130C24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C5AF-E2F1-4E42-BFE3-1F0F968D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9CC4-B45D-4789-B30D-DF7264A5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8D7A-585A-43AD-B628-95148575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61D-F8BD-425E-B451-527A05B1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BB33-2A5D-49C0-AA1F-6018608F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B182-30FF-4432-8144-4D94A914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307F-81F7-42E2-BD61-E0D22B0F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6E6F-EB17-42BD-BA52-B6E2E379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D4F6-5FB5-4C87-887B-78FC5185F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2000" y="-45360"/>
            <a:ext cx="569772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У Черёмушкинская средняя общеобразовательная школа №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заменационный рефе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литерату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"Как нечто лишнее стоит..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 Евгения Онег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по роману А.С.Пушкина «Евгений Онегин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8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5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5591160" cy="3686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09480" y="3777120"/>
            <a:ext cx="50148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рсова Елена Александро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еница 9 Б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кун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рина Леонидо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тель русского языка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ера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8760"/>
                <a:tab algn="r" pos="6029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 Саяногорск, 2009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Муки совести терзают его. Онегин ищет забвени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Маршрут:Нижний Новгород — «отчизна Минина», волжские просторы, овеянные легендами о Разине и Пугачеве, «жилище вольности» Кавказ, наконец, «брега Тавриды» — место ссылки Мицкевича и Пушкин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572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Итоги долгих  странствий  Евгения Онегина  безрадостны («тоска, тоска!..»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76920" y="1219320"/>
            <a:ext cx="3657600" cy="46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700"/>
                            </p:stCondLst>
                            <p:childTnLst>
                              <p:par>
                                <p:cTn id="2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Несомненная заслуга Пушкина в том, что он в своем романе показал трагедию «лишних людей» и причины появления их в среде дворянской интеллигенции 20-х годов 19 век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29200" y="1143000"/>
            <a:ext cx="3448080" cy="48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400"/>
                            </p:stCondLst>
                            <p:childTnLst>
                              <p:par>
                                <p:cTn id="3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Евгений Онеги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Цель рефера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Исследовать душу, мысли, чувства, отношение к жизни Евгения Онег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опрос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Онегин – положительный герой или отрицательны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Как к нему должны относиться мы, современные читат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Изменился ли взгляд на его образ, поступки в наше врем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Основа рефера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ниги, литературоведческие статьи С.Е.Шаталова, Ю.М. Лотмана, М.  Цветаевой, В.Г. Белин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98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«Онегин – самое значительное  творение Пушкина, поглотившее половину его жизни,» - так отзывался о романе Герцен в статье «О развитии революционных идей Росс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411480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388620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cc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«Евгений Онегин» - первое в России 19 века великое реалистическое произведение. Им открывается в русской литературе новая эпоха, эпоха реал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410080" y="2133720"/>
            <a:ext cx="281952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70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Главное действующее лицо романа - молодой помещик Евгений Онегин - показан Пушкиным как человек с очень  противоречивым характ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Он  не «положительный герой», но и не «отрицательный герой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809880" cy="5181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10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124080" cy="4114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533520"/>
            <a:ext cx="3886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стрижен по последней мод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 dandy лондонский одет –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 наконец увидел с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н по - французски  соверш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ог изъяснятся и пис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егко мазурку танцев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05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ни сошлись. Волна и кам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тихи и проза, лед и плам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е столь различны меж собой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 скоро стали неразлуч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Так люди (первый каюсь 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т делать нечего друз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ске сердечных угрыз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кою стиснув писто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ядит на Ленского Евг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Ну, что ж? убит»,— решил сос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бит!.. Сим страшным восклицань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ажен, Онегин с содрогань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ходит и людей зо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рецкий бережно кла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ани труп оледенелы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мой везет он страшный кл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уя мертвого, храп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ьются кони, пеной бе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льные мочат уди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летели как стр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276720" cy="4191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08</cp:lastModifiedBy>
  <dcterms:modified xsi:type="dcterms:W3CDTF">2009-06-08T03:40:1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