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4C2-B70D-4C3C-968C-09E39011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21E-F620-47E4-8EBE-CC0DD512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8DD-6A96-4E1B-A46A-F1BDA1AD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706-C986-4D10-A95B-DD292552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055-9A1A-4ADB-B84B-B286F3C7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324-FAD1-402F-A219-B3057687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8CA-4C15-48E0-B7B3-D196750D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234-7D6E-4F5C-A7B0-C48A97BD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AFC-9B21-4F51-9926-00CDF26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17E-88FC-4F7A-A74D-439DC06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2EB-D8AC-42A8-AD46-EA521F7B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33F-4669-4C66-9D94-C1BC2D7B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CCB-9F83-40A3-B78C-DF6D1645F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2000" y="-45360"/>
            <a:ext cx="56977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У Черёмушкинская средняя общеобразовательная школа 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заменационный рефе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литера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"Как нечто лишнее стоит..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 Евгения Оне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о роману А.С.Пушкина «Евгений Онегин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5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5591160" cy="368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09480" y="3777120"/>
            <a:ext cx="5014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рсова Елена Александ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ца 9 Б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ун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ина Леонид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русского язык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Саяногорск, 2009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Муки совести терзают его. Онегин ищет забве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Маршрут:Нижний Новгород — «отчизна Минина», волжские просторы, овеянные легендами о Разине и Пугачеве, «жилище вольности» Кавказ, наконец, «брега Тавриды» — место ссылки Мицкевича и Пушки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Итоги долгих  странствий  Евгения Онегина  безрадостны («тоска, тоска!..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00"/>
                            </p:stCondLst>
                            <p:childTnLst>
                              <p:par>
                                <p:cTn id="2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есомненная заслуга Пушкина в том, что он в своем романе показал трагедию «лишних людей» и причины появления их в среде дворянской интеллигенции 20-х годов 19 ве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44808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4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Евгений Онег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Цель рефе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сследовать душу, мысли, чувства, отношение к жизни Евгения Онег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негин – положительный герой или отрицательны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ак к нему должны относиться мы, современные читат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зменился ли взгляд на его образ, поступки в наше 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Основа рефе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ниги, литературоведческие статьи С.Е.Шаталова, Ю.М. Лотмана, М.  Цветаевой, В.Г. Бели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Онегин – самое значительное  творение Пушкина, поглотившее половину его жизни,» - так отзывался о романе Герцен в статье «О развитии революционных идей Росс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1148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«Евгений Онегин» - первое в России 19 века великое реалистическое произведение. Им открывается в русской литературе новая эпоха, эпоха ре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7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лавное действующее лицо романа - молодой помещик Евгений Онегин - показан Пушкиным как человек с очень  противоречивым харак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Он  не «положительный герой», но и не «отрицательный герой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518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1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533520"/>
            <a:ext cx="3886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трижен по последней мо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dandy лондонский одет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наконец увидел с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 по - французски  соверш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г изъяснятся и пис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гко мазурку танцев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5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ни сошлись. Волна и кам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тихи и проза, лед и плам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столь различны меж собой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скоро стали неразлуч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ак люди (первый каюсь 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т делать нечего дру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ске сердечных угрыз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кою стиснув писто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ит на Ленского Евг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Ну, что ж? убит»,— решил сос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ит!.. Сим страшным восклицан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ажен, Онегин с содроган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ходит и людей зо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ецкий бережно кла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ани труп оледенел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мой везет он страшный 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уя мертвого, храп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ьются кони, пеной бе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льные мочат уд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етели как стр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76720" cy="4191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8</cp:lastModifiedBy>
  <dcterms:modified xsi:type="dcterms:W3CDTF">2009-06-08T03:40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