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71A-152F-478A-9384-43F7E15A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FC8-BCF2-4F54-BC3D-52AF88D3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152-C23B-4CC6-A59B-038B3338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A0F-F265-475F-8A4F-B61BB9B4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0DF-0D65-4514-BB51-AC90D3F2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047-91ED-4176-8837-93C27D2A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94F-C604-405F-8ACD-11DACBD5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650-095D-4A90-B862-F1395729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BA1-3D8F-4AC7-BF50-D78D2EDA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164-CC9D-4703-8C09-54B68ED5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584-6FC7-4F09-9123-E0825008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C8F-6386-413E-9FC4-90C32F16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15C9-0FDE-4E92-90AE-7B4764BE6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2000" y="-45360"/>
            <a:ext cx="569772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У Черёмушкинская средняя общеобразовательная школа 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заменационный рефе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литерат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"Как нечто лишнее стоит..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 Евгения Оне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по роману А.С.Пушкина «Евгений Онегин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5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5591160" cy="368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09480" y="3777120"/>
            <a:ext cx="50148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рсова Елена Александр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ница 9 Б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кун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ина Леонид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 русского языка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Саяногорск, 2009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Муки совести терзают его. Онегин ищет забве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Маршрут:Нижний Новгород — «отчизна Минина», волжские просторы, овеянные легендами о Разине и Пугачеве, «жилище вольности» Кавказ, наконец, «брега Тавриды» — место ссылки Мицкевича и Пушки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Итоги долгих  странствий  Евгения Онегина  безрадостны («тоска, тоска!..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657600" cy="46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700"/>
                            </p:stCondLst>
                            <p:childTnLst>
                              <p:par>
                                <p:cTn id="2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есомненная заслуга Пушкина в том, что он в своем романе показал трагедию «лишних людей» и причины появления их в среде дворянской интеллигенции 20-х годов 19 век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3448080" cy="48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400"/>
                            </p:stCondLst>
                            <p:childTnLst>
                              <p:par>
                                <p:cTn id="3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Евгений Онег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Цель рефер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Исследовать душу, мысли, чувства, отношение к жизни Евгения Онег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опро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негин – положительный герой или отрицательны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Как к нему должны относиться мы, современные читат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Изменился ли взгляд на его образ, поступки в наше врем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Основа рефер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ниги, литературоведческие статьи С.Е.Шаталова, Ю.М. Лотмана, М.  Цветаевой, В.Г. Белин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«Онегин – самое значительное  творение Пушкина, поглотившее половину его жизни,» - так отзывался о романе Герцен в статье «О развитии революционных идей Росс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411480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«Евгений Онегин» - первое в России 19 века великое реалистическое произведение. Им открывается в русской литературе новая эпоха, эпоха ре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281952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7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лавное действующее лицо романа - молодой помещик Евгений Онегин - показан Пушкиным как человек с очень  противоречивым харак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Он  не «положительный герой», но и не «отрицательный герой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5181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1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12408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533520"/>
            <a:ext cx="3886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стрижен по последней мо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dandy лондонский одет –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 наконец увидел с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н по - французски  соверш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ог изъяснятся и пис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гко мазурку танцев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05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ни сошлись. Волна и кам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тихи и проза, лед и плам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е столь различны меж собой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скоро стали неразлуч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ак люди (первый каюсь 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т делать нечего друз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ске сердечных угрыз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кою стиснув писто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ядит на Ленского Евг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Ну, что ж? убит»,— решил сос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бит!.. Сим страшным восклицань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ажен, Онегин с содрогань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ходит и людей зо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рецкий бережно кла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ани труп оледенел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мой везет он страшный кл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уя мертвого, храп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ьются кони, пеной бе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льные мочат уди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летели как стр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276720" cy="4191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8</cp:lastModifiedBy>
  <dcterms:modified xsi:type="dcterms:W3CDTF">2009-06-08T03:40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